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FD55-71BE-460F-AD83-092C8A38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427-412D-45BB-9DDD-E3BDA2A5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AF7-9CB5-4804-B27F-0A5007DA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6CD-80AF-4778-985A-8E8686EA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217C-F2CD-43DD-BEA4-C3CA7F56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DCCD-1FE9-4F05-832D-A14B6A8C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9DF0-45A7-4F53-B544-15D5B5EA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4FB9-5A7B-4524-837D-9E188753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1842-43B5-4A34-88CD-4E2FA00A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78B5-6DCF-4C2E-9B08-751F643C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7262-6893-4F3A-A61D-6E9FD70B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F83-EFCD-4595-93AC-A6414A0D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7E18-14A3-41C5-8A6B-63F766A3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F03B-5769-4B7A-A20D-F4FA7EAB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697B-D880-4351-80A8-B884AAA7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7BB1-BABA-48AA-84D5-CFA5902D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C642-70C4-40A4-9374-7ECD6B71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76C-E7DB-4C58-A9E9-396CEDCA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2C4-BB46-49E4-B3E0-1CFDBC84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54B-F1D6-4B64-9EA8-D2BC57F5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D73-2E7D-4B46-A42D-B1091BFA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6B2-B28E-4F4D-AD32-34BD2D0F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2F7-FA41-4F82-A007-C0C026B0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44E8-624E-42AD-AAAB-A426B74E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00BC-4248-4744-B45E-5EC7EBBDDA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6B9B-B21B-4F73-94CD-5436340F4A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فصل السادس :الدفاتر التجارية المنتظ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76360" y="2636640"/>
            <a:ext cx="64008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وف يتم التركيز على الموضوعات التال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فهوم الدفاتر التجارية المنتظ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شروط الدفاتر التجارية المنتظ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همية الدفاتر التجارية من الوجهة الضريب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 u="sng">
                <a:solidFill>
                  <a:srgbClr val="000000"/>
                </a:solidFill>
                <a:uFillTx/>
                <a:latin typeface="Arial"/>
              </a:rPr>
              <a:t>مفهوم الدفاتر التجارية المنتظم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هي مجموعة الدفاتر التجارية التي يحتفظ بها المكلف والتي يجب أن تسجل بها جميع المعاملات التجار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كي يعتمد الفاحص على الدفاتر لابد له مراعات الآتي وإثباته في تقرير الفح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إذا كان قد سبق إهدار الدفاتر في السنوات السابق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أن تكون الدفاتر مؤيدة بالمستندات وخاصة المشتريات والمبيعا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أن يتحقق الفاحص من مطابقة البيانات التي أمكن الحصول عليها من معلومات المكلف مع الغير مع قيد الدفات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أن يسفر الفحص عن سلامة نظام الرقابة الداخلية الذي يطبقه على المكل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أن يظهر الفحص سلامة الجرد كمية وقيم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أن يسفر الفحص عن تمشي نسبة مجمل الربح المحققة في سنة أو سنوات الفحص مع النسبة التي أظهرتها دفاتر المكلف في السنوات السابقة ومع مثيلاتها في دفاتر المكلفين ذوي النشاط المماث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أن يكون قد تبين عند مراجعة كشف البنك وحساب الصندوق في فترة ما أن الصندوق لم يكن دائنا في أي فترة من سنوات الفح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أن يكون فحص حساب جاري المالك أو الشركاء قد أسفر عن عدم وجود أية أرباح مخفا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إذا تم الرفض من قبل المصلحة لهذة الدفاتر لابد أن تكون أسباب الرفض مدعمة بالأدلة الكافية التي تثبت عدم أمانت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 u="sng">
                <a:solidFill>
                  <a:srgbClr val="000000"/>
                </a:solidFill>
                <a:uFillTx/>
                <a:latin typeface="Arial"/>
              </a:rPr>
              <a:t>شروط الدفاتر التجارية المتظمة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هم شروط الدفاتر التجارية المنتظم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أن تكون الدفاتر ممسوكة طبقا للأصول الفنية والمبادئ المحاسبية المتعارف علي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أن تكون القيود مثبتة لمعاملات المكلف والمحملة بالدفاتر التجارية مؤيدة بالمستند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أن يكون لدى المكلف نظام رقابة داخلية محكم وخصوصا في البضائع والمستندات والمدفوعات والمقبوضات والأجور والروات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إلإضافة للشروط المذكورة في نظام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إذا لم تتوافر هذة الشروط يلجأ للتقدير الجزاف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 u="sng">
                <a:solidFill>
                  <a:srgbClr val="000000"/>
                </a:solidFill>
                <a:uFillTx/>
                <a:latin typeface="Arial"/>
              </a:rPr>
              <a:t>أهمية الدفاتر التجارية المنتظمة من الوجهة الضريب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كد نظام الدفاتر التجارية على الحد الأدنى من الدفاتر التي يلتزم التاجر بمسكها وهي دفتر اليومية الأصلي ودفتر الأستاذ العام ودفتر الجرد كما أجاز إستخدام الحاسب الآل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أن تبين هذة الدفاتر طبيعة النشاط والمركز المالي للمكلف وبيان ماله من حقوق وما عليه من إلتزام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بين مدى حجية هذة الدفاتر في الإثبات والعقوبات التي تطبق بشأن مخالفة أحكام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8:10:07Z</dcterms:created>
  <dc:creator>User</dc:creator>
  <dc:description/>
  <dc:language>en-US</dc:language>
  <cp:lastModifiedBy>User</cp:lastModifiedBy>
  <dcterms:modified xsi:type="dcterms:W3CDTF">2009-05-21T12:16:56Z</dcterms:modified>
  <cp:revision>4</cp:revision>
  <dc:subject/>
  <dc:title>الفصل السادس :الدفاتر التجارية المنتظمة</dc:title>
</cp:coreProperties>
</file>