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72E1-D611-4FB4-A7C3-059CB180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86F-947E-4FB1-B62E-F9FCCC8C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BE9-6A6E-41CF-A668-7B57E46B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354-E46D-4486-9AFF-DCAFBB29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470B-80DB-4BED-9CF7-9E57B0E0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92EA-34BD-4272-BE2C-2F93BFFD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CD9A-760D-4E75-B711-508F5F40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BD93-64F5-4533-B26A-B5B8F6FC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A5E0-A767-4AFF-B861-C3BE8CB2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A1E6-50F9-4ED4-AEC6-F1A73F3D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B204-E09E-435D-BE3D-017CE54D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F605-5287-4AFF-911C-2C923D59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78BD-2A9B-443D-BCFA-89EDBAAA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E043-7BE3-4A9E-9FB2-E8BA0A52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91EF-B1C8-4B27-AE51-74D3D793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7F86-5163-4F77-9ACD-EC703C05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EA85-A37C-4CD9-A15B-263E4195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DDE-DF34-4E32-8683-50D14650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E5B-BC11-4E6A-B1B4-C253C7EE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811-E2ED-4C0C-8002-8653379D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599-B0BC-4FAC-963A-DBB9A258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633-4D08-465B-9C98-70B28373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9AB-CCD2-4BF9-A48B-C1E6E1D8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03C-EC94-4EF3-82CD-C4CC922C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A5C6-457A-4271-A009-695AE65E4D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16A5-1C71-4D34-949C-8CB8194E8F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فصل السادس :الدفاتر التجارية المنتظ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360" y="2636640"/>
            <a:ext cx="64008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وف يتم التركيز على الموضوعات التال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فهوم الدفاتر التجارية المنتظ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شروط الدفاتر التجارية المنتظم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همية الدفاتر التجارية من الوجهة الضريب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 u="sng">
                <a:solidFill>
                  <a:srgbClr val="000000"/>
                </a:solidFill>
                <a:uFillTx/>
                <a:latin typeface="Arial"/>
              </a:rPr>
              <a:t>مفهوم الدفاتر التجارية المنتظم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هي مجموعة الدفاتر التجارية التي يحتفظ بها المكلف والتي يجب أن تسجل بها جميع المعاملات التجار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كي يعتمد الفاحص على الدفاتر لابد له مراعات الآتي وإثباته في تقرير الفح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إذا كان قد سبق إهدار الدفاتر في السنوات السابق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أن تكون الدفاتر مؤيدة بالمستندات وخاصة المشتريات والمبيعا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أن يتحقق الفاحص من مطابقة البيانات التي أمكن الحصول عليها من معلومات المكلف مع الغير مع قيد الدفات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أن يسفر الفحص عن سلامة نظام الرقابة الداخلية الذي يطبقه على المكل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أن يظهر الفحص سلامة الجرد كمية وقيم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أن يسفر الفحص عن تمشي نسبة مجمل الربح المحققة في سنة أو سنوات الفحص مع النسبة التي أظهرتها دفاتر المكلف في السنوات السابقة ومع مثيلاتها في دفاتر المكلفين ذوي النشاط المماث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أن يكون قد تبين عند مراجعة كشف البنك وحساب الصندوق في فترة ما أن الصندوق لم يكن دائنا في أي فترة من سنوات الفح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أن يكون فحص حساب جاري المالك أو الشركاء قد أسفر عن عدم وجود أية أرباح مخفا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إذا تم الرفض من قبل المصلحة لهذة الدفاتر لابد أن تكون أسباب الرفض مدعمة بالأدلة الكافية التي تثبت عدم أمانت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 u="sng">
                <a:solidFill>
                  <a:srgbClr val="000000"/>
                </a:solidFill>
                <a:uFillTx/>
                <a:latin typeface="Arial"/>
              </a:rPr>
              <a:t>شروط الدفاتر التجارية المتظمة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هم شروط الدفاتر التجارية المنتظم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أن تكون الدفاتر ممسوكة طبقا للأصول الفنية والمبادئ المحاسبية المتعارف عل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أن تكون القيود مثبتة لمعاملات المكلف والمحملة بالدفاتر التجارية مؤيدة بالمستند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أن يكون لدى المكلف نظام رقابة داخلية محكم وخصوصا في البضائع والمستندات والمدفوعات والمقبوضات والأجور والروات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إلإضافة للشروط المذكورة في نظام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إذا لم تتوافر هذة الشروط يلجأ للتقدير الجزاف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 u="sng">
                <a:solidFill>
                  <a:srgbClr val="000000"/>
                </a:solidFill>
                <a:uFillTx/>
                <a:latin typeface="Arial"/>
              </a:rPr>
              <a:t>أهمية الدفاتر التجارية المنتظمة من الوجهة الضريب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كد نظام الدفاتر التجارية على الحد الأدنى من الدفاتر التي يلتزم التاجر بمسكها وهي دفتر اليومية الأصلي ودفتر الأستاذ العام ودفتر الجرد كما أجاز إستخدام الحاسب الآل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أن تبين هذة الدفاتر طبيعة النشاط والمركز المالي للمكلف وبيان ماله من حقوق وما عليه من إلتزام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بين مدى حجية هذة الدفاتر في الإثبات والعقوبات التي تطبق بشأن مخالفة أحكام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8:10:07Z</dcterms:created>
  <dc:creator>User</dc:creator>
  <dc:description/>
  <dc:language>en-US</dc:language>
  <cp:lastModifiedBy>User</cp:lastModifiedBy>
  <dcterms:modified xsi:type="dcterms:W3CDTF">2009-05-21T12:16:56Z</dcterms:modified>
  <cp:revision>4</cp:revision>
  <dc:subject/>
  <dc:title>الفصل السادس :الدفاتر التجارية المنتظمة</dc:title>
</cp:coreProperties>
</file>