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A302-2112-4949-BB8C-DAC3A6574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CB5D-63E9-4256-A4A6-23D86A16A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70CA0C-082F-4C99-8220-5B57C7D23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4B0EA8-46B6-48CA-B943-C91EFF2CE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ECE25A-C2EA-4486-B209-EB4447E08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95198E-D0B2-4CBA-9582-23A618F15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ECEBF5-8DC5-40CC-BE72-A0DB56CF6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D66C2A-D4D5-4B41-BAC1-BE2A15B5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4116DD-BD06-44E0-A468-6761B1D2D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F9CE1D-BF3D-48D3-AB36-EBE1C2D66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0F6F6E-4000-4B10-938E-BE7595B6E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7DA0CC-5DDC-4885-85FA-BE166FF42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0475-D35A-432B-BF4A-55C6BA7D7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E1D623-991D-4A67-B2EA-795AC7B83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DB78CA-0CE3-4AD5-8247-A3740E515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FD2D2A-D0F9-41A3-886B-508617F8E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27DF4F-20CD-4D31-8733-4317D6D35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E70B4A-636A-4047-9522-9663AAF0E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417286-0ACE-404A-B68D-EE1EB0D3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C95AE3-BABA-4D7E-B808-2A7F3832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FD826D-4F98-405A-AA33-A29E5B764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617061-AFFE-4AEA-9AE8-17E0F1634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F814B5-4B4A-425B-82F7-D4B30E737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FA84-466D-4438-84AA-3D096E935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61A91D-910E-4C8D-BBE8-124AEB725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95F5B8-1A5C-4285-9FEF-7DA036B52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99B55A-1C98-41CF-A6E3-D702DCBFC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31FE9D-67B0-40B0-9E1C-D8C3DA753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349BA5-D928-478A-87E7-1860F0255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E6E316-29F1-4C18-A84A-DBC7A21B4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59BE92-3C7C-4492-8154-3E73DB305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BD70D3-AADC-4634-A800-9A48F1C3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2418F9-541D-47D2-B300-05BBE47F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F55EB1-0581-41ED-B03C-B100D696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6501C-6BEB-430D-8705-A260E0DA7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0EE3FC-F98F-4FC9-9767-205582793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067B55-492E-4C99-8639-33B10A5CA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81A56D-F005-4B2C-B016-6A3A85794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23A2F-7798-4387-988C-8461DF1EB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4815D-93E4-46CC-B379-6311E6C45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41250-3B02-4FA5-A558-87B2A2344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44667-DDDF-4587-B9B4-714547282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54231-9910-4B2E-9A86-53B6E221F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D483D-8099-448B-927A-A468D07DE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1978-FAF4-402C-ABC2-E00299CBC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CC776-6BDC-455E-ADD2-F5AE6EA0D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72DB8-02C3-4123-8270-6EFAA440C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3348C-7014-4C02-8EC1-AC5349417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74761-B24C-4906-8712-8CDFD760F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1E3A9-4E75-4D35-8F17-E18265DB7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A3471-7B2B-4522-AD3F-5998B49B3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5E81B-072F-4F88-8E16-5103DEA37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E73BD-4FFC-4F36-AA8F-85B413690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08245-B187-4B6E-8DC3-D0CB55265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25B7C-0FAA-4AE5-B61F-25DBCBD5C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2553-B1EE-408C-A535-04884CD4A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C73B8-5B0B-474A-899F-9D275B1C3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E0F55-E119-4083-84CF-EE47D205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B3E26-DA8F-43C1-B6F1-D1F3EA402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F5F32-0852-4E0D-B4BA-5494C0A2F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869B5-CD5E-4D19-BFE2-EB95CD29C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D2144-85E6-4311-A55C-F86D69699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82BA3-04CB-4D91-9FE7-01E97A72C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1C398-1863-4920-AE57-F7937264F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F3CC7-4C33-4163-90B3-A6998F6C6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C1AB5-8652-4B7E-BDD7-0A46008BC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EA7D-0617-43AE-B1F9-6714F8D94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DBD00-7B6C-4834-AEE8-540218414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1C69C-2124-4BA4-82C4-4E252EABF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87AB6-2ECF-4D92-8D2D-E49E5F0FC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6C1D9-F0BE-48CA-A2A4-AEF1648B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F9658-A7D1-4B93-8792-F0FB9706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B5B56-6A94-4E13-8BD0-657D44094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830B5-2459-409F-B5B0-C0B2BB7D9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9ADCF-8C43-49F0-9B22-7DF171233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26EFA-F7D9-432E-AFAB-9D97DA812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81C953-09A2-412B-968D-72A88737E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013E-C8BE-42CC-96A2-CE2AF2C77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5680F-6830-4C88-B8BC-332193FB2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13B6F-1707-4B1B-9E1D-06B7D6634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DBF1A-7024-46C3-8C38-22D0350AE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B51AF2-6256-440C-871E-978785EB5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80E30D-33AF-4B91-98C5-0D15C378E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7DB6C-C3BF-4B7F-BF92-757482E92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457F00-EF34-4076-902A-B149C38A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E5B03-212E-400F-85FD-037F1607D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86D7BE-CB3B-4F28-A775-393CDA033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9A0A8-6FBB-46FD-810A-D7E301AF6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35BB-2BE6-41DC-9985-E827BC8BF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8738B8-C055-4D2A-AC93-46691D7AF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30B159-D2CC-4AB1-B6DD-57DC12F2C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A7110F-1F8F-476C-82FE-AF4076E04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69415-D9B8-454B-A061-F2A14DF8E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DB52E9-13B3-4861-9950-DC2F4D66F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B672CE-11AA-4223-90C9-08632CB73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9E9D0D-6758-4DEB-89E2-C7589B63A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B6F597-8BD6-47A9-925A-3F48CECF1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AD5997-D617-4818-A7B5-94F474E00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B16394-AAE7-4AAC-80AE-A3582CBB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1BF7-5D1F-4940-ADA5-9CD4461B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8F82A5-96BF-43B2-AE44-413C68C9F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BD51E0-33CE-4C67-8F1B-16C1E4510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680627-B6E3-42A6-B425-A70B54C3D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92C157-583C-4C17-B1FB-2CEC56BF0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4358CB-1BD2-45C5-BB60-0D5AA4186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9799BC-B576-4808-9AA6-644AC9105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E909A3-8E9B-4AF3-8C81-7A96EBC49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E18EC2-0618-41B3-A7E1-89AB42D95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E70CB5-0E12-4019-96A7-DB2244973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253212-C94B-47AB-AC20-31E26B15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EB50-19C4-4568-A07A-014FACC75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3F260E-F192-4B9F-90F9-0C16825B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B890F0-B14F-4217-A8D0-7F4153EF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F97633-C282-4DBA-906F-390F9132C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1EB916-2D2A-492E-84E4-002520D92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354F7B-AB8E-4DA4-ABB0-E69391E63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0820E9-B2A3-471B-A818-B05C967B2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1329FF-2407-4A13-A1B5-F6E134F91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18CA38-3EFB-4948-9A8C-FC640084E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805A1E-333F-4529-98C6-A3154A059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7AC3BA-0515-4A50-A03F-F39BC883B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39A9-7E92-4AEF-8122-A8B03EB3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869CD0-483A-4FC2-8469-7AB37CDFD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79D08B-C053-40DF-BF49-97AC7545F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911447-B7C6-49E2-B611-785B2BB5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131E95-72B5-433F-BA3C-CDCD3F41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3F23DE-8676-4FCE-965A-683F5E045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A7D7A8-4BED-43E9-A358-B5BC063B3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029D6A-8F72-4693-AD04-2843ED3B2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900060-52AB-4452-A7C9-855232581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875970-F8DF-4757-B247-8BFEC2086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E96A54-D756-490C-9745-F839F1646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b0cc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D9FF7-C7DC-4A82-A446-B361149BCE03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b0cc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9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30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28B5C-4A3B-4753-802F-0BDACF068E68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b0cc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3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3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3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5A1CA-68DE-40E9-9FDB-25783F9ED808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bcce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cec5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b0cc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87B6C-34DB-4CDF-87BA-009E7761AE32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b0cc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BAA19-7518-4716-8ACF-A4AEDE1D36E0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134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bcce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cec5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b0cc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56DAA-996A-49DE-8BD2-04F272134AC7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b0cc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46710-73A1-4AF8-BC02-DB0BDC837826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b0cc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CEE3A-CF8E-48DE-9443-6FCEDE1F0DEF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b0cc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9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20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21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BCFAF-BF03-4754-AFD7-9C5C904113CB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b0cc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2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3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4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318D8-4458-4F65-A4AD-14FA5B79C227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bcce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cec5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b0cc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5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6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7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DCA66-ADA7-4CA1-99E3-EF0EB80F3D8C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 txBox="1"/>
          <p:nvPr/>
        </p:nvSpPr>
        <p:spPr>
          <a:xfrm>
            <a:off x="755640" y="134136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Perpetua"/>
              </a:rPr>
              <a:t>الفصل السادس</a:t>
            </a:r>
            <a:endParaRPr b="0" lang="en-US" sz="4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Franklin Gothic Book"/>
              </a:rPr>
              <a:t>توازن المنتج في سوق المنافسة الكاملة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676a55"/>
                </a:solidFill>
                <a:latin typeface="Arial"/>
                <a:cs typeface="Times New Roman"/>
              </a:rPr>
              <a:t>توازن المنشأة مع تحقيق الارباح</a:t>
            </a: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49338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 rtl="1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Perpetua"/>
              </a:rPr>
              <a:t>وهو الوضع الذي عنده تتساوى التكلفة الحدية مع الايراد الحدي عند مستوى تكون عنده الايرادات الكلية أكبر من التكاليف الكلية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 algn="just" rtl="1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Perpetua"/>
              </a:rPr>
              <a:t>خط الايراد الحدي (السعر) يقطع منحنى التلكفة الحدية في الجزء الصاعد من التكلفة الحدية بعد تقاطعها مع متوسط التكلفة الكلية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 algn="r" rtl="1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501" name="Picture 3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4537080" cy="4464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676a55"/>
                </a:solidFill>
                <a:latin typeface="Arial"/>
                <a:cs typeface="Times New Roman"/>
              </a:rPr>
              <a:t>نقطة التعادل</a:t>
            </a: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49338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 rtl="1">
              <a:spcBef>
                <a:spcPts val="174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عند هذه النقطة تتعادل الايرادات الكلية مع التكاليف الكلية ولا تحقق المنشأة أي أرباح اقتصادية أو خسائر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 rtl="1">
              <a:spcBef>
                <a:spcPts val="174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ويشترط في وضع التوازن أن يكون (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MR = MC</a:t>
            </a: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) عند أدنى مستوى لمنحنى (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ATC</a:t>
            </a: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504" name="Picture 3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4413240" cy="3816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676a55"/>
                </a:solidFill>
                <a:latin typeface="Arial"/>
                <a:cs typeface="Times New Roman"/>
              </a:rPr>
              <a:t>نقطة الاغلاق</a:t>
            </a: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914400" y="1447560"/>
            <a:ext cx="7772400" cy="52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02120" indent="-402120" algn="just" rtl="1">
              <a:spcBef>
                <a:spcPts val="1749"/>
              </a:spcBef>
              <a:buClr>
                <a:srgbClr val="72a376"/>
              </a:buClr>
              <a:buSzPct val="85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إذا كان (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TR = TVC</a:t>
            </a: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)، وهذا ما يسمى بـ"نقطة الإغلاق" (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Shut-Down Point</a:t>
            </a: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)، حيث يكون للمنشأة حرية الاختيار إما الاستمرار في الإنتاج، أو التوقف عن الإنتاج، أي أن نقطة الإغلاق تعتبر الحد الفاصل بين إمكانية الإنتاج وإمكانية الإغلاق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402120" indent="-402120" algn="just" rtl="1">
              <a:spcBef>
                <a:spcPts val="1749"/>
              </a:spcBef>
              <a:buClr>
                <a:srgbClr val="72a376"/>
              </a:buClr>
              <a:buSzPct val="85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في هذه الحالة فإن (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P = AVC</a:t>
            </a: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)، وهذا ما يسمى بـ"سعر الإغلاق" (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Shut-Down Price</a:t>
            </a: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) 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402120" indent="-402120" algn="just" rtl="1">
              <a:spcBef>
                <a:spcPts val="1749"/>
              </a:spcBef>
              <a:buClr>
                <a:srgbClr val="72a376"/>
              </a:buClr>
              <a:buSzPct val="85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ويشترط في وضع التوازن أن يكون (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MR = MC</a:t>
            </a: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) عند أدنى مستوى لمنحنى (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AVC</a:t>
            </a: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402120" indent="-402120" algn="just" rtl="1">
              <a:spcBef>
                <a:spcPts val="1749"/>
              </a:spcBef>
              <a:buClr>
                <a:srgbClr val="72a376"/>
              </a:buClr>
              <a:buSzPct val="85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بالنسبة للأرباح، المنشأة تغطي فقط التكاليف المتغيرة وتدفع التكاليف الثابتة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، أي أن حجم الخسائر يساوي التكلفة الثابتة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402120" indent="-402120" algn="r" rtl="1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676a55"/>
                </a:solidFill>
                <a:latin typeface="Franklin Gothic Book"/>
                <a:cs typeface="Times New Roman"/>
              </a:rPr>
              <a:t>نقطة الاغلاق</a:t>
            </a: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graphicFrame>
        <p:nvGraphicFramePr>
          <p:cNvPr id="508" name="Object 4"/>
          <p:cNvGraphicFramePr/>
          <p:nvPr/>
        </p:nvGraphicFramePr>
        <p:xfrm>
          <a:off x="1263600" y="1447920"/>
          <a:ext cx="707400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3600" y="1447920"/>
                    <a:ext cx="70740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676a55"/>
                </a:solidFill>
                <a:latin typeface="Franklin Gothic Book"/>
                <a:cs typeface="Times New Roman"/>
              </a:rPr>
              <a:t>التوقف عن الانتاج</a:t>
            </a: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49338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 algn="just" rtl="1">
              <a:lnSpc>
                <a:spcPct val="9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إذا كانت الايرادات الكلية اقل من التكاليف المتغيرة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34360" indent="-234360" algn="just"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 &lt; TVC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)، فإن حجم الخسائر يكون أكبر من التكاليف الثابتة، ومن ثم فإن المنشأة سوف تتخذ القرار بالتوقف عن الإنتاج وتتحمل التكلفة الثابتة فقط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34360" indent="-234360" algn="just" rtl="1">
              <a:lnSpc>
                <a:spcPct val="9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في هذه الحالة فإن السعر اقل من متوسط التكاليف المتغيرة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34360" indent="-234360" algn="just"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 &lt; AVC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34360" indent="-234360" algn="r" rtl="1">
              <a:lnSpc>
                <a:spcPct val="10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graphicFrame>
        <p:nvGraphicFramePr>
          <p:cNvPr id="512" name="Object 4"/>
          <p:cNvGraphicFramePr/>
          <p:nvPr/>
        </p:nvGraphicFramePr>
        <p:xfrm>
          <a:off x="250920" y="1700280"/>
          <a:ext cx="4413240" cy="439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700280"/>
                    <a:ext cx="4413240" cy="43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773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676a55"/>
                </a:solidFill>
                <a:latin typeface="Franklin Gothic Book"/>
                <a:cs typeface="Times New Roman"/>
              </a:rPr>
              <a:t>مثال</a:t>
            </a:r>
            <a:br>
              <a:rPr sz="1800"/>
            </a:br>
            <a:r>
              <a:rPr b="1" lang="ar-SA" sz="1800" spc="-1" strike="noStrike">
                <a:solidFill>
                  <a:srgbClr val="005400"/>
                </a:solidFill>
                <a:latin typeface="Franklin Gothic Book"/>
                <a:ea typeface="Times New Roman"/>
              </a:rPr>
              <a:t> بفرض توافر البيانات التالية عن إحدى المنشآت التي تعمل في سوق المنافسة الكاملة. والمطلوب:</a:t>
            </a:r>
            <a:br>
              <a:rPr sz="1800"/>
            </a:br>
            <a:r>
              <a:rPr b="1" lang="ar-SA" sz="1800" spc="-1" strike="noStrike">
                <a:solidFill>
                  <a:srgbClr val="005400"/>
                </a:solidFill>
                <a:latin typeface="Franklin Gothic Book"/>
                <a:ea typeface="Times New Roman"/>
              </a:rPr>
              <a:t>1</a:t>
            </a:r>
            <a:r>
              <a:rPr b="1" lang="ar-SA" sz="1800" spc="-1" strike="noStrike">
                <a:solidFill>
                  <a:srgbClr val="005400"/>
                </a:solidFill>
                <a:latin typeface="Franklin Gothic Book"/>
                <a:ea typeface="Times New Roman"/>
              </a:rPr>
              <a:t>- حساب كل من الإيراد الكلي ، الإيراد الحدي، والتكاليف الحدية</a:t>
            </a:r>
            <a:br>
              <a:rPr sz="1800"/>
            </a:br>
            <a:r>
              <a:rPr b="1" lang="ar-SA" sz="1800" spc="-1" strike="noStrike">
                <a:solidFill>
                  <a:srgbClr val="005400"/>
                </a:solidFill>
                <a:latin typeface="Franklin Gothic Book"/>
                <a:ea typeface="Times New Roman"/>
              </a:rPr>
              <a:t>2</a:t>
            </a:r>
            <a:r>
              <a:rPr b="1" lang="ar-SA" sz="1800" spc="-1" strike="noStrike">
                <a:solidFill>
                  <a:srgbClr val="005400"/>
                </a:solidFill>
                <a:latin typeface="Franklin Gothic Book"/>
                <a:ea typeface="Times New Roman"/>
              </a:rPr>
              <a:t>- وضح وضع توازن المنتج باستخدام كل من التحليل الكلي والتحليل الحدي.</a:t>
            </a:r>
            <a:endParaRPr b="0" lang="en-US" sz="1800" spc="-1" strike="noStrike">
              <a:solidFill>
                <a:srgbClr val="676a55"/>
              </a:solidFill>
              <a:latin typeface="Franklin Gothic Book"/>
            </a:endParaRPr>
          </a:p>
        </p:txBody>
      </p:sp>
      <p:graphicFrame>
        <p:nvGraphicFramePr>
          <p:cNvPr id="515" name=""/>
          <p:cNvGraphicFramePr/>
          <p:nvPr/>
        </p:nvGraphicFramePr>
        <p:xfrm>
          <a:off x="468360" y="2060640"/>
          <a:ext cx="8218440" cy="4248000"/>
        </p:xfrm>
        <a:graphic>
          <a:graphicData uri="http://schemas.openxmlformats.org/drawingml/2006/table">
            <a:tbl>
              <a:tblPr/>
              <a:tblGrid>
                <a:gridCol w="1173240"/>
                <a:gridCol w="1174680"/>
                <a:gridCol w="1173240"/>
                <a:gridCol w="1174680"/>
                <a:gridCol w="1174680"/>
                <a:gridCol w="1173240"/>
                <a:gridCol w="1174680"/>
              </a:tblGrid>
              <a:tr h="110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الرب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TR-T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التكاليف الحدي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M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الايراد الحد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M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الايرادات الكل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T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التكاليف الكلي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T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الناتج الكل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T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السع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</a:tbl>
          </a:graphicData>
        </a:graphic>
      </p:graphicFrame>
    </p:spTree>
  </p:cSld>
  <p:transition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676a55"/>
                </a:solidFill>
                <a:latin typeface="Franklin Gothic Book"/>
                <a:cs typeface="Times New Roman"/>
              </a:rPr>
              <a:t>الحل</a:t>
            </a: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 rtl="1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5400"/>
                </a:solidFill>
                <a:latin typeface="Perpetua"/>
              </a:rPr>
              <a:t>الإيراد الكلي:</a:t>
            </a:r>
            <a:r>
              <a:rPr b="0" lang="ar-SA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R = p*Q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 rtl="1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5400"/>
                </a:solidFill>
                <a:latin typeface="Perpetua"/>
              </a:rPr>
              <a:t>الإيراد الحدي </a:t>
            </a:r>
            <a:r>
              <a:rPr b="1" lang="en-US" sz="2600" spc="-1" strike="noStrike">
                <a:solidFill>
                  <a:srgbClr val="005400"/>
                </a:solidFill>
                <a:latin typeface="Perpetua"/>
              </a:rPr>
              <a:t>(</a:t>
            </a:r>
            <a:r>
              <a:rPr b="1" lang="en-US" sz="2600" spc="-1" strike="noStrike">
                <a:solidFill>
                  <a:srgbClr val="005400"/>
                </a:solidFill>
                <a:latin typeface="Perpetua"/>
              </a:rPr>
              <a:t>MR</a:t>
            </a:r>
            <a:r>
              <a:rPr b="1" lang="en-US" sz="2600" spc="-1" strike="noStrike">
                <a:solidFill>
                  <a:srgbClr val="005400"/>
                </a:solidFill>
                <a:latin typeface="Perpetua"/>
              </a:rPr>
              <a:t>)</a:t>
            </a:r>
            <a:r>
              <a:rPr b="1" lang="ar-SA" sz="2600" spc="-1" strike="noStrike">
                <a:solidFill>
                  <a:srgbClr val="005400"/>
                </a:solidFill>
                <a:latin typeface="Perpetua"/>
              </a:rPr>
              <a:t> :</a:t>
            </a:r>
            <a:r>
              <a:rPr b="0" lang="ar-SA" sz="2600" spc="-1" strike="noStrike">
                <a:solidFill>
                  <a:srgbClr val="000000"/>
                </a:solidFill>
                <a:latin typeface="Perpetua"/>
              </a:rPr>
              <a:t> التغير في الإيراد الكلي نتيجة زيادة الوحدات المنتجة بوحدة واحدة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 rtl="1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5400"/>
                </a:solidFill>
                <a:latin typeface="Perpetua"/>
              </a:rPr>
              <a:t>التكلفة الحدية </a:t>
            </a:r>
            <a:r>
              <a:rPr b="1" lang="en-US" sz="2600" spc="-1" strike="noStrike">
                <a:solidFill>
                  <a:srgbClr val="005400"/>
                </a:solidFill>
                <a:latin typeface="Perpetua"/>
              </a:rPr>
              <a:t>(</a:t>
            </a:r>
            <a:r>
              <a:rPr b="1" lang="en-US" sz="2600" spc="-1" strike="noStrike">
                <a:solidFill>
                  <a:srgbClr val="005400"/>
                </a:solidFill>
                <a:latin typeface="Perpetua"/>
              </a:rPr>
              <a:t>MC</a:t>
            </a:r>
            <a:r>
              <a:rPr b="1" lang="en-US" sz="2600" spc="-1" strike="noStrike">
                <a:solidFill>
                  <a:srgbClr val="005400"/>
                </a:solidFill>
                <a:latin typeface="Perpetua"/>
              </a:rPr>
              <a:t>)</a:t>
            </a:r>
            <a:r>
              <a:rPr b="1" lang="ar-SA" sz="2600" spc="-1" strike="noStrike">
                <a:solidFill>
                  <a:srgbClr val="005400"/>
                </a:solidFill>
                <a:latin typeface="Perpetua"/>
              </a:rPr>
              <a:t> :</a:t>
            </a:r>
            <a:r>
              <a:rPr b="0" lang="ar-SA" sz="2600" spc="-1" strike="noStrike">
                <a:solidFill>
                  <a:srgbClr val="000000"/>
                </a:solidFill>
                <a:latin typeface="Perpetua"/>
              </a:rPr>
              <a:t> التغير في التكاليف الكلية نتيجة زيادة الوحدات المنتجة بوحدة واحدة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676a55"/>
                </a:solidFill>
                <a:latin typeface="Franklin Gothic Book"/>
                <a:cs typeface="Times New Roman"/>
              </a:rPr>
              <a:t>توازن المنتج باستخدام التحليل الكلي</a:t>
            </a: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Perpetua"/>
              </a:rPr>
              <a:t>أولا نقوم بحساب حجم الارباح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Perpetua"/>
              </a:rPr>
              <a:t>حجم الأرباح = الايراد الكلي – التكاليف الكلية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rofit</a:t>
            </a:r>
            <a:r>
              <a:rPr b="0" lang="ar-SA" sz="26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= TR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TC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Perpetua"/>
              </a:rPr>
              <a:t>توازن المنتج يتحقق عندما تصل حجم الأرباح أقصى حد، أي عند انتاج </a:t>
            </a:r>
            <a:r>
              <a:rPr b="0" lang="ar-SA" sz="2600" spc="-1" strike="noStrike">
                <a:solidFill>
                  <a:srgbClr val="000000"/>
                </a:solidFill>
                <a:latin typeface="Perpetua"/>
              </a:rPr>
              <a:t>4</a:t>
            </a:r>
            <a:r>
              <a:rPr b="0" lang="ar-SA" sz="2600" spc="-1" strike="noStrike">
                <a:solidFill>
                  <a:srgbClr val="000000"/>
                </a:solidFill>
                <a:latin typeface="Perpetua"/>
              </a:rPr>
              <a:t> وحدات حيث تبلغ حجم الأرباح </a:t>
            </a:r>
            <a:r>
              <a:rPr b="0" lang="ar-SA" sz="2600" spc="-1" strike="noStrike">
                <a:solidFill>
                  <a:srgbClr val="000000"/>
                </a:solidFill>
                <a:latin typeface="Perpetua"/>
              </a:rPr>
              <a:t>105</a:t>
            </a:r>
            <a:r>
              <a:rPr b="0" lang="ar-SA" sz="26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split dir="in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676a55"/>
                </a:solidFill>
                <a:latin typeface="Franklin Gothic Book"/>
                <a:cs typeface="Times New Roman"/>
              </a:rPr>
              <a:t>الطريقة الحدية</a:t>
            </a: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 algn="just" rtl="1">
              <a:spcBef>
                <a:spcPts val="575"/>
              </a:spcBef>
              <a:buClr>
                <a:srgbClr val="72a376"/>
              </a:buClr>
              <a:buSzPct val="85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Perpetua"/>
              </a:rPr>
              <a:t>للتوصل إلى التوازن بالطريقة الحدية، نقوم بتطبيق شرط تعظيم الأرباح (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MR = MC</a:t>
            </a:r>
            <a:r>
              <a:rPr b="0" lang="ar-SA" sz="2400" spc="-1" strike="noStrike">
                <a:solidFill>
                  <a:srgbClr val="000000"/>
                </a:solidFill>
                <a:latin typeface="Perpetu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447840" indent="-447840" algn="just" rtl="1">
              <a:spcBef>
                <a:spcPts val="575"/>
              </a:spcBef>
              <a:buClr>
                <a:srgbClr val="72a376"/>
              </a:buClr>
              <a:buSzPct val="85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Perpetua"/>
              </a:rPr>
              <a:t>في سوق المنافسة فإننا يمكن أن نعبر عن شرط التوازن كما يلي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447840" indent="-447840" algn="just" rtl="1">
              <a:spcBef>
                <a:spcPts val="575"/>
              </a:spcBef>
              <a:buClr>
                <a:srgbClr val="72a376"/>
              </a:buClr>
              <a:buSzPct val="85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4" marL="1524600" indent="-447840" algn="just" rtl="1"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Perpetua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MR = P = MC</a:t>
            </a:r>
            <a:r>
              <a:rPr b="0" lang="ar-SA" sz="3200" spc="-1" strike="noStrike">
                <a:solidFill>
                  <a:srgbClr val="000000"/>
                </a:solidFill>
                <a:latin typeface="Perpetu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447840" indent="-447840" algn="just" rtl="1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447840" indent="-447840" algn="just" rtl="1">
              <a:spcBef>
                <a:spcPts val="575"/>
              </a:spcBef>
              <a:buClr>
                <a:srgbClr val="72a376"/>
              </a:buClr>
              <a:buSzPct val="85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Perpetua"/>
              </a:rPr>
              <a:t>ويتحقق التوازن عند كمية إنتاج تساوي (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Q = 4</a:t>
            </a:r>
            <a:r>
              <a:rPr b="0" lang="ar-SA" sz="2400" spc="-1" strike="noStrike">
                <a:solidFill>
                  <a:srgbClr val="000000"/>
                </a:solidFill>
                <a:latin typeface="Perpetua"/>
              </a:rPr>
              <a:t>) وحدات. وتجدر الإشارة إلى أن إنتاج (</a:t>
            </a:r>
            <a:r>
              <a:rPr b="0" lang="ar-SA" sz="2400" spc="-1" strike="noStrike">
                <a:solidFill>
                  <a:srgbClr val="000000"/>
                </a:solidFill>
                <a:latin typeface="Perpetua"/>
              </a:rPr>
              <a:t>4</a:t>
            </a:r>
            <a:r>
              <a:rPr b="0" lang="ar-SA" sz="2400" spc="-1" strike="noStrike">
                <a:solidFill>
                  <a:srgbClr val="000000"/>
                </a:solidFill>
                <a:latin typeface="Perpetua"/>
              </a:rPr>
              <a:t>) وحدات، يحقق للمنشأة أكبر ربح ممكن  (</a:t>
            </a:r>
            <a:r>
              <a:rPr b="0" lang="ar-SA" sz="2400" spc="-1" strike="noStrike">
                <a:solidFill>
                  <a:srgbClr val="000000"/>
                </a:solidFill>
                <a:latin typeface="Perpetua"/>
              </a:rPr>
              <a:t>105</a:t>
            </a:r>
            <a:r>
              <a:rPr b="0" lang="ar-SA" sz="2400" spc="-1" strike="noStrike">
                <a:solidFill>
                  <a:srgbClr val="000000"/>
                </a:solidFill>
                <a:latin typeface="Perpetu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447840" indent="-447840" algn="just" rtl="1">
              <a:spcBef>
                <a:spcPts val="575"/>
              </a:spcBef>
              <a:buClr>
                <a:srgbClr val="72a376"/>
              </a:buClr>
              <a:buSzPct val="85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Perpetua"/>
              </a:rPr>
              <a:t>ويوضح الشكل التالي وضع التوازن بيانياً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447840" indent="-447840"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0938A-F541-47E7-BD9C-181279250A2B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676a55"/>
                </a:solidFill>
                <a:latin typeface="Franklin Gothic Book"/>
                <a:cs typeface="Times New Roman"/>
              </a:rPr>
              <a:t>تمثيل التوازن بيانيا</a:t>
            </a: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graphicFrame>
        <p:nvGraphicFramePr>
          <p:cNvPr id="524" name="Object 36"/>
          <p:cNvGraphicFramePr/>
          <p:nvPr/>
        </p:nvGraphicFramePr>
        <p:xfrm>
          <a:off x="900000" y="1700280"/>
          <a:ext cx="7417080" cy="428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5" name="Object 3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700280"/>
                    <a:ext cx="7417080" cy="428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ar-SA" sz="4000" spc="-1" strike="noStrike">
                <a:solidFill>
                  <a:srgbClr val="676a55"/>
                </a:solidFill>
                <a:latin typeface="Arial"/>
                <a:cs typeface="Times New Roman"/>
              </a:rPr>
              <a:t>الأسواق الاقتصادية</a:t>
            </a:r>
            <a:r>
              <a:rPr b="0" lang="en-US" sz="4000" spc="-1" strike="noStrike">
                <a:solidFill>
                  <a:srgbClr val="676a55"/>
                </a:solidFill>
                <a:latin typeface="Franklin Gothic Book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 rtl="1">
              <a:lnSpc>
                <a:spcPct val="10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Arial"/>
              </a:rPr>
              <a:t>أنواع الأسواق الاقتصادية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 rtl="1">
              <a:spcBef>
                <a:spcPts val="575"/>
              </a:spcBef>
              <a:buClr>
                <a:srgbClr val="72a376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Perpetua"/>
              </a:rPr>
              <a:t>المنافسة الكاملة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 rtl="1">
              <a:spcBef>
                <a:spcPts val="575"/>
              </a:spcBef>
              <a:buClr>
                <a:srgbClr val="72a376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Perpetua"/>
              </a:rPr>
              <a:t>الاحتكار التام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 rtl="1">
              <a:spcBef>
                <a:spcPts val="575"/>
              </a:spcBef>
              <a:buClr>
                <a:srgbClr val="72a376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Perpetua"/>
              </a:rPr>
              <a:t>المنافسة الاحتكارية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 rtl="1">
              <a:spcBef>
                <a:spcPts val="575"/>
              </a:spcBef>
              <a:buClr>
                <a:srgbClr val="72a376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Perpetua"/>
              </a:rPr>
              <a:t>احتكار القلة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split dir="in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557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A" sz="3200" spc="-1" strike="noStrike">
                <a:solidFill>
                  <a:srgbClr val="676a55"/>
                </a:solidFill>
                <a:latin typeface="Franklin Gothic Book"/>
                <a:cs typeface="Times New Roman"/>
              </a:rPr>
              <a:t>تمرين صفي</a:t>
            </a:r>
            <a:br>
              <a:rPr sz="3200"/>
            </a:b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914400" y="1700280"/>
          <a:ext cx="3749760" cy="3708360"/>
        </p:xfrm>
        <a:graphic>
          <a:graphicData uri="http://schemas.openxmlformats.org/drawingml/2006/table">
            <a:tbl>
              <a:tblPr/>
              <a:tblGrid>
                <a:gridCol w="1874880"/>
                <a:gridCol w="1874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التكاليف الكلي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الناتج الكل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</a:tbl>
          </a:graphicData>
        </a:graphic>
      </p:graphicFrame>
      <p:sp>
        <p:nvSpPr>
          <p:cNvPr id="528" name=""/>
          <p:cNvSpPr txBox="1"/>
          <p:nvPr/>
        </p:nvSpPr>
        <p:spPr>
          <a:xfrm>
            <a:off x="4933800" y="1699920"/>
            <a:ext cx="37497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Perpetua"/>
              </a:rPr>
              <a:t>البيانات التالية خاصة بمنشأة تعمل في سوق المنافسة الكاملة وتبيع منتجاتها بثمن ثابت مقداره  </a:t>
            </a:r>
            <a:r>
              <a:rPr b="0" lang="ar-SA" sz="2400" spc="-1" strike="noStrike">
                <a:solidFill>
                  <a:srgbClr val="000000"/>
                </a:solidFill>
                <a:latin typeface="Perpetua"/>
              </a:rPr>
              <a:t>10</a:t>
            </a:r>
            <a:r>
              <a:rPr b="0" lang="ar-SA" sz="2400" spc="-1" strike="noStrike">
                <a:solidFill>
                  <a:srgbClr val="000000"/>
                </a:solidFill>
                <a:latin typeface="Perpetua"/>
              </a:rPr>
              <a:t>ريال للوحدة الواحدة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split dir="in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914400" y="620640"/>
            <a:ext cx="77724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812880" indent="-812880"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المطلوب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812880" indent="-812880" algn="r" rtl="1">
              <a:spcBef>
                <a:spcPts val="1749"/>
              </a:spcBef>
              <a:buClr>
                <a:srgbClr val="72a376"/>
              </a:buClr>
              <a:buSzPct val="85000"/>
              <a:buFont typeface="Perpet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تحديد قيمة التكاليف الثابتة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812880" indent="-812880" algn="r" rtl="1">
              <a:spcBef>
                <a:spcPts val="1749"/>
              </a:spcBef>
              <a:buClr>
                <a:srgbClr val="72a376"/>
              </a:buClr>
              <a:buSzPct val="85000"/>
              <a:buFont typeface="Perpet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حساب كل من التكاليف الحدية والتكاليف المتوسطة الكلية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812880" indent="-812880" algn="r" rtl="1">
              <a:spcBef>
                <a:spcPts val="1749"/>
              </a:spcBef>
              <a:buClr>
                <a:srgbClr val="72a376"/>
              </a:buClr>
              <a:buSzPct val="85000"/>
              <a:buFont typeface="Perpet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تحديد حجم الإنتاج التوازني وقيمة الربح عند التوازن باستخدام كل من التحليل الكلي والحدي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812880" indent="-812880" algn="r" rtl="1">
              <a:spcBef>
                <a:spcPts val="1749"/>
              </a:spcBef>
              <a:buClr>
                <a:srgbClr val="72a376"/>
              </a:buClr>
              <a:buSzPct val="85000"/>
              <a:buFont typeface="Perpet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إذا انخفض الثمن إلى </a:t>
            </a: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5</a:t>
            </a: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 ريال للوحدة، حدد حجم الإنتاج التوازني الجديد، وحجم الربح أو الخسارة؟ وهل تستمر المنشأة في الإنتاج إذا كانت تحقق خسارة أم تتوقف؟ ولماذا؟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812880" indent="-812880"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5400"/>
                </a:solidFill>
                <a:latin typeface="Arial"/>
                <a:cs typeface="Times New Roman"/>
              </a:rPr>
              <a:t>أولاً: المنافسة الكاملة</a:t>
            </a:r>
            <a:br>
              <a:rPr sz="4000"/>
            </a:br>
            <a:r>
              <a:rPr b="1" lang="ar-SA" sz="4000" spc="-1" strike="noStrike">
                <a:solidFill>
                  <a:srgbClr val="005400"/>
                </a:solidFill>
                <a:latin typeface="Franklin Gothic Book"/>
              </a:rPr>
              <a:t> </a:t>
            </a:r>
            <a:r>
              <a:rPr b="1" lang="ar-SA" sz="4000" spc="-1" strike="noStrike">
                <a:solidFill>
                  <a:srgbClr val="005400"/>
                </a:solidFill>
                <a:latin typeface="Franklin Gothic Book"/>
                <a:ea typeface="Times New Roman"/>
              </a:rPr>
              <a:t>(</a:t>
            </a:r>
            <a:r>
              <a:rPr b="1" lang="en-US" sz="4000" spc="-1" strike="noStrike">
                <a:solidFill>
                  <a:srgbClr val="005400"/>
                </a:solidFill>
                <a:latin typeface="Franklin Gothic Book"/>
              </a:rPr>
              <a:t>Perfect Competition</a:t>
            </a:r>
            <a:r>
              <a:rPr b="1" lang="ar-SA" sz="4000" spc="-1" strike="noStrike">
                <a:solidFill>
                  <a:srgbClr val="005400"/>
                </a:solidFill>
                <a:latin typeface="Franklin Gothic Book"/>
                <a:ea typeface="Times New Roman"/>
              </a:rPr>
              <a:t>)</a:t>
            </a: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 rtl="1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76a55"/>
                </a:solidFill>
                <a:latin typeface="Perpetua"/>
              </a:rPr>
              <a:t>يتميز سوق المنافسة التامة بعدة خصائص وهي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 rtl="1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99"/>
                </a:solidFill>
                <a:latin typeface="Perpetua"/>
              </a:rPr>
              <a:t>1</a:t>
            </a:r>
            <a:r>
              <a:rPr b="0" lang="ar-SA" sz="2400" spc="-1" strike="noStrike">
                <a:solidFill>
                  <a:srgbClr val="000099"/>
                </a:solidFill>
                <a:latin typeface="Perpetua"/>
              </a:rPr>
              <a:t>. وجود عدد كبير من المشترين (المستهلكين) والبائعين (المنتجين) للسلعة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 rtl="1">
              <a:spcBef>
                <a:spcPts val="575"/>
              </a:spcBef>
              <a:buClr>
                <a:srgbClr val="72a376"/>
              </a:buClr>
              <a:buSzPct val="85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Perpetua"/>
              </a:rPr>
              <a:t>   تعمل هذه الخاصية على ضمان عدم تأثير أي مستهلك أو منتج على سعر السلعة في السوق، ولا يستطيع المنتج في هذه الحالة التأثير على سعر السلعة السائد في السوق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 rtl="1">
              <a:spcBef>
                <a:spcPts val="575"/>
              </a:spcBef>
              <a:buClr>
                <a:srgbClr val="72a376"/>
              </a:buClr>
              <a:buSzPct val="85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Perpetua"/>
              </a:rPr>
              <a:t> ويمثل السعر السائد في سوق السلعة السعر الوحيد لجميع المنتجين والذي تباع فيه السلعة في سوق المنافسة الكاملة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 txBox="1"/>
          <p:nvPr/>
        </p:nvSpPr>
        <p:spPr>
          <a:xfrm>
            <a:off x="914400" y="115920"/>
            <a:ext cx="77724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 rtl="1">
              <a:spcBef>
                <a:spcPts val="601"/>
              </a:spcBef>
              <a:buClr>
                <a:srgbClr val="72a376"/>
              </a:buClr>
              <a:buSzPct val="85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99"/>
                </a:solidFill>
                <a:latin typeface="Perpetua"/>
              </a:rPr>
              <a:t>2</a:t>
            </a:r>
            <a:r>
              <a:rPr b="1" lang="ar-SA" sz="3200" spc="-1" strike="noStrike">
                <a:solidFill>
                  <a:srgbClr val="000099"/>
                </a:solidFill>
                <a:latin typeface="Perpetua"/>
              </a:rPr>
              <a:t>.</a:t>
            </a:r>
            <a:r>
              <a:rPr b="0" lang="ar-SA" sz="3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ar-SA" sz="2400" spc="-1" strike="noStrike">
                <a:solidFill>
                  <a:srgbClr val="000099"/>
                </a:solidFill>
                <a:latin typeface="Perpetua"/>
              </a:rPr>
              <a:t>تجانس (تماثل) وحدات السلعة المنتجة بين جميع المنتجين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601"/>
              </a:spcBef>
              <a:buClr>
                <a:srgbClr val="72a376"/>
              </a:buClr>
              <a:buSzPct val="85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 rtl="1">
              <a:spcBef>
                <a:spcPts val="700"/>
              </a:spcBef>
              <a:buClr>
                <a:srgbClr val="72a376"/>
              </a:buClr>
              <a:buSzPct val="85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بمعنى أن تكون هذه السلعة متطابقة من ناحية الجودة والكفاءة بغض النظر عن المنتج أو البائع الذي تم شراء السلعة منه.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 rtl="1">
              <a:spcBef>
                <a:spcPts val="700"/>
              </a:spcBef>
              <a:buClr>
                <a:srgbClr val="72a376"/>
              </a:buClr>
              <a:buSzPct val="85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 ونتيجة لتجانس السلعة، فإن السلعة التي يقوم بإنتاجها المنتج الأول تعتبر "بديل كامل" لسلعة المنتجين الآخرين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 rtl="1">
              <a:spcBef>
                <a:spcPts val="700"/>
              </a:spcBef>
              <a:buClr>
                <a:srgbClr val="72a376"/>
              </a:buClr>
              <a:buSzPct val="85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 بالتالي فإن منحنى الطلب الفردي على سلعة المنتج يكون لا نهائي المرونة (خط مستقيم افقي).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700"/>
              </a:spcBef>
              <a:buClr>
                <a:srgbClr val="72a376"/>
              </a:buClr>
              <a:buSzPct val="85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 txBox="1"/>
          <p:nvPr/>
        </p:nvSpPr>
        <p:spPr>
          <a:xfrm>
            <a:off x="914400" y="259920"/>
            <a:ext cx="77724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 rtl="1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Perpetua"/>
              </a:rPr>
              <a:t>3</a:t>
            </a:r>
            <a:r>
              <a:rPr b="1" lang="ar-SA" sz="2400" spc="-1" strike="noStrike">
                <a:solidFill>
                  <a:srgbClr val="000099"/>
                </a:solidFill>
                <a:latin typeface="Perpetua"/>
              </a:rPr>
              <a:t>- حرية الدخول إلى السوق (</a:t>
            </a:r>
            <a:r>
              <a:rPr b="1" lang="en-US" sz="2400" spc="-1" strike="noStrike">
                <a:solidFill>
                  <a:srgbClr val="000099"/>
                </a:solidFill>
                <a:latin typeface="Perpetua"/>
              </a:rPr>
              <a:t>Free Entry</a:t>
            </a:r>
            <a:r>
              <a:rPr b="1" lang="ar-SA" sz="2400" spc="-1" strike="noStrike">
                <a:solidFill>
                  <a:srgbClr val="000099"/>
                </a:solidFill>
                <a:latin typeface="Perpetua"/>
              </a:rPr>
              <a:t>):</a:t>
            </a:r>
            <a:r>
              <a:rPr b="0" lang="ar-SA" sz="36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 rtl="1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 rtl="1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Perpetua"/>
              </a:rPr>
              <a:t> حيث يمكن لأي منتج الدخول إلى سوق السلعة وإنتاج هذه السلعة، وذلك بسبب عدم وجود أي عوائق تمنع دخول منتجين جدد إلى السوق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 rtl="1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 rtl="1">
              <a:lnSpc>
                <a:spcPct val="10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99"/>
                </a:solidFill>
                <a:latin typeface="Arial Narrow"/>
              </a:rPr>
              <a:t>4</a:t>
            </a:r>
            <a:r>
              <a:rPr b="0" lang="ar-SA" sz="2400" spc="-1" strike="noStrike">
                <a:solidFill>
                  <a:srgbClr val="000099"/>
                </a:solidFill>
                <a:latin typeface="Arial Narrow"/>
              </a:rPr>
              <a:t>. توفر المعلومات بشكل كامل (</a:t>
            </a: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Perfect Information</a:t>
            </a:r>
            <a:r>
              <a:rPr b="0" lang="ar-SA" sz="2400" spc="-1" strike="noStrike">
                <a:solidFill>
                  <a:srgbClr val="000099"/>
                </a:solidFill>
                <a:latin typeface="Arial Narrow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 rtl="1">
              <a:lnSpc>
                <a:spcPct val="10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 rtl="1">
              <a:lnSpc>
                <a:spcPct val="10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 Narrow"/>
              </a:rPr>
              <a:t> حيث يشترط في سوق المنافسة الكاملة توفر جميع المعلومات المطلوبة حول السلعة وسعرها وطريقة إنتاجها والتكاليف المرتبطة بإنتاجها والتقنية المستخدمة في عملية إنتاجها وبصورة تامة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676a55"/>
                </a:solidFill>
                <a:latin typeface="Arial"/>
                <a:cs typeface="Times New Roman"/>
              </a:rPr>
              <a:t>سلوك المنشأة التنافسية في المدى القصير</a:t>
            </a: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r" rtl="1">
              <a:lnSpc>
                <a:spcPct val="10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imes New Roman"/>
              </a:rPr>
              <a:t>الهدف الأساسي لأي منشأة هو تعظيم الأرباح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fit Maximization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ar-SA" sz="2600" spc="-1" strike="noStrike">
                <a:solidFill>
                  <a:srgbClr val="000000"/>
                </a:solidFill>
                <a:latin typeface="Times New Roman"/>
              </a:rPr>
              <a:t> التي تحصل عليها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 algn="r" rtl="1">
              <a:lnSpc>
                <a:spcPct val="10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imes New Roman"/>
              </a:rPr>
              <a:t> وبصورة عامة، تستمر المنشأة في الإنتاج طالما كان بإمكانها تغطية تكاليفها الكلية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 algn="r" rtl="1">
              <a:lnSpc>
                <a:spcPct val="10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imes New Roman"/>
              </a:rPr>
              <a:t>والمقصود بتغطية التكاليف هنا أن تكون التكاليف الكلية أقل من، أو مساوية للإيرادات التي تحصل عليها المنشأة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 algn="r" rtl="1">
              <a:lnSpc>
                <a:spcPct val="10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imes New Roman"/>
              </a:rPr>
              <a:t>أما إذا لم تستطع المنشأة تغطية هذه التكاليف، فإنها قد تضطر إلى التوقف عن الإنتاج لتقليل خسائرها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 algn="r" rtl="1">
              <a:lnSpc>
                <a:spcPct val="10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imes New Roman"/>
              </a:rPr>
              <a:t>ويمكن تحديد قرار المنشأة المتعلق بالاستمرار في الإنتاج أو التوقف عن الإنتاج باستخدام عدة طرق كما سنرى لاحقاً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 algn="r" rtl="1">
              <a:lnSpc>
                <a:spcPct val="10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676a55"/>
                </a:solidFill>
                <a:latin typeface="Arial"/>
                <a:cs typeface="Times New Roman"/>
              </a:rPr>
              <a:t>توازن المنشأة في سوق المنافسة الكاملة</a:t>
            </a: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69440" indent="-469440"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Perpetua"/>
                <a:cs typeface="Arial"/>
              </a:rPr>
              <a:t>يمكن دراسة وضع توازن المنشأة في سوق المنافسة الكاملة بطريقتين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469440" indent="-469440"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Perpetua"/>
              </a:rPr>
              <a:t>1</a:t>
            </a:r>
            <a:r>
              <a:rPr b="1" lang="ar-SA" sz="3200" spc="-1" strike="noStrike">
                <a:solidFill>
                  <a:srgbClr val="333399"/>
                </a:solidFill>
                <a:latin typeface="Perpetua"/>
              </a:rPr>
              <a:t>- طريقة الكليات: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469440" indent="-469440" algn="just" rtl="1">
              <a:lnSpc>
                <a:spcPct val="10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imes New Roman"/>
              </a:rPr>
              <a:t>في هذه الحالة، نقوم بعمل مقارنة بين الإيراد الكلي للمنشأة وإجمالي التكلفة الكلية ويتحقق توازن المنشاة عند تحقيق أكبر ربح ممكن (الفرق بين الايرادات الكلية والتكاليف الكلية)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469440" indent="-469440" algn="just" rtl="1">
              <a:lnSpc>
                <a:spcPct val="10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imes New Roman"/>
              </a:rPr>
              <a:t>الإيراد الكلي (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R</a:t>
            </a:r>
            <a:r>
              <a:rPr b="0" lang="ar-SA" sz="2600" spc="-1" strike="noStrike">
                <a:solidFill>
                  <a:srgbClr val="000000"/>
                </a:solidFill>
                <a:latin typeface="Times New Roman"/>
              </a:rPr>
              <a:t>) الذي تحصل عليه المنشأة، عبارة عن سعر السلعة مضروباً في الكميات التي قامت المنشأة ببيعها (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ar-SA" sz="2600" spc="-1" strike="noStrike">
                <a:solidFill>
                  <a:srgbClr val="000000"/>
                </a:solidFill>
                <a:latin typeface="Times New Roman"/>
              </a:rPr>
              <a:t>)، أو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469440" indent="-46944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469440" indent="-4694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ar-SA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ar-SA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ar-SA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R = (P) x (Q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469440" indent="-469440">
              <a:lnSpc>
                <a:spcPct val="10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914400" y="475920"/>
            <a:ext cx="77724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r" rtl="1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ar-SA" sz="2600" spc="-1" strike="noStrike">
                <a:solidFill>
                  <a:srgbClr val="333399"/>
                </a:solidFill>
                <a:latin typeface="Times New Roman"/>
              </a:rPr>
              <a:t> - الطريقة الحدية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 algn="r" rtl="1">
              <a:lnSpc>
                <a:spcPct val="8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ندما تقرر المنشأة زيادة إنتاجها بمقدار وحدة واحدة مثلاً، تقوم المنشأة بمقارنة مقدار الزيادة في التكلفة الكلية الناجمة عن زيادة الإنتاج بوحدة واحدة (التكاليف الكلية)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C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)، مع مقدار الزيادة في الإيراد الكلي الناتج عن زيادة الإنتاج بوحدة واحدة (الايراد الحدي)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R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)، أو: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 algn="r" rtl="1">
              <a:lnSpc>
                <a:spcPct val="8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    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               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∆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TC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      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MC =  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ـــــــــــــــــ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                      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∆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  <a:ea typeface="Arial"/>
              </a:rPr>
              <a:t>        </a:t>
            </a:r>
            <a:r>
              <a:rPr b="1" lang="ar-SA" sz="2800" spc="-1" strike="noStrike">
                <a:solidFill>
                  <a:srgbClr val="000000"/>
                </a:solidFill>
                <a:latin typeface="Perpetua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  <a:ea typeface="Arial"/>
              </a:rPr>
              <a:t>                              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400"/>
                </a:solidFill>
                <a:latin typeface="Times New Roman"/>
              </a:rPr>
              <a:t>                                           ∆</a:t>
            </a:r>
            <a:r>
              <a:rPr b="1" lang="en-US" sz="2800" spc="-1" strike="noStrike">
                <a:solidFill>
                  <a:srgbClr val="005400"/>
                </a:solidFill>
                <a:latin typeface="Times New Roman"/>
              </a:rPr>
              <a:t>TR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400"/>
                </a:solidFill>
                <a:latin typeface="Times New Roman"/>
              </a:rPr>
              <a:t>                     </a:t>
            </a:r>
            <a:r>
              <a:rPr b="1" lang="en-US" sz="2800" spc="-1" strike="noStrike">
                <a:solidFill>
                  <a:srgbClr val="005400"/>
                </a:solidFill>
                <a:latin typeface="Times New Roman"/>
              </a:rPr>
              <a:t>MR    =      </a:t>
            </a:r>
            <a:r>
              <a:rPr b="1" lang="ar-SA" sz="2800" spc="-1" strike="noStrike">
                <a:solidFill>
                  <a:srgbClr val="005400"/>
                </a:solidFill>
                <a:latin typeface="Times New Roman"/>
              </a:rPr>
              <a:t>ــــــــــــــــــــ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400"/>
                </a:solidFill>
                <a:latin typeface="Perpetua"/>
                <a:ea typeface="Arial"/>
              </a:rPr>
              <a:t>                                                  ∆</a:t>
            </a:r>
            <a:r>
              <a:rPr b="1" lang="en-US" sz="2800" spc="-1" strike="noStrike">
                <a:solidFill>
                  <a:srgbClr val="005400"/>
                </a:solidFill>
                <a:latin typeface="Perpetua"/>
                <a:ea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 algn="r" rtl="1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914400" y="333360"/>
            <a:ext cx="7772400" cy="56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r" rtl="1">
              <a:lnSpc>
                <a:spcPct val="8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ويتحدد وضع توازن المنتج، وهو مستوى تعظيم الأرباح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fit Maximization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) عند تساوي الايراد الحدي مع التكلفة الحدية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R = MC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 algn="r" rtl="1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 algn="r" rtl="1">
              <a:lnSpc>
                <a:spcPct val="8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ويعني شرط التوازن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R=MC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)، أن الإيراد الإضافي الذي تحصل عليه المنشأة نتيجة زيادة الإنتاج بوحدة واحدة، يساوي التكلفة الإضافية التي تدفعها المنشأة نتيجة زيادة الإنتاج.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 algn="r" rtl="1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 algn="r" rtl="1">
              <a:lnSpc>
                <a:spcPct val="8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ومن ثم، فلا يوجد دافع لدى المنشأة نحو زيادة أو تخفيض الكمية المنتجة، حيث أن هذه الكمية هي الكمية الوحيدة التي تعظم أرباح المنشأة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 algn="r" rtl="1">
              <a:lnSpc>
                <a:spcPct val="10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3T06:23:29Z</dcterms:created>
  <dc:creator>Dell</dc:creator>
  <dc:description/>
  <dc:language>en-US</dc:language>
  <cp:lastModifiedBy>admin</cp:lastModifiedBy>
  <dcterms:modified xsi:type="dcterms:W3CDTF">2012-01-06T22:31:33Z</dcterms:modified>
  <cp:revision>125</cp:revision>
  <dc:subject/>
  <dc:title>الاعتماد الأكاديمي</dc:title>
</cp:coreProperties>
</file>