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039-D1F3-4AC0-BAE1-B7947EDC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652-F82A-4B10-A98C-7D961ADA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34AC2-4A50-4515-BE9D-7BF0D119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A451F-6F2A-4091-8A81-77133F52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F6538-1038-4DB1-8F1A-7D4281B5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04F9B-1952-46A3-B138-B80D2F4C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82EBB-7615-4F3B-B4A6-7D00C943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2623A-73CA-485E-9023-61B38634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A9D16-11AB-4439-8135-D7704169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E9F69-3BAB-4D00-AA06-1EAAC0D2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3D34F-7936-4118-BBA3-510BFF0A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328DC-2C73-4C39-8556-B59B0CEB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887-5783-498F-974A-2ECA9BC2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174AF-0E69-4C9C-BD76-AC48F2D0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3597A-9863-4A25-B8D0-B0171B79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6AC90-7C76-4462-A26B-B0593E0A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B4E24-FC3A-4F55-A625-1AA81675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E9E68-0546-40B2-9F81-78577C17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95983-F231-4BCD-9F86-BFE311F1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26AE6-860D-44B3-B683-199D3C6F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4C75E-30E4-48DB-BD6D-78FB13FE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2F8B0-5A2B-42A0-BC6F-60731662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E8F5D-5338-4068-A82C-CEEB27EE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F0A-551D-46BE-B70F-81A528EE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B5ADD-F389-4087-AF7B-B8975F67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5E75F-6E79-45E8-ADA0-7A25296D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E2C5D-BBC2-47A5-98F8-3F756629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FA677-1F2D-43E5-BEED-0F8A128B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F3BB1-259D-4726-B259-03A650D6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C7F54-81A3-40DF-A915-B619CB7B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ED2E4-0122-4E05-9515-CAAB5E14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108BD-9160-4C9C-BFB1-DD425B43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36EBA-5A1D-4340-B09F-45443CD1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19DD8-22F1-4380-B2CF-175C0034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9B85-B898-4044-96A5-04BA6A32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EF0FE-1B7B-4DB0-A474-CBEC9FFA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670FC-DC9B-4924-AD5A-438246BC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4B788-F22F-438A-AD80-078BE54A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04E7-ABBF-4BBF-AA6A-863F1742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C25E-1C60-4374-86E1-3CBB0671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4457-6CF9-46DF-8E4D-BFD0BCB7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721D-89E4-40CF-85B8-5E6B483D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96CB-1366-4F18-A7D5-1C7DD62E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5FA3-02D8-4D22-B7E9-70C67A28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33C-EB05-4EC1-BCE9-81E2D4BD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57C8-7D61-4266-ABFF-A823525F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737D-39CC-48EF-A869-D2E8929F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B3FE-780C-4FFE-9C87-6D03B0DE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5BBF-A083-40F6-B58A-8575CAE9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155E-B642-4105-BA02-08C4511F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9F62-9ACF-411F-8DAE-8150E994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88A53-7EDB-49E1-9606-D8E17176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9594C-AF0D-4BB7-A298-9532CAEB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21B55-B71D-4423-A623-442DABC0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7273D-C73F-4809-8DFC-BA7D9EB1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C43-3CE1-472A-98E5-2ED3CE2E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2D27-10DF-40E7-AAA4-BF9159F0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A5D0E-E653-498D-814E-6F0829F1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1DCBB-0934-49FC-987D-4823082C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DE7F5-F1D2-4722-A636-793D45C1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9A354-26CF-4B77-B9F1-499AC81D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9AE65-B369-4F29-9749-D2D5BBB6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84872-201C-4A2C-AF4B-FC98F731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A5A0E-733B-43E5-A93B-39DF267A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AC304-75A5-49A4-B792-0E950568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565CC-FC31-4411-A25D-CBF6F10D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305-581B-43DF-9E3B-BE814915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D2231-B1F8-4F4A-AF7B-DBEB5960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EAD52-6DF8-4E4B-A375-2C4D9357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AC0F9-4D7C-4A74-8DB8-D30BBCC7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CD9A1-B350-4A46-B921-68173AF3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679C0-5D2F-4B49-9419-18348815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B1262-6737-454E-9C64-C71E2C1F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B63AD-B9BF-4623-91B9-3252E7C6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A6B7E-B1DA-4D60-B6A3-3F0E49F4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A9696-CC7B-4666-B420-99930BF9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47BDF-CE35-4AFC-8FA5-E679DDA6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7B4-B124-400E-9AF2-F3DCBE69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AC88E-8954-4354-B425-304EB7CF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65B28-10D7-4199-92A6-4676F5C6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44A76-A764-4042-8AD5-EE6759B7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FA419-C61A-4468-A1F1-FDC57341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DA412-9B9C-4418-8A10-1F7E9468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54C7F-D637-46DF-87AC-29846CA8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EDEDF-5A8F-468E-8FF6-2F83FC6F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D1152-87BD-42D4-8679-FFB0A894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50BEC-4A50-4ABB-AC57-31D6EF96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4D119-BF4E-44D1-B749-D456596D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D66-FF98-449B-A19F-956650EB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196C0-65B2-484D-B783-5035B359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B0479-8D99-4294-A6DC-2F88659F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48629-33D0-4CB3-92DA-B68A9804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C5FE5-4017-4B6A-956B-F58CDFCD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98B95-50AB-4DF9-ADFC-3E8CBB13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867E0-76AA-4EEE-9A24-2C95E293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5A254-0194-42D6-A09B-DAFA1279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BECD7-B827-47FA-A657-78787D76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0CEA3-15D5-43BB-90DF-7AE1DB70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7FFB1-C506-4556-9466-2D56CF60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D482-DDC2-4FC5-8FFB-BEA02699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B0A06-13EF-4D7D-ACBE-28FD51E3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35EC2-923D-41F2-BD75-94C8A541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C6CF6-0E21-433F-A76F-9236A75B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7B1DF-AD11-465B-8082-8D0B6BA9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DA966-DB2F-41DF-A3D3-2B5DB09A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9B4EE-49A6-4C2E-914C-D3371342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BDFB2-24AD-47EF-A7AF-AF720B78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848A0-3ADE-4369-9BF7-FBD5B943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12AF4-FF43-47BC-8D0E-C6F82D4C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B5F1D-FA62-4767-9BDD-BCEAF821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8B4-049D-4F6C-BDA7-49E60B2A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872BD-7382-4D31-9F72-26AE97A5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70E2F-719B-49B6-AC24-B9D5090F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96EC1-39DB-4C56-9939-F06BFE34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0C0FE-7157-4822-B543-EE35D2E0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6F491-FD59-4B97-978D-579D7B57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D1DE4-DE94-4F9B-BC53-9F749361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ECF73-C30A-4EDD-BD1B-08F7F5CF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83DB5-598E-431A-8409-18AAA4E4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8FB63-0E80-4ED5-8F51-8C500290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BA34D-6584-4653-B2BD-0A027301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FCE-A02A-4D22-8671-C433582B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C49B4-A6F0-4059-BFA9-D3B8FE4C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0DE75-87BA-43AC-A0AA-52B329F3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1EA8D-4C2E-4E26-A10C-4706B864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3F1DE-DD40-495A-9412-35A953FA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6BEB8-7511-4BB4-9096-9DD42326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17FDC-0679-4887-925A-2326D9A8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2821B-E642-41B0-A8EB-913D2798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355FD-B6EC-4EDB-B7C7-5D0519D3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BE2DF-1012-46A4-A301-1E20F0F0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DBCA1-2E31-4F4F-B440-4DEE0CC0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0C53-5D40-41FC-A373-CD9E340718E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8AA6-E8C7-4F51-A040-6DF30CFF1BE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733A-D191-4824-842A-B37948CE578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B68B-D88F-4EAD-932C-4FBD7CE2B72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858A-14D0-46A2-8378-CBD42F474F0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4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C428-2DC5-4966-8D18-0AD64633FE0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5F42-46B6-45BA-8D6A-BED8CC440295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0B11-AB05-4474-AAB5-126969BDB2B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DC3F-CA6A-4A1F-B7E6-3D71B6B90D1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27D3-68E8-41A3-89CD-41A940159755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BC6D-16FF-4A72-877C-9C8C22EDC09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755640" y="1341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Perpetua"/>
              </a:rPr>
              <a:t>الفصل السادس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Franklin Gothic Book"/>
              </a:rPr>
              <a:t>توازن المنتج في سوق المنافسة الكاملة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Arial"/>
                <a:cs typeface="Times New Roman"/>
              </a:rPr>
              <a:t>توازن المنشأة مع تحقيق الارباح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وهو الوضع الذي عنده تتساوى التكلفة الحدية مع الايراد الحدي عند مستوى تكون عنده الايرادات الكلية أكبر من التكاليف الكلية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خط الايراد الحدي (السعر) يقطع منحنى التلكفة الحدية في الجزء الصاعد من التكلفة الحدية بعد تقاطعها مع متوسط التكلفة الكلية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53708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Arial"/>
                <a:cs typeface="Times New Roman"/>
              </a:rPr>
              <a:t>نقطة التعادل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17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عند هذه النقطة تتعادل الايرادات الكلية مع التكاليف الكلية ولا تحقق المنشأة أي أرباح اقتصادية أو خسائر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17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ويشترط في وضع التوازن أن يكون (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R = MC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) عند أدنى مستوى لمنحنى (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TC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413240" cy="381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Arial"/>
                <a:cs typeface="Times New Roman"/>
              </a:rPr>
              <a:t>نقطة الاغلاق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914400" y="1447560"/>
            <a:ext cx="77724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 algn="just" rtl="1">
              <a:spcBef>
                <a:spcPts val="1749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إذا كان (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R = TVC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)، وهذا ما يسمى بـ"نقطة الإغلاق" (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hut-Down Point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)، حيث يكون للمنشأة حرية الاختيار إما الاستمرار في الإنتاج، أو التوقف عن الإنتاج، أي أن نقطة الإغلاق تعتبر الحد الفاصل بين إمكانية الإنتاج وإمكانية الإغلاق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402120" indent="-402120" algn="just" rtl="1">
              <a:spcBef>
                <a:spcPts val="1749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في هذه الحالة فإن (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 = AVC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)، وهذا ما يسمى بـ"سعر الإغلاق" (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hut-Down Price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)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402120" indent="-402120" algn="just" rtl="1">
              <a:spcBef>
                <a:spcPts val="1749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ويشترط في وضع التوازن أن يكون (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R = MC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) عند أدنى مستوى لمنحنى (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VC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402120" indent="-402120" algn="just" rtl="1">
              <a:spcBef>
                <a:spcPts val="1749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بالنسبة للأرباح، المنشأة تغطي فقط التكاليف المتغيرة وتدفع التكاليف الثابتة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، أي أن حجم الخسائر يساوي التكلفة الثابتة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402120" indent="-40212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Franklin Gothic Book"/>
                <a:cs typeface="Times New Roman"/>
              </a:rPr>
              <a:t>نقطة الاغلاق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graphicFrame>
        <p:nvGraphicFramePr>
          <p:cNvPr id="508" name="Object 4"/>
          <p:cNvGraphicFramePr/>
          <p:nvPr/>
        </p:nvGraphicFramePr>
        <p:xfrm>
          <a:off x="1263600" y="1447920"/>
          <a:ext cx="7074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447920"/>
                    <a:ext cx="707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Franklin Gothic Book"/>
                <a:cs typeface="Times New Roman"/>
              </a:rPr>
              <a:t>التوقف عن الانتاج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just" rtl="1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إذا كانت الايرادات الكلية اقل من التكاليف المتغيرة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 algn="just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 &lt; TVC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)، فإن حجم الخسائر يكون أكبر من التكاليف الثابتة، ومن ثم فإن المنشأة سوف تتخذ القرار بالتوقف عن الإنتاج وتتحمل التكلفة الثابتة فقط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 algn="just" rtl="1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في هذه الحالة فإن السعر اقل من متوسط التكاليف المتغيرة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 algn="just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&lt; AVC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 algn="r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512" name="Object 4"/>
          <p:cNvGraphicFramePr/>
          <p:nvPr/>
        </p:nvGraphicFramePr>
        <p:xfrm>
          <a:off x="250920" y="1700280"/>
          <a:ext cx="441324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0280"/>
                    <a:ext cx="441324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Franklin Gothic Book"/>
                <a:cs typeface="Times New Roman"/>
              </a:rPr>
              <a:t>مثال</a:t>
            </a:r>
            <a:br>
              <a:rPr sz="1800"/>
            </a:br>
            <a:r>
              <a:rPr b="1" lang="ar-SA" sz="1800" spc="-1" strike="noStrike">
                <a:solidFill>
                  <a:srgbClr val="005400"/>
                </a:solidFill>
                <a:latin typeface="Franklin Gothic Book"/>
                <a:ea typeface="Times New Roman"/>
              </a:rPr>
              <a:t> بفرض توافر البيانات التالية عن إحدى المنشآت التي تعمل في سوق المنافسة الكاملة. والمطلوب:</a:t>
            </a:r>
            <a:br>
              <a:rPr sz="1800"/>
            </a:br>
            <a:r>
              <a:rPr b="1" lang="ar-SA" sz="1800" spc="-1" strike="noStrike">
                <a:solidFill>
                  <a:srgbClr val="005400"/>
                </a:solidFill>
                <a:latin typeface="Franklin Gothic Book"/>
                <a:ea typeface="Times New Roman"/>
              </a:rPr>
              <a:t>1</a:t>
            </a:r>
            <a:r>
              <a:rPr b="1" lang="ar-SA" sz="1800" spc="-1" strike="noStrike">
                <a:solidFill>
                  <a:srgbClr val="005400"/>
                </a:solidFill>
                <a:latin typeface="Franklin Gothic Book"/>
                <a:ea typeface="Times New Roman"/>
              </a:rPr>
              <a:t>- حساب كل من الإيراد الكلي ، الإيراد الحدي، والتكاليف الحدية</a:t>
            </a:r>
            <a:br>
              <a:rPr sz="1800"/>
            </a:br>
            <a:r>
              <a:rPr b="1" lang="ar-SA" sz="1800" spc="-1" strike="noStrike">
                <a:solidFill>
                  <a:srgbClr val="005400"/>
                </a:solidFill>
                <a:latin typeface="Franklin Gothic Book"/>
                <a:ea typeface="Times New Roman"/>
              </a:rPr>
              <a:t>2</a:t>
            </a:r>
            <a:r>
              <a:rPr b="1" lang="ar-SA" sz="1800" spc="-1" strike="noStrike">
                <a:solidFill>
                  <a:srgbClr val="005400"/>
                </a:solidFill>
                <a:latin typeface="Franklin Gothic Book"/>
                <a:ea typeface="Times New Roman"/>
              </a:rPr>
              <a:t>- وضح وضع توازن المنتج باستخدام كل من التحليل الكلي والتحليل الحدي.</a:t>
            </a:r>
            <a:endParaRPr b="0" lang="en-US" sz="1800" spc="-1" strike="noStrike">
              <a:solidFill>
                <a:srgbClr val="676a55"/>
              </a:solidFill>
              <a:latin typeface="Franklin Gothic Book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468360" y="2060640"/>
          <a:ext cx="8218440" cy="4248000"/>
        </p:xfrm>
        <a:graphic>
          <a:graphicData uri="http://schemas.openxmlformats.org/drawingml/2006/table">
            <a:tbl>
              <a:tblPr/>
              <a:tblGrid>
                <a:gridCol w="1173240"/>
                <a:gridCol w="1174680"/>
                <a:gridCol w="1173240"/>
                <a:gridCol w="1174680"/>
                <a:gridCol w="1174680"/>
                <a:gridCol w="1173240"/>
                <a:gridCol w="1174680"/>
              </a:tblGrid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الرب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R-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التكاليف الحد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الايراد الح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الايرادات الك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التكاليف الك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الناتج الك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السع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Franklin Gothic Book"/>
                <a:cs typeface="Times New Roman"/>
              </a:rPr>
              <a:t>الحل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5400"/>
                </a:solidFill>
                <a:latin typeface="Perpetua"/>
              </a:rPr>
              <a:t>الإيراد الكلي: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 = p*Q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5400"/>
                </a:solidFill>
                <a:latin typeface="Perpetua"/>
              </a:rPr>
              <a:t>الإيراد الحدي </a:t>
            </a:r>
            <a:r>
              <a:rPr b="1" lang="en-US" sz="2600" spc="-1" strike="noStrike">
                <a:solidFill>
                  <a:srgbClr val="005400"/>
                </a:solidFill>
                <a:latin typeface="Perpetua"/>
              </a:rPr>
              <a:t>(</a:t>
            </a:r>
            <a:r>
              <a:rPr b="1" lang="en-US" sz="2600" spc="-1" strike="noStrike">
                <a:solidFill>
                  <a:srgbClr val="005400"/>
                </a:solidFill>
                <a:latin typeface="Perpetua"/>
              </a:rPr>
              <a:t>MR</a:t>
            </a:r>
            <a:r>
              <a:rPr b="1" lang="en-US" sz="2600" spc="-1" strike="noStrike">
                <a:solidFill>
                  <a:srgbClr val="005400"/>
                </a:solidFill>
                <a:latin typeface="Perpetua"/>
              </a:rPr>
              <a:t>)</a:t>
            </a:r>
            <a:r>
              <a:rPr b="1" lang="ar-SA" sz="2600" spc="-1" strike="noStrike">
                <a:solidFill>
                  <a:srgbClr val="005400"/>
                </a:solidFill>
                <a:latin typeface="Perpetua"/>
              </a:rPr>
              <a:t> :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 التغير في الإيراد الكلي نتيجة زيادة الوحدات المنتجة بوحدة واحد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5400"/>
                </a:solidFill>
                <a:latin typeface="Perpetua"/>
              </a:rPr>
              <a:t>التكلفة الحدية </a:t>
            </a:r>
            <a:r>
              <a:rPr b="1" lang="en-US" sz="2600" spc="-1" strike="noStrike">
                <a:solidFill>
                  <a:srgbClr val="005400"/>
                </a:solidFill>
                <a:latin typeface="Perpetua"/>
              </a:rPr>
              <a:t>(</a:t>
            </a:r>
            <a:r>
              <a:rPr b="1" lang="en-US" sz="2600" spc="-1" strike="noStrike">
                <a:solidFill>
                  <a:srgbClr val="005400"/>
                </a:solidFill>
                <a:latin typeface="Perpetua"/>
              </a:rPr>
              <a:t>MC</a:t>
            </a:r>
            <a:r>
              <a:rPr b="1" lang="en-US" sz="2600" spc="-1" strike="noStrike">
                <a:solidFill>
                  <a:srgbClr val="005400"/>
                </a:solidFill>
                <a:latin typeface="Perpetua"/>
              </a:rPr>
              <a:t>)</a:t>
            </a:r>
            <a:r>
              <a:rPr b="1" lang="ar-SA" sz="2600" spc="-1" strike="noStrike">
                <a:solidFill>
                  <a:srgbClr val="005400"/>
                </a:solidFill>
                <a:latin typeface="Perpetua"/>
              </a:rPr>
              <a:t> :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 التغير في التكاليف الكلية نتيجة زيادة الوحدات المنتجة بوحدة واحد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Franklin Gothic Book"/>
                <a:cs typeface="Times New Roman"/>
              </a:rPr>
              <a:t>توازن المنتج باستخدام التحليل الكلي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أولا نقوم بحساب حجم الارباح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حجم الأرباح = الايراد الكلي – التكاليف الكلي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fit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 TR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توازن المنتج يتحقق عندما تصل حجم الأرباح أقصى حد، أي عند انتاج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 وحدات حيث تبلغ حجم الأرباح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105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Franklin Gothic Book"/>
                <a:cs typeface="Times New Roman"/>
              </a:rPr>
              <a:t>الطريقة الحدية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 rtl="1">
              <a:spcBef>
                <a:spcPts val="575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للتوصل إلى التوازن بالطريقة الحدية، نقوم بتطبيق شرط تعظيم الأرباح (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R = MC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47840" indent="-447840" algn="just" rtl="1">
              <a:spcBef>
                <a:spcPts val="575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في سوق المنافسة فإننا يمكن أن نعبر عن شرط التوازن كما يلي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47840" indent="-447840" algn="just" rtl="1">
              <a:spcBef>
                <a:spcPts val="575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4" marL="1524600" indent="-447840" algn="just" rtl="1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MR = P = MC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447840" indent="-44784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47840" indent="-447840" algn="just" rtl="1">
              <a:spcBef>
                <a:spcPts val="575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ويتحقق التوازن عند كمية إنتاج تساوي (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Q = 4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) وحدات. وتجدر الإشارة إلى أن إنتاج (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) وحدات، يحقق للمنشأة أكبر ربح ممكن  (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105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47840" indent="-447840" algn="just" rtl="1">
              <a:spcBef>
                <a:spcPts val="575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ويوضح الشكل التالي وضع التوازن بيانياً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47840" indent="-44784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75FE-9916-4E7E-A776-1BC6518F2064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Franklin Gothic Book"/>
                <a:cs typeface="Times New Roman"/>
              </a:rPr>
              <a:t>تمثيل التوازن بيانيا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graphicFrame>
        <p:nvGraphicFramePr>
          <p:cNvPr id="524" name="Object 36"/>
          <p:cNvGraphicFramePr/>
          <p:nvPr/>
        </p:nvGraphicFramePr>
        <p:xfrm>
          <a:off x="900000" y="1700280"/>
          <a:ext cx="7417080" cy="42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00280"/>
                    <a:ext cx="741708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676a55"/>
                </a:solidFill>
                <a:latin typeface="Arial"/>
                <a:cs typeface="Times New Roman"/>
              </a:rPr>
              <a:t>الأسواق الاقتصادية</a:t>
            </a: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أنواع الأسواق الاقتصادية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المنافسة الكامل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الاحتكار التام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المنافسة الاحتكاري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احتكار القل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A" sz="3200" spc="-1" strike="noStrike">
                <a:solidFill>
                  <a:srgbClr val="676a55"/>
                </a:solidFill>
                <a:latin typeface="Franklin Gothic Book"/>
                <a:cs typeface="Times New Roman"/>
              </a:rPr>
              <a:t>تمرين صفي</a:t>
            </a:r>
            <a:br>
              <a:rPr sz="3200"/>
            </a:b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914400" y="1700280"/>
          <a:ext cx="3749760" cy="370836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التكاليف الك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الناتج الك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  <p:sp>
        <p:nvSpPr>
          <p:cNvPr id="528" name=""/>
          <p:cNvSpPr txBox="1"/>
          <p:nvPr/>
        </p:nvSpPr>
        <p:spPr>
          <a:xfrm>
            <a:off x="4933800" y="1699920"/>
            <a:ext cx="3749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البيانات التالية خاصة بمنشأة تعمل في سوق المنافسة الكاملة وتبيع منتجاتها بثمن ثابت مقداره  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ريال للوحدة الواحدة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914400" y="62064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12880" indent="-812880"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المطلوب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812880" indent="-812880" algn="r" rtl="1">
              <a:spcBef>
                <a:spcPts val="1749"/>
              </a:spcBef>
              <a:buClr>
                <a:srgbClr val="72a376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تحديد قيمة التكاليف الثابتة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812880" indent="-812880" algn="r" rtl="1">
              <a:spcBef>
                <a:spcPts val="1749"/>
              </a:spcBef>
              <a:buClr>
                <a:srgbClr val="72a376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حساب كل من التكاليف الحدية والتكاليف المتوسطة الكلية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812880" indent="-812880" algn="r" rtl="1">
              <a:spcBef>
                <a:spcPts val="1749"/>
              </a:spcBef>
              <a:buClr>
                <a:srgbClr val="72a376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تحديد حجم الإنتاج التوازني وقيمة الربح عند التوازن باستخدام كل من التحليل الكلي والحدي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812880" indent="-812880" algn="r" rtl="1">
              <a:spcBef>
                <a:spcPts val="1749"/>
              </a:spcBef>
              <a:buClr>
                <a:srgbClr val="72a376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إذا انخفض الثمن إلى 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ريال للوحدة، حدد حجم الإنتاج التوازني الجديد، وحجم الربح أو الخسارة؟ وهل تستمر المنشأة في الإنتاج إذا كانت تحقق خسارة أم تتوقف؟ ولماذا؟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812880" indent="-81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5400"/>
                </a:solidFill>
                <a:latin typeface="Arial"/>
                <a:cs typeface="Times New Roman"/>
              </a:rPr>
              <a:t>أولاً: المنافسة الكاملة</a:t>
            </a:r>
            <a:br>
              <a:rPr sz="4000"/>
            </a:br>
            <a:r>
              <a:rPr b="1" lang="ar-SA" sz="4000" spc="-1" strike="noStrike">
                <a:solidFill>
                  <a:srgbClr val="005400"/>
                </a:solidFill>
                <a:latin typeface="Franklin Gothic Book"/>
              </a:rPr>
              <a:t> </a:t>
            </a:r>
            <a:r>
              <a:rPr b="1" lang="ar-SA" sz="4000" spc="-1" strike="noStrike">
                <a:solidFill>
                  <a:srgbClr val="005400"/>
                </a:solidFill>
                <a:latin typeface="Franklin Gothic Book"/>
                <a:ea typeface="Times New Roman"/>
              </a:rPr>
              <a:t>(</a:t>
            </a:r>
            <a:r>
              <a:rPr b="1" lang="en-US" sz="4000" spc="-1" strike="noStrike">
                <a:solidFill>
                  <a:srgbClr val="005400"/>
                </a:solidFill>
                <a:latin typeface="Franklin Gothic Book"/>
              </a:rPr>
              <a:t>Perfect Competition</a:t>
            </a:r>
            <a:r>
              <a:rPr b="1" lang="ar-SA" sz="4000" spc="-1" strike="noStrike">
                <a:solidFill>
                  <a:srgbClr val="005400"/>
                </a:solidFill>
                <a:latin typeface="Franklin Gothic Book"/>
                <a:ea typeface="Times New Roman"/>
              </a:rPr>
              <a:t>)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76a55"/>
                </a:solidFill>
                <a:latin typeface="Perpetua"/>
              </a:rPr>
              <a:t>يتميز سوق المنافسة التامة بعدة خصائص وهي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Perpetua"/>
              </a:rPr>
              <a:t>1</a:t>
            </a:r>
            <a:r>
              <a:rPr b="0" lang="ar-SA" sz="2400" spc="-1" strike="noStrike">
                <a:solidFill>
                  <a:srgbClr val="000099"/>
                </a:solidFill>
                <a:latin typeface="Perpetua"/>
              </a:rPr>
              <a:t>. وجود عدد كبير من المشترين (المستهلكين) والبائعين (المنتجين) للسلع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   تعمل هذه الخاصية على ضمان عدم تأثير أي مستهلك أو منتج على سعر السلعة في السوق، ولا يستطيع المنتج في هذه الحالة التأثير على سعر السلعة السائد في السوق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 ويمثل السعر السائد في سوق السلعة السعر الوحيد لجميع المنتجين والذي تباع فيه السلعة في سوق المنافسة الكاملة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914400" y="11592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601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Perpetua"/>
              </a:rPr>
              <a:t>2</a:t>
            </a:r>
            <a:r>
              <a:rPr b="1" lang="ar-SA" sz="3200" spc="-1" strike="noStrike">
                <a:solidFill>
                  <a:srgbClr val="000099"/>
                </a:solidFill>
                <a:latin typeface="Perpetua"/>
              </a:rPr>
              <a:t>.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Perpetua"/>
              </a:rPr>
              <a:t>تجانس (تماثل) وحدات السلعة المنتجة بين جميع المنتجين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700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بمعنى أن تكون هذه السلعة متطابقة من ناحية الجودة والكفاءة بغض النظر عن المنتج أو البائع الذي تم شراء السلعة منه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700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ونتيجة لتجانس السلعة، فإن السلعة التي يقوم بإنتاجها المنتج الأول تعتبر "بديل كامل" لسلعة المنتجين الآخرين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700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بالتالي فإن منحنى الطلب الفردي على سلعة المنتج يكون لا نهائي المرونة (خط مستقيم افقي)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700"/>
              </a:spcBef>
              <a:buClr>
                <a:srgbClr val="72a376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14400" y="25992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Perpetua"/>
              </a:rPr>
              <a:t>3</a:t>
            </a:r>
            <a:r>
              <a:rPr b="1" lang="ar-SA" sz="2400" spc="-1" strike="noStrike">
                <a:solidFill>
                  <a:srgbClr val="000099"/>
                </a:solidFill>
                <a:latin typeface="Perpetua"/>
              </a:rPr>
              <a:t>- حرية الدخول إلى السوق (</a:t>
            </a:r>
            <a:r>
              <a:rPr b="1" lang="en-US" sz="2400" spc="-1" strike="noStrike">
                <a:solidFill>
                  <a:srgbClr val="000099"/>
                </a:solidFill>
                <a:latin typeface="Perpetua"/>
              </a:rPr>
              <a:t>Free Entry</a:t>
            </a:r>
            <a:r>
              <a:rPr b="1" lang="ar-SA" sz="2400" spc="-1" strike="noStrike">
                <a:solidFill>
                  <a:srgbClr val="000099"/>
                </a:solidFill>
                <a:latin typeface="Perpetua"/>
              </a:rPr>
              <a:t>):</a:t>
            </a:r>
            <a:r>
              <a:rPr b="0" lang="ar-SA" sz="3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 حيث يمكن لأي منتج الدخول إلى سوق السلعة وإنتاج هذه السلعة، وذلك بسبب عدم وجود أي عوائق تمنع دخول منتجين جدد إلى السوق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99"/>
                </a:solidFill>
                <a:latin typeface="Arial Narrow"/>
              </a:rPr>
              <a:t>4</a:t>
            </a:r>
            <a:r>
              <a:rPr b="0" lang="ar-SA" sz="2400" spc="-1" strike="noStrike">
                <a:solidFill>
                  <a:srgbClr val="000099"/>
                </a:solidFill>
                <a:latin typeface="Arial Narrow"/>
              </a:rPr>
              <a:t>. توفر المعلومات بشكل كامل (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Perfect Information</a:t>
            </a:r>
            <a:r>
              <a:rPr b="0" lang="ar-SA" sz="2400" spc="-1" strike="noStrike">
                <a:solidFill>
                  <a:srgbClr val="000099"/>
                </a:solidFill>
                <a:latin typeface="Arial Narro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 Narrow"/>
              </a:rPr>
              <a:t> حيث يشترط في سوق المنافسة الكاملة توفر جميع المعلومات المطلوبة حول السلعة وسعرها وطريقة إنتاجها والتكاليف المرتبطة بإنتاجها والتقنية المستخدمة في عملية إنتاجها وبصورة تامة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Arial"/>
                <a:cs typeface="Times New Roman"/>
              </a:rPr>
              <a:t>سلوك المنشأة التنافسية في المدى القصير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الهدف الأساسي لأي منشأة هو تعظيم الأرباح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t Maximiza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 التي تحصل عليها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 وبصورة عامة، تستمر المنشأة في الإنتاج طالما كان بإمكانها تغطية تكاليفها الكلية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والمقصود بتغطية التكاليف هنا أن تكون التكاليف الكلية أقل من، أو مساوية للإيرادات التي تحصل عليها المنشأة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أما إذا لم تستطع المنشأة تغطية هذه التكاليف، فإنها قد تضطر إلى التوقف عن الإنتاج لتقليل خسائرها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ويمكن تحديد قرار المنشأة المتعلق بالاستمرار في الإنتاج أو التوقف عن الإنتاج باستخدام عدة طرق كما سنرى لاحقاً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76a55"/>
                </a:solidFill>
                <a:latin typeface="Arial"/>
                <a:cs typeface="Times New Roman"/>
              </a:rPr>
              <a:t>توازن المنشأة في سوق المنافسة الكاملة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Arial"/>
              </a:rPr>
              <a:t>يمكن دراسة وضع توازن المنشأة في سوق المنافسة الكاملة بطريقتين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69440" indent="-46944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Perpetua"/>
              </a:rPr>
              <a:t>1</a:t>
            </a:r>
            <a:r>
              <a:rPr b="1" lang="ar-SA" sz="3200" spc="-1" strike="noStrike">
                <a:solidFill>
                  <a:srgbClr val="333399"/>
                </a:solidFill>
                <a:latin typeface="Perpetua"/>
              </a:rPr>
              <a:t>- طريقة الكليات: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469440" indent="-469440" algn="just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في هذه الحالة، نقوم بعمل مقارنة بين الإيراد الكلي للمنشأة وإجمالي التكلفة الكلية ويتحقق توازن المنشاة عند تحقيق أكبر ربح ممكن (الفرق بين الايرادات الكلية والتكاليف الكلية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69440" indent="-469440" algn="just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الإيراد الكلي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) الذي تحصل عليه المنشأة، عبارة عن سعر السلعة مضروباً في الكميات التي قامت المنشأة ببيعها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)، أو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69440" indent="-46944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69440" indent="-46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 = (P) x (Q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69440" indent="-469440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r"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ar-SA" sz="2600" spc="-1" strike="noStrike">
                <a:solidFill>
                  <a:srgbClr val="333399"/>
                </a:solidFill>
                <a:latin typeface="Times New Roman"/>
              </a:rPr>
              <a:t> - الطريقة الحدية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r" rtl="1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ندما تقرر المنشأة زيادة إنتاجها بمقدار وحدة واحدة مثلاً، تقوم المنشأة بمقارنة مقدار الزيادة في التكلفة الكلية الناجمة عن زيادة الإنتاج بوحدة واحدة (التكاليف الكلية)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)، مع مقدار الزيادة في الإيراد الكلي الناتج عن زيادة الإنتاج بوحدة واحدة (الايراد الحدي)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)، أو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r" rtl="1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∆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T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C = 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ـــــــــــــــــ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              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∆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        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Times New Roman"/>
              </a:rPr>
              <a:t>                                           ∆</a:t>
            </a:r>
            <a:r>
              <a:rPr b="1" lang="en-US" sz="2800" spc="-1" strike="noStrike">
                <a:solidFill>
                  <a:srgbClr val="005400"/>
                </a:solidFill>
                <a:latin typeface="Times New Roman"/>
              </a:rPr>
              <a:t>TR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005400"/>
                </a:solidFill>
                <a:latin typeface="Times New Roman"/>
              </a:rPr>
              <a:t>MR    =      </a:t>
            </a:r>
            <a:r>
              <a:rPr b="1" lang="ar-SA" sz="2800" spc="-1" strike="noStrike">
                <a:solidFill>
                  <a:srgbClr val="005400"/>
                </a:solidFill>
                <a:latin typeface="Times New Roman"/>
              </a:rPr>
              <a:t>ــــــــــــــــــــ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Perpetua"/>
                <a:ea typeface="Arial"/>
              </a:rPr>
              <a:t>                                                  ∆</a:t>
            </a:r>
            <a:r>
              <a:rPr b="1" lang="en-US" sz="2800" spc="-1" strike="noStrike">
                <a:solidFill>
                  <a:srgbClr val="005400"/>
                </a:solidFill>
                <a:latin typeface="Perpetua"/>
                <a:ea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r" rtl="1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914400" y="333360"/>
            <a:ext cx="77724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يتحدد وضع توازن المنتج، وهو مستوى تعظيم الأرباح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 Maximization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) عند تساوي الايراد الحدي مع التكلفة الحدية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 = MC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يعني شرط التوازن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=MC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)، أن الإيراد الإضافي الذي تحصل عليه المنشأة نتيجة زيادة الإنتاج بوحدة واحدة، يساوي التكلفة الإضافية التي تدفعها المنشأة نتيجة زيادة الإنتاج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من ثم، فلا يوجد دافع لدى المنشأة نحو زيادة أو تخفيض الكمية المنتجة، حيث أن هذه الكمية هي الكمية الوحيدة التي تعظم أرباح المنشأة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6:23:29Z</dcterms:created>
  <dc:creator>Dell</dc:creator>
  <dc:description/>
  <dc:language>en-US</dc:language>
  <cp:lastModifiedBy>admin</cp:lastModifiedBy>
  <dcterms:modified xsi:type="dcterms:W3CDTF">2012-01-06T22:31:33Z</dcterms:modified>
  <cp:revision>125</cp:revision>
  <dc:subject/>
  <dc:title>الاعتماد الأكاديمي</dc:title>
</cp:coreProperties>
</file>