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164E-A8F7-439A-A211-3432AE35FF77}"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380880" y="685800"/>
            <a:ext cx="609624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en reviewing a commercial loan file, the auditor should review the underwriting, commitment letter, loan documents, appraisals, environmental studies and supporting documentation</a:t>
            </a:r>
            <a:endParaRPr b="0" lang="en-US" sz="1200" spc="-1" strike="noStrike">
              <a:solidFill>
                <a:srgbClr val="000000"/>
              </a:solidFill>
              <a:latin typeface="Calibri"/>
            </a:endParaRPr>
          </a:p>
        </p:txBody>
      </p:sp>
      <p:sp>
        <p:nvSpPr>
          <p:cNvPr id="7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320C-3781-4E8E-BD6E-F15790C1ADD9}"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13253-44B2-4C19-BE33-6CC96B0FE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208FC-D5EE-4F78-9AEE-B168D8E00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9C1E5-F963-4665-B390-F2C2E846F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547FD-DAB4-4D40-BF14-5BD14F698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31D7-F7EB-43F6-881A-54E96CA2B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9D3E7-E94D-4F77-BB43-8CD024D1F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9FE79-E31E-47D2-8F37-AA0F0CDE4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21DD3-5F42-46C2-A41A-D423EF4AA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7D067-E777-4F01-B2D7-9F105FC1E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C01A9-CFA4-47A0-8B65-F2CA04C30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473AF-5188-4159-BD06-639D92701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FD704-93B8-478D-B20F-A5477B392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E250-203A-437D-AD49-C91EC1CA52D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8280" y="2522520"/>
            <a:ext cx="9875880" cy="1471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alibri Light"/>
                <a:cs typeface="Times New Roman"/>
              </a:rPr>
              <a:t>أنواع المراجعة الداخلية</a:t>
            </a:r>
            <a:br>
              <a:rPr sz="2400"/>
            </a:br>
            <a:r>
              <a:rPr b="0" lang="ar-SA" sz="2400" spc="-1" strike="noStrike">
                <a:solidFill>
                  <a:srgbClr val="000000"/>
                </a:solidFill>
                <a:latin typeface="Calibri Light"/>
                <a:cs typeface="Times New Roman"/>
              </a:rPr>
              <a:t>تقديم المشورة والدعم للإدارة</a:t>
            </a:r>
            <a:r>
              <a:rPr b="0" lang="en-US" sz="2400" spc="-1" strike="noStrike">
                <a:solidFill>
                  <a:srgbClr val="000000"/>
                </a:solidFill>
                <a:latin typeface="Calibri Light"/>
                <a:ea typeface="Times New Roman"/>
              </a:rPr>
              <a:t>- </a:t>
            </a:r>
            <a:r>
              <a:rPr b="0" lang="ar-SA" sz="2400" spc="-1" strike="noStrike">
                <a:solidFill>
                  <a:srgbClr val="000000"/>
                </a:solidFill>
                <a:latin typeface="Calibri Light"/>
                <a:cs typeface="Times New Roman"/>
              </a:rPr>
              <a:t>الالتزام – المالية –السلوك</a:t>
            </a:r>
            <a:endParaRPr b="0" lang="en-US" sz="2400" spc="-1" strike="noStrike">
              <a:solidFill>
                <a:srgbClr val="000000"/>
              </a:solidFill>
              <a:latin typeface="Calibri Light"/>
            </a:endParaRPr>
          </a:p>
        </p:txBody>
      </p:sp>
      <p:sp>
        <p:nvSpPr>
          <p:cNvPr id="49" name="PlaceHolder 2"/>
          <p:cNvSpPr>
            <a:spLocks noGrp="1"/>
          </p:cNvSpPr>
          <p:nvPr>
            <p:ph type="subTitle"/>
          </p:nvPr>
        </p:nvSpPr>
        <p:spPr>
          <a:xfrm>
            <a:off x="1053720" y="4626000"/>
            <a:ext cx="9875880" cy="1752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0" lang="ar-SA" sz="3200" spc="-1" strike="noStrike">
                <a:solidFill>
                  <a:srgbClr val="000000"/>
                </a:solidFill>
                <a:latin typeface="Calibri"/>
                <a:ea typeface="Arial"/>
              </a:rPr>
              <a:t>     </a:t>
            </a:r>
            <a:r>
              <a:rPr b="0" lang="ar-SA" sz="3200" spc="-1" strike="noStrike">
                <a:solidFill>
                  <a:srgbClr val="000000"/>
                </a:solidFill>
                <a:latin typeface="Calibri"/>
                <a:cs typeface="Arial"/>
              </a:rPr>
              <a:t>الفصل العاش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4680"/>
            <a:ext cx="10515600" cy="957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Light"/>
                <a:cs typeface="Times New Roman"/>
              </a:rPr>
              <a:t>تقديم المشورة والدعم</a:t>
            </a:r>
            <a:endParaRPr b="0" lang="en-US" sz="4400" spc="-1" strike="noStrike">
              <a:solidFill>
                <a:srgbClr val="000000"/>
              </a:solidFill>
              <a:latin typeface="Calibri Light"/>
            </a:endParaRPr>
          </a:p>
        </p:txBody>
      </p:sp>
      <p:sp>
        <p:nvSpPr>
          <p:cNvPr id="69" name=""/>
          <p:cNvSpPr txBox="1"/>
          <p:nvPr/>
        </p:nvSpPr>
        <p:spPr>
          <a:xfrm>
            <a:off x="838080" y="1278000"/>
            <a:ext cx="10515600" cy="5005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جالها :</a:t>
            </a:r>
            <a:endParaRPr b="0" lang="en-US" sz="28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حددت </a:t>
            </a:r>
            <a:r>
              <a:rPr b="0" lang="ar-SA" sz="2400" spc="-1" strike="noStrike">
                <a:solidFill>
                  <a:srgbClr val="000000"/>
                </a:solidFill>
                <a:latin typeface="Sakkal Majalla"/>
                <a:cs typeface="Arial"/>
              </a:rPr>
              <a:t>المعايير المهنية للمراجعة الداخلية - </a:t>
            </a:r>
            <a:r>
              <a:rPr b="0" lang="ar-SA" sz="2400" spc="-1" strike="noStrike">
                <a:solidFill>
                  <a:srgbClr val="000000"/>
                </a:solidFill>
                <a:latin typeface="Calibri"/>
                <a:cs typeface="Arial"/>
              </a:rPr>
              <a:t>المعيار(</a:t>
            </a:r>
            <a:r>
              <a:rPr b="0" lang="en-US" sz="2400" spc="-1" strike="noStrike">
                <a:solidFill>
                  <a:srgbClr val="000000"/>
                </a:solidFill>
                <a:latin typeface="Calibri"/>
              </a:rPr>
              <a:t>(</a:t>
            </a:r>
            <a:r>
              <a:rPr b="0" lang="en-US" sz="2400" spc="-1" strike="noStrike">
                <a:solidFill>
                  <a:srgbClr val="000000"/>
                </a:solidFill>
                <a:latin typeface="Calibri"/>
              </a:rPr>
              <a:t>2120</a:t>
            </a:r>
            <a:r>
              <a:rPr b="0" lang="ar-SA" sz="2400" spc="-1" strike="noStrike">
                <a:solidFill>
                  <a:srgbClr val="000000"/>
                </a:solidFill>
                <a:latin typeface="Calibri"/>
                <a:ea typeface="Arial"/>
              </a:rPr>
              <a:t> -الدور الاستشاري للمراجع الداخلي فى مجال تحسين فعالية الرقابة الداخلية كما يل</a:t>
            </a:r>
            <a:r>
              <a:rPr b="0" lang="ar-EG" sz="2400" spc="-1" strike="noStrike">
                <a:solidFill>
                  <a:srgbClr val="000000"/>
                </a:solidFill>
                <a:latin typeface="Calibri"/>
                <a:cs typeface="Arial"/>
              </a:rPr>
              <a:t>ى</a:t>
            </a:r>
            <a:r>
              <a:rPr b="0" lang="ar-SA" sz="2400" spc="-1" strike="noStrike">
                <a:solidFill>
                  <a:srgbClr val="000000"/>
                </a:solidFill>
                <a:latin typeface="Calibri"/>
                <a:ea typeface="Arial"/>
              </a:rPr>
              <a:t> :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2120</a:t>
            </a:r>
            <a:r>
              <a:rPr b="0" lang="en-US" sz="2000" spc="-1" strike="noStrike">
                <a:solidFill>
                  <a:srgbClr val="000000"/>
                </a:solidFill>
                <a:latin typeface="Calibri"/>
              </a:rPr>
              <a:t>.</a:t>
            </a:r>
            <a:r>
              <a:rPr b="0" lang="en-US" sz="2000" spc="-1" strike="noStrike">
                <a:solidFill>
                  <a:srgbClr val="000000"/>
                </a:solidFill>
                <a:latin typeface="Calibri"/>
              </a:rPr>
              <a:t>C1</a:t>
            </a:r>
            <a:r>
              <a:rPr b="0" lang="en-US" sz="2000" spc="-1" strike="noStrike">
                <a:solidFill>
                  <a:srgbClr val="000000"/>
                </a:solidFill>
                <a:latin typeface="Calibri"/>
              </a:rPr>
              <a:t>) </a:t>
            </a:r>
            <a:r>
              <a:rPr b="0" lang="ar-SA" sz="2000" spc="-1" strike="noStrike">
                <a:solidFill>
                  <a:srgbClr val="000000"/>
                </a:solidFill>
                <a:latin typeface="Calibri"/>
                <a:ea typeface="Arial"/>
              </a:rPr>
              <a:t> : يجب على المراجعين الداخليين عند تقديمهم للخدمات الاستشارية أن يتحققوا من أن أدوات الرقابة تتوافق مع الأهداف المزمع تحقيقها، وأن يكون المراجعين الداخليين قادرين على تحديد والتعرف على مواطن الضعف الجوهرية فى أدوات الرقاب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0" lang="en-US" sz="2000" spc="-1" strike="noStrike">
                <a:solidFill>
                  <a:srgbClr val="000000"/>
                </a:solidFill>
                <a:latin typeface="Calibri"/>
              </a:rPr>
              <a:t>(</a:t>
            </a:r>
            <a:r>
              <a:rPr b="0" lang="en-US" sz="2000" spc="-1" strike="noStrike">
                <a:solidFill>
                  <a:srgbClr val="000000"/>
                </a:solidFill>
                <a:latin typeface="Calibri"/>
              </a:rPr>
              <a:t>2120</a:t>
            </a:r>
            <a:r>
              <a:rPr b="0" lang="en-US" sz="2000" spc="-1" strike="noStrike">
                <a:solidFill>
                  <a:srgbClr val="000000"/>
                </a:solidFill>
                <a:latin typeface="Calibri"/>
              </a:rPr>
              <a:t>.</a:t>
            </a:r>
            <a:r>
              <a:rPr b="0" lang="en-US" sz="2000" spc="-1" strike="noStrike">
                <a:solidFill>
                  <a:srgbClr val="000000"/>
                </a:solidFill>
                <a:latin typeface="Calibri"/>
              </a:rPr>
              <a:t>C2</a:t>
            </a:r>
            <a:r>
              <a:rPr b="0" lang="en-US" sz="2000" spc="-1" strike="noStrike">
                <a:solidFill>
                  <a:srgbClr val="000000"/>
                </a:solidFill>
                <a:latin typeface="Calibri"/>
              </a:rPr>
              <a:t>)</a:t>
            </a:r>
            <a:r>
              <a:rPr b="0" lang="ar-SA" sz="2000" spc="-1" strike="noStrike">
                <a:solidFill>
                  <a:srgbClr val="000000"/>
                </a:solidFill>
                <a:latin typeface="Calibri"/>
                <a:ea typeface="Arial"/>
              </a:rPr>
              <a:t> : يجب أن يستخدم المراجعون الداخلي</a:t>
            </a:r>
            <a:r>
              <a:rPr b="0" lang="ar-EG" sz="2000" spc="-1" strike="noStrike">
                <a:solidFill>
                  <a:srgbClr val="000000"/>
                </a:solidFill>
                <a:latin typeface="Calibri"/>
                <a:cs typeface="Arial"/>
              </a:rPr>
              <a:t>و</a:t>
            </a:r>
            <a:r>
              <a:rPr b="0" lang="ar-SA" sz="2000" spc="-1" strike="noStrike">
                <a:solidFill>
                  <a:srgbClr val="000000"/>
                </a:solidFill>
                <a:latin typeface="Calibri"/>
                <a:cs typeface="Arial"/>
              </a:rPr>
              <a:t>ن المعارف التى يكتسبونها من عملهم الاستشاري فى عملية تحديد وتقييم تعرض المنشأة لمخاطر جوهرية</a:t>
            </a:r>
            <a:r>
              <a:rPr b="1" lang="ar-SA" sz="2000" spc="-1" strike="noStrike">
                <a:solidFill>
                  <a:srgbClr val="000000"/>
                </a:solidFill>
                <a:latin typeface="Sakkal Majalla"/>
                <a:ea typeface="Arial"/>
              </a:rPr>
              <a:t>.</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akkal Majalla"/>
                <a:cs typeface="Arial"/>
              </a:rPr>
              <a:t>المخاطر المالية المرتبطة بأخطار السيولة والائتمان وسداد الالتزامات ومخاطر سعر الفائدة وسعر الصرف</a:t>
            </a:r>
            <a:endParaRPr b="0" lang="en-US" sz="18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akkal Majalla"/>
                <a:cs typeface="Arial"/>
              </a:rPr>
              <a:t>المخاطر التشغيلية المرتبطة بضعف نظام الرقابة الداخلية وضعف كفاءة وفعالية نظم المعلومات، ونقص كفاءة وخبرة متخذى القرارات، وسرعة التطورات الفنية والتكنولوجية، وعدم التوافق على السياسات الإدارية والإجراءات ضد سوء الإدارة </a:t>
            </a:r>
            <a:endParaRPr b="0" lang="en-US" sz="18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akkal Majalla"/>
                <a:cs typeface="Arial"/>
              </a:rPr>
              <a:t>مخاطر الأعمال المرتبطة بالصناعة أو البيئة التي تعمل فيها المنشأة بما في ذلك المخاطر الخارجة عن سيطرة وتحكم الإدارة كالقوانين واللوائح والتنظيمات والقيود الاقتصادية والسياسية والاجتماعية.</a:t>
            </a:r>
            <a:endParaRPr b="0" lang="en-US" sz="18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Light"/>
                <a:cs typeface="Times New Roman"/>
              </a:rPr>
              <a:t>تقديم المشورة والدعم</a:t>
            </a:r>
            <a:endParaRPr b="0" lang="en-US" sz="4400" spc="-1" strike="noStrike">
              <a:solidFill>
                <a:srgbClr val="000000"/>
              </a:solidFill>
              <a:latin typeface="Calibri Light"/>
            </a:endParaRPr>
          </a:p>
        </p:txBody>
      </p:sp>
      <p:sp>
        <p:nvSpPr>
          <p:cNvPr id="71" name=""/>
          <p:cNvSpPr txBox="1"/>
          <p:nvPr/>
        </p:nvSpPr>
        <p:spPr>
          <a:xfrm>
            <a:off x="838080" y="1825200"/>
            <a:ext cx="10515600" cy="4351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طلب المنشآت للخدمات الاستشارية الإدارية قد تزايد بسبب:</a:t>
            </a:r>
            <a:endParaRPr b="0" lang="en-US" sz="24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عقد وتطور العمليات التشغيلية والبيئة المالية و البيئة القانونية</a:t>
            </a:r>
            <a:endParaRPr b="0" lang="en-US" sz="20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زيادة حدة المنافسة بين الشركات وتضخم احجامها</a:t>
            </a:r>
            <a:endParaRPr b="0" lang="en-US" sz="20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زايد الأعباء الإدارية</a:t>
            </a:r>
            <a:endParaRPr b="0" lang="en-US" sz="20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طور الهائل في أساليب التحليل الكمي</a:t>
            </a:r>
            <a:endParaRPr b="0" lang="en-US" sz="20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Light"/>
                <a:cs typeface="Times New Roman"/>
              </a:rPr>
              <a:t>تقديم المشورة والدعم</a:t>
            </a:r>
            <a:endParaRPr b="0" lang="en-US" sz="4400" spc="-1" strike="noStrike">
              <a:solidFill>
                <a:srgbClr val="000000"/>
              </a:solidFill>
              <a:latin typeface="Calibri Light"/>
            </a:endParaRPr>
          </a:p>
        </p:txBody>
      </p:sp>
      <p:sp>
        <p:nvSpPr>
          <p:cNvPr id="73" name=""/>
          <p:cNvSpPr txBox="1"/>
          <p:nvPr/>
        </p:nvSpPr>
        <p:spPr>
          <a:xfrm>
            <a:off x="838080" y="1825200"/>
            <a:ext cx="10515600" cy="4351320"/>
          </a:xfrm>
          <a:prstGeom prst="rect">
            <a:avLst/>
          </a:prstGeom>
          <a:noFill/>
          <a:ln w="0">
            <a:noFill/>
          </a:ln>
        </p:spPr>
        <p:txBody>
          <a:bodyPr anchor="t">
            <a:normAutofit/>
          </a:bodyPr>
          <a:p>
            <a:pPr marL="343080" indent="-34308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فضل الإدارة عادة الحصول على الخدمة من المراجعة الداخلية للأسباب التالية:</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خدمة تتعلق بأمور تشغيلية أو استراتيجية داخلية لا تحتاج إلى خبرات ومعارف ومهارات غير عادية </a:t>
            </a:r>
            <a:endParaRPr b="0" lang="en-US" sz="20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ول اعتبارات التكلفة مقارنة بالعائد المنتظر منها دون طلب الخدمة من المكاتب الخارجية</a:t>
            </a:r>
            <a:endParaRPr b="0" lang="en-US" sz="20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ن يعتمد على نتيجتها طرف ثالث خارجي يحتاج إلى درجة عالية من الاستقلال فيمن يعد مثل هذه الخدمات</a:t>
            </a:r>
            <a:endParaRPr b="0" lang="en-US" sz="20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25252"/>
                </a:solidFill>
                <a:latin typeface="Calibri Light"/>
                <a:cs typeface="Times New Roman"/>
              </a:rPr>
              <a:t>المصادر</a:t>
            </a:r>
            <a:r>
              <a:rPr b="0" lang="ar-SA" sz="4400" spc="-1" strike="noStrike">
                <a:solidFill>
                  <a:srgbClr val="525252"/>
                </a:solidFill>
                <a:latin typeface="Calibri Light"/>
                <a:ea typeface="Times New Roman"/>
              </a:rPr>
              <a:t> </a:t>
            </a:r>
            <a:endParaRPr b="0" lang="en-US" sz="4400" spc="-1" strike="noStrike">
              <a:solidFill>
                <a:srgbClr val="000000"/>
              </a:solidFill>
              <a:latin typeface="Calibri Light"/>
            </a:endParaRPr>
          </a:p>
        </p:txBody>
      </p:sp>
      <p:sp>
        <p:nvSpPr>
          <p:cNvPr id="75"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رقابة والمراجعة الداخلية في الأجهزة الحكومية والمؤسسات العامة – </a:t>
            </a:r>
            <a:r>
              <a:rPr b="0" lang="en-US" sz="2800" spc="-1" strike="noStrike">
                <a:solidFill>
                  <a:srgbClr val="000000"/>
                </a:solidFill>
                <a:latin typeface="Calibri"/>
                <a:ea typeface="Arial"/>
              </a:rPr>
              <a:t>SOCPA</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لاحظات و عروض الاستاذه هناء العقيل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اللائحة الموحدة لوحدات المراجعة الداخلية في الأجهزة الحكومية والمؤسسات العامة السعودية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kkal Majalla"/>
                <a:ea typeface="Sakkal Majalla"/>
              </a:rPr>
              <a:t>http: // www. theiia. Org</a:t>
            </a:r>
            <a:r>
              <a:rPr b="0" lang="en-US" sz="2800" spc="-1" strike="noStrike">
                <a:solidFill>
                  <a:srgbClr val="000000"/>
                </a:solidFill>
                <a:latin typeface="Sakkal Majalla"/>
                <a:ea typeface="Sakkal Majalla"/>
              </a:rPr>
              <a:t>.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مراجعة الالتزام</a:t>
            </a:r>
            <a:r>
              <a:rPr b="0" lang="ar-SA" sz="4000" spc="-1" strike="noStrike">
                <a:solidFill>
                  <a:srgbClr val="000000"/>
                </a:solidFill>
                <a:latin typeface="Calibri Light"/>
                <a:ea typeface="Times New Roman"/>
              </a:rPr>
              <a:t> </a:t>
            </a:r>
            <a:r>
              <a:rPr b="0" lang="en-US" sz="4000" spc="-1" strike="noStrike">
                <a:solidFill>
                  <a:srgbClr val="000000"/>
                </a:solidFill>
                <a:latin typeface="Calibri Light"/>
                <a:ea typeface="Times New Roman"/>
              </a:rPr>
              <a:t> </a:t>
            </a:r>
            <a:br>
              <a:rPr sz="4000"/>
            </a:br>
            <a:r>
              <a:rPr b="0" lang="en-US" sz="4000" spc="-1" strike="noStrike">
                <a:solidFill>
                  <a:srgbClr val="000000"/>
                </a:solidFill>
                <a:latin typeface="Calibri Light"/>
                <a:ea typeface="Times New Roman"/>
              </a:rPr>
              <a:t>Compliance </a:t>
            </a:r>
            <a:r>
              <a:rPr b="0" lang="ar-SA" sz="4000" spc="-1" strike="noStrike">
                <a:solidFill>
                  <a:srgbClr val="000000"/>
                </a:solidFill>
                <a:latin typeface="Calibri Light"/>
                <a:ea typeface="Times New Roman"/>
              </a:rPr>
              <a:t> </a:t>
            </a:r>
            <a:endParaRPr b="0" lang="en-US" sz="4000" spc="-1" strike="noStrike">
              <a:solidFill>
                <a:srgbClr val="000000"/>
              </a:solidFill>
              <a:latin typeface="Calibri Light"/>
            </a:endParaRPr>
          </a:p>
        </p:txBody>
      </p:sp>
      <p:sp>
        <p:nvSpPr>
          <p:cNvPr id="51" name=""/>
          <p:cNvSpPr txBox="1"/>
          <p:nvPr/>
        </p:nvSpPr>
        <p:spPr>
          <a:xfrm>
            <a:off x="837720" y="2055960"/>
            <a:ext cx="10860120" cy="38131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جنة بازل للإشراف على البنوك في شهر إبريل </a:t>
            </a:r>
            <a:r>
              <a:rPr b="0" lang="ar-SA" sz="2400" spc="-1" strike="noStrike">
                <a:solidFill>
                  <a:srgbClr val="000000"/>
                </a:solidFill>
                <a:latin typeface="Calibri"/>
                <a:ea typeface="Arial"/>
              </a:rPr>
              <a:t>2005</a:t>
            </a:r>
            <a:r>
              <a:rPr b="0" lang="ar-SA" sz="2400" spc="-1" strike="noStrike">
                <a:solidFill>
                  <a:srgbClr val="000000"/>
                </a:solidFill>
                <a:latin typeface="Calibri"/>
                <a:cs typeface="Arial"/>
              </a:rPr>
              <a:t>م قامت باعتماد وإصدار الـورقة الخـاصة بالالتزام ووظيفة الالتزام في البنوك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مراجعة مدى التزام جهة معينه بالمتطلبات النظامية والقانونية، وأيضاً ضمان الالتزام بالسياسات والإجراءات التي ترسمها الإدارة ومجلس الادارة. علما بان المنشآت تعمل في إطار نظامي خارجي و إطار تنظيمي داخلي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اذا يقصد بذل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مراجعة الالتزام</a:t>
            </a:r>
            <a:r>
              <a:rPr b="0" lang="ar-SA" sz="4000" spc="-1" strike="noStrike">
                <a:solidFill>
                  <a:srgbClr val="000000"/>
                </a:solidFill>
                <a:latin typeface="Calibri Light"/>
                <a:ea typeface="Times New Roman"/>
              </a:rPr>
              <a:t> </a:t>
            </a:r>
            <a:endParaRPr b="0" lang="en-US" sz="4000" spc="-1" strike="noStrike">
              <a:solidFill>
                <a:srgbClr val="000000"/>
              </a:solidFill>
              <a:latin typeface="Calibri Light"/>
            </a:endParaRPr>
          </a:p>
        </p:txBody>
      </p:sp>
      <p:sp>
        <p:nvSpPr>
          <p:cNvPr id="53" name=""/>
          <p:cNvSpPr txBox="1"/>
          <p:nvPr/>
        </p:nvSpPr>
        <p:spPr>
          <a:xfrm>
            <a:off x="577800" y="1800360"/>
            <a:ext cx="11057040" cy="431136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حقق من التزام العاملين بالأطر الداخلية والخارجية يتم لمصلحة الإدارة ويتم التقرير عنه للمستوي الإداري المناسب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سم المحاسبة ( </a:t>
            </a:r>
            <a:r>
              <a:rPr b="0" lang="en-US" sz="2000" spc="-1" strike="noStrike">
                <a:solidFill>
                  <a:srgbClr val="000000"/>
                </a:solidFill>
                <a:latin typeface="Calibri"/>
              </a:rPr>
              <a:t>IFRS</a:t>
            </a:r>
            <a:r>
              <a:rPr b="0" lang="ar-SA" sz="2000" spc="-1" strike="noStrike">
                <a:solidFill>
                  <a:srgbClr val="000000"/>
                </a:solidFill>
                <a:latin typeface="Calibri"/>
                <a:ea typeface="Arial"/>
              </a:rPr>
              <a:t> - قوانين الزكاة و الضريبة)</a:t>
            </a:r>
            <a:endParaRPr b="0" lang="en-US" sz="20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سم الموارد البشرية ( وزاره العمل )</a:t>
            </a:r>
            <a:endParaRPr b="0" lang="en-US" sz="20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سم التصميم ( مواصفات الهيئة العامه للمقاييس)</a:t>
            </a:r>
            <a:endParaRPr b="0" lang="en-US" sz="20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سم المالية ( </a:t>
            </a:r>
            <a:r>
              <a:rPr b="0" lang="en-US" sz="2000" spc="-1" strike="noStrike">
                <a:solidFill>
                  <a:srgbClr val="000000"/>
                </a:solidFill>
                <a:latin typeface="Calibri"/>
              </a:rPr>
              <a:t>SAMA</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ل هناك مراجعة التزام الإدارة بالأطر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مر مشكوك فيه من الناحية العملية والنظرية. فالمراجعة الداخلية أساسا هي وظيفة معاونة للإدارة </a:t>
            </a:r>
            <a:endParaRPr b="0" lang="en-US" sz="20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آليات الحوكمة حاولت دعم هذه الجانب من عمل المراجعين الداخليين بتشكيل لجنة مستقلة يتم التقرير إليها عن مثل هذه التجاوزات هي لجنة المراجعة</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مثال على مراجعه الالتزام</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ادة السادسة من نظام مراقبة البنك الصادر عن مؤسسة النقد</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ا يجوز أن تزيد التزامات البنك من الودائع على خمسة عشر مثلا من مجموع احتياطياته ورأس ماله المدفوع أو المستثمر فإذا زادت التزامات الودائع على هذا القدر وجب على البنك ــــ في خلال شهر من تاريخ تقديم البيان المنصوص عليه في الفقرة الأولى من المادة الخامسة عشر ــــ أن يزيد رأسماله واحتياطياته إلى الحد المقرر أو أن يودع لدى المؤسسة (</a:t>
            </a:r>
            <a:r>
              <a:rPr b="0" lang="ar-SA" sz="2400" spc="-1" strike="noStrike">
                <a:solidFill>
                  <a:srgbClr val="000000"/>
                </a:solidFill>
                <a:latin typeface="Calibri"/>
                <a:ea typeface="Arial"/>
              </a:rPr>
              <a:t>50</a:t>
            </a:r>
            <a:r>
              <a:rPr b="0" lang="ar-SA" sz="2400" spc="-1" strike="noStrike">
                <a:solidFill>
                  <a:srgbClr val="000000"/>
                </a:solidFill>
                <a:latin typeface="Calibri"/>
                <a:ea typeface="Arial"/>
              </a:rPr>
              <a:t>%) خمسين في المائة من المبلغ الزائ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مراجعة الالتزام</a:t>
            </a:r>
            <a:r>
              <a:rPr b="0" lang="ar-SA" sz="4400" spc="-1" strike="noStrike">
                <a:solidFill>
                  <a:srgbClr val="000000"/>
                </a:solidFill>
                <a:latin typeface="Calibri Light"/>
                <a:ea typeface="Times New Roman"/>
              </a:rPr>
              <a:t> </a:t>
            </a:r>
            <a:endParaRPr b="0" lang="en-US" sz="4400" spc="-1" strike="noStrike">
              <a:solidFill>
                <a:srgbClr val="000000"/>
              </a:solidFill>
              <a:latin typeface="Calibri Light"/>
            </a:endParaRPr>
          </a:p>
        </p:txBody>
      </p:sp>
      <p:sp>
        <p:nvSpPr>
          <p:cNvPr id="57" name=""/>
          <p:cNvSpPr txBox="1"/>
          <p:nvPr/>
        </p:nvSpPr>
        <p:spPr>
          <a:xfrm>
            <a:off x="669960" y="1961640"/>
            <a:ext cx="10515600" cy="4351320"/>
          </a:xfrm>
          <a:prstGeom prst="rect">
            <a:avLst/>
          </a:prstGeom>
          <a:noFill/>
          <a:ln w="0">
            <a:noFill/>
          </a:ln>
        </p:spPr>
        <p:txBody>
          <a:bodyPr anchor="t">
            <a:normAutofit fontScale="96000"/>
          </a:bodyPr>
          <a:p>
            <a:pPr marL="219240" indent="-21924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جراءات مراجعه الالتزام :</a:t>
            </a:r>
            <a:endParaRPr b="0" lang="en-US" sz="28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كوين الفريق لأداء المراجعة باختيار الأفراد ذوي الخبرة و تعيين شخص مؤهل للإشراف على الفريق</a:t>
            </a:r>
            <a:endParaRPr b="0" lang="en-US" sz="20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ديد أولويات الترتيب الذي سيتم بها فحص كل قسم حيث يجب البدأ بالمناطق المعرضة للخطر و التي تخضع لتدقيق تنظيمي أكبر، مثل اجراءات المحاسبة.</a:t>
            </a:r>
            <a:endParaRPr b="0" lang="en-US" sz="20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حصول على نسخ من الإجراءات التي تتبعها الإدارات مع تحري مقارنتها بالأنظمة للتأكد من عدم وجود انتهاك واضح . </a:t>
            </a:r>
            <a:endParaRPr b="0" lang="en-US" sz="20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راجعة التقارير المتعلقة بالإنتاج والحجم مستخدمة اسلوب المعاينة</a:t>
            </a:r>
            <a:endParaRPr b="0" lang="en-US" sz="20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ديد جدول زمني</a:t>
            </a:r>
            <a:endParaRPr b="0" lang="en-US" sz="20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إنشاء قائمة بالبنود المهمه التي على المراجع أن يفحصها عند المراجعة</a:t>
            </a:r>
            <a:endParaRPr b="0" lang="en-US" sz="2000" spc="-1" strike="noStrike">
              <a:solidFill>
                <a:srgbClr val="000000"/>
              </a:solidFill>
              <a:latin typeface="Calibri"/>
            </a:endParaRPr>
          </a:p>
          <a:p>
            <a:pPr lvl="2" marL="109728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ثال : عند مراجعه مدى التزام البنك باجراءات اعطاء قرض يحتاج المراجع لفحص ( طلب التمويل - العقد الموقع – التقييمات – الدراسات المعنية )</a:t>
            </a:r>
            <a:endParaRPr b="0" lang="en-US" sz="18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إبلاغ عن النتائج والتوصيات الخاصة بك مع ضمان أن يتم ترتيب جميع المعلومات بطريقة منطقية و سهلة الفهم .</a:t>
            </a:r>
            <a:endParaRPr b="0" lang="en-US" sz="2000" spc="-1" strike="noStrike">
              <a:solidFill>
                <a:srgbClr val="000000"/>
              </a:solidFill>
              <a:latin typeface="Calibri"/>
            </a:endParaRPr>
          </a:p>
          <a:p>
            <a:pPr marL="219240" indent="-21924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9240" indent="-21924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9240" indent="-21924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Rectangle 4"/>
          <p:cNvSpPr/>
          <p:nvPr/>
        </p:nvSpPr>
        <p:spPr>
          <a:xfrm>
            <a:off x="12023640" y="227160"/>
            <a:ext cx="360" cy="276120"/>
          </a:xfrm>
          <a:prstGeom prst="rect">
            <a:avLst/>
          </a:prstGeom>
          <a:solidFill>
            <a:srgbClr val="ffffff"/>
          </a:solid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Rectangle 5"/>
          <p:cNvSpPr/>
          <p:nvPr/>
        </p:nvSpPr>
        <p:spPr>
          <a:xfrm>
            <a:off x="1219212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لمراجعة المالية</a:t>
            </a:r>
            <a:r>
              <a:rPr b="0" lang="ar-SA" sz="4400" spc="-1" strike="noStrike">
                <a:solidFill>
                  <a:srgbClr val="000000"/>
                </a:solidFill>
                <a:latin typeface="Calibri Light"/>
                <a:ea typeface="Times New Roman"/>
              </a:rPr>
              <a:t> </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اهي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ا لفرق بين الداخلية و الخارجي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Light"/>
                <a:cs typeface="Times New Roman"/>
              </a:rPr>
              <a:t>مراجعة السلوك</a:t>
            </a:r>
            <a:r>
              <a:rPr b="1" lang="ar-SA" sz="4000" spc="-1" strike="noStrike">
                <a:solidFill>
                  <a:srgbClr val="000000"/>
                </a:solidFill>
                <a:latin typeface="Calibri Light"/>
                <a:ea typeface="Times New Roman"/>
              </a:rPr>
              <a:t> </a:t>
            </a:r>
            <a:endParaRPr b="0" lang="en-US" sz="4000" spc="-1" strike="noStrike">
              <a:solidFill>
                <a:srgbClr val="000000"/>
              </a:solidFill>
              <a:latin typeface="Calibri Light"/>
            </a:endParaRPr>
          </a:p>
        </p:txBody>
      </p:sp>
      <p:sp>
        <p:nvSpPr>
          <p:cNvPr id="63" name=""/>
          <p:cNvSpPr txBox="1"/>
          <p:nvPr/>
        </p:nvSpPr>
        <p:spPr>
          <a:xfrm>
            <a:off x="1689120" y="1825560"/>
            <a:ext cx="9918720" cy="38815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صد بمراجعة السلوك التأكد من التزام العاملين بالوحدة بالقواعد السلوكية التي تتبناها الوحدة </a:t>
            </a:r>
            <a:endParaRPr b="0" lang="en-US" sz="2400" spc="-1" strike="noStrike">
              <a:solidFill>
                <a:srgbClr val="000000"/>
              </a:solidFill>
              <a:latin typeface="Calibri"/>
            </a:endParaRPr>
          </a:p>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مثلة :</a:t>
            </a:r>
            <a:endParaRPr b="0" lang="en-US" sz="2400" spc="-1" strike="noStrike">
              <a:solidFill>
                <a:srgbClr val="000000"/>
              </a:solidFill>
              <a:latin typeface="Calibri"/>
            </a:endParaRPr>
          </a:p>
          <a:p>
            <a:pPr lvl="1" marL="617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عدم التدخين في المكاتب </a:t>
            </a:r>
            <a:endParaRPr b="0" lang="en-US" sz="2000" spc="-1" strike="noStrike">
              <a:solidFill>
                <a:srgbClr val="000000"/>
              </a:solidFill>
              <a:latin typeface="Calibri"/>
            </a:endParaRPr>
          </a:p>
          <a:p>
            <a:pPr lvl="1" marL="617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التزام بزي معين </a:t>
            </a:r>
            <a:endParaRPr b="0" lang="en-US" sz="2000" spc="-1" strike="noStrike">
              <a:solidFill>
                <a:srgbClr val="000000"/>
              </a:solidFill>
              <a:latin typeface="Calibri"/>
            </a:endParaRPr>
          </a:p>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ا الفرق بينه و بين الالتزام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Light"/>
                <a:cs typeface="Times New Roman"/>
              </a:rPr>
              <a:t>مراجعة السلوك</a:t>
            </a:r>
            <a:endParaRPr b="0" lang="en-US" sz="44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جراءات مراجعة السلوك:</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راجعة ميثاق الشركة الأخلاقي ، برامج التدريب على الأخلاقيات والسياسات , و سياسات الالتزام بأخلاقيات المهنة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نظر في الانتهاكات الماضية لقواعد السلوك من خلال سجلات الشركة و مصادر الأخبار على الانترنت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حدث مع الموظفين بشأن انطباعاتهم عن التزام الشركة بأخلاقيات المهنة و الميثاق.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Light"/>
                <a:cs typeface="Times New Roman"/>
              </a:rPr>
              <a:t>تقديم المشورة والدعم</a:t>
            </a:r>
            <a:endParaRPr b="0" lang="en-US" sz="4000" spc="-1" strike="noStrike">
              <a:solidFill>
                <a:srgbClr val="000000"/>
              </a:solidFill>
              <a:latin typeface="Calibri Light"/>
            </a:endParaRPr>
          </a:p>
        </p:txBody>
      </p:sp>
      <p:sp>
        <p:nvSpPr>
          <p:cNvPr id="67" name=""/>
          <p:cNvSpPr txBox="1"/>
          <p:nvPr/>
        </p:nvSpPr>
        <p:spPr>
          <a:xfrm>
            <a:off x="732960" y="1698120"/>
            <a:ext cx="10798200" cy="426564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عايير المهنية أجازت للمراجع الداخلي تقديم الخدمات الإدارية التي تحتاج إليها المنشأة مثل عمليات تقديم المشورة وإعداد الدراسات الاستشارية والدعم للإدارة</a:t>
            </a:r>
            <a:endParaRPr b="0" lang="en-US" sz="2400" spc="-1" strike="noStrike">
              <a:solidFill>
                <a:srgbClr val="000000"/>
              </a:solidFill>
              <a:latin typeface="Calibri"/>
            </a:endParaRPr>
          </a:p>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ا يجب أن يتحمل فيها المراجع الداخلي مسئولية الإدار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akkal Majalla"/>
                <a:cs typeface="Arial"/>
              </a:rPr>
              <a:t>معهد المراجعين الداخليين  أكد على ضرورة أن يفهم كل العاملين بالمنشأة أن الإدارة هى المسئولة عن</a:t>
            </a:r>
            <a:r>
              <a:rPr b="0" lang="ar-SA" sz="2000" spc="-1" strike="noStrike" u="sng">
                <a:solidFill>
                  <a:srgbClr val="000000"/>
                </a:solidFill>
                <a:uFillTx/>
                <a:latin typeface="Sakkal Majalla"/>
                <a:ea typeface="Arial"/>
              </a:rPr>
              <a:t> إدارة </a:t>
            </a:r>
            <a:r>
              <a:rPr b="0" lang="ar-SA" sz="2000" spc="-1" strike="noStrike">
                <a:solidFill>
                  <a:srgbClr val="000000"/>
                </a:solidFill>
                <a:latin typeface="Sakkal Majalla"/>
                <a:cs typeface="Arial"/>
              </a:rPr>
              <a:t>المخاطر، وأن المراجع الداخلى يقدم فقط النصيحة والدعم والمساندة فى قرارات إدارة المخاطر، وأن طبيعة مسئولية المراجعة الداخلية عن إدارة المخاطر يجب أن توثق فى خطة المراجعة، ويوافق عليها من قبل لجنة المراجعة، وأنه يجب أن يبتعد المراجع الداخلى عن تقديم التأكيد أو النصيحة أو الاستشارة عن جوانب إدارة المخاطر التى تخرج عن نطاق تخصصه ومعارفه ومهاراته وتحتاج لمعارف فنية وعلمية متخصصة </a:t>
            </a:r>
            <a:endParaRPr b="0" lang="en-US" sz="2000" spc="-1" strike="noStrike">
              <a:solidFill>
                <a:srgbClr val="000000"/>
              </a:solidFill>
              <a:latin typeface="Calibri"/>
            </a:endParaRPr>
          </a:p>
          <a:p>
            <a:pPr marL="343080" indent="-34308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5800" indent="-22860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57:18Z</dcterms:created>
  <dc:creator>hana</dc:creator>
  <dc:description/>
  <dc:language>en-US</dc:language>
  <cp:lastModifiedBy>kayan albalawi</cp:lastModifiedBy>
  <dcterms:modified xsi:type="dcterms:W3CDTF">2017-04-29T07:43:13Z</dcterms:modified>
  <cp:revision>344</cp:revision>
  <dc:subject/>
  <dc:title>تنفيذ مهام المراجعة الداخلية</dc:title>
</cp:coreProperties>
</file>