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F085-DBDB-4254-9BA5-B44118100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1AFB-BE3D-49F9-9DE9-DB229A3C2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15B0-B74A-44F8-9E5F-9D32582E3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DA32-D082-4EB5-A4F9-495B56655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8A34-7E59-4974-AE8B-2C5FEDC0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FCC2-AAED-4B23-AF00-6DA2F7677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E38E-CB29-4621-B8CE-112419FF1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BBB3-B53C-4A5A-B59D-0D021AA31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33EA-732B-4008-A532-F63909CE9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84FB-7B46-4447-B6BA-203AEC92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7D18-7AAA-4A8A-9232-7E385768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31C1-AF66-43F1-A4C7-67C41CE3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51014-F87D-48CB-BFB2-A9149F29C26A}" type="slidenum">
              <a:rPr b="0" lang="ar-J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971640" y="1773360"/>
            <a:ext cx="698508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000000"/>
                </a:solidFill>
                <a:latin typeface="Calibri"/>
              </a:rPr>
              <a:t>الفصل العاشر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6F7C0-B61B-4E53-8E5F-CD6ED155473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755640" y="404640"/>
            <a:ext cx="813600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3300"/>
                </a:solidFill>
                <a:latin typeface="Calibri"/>
              </a:rPr>
              <a:t>ضغوط العمل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2251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 مسببات ضغوط العمل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2251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 تأثير ضغوط العمل على الجس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2251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 علاج ضغوط العمل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- الطرق التنظيمية لعلاج ومنع ضغوط العمل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14983-1A3A-497C-B30D-B570F3CEDA9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468360" y="333360"/>
            <a:ext cx="835164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00"/>
                </a:solidFill>
                <a:latin typeface="Calibri"/>
              </a:rPr>
              <a:t>مسببات ضغوط العمل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صعوبة العم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مشاكل الخضوع للسلط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عدم توافق شخصية الفرد مع متطلبات التنظي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4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التنافس على الموار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صراع الادوا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6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عدم وضوح العمل والادوا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7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اختلال ظروف العمل الماد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8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اختلال العلاقات الشخص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9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الاحداث الشخص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10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تأثير شخصية الفر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395FA-C569-46F7-8313-A1B2AB525FB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611280" y="549360"/>
            <a:ext cx="8281800" cy="67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تأثير ضغوط العمل على الجس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- التأثير السلبي لضغوط العم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يرتبط الضغط النفسي والانفعال بالعديد من الوظائف الحيوية ووظائف اعضاء الجسم البشري فيؤدي الى نشاط دائم وغير متوازن  ويسبب ذلك العديد من المشاكل الصحي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buClr>
                <a:srgbClr val="0033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 الاعراض المرضية لضغوط العم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اضعف جزء في النظام الحيوي او العضوي بالجسم هو اول جزء يتأثر بضغوط العمل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تأثير ضغوط العمل على الادا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 يتوقف على مدى ادراك وشعور وتفسير الفرد لهذه الضغو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مقدار معقول ومناسب من الضغوط مفيد جدا للادا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EC97-CBE6-4EE3-A0FC-FAE9C5BB8B2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0" y="0"/>
            <a:ext cx="8964720" cy="65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علاج ضغوط العمل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التام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الاسترخا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التدريب على تتبع تغيرات الجس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4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التركي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        -</a:t>
            </a: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 حدد افضل مهام العمل التي تحب ان تؤديه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        - اختر تلك المهام التي تحتاج لوقت قصير والتي تعودت ان تنجز فيها جيدا وذات صعوبة بسيطة وقم بادائها وتنفيذه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       -  تعود ان تمارس هوايتك بالمنز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طرق الاسترخاء البسي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6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التمرينات الرياض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7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النظام الغذائ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EC54D-304C-498B-B444-4CA6A938C88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468360" y="404640"/>
            <a:ext cx="8496360" cy="59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00"/>
                </a:solidFill>
                <a:latin typeface="Calibri"/>
              </a:rPr>
              <a:t>الطرق التنظيمية لعلاج ومنع ضغوط العمل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 التطبيق الجيد لمبأدئ الادارة والتنظي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تصميم وظائف ذات معن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 اعادة تصميم هيكل التنظي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4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نظم للمشاركة في اتخاذ القرار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 الكشف عن مسببات ضغوط العم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6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 الانشطة العلاجية في مناخ العم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B5A9D-CA9B-46D1-9F34-43FE9CE67B6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3T07:04:25Z</dcterms:created>
  <dc:creator>Murad</dc:creator>
  <dc:description/>
  <dc:language>en-US</dc:language>
  <cp:lastModifiedBy>Murad</cp:lastModifiedBy>
  <dcterms:modified xsi:type="dcterms:W3CDTF">2013-10-13T07:22:57Z</dcterms:modified>
  <cp:revision>9</cp:revision>
  <dc:subject/>
  <dc:title>Slide 1</dc:title>
</cp:coreProperties>
</file>