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4ACB-DE6C-456A-926C-20C54E24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F51A-67C4-4ACB-8D7A-A0F084F2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1281-98E4-4D74-91B2-A0D0231A9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4DE8-9CA1-47BC-BD78-D1ED2477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BEF2-6D2D-40B1-948C-7E0B6BA1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9D44-EDB6-4855-B15B-B2E7A5FB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64E7-FA3F-46C8-A96B-88B92C91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BB18-990D-4538-9279-C01FA007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FE1E-A9E1-4B20-AB14-775D39E2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4756-A07D-4F23-BBA1-452553B2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697A-EF3B-4A03-9116-1DB6B42B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938A-4CB2-41FF-AEF7-D0DE6FA0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999D-30DC-43B1-B0F6-292FF1B0DD7F}" type="slidenum">
              <a:rPr b="0" lang="ar-J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971640" y="1773360"/>
            <a:ext cx="698508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Calibri"/>
              </a:rPr>
              <a:t>الفصل العاشر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A030-458B-48A6-BF3C-5A0BAE58651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755640" y="404640"/>
            <a:ext cx="813600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3300"/>
                </a:solidFill>
                <a:latin typeface="Calibri"/>
              </a:rPr>
              <a:t>ضغوط العم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251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 مسببات ضغوط العم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251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 تأثير ضغوط العمل على الجس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251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 علاج ضغوط العم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Calibri"/>
              </a:rPr>
              <a:t>- الطرق التنظيمية لعلاج ومنع ضغوط العم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2DD9-5A74-410B-8FCC-F350B16F0D9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468360" y="333360"/>
            <a:ext cx="835164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00"/>
                </a:solidFill>
                <a:latin typeface="Calibri"/>
              </a:rPr>
              <a:t>مسببات ضغوط العم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صعوبة العم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مشاكل الخضوع للسلط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عدم توافق شخصية الفرد مع متطلبات التنظي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تنافس على الموار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صراع الادوا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عدم وضوح العمل والادوا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7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ختلال ظروف العمل الماد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8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ختلال العلاقات الشخص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9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الاحداث الشخص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0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تأثير شخصية الفر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B18E-38A2-462E-8D65-B088E3C104E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611280" y="549360"/>
            <a:ext cx="8281800" cy="67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أثير ضغوط العمل على الجس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- التأثير السلبي لضغوط العم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يرتبط الضغط النفسي والانفعال بالعديد من الوظائف الحيوية ووظائف اعضاء الجسم البشري فيؤدي الى نشاط دائم وغير متوازن  ويسبب ذلك العديد من المشاكل الصح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buClr>
                <a:srgbClr val="0033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 الاعراض المرضية لضغوط العم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اضعف جزء في النظام الحيوي او العضوي بالجسم هو اول جزء يتأثر بضغوط العم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تأثير ضغوط العمل على الاد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buClr>
                <a:srgbClr val="0000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 يتوقف على مدى ادراك وشعور وتفسير الفرد لهذه الضغو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ff"/>
                </a:solidFill>
                <a:latin typeface="Calibri"/>
              </a:rPr>
              <a:t>- مقدار معقول ومناسب من الضغوط مفيد جدا للاد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06DE-C09A-4338-ADE2-9A19CEFDE26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0" y="0"/>
            <a:ext cx="8964720" cy="65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علاج ضغوط العم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تام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استرخ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تدريب على تتبع تغيرات الجس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تركي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        -</a:t>
            </a: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 حدد افضل مهام العمل التي تحب ان تؤدي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        - اختر تلك المهام التي تحتاج لوقت قصير والتي تعودت ان تنجز فيها جيدا وذات صعوبة بسيطة وقم بادائها وتنفيذ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Calibri"/>
              </a:rPr>
              <a:t>       -  تعود ان تمارس هوايتك بالمنز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طرق الاسترخاء البسي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تمرينات الرياض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7</a:t>
            </a:r>
            <a:r>
              <a:rPr b="1" lang="ar-SA" sz="2400" spc="-1" strike="noStrike">
                <a:solidFill>
                  <a:srgbClr val="0000ff"/>
                </a:solidFill>
                <a:latin typeface="Calibri"/>
              </a:rPr>
              <a:t>- النظام الغذائ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5822-93C6-4328-81D4-95497A440AB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468360" y="404640"/>
            <a:ext cx="8496360" cy="59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00"/>
                </a:solidFill>
                <a:latin typeface="Calibri"/>
              </a:rPr>
              <a:t>الطرق التنظيمية لعلاج ومنع ضغوط العم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التطبيق الجيد لمبأدئ الادارة والتنظي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تصميم وظائف ذات معن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اعادة تصميم هيكل التنظي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نظم للمشاركة في اتخاذ القرارا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الكشف عن مسببات ضغوط العم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1" lang="ar-SA" sz="3200" spc="-1" strike="noStrike">
                <a:solidFill>
                  <a:srgbClr val="0000ff"/>
                </a:solidFill>
                <a:latin typeface="Calibri"/>
              </a:rPr>
              <a:t>- الانشطة العلاجية في مناخ العم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6038-A32E-4CC6-BF4F-9DEBC5C5AD6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3T07:04:25Z</dcterms:created>
  <dc:creator>Murad</dc:creator>
  <dc:description/>
  <dc:language>en-US</dc:language>
  <cp:lastModifiedBy>Murad</cp:lastModifiedBy>
  <dcterms:modified xsi:type="dcterms:W3CDTF">2013-10-13T07:22:57Z</dcterms:modified>
  <cp:revision>9</cp:revision>
  <dc:subject/>
  <dc:title>Slide 1</dc:title>
</cp:coreProperties>
</file>