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3900-9A18-4C35-8AE9-80CD8D1EF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7144-8DB8-4DB9-A402-F1ED4483F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895D-F87A-4070-A9E8-87DC4AEF3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252-5A75-454F-B2C3-255D05EF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3A3-FF81-4E91-AF07-CA890C6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87A-9A4C-4C26-8BA8-868AB05E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A5A-643B-4D79-9AA2-DCE88C02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1BA6-DD3A-4552-9103-0254E5AD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BDA3-7F40-4D3D-A08A-52C3DB4A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68F0-9FDD-476B-BB37-F867C980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A590-C480-4BD4-AC46-FD65477B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0EDF-F697-4946-9CC3-5BE56B0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AA1B-DC73-4D6E-97AD-781D252E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A92-A25B-40C8-B044-68039F0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EA2-EC53-4B7F-BD0F-AB15D69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B7D5-FF26-42C9-B7F8-14BA533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E9AB-DE84-4739-97A5-9850CFA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473B-2A45-4213-8330-DBDE0C9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477-2929-4D2C-B8D5-332B8319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E0F-A08D-44A2-B38B-516B4923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DCEB-3E5B-471E-B3DA-F23C6D46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51D9-3096-41E5-9DEE-DCF7136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3292-2171-4991-8357-60725A8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212F-BA97-4A83-B1D6-1BB6458B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F271-EDA6-47FC-A58A-B19AB64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159-AEE0-41CC-86E9-9FC6F6E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D673-3C51-4919-A057-B4E9EFC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A10F-02C1-4974-8000-69CE2FE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11F5-CC70-4992-B70F-321FCB5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87F3-94E8-4FAF-B39A-2A55E78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F25C-58DA-462E-8C87-7E2BFBE6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C752-0C7C-42CC-8F54-A1190861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5277-BF33-4062-A16A-7CA1C60E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A27F-0F62-4E36-AB0B-5EAA0439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95B2-8389-4D85-A3DB-511A1448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377D5-D088-4348-B396-27E18CD2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886-4AE3-46BA-A670-D693C629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EFCB-AB52-448E-8476-23A9E4D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9781-08EC-4588-A99F-B76A163B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D75B1-8329-46AC-9BED-B0B93D6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6540-009A-4563-80F6-57E4448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9FA7-F6FF-464E-8006-889E5140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BB8D-1D29-44E3-9AD5-B46FA63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EFFE-E90C-4982-A4E9-E10EA7E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CD54-7E58-4A7D-8745-59F41E43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3E1F-249A-4887-AB0D-C3B6B3FE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CB7F-E4BF-430F-B356-7C5F2157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3D3-1186-4BF9-B474-A712A93B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D796-6479-4F18-80A9-BDABEBAB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03FE-3A70-4A72-8D2E-24D87BCD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6867B-9D4E-41DB-8143-7696705E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C2B2-5D95-49E1-94D2-B217FD2B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C47B-A374-44D2-9CED-D8471D1E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004E-0D5C-4E08-B245-57BCCA9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4772-A308-4245-B1C3-2C2A6D1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6386-1186-49C6-B1F0-F5A4397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AEA8-A66C-4FBC-8C1C-FB6BFAD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B690-6DAD-45E0-B587-13C42953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035-D5E0-444F-BA96-E7D0732E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9405-D6F4-41C0-A314-21C9127C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471F-4FFB-4DD9-AF81-100AFC85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B220D-1DE9-4B91-8EEC-39B216A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CB48-250E-46A7-9F35-67BCA6B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FD11-A542-4618-8341-FEFA1778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A3E3-AF81-4279-B246-664D167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194A-BEFC-46EA-827D-6F667931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3A46C-A072-49EB-A197-81DECCC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B1A84-C870-45D3-98E9-5824D57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CC20-BCFB-41A2-9A46-60C3849E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BB8-1C4E-4EB3-B689-16667C8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9242-FADF-4223-8391-3E53CCA7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1B0C-FE51-49F6-BC03-91F75740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C168-7C40-45CE-BC2C-B9136094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5C5F-E6F8-49EF-9A9D-91C32DEB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2959-BA5F-4F6A-8A76-23F0262A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8ED7-1EAA-4388-8841-6D2EDB90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2D2D-74E5-43ED-BB82-1D08584E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15CF6-BEAB-40E8-B043-92C39A9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3ADC-C4C7-4C43-B176-040FE72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059D-4DC8-4A63-99FC-31F10E1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E24-D19C-40DD-8F81-FBDA976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58BAB-7293-4C42-B72E-1DE0CE2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A67E-50A9-46B7-9817-FD36A7E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1597-0756-4C1A-9CDD-3E009BA7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EBB74-AEAE-47D4-83D2-2DCDF1E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1552-4619-4696-8938-D66FE1CC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FEE31-32E5-4FD9-BBA4-C6DB6004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1D8E-2F85-4944-9ED2-C5D6BA4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8095C-11A5-4EEB-A641-FA8774B2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35B7C-B044-43E6-8A4C-E7CE85D5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BEE0B-EE1C-435C-A85C-0F1400F0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6C2-16EA-403B-BC2C-A7EAF1D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7AFA1-4E39-48C4-AFCB-1BD60BB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F7D86-222B-48E2-9982-9CD6BF4A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7E19F-3163-4A1F-88DC-AC0A80F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7EC2-C6EE-4685-B16B-2BC651B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D8B7-169A-496E-AFAF-73925C4D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925A-1570-41F1-8A59-BACD58F7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6DB85-C227-4599-9785-51AB3226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B8B-D288-4C14-A895-BEBE8FEF881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AB5-BA62-4810-9FDF-3F8D568AD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6C2-44C3-4CE4-92D0-DA86BA0D75F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8EAD-F112-4C68-A616-E96077F2508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4388-D5D2-45EC-AFC4-EC7A2E3977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AAF2-C49A-4EC0-90F6-2A8FF5801ED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7C7-C80A-4C3F-A3BB-10864A6F6F5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D06D-0E23-48A3-B878-9CEA2E03F1B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04280" cy="1427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تعريف الرقابة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Tahoma"/>
              </a:rPr>
              <a:t>    قياس الأداء الفعلي للافراد وللتصرفات المبرمة بالمنظمة على حد سواء للتأكد من مدى الالتزام بالقرارات والتعليمات والتوجيهات التفصيلية المتعلقة بالخطة المعتمدة وتبعاً لمعايير مناسبة محددة سلفا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Tahoma"/>
              </a:rPr>
              <a:t>   نتيجة لعملية الرقابة تتكشف للادارة الانحرافات بنوعيها </a:t>
            </a:r>
            <a:r>
              <a:rPr b="0" lang="ar-SA" sz="2800" spc="-1" strike="noStrike">
                <a:solidFill>
                  <a:srgbClr val="d9253e"/>
                </a:solidFill>
                <a:latin typeface="Corbel"/>
                <a:cs typeface="Tahoma"/>
              </a:rPr>
              <a:t>السلبية والايجابية غير المقبولة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هناك جهات داخلية تمارس الرقابة في منظمات الاعمال سواء في اعلى الهرم الوظيفي مثال مدير المنظمة او ادنى مستوى الهرم كمشرف العمال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وفي الوقت نفسه هناك جهات من خارج المنظمة تمارس الرقابة على الأداء لاعتبارات نظامية او قانونية كديوان المراقبة العامة او هيئة المواصفات والمقايي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85708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فوائد الرقابة للمنظمة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مدى تحقيق الاهداف العامة والفرعية للخطط المرسومة المعتمد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مدى مطابقة الاداء الفعلي للمسارات التي تفرضها الخطط المرسوم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مدى مناسبة كل من الموارد البشرية (العاملين) والمادية (الاصول الثابتة والاصول المتداو لة) لمتطلبات الخطط كماً ونوعاً ووقتا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الاستخدام الكفء لكل من الموارد المتاحة والمرتقبة بما يتفق ومتطلبات الخط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فوائد الرقابة للافراد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طمئنان العامل الكفء لعدالة عملية المراقبة عند تقييم ادائه الفعلي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طمئنان العامل المقصر لعدالة عملية المراقبة عند تقييم ادائه الفعلي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حفظ الحقوق لأفراد جمهور المتعاملين مع المنظمة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4416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914400" y="17845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9253e"/>
                </a:solidFill>
                <a:latin typeface="Corbel"/>
                <a:cs typeface="Tahoma"/>
              </a:rPr>
              <a:t>توجد خمس خطوات اساسية</a:t>
            </a: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A" sz="2400" spc="-1" strike="noStrike">
                <a:solidFill>
                  <a:srgbClr val="d9253e"/>
                </a:solidFill>
                <a:latin typeface="Corbel"/>
                <a:ea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/ وضع المعايير الرقاب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يمكن تقسيم المعايير الرقابية الى نوعين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أ/ معايير كمية (مادية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ب/ معايير نوعية (غير مادية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/قياس الاداء الفعلي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لابد للمراقب ان يأخذ في حسبانه عدة اعتبارات من اهمها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أ/مراعاة نطاق الاشرا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ب/مدى تفهم المرؤوسين مقدماً لاهداف المراقب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ج/ان يكون هناك حد للخطأ المسموح به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/تصويب الانحرافات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      وترتبط هذه المرحلة بنتائج مخرجات القياس للمرحلة السابقة والتي عادةً ما تسفر عن نتيجتين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Tahoma"/>
              </a:rPr>
              <a:t>أ/ ايجابية 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Tahoma"/>
              </a:rPr>
              <a:t>ب/ سلبية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/ اقتراح الحلول البديلة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5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/ المتابعة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لمعيار الاول:بحسب نوع النظام الذي تطبق به الرقابة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/نظام الرقابة المغل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نظام الرقابة المفتوح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لمعيار الثاني :بحسب الهدف من اكتشاف الاخطاء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الرقابة الايجاب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الرقابة السلب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لمعيار الثالث:بحسب التوقيت الزمني للرقاب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 الرقابة السابقة للتنفي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 الرقابة اثناء التنفي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 الرقابة اللاحق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0:28:19Z</dcterms:created>
  <dc:creator>ksu</dc:creator>
  <dc:description/>
  <dc:language>en-US</dc:language>
  <cp:lastModifiedBy>ksu</cp:lastModifiedBy>
  <dcterms:modified xsi:type="dcterms:W3CDTF">2013-03-17T20:47:41Z</dcterms:modified>
  <cp:revision>33</cp:revision>
  <dc:subject/>
  <dc:title>الفصل العاشر الرقاب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92E6EB162D26242AB454A8238D7A482</vt:lpwstr>
  </property>
</Properties>
</file>