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9B6A-04D2-4B18-84CF-19AE76BF6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5420-833D-4668-A7A6-A66C2DEE31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B2EB-AA61-49A4-A5EB-4E708A7B2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A0D0-F39E-42BA-A4E4-A0097A36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61A3-2AC5-476F-8C15-0EE06F20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31BE-11F8-4C5C-8A08-E97E5058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2BFD-8335-4347-ABFF-ECEA4A15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EA7D-B240-45F5-86AB-52DD11DD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0697-B7B8-4B80-A81A-666E401A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B31A-3066-4071-8C37-E31AE7D0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2CD1-C94A-4E57-A3FC-5FA9FBC8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76A0-81B1-4BD5-B851-B23FA791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42BC-06AB-4CD3-ADED-46A5212E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7EA2-8073-46C9-83B1-2863A877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1962-6F74-45CC-8DC4-B2A80E93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DB05-900E-4826-A58C-DEDFD80F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989E-D148-4945-8FC2-344A80C7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BBEA-B813-4567-A134-E1669DDE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C1CD-5348-4A8E-9C87-22A80BAE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640D-338D-4927-9B9D-FA0FF6BC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AF892-31BF-4EE8-9813-527753D6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8427E-7DE3-423B-8295-82E6F43C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B125C-796C-4A56-AFC7-6B39686D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3016C-00A6-4334-BD3A-EEEF496E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2A3A4-D68D-4CDF-A51D-9EF83117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A334-502F-4142-86CB-AFB30AD5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7EAA5-B475-482B-90EE-15D62407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B5963-8868-4CB8-84AD-9C20A293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5EBBB-8EB9-4FED-BF01-09C85937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2C576-B597-4676-9C54-186D953F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BEF82-997B-45AC-9838-52DC6C73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9F828-3B22-4CC7-B2F5-2BEA1B5B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ED1AF-C277-414E-9934-2493E565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C1368-66B1-402D-9EA4-6F5639B1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4C68F-1E5F-4F26-BAB9-F1607559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49249-3263-41E4-B5F8-E0314A29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FDB9-FBC5-4BBC-A10E-D7381AC1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7DA1C-AE32-4E65-A386-8E302C0E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99834-378A-4DA4-85EC-6D725948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57A6D-B54E-4D63-8312-7FCD6A60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FED16-A72C-4C63-B644-A3B9E4B1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18E0B-39ED-43FA-8907-CE54EF5D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C3F36-7541-4706-B019-B70423E5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D3FBF-8138-462E-BE91-854E0E05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E3E99-1283-4A73-A8DF-07200FF4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B32F9-BF67-475D-B499-79671655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B2611-3A36-4267-AEFF-B1E344C1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6AE7-240C-4173-948B-F915CDF6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773BC-E466-404E-9C81-7A80ED45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47BC9-3D93-4886-A655-273293FF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81D53-44F6-48C0-BB54-93188C78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65F70-BF36-4366-A2D0-D1DFDE66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D6E2C-E02A-43B5-A2C2-A5A5B106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005EB-2E66-4DF4-9CB5-E77E38E7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CE030-F38E-4417-827C-50B862C5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5F746-074F-489C-819C-EE1A01E7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DEE5C-AF61-443D-A7DD-4ECDF4B2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244CA-FD2C-4D03-AFBC-E4B2C888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75F9-7EC6-48F9-817E-6A625D3D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365C7-CDFE-43F6-9B88-B8765DDDA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D2536-BFD8-4727-B163-815D0943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D7DCA-7534-4EE4-80D9-E1D24867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F2BA7-EDCA-46C5-A2DF-0EED20F8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26C61-67B6-4099-AD4E-1883A4CE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00633-F620-4C97-94FE-D1050336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AB947-04A4-4AA5-9767-5D6DDEB3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7B696-A96D-4A10-8761-E2E777DA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4AA26-0B50-4FFD-B8B4-525A325E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7D910-6020-42FD-A770-67C64AA0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626E-302D-4F20-B5D1-0D927534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E7B45-ECCE-4285-A6A5-7EE7F2A6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083BF-0828-4861-AF48-8370020A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FA41F-4FD3-4041-A55C-D518CF17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EEBDD-EACF-4E3B-BEAC-0B191D07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E33CD-29D1-4415-850A-F02E9940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8A9E3-60D6-44A7-9D0B-5CA75C94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4017E-B2DB-41FA-B3F3-3C721481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C5787-C896-405E-A3AC-B4AEDE0B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6D1E4-1AF1-439D-B9B9-E63C329B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4E25C-182A-4592-8187-761297B3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ABA6-2CA5-438A-A8C7-AC56DFFB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A0588-B0AE-45C7-87E9-E32E1FF4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A3793-E0A7-47FB-84B8-2527A2F4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C791B-382C-4520-B172-A7351206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C406D-2BD3-45A2-8B2C-3367ED67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B1392-1809-4F22-BE1E-08F996114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3980A-FDBC-41A6-884A-D1880A29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74991-14BB-4911-B161-FAF31AB0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FFE3F-A4A1-43AD-95C5-46DE7A1F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90C85-720D-40F8-A06D-184239D1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6BB4C-ED23-49FB-A432-48CB2E46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EEAE-36AA-42A7-A370-24DB5C1D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44224-1251-44AD-BEA6-837ED6E8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583CD-D197-446A-8DD9-7A8B21C1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230CB-A083-405F-8643-3EA79BC4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9935E-AE74-4706-A51B-63E7B752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20CCB-78E5-4B29-B99A-32E8DE95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3D7D0-1ECB-447A-9D5C-15271A1E9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8867F-83CF-45E1-BDCD-FD71454A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56EF-3E80-4A8F-8B46-379B3FFD561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96C9-3E8C-4C9F-99F7-189E3A250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55CD-28FD-4B33-B3B0-D62C9A4A9486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0DE8-38A4-4C1C-903F-1207B938BE24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6AAF-DEC4-4439-A590-24BB5DCA1FA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465B-BAB0-428D-BCD7-E31ECA02BDE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2ABC-E6A0-417D-9BFC-F937AA8DFCC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AB95-A15D-4217-A733-0EC28C8CC9D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3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04280" cy="14274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cs typeface="Tahoma"/>
              </a:rPr>
              <a:t>تعريف الرقابة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ea typeface="Tahoma"/>
              </a:rPr>
              <a:t>    قياس الأداء الفعلي للافراد وللتصرفات المبرمة بالمنظمة على حد سواء للتأكد من مدى الالتزام بالقرارات والتعليمات والتوجيهات التفصيلية المتعلقة بالخطة المعتمدة وتبعاً لمعايير مناسبة محددة سلفا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ea typeface="Tahoma"/>
              </a:rPr>
              <a:t>   نتيجة لعملية الرقابة تتكشف للادارة الانحرافات بنوعيها </a:t>
            </a:r>
            <a:r>
              <a:rPr b="0" lang="ar-SA" sz="2800" spc="-1" strike="noStrike">
                <a:solidFill>
                  <a:srgbClr val="d9253e"/>
                </a:solidFill>
                <a:latin typeface="Corbel"/>
                <a:cs typeface="Tahoma"/>
              </a:rPr>
              <a:t>السلبية والايجابية غير المقبولة</a:t>
            </a:r>
            <a:r>
              <a:rPr b="0" lang="ar-SA" sz="2800" spc="-1" strike="noStrike">
                <a:solidFill>
                  <a:srgbClr val="000000"/>
                </a:solidFill>
                <a:latin typeface="Corbel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Tahoma"/>
              </a:rPr>
              <a:t>هناك جهات داخلية تمارس الرقابة في منظمات الاعمال سواء في اعلى الهرم الوظيفي مثال مدير المنظمة او ادنى مستوى الهرم كمشرف العمال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Tahoma"/>
              </a:rPr>
              <a:t>وفي الوقت نفسه هناك جهات من خارج المنظمة تمارس الرقابة على الأداء لاعتبارات نظامية او قانونية كديوان المراقبة العامة او هيئة المواصفات والمقاييس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3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324000" y="152280"/>
            <a:ext cx="8570880" cy="12621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cs typeface="Tahoma"/>
              </a:rPr>
              <a:t>فوائد الرقابة للمنظمة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cs typeface="Tahoma"/>
              </a:rPr>
              <a:t>التأكد من مدى تحقيق الاهداف العامة والفرعية للخطط المرسومة المعتمدة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cs typeface="Tahoma"/>
              </a:rPr>
              <a:t>التأكد من مدى مطابقة الاداء الفعلي للمسارات التي تفرضها الخطط المرسومة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cs typeface="Tahoma"/>
              </a:rPr>
              <a:t>التأكد من مدى مناسبة كل من الموارد البشرية (العاملين) والمادية (الاصول الثابتة والاصول المتداو لة) لمتطلبات الخطط كماً ونوعاً ووقتاً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rbel"/>
                <a:cs typeface="Tahoma"/>
              </a:rPr>
              <a:t>التأكد من الاستخدام الكفء لكل من الموارد المتاحة والمرتقبة بما يتفق ومتطلبات الخطة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3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Tahoma"/>
              </a:rPr>
              <a:t>فوائد الرقابة للافراد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Tahoma"/>
              </a:rPr>
              <a:t>اطمئنان العامل الكفء لعدالة عملية المراقبة عند تقييم ادائه الفعلي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Tahoma"/>
              </a:rPr>
              <a:t>اطمئنان العامل المقصر لعدالة عملية المراقبة عند تقييم ادائه الفعلي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Tahoma"/>
              </a:rPr>
              <a:t>حفظ الحقوق لأفراد جمهور المتعاملين مع المنظمة 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3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444160" cy="12621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914400" y="17845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9253e"/>
                </a:solidFill>
                <a:latin typeface="Corbel"/>
                <a:cs typeface="Tahoma"/>
              </a:rPr>
              <a:t>توجد خمس خطوات اساسية</a:t>
            </a:r>
            <a:r>
              <a:rPr b="0" lang="ar-SA" sz="2400" spc="-1" strike="noStrike">
                <a:solidFill>
                  <a:srgbClr val="000000"/>
                </a:solidFill>
                <a:latin typeface="Corbel"/>
                <a:ea typeface="Tahoma"/>
              </a:rPr>
              <a:t> </a:t>
            </a:r>
            <a:r>
              <a:rPr b="0" lang="ar-SA" sz="2400" spc="-1" strike="noStrike">
                <a:solidFill>
                  <a:srgbClr val="d9253e"/>
                </a:solidFill>
                <a:latin typeface="Corbel"/>
                <a:ea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rbel"/>
                <a:ea typeface="Tahoma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rbel"/>
                <a:ea typeface="Tahoma"/>
              </a:rPr>
              <a:t>/ وضع المعايير الرقابي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rbel"/>
                <a:cs typeface="Tahoma"/>
              </a:rPr>
              <a:t>يمكن تقسيم المعايير الرقابية الى نوعين 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rbel"/>
                <a:cs typeface="Tahoma"/>
              </a:rPr>
              <a:t>أ/ معايير كمية (مادية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rbel"/>
                <a:cs typeface="Tahoma"/>
              </a:rPr>
              <a:t>ب/ معايير نوعية (غير مادية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rbel"/>
                <a:ea typeface="Tahoma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Corbel"/>
                <a:ea typeface="Tahoma"/>
              </a:rPr>
              <a:t>/قياس الاداء الفعلي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rbel"/>
                <a:cs typeface="Tahoma"/>
              </a:rPr>
              <a:t>لابد للمراقب ان يأخذ في حسبانه عدة اعتبارات من اهمها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rbel"/>
                <a:cs typeface="Tahoma"/>
              </a:rPr>
              <a:t>أ/مراعاة نطاق الاشراف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rbel"/>
                <a:cs typeface="Tahoma"/>
              </a:rPr>
              <a:t>ب/مدى تفهم المرؤوسين مقدماً لاهداف المراقب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orbel"/>
                <a:cs typeface="Tahoma"/>
              </a:rPr>
              <a:t>ج/ان يكون هناك حد للخطأ المسموح به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3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Tahoma"/>
              </a:rPr>
              <a:t>3</a:t>
            </a: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Tahoma"/>
              </a:rPr>
              <a:t>/تصويب الانحرافات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Tahoma"/>
              </a:rPr>
              <a:t>      وترتبط هذه المرحلة بنتائج مخرجات القياس للمرحلة السابقة والتي عادةً ما تسفر عن نتيجتين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orbel"/>
                <a:cs typeface="Tahoma"/>
              </a:rPr>
              <a:t>أ/ ايجابية 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orbel"/>
                <a:cs typeface="Tahoma"/>
              </a:rPr>
              <a:t>ب/ سلبية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Tahoma"/>
              </a:rPr>
              <a:t>4</a:t>
            </a: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Tahoma"/>
              </a:rPr>
              <a:t>/ اقتراح الحلول البديلة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Tahoma"/>
              </a:rPr>
              <a:t>5</a:t>
            </a:r>
            <a:r>
              <a:rPr b="0" lang="ar-SA" sz="3000" spc="-1" strike="noStrike">
                <a:solidFill>
                  <a:srgbClr val="000000"/>
                </a:solidFill>
                <a:latin typeface="Corbel"/>
                <a:ea typeface="Tahoma"/>
              </a:rPr>
              <a:t>/ المتابعة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3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Tahoma"/>
              </a:rPr>
              <a:t>المعيار الاول:بحسب نوع النظام الذي تطبق به الرقابة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Tahoma"/>
              </a:rPr>
              <a:t>ا/نظام الرقابة المغل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Tahoma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Tahoma"/>
              </a:rPr>
              <a:t>/نظام الرقابة المفتوح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Tahoma"/>
              </a:rPr>
              <a:t>المعيار الثاني :بحسب الهدف من اكتشاف الاخطاء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Tahoma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Tahoma"/>
              </a:rPr>
              <a:t>/الرقابة الايجابي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Tahoma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Tahoma"/>
              </a:rPr>
              <a:t>/الرقابة السلبي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3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cs typeface="Tahoma"/>
              </a:rPr>
              <a:t>المعيار الثالث:بحسب التوقيت الزمني للرقاب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Tahoma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Tahoma"/>
              </a:rPr>
              <a:t>/ الرقابة السابقة للتنفي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Tahoma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Tahoma"/>
              </a:rPr>
              <a:t>/ الرقابة اثناء التنفي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Tahoma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orbel"/>
                <a:ea typeface="Tahoma"/>
              </a:rPr>
              <a:t>/ الرقابة اللاحق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3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5T10:28:19Z</dcterms:created>
  <dc:creator>ksu</dc:creator>
  <dc:description/>
  <dc:language>en-US</dc:language>
  <cp:lastModifiedBy>ksu</cp:lastModifiedBy>
  <dcterms:modified xsi:type="dcterms:W3CDTF">2013-03-17T20:47:41Z</dcterms:modified>
  <cp:revision>33</cp:revision>
  <dc:subject/>
  <dc:title>الفصل العاشر الرقاب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92E6EB162D26242AB454A8238D7A482</vt:lpwstr>
  </property>
</Properties>
</file>