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D3DA-982C-4675-83DD-741F19AA013A}" type="slidenum">
              <a:rPr b="0" lang="ar-J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D941-A7A4-4193-805F-5E7C690A166C}" type="slidenum">
              <a:rPr b="0" lang="ar-J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5777-B442-4D79-8C66-A877DC7C7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A70B-F6B9-4020-A1AE-60AD6918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8E50-2D5A-41FE-A75B-129AD6BDA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61B4-B1B3-4F25-BBE3-9F26FFD53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870D-EF10-4345-BF81-53DA340A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D187-189C-4DB4-89E1-94B2DC83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44DD-DE47-4F99-93A0-248026AA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2A07-5BE8-491C-8024-2C96D34C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804F-5C3E-4623-8D23-8EADDADB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87B6-5781-4452-B1E5-152B1C1D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F658-8C0D-41FF-AD9F-E4FC189F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3EC0-6E7C-43DB-8C12-8F62FA51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8C18-635F-4DAE-9B38-CF192F0DA806}" type="slidenum">
              <a:rPr b="0" lang="ar-J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Calibri"/>
              </a:rPr>
              <a:t>الفصل الثالث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81F5-3767-4494-BDE8-365AF249839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ثالثا:نظرية التعلم بالمحاولة والخطأ</a:t>
            </a:r>
            <a:r>
              <a:rPr b="1" lang="en-US" sz="28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1" lang="en-US" sz="2800" spc="-1" strike="noStrike" u="sng">
                <a:solidFill>
                  <a:srgbClr val="003300"/>
                </a:solidFill>
                <a:uFillTx/>
                <a:latin typeface="Times New Roman"/>
              </a:rPr>
              <a:t>Learning Try an Error</a:t>
            </a:r>
            <a:r>
              <a:rPr b="1" lang="en-US" sz="28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- نحن جميعا نتعلم من الاخطاءالتي نقع فيها والخطأ نستبعد الس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 الذي يؤدي الى نتائج خاطئة ونحاول استخدام اسلوب اخروهكذ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- كلما تكررت المحاولات كلما امكن الابقاء على السلوك المطلوب والعكس صحي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”تعني نظرية التعلم عن طريق المحاولة والخطا ان تكرار المحاول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اجحة للسلوك تجلب للفرد السرور ويميل الفرد لتثبيتها في سلوكه والعكس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رابعا:نظرية التعلم عن طريق الاستبصار</a:t>
            </a:r>
            <a:r>
              <a:rPr b="1" lang="en-US" sz="2800" spc="-1" strike="noStrike" u="sng">
                <a:solidFill>
                  <a:srgbClr val="003300"/>
                </a:solidFill>
                <a:uFillTx/>
                <a:latin typeface="Times New Roman"/>
              </a:rPr>
              <a:t>Learning by Insigh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تمر عملية الاستبصار بخطوات رئيسية كالتال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معرفة المجال الادراك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استخدام الذكاء ف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أ-تنظيم المعلوم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ب-ربطها ببعضها البع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ج-الحكم والتقدير والاستدل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E3BE-D498-43A8-BC7C-D7C7D6A6F9B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Times New Roman"/>
              </a:rPr>
              <a:t>قد ياخذ الاستبصار فترة طويل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Times New Roman"/>
              </a:rPr>
              <a:t>-قد يحدث ان يكون فجائي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Times New Roman"/>
              </a:rPr>
              <a:t>-قد يكون جزئيا(ينصب على جزء من الظاهرة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Times New Roman"/>
              </a:rPr>
              <a:t>-قد يكون كليا(الظاهرة ككل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خامسا: التعلم بالتقليد</a:t>
            </a:r>
            <a:r>
              <a:rPr b="1" lang="en-US" sz="4000" spc="-1" strike="noStrike" u="sng">
                <a:solidFill>
                  <a:srgbClr val="003300"/>
                </a:solidFill>
                <a:uFillTx/>
                <a:latin typeface="Times New Roman"/>
              </a:rPr>
              <a:t>Learning By Imitation</a:t>
            </a:r>
            <a:r>
              <a:rPr b="1" lang="en-US" sz="36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</a:rPr>
              <a:t>التعلم بالملاحظة او المحاكاة يمر بعدة خطو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الملاحظ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التمثيل الذه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تجريب السلوك الجدي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C82F-CF81-4903-A3DE-3702121FE77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Calibri"/>
              </a:rPr>
              <a:t>النمذجة السلوكية </a:t>
            </a:r>
            <a:r>
              <a:rPr b="1" lang="en-US" sz="3600" spc="-1" strike="noStrike" u="sng">
                <a:solidFill>
                  <a:srgbClr val="003300"/>
                </a:solidFill>
                <a:uFillTx/>
                <a:latin typeface="Times New Roman"/>
              </a:rPr>
              <a:t>Behavior Modeling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حالة خاصة من التعلم بالتقلي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Times New Roman"/>
              </a:rPr>
              <a:t>امثلة الاستخدمات النمذجة السلوك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تدريب العمال على عمل مكانيكي او حرك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تدريب المشرفيين والمديرين في ادارة المقابلات الشخص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تدريب عمال البيع على كيفية معاملة المستهلك والعمل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769C-E669-4832-8862-E7D7251C6F1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Times New Roman"/>
              </a:rPr>
              <a:t>تعقيب على نظريات التعل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Times New Roman"/>
              </a:rPr>
              <a:t>(ماهي العوامل المؤثرة في اكتساب السلو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- التلازم 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Asso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)</a:t>
            </a: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السلوك وعوائد وفوائد مرضي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- العمليات الذهنية والفكرية او الوجدان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Cognition</a:t>
            </a:r>
            <a:r>
              <a:rPr b="1" lang="en-US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- الهدف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3300"/>
                </a:solidFill>
                <a:latin typeface="Times New Roman"/>
              </a:rPr>
              <a:t>Objective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- سلوك مرغوب في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- له هدف مع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- الهدف له جاذبية لدى الفر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lnSpc>
                <a:spcPct val="100000"/>
              </a:lnSpc>
              <a:buClr>
                <a:srgbClr val="0000ff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alibri"/>
                <a:cs typeface="Arial"/>
              </a:rPr>
              <a:t>يتناسب مع قدراته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-النجا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-الاتجاه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6</a:t>
            </a: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-الخبرة السابق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7</a:t>
            </a: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-الاتصا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8</a:t>
            </a: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-اهمية السلوك محل التعلي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9</a:t>
            </a: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-التدعيم (سيتم شرحه بشكل اوس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10</a:t>
            </a: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-التشاب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-تكرار المحاول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45AB-8AC3-45B6-9EF6-C9F09CC6F9E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gency FB"/>
              </a:rPr>
              <a:t>كيف يمكن الابقاء على او اضعاف السلوك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عتمد على موضوعين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استخدام التدعيم او العقا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جداول التدعي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2212-30D8-40E6-87BC-429C66C749C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3300"/>
                </a:solidFill>
                <a:latin typeface="Times New Roman"/>
              </a:rPr>
              <a:t>1</a:t>
            </a:r>
            <a:r>
              <a:rPr b="1" lang="ar-SA" sz="4800" spc="-1" strike="noStrike">
                <a:solidFill>
                  <a:srgbClr val="003300"/>
                </a:solidFill>
                <a:latin typeface="Times New Roman"/>
              </a:rPr>
              <a:t>- استخدام التدعيم او العقا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يعتمد على السلوك او اضعافه على نواتج السلو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ويطلق على هذه النواتج احيانا الحواف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-حوافز ايجابية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-حوافز سلبية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Calibri"/>
              </a:rPr>
              <a:t>هناك طريقتان لتطبيق الحوافز الايجابية والسلبية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اعطاء او من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193F-2FC7-415B-AB6A-61225BF7794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0000"/>
                </a:solidFill>
                <a:uFillTx/>
                <a:latin typeface="Agency FB"/>
              </a:rPr>
              <a:t>بهذا نجد ان هناك اربع انواع من الحواف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</a:rPr>
              <a:t>-يؤدي النوع الاول والرابع الى تثبيت وتشجيع السلو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</a:rPr>
              <a:t>- يؤدي النوع الثاني والثالث الى اضعاف السلو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8244000" y="155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332000" y="1125360"/>
          <a:ext cx="6553080" cy="4619880"/>
        </p:xfrm>
        <a:graphic>
          <a:graphicData uri="http://schemas.openxmlformats.org/drawingml/2006/table">
            <a:tbl>
              <a:tblPr/>
              <a:tblGrid>
                <a:gridCol w="3313080"/>
                <a:gridCol w="3240000"/>
              </a:tblGrid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ar-SA" sz="16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عقاب بالمنع/ لاتدعي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ar-SA" sz="16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تدعيم ايجاب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منع حافز ايجاب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تقديم حافز ايجاب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له اثر س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له اثر طي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يستخدم في اضعاف السلو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مثال: عدم اعطاء اي اهتمام لمروجي الاشاعات يوقفه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يستخدم في تثبيت السلو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مثال:اعطاء حوافز مثل النقود, المدح, الشكر, التشجيع, رحل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ar-SA" sz="16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تدعيم سلب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ar-SA" sz="16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عقا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منع حافز سلب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تقديم حافز سلب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له اثر طي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له اثر س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يستخدم في تثبيت السلو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مثال: عدم تطبيق لائحة الجزاءات على الذين يلتزمون بقواعد السلو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يستخدم في اضعاف السلو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ff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مثال: استخدام عقوبات الانذار والخصم, والفصل, والتوبيخ للحد من السلوك الس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Text Box 86"/>
          <p:cNvSpPr/>
          <p:nvPr/>
        </p:nvSpPr>
        <p:spPr>
          <a:xfrm>
            <a:off x="1332000" y="692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Times New Roman"/>
              </a:rPr>
              <a:t>من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7"/>
          <p:cNvSpPr/>
          <p:nvPr/>
        </p:nvSpPr>
        <p:spPr>
          <a:xfrm>
            <a:off x="6948360" y="76500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Times New Roman"/>
              </a:rPr>
              <a:t>تقد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0"/>
          <p:cNvSpPr/>
          <p:nvPr/>
        </p:nvSpPr>
        <p:spPr>
          <a:xfrm>
            <a:off x="7956720" y="198900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Times New Roman"/>
              </a:rPr>
              <a:t>ايجاب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1"/>
          <p:cNvSpPr/>
          <p:nvPr/>
        </p:nvSpPr>
        <p:spPr>
          <a:xfrm>
            <a:off x="8028000" y="3500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Times New Roman"/>
              </a:rPr>
              <a:t>نوع الحاف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52"/>
          <p:cNvSpPr/>
          <p:nvPr/>
        </p:nvSpPr>
        <p:spPr>
          <a:xfrm>
            <a:off x="7956720" y="465300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Times New Roman"/>
              </a:rPr>
              <a:t>سلب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عنصر نائب لرقم الشريحة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8D41-5BE8-41AB-BD0B-25913090EC4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000000"/>
                </a:solidFill>
                <a:uFillTx/>
                <a:latin typeface="Agency FB"/>
              </a:rPr>
              <a:t>(فعالية انظمة العقاب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فعالية محدد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مرتبطة بشروط معين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عيوب انظمة العقاب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تاثير مؤقت 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الحاجة الى تعقب السلوك المرغوب في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ملازمته لمشاعر التوتروالخو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تكون مشاعر استياءتجاه الرؤس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يؤدي الى تعلم سلوك التحايل والخدا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703A-8595-4F62-93FA-CBEDE3C1790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3300"/>
                </a:solidFill>
                <a:latin typeface="Times New Roman"/>
              </a:rPr>
              <a:t>كيف يمكن زيادة فعالية انظمة العقاب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التطبيق في المرحلة الاولى من السلو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الحسم والسرعة والشدة.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توجيه العقاب الى السلوك وليس الى الفر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تجنب اهدار كرامة الفرد.   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ثبات في تطبيق انظمة العقاب.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6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المعرفة بالسلوك غير المرغوب فيه وكيفية تفادي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7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نفس الفرد الذي يطبق العقاب  يكون مصدرا للحواف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8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التلازم الدائم بين استخدام العقاب والسلوك.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2D1E-E0CF-44BA-BFCB-E96A3BD28D0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000000"/>
                </a:solidFill>
                <a:uFillTx/>
                <a:latin typeface="Agency FB"/>
              </a:rPr>
              <a:t>جداول التدعي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39640" y="836640"/>
            <a:ext cx="7993080" cy="58323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611280" y="1916280"/>
            <a:ext cx="5184720" cy="475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3419640" y="1916280"/>
            <a:ext cx="0" cy="479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>
            <a:off x="6588000" y="836640"/>
            <a:ext cx="0" cy="576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9"/>
          <p:cNvSpPr/>
          <p:nvPr/>
        </p:nvSpPr>
        <p:spPr>
          <a:xfrm>
            <a:off x="611280" y="1268280"/>
            <a:ext cx="799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6084720" y="907920"/>
            <a:ext cx="22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</a:rPr>
              <a:t>الجدول المستم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2484360" y="83664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</a:rPr>
              <a:t>الجدول المتقط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6659640" y="1341360"/>
            <a:ext cx="187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يتم اعطاء المدعم بصورة دائمة ويستمر اعطاء المدعم كلما ظهرت الاستجابة السلوكية المطلوب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6588000" y="342900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مثال: اعطاء عمولة فور بيع كل سلع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6516720" y="5013360"/>
            <a:ext cx="187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لاثر:اكتساب وانطفاء سريع للسلوك وفعالية هذه الطريقة مرهونة باستمراريت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5"/>
          <p:cNvSpPr/>
          <p:nvPr/>
        </p:nvSpPr>
        <p:spPr>
          <a:xfrm>
            <a:off x="7380360" y="2492280"/>
            <a:ext cx="503280" cy="719280"/>
          </a:xfrm>
          <a:prstGeom prst="downArrow">
            <a:avLst>
              <a:gd name="adj1" fmla="val 50000"/>
              <a:gd name="adj2" fmla="val 35730"/>
            </a:avLst>
          </a:prstGeom>
          <a:solidFill>
            <a:srgbClr val="00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7380360" y="4221000"/>
            <a:ext cx="576360" cy="792360"/>
          </a:xfrm>
          <a:prstGeom prst="downArrow">
            <a:avLst>
              <a:gd name="adj1" fmla="val 50000"/>
              <a:gd name="adj2" fmla="val 34369"/>
            </a:avLst>
          </a:prstGeom>
          <a:solidFill>
            <a:srgbClr val="00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1547640" y="1341360"/>
            <a:ext cx="48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</a:rPr>
              <a:t>يعطى التدعيم على اجزاء محسوسة زمنيا او سلوكي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5867280" y="2565360"/>
            <a:ext cx="64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جزاء ثابت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5867280" y="501336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جزاء متغير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3851280" y="1916280"/>
            <a:ext cx="17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</a:rPr>
              <a:t>جدول زمني ثاب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3851280" y="1628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زمن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2"/>
          <p:cNvSpPr/>
          <p:nvPr/>
        </p:nvSpPr>
        <p:spPr>
          <a:xfrm>
            <a:off x="97164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ستجابة سلوك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3"/>
          <p:cNvSpPr/>
          <p:nvPr/>
        </p:nvSpPr>
        <p:spPr>
          <a:xfrm>
            <a:off x="1042920" y="1916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Times New Roman"/>
              </a:rPr>
              <a:t>جدول معدل الاستجابات الثابت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4"/>
          <p:cNvSpPr/>
          <p:nvPr/>
        </p:nvSpPr>
        <p:spPr>
          <a:xfrm>
            <a:off x="684360" y="2276640"/>
            <a:ext cx="511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5"/>
          <p:cNvSpPr/>
          <p:nvPr/>
        </p:nvSpPr>
        <p:spPr>
          <a:xfrm>
            <a:off x="900000" y="2276640"/>
            <a:ext cx="2376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يعطى التدعيم بعد عدد ثابت من الاستجابات السليم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مثال:الاجر بالقطع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لاثر:تاثير متوسط على التعلم,الاستجابات تتارجح صعودا وهبوطا حول هذا المستوى المتوس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6"/>
          <p:cNvSpPr/>
          <p:nvPr/>
        </p:nvSpPr>
        <p:spPr>
          <a:xfrm>
            <a:off x="1187280" y="4221000"/>
            <a:ext cx="17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</a:rPr>
              <a:t>جدول زمني متغ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7"/>
          <p:cNvSpPr/>
          <p:nvPr/>
        </p:nvSpPr>
        <p:spPr>
          <a:xfrm>
            <a:off x="755640" y="4653000"/>
            <a:ext cx="2448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يعطى التدعيم بعد عدد متغير من الاستجابات السليم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مثال:بقشيش متغير لعامل المكتب يستند على معدل متغير من الاستجاب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لاثر: اقوى تاثير على ثبات واستمرار السلو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3492360" y="2276640"/>
            <a:ext cx="237672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يعطى التدعيم كل فترة زمنية ثابت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مثال: الحافز الشه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لاثر:تاثير ضعيف على التعلم,الاستجابات تقوى مباشرة قبل الحصول على المدعم وسرعان ماتخبو بعد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9"/>
          <p:cNvSpPr/>
          <p:nvPr/>
        </p:nvSpPr>
        <p:spPr>
          <a:xfrm>
            <a:off x="3132000" y="4292640"/>
            <a:ext cx="21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</a:rPr>
              <a:t>جدول زمني متغ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0"/>
          <p:cNvSpPr/>
          <p:nvPr/>
        </p:nvSpPr>
        <p:spPr>
          <a:xfrm>
            <a:off x="3492360" y="4869000"/>
            <a:ext cx="230508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يعطى التدعيم بعد فترات متغيرة زمني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مثال: زيارات تفتيشية على الموظفين في الاسبو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لاثر:تاثير قوي على التعلم وانتظام السلو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1"/>
          <p:cNvSpPr/>
          <p:nvPr/>
        </p:nvSpPr>
        <p:spPr>
          <a:xfrm>
            <a:off x="611280" y="4292640"/>
            <a:ext cx="518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2"/>
          <p:cNvSpPr/>
          <p:nvPr/>
        </p:nvSpPr>
        <p:spPr>
          <a:xfrm>
            <a:off x="539640" y="4653000"/>
            <a:ext cx="518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عنصر نائب لرقم الشريحة 3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0025-1333-4CC9-8BD7-AB576224285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3300"/>
                </a:solidFill>
                <a:latin typeface="Calibri"/>
              </a:rPr>
              <a:t>التعل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</a:rPr>
              <a:t>عملية التعلم اساساً يركن اليها المدير ويؤد ان يؤثر في سلوك مروؤس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</a:rPr>
              <a:t>وذلك يعتمد على مبادئ التعلم ونظريات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Calibri"/>
              </a:rPr>
              <a:t>هذا الفصل يتناول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طبيعة التعلم واهميت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كيف يمكن اكتساب سلوك جدي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كيف يمكن الابقاء على , واضعاف السلو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كيف يمكن نقل السلوك المتعلم الى حيز الواق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تطبيق مبادئ التعلم في الادار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B342-32A4-4BDC-9AE6-B21B0354B7D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Agency FB"/>
              </a:rPr>
              <a:t>كيف يمكن نقل السلوك المتعلم الى حيز الواقع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تشابه ظروف التعلم مع ظروف التطبيق.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تشابه المحتوى التعلمي مع محتوى الاداء.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دوافع الفرد.   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المشاركة.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اكتشاف العلاقة بين التعلم والاداء. 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6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حصول الفرد على معلومات عن تقديمه في عملية التعلم الادا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E5F4-A303-40DD-852E-1DF6CCD6854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Calibri"/>
              </a:rPr>
              <a:t>طبيعة التعلم واهميت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الدوام النسبي وعدم العشوائية والتغيير.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الممارسة والتكرار والخبرة(اكتساب السلوك وتثبيته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مصاحبة التكراروالتكرار بتدعيم وتعزيز.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32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Calibri"/>
              </a:rPr>
              <a:t>تعريف التعلم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التغيير الدائم نسبياً في السلوك الفردي والناتج عن تدعيم الخبرات  والممارسات </a:t>
            </a:r>
            <a:br>
              <a:rPr sz="2800"/>
            </a:b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السابق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أنماط من السلوك لاتدخل في نطاق التعل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السلوك الانعكاس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عدم القدرة على العمل(اجهاد)ظرو ف نفس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Calibri"/>
              </a:rPr>
              <a:t>قد يتم التعلم لسلوك حسن او سلوك سئ على حد سو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C105-6EE9-4FB7-93B1-B1F6C635461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Calibri"/>
              </a:rPr>
              <a:t>منحنى التعل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00"/>
                </a:solidFill>
                <a:latin typeface="Calibri"/>
              </a:rPr>
              <a:t>1</a:t>
            </a:r>
            <a:r>
              <a:rPr b="1" lang="ar-SA" sz="4000" spc="-1" strike="noStrike">
                <a:solidFill>
                  <a:srgbClr val="003300"/>
                </a:solidFill>
                <a:latin typeface="Calibri"/>
              </a:rPr>
              <a:t>- ميل التعلم الى الارتف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شكل التغير في تكوين وتشكيل العادات والسلوك عبر الزمن وذلك من خل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الممارسة والخبرة والمحاولات المتكر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شدة السلوك المتعلم تختلف مع زيادة المحاولات المتكررة للتعل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1547640" y="3357720"/>
            <a:ext cx="0" cy="19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1547640" y="5300640"/>
            <a:ext cx="720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2124000" y="51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6588000" y="508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>
            <a:off x="2556000" y="5084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8388360" y="508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601200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3059280" y="50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5"/>
          <p:cNvSpPr/>
          <p:nvPr/>
        </p:nvSpPr>
        <p:spPr>
          <a:xfrm>
            <a:off x="3635280" y="50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6"/>
          <p:cNvSpPr/>
          <p:nvPr/>
        </p:nvSpPr>
        <p:spPr>
          <a:xfrm>
            <a:off x="4211640" y="508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7"/>
          <p:cNvSpPr/>
          <p:nvPr/>
        </p:nvSpPr>
        <p:spPr>
          <a:xfrm>
            <a:off x="7885080" y="508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8"/>
          <p:cNvSpPr/>
          <p:nvPr/>
        </p:nvSpPr>
        <p:spPr>
          <a:xfrm>
            <a:off x="4859280" y="508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9"/>
          <p:cNvSpPr/>
          <p:nvPr/>
        </p:nvSpPr>
        <p:spPr>
          <a:xfrm>
            <a:off x="5435640" y="508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1"/>
          <p:cNvSpPr/>
          <p:nvPr/>
        </p:nvSpPr>
        <p:spPr>
          <a:xfrm>
            <a:off x="7236000" y="508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3"/>
          <p:cNvSpPr/>
          <p:nvPr/>
        </p:nvSpPr>
        <p:spPr>
          <a:xfrm flipV="1">
            <a:off x="5435640" y="3141360"/>
            <a:ext cx="0" cy="1942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4"/>
          <p:cNvSpPr/>
          <p:nvPr/>
        </p:nvSpPr>
        <p:spPr>
          <a:xfrm flipV="1">
            <a:off x="6588000" y="321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1116000" y="2924280"/>
            <a:ext cx="6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التعل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8019360" y="551664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الزم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7"/>
          <p:cNvSpPr/>
          <p:nvPr/>
        </p:nvSpPr>
        <p:spPr>
          <a:xfrm>
            <a:off x="6877080" y="5516640"/>
            <a:ext cx="10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محاو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8"/>
          <p:cNvSpPr/>
          <p:nvPr/>
        </p:nvSpPr>
        <p:spPr>
          <a:xfrm>
            <a:off x="5435640" y="5516640"/>
            <a:ext cx="8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وقـ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9"/>
          <p:cNvSpPr/>
          <p:nvPr/>
        </p:nvSpPr>
        <p:spPr>
          <a:xfrm>
            <a:off x="2340000" y="5589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محاول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0"/>
          <p:cNvSpPr/>
          <p:nvPr/>
        </p:nvSpPr>
        <p:spPr>
          <a:xfrm flipV="1">
            <a:off x="1547640" y="4005360"/>
            <a:ext cx="22323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1"/>
          <p:cNvSpPr/>
          <p:nvPr/>
        </p:nvSpPr>
        <p:spPr>
          <a:xfrm>
            <a:off x="3780000" y="400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2"/>
          <p:cNvSpPr/>
          <p:nvPr/>
        </p:nvSpPr>
        <p:spPr>
          <a:xfrm flipV="1">
            <a:off x="4427640" y="3715920"/>
            <a:ext cx="431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3"/>
          <p:cNvSpPr/>
          <p:nvPr/>
        </p:nvSpPr>
        <p:spPr>
          <a:xfrm>
            <a:off x="5435640" y="37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4"/>
          <p:cNvSpPr/>
          <p:nvPr/>
        </p:nvSpPr>
        <p:spPr>
          <a:xfrm>
            <a:off x="5435640" y="4076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5"/>
          <p:cNvSpPr/>
          <p:nvPr/>
        </p:nvSpPr>
        <p:spPr>
          <a:xfrm flipH="1">
            <a:off x="7019640" y="4076640"/>
            <a:ext cx="57636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6"/>
          <p:cNvSpPr/>
          <p:nvPr/>
        </p:nvSpPr>
        <p:spPr>
          <a:xfrm flipV="1">
            <a:off x="6588000" y="3141720"/>
            <a:ext cx="1368720" cy="5745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7"/>
          <p:cNvSpPr/>
          <p:nvPr/>
        </p:nvSpPr>
        <p:spPr>
          <a:xfrm flipV="1">
            <a:off x="5003640" y="4149360"/>
            <a:ext cx="142920" cy="43164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5"/>
          <p:cNvSpPr/>
          <p:nvPr/>
        </p:nvSpPr>
        <p:spPr>
          <a:xfrm>
            <a:off x="4859280" y="3716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rc 47"/>
          <p:cNvSpPr/>
          <p:nvPr/>
        </p:nvSpPr>
        <p:spPr>
          <a:xfrm rot="10647600">
            <a:off x="4857120" y="3715560"/>
            <a:ext cx="554040" cy="360360"/>
          </a:xfrm>
          <a:custGeom>
            <a:avLst/>
            <a:gdLst>
              <a:gd name="textAreaLeft" fmla="*/ 0 w 554040"/>
              <a:gd name="textAreaRight" fmla="*/ 554400 w 5540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fill="none" w="23719" h="21600">
                <a:moveTo>
                  <a:pt x="0" y="104"/>
                </a:moveTo>
                <a:cubicBezTo>
                  <a:pt x="704" y="34"/>
                  <a:pt x="1411" y="-1"/>
                  <a:pt x="2119" y="0"/>
                </a:cubicBezTo>
                <a:cubicBezTo>
                  <a:pt x="14048" y="0"/>
                  <a:pt x="23719" y="9670"/>
                  <a:pt x="23719" y="21600"/>
                </a:cubicBezTo>
              </a:path>
              <a:path stroke="0" w="23719" h="21600">
                <a:moveTo>
                  <a:pt x="0" y="104"/>
                </a:moveTo>
                <a:cubicBezTo>
                  <a:pt x="704" y="34"/>
                  <a:pt x="1411" y="-1"/>
                  <a:pt x="2119" y="0"/>
                </a:cubicBezTo>
                <a:cubicBezTo>
                  <a:pt x="14048" y="0"/>
                  <a:pt x="23719" y="9670"/>
                  <a:pt x="23719" y="21600"/>
                </a:cubicBezTo>
                <a:lnTo>
                  <a:pt x="2119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8"/>
          <p:cNvSpPr/>
          <p:nvPr/>
        </p:nvSpPr>
        <p:spPr>
          <a:xfrm flipH="1">
            <a:off x="1834920" y="5084640"/>
            <a:ext cx="360360" cy="14472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rc 49"/>
          <p:cNvSpPr/>
          <p:nvPr/>
        </p:nvSpPr>
        <p:spPr>
          <a:xfrm>
            <a:off x="1619280" y="5157720"/>
            <a:ext cx="279360" cy="2509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fill="none" w="20163" h="18747">
                <a:moveTo>
                  <a:pt x="10728" y="0"/>
                </a:moveTo>
                <a:cubicBezTo>
                  <a:pt x="15046" y="2470"/>
                  <a:pt x="18378" y="6356"/>
                  <a:pt x="20162" y="11000"/>
                </a:cubicBezTo>
              </a:path>
              <a:path stroke="0" w="20163" h="18747">
                <a:moveTo>
                  <a:pt x="10728" y="0"/>
                </a:moveTo>
                <a:cubicBezTo>
                  <a:pt x="15046" y="2470"/>
                  <a:pt x="18378" y="6356"/>
                  <a:pt x="20162" y="11000"/>
                </a:cubicBezTo>
                <a:lnTo>
                  <a:pt x="0" y="1874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1"/>
          <p:cNvSpPr/>
          <p:nvPr/>
        </p:nvSpPr>
        <p:spPr>
          <a:xfrm>
            <a:off x="1619280" y="4437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Times New Roman"/>
              </a:rPr>
              <a:t>اكتسا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2"/>
          <p:cNvSpPr/>
          <p:nvPr/>
        </p:nvSpPr>
        <p:spPr>
          <a:xfrm>
            <a:off x="2195640" y="472428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Times New Roman"/>
              </a:rPr>
              <a:t>ميل التعل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3"/>
          <p:cNvSpPr/>
          <p:nvPr/>
        </p:nvSpPr>
        <p:spPr>
          <a:xfrm>
            <a:off x="4211640" y="458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Times New Roman"/>
              </a:rPr>
              <a:t>انطف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4"/>
          <p:cNvSpPr/>
          <p:nvPr/>
        </p:nvSpPr>
        <p:spPr>
          <a:xfrm>
            <a:off x="7164360" y="3789360"/>
            <a:ext cx="17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</a:rPr>
              <a:t>استعادة</a:t>
            </a:r>
            <a:r>
              <a:rPr b="0" lang="ar-SA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ar-SA" sz="2000" spc="-1" strike="noStrike">
                <a:solidFill>
                  <a:srgbClr val="003300"/>
                </a:solidFill>
                <a:latin typeface="Times New Roman"/>
              </a:rPr>
              <a:t>تلقائ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5"/>
          <p:cNvSpPr/>
          <p:nvPr/>
        </p:nvSpPr>
        <p:spPr>
          <a:xfrm>
            <a:off x="6804000" y="2637000"/>
            <a:ext cx="20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Times New Roman"/>
              </a:rPr>
              <a:t>الحد الاقصى للتعل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6"/>
          <p:cNvSpPr/>
          <p:nvPr/>
        </p:nvSpPr>
        <p:spPr>
          <a:xfrm>
            <a:off x="5435640" y="4508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Times New Roman"/>
              </a:rPr>
              <a:t>راح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7"/>
          <p:cNvSpPr/>
          <p:nvPr/>
        </p:nvSpPr>
        <p:spPr>
          <a:xfrm>
            <a:off x="5651640" y="306864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Times New Roman"/>
              </a:rPr>
              <a:t>راح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8"/>
          <p:cNvSpPr/>
          <p:nvPr/>
        </p:nvSpPr>
        <p:spPr>
          <a:xfrm>
            <a:off x="3635280" y="3645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Times New Roman"/>
              </a:rPr>
              <a:t>تو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9"/>
          <p:cNvSpPr/>
          <p:nvPr/>
        </p:nvSpPr>
        <p:spPr>
          <a:xfrm>
            <a:off x="3132000" y="4076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Times New Roman"/>
              </a:rPr>
              <a:t>(تسط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عنصر نائب لرقم الشريحة 4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D8F8-D8D9-4A8D-83FE-DA021D7D1FA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 يشرح لك درجة النمو في اكتساب السلوك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Acquisition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 مقدار التعلم نسبة الى عدد المحاولات  قد يختلف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 اذا كان ثابتا يعطينا  انطباعا بزيادة عدد المحاولات فانه يمكن اكتسابه بصورة ثابت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 اذا كان ميل متزايد ويكون ذلك عندما لايكون هناك معرفه او خبرة بالشئ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ذا كان منحنى التعلم متناقصا يعني انه بالرغم من الزيادة الكبيرة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 في عدد محاولات التعلم هناك بطء  في التعلم ويظهر ذلك </a:t>
            </a:r>
            <a:r>
              <a:rPr b="1" lang="ar-SA" sz="2400" spc="-1" strike="noStrike">
                <a:solidFill>
                  <a:srgbClr val="1f497d"/>
                </a:solidFill>
                <a:latin typeface="Calibri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ذا كان السلوك محل التعلم مملا وروتينيا مثل اللاعمال الادارية والتجارية العادي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62DB-ECFA-47F9-B887-DB2742D2575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2</a:t>
            </a: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-</a:t>
            </a:r>
            <a:r>
              <a:rPr b="1" lang="ar-SA" sz="1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وقف التعلم وتسطح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وقد يكون ذلك بسبب التعب والارهاق او لم يهضم المعلومات الساب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او ان عملية التعلم قد اصبحت مم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3</a:t>
            </a: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-</a:t>
            </a:r>
            <a:r>
              <a:rPr b="1" lang="ar-SA" sz="9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اطفاء واضعاف التعل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عدم وجود مدعمات تعزز من ظهور السلو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4</a:t>
            </a: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-الاستعادة التلقائ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قد يحتاج الفرد لفترة راحة وينتج عن ذلك زيادة  مفاجئة في مقدار التعل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5</a:t>
            </a: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-</a:t>
            </a:r>
            <a:r>
              <a:rPr b="1" lang="ar-SA" sz="1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الحد الاقصى للتعل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الفرق بين السلوك المتعلم عند بداية  محاولات التعلم ومقدار السلو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المتعلم بعد انتهاء محاولات التعل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D838-54DB-4616-91FF-A0B540BD801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0000"/>
                </a:solidFill>
                <a:uFillTx/>
                <a:latin typeface="Calibri"/>
              </a:rPr>
              <a:t>كيف يمكن اكتساب السلوك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Times New Roman"/>
              </a:rPr>
              <a:t>بعض النظريات الشائعة في التعل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</a:rPr>
              <a:t>اولا: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التعلم الشرطي التقليدي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classical condi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</a:rPr>
              <a:t>- 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ابحاث بافلوف في اوائل القرن العشرين (الكلب والطعا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مثير طبيعي            استجابه طبيعية لااراد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مثير محايد  ينقلب الى مثير شرط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H="1">
            <a:off x="6732720" y="2492280"/>
            <a:ext cx="72072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692360" y="3284640"/>
            <a:ext cx="5832360" cy="2808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</a:rPr>
              <a:t>- مثير اصلي                 استجاب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</a:rPr>
              <a:t>* (المثير المحايد لم يقدم بع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</a:rPr>
              <a:t>- مثير اصلي                      استجاب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</a:rPr>
              <a:t>* (تقديم المثير المحايد متلازما مع المثير الاصلي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3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</a:rPr>
              <a:t>- عدم تقديم المثير الاصلي                نفس استجابة المثير الاصل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</a:rPr>
              <a:t>* (تقديم المثير المحاي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 flipH="1">
            <a:off x="3924360" y="3645000"/>
            <a:ext cx="79200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 flipH="1">
            <a:off x="3924360" y="4508640"/>
            <a:ext cx="79200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0"/>
          <p:cNvSpPr/>
          <p:nvPr/>
        </p:nvSpPr>
        <p:spPr>
          <a:xfrm flipH="1">
            <a:off x="4284720" y="5445000"/>
            <a:ext cx="72072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عنصر نائب لرقم الشريحة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C04C-F176-4023-8420-1334C1055E2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468360" y="115920"/>
            <a:ext cx="8496360" cy="60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ثانيا:التعلم الشرطي الوسيلي</a:t>
            </a:r>
            <a:r>
              <a:rPr b="1" lang="ar-SA" sz="32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1" lang="en-US" sz="3200" spc="-1" strike="noStrike" u="sng">
                <a:solidFill>
                  <a:srgbClr val="003300"/>
                </a:solidFill>
                <a:uFillTx/>
                <a:latin typeface="Calibri"/>
              </a:rPr>
              <a:t>operant conditioning</a:t>
            </a:r>
            <a:r>
              <a:rPr b="1" lang="en-US" sz="3200" spc="-1" strike="noStrike" u="sng">
                <a:solidFill>
                  <a:srgbClr val="003300"/>
                </a:solidFill>
                <a:uFillTx/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Calibri"/>
              </a:rPr>
              <a:t>ادخال ارادة الفرد ووجدانه وعملياته الفكرية والعق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Calibri"/>
              </a:rPr>
              <a:t> كوسيط بين المثير والاستجابة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(حيث ان الفرد بعد تعرضه لمثيرات ومؤثرات بيئية فانه يفكر ويدرك العلاقات الموجودة بي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هذه المثيرات ثم يسلككسلوك معين للحصول على عوائد ذات قيمة ونفع ذاتي له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4FF4-7892-4A95-9751-8E696E2938D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”نحن نتعلم من العوائد الناجمة من السلوك الذي نقوم به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1619280" y="1844640"/>
            <a:ext cx="5977080" cy="3672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- مثير                    استجابة               عوائ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مثير                     استجابة                 عوائ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- مثير                     استجابة                   عوائ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 flipH="1">
            <a:off x="4932000" y="2421000"/>
            <a:ext cx="107964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"/>
          <p:cNvSpPr/>
          <p:nvPr/>
        </p:nvSpPr>
        <p:spPr>
          <a:xfrm flipH="1">
            <a:off x="2842920" y="2421000"/>
            <a:ext cx="86508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 flipH="1">
            <a:off x="5363640" y="3429000"/>
            <a:ext cx="100836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2"/>
          <p:cNvSpPr/>
          <p:nvPr/>
        </p:nvSpPr>
        <p:spPr>
          <a:xfrm flipH="1">
            <a:off x="2700000" y="3429000"/>
            <a:ext cx="86364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2627280" y="3573360"/>
            <a:ext cx="0" cy="2890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4"/>
          <p:cNvSpPr/>
          <p:nvPr/>
        </p:nvSpPr>
        <p:spPr>
          <a:xfrm>
            <a:off x="2916360" y="3933720"/>
            <a:ext cx="309708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"/>
          <p:cNvSpPr/>
          <p:nvPr/>
        </p:nvSpPr>
        <p:spPr>
          <a:xfrm flipV="1">
            <a:off x="6372360" y="3573000"/>
            <a:ext cx="0" cy="3603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6"/>
          <p:cNvSpPr/>
          <p:nvPr/>
        </p:nvSpPr>
        <p:spPr>
          <a:xfrm flipH="1">
            <a:off x="5292720" y="4724280"/>
            <a:ext cx="100800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7"/>
          <p:cNvSpPr/>
          <p:nvPr/>
        </p:nvSpPr>
        <p:spPr>
          <a:xfrm flipH="1">
            <a:off x="2700000" y="4724280"/>
            <a:ext cx="93492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8"/>
          <p:cNvSpPr/>
          <p:nvPr/>
        </p:nvSpPr>
        <p:spPr>
          <a:xfrm>
            <a:off x="2556000" y="4869000"/>
            <a:ext cx="0" cy="28872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9"/>
          <p:cNvSpPr/>
          <p:nvPr/>
        </p:nvSpPr>
        <p:spPr>
          <a:xfrm>
            <a:off x="2771640" y="5157720"/>
            <a:ext cx="100836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0"/>
          <p:cNvSpPr/>
          <p:nvPr/>
        </p:nvSpPr>
        <p:spPr>
          <a:xfrm flipV="1">
            <a:off x="3995640" y="4797000"/>
            <a:ext cx="0" cy="28908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4788000" y="1916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ff"/>
                </a:solidFill>
                <a:latin typeface="Calibri"/>
              </a:rPr>
              <a:t>ارادة الفر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2"/>
          <p:cNvSpPr/>
          <p:nvPr/>
        </p:nvSpPr>
        <p:spPr>
          <a:xfrm>
            <a:off x="2484360" y="1916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ff"/>
                </a:solidFill>
                <a:latin typeface="Calibri"/>
              </a:rPr>
              <a:t>هي وسي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3"/>
          <p:cNvSpPr/>
          <p:nvPr/>
        </p:nvSpPr>
        <p:spPr>
          <a:xfrm>
            <a:off x="2268360" y="256536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ff"/>
                </a:solidFill>
                <a:latin typeface="Calibri"/>
              </a:rPr>
              <a:t>للحصول عل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4"/>
          <p:cNvSpPr/>
          <p:nvPr/>
        </p:nvSpPr>
        <p:spPr>
          <a:xfrm>
            <a:off x="399564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ff"/>
                </a:solidFill>
                <a:latin typeface="Calibri"/>
              </a:rPr>
              <a:t>تمثـ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5"/>
          <p:cNvSpPr/>
          <p:nvPr/>
        </p:nvSpPr>
        <p:spPr>
          <a:xfrm>
            <a:off x="2556000" y="472428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ff"/>
                </a:solidFill>
                <a:latin typeface="Calibri"/>
              </a:rPr>
              <a:t>مع التلازم تؤد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6"/>
          <p:cNvSpPr/>
          <p:nvPr/>
        </p:nvSpPr>
        <p:spPr>
          <a:xfrm>
            <a:off x="2700360" y="515772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ff"/>
                </a:solidFill>
                <a:latin typeface="Calibri"/>
              </a:rPr>
              <a:t>  تلقائيا ال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عنصر نائب لرقم الشريحة 2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007E-E656-4D60-82CE-E667B8362F2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07:04:25Z</dcterms:created>
  <dc:creator>Murad</dc:creator>
  <dc:description/>
  <dc:language>en-US</dc:language>
  <cp:lastModifiedBy>Murad</cp:lastModifiedBy>
  <dcterms:modified xsi:type="dcterms:W3CDTF">2013-12-04T20:38:12Z</dcterms:modified>
  <cp:revision>2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34CDEE69-737E-4620-9126-887DE4B42B32</vt:lpwstr>
  </property>
  <property fmtid="{D5CDD505-2E9C-101B-9397-08002B2CF9AE}" pid="3" name="ArticulatePath">
    <vt:lpwstr>الفصل الثالث- التعلم</vt:lpwstr>
  </property>
</Properties>
</file>