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FAD-412F-4F8D-91D0-C676D2E012B7}" type="slidenum">
              <a:rPr b="0" lang="ar-J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C6F6-C812-4493-95CC-8FE114CFF14D}" type="slidenum">
              <a:rPr b="0" lang="ar-J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2D3-78D7-4BC8-BD17-1709F956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81B-190C-44FF-B5BC-E7F44B3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BFE-16CC-44F2-9D08-22917AD7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341-84E0-46F4-90AA-D632048D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C8D-B3AD-463F-B906-0A5F95F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0C9-B518-44DC-9D94-FE4D4CE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13D-FB3E-49AE-A5D3-8578F3F4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67C-38FF-473A-B96A-2050234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E30-2B1A-418A-8A02-8D53F603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916-DBB5-4105-99B4-8CA0904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981-0B91-48EF-8D90-F3ECBDB0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BD6-8634-425B-BE79-3ACA122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CDC-5686-41F5-B853-44896A50D47B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ثال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CB8A-7EBB-4109-9DEA-E6261A8B8B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لثا:نظرية التعلم بالمحاولة والخطأ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</a:rPr>
              <a:t>Learning Try an Error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- نحن جميعا نتعلم من الاخطاءالتي نقع فيها والخطأ نستبعد الس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 الذي يؤدي الى نتائج خاطئة ونحاول استخدام اسلوب اخروهكذ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- كلما تكررت المحاولات كلما امكن الابقاء على السلوك المطلوب والعكس صح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”تعني نظرية التعلم عن طريق المحاولة والخطا ان تكرار المحاو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اجحة للسلوك تجلب للفرد السرور ويميل الفرد لتثبيتها في سلوكه والعكس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رابعا:نظرية التعلم عن طريق الاستبصار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</a:rPr>
              <a:t>Learning by Ins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تمر عملية الاستبصار بخطوات رئيسية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معرفة المجال الادراك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ستخدام الذكاء ف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-تنظيم المعل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ب-ربطها ببعضها البع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ج-الحكم والتقدير والاستدل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2F9-6F60-4517-8A09-BBD6D89E36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قد ياخذ الاستبصار فترة طو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حدث ان يكون فجائي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كون جزئيا(ينصب على جزء من الظاهر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كون كليا(الظاهرة كك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خامسا: التعلم بالتقليد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Learning By Imitation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لم بالملاحظة او المحاكاة يمر بعدة خطو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لاحظ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تمثيل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تجريب السلوك ال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8F0-2567-430A-BF6F-044202F9B4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نمذجة السلوك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</a:rPr>
              <a:t>Behavior Model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حالة خاصة من التعلم بالتقل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امثلة الاستخدمات النمذجة السلوك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العمال على عمل مكانيكي او حر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المشرفيين والمديرين في ادارة المقابلات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عمال البيع على كيفية معاملة المستهلك و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DFE-2EBF-42FB-BB02-D30CE8811D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تعقيب على نظريات الت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(ماهي العوامل المؤثرة في اكتساب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تلازم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السلوك وعوائد وفوائد مرض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عمليات الذهنية والفكرية او الوجدان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ognition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هدف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Objective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سلوك مرغوب ف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له هدف 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هدف له جاذبية لدى ال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  <a:cs typeface="Arial"/>
              </a:rPr>
              <a:t>يتناسب مع قدراته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نجا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خبرة الساب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اتص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همية السلوك محل التعل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تدعيم (سيتم شرحه بشكل اوس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تش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تكرار المحاو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B76E-190E-4D3E-87E0-78C57A3392F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gency FB"/>
              </a:rPr>
              <a:t>كيف يمكن الابقاء على او اضعاف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عتمد على موضوعين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ستخدام التدعيم او العق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داول التدعي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168-2393-4905-82A5-31A85D43AC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- استخدام التدعيم او العقا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يعتمد على السلوك او اضعافه على نواتج السلو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ويطلق على هذه النواتج احيانا الحواف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حوافز ايجاب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حوافز سلب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هناك طريقتان لتطبيق الحوافز الايجابية والسلب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عطاء او من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AC0-84BF-4E68-82CD-74AC753E27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gency FB"/>
              </a:rPr>
              <a:t>بهذا نجد ان هناك اربع انواع من الحواف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-يؤدي النوع الاول والرابع الى تثبيت وتشجيع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- يؤدي النوع الثاني والثالث الى اضعاف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8244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32000" y="1125360"/>
          <a:ext cx="6553080" cy="4619880"/>
        </p:xfrm>
        <a:graphic>
          <a:graphicData uri="http://schemas.openxmlformats.org/drawingml/2006/table">
            <a:tbl>
              <a:tblPr/>
              <a:tblGrid>
                <a:gridCol w="3313080"/>
                <a:gridCol w="3240000"/>
              </a:tblGrid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عقاب بالمنع/ لاتدع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تدعيم 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ع حافز ايجا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تقديم حافز ايجا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له اثر 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له اثر ط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اضعاف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عدم اعطاء اي اهتمام لمروجي الاشاعات يوقف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تثبيت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اعطاء حوافز مثل النقود, المدح, الشكر, التشجيع, رح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تدعيم سل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عقا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ع حافز سل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تقديم حافز سل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له اثر ط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له اثر 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تثبيت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عدم تطبيق لائحة الجزاءات على الذين يلتزمون بقواعد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اضعاف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استخدام عقوبات الانذار والخصم, والفصل, والتوبيخ للحد من السلوك ال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86"/>
          <p:cNvSpPr/>
          <p:nvPr/>
        </p:nvSpPr>
        <p:spPr>
          <a:xfrm>
            <a:off x="1332000" y="6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من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7"/>
          <p:cNvSpPr/>
          <p:nvPr/>
        </p:nvSpPr>
        <p:spPr>
          <a:xfrm>
            <a:off x="694836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تقد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0"/>
          <p:cNvSpPr/>
          <p:nvPr/>
        </p:nvSpPr>
        <p:spPr>
          <a:xfrm>
            <a:off x="7956720" y="1989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يجا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1"/>
          <p:cNvSpPr/>
          <p:nvPr/>
        </p:nvSpPr>
        <p:spPr>
          <a:xfrm>
            <a:off x="8028000" y="35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نوع الحاف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2"/>
          <p:cNvSpPr/>
          <p:nvPr/>
        </p:nvSpPr>
        <p:spPr>
          <a:xfrm>
            <a:off x="7956720" y="4653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سل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7650-AFC0-4FC4-A383-2CF825C4D9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gency FB"/>
              </a:rPr>
              <a:t>(فعالية انظمة العقاب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فعالية محد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رتبطة بشروط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عيوب انظمة العق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اثير مؤقت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حاجة الى تعقب السلوك المرغوب ف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ملازمته لمشاعر التوتروالخ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كون مشاعر استياءتجاه الرؤ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ؤدي الى تعلم سلوك التحايل والخد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577D-9853-47E4-A749-DA91B73A60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كيف يمكن زيادة فعالية انظمة العقاب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طبيق في المرحلة الاولى من ا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حسم والسرعة والشد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وجيه العقاب الى السلوك وليس الى الف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جنب اهدار كرامة الفرد. 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ثبات في تطبيق انظمة العقاب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معرفة بالسلوك غير المرغوب فيه وكيفية تفاد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نفس الفرد الذي يطبق العقاب  يكون مصدرا للحواف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لازم الدائم بين استخدام العقاب والسلوك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A01-3659-43BE-B528-90D34F3255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gency FB"/>
              </a:rPr>
              <a:t>جداول التدع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39640" y="836640"/>
            <a:ext cx="7993080" cy="583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11280" y="1916280"/>
            <a:ext cx="518472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3419640" y="1916280"/>
            <a:ext cx="0" cy="479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6588000" y="836640"/>
            <a:ext cx="0" cy="576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611280" y="1268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084720" y="9079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جدول المست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484360" y="83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جدول المتقط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659640" y="1341360"/>
            <a:ext cx="187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تم اعطاء المدعم بصورة دائمة ويستمر اعطاء المدعم كلما ظهرت الاستجابة السلوكية المطلو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588000" y="3429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اعطاء عمولة فور بيع كل سل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516720" y="5013360"/>
            <a:ext cx="187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اكتساب وانطفاء سريع للسلوك وفعالية هذه الطريقة مرهونة باستمراري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7380360" y="249228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00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7380360" y="4221000"/>
            <a:ext cx="576360" cy="792360"/>
          </a:xfrm>
          <a:prstGeom prst="downArrow">
            <a:avLst>
              <a:gd name="adj1" fmla="val 50000"/>
              <a:gd name="adj2" fmla="val 34369"/>
            </a:avLst>
          </a:prstGeom>
          <a:solidFill>
            <a:srgbClr val="00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547640" y="134136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يعطى التدعيم على اجزاء محسوسة زمنيا او سلوك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867280" y="256536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جزاء 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867280" y="501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جزاء متغ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851280" y="1916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ثاب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851280" y="162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زم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97164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ستجابة سلوك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04292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جدول معدل الاستجابات ال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684360" y="2276640"/>
            <a:ext cx="511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900000" y="2276640"/>
            <a:ext cx="2376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عدد ثابت من الاستجابات السلي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الاجر بالقط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متوسط على التعلم,الاستجابات تتارجح صعودا وهبوطا حول هذا المستوى المتوس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187280" y="422100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755640" y="4653000"/>
            <a:ext cx="2448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عدد متغير من الاستجابات السلي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بقشيش متغير لعامل المكتب يستند على معدل متغير من الاستجا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 اقوى تاثير على ثبات واستمرار السل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3492360" y="2276640"/>
            <a:ext cx="23767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كل فترة زمنية 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الحافز الشه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ضعيف على التعلم,الاستجابات تقوى مباشرة قبل الحصول على المدعم وسرعان ماتخبو بع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132000" y="4292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3492360" y="4869000"/>
            <a:ext cx="2305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فترات متغيرة زم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زيارات تفتيشية على الموظفين في الاسب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قوي على التعلم وانتظام السل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611280" y="4292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539640" y="465300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عنصر نائب لرقم الشريحة 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DAA7-2D4F-4E4B-A53B-6BFCF1E45F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3300"/>
                </a:solidFill>
                <a:latin typeface="Calibri"/>
              </a:rPr>
              <a:t>التعل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عملية التعلم اساساً يركن اليها المدير ويؤد ان يؤثر في سلوك مروؤ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وذلك يعتمد على مبادئ التعلم ونظري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هذا الفصل يتناو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طبيعة التعلم واهمي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كيف يمكن اكتساب سلوك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يف يمكن الابقاء على , واضعاف 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يف يمكن نقل السلوك المتعلم الى حيز الواق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تطبيق مبادئ التعلم في الاد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FD4-4C8F-479D-8C46-97B0A39D8A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gency FB"/>
              </a:rPr>
              <a:t>كيف يمكن نقل السلوك المتعلم الى حيز الواقع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شابه ظروف التعلم مع ظروف التطبيق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شابه المحتوى التعلمي مع محتوى الاداء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دوافع الفرد. 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مشارك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كتشاف العلاقة بين التعلم والاداء.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صول الفرد على معلومات عن تقديمه في عملية التعلم الاد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0559-3E4B-4F6F-B52C-D72EAE98B7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طبيعة التعلم واهمي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دوام النسبي وعدم العشوائية والتغيير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مارسة والتكرار والخبرة(اكتساب السلوك وتثب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صاحبة التكراروالتكرار بتدعيم وتعزيز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تعريف التعل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غيير الدائم نسبياً في السلوك الفردي والناتج عن تدعيم الخبرات  والممارسات </a:t>
            </a:r>
            <a:br>
              <a:rPr sz="2800"/>
            </a:b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ساب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نماط من السلوك لاتدخل في نطاق التعل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سلوك الانعكاس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عدم القدرة على العمل(اجهاد)ظرو ف نف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قد يتم التعلم لسلوك حسن او سلوك سئ على حد سو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2337-2783-45E7-A02B-659C1C8876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منحنى ا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- ميل التعلم الى الارتف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شكل التغير في تكوين وتشكيل العادات والسلوك عبر الزمن وذلك من خ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ممارسة والخبرة والمحاولات المتكر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شدة السلوك المتعلم تختلف مع زيادة المحاولات المتكررة للتعل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47640" y="3357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547640" y="530064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24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588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2556000" y="5084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8388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6012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3059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3635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4211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>
            <a:off x="78850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48592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435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723600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435640" y="3141360"/>
            <a:ext cx="0" cy="194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V="1">
            <a:off x="6588000" y="321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1116000" y="29242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ع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8019360" y="55166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ز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877080" y="5516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محا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5435640" y="5516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قـ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340000" y="558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حاو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 flipV="1">
            <a:off x="1547640" y="4005360"/>
            <a:ext cx="2232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37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 flipV="1">
            <a:off x="4427640" y="3715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5435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5435640" y="407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 flipH="1">
            <a:off x="7019640" y="407664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6"/>
          <p:cNvSpPr/>
          <p:nvPr/>
        </p:nvSpPr>
        <p:spPr>
          <a:xfrm flipV="1">
            <a:off x="6588000" y="3141720"/>
            <a:ext cx="1368720" cy="5745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 flipV="1">
            <a:off x="5003640" y="4149360"/>
            <a:ext cx="142920" cy="43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485928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47"/>
          <p:cNvSpPr/>
          <p:nvPr/>
        </p:nvSpPr>
        <p:spPr>
          <a:xfrm rot="10647600">
            <a:off x="4857120" y="3715560"/>
            <a:ext cx="554040" cy="360360"/>
          </a:xfrm>
          <a:custGeom>
            <a:avLst/>
            <a:gdLst>
              <a:gd name="textAreaLeft" fmla="*/ 0 w 554040"/>
              <a:gd name="textAreaRight" fmla="*/ 554400 w 554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3719" h="21600">
                <a:moveTo>
                  <a:pt x="0" y="104"/>
                </a:moveTo>
                <a:cubicBezTo>
                  <a:pt x="704" y="34"/>
                  <a:pt x="1411" y="-1"/>
                  <a:pt x="2119" y="0"/>
                </a:cubicBezTo>
                <a:cubicBezTo>
                  <a:pt x="14048" y="0"/>
                  <a:pt x="23719" y="9670"/>
                  <a:pt x="23719" y="21600"/>
                </a:cubicBezTo>
              </a:path>
              <a:path stroke="0" w="23719" h="21600">
                <a:moveTo>
                  <a:pt x="0" y="104"/>
                </a:moveTo>
                <a:cubicBezTo>
                  <a:pt x="704" y="34"/>
                  <a:pt x="1411" y="-1"/>
                  <a:pt x="2119" y="0"/>
                </a:cubicBezTo>
                <a:cubicBezTo>
                  <a:pt x="14048" y="0"/>
                  <a:pt x="23719" y="9670"/>
                  <a:pt x="23719" y="21600"/>
                </a:cubicBezTo>
                <a:lnTo>
                  <a:pt x="211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 flipH="1">
            <a:off x="1834920" y="5084640"/>
            <a:ext cx="360360" cy="1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49"/>
          <p:cNvSpPr/>
          <p:nvPr/>
        </p:nvSpPr>
        <p:spPr>
          <a:xfrm>
            <a:off x="1619280" y="515772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fill="none" w="20163" h="18747">
                <a:moveTo>
                  <a:pt x="10728" y="0"/>
                </a:moveTo>
                <a:cubicBezTo>
                  <a:pt x="15046" y="2470"/>
                  <a:pt x="18378" y="6356"/>
                  <a:pt x="20162" y="11000"/>
                </a:cubicBezTo>
              </a:path>
              <a:path stroke="0" w="20163" h="18747">
                <a:moveTo>
                  <a:pt x="10728" y="0"/>
                </a:moveTo>
                <a:cubicBezTo>
                  <a:pt x="15046" y="2470"/>
                  <a:pt x="18378" y="6356"/>
                  <a:pt x="20162" y="11000"/>
                </a:cubicBezTo>
                <a:lnTo>
                  <a:pt x="0" y="187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>
            <a:off x="1619280" y="443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كتسا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2"/>
          <p:cNvSpPr/>
          <p:nvPr/>
        </p:nvSpPr>
        <p:spPr>
          <a:xfrm>
            <a:off x="2195640" y="4724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ميل التع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4211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نطف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7164360" y="378936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ستعادة</a:t>
            </a:r>
            <a:r>
              <a:rPr b="0" lang="ar-SA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تلق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>
            <a:off x="6804000" y="263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حد الاقصى للتع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543564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ر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565164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ر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363528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تو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313200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(تسط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4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8AC-AB4C-4031-AB73-D81B6A008A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شرح لك درجة النمو في اكتساب السلوك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quisition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مقدار التعلم نسبة الى عدد المحاولات  قد يختلف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ذا كان ثابتا يعطينا  انطباعا بزيادة عدد المحاولات فانه يمكن اكتسابه بصورة ثاب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ذا كان ميل متزايد ويكون ذلك عندما لايكون هناك معرفه او خبرة بالشئ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ذا كان منحنى التعلم متناقصا يعني انه بالرغم من الزيادة الكبيرة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في عدد محاولات التعلم هناك بطء  في التعلم ويظهر ذلك </a:t>
            </a:r>
            <a:r>
              <a:rPr b="1" lang="ar-SA" sz="24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ذا كان السلوك محل التعلم مملا وروتينيا مثل اللاعمال الادارية والتجارية العاد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9993-19CF-4C8D-802B-45DD581E6C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وقف التعلم وتسطح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قد يكون ذلك بسبب التعب والارهاق او لم يهضم المعلومات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و ان عملية التعلم قد اصبحت م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9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طفاء واضعاف ا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دم وجود مدعمات تعزز من ظهور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الاستعادة التلقائ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قد يحتاج الفرد لفترة راحة وينتج عن ذلك زيادة  مفاجئة في مقدار التعل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لحد الاقصى ل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فرق بين السلوك المتعلم عند بداية  محاولات التعلم ومقدار السلو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متعلم بعد انتهاء محاولات ال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FB99-511F-4B28-97AE-B2D66484E2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كيف يمكن اكتساب السلوك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بعض النظريات الشائعة في الت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ولا: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علم الشرطي التقليدي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classical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بحاث بافلوف في اوائل القرن العشرين (الكلب والط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ثير طبيعي            استجابه طبيعية لاار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ثير محايد  ينقلب الى مثير شرط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6732720" y="2492280"/>
            <a:ext cx="7207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692360" y="3284640"/>
            <a:ext cx="5832360" cy="2808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مثير اصلي                 استج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المثير المحايد لم يقدم بع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مثير اصلي                      استج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تقديم المثير المحايد متلازما مع المثير الاصلي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عدم تقديم المثير الاصلي                نفس استجابة المثير الاص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تقديم المثير المحاي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3924360" y="3645000"/>
            <a:ext cx="792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3924360" y="4508640"/>
            <a:ext cx="792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4284720" y="5445000"/>
            <a:ext cx="7207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FDB0-92BF-4561-A20E-AC6BAC6744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15920"/>
            <a:ext cx="8496360" cy="60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نيا:التعلم الشرطي الوسيلي</a:t>
            </a:r>
            <a:r>
              <a:rPr b="1" lang="ar-SA" sz="3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operant conditioning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دخال ارادة الفرد ووجدانه وعملياته الفكرية والعق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 كوسيط بين المثير والاستجابة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حيث ان الفرد بعد تعرضه لمثيرات ومؤثرات بيئية فانه يفكر ويدرك العلاقات الموجود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هذه المثيرات ثم يسلككسلوك معين للحصول على عوائد ذات قيمة ونفع ذاتي له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3BF-2361-41E4-BEA8-7797A9B2DF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”نحن نتعلم من العوائد الناجمة من السلوك الذي نقوم به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619280" y="1844640"/>
            <a:ext cx="5977080" cy="36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 مثير                    استجابة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مثير                     استجابة  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 مثير                     استجابة    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4932000" y="2421000"/>
            <a:ext cx="1079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2842920" y="2421000"/>
            <a:ext cx="8650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5363640" y="3429000"/>
            <a:ext cx="100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700000" y="3429000"/>
            <a:ext cx="863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2627280" y="3573360"/>
            <a:ext cx="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916360" y="3933720"/>
            <a:ext cx="30970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6372360" y="3573000"/>
            <a:ext cx="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5292720" y="4724280"/>
            <a:ext cx="1008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>
            <a:off x="2700000" y="4724280"/>
            <a:ext cx="934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2556000" y="4869000"/>
            <a:ext cx="0" cy="288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2771640" y="5157720"/>
            <a:ext cx="100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 flipV="1">
            <a:off x="3995640" y="4797000"/>
            <a:ext cx="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78800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ارادة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248436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هي وس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2268360" y="256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للحصول 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399564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مثـ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556000" y="4724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مع التلازم تؤد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2700360" y="5157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  تلقائيا ا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رقم الشريحة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BAF6-A128-4E7A-A0B2-0F0E741F96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2-04T20:38:12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CDEE69-737E-4620-9126-887DE4B42B32</vt:lpwstr>
  </property>
  <property fmtid="{D5CDD505-2E9C-101B-9397-08002B2CF9AE}" pid="3" name="ArticulatePath">
    <vt:lpwstr>الفصل الثالث- التعلم</vt:lpwstr>
  </property>
</Properties>
</file>