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17515-C012-49F5-ACCA-8D834628C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BB081-44E4-47BF-A986-0937DEDDC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194DA-140D-402D-B2B7-305D5460D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43D75-C31F-4567-9DBA-D9B7F6FF4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F3E64C-265D-4342-B1A3-D97009AFE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529488A-97EE-44E3-B207-B034F9274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2116FE6-0F93-493E-B98B-79F5C8B9F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C2E0ED4-A047-435F-8426-71944BCDF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56A77F-4350-43D7-9AA7-45B026C2A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C7C312-4E17-4FA5-96A2-96DDF36FF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08439F-2677-4167-B690-6457F6D6A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63532-E8DB-4541-BCD2-966AE505F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135C94-87A6-4091-BA79-BC02A19B4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03BA8D-B307-4F45-B5D6-5AB1D6197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9716FC-8EE4-44B4-93AF-364E0271A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F7FC7CE-1763-470E-B83B-E5D10B3CB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071B215-FA82-400A-B013-54DD41AE9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17DD4-38DC-44D0-A12D-4EF075926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390CE-8D31-42D4-B530-53FE8555A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9FAC2-D2DE-4F9D-A4A4-708A7B8A3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57EB3-7BB7-40E4-A5B2-61F3134C7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BBB5B-2B54-40BC-A758-D2C9C2C05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71BC5-2238-42FF-8D2D-D7E42E7D1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5804-4434-49CD-82EC-D86077A2F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0F10-EC9F-4E70-84E8-6E311401671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1004-A7AD-48ED-991D-D42E31A7424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Arial"/>
              </a:rPr>
              <a:t>الفصل الثالث:النظام المحاسبي عناصرة وكيفية إستخدامة</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وف يتم التركيزعلى النقاط التالية:</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الإلمام بالخطوة الأخيرة من الدورة المحاسبية</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داد قائمة المركزالمالي وتعريف عناصرها.</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فهوم رأس المال العامل.</a:t>
            </a:r>
            <a:endParaRPr b="0" lang="en-US" sz="2400" spc="-1" strike="noStrike">
              <a:solidFill>
                <a:srgbClr val="ffffff"/>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ستخدام ورقة العمل (قائمة التسوية)لأغراض إعداد القوائم المالية بدون تسو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1283040"/>
            <a:ext cx="8964720" cy="4299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03597200"/>
              </a:tabLst>
            </a:pPr>
            <a:r>
              <a:rPr b="1" lang="ar-SA" sz="2800" spc="-1" strike="noStrike">
                <a:solidFill>
                  <a:srgbClr val="ffffff"/>
                </a:solidFill>
                <a:latin typeface="Arial"/>
              </a:rPr>
              <a:t>إعداد التقارير المالية:</a:t>
            </a:r>
            <a:endParaRPr b="0" lang="en-US" sz="2800" spc="-1" strike="noStrike">
              <a:solidFill>
                <a:srgbClr val="ffffff"/>
              </a:solidFill>
              <a:latin typeface="Arial"/>
            </a:endParaRPr>
          </a:p>
          <a:p>
            <a:pPr algn="r" rtl="1">
              <a:tabLst>
                <a:tab algn="l" pos="0"/>
                <a:tab algn="l" pos="103597200"/>
              </a:tabLst>
            </a:pPr>
            <a:r>
              <a:rPr b="0" lang="ar-SA" sz="1800" spc="-1" strike="noStrike">
                <a:solidFill>
                  <a:srgbClr val="ffffff"/>
                </a:solidFill>
                <a:latin typeface="Arial"/>
              </a:rPr>
              <a:t> </a:t>
            </a:r>
            <a:r>
              <a:rPr b="1" lang="ar-SA" sz="2400" spc="-1" strike="noStrike">
                <a:solidFill>
                  <a:srgbClr val="ffffff"/>
                </a:solidFill>
                <a:latin typeface="Arial"/>
              </a:rPr>
              <a:t>1</a:t>
            </a:r>
            <a:r>
              <a:rPr b="1" lang="ar-SA" sz="3200" spc="-1" strike="noStrike">
                <a:solidFill>
                  <a:srgbClr val="ffffff"/>
                </a:solidFill>
                <a:latin typeface="Arial"/>
              </a:rPr>
              <a:t>- قائمة المركز المالي:</a:t>
            </a:r>
            <a:endParaRPr b="0" lang="en-US" sz="32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هي قائمة أوتقرير يبين ما للمنشأة وما عليها في لحظة معينة أي تبين موجودات المنشأة وإلتزاماتها تجاة الغير وتبين حقوق ملاكها وتصنف المعلومات التي تظهر بها إلى أ- الأصول      ب-الخصوم       ج- حقوق الملاك </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وتصنف هذة المعلومات إلى تصنيف فرعي </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الأصول(الاصول المتداولة- الأصول الثابتة- الأصول الغير ملموسة)</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الخصوم(الخصوم المتداولة- الخصوم طويلة الأجل)</a:t>
            </a:r>
            <a:endParaRPr b="0" lang="en-US" sz="2400" spc="-1" strike="noStrike">
              <a:solidFill>
                <a:srgbClr val="ffffff"/>
              </a:solidFill>
              <a:latin typeface="Arial"/>
            </a:endParaRPr>
          </a:p>
          <a:p>
            <a:pPr algn="r" rtl="1">
              <a:tabLst>
                <a:tab algn="l" pos="0"/>
                <a:tab algn="l" pos="103597200"/>
              </a:tabLst>
            </a:pPr>
            <a:r>
              <a:rPr b="1" lang="ar-SA" sz="2400" spc="-1" strike="noStrike">
                <a:solidFill>
                  <a:srgbClr val="ff0000"/>
                </a:solidFill>
                <a:latin typeface="Arial"/>
              </a:rPr>
              <a:t>حقوق الملاك(رأس المال- جاري المالك أوالشركاء)</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0" y="-303480"/>
            <a:ext cx="9144000" cy="7470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صول</a:t>
            </a:r>
            <a:endParaRPr b="0" lang="en-US" sz="28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الأصول المتداولة</a:t>
            </a:r>
            <a:r>
              <a:rPr b="0" lang="ar-SA" sz="2400" spc="-1" strike="noStrike">
                <a:solidFill>
                  <a:srgbClr val="ffffff"/>
                </a:solidFill>
                <a:latin typeface="Arial"/>
              </a:rPr>
              <a:t>: </a:t>
            </a:r>
            <a:r>
              <a:rPr b="0" lang="ar-SA" sz="2400" spc="-1" strike="noStrike">
                <a:solidFill>
                  <a:srgbClr val="ff0000"/>
                </a:solidFill>
                <a:latin typeface="Arial"/>
              </a:rPr>
              <a:t>عرفت في لجنة إجراءات المحاسبة التابعة لمجمع المحاسبين الأمريكيين بأنها النقدية أوالأصول الاخرى القابلة للتحول إلى نقدية أوالتى ستباع أو تستخدم في العملية الانتاجية خلال الدورة الإنتاجية أوالسنة المالية أيهم أطول </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اصر الأصول المتداولة</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1</a:t>
            </a:r>
            <a:r>
              <a:rPr b="1" lang="ar-SA" sz="2400" spc="-1" strike="noStrike">
                <a:solidFill>
                  <a:srgbClr val="78dede"/>
                </a:solidFill>
                <a:latin typeface="Arial"/>
              </a:rPr>
              <a:t>-النقدية ومافي حكمها:هي عبارة عن الصندوق أوالبنك العملات وغيرها مما يعتبر عرفا نقود.</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2</a:t>
            </a:r>
            <a:r>
              <a:rPr b="1" lang="ar-SA" sz="2400" spc="-1" strike="noStrike">
                <a:solidFill>
                  <a:srgbClr val="78dede"/>
                </a:solidFill>
                <a:latin typeface="Arial"/>
              </a:rPr>
              <a:t>-المخزون السلعي من البضائع.</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3</a:t>
            </a:r>
            <a:r>
              <a:rPr b="1" lang="ar-SA" sz="2400" spc="-1" strike="noStrike">
                <a:solidFill>
                  <a:srgbClr val="78dede"/>
                </a:solidFill>
                <a:latin typeface="Arial"/>
              </a:rPr>
              <a:t>-المدينون التجاريين والمينون الأخرين من موظفين وغيرهم مادام أن التحصيل سيتم خلال السنة أوخلال الدورة الإنتاجية أيهما أطول ويدخل ضمن المدينين أوراق القبض (الكمبيالات) وأي وعد بالدفع.</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4</a:t>
            </a:r>
            <a:r>
              <a:rPr b="1" lang="ar-SA" sz="2400" spc="-1" strike="noStrike">
                <a:solidFill>
                  <a:srgbClr val="78dede"/>
                </a:solidFill>
                <a:latin typeface="Arial"/>
              </a:rPr>
              <a:t>- الإستثمارات في الأسهم والسندات القابلة للبيع في أي لحظة مادام أن الإستثمار لإغراض تجارية</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5</a:t>
            </a:r>
            <a:r>
              <a:rPr b="1" lang="ar-SA" sz="2400" spc="-1" strike="noStrike">
                <a:solidFill>
                  <a:srgbClr val="78dede"/>
                </a:solidFill>
                <a:latin typeface="Arial"/>
              </a:rPr>
              <a:t>- مصاريف مدفوعة مقدما :إذا كان مقابل الخدمة سيتم الإستفادة منها خلال الدورة الأنتاجية أو الفترة المحاسبية أيهما أطول.</a:t>
            </a:r>
            <a:endParaRPr b="0" lang="en-US" sz="2400" spc="-1" strike="noStrike">
              <a:solidFill>
                <a:srgbClr val="ffffff"/>
              </a:solidFill>
              <a:latin typeface="Arial"/>
            </a:endParaRPr>
          </a:p>
          <a:p>
            <a:pPr algn="r" rtl="1">
              <a:tabLst>
                <a:tab algn="l" pos="0"/>
                <a:tab algn="l" pos="11080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8dede"/>
                </a:solidFill>
                <a:latin typeface="Arial"/>
              </a:rPr>
              <a:t>6</a:t>
            </a:r>
            <a:r>
              <a:rPr b="1" lang="ar-SA" sz="2400" spc="-1" strike="noStrike">
                <a:solidFill>
                  <a:srgbClr val="78dede"/>
                </a:solidFill>
                <a:latin typeface="Arial"/>
              </a:rPr>
              <a:t>-الإيرادات المستحقة :المنشئة قدمت خدمة للعميل ولم يتم إستلام المقابل بع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0" y="155628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a:t>
            </a:r>
            <a:r>
              <a:rPr b="1" lang="ar-SA" sz="1800" spc="-1" strike="noStrike">
                <a:solidFill>
                  <a:srgbClr val="ffffff"/>
                </a:solidFill>
                <a:latin typeface="Arial"/>
              </a:rPr>
              <a:t>-</a:t>
            </a:r>
            <a:r>
              <a:rPr b="1" lang="ar-SA" sz="2400" spc="-1" strike="noStrike">
                <a:solidFill>
                  <a:srgbClr val="ffffff"/>
                </a:solidFill>
                <a:latin typeface="Arial"/>
              </a:rPr>
              <a:t>الأصول </a:t>
            </a:r>
            <a:r>
              <a:rPr b="1" lang="ar-SA" sz="2400" spc="-1" strike="noStrike">
                <a:solidFill>
                  <a:srgbClr val="ff0000"/>
                </a:solidFill>
                <a:latin typeface="Arial"/>
              </a:rPr>
              <a:t>الثابتة:</a:t>
            </a:r>
            <a:r>
              <a:rPr b="0" lang="ar-SA" sz="2400" spc="-1" strike="noStrike">
                <a:solidFill>
                  <a:srgbClr val="ff0000"/>
                </a:solidFill>
                <a:latin typeface="Arial"/>
              </a:rPr>
              <a:t>هي ماحازتة المنشأة من مباني وأراضي ومعدات وتجهيزات لإستخدامها في الإنتاج أو لتسهيل أمور العمليات التجارية وعادة ماتوزع تكلفة هذة الأصول على السنوات أوالفترات الإنتاجية التي أستخدمت فيها وهذا مايعرف بالإستهلا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أصول الغير ملموسة</a:t>
            </a:r>
            <a:r>
              <a:rPr b="1" lang="ar-SA" sz="2400" spc="-1" strike="noStrike">
                <a:solidFill>
                  <a:srgbClr val="ff0000"/>
                </a:solidFill>
                <a:latin typeface="Arial"/>
              </a:rPr>
              <a:t>:</a:t>
            </a:r>
            <a:r>
              <a:rPr b="0" lang="ar-SA" sz="2400" spc="-1" strike="noStrike">
                <a:solidFill>
                  <a:srgbClr val="ff0000"/>
                </a:solidFill>
                <a:latin typeface="Arial"/>
              </a:rPr>
              <a:t>هي عادة قيمة مادفعتة المنشأة أو إلتزمت بدفعة لتحصل منفعة ليس لها وجود مادي مثل حقوق الإمتياز أوالتأليف أو الإختراع ومصاريف البحث والتطوير أو الشهرة وغيرها وتوزع تكلفتها على الفترات المحاسبية التي أستخدمت فيها أو إستفادت منها بطريقة تسمى الإستنفاذ أو الإستنزاف.</a:t>
            </a:r>
            <a:r>
              <a:rPr b="0" lang="en-US" sz="2400" spc="-1" strike="noStrike">
                <a:solidFill>
                  <a:srgbClr val="ff00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0" y="397440"/>
            <a:ext cx="9144000" cy="6067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خصوم</a:t>
            </a:r>
            <a:endParaRPr b="0" lang="en-US" sz="32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خصوم متداولة</a:t>
            </a:r>
            <a:r>
              <a:rPr b="1" lang="ar-SA" sz="2400" spc="-1" strike="noStrike">
                <a:solidFill>
                  <a:srgbClr val="ff0000"/>
                </a:solidFill>
                <a:latin typeface="Arial"/>
              </a:rPr>
              <a:t>(خصوم قصيرة الأجل):</a:t>
            </a:r>
            <a:r>
              <a:rPr b="0" lang="ar-SA" sz="2400" spc="-1" strike="noStrike">
                <a:solidFill>
                  <a:srgbClr val="ff0000"/>
                </a:solidFill>
                <a:latin typeface="Arial"/>
              </a:rPr>
              <a:t>هي ماعلى المنشأة من إلتزامات يلزم سدادها خلال سنة مثال الدائنين –أوراق الدفع –الزكاة والضريبة الواجب دفعها –مستحقات العمال –أرباح معلن عن توزيعها – إيرادات مدفوعة مقدما –مصاريف مستحق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d2af"/>
                </a:solidFill>
                <a:latin typeface="Arial"/>
              </a:rPr>
              <a:t>رأس المال العامل = الأصول المتداولة  ــــــــ  الخصوم المتداول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SA" sz="2400" spc="-1" strike="noStrike">
                <a:solidFill>
                  <a:srgbClr val="ff0000"/>
                </a:solidFill>
                <a:latin typeface="Arial"/>
              </a:rPr>
              <a:t>يهم قراء القوائم المالية المستفيدين لانة يحدد ما تبقى من الاصول المتداولة ويمكن إستخدامة لتسديد الإلتزامات قصيرة الاجل الجديدة.</a:t>
            </a: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1211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خصوم طويلة </a:t>
            </a:r>
            <a:r>
              <a:rPr b="1" lang="ar-SA" sz="2400" spc="-1" strike="noStrike">
                <a:solidFill>
                  <a:srgbClr val="ff0000"/>
                </a:solidFill>
                <a:latin typeface="Arial"/>
              </a:rPr>
              <a:t>الأجل:</a:t>
            </a:r>
            <a:r>
              <a:rPr b="0" lang="ar-SA" sz="2400" spc="-1" strike="noStrike">
                <a:solidFill>
                  <a:srgbClr val="ff0000"/>
                </a:solidFill>
                <a:latin typeface="Arial"/>
              </a:rPr>
              <a:t>هي مايجب على المنشأة دفعة للغير بعد مدة تزيد عن سنة مثال قروض طويلة الأجل-قروض التنمية- سندات طويلة الأجل.وأي جزء يستحق من الخصوم طويلة الأجل سوف يسدد خلال سنة أو أقل يظهر</a:t>
            </a:r>
            <a:r>
              <a:rPr b="0" lang="ar-SA" sz="1800" spc="-1" strike="noStrike">
                <a:solidFill>
                  <a:srgbClr val="ff0000"/>
                </a:solidFill>
                <a:latin typeface="Arial"/>
              </a:rPr>
              <a:t> ضمن الخصوم قصيرة الأجل.</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0" y="1309680"/>
            <a:ext cx="9144000" cy="4239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حقوق الملاك</a:t>
            </a:r>
            <a:endParaRPr b="0" lang="en-US" sz="32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وق الملاك</a:t>
            </a:r>
            <a:r>
              <a:rPr b="1" lang="ar-SA" sz="2400" spc="-1" strike="noStrike">
                <a:solidFill>
                  <a:srgbClr val="ff0000"/>
                </a:solidFill>
                <a:latin typeface="Arial"/>
              </a:rPr>
              <a:t>:</a:t>
            </a:r>
            <a:r>
              <a:rPr b="0" lang="ar-SA" sz="2400" spc="-1" strike="noStrike">
                <a:solidFill>
                  <a:srgbClr val="ff0000"/>
                </a:solidFill>
                <a:latin typeface="Arial"/>
              </a:rPr>
              <a:t>مايملكة صاحب المنشأة من أموال في المنشأة مهما كان شكلها القانوني </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3416"/>
                </a:solidFill>
                <a:latin typeface="Arial"/>
              </a:rPr>
              <a:t>حقوق الملكية= إجمالي الأصول-</a:t>
            </a:r>
            <a:r>
              <a:rPr b="0" lang="ar-SA" sz="2400" spc="-1" strike="noStrike">
                <a:solidFill>
                  <a:srgbClr val="463416"/>
                </a:solidFill>
                <a:latin typeface="Arial"/>
              </a:rPr>
              <a:t> </a:t>
            </a:r>
            <a:r>
              <a:rPr b="1" lang="ar-SA" sz="2400" spc="-1" strike="noStrike">
                <a:solidFill>
                  <a:srgbClr val="463416"/>
                </a:solidFill>
                <a:latin typeface="Arial"/>
              </a:rPr>
              <a:t>إجمالي الخصوم</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نقسم حقوق الملاك إلى رأس المال وجاري المالك</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رأس المال</a:t>
            </a:r>
            <a:r>
              <a:rPr b="0" lang="ar-SA" sz="2400" spc="-1" strike="noStrike">
                <a:solidFill>
                  <a:srgbClr val="ff0000"/>
                </a:solidFill>
                <a:latin typeface="Arial"/>
              </a:rPr>
              <a:t>:هو ما خصصة المالك من أموالة الخاصة للإستثمار في هذة المنشأة سواء كان ذلك في وقت تأسيس المنشأة أو في وقت لاحق وسواء كان ذلك من الأرباح التي تحققت للمنشأة أو من مصادر أخرى .</a:t>
            </a:r>
            <a:endParaRPr b="0" lang="en-US" sz="2400" spc="-1" strike="noStrike">
              <a:solidFill>
                <a:srgbClr val="ffffff"/>
              </a:solidFill>
              <a:latin typeface="Arial"/>
            </a:endParaRPr>
          </a:p>
          <a:p>
            <a:pPr algn="r" rtl="1">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جاري المالك</a:t>
            </a:r>
            <a:r>
              <a:rPr b="0" lang="ar-SA" sz="2400" spc="-1" strike="noStrike">
                <a:solidFill>
                  <a:srgbClr val="ff0000"/>
                </a:solidFill>
                <a:latin typeface="Arial"/>
              </a:rPr>
              <a:t>:هو حساب ينظم العلاقة بين صاحب المنشأة والمنشأة نفسها ويكون هذا الحساب مدين إذا سحب منه صاحب المنشأة لمصروفاتة الخاصة ويكون دائن إذا أودع</a:t>
            </a:r>
            <a:r>
              <a:rPr b="0" lang="ar-SA" sz="1800" spc="-1" strike="noStrike">
                <a:solidFill>
                  <a:srgbClr val="ff0000"/>
                </a:solidFill>
                <a:latin typeface="Arial"/>
              </a:rPr>
              <a:t> به من ماله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0" y="1200240"/>
            <a:ext cx="9144000" cy="4483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a:t>
            </a:r>
            <a:r>
              <a:rPr b="1" lang="ar-SA" sz="2400" spc="-1" strike="noStrike">
                <a:solidFill>
                  <a:srgbClr val="ffffff"/>
                </a:solidFill>
                <a:latin typeface="Arial"/>
              </a:rPr>
              <a:t>قائمة الدخل:</a:t>
            </a:r>
            <a:r>
              <a:rPr b="0" lang="ar-SA" sz="2400" spc="-1" strike="noStrike">
                <a:solidFill>
                  <a:srgbClr val="ff0000"/>
                </a:solidFill>
                <a:latin typeface="Arial"/>
              </a:rPr>
              <a:t>هي</a:t>
            </a:r>
            <a:r>
              <a:rPr b="0" lang="ar-SA" sz="2400" spc="-1" strike="noStrike">
                <a:solidFill>
                  <a:srgbClr val="ffffff"/>
                </a:solidFill>
                <a:latin typeface="Arial"/>
              </a:rPr>
              <a:t> </a:t>
            </a:r>
            <a:r>
              <a:rPr b="0" lang="ar-SA" sz="2400" spc="-1" strike="noStrike">
                <a:solidFill>
                  <a:srgbClr val="ff0000"/>
                </a:solidFill>
                <a:latin typeface="Arial"/>
              </a:rPr>
              <a:t>قائمة أو كشف أو تقرير يظهر نتيجة أعمال المنشأة خلال فترة معينة وتصنف العلومات التي تظهر بها إلى </a:t>
            </a:r>
            <a:r>
              <a:rPr b="1" lang="ar-SA" sz="2400" spc="-1" strike="noStrike">
                <a:solidFill>
                  <a:srgbClr val="ff0000"/>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الإيرادات</a:t>
            </a: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وهي كل زيادة في أصول المنشأة أو نقص خصومها نتج من غير إستدانة أو إستثمار مال جديد من قبل صاحب المنشأة مثال (إيراد محقق عند تقديم الخدمة-بيع بضاع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المصروف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هي كل نقص في أصول المنشأة أو زيادة في خصومها دون تسديد دين أوإعادة إستثمار لمالك المنشأة مثال(مصاريف رواتب الموظفين-مصاريف الإيجار-مصاريف الكهرباء).</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0" y="1922040"/>
            <a:ext cx="9144000" cy="3018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رقة إعداد القوائم المالية</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ستخدم ورقة العمل لتسهيل عملية إعداد التقارير المحاسبية حيث يمكن تتبع الأخطاء التي حدثت وعمل التسويات الازمة على ميزان المراجعة قبل إعداد التقارير المالي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37:46Z</dcterms:created>
  <dc:creator>User</dc:creator>
  <dc:description/>
  <dc:language>en-US</dc:language>
  <cp:lastModifiedBy>user</cp:lastModifiedBy>
  <dcterms:modified xsi:type="dcterms:W3CDTF">2015-02-16T08:45:17Z</dcterms:modified>
  <cp:revision>18</cp:revision>
  <dc:subject/>
  <dc:title>الفصل الثالث:النظام المحاسبي عناصرة وكيفية إستخدامة</dc:title>
</cp:coreProperties>
</file>