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D087-17D7-460B-8A21-337B10E10B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400" cy="3086280"/>
          </a:xfrm>
          <a:prstGeom prst="rect">
            <a:avLst/>
          </a:prstGeom>
          <a:ln w="0">
            <a:noFill/>
          </a:ln>
        </p:spPr>
      </p:sp>
      <p:sp>
        <p:nvSpPr>
          <p:cNvPr id="1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0C5C-7D27-4ED1-A906-2C5DBFC5C7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400" cy="3086280"/>
          </a:xfrm>
          <a:prstGeom prst="rect">
            <a:avLst/>
          </a:prstGeom>
          <a:ln w="0">
            <a:noFill/>
          </a:ln>
        </p:spPr>
      </p:sp>
      <p:sp>
        <p:nvSpPr>
          <p:cNvPr id="1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1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0790-B4FF-4D8E-829C-81051C2A29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400" cy="3086280"/>
          </a:xfrm>
          <a:prstGeom prst="rect">
            <a:avLst/>
          </a:prstGeom>
          <a:ln w="0">
            <a:noFill/>
          </a:ln>
        </p:spPr>
      </p:sp>
      <p:sp>
        <p:nvSpPr>
          <p:cNvPr id="115" name="PlaceHolder 2"/>
          <p:cNvSpPr>
            <a:spLocks noGrp="1"/>
          </p:cNvSpPr>
          <p:nvPr>
            <p:ph type="body"/>
          </p:nvPr>
        </p:nvSpPr>
        <p:spPr>
          <a:xfrm>
            <a:off x="685800" y="4400280"/>
            <a:ext cx="5486400" cy="3600360"/>
          </a:xfrm>
          <a:prstGeom prst="rect">
            <a:avLst/>
          </a:prstGeom>
          <a:noFill/>
          <a:ln w="0">
            <a:noFill/>
          </a:ln>
        </p:spPr>
        <p:txBody>
          <a:bodyPr anchor="t">
            <a:noAutofit/>
          </a:bodyPr>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83A4-5917-4D96-8BC0-CE453900A4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11AD2-DB6E-45EE-89D6-9C0229732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EEFF-208F-43F4-A331-016CB5A22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F35E7-5616-4648-AD44-A8A5CB569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41337-09DB-4002-9FBD-7626CF8CB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80E4-AB8B-4C00-9E59-4954A12D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AB37-79F3-47F5-A2C3-6391354F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D9B15-4AB4-4EBF-A10A-0F0CCD1E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C03E6-D4FD-4968-96CD-F21B0817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5EE7-E35C-461C-904D-1350D5ED7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D6E1-9E56-4801-BFD1-884739CD9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C0FF-EA27-4F13-8197-1F71E98C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178F-5EFA-4384-A915-5EBD113B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03CF-43B0-4511-A91A-02256C20883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39560" y="192564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Calibri Light"/>
                <a:cs typeface="Times New Roman"/>
              </a:rPr>
              <a:t>انشاء وتنظيم عمل قسم المراجعة</a:t>
            </a:r>
            <a:br>
              <a:rPr sz="5400"/>
            </a:br>
            <a:r>
              <a:rPr b="0" lang="ar-SA" sz="5400" spc="-1" strike="noStrike">
                <a:solidFill>
                  <a:srgbClr val="000000"/>
                </a:solidFill>
                <a:latin typeface="Calibri Light"/>
                <a:cs typeface="Times New Roman"/>
              </a:rPr>
              <a:t>الداخلية</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398240" y="3728520"/>
            <a:ext cx="9875880" cy="1752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صل الثالث</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أولى: معلومات عامة</a:t>
            </a:r>
            <a:endParaRPr b="0" lang="en-US" sz="36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تضمن هذه الفقرة الهدف والغاية من صياغة الميثاق بالإضافة إلى أي معلومات يرغب رئيس قسم المراجعة الداخلية  و أعلى سلطة ادارية وضعها مثل إجراءات تداول الميثاق وإشارة إلى ملكيته لقسم المراجع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ثانية: الجهة التي تعمل بها قسم المراجعة الداخلية </a:t>
            </a:r>
            <a:endParaRPr b="0" lang="en-US" sz="3600" spc="-1" strike="noStrike">
              <a:solidFill>
                <a:srgbClr val="000000"/>
              </a:solidFill>
              <a:latin typeface="Calibri Light"/>
            </a:endParaRPr>
          </a:p>
        </p:txBody>
      </p:sp>
      <p:sp>
        <p:nvSpPr>
          <p:cNvPr id="69"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قدم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قسم المراجعة من حيث تاريخ إنشائها والتطورات التي حدثت فيها</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ورسالة الجه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a:t>
            </a:r>
            <a:r>
              <a:rPr b="0" lang="ar-SA" sz="2400" spc="-1" strike="noStrike">
                <a:solidFill>
                  <a:srgbClr val="ff0000"/>
                </a:solidFill>
                <a:latin typeface="Calibri"/>
                <a:ea typeface="Arial"/>
              </a:rPr>
              <a:t> </a:t>
            </a:r>
            <a:r>
              <a:rPr b="0" lang="ar-SA" sz="2400" spc="-1" strike="noStrike">
                <a:solidFill>
                  <a:srgbClr val="000000"/>
                </a:solidFill>
                <a:latin typeface="Calibri"/>
                <a:cs typeface="Arial"/>
              </a:rPr>
              <a:t>التي تنتمي إليها قسم المراجعة الداخلي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ثالثة: معلومات عن قسم المراجعة الداخلية</a:t>
            </a:r>
            <a:endParaRPr b="0" lang="en-US" sz="36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فهو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ضع التنظيمي لقس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ؤيا (الرسالة)الخاصة بقس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دف عام للقسم يكون جميع العاملين بالقسم على علم تام وقناعة تامة ب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سرية المعلومات المتداولة في القسم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ثال </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fontScale="95000"/>
          </a:bodyPr>
          <a:p>
            <a:pPr marL="217080" indent="-217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نموذ</a:t>
            </a:r>
            <a:r>
              <a:rPr b="1" lang="ar-SA" sz="2800" spc="-1" strike="noStrike">
                <a:solidFill>
                  <a:srgbClr val="000000"/>
                </a:solidFill>
                <a:latin typeface="Calibri"/>
                <a:cs typeface="Arial"/>
              </a:rPr>
              <a:t>ج عملي لرسالة قسم المراجعة الداخلية بإحدى المستشفيات</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تزويد الإدارة العليا بتقييمات شاملة وذات قيمة لكل التسهيلات الصحية بـ.....أسم الجهة.. والمشاريع والنشاطات لضمان جودة عالية ومتميزة في الرعاية الصحية والتي تقدم إلى كافة المرضى.</a:t>
            </a:r>
            <a:endParaRPr b="0" lang="en-US" sz="24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يمكن أن يتحقق بتشجيع فعالية الضوابط الداخلية من خلال فعالية التدقيق والوصول للهدف ومن خلال الإتباع والامتثال لقوانين وأنظمة البرنامج والضوابط الداخلية والاستخدام الاقتصادي والكفء للموارد البشرية"</a:t>
            </a:r>
            <a:endParaRPr b="0" lang="en-US" sz="2400" spc="-1" strike="noStrike">
              <a:solidFill>
                <a:srgbClr val="000000"/>
              </a:solidFill>
              <a:latin typeface="Calibri"/>
            </a:endParaRPr>
          </a:p>
          <a:p>
            <a:pPr marL="217080" indent="-217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a:t>
            </a:r>
            <a:r>
              <a:rPr b="1" lang="ar-SA" sz="2800" spc="-1" strike="noStrike">
                <a:solidFill>
                  <a:srgbClr val="000000"/>
                </a:solidFill>
                <a:latin typeface="Calibri"/>
                <a:cs typeface="Arial"/>
              </a:rPr>
              <a:t>لهدف المصاغ للقسم المراجعة التي سبق عرض رؤيتها:</a:t>
            </a:r>
            <a:endParaRPr b="0" lang="en-US" sz="28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عزيز القدرة على صنع القرار بتعريف المشاكل والسياسات لحماية موارد البرنامج من الخسارة أو سوء الاستخدام و/أو أي وجه من أوجه التقصير. وتعزيز الدقة والمصداقية في تدوين جميع التقارير المالية والتشغيلية لجميع بيانات التشغيل"</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a:t>
            </a:r>
            <a:r>
              <a:rPr b="0" lang="ar-SA" sz="2800" spc="-1" strike="noStrike">
                <a:solidFill>
                  <a:srgbClr val="000000"/>
                </a:solidFill>
                <a:latin typeface="Calibri"/>
                <a:cs typeface="Arial"/>
              </a:rPr>
              <a:t>يتضمن الميثاق فقرة مستقلة عن الإجراءات التي يجب اتباعها لإدارة قسم المراجعة الداخلية بشكل يضمن الحفاظ على مستوى جودة مقبول ويضمن الالتزام بباقي فقرات الميثاق.</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نعرض فيما يلي لأهم ما يجب أن يتضمنه ميثاق المراجعة الداخلية في هذا الخصوص وهو: </a:t>
            </a:r>
            <a:endParaRPr b="0" lang="en-US" sz="28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دريب و التعليم المستمر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ويم أداء العاملين بقسم المراجعة الداخلية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رقابة الجودة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قق من رضاء العميل</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وثيق و حفظ السجلات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أولا : التدريب :</a:t>
            </a:r>
            <a:endParaRPr b="0" lang="en-US" sz="2800" spc="-1" strike="noStrike">
              <a:solidFill>
                <a:srgbClr val="000000"/>
              </a:solidFill>
              <a:latin typeface="Calibri"/>
            </a:endParaRPr>
          </a:p>
          <a:p>
            <a:pPr lvl="1" marL="858960" indent="-45720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دريب على رأس العمل: </a:t>
            </a:r>
            <a:endParaRPr b="0" lang="en-US" sz="2400" spc="-1" strike="noStrike">
              <a:solidFill>
                <a:srgbClr val="000000"/>
              </a:solidFill>
              <a:latin typeface="Calibri"/>
            </a:endParaRPr>
          </a:p>
          <a:p>
            <a:pPr lvl="2" marL="933480" indent="-28584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عني الإستفادة من الخبرات التي يكتسبها المراجع الداخلي بنفسه أثناء تنفيذ عمله</a:t>
            </a:r>
            <a:endParaRPr b="0" lang="en-US" sz="2000" spc="-1" strike="noStrike">
              <a:solidFill>
                <a:srgbClr val="000000"/>
              </a:solidFill>
              <a:latin typeface="Calibri"/>
            </a:endParaRPr>
          </a:p>
          <a:p>
            <a:pPr lvl="1" marL="858960" indent="-45720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تدريب المخطط: </a:t>
            </a:r>
            <a:endParaRPr b="0" lang="en-US" sz="2400" spc="-1" strike="noStrike">
              <a:solidFill>
                <a:srgbClr val="000000"/>
              </a:solidFill>
              <a:latin typeface="Calibri"/>
            </a:endParaRPr>
          </a:p>
          <a:p>
            <a:pPr lvl="2" marL="933480" indent="-28584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يجب على الجهة وقسم المراجعة الداخلية  أن يلتزمان بتقديم دورات تدريب منتظمة للعاملين بقسم المراجعة الداخلية </a:t>
            </a:r>
            <a:endParaRPr b="0" lang="en-US" sz="2000" spc="-1" strike="noStrike">
              <a:solidFill>
                <a:srgbClr val="000000"/>
              </a:solidFill>
              <a:latin typeface="Calibri"/>
            </a:endParaRPr>
          </a:p>
          <a:p>
            <a:pPr lvl="3" marL="1343160" indent="-22860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 </a:t>
            </a:r>
            <a:br>
              <a:rPr sz="3600"/>
            </a:b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عليم المستمر والشهادات المهنية</a:t>
            </a:r>
            <a:endParaRPr b="0" lang="en-US" sz="2800" spc="-1" strike="noStrike">
              <a:solidFill>
                <a:srgbClr val="000000"/>
              </a:solidFill>
              <a:latin typeface="Calibri"/>
            </a:endParaRPr>
          </a:p>
        </p:txBody>
      </p:sp>
      <p:graphicFrame>
        <p:nvGraphicFramePr>
          <p:cNvPr id="80" name=""/>
          <p:cNvGraphicFramePr/>
          <p:nvPr/>
        </p:nvGraphicFramePr>
        <p:xfrm>
          <a:off x="1066680" y="2252520"/>
          <a:ext cx="10058400" cy="3687840"/>
        </p:xfrm>
        <a:graphic>
          <a:graphicData uri="http://schemas.openxmlformats.org/drawingml/2006/table">
            <a:tbl>
              <a:tblPr/>
              <a:tblGrid>
                <a:gridCol w="5029200"/>
                <a:gridCol w="5029200"/>
              </a:tblGrid>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Internal Audito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داخ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inancial Audito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ما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raud Examine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اختلاس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inancial Manage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دير ما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131364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Information System Auditor</a:t>
                      </a: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ertified IT Auditor</a:t>
                      </a: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أنظمة المعلومات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Public Accountant</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حاسب قانون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Management Accountant</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حاسب إداري مرخص .</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إدارة قسم المراجعة الداخلية </a:t>
            </a:r>
            <a:br>
              <a:rPr sz="3600"/>
            </a:br>
            <a:endParaRPr b="0" lang="en-US" sz="36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ثانيا : تقويم أداء العاملين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قسم المراجعة الداخلية نظام جيد لتقويم أداء العاملين بها وبصفة خاصة المراجعين الداخليين</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ماذا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صفة عامة يمكن استخدام نوعين مختلفين لعمليات تقويم أداء المراجعين الداخليين ، وهم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خاص بكل مهمة</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سنو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0130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Light"/>
                <a:cs typeface="Times New Roman"/>
              </a:rPr>
              <a:t>الفقرة الرابعة:إدارة قسم المراجعة الداخلية </a:t>
            </a:r>
            <a:br>
              <a:rPr sz="3200"/>
            </a:br>
            <a:endParaRPr b="0" lang="en-US" sz="3200" spc="-1" strike="noStrike">
              <a:solidFill>
                <a:srgbClr val="000000"/>
              </a:solidFill>
              <a:latin typeface="Calibri Light"/>
            </a:endParaRPr>
          </a:p>
        </p:txBody>
      </p:sp>
      <p:sp>
        <p:nvSpPr>
          <p:cNvPr id="84" name=""/>
          <p:cNvSpPr txBox="1"/>
          <p:nvPr/>
        </p:nvSpPr>
        <p:spPr>
          <a:xfrm>
            <a:off x="748800" y="1158840"/>
            <a:ext cx="10604520" cy="51595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قويم الخاص بكل مهم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قويم أداء المراجعين في نهاية كل مهمة يتم تنفيذها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مدير قسم المراجعة بإعداد هذا التقويم لكل أعضاء فرق مهمة المراجعة الداخلي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تصنيف الملاحظات بغرض تقويم أداء المراجعين الى:</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احظات الاستيفائية - الملاحظة النظامية - الملاحظات المالية </a:t>
            </a:r>
            <a:endParaRPr b="0" lang="en-US" sz="20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قويم السنوي: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خدم كأساس في أخذ القرارات الإدارية مثل الترقية، تقييم الراتب، والتوصيات بالتدريب، أو الإجراءات التصحيح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رتكز التقويم السنوي على تجميع نماذج التقويم الخاصة بالمهام والتي تم إعدادها طوال العام في نهاية كل مهمة</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6" name=""/>
          <p:cNvSpPr txBox="1"/>
          <p:nvPr/>
        </p:nvSpPr>
        <p:spPr>
          <a:xfrm>
            <a:off x="838080" y="1825560"/>
            <a:ext cx="10515600" cy="43401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ثالثا : رقابة الجود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مل مدير قسم المراجعة على ضمان الالتزام بمعايير المراجعة الداخلية والسياسات المرسومة لقسم المراجعة الداخلية وكذلك برامج المراجعة عن طريق عمليات تقويم  مستمرة لعمل القسم وسياساتها وبرامج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قوم بدور رقابة الجودة قسم مستقل داخل قسم المراجعة الداخلية تكون مهمته إدارة وضبط الجودة  عن طريق إنشاء ومتابعة برنامج ضبط الجودة وذلك لتقويم أداء المراجعة الداخلية في مختلف الأنشط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تم عملية رقابة الجودة عن طريق ما يلي:  </a:t>
            </a:r>
            <a:endParaRPr b="0" lang="en-US" sz="24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داخلي لقسم المراجعة الداخلية </a:t>
            </a:r>
            <a:endParaRPr b="0" lang="en-US" sz="20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خارجي لقسم المراجعة الداخل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أجندة</a:t>
            </a:r>
            <a:endParaRPr b="0" lang="en-US" sz="36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جراءات انشاء قسم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ظيم العمل بأقسام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عام لميثاق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سؤولية عن اكتشاف عمليات الغش والاحتيال</a:t>
            </a:r>
            <a:br>
              <a:rPr sz="2400"/>
            </a:br>
            <a:r>
              <a:rPr b="0" lang="ar-SA" sz="2400" spc="-1" strike="noStrike">
                <a:solidFill>
                  <a:srgbClr val="000000"/>
                </a:solidFill>
                <a:latin typeface="Calibri"/>
              </a:rPr>
              <a:t> </a:t>
            </a:r>
            <a:endParaRPr b="0" lang="en-US" sz="2400" spc="-1" strike="noStrike">
              <a:solidFill>
                <a:srgbClr val="000000"/>
              </a:solidFill>
              <a:latin typeface="Calibri"/>
            </a:endParaRPr>
          </a:p>
          <a:p>
            <a:pPr marL="365040" indent="-282600" algn="just">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marL="514440" indent="-514440" algn="r" rtl="1">
              <a:lnSpc>
                <a:spcPct val="90000"/>
              </a:lnSpc>
              <a:spcBef>
                <a:spcPts val="10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قويم الداخلي لقسم المراجعة الداخل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ميثاق المراجعة الداخلية ورفع تقرير لأعلى مستوى ادار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عمل التقويم الداخلي من خلال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جعة المستمر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ات الدورية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راجعة المستمر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راجعات الدور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و تقويم لمدى التزام المراجعين والمراجعة الداخلية بالميثاق الذي أعدته قسم المراجعة الداخلية ومعايير ممارسة المهن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3600" spc="-1" strike="noStrike">
                <a:solidFill>
                  <a:srgbClr val="525252"/>
                </a:solidFill>
                <a:latin typeface="Calibri Light"/>
                <a:ea typeface="Times New Roman"/>
              </a:rPr>
              <a:t> </a:t>
            </a:r>
            <a:endParaRPr b="0" lang="en-US" sz="3600" spc="-1" strike="noStrike">
              <a:solidFill>
                <a:srgbClr val="000000"/>
              </a:solidFill>
              <a:latin typeface="Calibri Light"/>
            </a:endParaRPr>
          </a:p>
        </p:txBody>
      </p:sp>
      <p:sp>
        <p:nvSpPr>
          <p:cNvPr id="92" name=""/>
          <p:cNvSpPr txBox="1"/>
          <p:nvPr/>
        </p:nvSpPr>
        <p:spPr>
          <a:xfrm>
            <a:off x="838080" y="1825200"/>
            <a:ext cx="10515600" cy="435132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قويم الخارجي لقسم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قسم المراجعة الداخلية من جانب جهة خارجية على فترات متباعدة مثلا مره كل خمس سنوات.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طاق خطة المراجع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جعة المهام التي تم إنجازها.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سياسات والإجراء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ودة ملفات المراجعة وأوراق العمل.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مليات الاتصال ورفع التقارير.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إدارة الموارد البشرية.</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دريب العاملين.</a:t>
            </a:r>
            <a:endParaRPr b="0" lang="en-US" sz="2000" spc="-1" strike="noStrike">
              <a:solidFill>
                <a:srgbClr val="000000"/>
              </a:solidFill>
              <a:latin typeface="Calibri"/>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4" name=""/>
          <p:cNvSpPr txBox="1"/>
          <p:nvPr/>
        </p:nvSpPr>
        <p:spPr>
          <a:xfrm>
            <a:off x="838080" y="1690560"/>
            <a:ext cx="10515600" cy="4486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رابعا : التحقق من رضاء العميل</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عبئته من قبل الإدارات التي يتم مراجعتها على أن تتم إعادته مباشرة إلى مدير قسم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تسجيل وتلخيص وحفظ الرد على الاستبانات في ملف أوراق عمل المهم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امسا : التوثيق وحفظ السجلات</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قسم المراجعة الداخلية على ضرورة التوثيق الكافي لكل إجراءات المراجعة بما يحقق وجود مستند يؤيد كل إجراء تم تنفيذه</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ميثاق الخاص بالمراجعة الداخلية توضيحا أو إرشادات لضوابط حفظ السجلات من قبل قسم المراجعة الداخلية</a:t>
            </a:r>
            <a:endParaRPr b="0" lang="en-US" sz="2400" spc="-1" strike="noStrike">
              <a:solidFill>
                <a:srgbClr val="000000"/>
              </a:solidFill>
              <a:latin typeface="Calibri"/>
            </a:endParaRPr>
          </a:p>
          <a:p>
            <a:pPr marL="228600" indent="-22860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تطلب التوثيق الجيد ما يلي: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غطية كافة أنشطة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أن تكون وثيقة الصلة بموضوع المراجع</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رقم وترتبط ببعضه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8" name=""/>
          <p:cNvSpPr txBox="1"/>
          <p:nvPr/>
        </p:nvSpPr>
        <p:spPr>
          <a:xfrm>
            <a:off x="838080" y="1825200"/>
            <a:ext cx="10515600" cy="4351320"/>
          </a:xfrm>
          <a:prstGeom prst="rect">
            <a:avLst/>
          </a:prstGeom>
          <a:noFill/>
          <a:ln w="0">
            <a:noFill/>
          </a:ln>
        </p:spPr>
        <p:txBody>
          <a:bodyPr anchor="t">
            <a:normAutofit fontScale="96000"/>
          </a:bodyPr>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مية التوثيق:</a:t>
            </a:r>
            <a:endParaRPr b="0" lang="en-US" sz="28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يثاق على التزام الإدارة بالمعايير وإجراءات العمل المعتمدة </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 </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طوط الإرشادية لعملية حفظ السجلات: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ثال : يتضمن الميثاق أنه لا من الاحتفاظ ب:</a:t>
            </a:r>
            <a:endParaRPr b="0" lang="en-US" sz="24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0" lang="ar-SA" sz="2000" spc="-1" strike="noStrike">
                <a:solidFill>
                  <a:srgbClr val="000000"/>
                </a:solidFill>
                <a:latin typeface="Calibri"/>
                <a:cs typeface="Arial"/>
              </a:rPr>
              <a:t>أوراق عمل المراجعة لمدة ثلاث سنوات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لفات المراجعة الدائمة خمس سنوات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تقارير المراجعة الداخلية مدة غير محددة</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فات المراجع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الأوراق المرتبطة بعملية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دفها توثيق العمل وتتبع تطوره في الاجل القصير والطويل، وتساعد هذه الملفات في حفظ الأوراق والمستندات بطريقة تسهل الرجوع إليها. كما أنها تفتح لكل مهمة أو عملية مراجع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نواع ملفات المراجعة</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قسم المراجعة الداخلية نوعين من الملفات هم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ف الدائم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ف الجاري</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لف الدائم:</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هيكل التنظيمي للقسم.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ظام الترخيص بالأعمال.</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لوائح والتعميم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وصف الوظيفي.</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خرائط وصف نظام الرقاب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دليل السياسات والإجراءات.</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يثاق المراجع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لخص نتائج المراجعة للمهام السابقة.</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ف المراجعة الجاري (ملف المهم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حتوي ملف مراجعة المهمة عادة على ما يلي</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مقدمة </a:t>
            </a:r>
            <a:endParaRPr b="0" lang="en-US" sz="36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ع مسئولية إنشاء قسم المراجعة الداخلية على عاتق أعلى سلطة ادار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شركة خاصه </a:t>
            </a:r>
            <a:r>
              <a:rPr b="0" lang="en-US" sz="2000" spc="-1" strike="noStrike">
                <a:solidFill>
                  <a:srgbClr val="000000"/>
                </a:solidFill>
                <a:latin typeface="Calibri"/>
                <a:ea typeface="Arial"/>
              </a:rPr>
              <a:t>vs</a:t>
            </a:r>
            <a:r>
              <a:rPr b="0" lang="en-US" sz="2000" spc="-1" strike="noStrike">
                <a:solidFill>
                  <a:srgbClr val="000000"/>
                </a:solidFill>
                <a:latin typeface="Calibri"/>
                <a:ea typeface="Arial"/>
              </a:rPr>
              <a:t>. </a:t>
            </a:r>
            <a:r>
              <a:rPr b="0" lang="ar-SA" sz="2000" spc="-1" strike="noStrike">
                <a:solidFill>
                  <a:srgbClr val="000000"/>
                </a:solidFill>
                <a:latin typeface="Calibri"/>
                <a:ea typeface="Arial"/>
              </a:rPr>
              <a:t> شركة عامه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طاع خاص </a:t>
            </a:r>
            <a:r>
              <a:rPr b="0" lang="en-US" sz="2000" spc="-1" strike="noStrike">
                <a:solidFill>
                  <a:srgbClr val="000000"/>
                </a:solidFill>
                <a:latin typeface="Calibri"/>
                <a:ea typeface="Arial"/>
              </a:rPr>
              <a:t>vs</a:t>
            </a:r>
            <a:r>
              <a:rPr b="0" lang="en-US" sz="2000" spc="-1" strike="noStrike">
                <a:solidFill>
                  <a:srgbClr val="000000"/>
                </a:solidFill>
                <a:latin typeface="Calibri"/>
                <a:ea typeface="Arial"/>
              </a:rPr>
              <a:t>.</a:t>
            </a:r>
            <a:r>
              <a:rPr b="0" lang="ar-SA" sz="2000" spc="-1" strike="noStrike">
                <a:solidFill>
                  <a:srgbClr val="000000"/>
                </a:solidFill>
                <a:latin typeface="Calibri"/>
                <a:ea typeface="Arial"/>
              </a:rPr>
              <a:t> قطاع عام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مسؤولية عن اكتشاف عمليات الغش والاحتيال</a:t>
            </a:r>
            <a:br>
              <a:rPr sz="3600"/>
            </a:br>
            <a:endParaRPr b="0" lang="en-US" sz="3600" spc="-1" strike="noStrike">
              <a:solidFill>
                <a:srgbClr val="000000"/>
              </a:solidFill>
              <a:latin typeface="Calibri Light"/>
            </a:endParaRPr>
          </a:p>
        </p:txBody>
      </p:sp>
      <p:sp>
        <p:nvSpPr>
          <p:cNvPr id="108" name=""/>
          <p:cNvSpPr txBox="1"/>
          <p:nvPr/>
        </p:nvSpPr>
        <p:spPr>
          <a:xfrm>
            <a:off x="838080" y="1825200"/>
            <a:ext cx="10515600" cy="4351320"/>
          </a:xfrm>
          <a:prstGeom prst="rect">
            <a:avLst/>
          </a:prstGeom>
          <a:noFill/>
          <a:ln w="0">
            <a:noFill/>
          </a:ln>
        </p:spPr>
        <p:txBody>
          <a:bodyPr anchor="t">
            <a:normAutofit/>
          </a:bodyPr>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كتشاف عمليات الغش والاحتيال والتلاعبات الأخرى لا يعتبر من مسؤوليات قسم المرجعة الداخلية. </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و هدف ثانوي يمكن الوصول إليه أثناء تنفيذ إجراءات المراجعة العادية ولكنه هام. </a:t>
            </a:r>
            <a:endParaRPr b="0" lang="en-US" sz="2000" spc="-1" strike="noStrike">
              <a:solidFill>
                <a:srgbClr val="000000"/>
              </a:solidFill>
              <a:latin typeface="Calibri"/>
            </a:endParaRPr>
          </a:p>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شك في ارتكاب عمليات غش أو احتيال أو تلاعبات أخرى، يجب على المراجع  أن :</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يخبر قائد فريق المراجعة و مدير قسم المراجعة الداخلية والذي يجب عليه أن يرفع الأمر إلى بدوره لاعلى هيكل اداري بالجهة لعمل اللازم </a:t>
            </a:r>
            <a:endParaRPr b="0" lang="en-US" sz="2000" spc="-1" strike="noStrike">
              <a:solidFill>
                <a:srgbClr val="000000"/>
              </a:solidFill>
              <a:latin typeface="Calibri"/>
            </a:endParaRPr>
          </a:p>
          <a:p>
            <a:pPr lvl="2" marL="1338120" indent="-282600" algn="just"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ا هو ؟ </a:t>
            </a:r>
            <a:endParaRPr b="0" lang="en-US" sz="1600" spc="-1" strike="noStrike">
              <a:solidFill>
                <a:srgbClr val="000000"/>
              </a:solidFill>
              <a:latin typeface="Calibri"/>
            </a:endParaRPr>
          </a:p>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منشأت قد يتضمن تنظيم قسم المراجعة الداخلية قسم خاص بمراجعة الحالات الخاصة التي تنطوى على عمليات غش أو احتيال أو تلاعبات أخرى</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صادر</a:t>
            </a:r>
            <a:r>
              <a:rPr b="0" lang="ar-SA" sz="4400" spc="-1" strike="noStrike">
                <a:solidFill>
                  <a:srgbClr val="3e5370"/>
                </a:solidFill>
                <a:latin typeface="Calibri Light"/>
                <a:ea typeface="Times New Roman"/>
              </a:rPr>
              <a:t> </a:t>
            </a:r>
            <a:endParaRPr b="0" lang="en-US" sz="4400" spc="-1" strike="noStrike">
              <a:solidFill>
                <a:srgbClr val="000000"/>
              </a:solidFill>
              <a:latin typeface="Calibri Light"/>
            </a:endParaRPr>
          </a:p>
        </p:txBody>
      </p:sp>
      <p:sp>
        <p:nvSpPr>
          <p:cNvPr id="110"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جمعية السعودية للمراجعين الداخلية</a:t>
            </a:r>
            <a:r>
              <a:rPr b="0" lang="en-US" sz="2800" spc="-1" strike="noStrike">
                <a:solidFill>
                  <a:srgbClr val="000000"/>
                </a:solidFill>
                <a:latin typeface="Calibri"/>
                <a:ea typeface="Majalla UI"/>
              </a:rPr>
              <a:t>IIA  Saudi</a:t>
            </a:r>
            <a:r>
              <a:rPr b="0" lang="en-US" sz="2800" spc="-1" strike="noStrike">
                <a:solidFill>
                  <a:srgbClr val="000000"/>
                </a:solidFill>
                <a:latin typeface="Calibri"/>
                <a:ea typeface="Majalla UI"/>
              </a:rPr>
              <a:t>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عروض الأستاذة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هية المراجعة الداخلية – نايف آل خليف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ساسيات التدقيق الداخلي- </a:t>
            </a:r>
            <a:r>
              <a:rPr b="0" lang="en-US" sz="2800" spc="-1" strike="noStrike">
                <a:solidFill>
                  <a:srgbClr val="000000"/>
                </a:solidFill>
                <a:latin typeface="Calibri"/>
              </a:rPr>
              <a:t>PRC</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98120" y="286920"/>
            <a:ext cx="9456840" cy="1428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إجراءات إنشاء قسم مراجعة داخلية</a:t>
            </a:r>
            <a:endParaRPr b="0" lang="en-US" sz="3600" spc="-1" strike="noStrike">
              <a:solidFill>
                <a:srgbClr val="000000"/>
              </a:solidFill>
              <a:latin typeface="Calibri Light"/>
            </a:endParaRPr>
          </a:p>
        </p:txBody>
      </p:sp>
      <p:sp>
        <p:nvSpPr>
          <p:cNvPr id="55" name=""/>
          <p:cNvSpPr txBox="1"/>
          <p:nvPr/>
        </p:nvSpPr>
        <p:spPr>
          <a:xfrm>
            <a:off x="1211400" y="1906200"/>
            <a:ext cx="9943920" cy="396252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ختيار مدير 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موقع التنظيمي ل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صيص مكان ل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ختيار الأفراد المؤهلين للعمل بقسم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مؤهلات</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خبرة العمل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صفات الشخص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تنظيم العمل بأقسام المراجعة الداخلية</a:t>
            </a:r>
            <a:endParaRPr b="0" lang="en-US" sz="36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ظيم العمل بأقسام المراجعة الداخلية يعتبر من المسئوليات الأساسية لرئيس قسم المراجعة الداخلية </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يشمل تنظيم العمل بأقسام المراجعة الداخلية ما يلي:</a:t>
            </a:r>
            <a:endParaRPr b="0" lang="en-US" sz="24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ريف المراجعين الداخلين بمهام قسم المراجعة الداخلية</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رتب الوظيفية داخل قسم المراجعة الداخلية</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أقسام أو الإدارات داخل قسم المراجعة الداخلية</a:t>
            </a:r>
            <a:endParaRPr b="0" lang="en-US" sz="2000" spc="-1" strike="noStrike">
              <a:solidFill>
                <a:srgbClr val="000000"/>
              </a:solidFill>
              <a:latin typeface="Calibri"/>
            </a:endParaRPr>
          </a:p>
          <a:p>
            <a:pPr lvl="3" marL="1473120" indent="-2858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دارة المراجعة - إدارة الاستشارات - </a:t>
            </a:r>
            <a:r>
              <a:rPr b="0" lang="ar-SA" sz="1800" spc="-1" strike="noStrike">
                <a:solidFill>
                  <a:srgbClr val="000000"/>
                </a:solidFill>
                <a:latin typeface="Calibri"/>
                <a:cs typeface="Arial"/>
              </a:rPr>
              <a:t>إدارة مراقبة الجودة- إدارة الأعمال المساندة والاتصالات - إدارة العمليات الخاصة</a:t>
            </a:r>
            <a:endParaRPr b="0" lang="en-US" sz="1800" spc="-1" strike="noStrike">
              <a:solidFill>
                <a:srgbClr val="000000"/>
              </a:solidFill>
              <a:latin typeface="Calibri"/>
            </a:endParaRPr>
          </a:p>
          <a:p>
            <a:pPr lvl="2" marL="1187280" indent="-457200" algn="r" rtl="1">
              <a:lnSpc>
                <a:spcPct val="90000"/>
              </a:lnSpc>
              <a:spcBef>
                <a:spcPts val="499"/>
              </a:spcBef>
              <a:buClr>
                <a:srgbClr val="000000"/>
              </a:buClr>
              <a:buFont typeface="Calibri Light"/>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عداد وإصدار ميثاق المراجعة الداخلية .</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87320" indent="-514440" algn="r" rtl="1">
              <a:lnSpc>
                <a:spcPct val="9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8728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59" name=""/>
          <p:cNvSpPr txBox="1"/>
          <p:nvPr/>
        </p:nvSpPr>
        <p:spPr>
          <a:xfrm>
            <a:off x="1501560" y="1682640"/>
            <a:ext cx="9653400" cy="4200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ميثاق على الفقرات التالية (على الأق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أولى: معلومات عـام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فقرة الثانية: معلومات عن المنشا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ثالثة: معلومات عن قسم المراجعة الداخلي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رابعة: إدارة قسم المراجعة الداخلي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خامسة: تخطيط المراجعة الداخلية </a:t>
            </a:r>
            <a:r>
              <a:rPr b="0" lang="en-US" sz="2400" spc="-1" strike="noStrike">
                <a:solidFill>
                  <a:srgbClr val="000000"/>
                </a:solidFill>
                <a:latin typeface="Calibri"/>
                <a:ea typeface="Majalla UI"/>
              </a:rPr>
              <a:t>CH4</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سادسة: تنفيذ مهام المراجعة </a:t>
            </a:r>
            <a:r>
              <a:rPr b="0" lang="en-US" sz="2400" spc="-1" strike="noStrike">
                <a:solidFill>
                  <a:srgbClr val="000000"/>
                </a:solidFill>
                <a:latin typeface="Calibri"/>
              </a:rPr>
              <a:t>CH5</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سابعة: إعداد ورفع التقارير </a:t>
            </a:r>
            <a:r>
              <a:rPr b="0" lang="en-US" sz="2400" spc="-1" strike="noStrike">
                <a:solidFill>
                  <a:srgbClr val="000000"/>
                </a:solidFill>
                <a:latin typeface="Calibri"/>
              </a:rPr>
              <a:t>CH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fontScale="99000"/>
          </a:bodyPr>
          <a:p>
            <a:pPr marL="224640" indent="-22464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rabic Transparent"/>
              </a:rPr>
              <a:t> </a:t>
            </a:r>
            <a:r>
              <a:rPr b="0" lang="ar-SA" sz="2800" spc="-1" strike="noStrike">
                <a:solidFill>
                  <a:srgbClr val="000000"/>
                </a:solidFill>
                <a:latin typeface="Calibri"/>
                <a:cs typeface="Arabic Transparent"/>
              </a:rPr>
              <a:t>أهداف ميثاق المراجعة الداخلية</a:t>
            </a:r>
            <a:endParaRPr b="0" lang="en-US" sz="28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محلية ان وجدت</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قسم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قسم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قسم وتوفير التعليمات الخاصة ب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قسم المراجعة.</a:t>
            </a:r>
            <a:endParaRPr b="0" lang="en-US" sz="2400" spc="-1" strike="noStrike">
              <a:solidFill>
                <a:srgbClr val="000000"/>
              </a:solidFill>
              <a:latin typeface="Calibri"/>
            </a:endParaRPr>
          </a:p>
          <a:p>
            <a:pPr lvl="1" marL="609480" indent="-339480" algn="r" rtl="1">
              <a:lnSpc>
                <a:spcPct val="9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rabic Transparent"/>
              </a:rPr>
              <a:t> </a:t>
            </a:r>
            <a:endParaRPr b="0" lang="en-US" sz="20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وزيع ميثاق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استخدامه فقط من قبل قسم المراجعة الداخلية بالمنشاة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عطاء الميثاق لأشخاص من خارج قسم المراجعة الداخلية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إحداث تعديلات على ميثاق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ضمان مواكبة قسم المراجعة الداخلية في المنشأة للتطورات التي قد تحدث في المستقبل فإنه من فترة لأخرى يجب إعادة النظر في الميثاق وإدخال إي تعديلات عليه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خذ موافقة أعلى سلطة ادارية بالجهة على هذه التعديلات أو الإضافات قبل إصدارها.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7-02-26T18:01:04Z</dcterms:modified>
  <cp:revision>284</cp:revision>
  <dc:subject/>
  <dc:title>إجراءات إنشاء وتنظيم وحدات المراجعة الداخلية وإداراتها</dc:title>
</cp:coreProperties>
</file>