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C6A2-3AF6-426A-B51C-F47EE4314A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400" cy="3086280"/>
          </a:xfrm>
          <a:prstGeom prst="rect">
            <a:avLst/>
          </a:prstGeom>
          <a:ln w="0">
            <a:noFill/>
          </a:ln>
        </p:spPr>
      </p:sp>
      <p:sp>
        <p:nvSpPr>
          <p:cNvPr id="1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50DA-4261-4412-B5EE-FFEBB39515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400" cy="3086280"/>
          </a:xfrm>
          <a:prstGeom prst="rect">
            <a:avLst/>
          </a:prstGeom>
          <a:ln w="0">
            <a:noFill/>
          </a:ln>
        </p:spPr>
      </p:sp>
      <p:sp>
        <p:nvSpPr>
          <p:cNvPr id="1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1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0518-B3DB-4558-BD07-69BF083C40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400" cy="3086280"/>
          </a:xfrm>
          <a:prstGeom prst="rect">
            <a:avLst/>
          </a:prstGeom>
          <a:ln w="0">
            <a:noFill/>
          </a:ln>
        </p:spPr>
      </p:sp>
      <p:sp>
        <p:nvSpPr>
          <p:cNvPr id="115" name="PlaceHolder 2"/>
          <p:cNvSpPr>
            <a:spLocks noGrp="1"/>
          </p:cNvSpPr>
          <p:nvPr>
            <p:ph type="body"/>
          </p:nvPr>
        </p:nvSpPr>
        <p:spPr>
          <a:xfrm>
            <a:off x="685800" y="4400280"/>
            <a:ext cx="5486400" cy="3600360"/>
          </a:xfrm>
          <a:prstGeom prst="rect">
            <a:avLst/>
          </a:prstGeom>
          <a:noFill/>
          <a:ln w="0">
            <a:noFill/>
          </a:ln>
        </p:spPr>
        <p:txBody>
          <a:bodyPr anchor="t">
            <a:noAutofit/>
          </a:bodyPr>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1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EA1B-84D9-4819-98E6-9335F71960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5966E-DE98-4F4E-B0D0-CFC2FA595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9C0B9-B7A0-4B8A-BB82-1F23263A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09527-98A4-4994-90E6-703AD0F2A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6441D-3339-493A-B38A-C0E24F54A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9497-56B1-4E14-9481-EB68531D9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0430D-56F9-45F1-BAE3-4AA08642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024A-0910-474F-85E9-47D8AB61D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59C5B-9A60-49B9-AEAB-A489A0FC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2B1E-73F8-45C0-9B18-72DF2682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960BC-DC56-4FCB-8C95-1A1C28E8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BD25-2589-481C-A808-7AE85454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9132-CC27-4514-A735-53EE5A152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7459-F4A8-4049-8272-D529B06D3A1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39560" y="192564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Calibri Light"/>
                <a:cs typeface="Times New Roman"/>
              </a:rPr>
              <a:t>انشاء وتنظيم عمل قسم المراجعة</a:t>
            </a:r>
            <a:br>
              <a:rPr sz="5400"/>
            </a:br>
            <a:r>
              <a:rPr b="0" lang="ar-SA" sz="5400" spc="-1" strike="noStrike">
                <a:solidFill>
                  <a:srgbClr val="000000"/>
                </a:solidFill>
                <a:latin typeface="Calibri Light"/>
                <a:cs typeface="Times New Roman"/>
              </a:rPr>
              <a:t>الداخلية</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398240" y="3728520"/>
            <a:ext cx="9875880" cy="1752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صل الثالث</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أولى: معلومات عامة</a:t>
            </a:r>
            <a:endParaRPr b="0" lang="en-US" sz="36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تضمن هذه الفقرة الهدف والغاية من صياغة الميثاق بالإضافة إلى أي معلومات يرغب رئيس قسم المراجعة الداخلية  و أعلى سلطة ادارية وضعها مثل إجراءات تداول الميثاق وإشارة إلى ملكيته لقسم المراجع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ثانية: الجهة التي تعمل بها قسم المراجعة الداخلية </a:t>
            </a:r>
            <a:endParaRPr b="0" lang="en-US" sz="3600" spc="-1" strike="noStrike">
              <a:solidFill>
                <a:srgbClr val="000000"/>
              </a:solidFill>
              <a:latin typeface="Calibri Light"/>
            </a:endParaRPr>
          </a:p>
        </p:txBody>
      </p:sp>
      <p:sp>
        <p:nvSpPr>
          <p:cNvPr id="69"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قدمة</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ها معلومات عن الجهة التي تعمل بها قسم المراجعة من حيث تاريخ إنشائها والتطورات التي حدثت فيها</a:t>
            </a:r>
            <a:endParaRPr b="0" lang="en-US" sz="24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داف ورسالة الجهة</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 هذا الجزء أهداف ورسالة الجهة</a:t>
            </a:r>
            <a:r>
              <a:rPr b="0" lang="ar-SA" sz="2400" spc="-1" strike="noStrike">
                <a:solidFill>
                  <a:srgbClr val="ff0000"/>
                </a:solidFill>
                <a:latin typeface="Calibri"/>
                <a:ea typeface="Arial"/>
              </a:rPr>
              <a:t> </a:t>
            </a:r>
            <a:r>
              <a:rPr b="0" lang="ar-SA" sz="2400" spc="-1" strike="noStrike">
                <a:solidFill>
                  <a:srgbClr val="000000"/>
                </a:solidFill>
                <a:latin typeface="Calibri"/>
                <a:cs typeface="Arial"/>
              </a:rPr>
              <a:t>التي تنتمي إليها قسم المراجعة الداخلي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ثالثة: معلومات عن قسم المراجعة الداخلية</a:t>
            </a:r>
            <a:endParaRPr b="0" lang="en-US" sz="36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فهوم المراجعة الداخلية</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وضع التنظيمي لقسم المراجعة الداخلية</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ؤيا (الرسالة)الخاصة بقسم المراجعة الداخلية</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هدف عام للقسم يكون جميع العاملين بالقسم على علم تام وقناعة تامة به</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سرية المعلومات المتداولة في القسم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مثال </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fontScale="95000"/>
          </a:bodyPr>
          <a:p>
            <a:pPr marL="217080" indent="-217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نموذ</a:t>
            </a:r>
            <a:r>
              <a:rPr b="1" lang="ar-SA" sz="2800" spc="-1" strike="noStrike">
                <a:solidFill>
                  <a:srgbClr val="000000"/>
                </a:solidFill>
                <a:latin typeface="Calibri"/>
                <a:cs typeface="Arial"/>
              </a:rPr>
              <a:t>ج عملي لرسالة قسم المراجعة الداخلية بإحدى المستشفيات</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lvl="1" marL="651240" indent="-217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تزويد الإدارة العليا بتقييمات شاملة وذات قيمة لكل التسهيلات الصحية بـ.....أسم الجهة.. والمشاريع والنشاطات لضمان جودة عالية ومتميزة في الرعاية الصحية والتي تقدم إلى كافة المرضى.</a:t>
            </a:r>
            <a:endParaRPr b="0" lang="en-US" sz="2400" spc="-1" strike="noStrike">
              <a:solidFill>
                <a:srgbClr val="000000"/>
              </a:solidFill>
              <a:latin typeface="Calibri"/>
            </a:endParaRPr>
          </a:p>
          <a:p>
            <a:pPr lvl="1" marL="651240" indent="-217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ذا يمكن أن يتحقق بتشجيع فعالية الضوابط الداخلية من خلال فعالية التدقيق والوصول للهدف ومن خلال الإتباع والامتثال لقوانين وأنظمة البرنامج والضوابط الداخلية والاستخدام الاقتصادي والكفء للموارد البشرية"</a:t>
            </a:r>
            <a:endParaRPr b="0" lang="en-US" sz="2400" spc="-1" strike="noStrike">
              <a:solidFill>
                <a:srgbClr val="000000"/>
              </a:solidFill>
              <a:latin typeface="Calibri"/>
            </a:endParaRPr>
          </a:p>
          <a:p>
            <a:pPr marL="217080" indent="-217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a:t>
            </a:r>
            <a:r>
              <a:rPr b="1" lang="ar-SA" sz="2800" spc="-1" strike="noStrike">
                <a:solidFill>
                  <a:srgbClr val="000000"/>
                </a:solidFill>
                <a:latin typeface="Calibri"/>
                <a:cs typeface="Arial"/>
              </a:rPr>
              <a:t>لهدف المصاغ للقسم المراجعة التي سبق عرض رؤيتها:</a:t>
            </a:r>
            <a:endParaRPr b="0" lang="en-US" sz="2800" spc="-1" strike="noStrike">
              <a:solidFill>
                <a:srgbClr val="000000"/>
              </a:solidFill>
              <a:latin typeface="Calibri"/>
            </a:endParaRPr>
          </a:p>
          <a:p>
            <a:pPr lvl="1" marL="651240" indent="-217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عزيز القدرة على صنع القرار بتعريف المشاكل والسياسات لحماية موارد البرنامج من الخسارة أو سوء الاستخدام و/أو أي وجه من أوجه التقصير. وتعزيز الدقة والمصداقية في تدوين جميع التقارير المالية والتشغيلية لجميع بيانات التشغيل"</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a:t>
            </a:r>
            <a:r>
              <a:rPr b="0" lang="ar-SA" sz="2800" spc="-1" strike="noStrike">
                <a:solidFill>
                  <a:srgbClr val="000000"/>
                </a:solidFill>
                <a:latin typeface="Calibri"/>
                <a:cs typeface="Arial"/>
              </a:rPr>
              <a:t>يتضمن الميثاق فقرة مستقلة عن الإجراءات التي يجب اتباعها لإدارة قسم المراجعة الداخلية بشكل يضمن الحفاظ على مستوى جودة مقبول ويضمن الالتزام بباقي فقرات الميثاق.</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نعرض فيما يلي لأهم ما يجب أن يتضمنه ميثاق المراجعة الداخلية في هذا الخصوص وهو: </a:t>
            </a:r>
            <a:endParaRPr b="0" lang="en-US" sz="28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دريب و التعليم المستمر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ويم أداء العاملين بقسم المراجعة الداخلية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رقابة الجودة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حقق من رضاء العميل</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1" marL="91440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وثيق و حفظ السجلات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أولا : التدريب :</a:t>
            </a:r>
            <a:endParaRPr b="0" lang="en-US" sz="2800" spc="-1" strike="noStrike">
              <a:solidFill>
                <a:srgbClr val="000000"/>
              </a:solidFill>
              <a:latin typeface="Calibri"/>
            </a:endParaRPr>
          </a:p>
          <a:p>
            <a:pPr lvl="1" marL="858960" indent="-45720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دريب على رأس العمل: </a:t>
            </a:r>
            <a:endParaRPr b="0" lang="en-US" sz="2400" spc="-1" strike="noStrike">
              <a:solidFill>
                <a:srgbClr val="000000"/>
              </a:solidFill>
              <a:latin typeface="Calibri"/>
            </a:endParaRPr>
          </a:p>
          <a:p>
            <a:pPr lvl="2" marL="933480" indent="-285840" algn="r"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عني الإستفادة من الخبرات التي يكتسبها المراجع الداخلي بنفسه أثناء تنفيذ عمله</a:t>
            </a:r>
            <a:endParaRPr b="0" lang="en-US" sz="2000" spc="-1" strike="noStrike">
              <a:solidFill>
                <a:srgbClr val="000000"/>
              </a:solidFill>
              <a:latin typeface="Calibri"/>
            </a:endParaRPr>
          </a:p>
          <a:p>
            <a:pPr lvl="1" marL="858960" indent="-457200" algn="r"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تدريب المخطط: </a:t>
            </a:r>
            <a:endParaRPr b="0" lang="en-US" sz="2400" spc="-1" strike="noStrike">
              <a:solidFill>
                <a:srgbClr val="000000"/>
              </a:solidFill>
              <a:latin typeface="Calibri"/>
            </a:endParaRPr>
          </a:p>
          <a:p>
            <a:pPr lvl="2" marL="933480" indent="-285840" algn="r"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يجب على الجهة وقسم المراجعة الداخلية  أن يلتزمان بتقديم دورات تدريب منتظمة للعاملين بقسم المراجعة الداخلية </a:t>
            </a:r>
            <a:endParaRPr b="0" lang="en-US" sz="2000" spc="-1" strike="noStrike">
              <a:solidFill>
                <a:srgbClr val="000000"/>
              </a:solidFill>
              <a:latin typeface="Calibri"/>
            </a:endParaRPr>
          </a:p>
          <a:p>
            <a:pPr lvl="3" marL="1343160" indent="-228600" algn="r"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 </a:t>
            </a:r>
            <a:br>
              <a:rPr sz="3600"/>
            </a:b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عليم المستمر والشهادات المهنية</a:t>
            </a:r>
            <a:endParaRPr b="0" lang="en-US" sz="2800" spc="-1" strike="noStrike">
              <a:solidFill>
                <a:srgbClr val="000000"/>
              </a:solidFill>
              <a:latin typeface="Calibri"/>
            </a:endParaRPr>
          </a:p>
        </p:txBody>
      </p:sp>
      <p:graphicFrame>
        <p:nvGraphicFramePr>
          <p:cNvPr id="80" name=""/>
          <p:cNvGraphicFramePr/>
          <p:nvPr/>
        </p:nvGraphicFramePr>
        <p:xfrm>
          <a:off x="1066680" y="2252520"/>
          <a:ext cx="10058400" cy="3687840"/>
        </p:xfrm>
        <a:graphic>
          <a:graphicData uri="http://schemas.openxmlformats.org/drawingml/2006/table">
            <a:tbl>
              <a:tblPr/>
              <a:tblGrid>
                <a:gridCol w="5029200"/>
                <a:gridCol w="5029200"/>
              </a:tblGrid>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Internal Audito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داخل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Financial Audito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مال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Fraud Examine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اختلاس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Financial Manager</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دير مال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131364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Information System Auditor</a:t>
                      </a:r>
                      <a:endParaRPr b="0" lang="en-US" sz="2000" spc="-1" strike="noStrike">
                        <a:solidFill>
                          <a:srgbClr val="000000"/>
                        </a:solidFill>
                        <a:latin typeface="Calibri"/>
                      </a:endParaRPr>
                    </a:p>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ertified IT Auditor</a:t>
                      </a:r>
                      <a:endParaRPr b="0" lang="en-US" sz="2000" spc="-1" strike="noStrike">
                        <a:solidFill>
                          <a:srgbClr val="000000"/>
                        </a:solidFill>
                        <a:latin typeface="Calibri"/>
                      </a:endParaRPr>
                    </a:p>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راجع أنظمة المعلومات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Public Accountant</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حاسب قانوني مرخص.</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98880">
                <a:tc>
                  <a:txBody>
                    <a:bodyPr lIns="90000" rIns="90000" tIns="46800" bIns="46800" anchor="ctr">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rtified Management Accountant</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90000" rIns="90000" tIns="46800" bIns="46800" anchor="ctr">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شهادة محاسب إداري مرخص .</a:t>
                      </a:r>
                      <a:endParaRPr b="0" lang="en-US" sz="20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إدارة قسم المراجعة الداخلية </a:t>
            </a:r>
            <a:br>
              <a:rPr sz="3600"/>
            </a:br>
            <a:endParaRPr b="0" lang="en-US" sz="36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ثانيا : تقويم أداء العاملين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بنى قسم المراجعة الداخلية نظام جيد لتقويم أداء العاملين بها وبصفة خاصة المراجعين الداخليين</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ماذا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صفة عامة يمكن استخدام نوعين مختلفين لعمليات تقويم أداء المراجعين الداخليين ، وهما: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خاص بكل مهمة</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سنو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0130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Light"/>
                <a:cs typeface="Times New Roman"/>
              </a:rPr>
              <a:t>الفقرة الرابعة:إدارة قسم المراجعة الداخلية </a:t>
            </a:r>
            <a:br>
              <a:rPr sz="3200"/>
            </a:br>
            <a:endParaRPr b="0" lang="en-US" sz="3200" spc="-1" strike="noStrike">
              <a:solidFill>
                <a:srgbClr val="000000"/>
              </a:solidFill>
              <a:latin typeface="Calibri Light"/>
            </a:endParaRPr>
          </a:p>
        </p:txBody>
      </p:sp>
      <p:sp>
        <p:nvSpPr>
          <p:cNvPr id="84" name=""/>
          <p:cNvSpPr txBox="1"/>
          <p:nvPr/>
        </p:nvSpPr>
        <p:spPr>
          <a:xfrm>
            <a:off x="748800" y="1158840"/>
            <a:ext cx="10604520" cy="51595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قويم الخاص بكل مهمة:</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تقويم أداء المراجعين في نهاية كل مهمة يتم تنفيذها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مدير قسم المراجعة بإعداد هذا التقويم لكل أعضاء فرق مهمة المراجعة الداخلي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تصنيف الملاحظات بغرض تقويم أداء المراجعين الى:</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لاحظات الاستيفائية - الملاحظة النظامية - الملاحظات المالية </a:t>
            </a:r>
            <a:endParaRPr b="0" lang="en-US" sz="20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قويم السنوي: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ستخدم كأساس في أخذ القرارات الإدارية مثل الترقية، تقييم الراتب، والتوصيات بالتدريب، أو الإجراءات التصحيح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رتكز التقويم السنوي على تجميع نماذج التقويم الخاصة بالمهام والتي تم إعدادها طوال العام في نهاية كل مهمة</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إدارة قسم المراجعة الداخلية</a:t>
            </a:r>
            <a:br>
              <a:rPr sz="3600"/>
            </a:b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86" name=""/>
          <p:cNvSpPr txBox="1"/>
          <p:nvPr/>
        </p:nvSpPr>
        <p:spPr>
          <a:xfrm>
            <a:off x="838080" y="1825560"/>
            <a:ext cx="10515600" cy="434016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Arial"/>
              </a:rPr>
              <a:t>ثالثا : رقابة الجود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مل مدير قسم المراجعة على ضمان الالتزام بمعايير المراجعة الداخلية والسياسات المرسومة لقسم المراجعة الداخلية وكذلك برامج المراجعة عن طريق عمليات تقويم  مستمرة لعمل القسم وسياساتها وبرامجها.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قوم بدور رقابة الجودة قسم مستقل داخل قسم المراجعة الداخلية تكون مهمته إدارة وضبط الجودة  عن طريق إنشاء ومتابعة برنامج ضبط الجودة وذلك لتقويم أداء المراجعة الداخلية في مختلف الأنشط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تتم عملية رقابة الجودة عن طريق ما يلي:  </a:t>
            </a:r>
            <a:endParaRPr b="0" lang="en-US" sz="24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داخلي لقسم المراجعة الداخلية </a:t>
            </a:r>
            <a:endParaRPr b="0" lang="en-US" sz="2000" spc="-1" strike="noStrike">
              <a:solidFill>
                <a:srgbClr val="000000"/>
              </a:solidFill>
              <a:latin typeface="Calibri"/>
            </a:endParaRPr>
          </a:p>
          <a:p>
            <a:pPr lvl="2" marL="1371600" indent="-457200" algn="just" rtl="1">
              <a:lnSpc>
                <a:spcPct val="90000"/>
              </a:lnSpc>
              <a:spcBef>
                <a:spcPts val="4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 الخارجي لقسم المراجعة الداخل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أجندة</a:t>
            </a:r>
            <a:endParaRPr b="0" lang="en-US" sz="36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جراءات انشاء قسم المراجعة الداخلية</a:t>
            </a:r>
            <a:endParaRPr b="0" lang="en-US" sz="2400" spc="-1" strike="noStrike">
              <a:solidFill>
                <a:srgbClr val="000000"/>
              </a:solidFill>
              <a:latin typeface="Calibri"/>
            </a:endParaRPr>
          </a:p>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ظيم العمل بأقسام المراجعة الداخلية</a:t>
            </a:r>
            <a:endParaRPr b="0" lang="en-US" sz="2400" spc="-1" strike="noStrike">
              <a:solidFill>
                <a:srgbClr val="000000"/>
              </a:solidFill>
              <a:latin typeface="Calibri"/>
            </a:endParaRPr>
          </a:p>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يكل العام لميثاق المراجعة الداخلية</a:t>
            </a:r>
            <a:endParaRPr b="0" lang="en-US" sz="2400" spc="-1" strike="noStrike">
              <a:solidFill>
                <a:srgbClr val="000000"/>
              </a:solidFill>
              <a:latin typeface="Calibri"/>
            </a:endParaRPr>
          </a:p>
          <a:p>
            <a:pPr marL="365040" indent="-282600" algn="r"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سؤولية عن اكتشاف عمليات الغش والاحتيال</a:t>
            </a:r>
            <a:br>
              <a:rPr sz="2400"/>
            </a:br>
            <a:r>
              <a:rPr b="0" lang="ar-SA" sz="2400" spc="-1" strike="noStrike">
                <a:solidFill>
                  <a:srgbClr val="000000"/>
                </a:solidFill>
                <a:latin typeface="Calibri"/>
              </a:rPr>
              <a:t> </a:t>
            </a:r>
            <a:endParaRPr b="0" lang="en-US" sz="2400" spc="-1" strike="noStrike">
              <a:solidFill>
                <a:srgbClr val="000000"/>
              </a:solidFill>
              <a:latin typeface="Calibri"/>
            </a:endParaRPr>
          </a:p>
          <a:p>
            <a:pPr marL="365040" indent="-282600" algn="just">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 إدارة قسم المراجعة الداخلية</a:t>
            </a:r>
            <a:br>
              <a:rPr sz="3600"/>
            </a:b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marL="514440" indent="-514440" algn="r" rtl="1">
              <a:lnSpc>
                <a:spcPct val="90000"/>
              </a:lnSpc>
              <a:spcBef>
                <a:spcPts val="10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قويم الداخلي لقسم المراجعة الداخلي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القسم الخاص بضبط الجودة باختيار عينة من مهام المراجعة التي تم تنفيذها خلال العام  لمطابقتها على المعايير والإجراءات المعتمدة للتأكد من جودة عمل المراجعة ومستوى الإلتزام  بالسياسات المعتمدة لتقييم المخاطر والمراجع الداخلية وميثاق المراجعة الداخلية ورفع تقرير لأعلى مستوى ادار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عمل التقويم الداخلي من خلال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مراجعة المستمر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قويمات الدورية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 إدارة قسم المراجعة الداخلية</a:t>
            </a:r>
            <a:br>
              <a:rPr sz="3600"/>
            </a:b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9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راجعة المستمرة: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بها مدير المراجعة الداخلية من خلال الإشراف المباشر على المهام للتأكيد على أن موظفي المراجعة الداخلية يقومون بالأعمال الواجب عملها خلال تنفيذ المهام.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راجعات الدور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ؤدى المراجعة الدورية من قبل إدارة القسم الخاص بضبط الجود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و تقويم لمدى التزام المراجعين والمراجعة الداخلية بالميثاق الذي أعدته قسم المراجعة الداخلية ومعايير ممارسة المهن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5800" indent="-22860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 إدارة قسم المراجعة الداخلية</a:t>
            </a:r>
            <a:br>
              <a:rPr sz="3600"/>
            </a:br>
            <a:r>
              <a:rPr b="0" lang="ar-SA" sz="3600" spc="-1" strike="noStrike">
                <a:solidFill>
                  <a:srgbClr val="525252"/>
                </a:solidFill>
                <a:latin typeface="Calibri Light"/>
                <a:ea typeface="Times New Roman"/>
              </a:rPr>
              <a:t> </a:t>
            </a:r>
            <a:endParaRPr b="0" lang="en-US" sz="3600" spc="-1" strike="noStrike">
              <a:solidFill>
                <a:srgbClr val="000000"/>
              </a:solidFill>
              <a:latin typeface="Calibri Light"/>
            </a:endParaRPr>
          </a:p>
        </p:txBody>
      </p:sp>
      <p:sp>
        <p:nvSpPr>
          <p:cNvPr id="92" name=""/>
          <p:cNvSpPr txBox="1"/>
          <p:nvPr/>
        </p:nvSpPr>
        <p:spPr>
          <a:xfrm>
            <a:off x="838080" y="1825200"/>
            <a:ext cx="10515600" cy="4351320"/>
          </a:xfrm>
          <a:prstGeom prst="rect">
            <a:avLst/>
          </a:prstGeom>
          <a:noFill/>
          <a:ln w="0">
            <a:noFill/>
          </a:ln>
        </p:spPr>
        <p:txBody>
          <a:bodyPr anchor="t">
            <a:normAutofit/>
          </a:bodyPr>
          <a:p>
            <a:pPr marL="514440" indent="-514440" algn="just" rtl="1">
              <a:lnSpc>
                <a:spcPct val="90000"/>
              </a:lnSpc>
              <a:spcBef>
                <a:spcPts val="1001"/>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قويم الخارجي لقسم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تم عمل تقويم لقسم المراجعة الداخلية من جانب جهة خارجية على فترات متباعدة مثلا مره كل خمس سنوات.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مل نطاق المراجعة </a:t>
            </a:r>
            <a:r>
              <a:rPr b="1" lang="ar-SA" sz="2400" spc="-1" strike="noStrike">
                <a:solidFill>
                  <a:srgbClr val="000000"/>
                </a:solidFill>
                <a:latin typeface="Calibri"/>
                <a:cs typeface="Arial"/>
              </a:rPr>
              <a:t>تقويماً لـلأمور التالية</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نطاق خطة المراجعة الداخل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جعة المهام التي تم إنجازها.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سياسات والإجراءات.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ودة ملفات المراجعة وأوراق العمل.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مليات الاتصال ورفع التقارير.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إدارة الموارد البشرية.</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دريب العاملين.</a:t>
            </a:r>
            <a:endParaRPr b="0" lang="en-US" sz="2000" spc="-1" strike="noStrike">
              <a:solidFill>
                <a:srgbClr val="000000"/>
              </a:solidFill>
              <a:latin typeface="Calibri"/>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94" name=""/>
          <p:cNvSpPr txBox="1"/>
          <p:nvPr/>
        </p:nvSpPr>
        <p:spPr>
          <a:xfrm>
            <a:off x="838080" y="1690560"/>
            <a:ext cx="10515600" cy="4486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رابعا : التحقق من رضاء العميل</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تعبئته من قبل الإدارات التي يتم مراجعتها على أن تتم إعادته مباشرة إلى مدير قسم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تسجيل وتلخيص وحفظ الرد على الاستبانات في ملف أوراق عمل المهم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خامسا : التوثيق وحفظ السجلات</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حرص مدير قسم المراجعة الداخلية على ضرورة التوثيق الكافي لكل إجراءات المراجعة بما يحقق وجود مستند يؤيد كل إجراء تم تنفيذه</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ميثاق الخاص بالمراجعة الداخلية توضيحا أو إرشادات لضوابط حفظ السجلات من قبل قسم المراجعة الداخلية</a:t>
            </a:r>
            <a:endParaRPr b="0" lang="en-US" sz="2400" spc="-1" strike="noStrike">
              <a:solidFill>
                <a:srgbClr val="000000"/>
              </a:solidFill>
              <a:latin typeface="Calibri"/>
            </a:endParaRPr>
          </a:p>
          <a:p>
            <a:pPr marL="228600" indent="-22860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96"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تطلب التوثيق الجيد ما يلي: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ساطة والوضوح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غطية كافة أنشطة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عد في شكل نماذج كلما أمكن ذلك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أن تكون وثيقة الصلة بموضوع المراجع</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تصف بالدق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رقم وترتبط ببعضها</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وضع خطة تنظيمية لتصميم وتداول وحفظ أوراق العمل بالإدار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أن يتم التوقيع على أوراق العمل بما يساعد في تحديد المسئولية عن الأعمال التي تمت</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98" name=""/>
          <p:cNvSpPr txBox="1"/>
          <p:nvPr/>
        </p:nvSpPr>
        <p:spPr>
          <a:xfrm>
            <a:off x="838080" y="1825200"/>
            <a:ext cx="10515600" cy="4351320"/>
          </a:xfrm>
          <a:prstGeom prst="rect">
            <a:avLst/>
          </a:prstGeom>
          <a:noFill/>
          <a:ln w="0">
            <a:noFill/>
          </a:ln>
        </p:spPr>
        <p:txBody>
          <a:bodyPr anchor="t">
            <a:normAutofit fontScale="96000"/>
          </a:bodyPr>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مية التوثيق:</a:t>
            </a:r>
            <a:endParaRPr b="0" lang="en-US" sz="28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يثاق على التزام الإدارة بالمعايير وإجراءات العمل المعتمدة </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عملية التوثيق مدير المراجعة في متابعة تقدم سير العمل وتحديد ما يجب عمله</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في تحديد مدى العمل الذي تم في كل مهمة ، وما هو مطلوب لإنجاز المهمة </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المصدر الأساسي لاستخلاص النتائج وكتابة التقارير ومتابعة تنفيذ التوصيات والمقترحات</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مرجعا للتحقق من جودة عمل المراجع الداخلي والرقابة على الجودة بواسطة المعنيين بذلك</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كأدلة على العمل الذي تم عند تقويم أداء الإدارة</a:t>
            </a:r>
            <a:endParaRPr b="0" lang="en-US" sz="2400" spc="-1" strike="noStrike">
              <a:solidFill>
                <a:srgbClr val="000000"/>
              </a:solidFill>
              <a:latin typeface="Calibri"/>
            </a:endParaRPr>
          </a:p>
          <a:p>
            <a:pPr lvl="1" marL="658080" indent="-219240" algn="just"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مدير المراجعة في تخطيط عملية المراجعة للسنة التالية</a:t>
            </a:r>
            <a:endParaRPr b="0" lang="en-US" sz="24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0"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خطوط الإرشادية لعملية حفظ السجلات: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ثال : يتضمن الميثاق أنه لا من الاحتفاظ ب:</a:t>
            </a:r>
            <a:endParaRPr b="0" lang="en-US" sz="2400" spc="-1" strike="noStrike">
              <a:solidFill>
                <a:srgbClr val="000000"/>
              </a:solidFill>
              <a:latin typeface="Calibri"/>
            </a:endParaRPr>
          </a:p>
          <a:p>
            <a:pPr lvl="3" marL="16002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0" lang="ar-SA" sz="2000" spc="-1" strike="noStrike">
                <a:solidFill>
                  <a:srgbClr val="000000"/>
                </a:solidFill>
                <a:latin typeface="Calibri"/>
                <a:cs typeface="Arial"/>
              </a:rPr>
              <a:t>أوراق عمل المراجعة لمدة ثلاث سنوات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لفات المراجعة الدائمة خمس سنوات </a:t>
            </a:r>
            <a:endParaRPr b="0" lang="en-US" sz="2000" spc="-1" strike="noStrike">
              <a:solidFill>
                <a:srgbClr val="000000"/>
              </a:solidFill>
              <a:latin typeface="Calibri"/>
            </a:endParaRPr>
          </a:p>
          <a:p>
            <a:pPr lvl="3" marL="16002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تقارير المراجعة الداخلية مدة غير محددة</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2"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فات المراجع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وسائل لحفظ الأوراق المرتبطة بعملية المراجع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دفها توثيق العمل وتتبع تطوره في الاجل القصير والطويل، وتساعد هذه الملفات في حفظ الأوراق والمستندات بطريقة تسهل الرجوع إليها. كما أنها تفتح لكل مهمة أو عملية مراجعة.</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نواع ملفات المراجعة</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لدى قسم المراجعة الداخلية نوعين من الملفات هما: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ف الدائم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ف الجاري</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4"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لف الدائم:</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حتوي على البيانات الهامة التي يحتاج لها المراجع الداخلي بشكل مستمر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تشمل بيانات ملف المراجعة الدائم ما يلي:</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هيكل التنظيمي للقسم.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نظام الترخيص بالأعمال.</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لوائح والتعميمات.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وصف الوظيفي.</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خرائط وصف نظام الرقابة الداخل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دليل السياسات والإجراءات.</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يثاق المراجعة الداخلية                                      </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لخص نتائج المراجعة للمهام السابقة.</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فقرة الرابعة: إدارة قسم المراجعة الداخلية</a:t>
            </a:r>
            <a:endParaRPr b="0" lang="en-US" sz="3600" spc="-1" strike="noStrike">
              <a:solidFill>
                <a:srgbClr val="000000"/>
              </a:solidFill>
              <a:latin typeface="Calibri Light"/>
            </a:endParaRPr>
          </a:p>
        </p:txBody>
      </p:sp>
      <p:sp>
        <p:nvSpPr>
          <p:cNvPr id="106"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ف المراجعة الجاري (ملف المهم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ضمن توثيق تطبيق إجراءات المراجعة ، ونتائج تطبيق الإجراءات والاستفسارات والردود عليه وغيرها من الأوراق والمستندات والملخصات التي تعكس عمل المراجع على المهمة المحددة.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حتوي ملف مراجعة المهمة عادة على ما يلي</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برنامج العمل المكتم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 أوراق العم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راق العمل التي تصف الجهة التي تمت مراجعتها وإجراءات المراجعة التي تم تأديتها.</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لاحظات، النتائج، والتوصيات.</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ارير المراجعة الرسمية الخاصة بالجهة.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مقدمة </a:t>
            </a:r>
            <a:endParaRPr b="0" lang="en-US" sz="3600" spc="-1" strike="noStrike">
              <a:solidFill>
                <a:srgbClr val="000000"/>
              </a:solidFill>
              <a:latin typeface="Calibri Light"/>
            </a:endParaRPr>
          </a:p>
        </p:txBody>
      </p:sp>
      <p:sp>
        <p:nvSpPr>
          <p:cNvPr id="53"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ع مسئولية إنشاء قسم المراجعة الداخلية على عاتق أعلى سلطة اداري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شركة خاصه </a:t>
            </a:r>
            <a:r>
              <a:rPr b="0" lang="en-US" sz="2000" spc="-1" strike="noStrike">
                <a:solidFill>
                  <a:srgbClr val="000000"/>
                </a:solidFill>
                <a:latin typeface="Calibri"/>
                <a:ea typeface="Arial"/>
              </a:rPr>
              <a:t>vs</a:t>
            </a:r>
            <a:r>
              <a:rPr b="0" lang="en-US" sz="2000" spc="-1" strike="noStrike">
                <a:solidFill>
                  <a:srgbClr val="000000"/>
                </a:solidFill>
                <a:latin typeface="Calibri"/>
                <a:ea typeface="Arial"/>
              </a:rPr>
              <a:t>. </a:t>
            </a:r>
            <a:r>
              <a:rPr b="0" lang="ar-SA" sz="2000" spc="-1" strike="noStrike">
                <a:solidFill>
                  <a:srgbClr val="000000"/>
                </a:solidFill>
                <a:latin typeface="Calibri"/>
                <a:ea typeface="Arial"/>
              </a:rPr>
              <a:t> شركة عامه </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طاع خاص </a:t>
            </a:r>
            <a:r>
              <a:rPr b="0" lang="en-US" sz="2000" spc="-1" strike="noStrike">
                <a:solidFill>
                  <a:srgbClr val="000000"/>
                </a:solidFill>
                <a:latin typeface="Calibri"/>
                <a:ea typeface="Arial"/>
              </a:rPr>
              <a:t>vs</a:t>
            </a:r>
            <a:r>
              <a:rPr b="0" lang="en-US" sz="2000" spc="-1" strike="noStrike">
                <a:solidFill>
                  <a:srgbClr val="000000"/>
                </a:solidFill>
                <a:latin typeface="Calibri"/>
                <a:ea typeface="Arial"/>
              </a:rPr>
              <a:t>.</a:t>
            </a:r>
            <a:r>
              <a:rPr b="0" lang="ar-SA" sz="2000" spc="-1" strike="noStrike">
                <a:solidFill>
                  <a:srgbClr val="000000"/>
                </a:solidFill>
                <a:latin typeface="Calibri"/>
                <a:ea typeface="Arial"/>
              </a:rPr>
              <a:t> قطاع عام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مسؤولية عن اكتشاف عمليات الغش والاحتيال</a:t>
            </a:r>
            <a:br>
              <a:rPr sz="3600"/>
            </a:br>
            <a:endParaRPr b="0" lang="en-US" sz="3600" spc="-1" strike="noStrike">
              <a:solidFill>
                <a:srgbClr val="000000"/>
              </a:solidFill>
              <a:latin typeface="Calibri Light"/>
            </a:endParaRPr>
          </a:p>
        </p:txBody>
      </p:sp>
      <p:sp>
        <p:nvSpPr>
          <p:cNvPr id="108" name=""/>
          <p:cNvSpPr txBox="1"/>
          <p:nvPr/>
        </p:nvSpPr>
        <p:spPr>
          <a:xfrm>
            <a:off x="838080" y="1825200"/>
            <a:ext cx="10515600" cy="4351320"/>
          </a:xfrm>
          <a:prstGeom prst="rect">
            <a:avLst/>
          </a:prstGeom>
          <a:noFill/>
          <a:ln w="0">
            <a:noFill/>
          </a:ln>
        </p:spPr>
        <p:txBody>
          <a:bodyPr anchor="t">
            <a:normAutofit/>
          </a:bodyPr>
          <a:p>
            <a:pPr marL="423720" indent="-282600" algn="just"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كتشاف عمليات الغش والاحتيال والتلاعبات الأخرى لا يعتبر من مسؤوليات قسم المرجعة الداخلية. </a:t>
            </a:r>
            <a:endParaRPr b="0" lang="en-US" sz="2400" spc="-1" strike="noStrike">
              <a:solidFill>
                <a:srgbClr val="000000"/>
              </a:solidFill>
              <a:latin typeface="Calibri"/>
            </a:endParaRPr>
          </a:p>
          <a:p>
            <a:pPr lvl="1" marL="698400" indent="-282600" algn="just" rtl="1">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و هدف ثانوي يمكن الوصول إليه أثناء تنفيذ إجراءات المراجعة العادية ولكنه هام. </a:t>
            </a:r>
            <a:endParaRPr b="0" lang="en-US" sz="2000" spc="-1" strike="noStrike">
              <a:solidFill>
                <a:srgbClr val="000000"/>
              </a:solidFill>
              <a:latin typeface="Calibri"/>
            </a:endParaRPr>
          </a:p>
          <a:p>
            <a:pPr marL="423720" indent="-282600" algn="just"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الشك في ارتكاب عمليات غش أو احتيال أو تلاعبات أخرى، يجب على المراجع  أن :</a:t>
            </a:r>
            <a:endParaRPr b="0" lang="en-US" sz="2400" spc="-1" strike="noStrike">
              <a:solidFill>
                <a:srgbClr val="000000"/>
              </a:solidFill>
              <a:latin typeface="Calibri"/>
            </a:endParaRPr>
          </a:p>
          <a:p>
            <a:pPr lvl="1" marL="698400" indent="-282600" algn="just" rtl="1">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يخبر قائد فريق المراجعة و مدير قسم المراجعة الداخلية والذي يجب عليه أن يرفع الأمر إلى بدوره لاعلى هيكل اداري بالجهة لعمل اللازم </a:t>
            </a:r>
            <a:endParaRPr b="0" lang="en-US" sz="2000" spc="-1" strike="noStrike">
              <a:solidFill>
                <a:srgbClr val="000000"/>
              </a:solidFill>
              <a:latin typeface="Calibri"/>
            </a:endParaRPr>
          </a:p>
          <a:p>
            <a:pPr lvl="2" marL="1338120" indent="-282600" algn="just" rtl="1">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Arial"/>
              </a:rPr>
              <a:t>ما هو ؟ </a:t>
            </a:r>
            <a:endParaRPr b="0" lang="en-US" sz="1600" spc="-1" strike="noStrike">
              <a:solidFill>
                <a:srgbClr val="000000"/>
              </a:solidFill>
              <a:latin typeface="Calibri"/>
            </a:endParaRPr>
          </a:p>
          <a:p>
            <a:pPr marL="423720" indent="-282600" algn="just" rtl="1">
              <a:lnSpc>
                <a:spcPct val="90000"/>
              </a:lnSpc>
              <a:spcBef>
                <a:spcPts val="1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المنشأت قد يتضمن تنظيم قسم المراجعة الداخلية قسم خاص بمراجعة الحالات الخاصة التي تنطوى على عمليات غش أو احتيال أو تلاعبات أخرى</a:t>
            </a:r>
            <a:endParaRPr b="0" lang="en-US" sz="2400" spc="-1" strike="noStrike">
              <a:solidFill>
                <a:srgbClr val="000000"/>
              </a:solidFill>
              <a:latin typeface="Calibri"/>
            </a:endParaRPr>
          </a:p>
          <a:p>
            <a:pPr lvl="1" marL="698400" indent="-282600" algn="just" rtl="1">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المصادر</a:t>
            </a:r>
            <a:r>
              <a:rPr b="0" lang="ar-SA" sz="4400" spc="-1" strike="noStrike">
                <a:solidFill>
                  <a:srgbClr val="3e5370"/>
                </a:solidFill>
                <a:latin typeface="Calibri Light"/>
                <a:ea typeface="Times New Roman"/>
              </a:rPr>
              <a:t> </a:t>
            </a:r>
            <a:endParaRPr b="0" lang="en-US" sz="4400" spc="-1" strike="noStrike">
              <a:solidFill>
                <a:srgbClr val="000000"/>
              </a:solidFill>
              <a:latin typeface="Calibri Light"/>
            </a:endParaRPr>
          </a:p>
        </p:txBody>
      </p:sp>
      <p:sp>
        <p:nvSpPr>
          <p:cNvPr id="110"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جمعية السعودية للمراجعين الداخلية</a:t>
            </a:r>
            <a:r>
              <a:rPr b="0" lang="en-US" sz="2800" spc="-1" strike="noStrike">
                <a:solidFill>
                  <a:srgbClr val="000000"/>
                </a:solidFill>
                <a:latin typeface="Calibri"/>
                <a:ea typeface="Majalla UI"/>
              </a:rPr>
              <a:t>IIA  Saudi</a:t>
            </a:r>
            <a:r>
              <a:rPr b="0" lang="en-US" sz="2800" spc="-1" strike="noStrike">
                <a:solidFill>
                  <a:srgbClr val="000000"/>
                </a:solidFill>
                <a:latin typeface="Calibri"/>
                <a:ea typeface="Majalla UI"/>
              </a:rPr>
              <a:t>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عروض الأستاذة هناء العقيل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 هية المراجعة الداخلية – نايف آل خليفه</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أساسيات التدقيق الداخلي- </a:t>
            </a:r>
            <a:r>
              <a:rPr b="0" lang="en-US" sz="2800" spc="-1" strike="noStrike">
                <a:solidFill>
                  <a:srgbClr val="000000"/>
                </a:solidFill>
                <a:latin typeface="Calibri"/>
              </a:rPr>
              <a:t>PRC</a:t>
            </a:r>
            <a:r>
              <a:rPr b="0" lang="ar-SA"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98120" y="286920"/>
            <a:ext cx="9456840" cy="142884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إجراءات إنشاء قسم مراجعة داخلية</a:t>
            </a:r>
            <a:endParaRPr b="0" lang="en-US" sz="3600" spc="-1" strike="noStrike">
              <a:solidFill>
                <a:srgbClr val="000000"/>
              </a:solidFill>
              <a:latin typeface="Calibri Light"/>
            </a:endParaRPr>
          </a:p>
        </p:txBody>
      </p:sp>
      <p:sp>
        <p:nvSpPr>
          <p:cNvPr id="55" name=""/>
          <p:cNvSpPr txBox="1"/>
          <p:nvPr/>
        </p:nvSpPr>
        <p:spPr>
          <a:xfrm>
            <a:off x="1211400" y="1906200"/>
            <a:ext cx="9943920" cy="3962520"/>
          </a:xfrm>
          <a:prstGeom prst="rect">
            <a:avLst/>
          </a:prstGeom>
          <a:noFill/>
          <a:ln w="0">
            <a:noFill/>
          </a:ln>
        </p:spPr>
        <p:txBody>
          <a:bodyPr anchor="t">
            <a:normAutofit/>
          </a:bodyPr>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ختيار مدير قسم المراجعة الداخلية </a:t>
            </a:r>
            <a:endParaRPr b="0" lang="en-US" sz="2400" spc="-1" strike="noStrike">
              <a:solidFill>
                <a:srgbClr val="000000"/>
              </a:solidFill>
              <a:latin typeface="Calibri"/>
            </a:endParaRPr>
          </a:p>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موقع التنظيمي لقسم المراجعة الداخلية </a:t>
            </a:r>
            <a:endParaRPr b="0" lang="en-US" sz="2400" spc="-1" strike="noStrike">
              <a:solidFill>
                <a:srgbClr val="000000"/>
              </a:solidFill>
              <a:latin typeface="Calibri"/>
            </a:endParaRPr>
          </a:p>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خصيص مكان لقسم المراجعة الداخلية  </a:t>
            </a:r>
            <a:endParaRPr b="0" lang="en-US" sz="2400" spc="-1" strike="noStrike">
              <a:solidFill>
                <a:srgbClr val="000000"/>
              </a:solidFill>
              <a:latin typeface="Calibri"/>
            </a:endParaRPr>
          </a:p>
          <a:p>
            <a:pPr marL="514440" indent="-514440" algn="just" rtl="1">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ختيار الأفراد المؤهلين للعمل بقسم المراجعة الداخلي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ن حيث المؤهلات</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ن حيث الخبرة العملي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من حيث الصفات الشخص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تنظيم العمل بأقسام المراجعة الداخلية</a:t>
            </a:r>
            <a:endParaRPr b="0" lang="en-US" sz="3600" spc="-1" strike="noStrike">
              <a:solidFill>
                <a:srgbClr val="000000"/>
              </a:solidFill>
              <a:latin typeface="Calibri Light"/>
            </a:endParaRPr>
          </a:p>
        </p:txBody>
      </p:sp>
      <p:sp>
        <p:nvSpPr>
          <p:cNvPr id="57"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ظيم العمل بأقسام المراجعة الداخلية يعتبر من المسئوليات الأساسية لرئيس قسم المراجعة الداخلية </a:t>
            </a:r>
            <a:endParaRPr b="0" lang="en-US" sz="24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يشمل تنظيم العمل بأقسام المراجعة الداخلية ما يلي:</a:t>
            </a:r>
            <a:endParaRPr b="0" lang="en-US" sz="2400" spc="-1" strike="noStrike">
              <a:solidFill>
                <a:srgbClr val="000000"/>
              </a:solidFill>
              <a:latin typeface="Calibri"/>
            </a:endParaRPr>
          </a:p>
          <a:p>
            <a:pPr lvl="2" marL="118728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ريف المراجعين الداخلين بمهام قسم المراجعة الداخلية</a:t>
            </a:r>
            <a:endParaRPr b="0" lang="en-US" sz="2000" spc="-1" strike="noStrike">
              <a:solidFill>
                <a:srgbClr val="000000"/>
              </a:solidFill>
              <a:latin typeface="Calibri"/>
            </a:endParaRPr>
          </a:p>
          <a:p>
            <a:pPr lvl="2" marL="118728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الرتب الوظيفية داخل قسم المراجعة الداخلية</a:t>
            </a:r>
            <a:endParaRPr b="0" lang="en-US" sz="2000" spc="-1" strike="noStrike">
              <a:solidFill>
                <a:srgbClr val="000000"/>
              </a:solidFill>
              <a:latin typeface="Calibri"/>
            </a:endParaRPr>
          </a:p>
          <a:p>
            <a:pPr lvl="2" marL="1187280" indent="-457200" algn="r" rtl="1">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الأقسام أو الإدارات داخل قسم المراجعة الداخلية</a:t>
            </a:r>
            <a:endParaRPr b="0" lang="en-US" sz="2000" spc="-1" strike="noStrike">
              <a:solidFill>
                <a:srgbClr val="000000"/>
              </a:solidFill>
              <a:latin typeface="Calibri"/>
            </a:endParaRPr>
          </a:p>
          <a:p>
            <a:pPr lvl="3" marL="1473120" indent="-2858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دارة المراجعة - إدارة الاستشارات - </a:t>
            </a:r>
            <a:r>
              <a:rPr b="0" lang="ar-SA" sz="1800" spc="-1" strike="noStrike">
                <a:solidFill>
                  <a:srgbClr val="000000"/>
                </a:solidFill>
                <a:latin typeface="Calibri"/>
                <a:cs typeface="Arial"/>
              </a:rPr>
              <a:t>إدارة مراقبة الجودة- إدارة الأعمال المساندة والاتصالات - إدارة العمليات الخاصة</a:t>
            </a:r>
            <a:endParaRPr b="0" lang="en-US" sz="1800" spc="-1" strike="noStrike">
              <a:solidFill>
                <a:srgbClr val="000000"/>
              </a:solidFill>
              <a:latin typeface="Calibri"/>
            </a:endParaRPr>
          </a:p>
          <a:p>
            <a:pPr lvl="2" marL="1187280" indent="-457200" algn="r" rtl="1">
              <a:lnSpc>
                <a:spcPct val="90000"/>
              </a:lnSpc>
              <a:spcBef>
                <a:spcPts val="499"/>
              </a:spcBef>
              <a:buClr>
                <a:srgbClr val="000000"/>
              </a:buClr>
              <a:buFont typeface="Calibri Light"/>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عداد وإصدار ميثاق المراجعة الداخلية .</a:t>
            </a:r>
            <a:endParaRPr b="0" lang="en-US" sz="2000" spc="-1" strike="noStrike">
              <a:solidFill>
                <a:srgbClr val="000000"/>
              </a:solidFill>
              <a:latin typeface="Calibri"/>
            </a:endParaRPr>
          </a:p>
          <a:p>
            <a:pPr lvl="2" marL="1187280" indent="-457200" algn="r" rtl="1">
              <a:lnSpc>
                <a:spcPct val="90000"/>
              </a:lnSpc>
              <a:spcBef>
                <a:spcPts val="499"/>
              </a:spcBef>
              <a:buClr>
                <a:srgbClr val="000000"/>
              </a:buClr>
              <a:buFont typeface="Calibri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87320" indent="-514440" algn="r" rtl="1">
              <a:lnSpc>
                <a:spcPct val="9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8728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59" name=""/>
          <p:cNvSpPr txBox="1"/>
          <p:nvPr/>
        </p:nvSpPr>
        <p:spPr>
          <a:xfrm>
            <a:off x="1501560" y="1682640"/>
            <a:ext cx="9653400" cy="420048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تمل الميثاق على الفقرات التالية (على الأقل):</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أولى: معلومات عـامة</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فقرة الثانية: معلومات عن المنشا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ثالثة: معلومات عن قسم المراجعة الداخلي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رابعة: إدارة قسم المراجعة الداخلي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خامسة: تخطيط المراجعة الداخلية </a:t>
            </a:r>
            <a:r>
              <a:rPr b="0" lang="en-US" sz="2400" spc="-1" strike="noStrike">
                <a:solidFill>
                  <a:srgbClr val="000000"/>
                </a:solidFill>
                <a:latin typeface="Calibri"/>
                <a:ea typeface="Majalla UI"/>
              </a:rPr>
              <a:t>CH4</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سادسة: تنفيذ مهام المراجعة </a:t>
            </a:r>
            <a:r>
              <a:rPr b="0" lang="en-US" sz="2400" spc="-1" strike="noStrike">
                <a:solidFill>
                  <a:srgbClr val="000000"/>
                </a:solidFill>
                <a:latin typeface="Calibri"/>
              </a:rPr>
              <a:t>CH5</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فقرة السابعة: إعداد ورفع التقارير </a:t>
            </a:r>
            <a:r>
              <a:rPr b="0" lang="en-US" sz="2400" spc="-1" strike="noStrike">
                <a:solidFill>
                  <a:srgbClr val="000000"/>
                </a:solidFill>
                <a:latin typeface="Calibri"/>
              </a:rPr>
              <a:t>CH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fontScale="99000"/>
          </a:bodyPr>
          <a:p>
            <a:pPr marL="224640" indent="-22464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rabic Transparent"/>
              </a:rPr>
              <a:t> </a:t>
            </a:r>
            <a:r>
              <a:rPr b="0" lang="ar-SA" sz="2800" spc="-1" strike="noStrike">
                <a:solidFill>
                  <a:srgbClr val="000000"/>
                </a:solidFill>
                <a:latin typeface="Calibri"/>
                <a:cs typeface="Arabic Transparent"/>
              </a:rPr>
              <a:t>أهداف ميثاق المراجعة الداخلية</a:t>
            </a:r>
            <a:endParaRPr b="0" lang="en-US" sz="28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محلية ان وجدت</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شكيل السياسات الإدارية والتنظيمية بقسم 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حديد الواضح للمسؤوليات والسلطات داخل قسم 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حقيق التناسق بين أنشطة 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لخيص وتوحيد أساليب المراجعة الداخلية في القسم وتوفير التعليمات الخاصة بالمراجعة الداخلية.</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مساعدة فرق المراجعة في أداء مهامهم. </a:t>
            </a:r>
            <a:endParaRPr b="0" lang="en-US" sz="2400" spc="-1" strike="noStrike">
              <a:solidFill>
                <a:srgbClr val="000000"/>
              </a:solidFill>
              <a:latin typeface="Calibri"/>
            </a:endParaRPr>
          </a:p>
          <a:p>
            <a:pPr lvl="1" marL="609480" indent="-339480" algn="r" rtl="1">
              <a:lnSpc>
                <a:spcPct val="90000"/>
              </a:lnSpc>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عملية التدريب داخل قسم المراجعة.</a:t>
            </a:r>
            <a:endParaRPr b="0" lang="en-US" sz="2400" spc="-1" strike="noStrike">
              <a:solidFill>
                <a:srgbClr val="000000"/>
              </a:solidFill>
              <a:latin typeface="Calibri"/>
            </a:endParaRPr>
          </a:p>
          <a:p>
            <a:pPr lvl="1" marL="609480" indent="-339480" algn="r" rtl="1">
              <a:lnSpc>
                <a:spcPct val="9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rabic Transparent"/>
              </a:rPr>
              <a:t> </a:t>
            </a:r>
            <a:endParaRPr b="0" lang="en-US" sz="20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وزيع ميثاق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استخدامه فقط من قبل قسم المراجعة الداخلية بالمنشاة </a:t>
            </a:r>
            <a:endParaRPr b="0" lang="en-US" sz="24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عطاء الميثاق لأشخاص من خارج قسم المراجعة الداخلية ؟</a:t>
            </a:r>
            <a:endParaRPr b="0" lang="en-US" sz="20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الهيكل العام لميثاق المراجعة</a:t>
            </a:r>
            <a:endParaRPr b="0" lang="en-US" sz="36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إحداث تعديلات على ميثاق المراجعة الداخلية</a:t>
            </a:r>
            <a:endParaRPr b="0" lang="en-US" sz="28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ضمان مواكبة قسم المراجعة الداخلية في المنشأة للتطورات التي قد تحدث في المستقبل فإنه من فترة لأخرى يجب إعادة النظر في الميثاق وإدخال إي تعديلات عليه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خذ موافقة أعلى سلطة ادارية بالجهة على هذه التعديلات أو الإضافات قبل إصدارها.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kayan albalawi</cp:lastModifiedBy>
  <dcterms:modified xsi:type="dcterms:W3CDTF">2017-02-26T18:01:04Z</dcterms:modified>
  <cp:revision>284</cp:revision>
  <dc:subject/>
  <dc:title>إجراءات إنشاء وتنظيم وحدات المراجعة الداخلية وإداراتها</dc:title>
</cp:coreProperties>
</file>