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90C-894D-43B8-B59E-91C85624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00C6-D826-41F1-8B6B-C3540880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DA8-44E3-43EA-934F-B5226ED7B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095-E18C-452D-9D47-4992DDF6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E43-FB85-43A7-BF21-3E03B82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3FE-99AA-4DD9-BAB2-D5D0CD98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C87-18E2-45F9-8A98-289D663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B78-DD67-4822-B4A8-432F6067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139-C70B-4CEC-8176-E53F9001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F26-7238-4E21-9451-E6B95EC1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B221-245C-4A70-B060-3C0DD5B7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C74-C0DF-4D0C-B01D-04DE43E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CBBB-6108-458C-8D98-90DD398A7E74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979560" y="2276640"/>
            <a:ext cx="756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ثامن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9179-37F3-40EB-9F92-D9032C35291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260280"/>
            <a:ext cx="8642160" cy="37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القيادة التحويل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قدرة عالية على تحديد المشاكل وعلى تحديد طرق حله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حساسية لمشاعر المرؤوس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إثارة حماس ودافعية المروؤس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0983-2C88-4FDA-A6DC-8DD180F6A3F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826920" y="404640"/>
            <a:ext cx="806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موقف القي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نظرية فيدلر الموقف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6"/>
          <p:cNvSpPr/>
          <p:nvPr/>
        </p:nvSpPr>
        <p:spPr>
          <a:xfrm>
            <a:off x="1476360" y="177336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7"/>
          <p:cNvSpPr/>
          <p:nvPr/>
        </p:nvSpPr>
        <p:spPr>
          <a:xfrm>
            <a:off x="1476360" y="458136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1476360" y="1773360"/>
            <a:ext cx="295128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4356000" y="2276640"/>
            <a:ext cx="295272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500720" y="2421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نحنى الانتاجية العا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340000" y="2565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نحنى الانتاحية العا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539640" y="1773360"/>
            <a:ext cx="8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نمط قيادة مهتم بالانتا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50920" y="3645000"/>
            <a:ext cx="115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نمط قيادة مهتم بالعامل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116000" y="4653000"/>
            <a:ext cx="1944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وقف سه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علاقات حسنة بين القائد و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مهام واض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طات عا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987640" y="4581360"/>
            <a:ext cx="2519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وقف متوس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علاقات عادية بين القائد و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مهام متوسطة الوضو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طات متوسط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18"/>
          <p:cNvSpPr/>
          <p:nvPr/>
        </p:nvSpPr>
        <p:spPr>
          <a:xfrm flipH="1">
            <a:off x="3276360" y="292428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5580000" y="285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5796000" y="4581360"/>
            <a:ext cx="2050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موقف صعب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علاقات سيئة بين القائد و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موقف صع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طات ضعي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1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1662-92AD-457A-8003-13ACD38E79C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84360" y="189000"/>
            <a:ext cx="8135640" cy="56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في المواقف الصع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كون نمط القيادةالمهتم بالعمل والانتاج والتسلط فعال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في المواقف السهلة والموات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كون نمط القيادة المهتم بالعمل والانتاج  والتسلط فعالا ايض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في المواقف العادية أو المتوسطة الصع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كون نمط القيادة المهتم بالمروؤسين والعلاقات الانسانية فعال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F08-9803-4C41-92B6-A88571B70A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03280" y="0"/>
            <a:ext cx="8640720" cy="43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نظرية المسار والهد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أربعة أنماط للقياد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انسا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مشارك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موجه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قيادة المهتمة بالانجا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موقف القياد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طبيعة العم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شخصية 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وقد توصل هاوس الى النتائج المتضمنة في الشكل التالي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4365720"/>
          <a:ext cx="8497800" cy="2305080"/>
        </p:xfrm>
        <a:graphic>
          <a:graphicData uri="http://schemas.openxmlformats.org/drawingml/2006/table">
            <a:tbl>
              <a:tblPr/>
              <a:tblGrid>
                <a:gridCol w="2306520"/>
                <a:gridCol w="3148200"/>
                <a:gridCol w="304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نمط القيادة الفع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طبيعة الموقف القي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شخصية المروؤس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طبيعة ا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إنسان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مشا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موج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93640" indent="-45720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(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) مهتم بالانجا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ـــــــــــــــ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تق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نغل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ـــــــــــــــــــــ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 ومتكر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 ولكنه يحقق الذ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مل غامض ومر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7C88-E6C4-4C6F-8204-7A5A4870EA7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792000" y="0"/>
            <a:ext cx="8352000" cy="69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عناصر الموقف الإدار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عناصر شخصية المرؤسين وجماعة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عناصر خصائص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عناصر خصائص التنظ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عناصر شخصية المرؤس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عل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س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حجم الجم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خصائص الشخص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خصائص الجم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تعا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8587-0FFB-48A8-A42A-3D4C0159DD5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468360" y="189000"/>
            <a:ext cx="84247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عناصر خصائص العمل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وضوح المه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روتينية العم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مستوى المها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وافر المعلوم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خصائص التنظي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طبيعة هدف التنظ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طبيعة المخرج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نمط القيادة في الإدارة العل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81D-7876-4BAF-84B7-9D96EF62B0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39640" y="115920"/>
          <a:ext cx="8136000" cy="6707160"/>
        </p:xfrm>
        <a:graphic>
          <a:graphicData uri="http://schemas.openxmlformats.org/drawingml/2006/table">
            <a:tbl>
              <a:tblPr/>
              <a:tblGrid>
                <a:gridCol w="4032360"/>
                <a:gridCol w="41036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Book Antiqua"/>
                          <a:cs typeface="Times New Roman"/>
                        </a:rPr>
                        <a:t>نمط القيادة المهتم بالعلاقات الانسانية والمشاركة يكون فعالا في الاحوال التالية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Book Antiqua"/>
                          <a:cs typeface="Times New Roman"/>
                        </a:rPr>
                        <a:t>نمط القيادة المهتم بالعمل والتوجيه يكون فعالا في الظروف التالية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شرف يرغب في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رؤوسون راض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أن يكون محبوبا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شرف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اهر وخبير بالع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لديه ظروف صعبة أو سهلة للع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عضاء الجماع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تعلم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تخصص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صغار الس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تحمس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نضبط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6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ددهم قلي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عضاء الجماعة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دافعيتهم منخفض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عددهم كبي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عمل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ثي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فهو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عمل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غير واضح وغير مخطط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المرؤوسون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زودون القائد بمعلومات عن العم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ذووأهداف متسقة مع التنظي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قراراتهم موضوعي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ؤوسون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ذوو قيم تقليدي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أهدافهم متعارضة مع التنظي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قراراتهم شخصي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ضلون التوجي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التنظي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مخرجاته في شكل خدمات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هتم بالأفراد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لإدارة العليا تفضل نفس القياد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تنظي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مخرجاته في شكل انتاج كم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يهتم بالعمل والانتاج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لادارة العليا تفضل نفس نمط القيادة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B32-DA37-4CF1-AAD3-ABCED6D9382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0"/>
            <a:ext cx="8748720" cy="68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ماهية واهمية القيا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رف القيادة بأنها القدرة على التأثير في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مروؤسين في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زمل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عضاء في جماعة او تنظيم غير رسم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ظاهرة محورها التأث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أبعاد ظاهرة القيا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صفات القائ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وك القائد ونمط قيادت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الموقف القياد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سلوك المروؤس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سلوك القائد ..... متغير مستق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سلوك المروؤسين ..... متغيرات تابع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      الموقف القيادي ..... متغير وسي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01D-1634-465F-9B52-5FCEEC4DFB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24000" y="189000"/>
            <a:ext cx="8820000" cy="22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ل كونك مديرا يجعلك قائدا أيضا....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ليس بالضر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قائد قد يكون مديراً او لايكون مدي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 إذا توافر القائد فيفضل تقليده منصبا اداريا وإذا توافر مدير فيفضل تدريبه على القيادة. وذلك ليصبح القائد مديرا ولكي يصبح المدير قائدا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47640" y="2637000"/>
          <a:ext cx="6985080" cy="3816360"/>
        </p:xfrm>
        <a:graphic>
          <a:graphicData uri="http://schemas.openxmlformats.org/drawingml/2006/table">
            <a:tbl>
              <a:tblPr/>
              <a:tblGrid>
                <a:gridCol w="3529080"/>
                <a:gridCol w="3456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ادارة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قياد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تركز على السلطة الرسمية وعلى إذعان وامتثال الأفراد لهذه السلط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التنظيم الرسمي هو مصدر السلط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سلطة رسمية ومقنن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وصف التنظيمي للعلاقات هو جوهر التصرفات الإداري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تركز على النفوذ والتاثير الاجتماعي وعلى قبول الافراد لهذا النفو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جماعة والقبول الجماعي هما مصدرا لسلط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السلطة غير رسمي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التفاعل بين الافراد هو جوهر القيادة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D88C-2C75-477D-BC68-4CC3D87B2AD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115920"/>
            <a:ext cx="8642160" cy="65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القوة والنفوذ القياد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كيف يستطيع القائد ان يؤثر على سلوك مرؤوسي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مصادر القوة والنفوذ السياس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الحيل السياسية كمصدر للنفوذ القيا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كيف يستطيع القائد ان يؤثر في سلوك مرؤوسي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ستخدام المدعمات والعق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ديد اهداف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جمع وتحليل ونشر المعلو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ديد اساليب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هيئة ظروف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قديم النصح والخبرة والمكش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شراك الاخرين في الامور التي ته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حميس ورفع دافعية المرؤوس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C396-882F-48CC-8C18-0FE11AF4529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89000"/>
            <a:ext cx="835344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مصادر القوة والنفوذ القيا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الحاف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قوة العقاب والق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قوة الشرع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الاع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قوة الخب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حيل السياسية كمصدر للنفوذ القيادي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ستخدام المعلومات كمصدر للقو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خلق انطباعات معي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بناء علاقات وتربيطات (ودعم الاخرين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هجوم على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ستخدام السلطة كلعبة للسيطرة على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BD3D-2DD6-414A-AB9E-E1E32DBD52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404640"/>
            <a:ext cx="871380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شخصية القائ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  نظرية السمات (بعضها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قدرة على الاشر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ذك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حس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دافع عالي الانجا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دافع عالي لتحقيق الذ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07E9-0760-4AAA-A529-5A7DD6FF760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468360" y="260280"/>
            <a:ext cx="8496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0"/>
            <a:ext cx="842472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سلوك  القياد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دراسات أيو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دراسات أوهاي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دراسات ميتشج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دوجلاس ماكجريجر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x, 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نظريةالشبكة الادار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نظرية القيادة بالمشا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2349360"/>
          <a:ext cx="7632720" cy="4380120"/>
        </p:xfrm>
        <a:graphic>
          <a:graphicData uri="http://schemas.openxmlformats.org/drawingml/2006/table">
            <a:tbl>
              <a:tblPr/>
              <a:tblGrid>
                <a:gridCol w="5688000"/>
                <a:gridCol w="1944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أنماط الق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دراسة أو النظر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سلطى ............................... تسي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يو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نظيم العمل .........................الحساسية للا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أوهاي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هتم بالانتاج ....................... مهتم بالعامل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يتشج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س ................................... 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اكجريجو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.9</a:t>
                      </a: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..................................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شبكة الادار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غير مشارك ....................... مشار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شارك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0DB1-6115-4DE8-8A34-D3B78F9B86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24000" y="260280"/>
            <a:ext cx="8640720" cy="24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الدراسات  والنظريات الحديثة في السلوك القيا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التفاعل بين نمط الاشراف واسلوب اتخاذ القر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نظرية القيادة الالهمية والزعامي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- نظرية القيادة التحويل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لتفاعل بين نمط الاشراف واسلوب اتخاذ القر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195640" y="2781360"/>
          <a:ext cx="5472000" cy="3456000"/>
        </p:xfrm>
        <a:graphic>
          <a:graphicData uri="http://schemas.openxmlformats.org/drawingml/2006/table">
            <a:tbl>
              <a:tblPr/>
              <a:tblGrid>
                <a:gridCol w="5472000"/>
              </a:tblGrid>
              <a:tr h="345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5"/>
          <p:cNvSpPr/>
          <p:nvPr/>
        </p:nvSpPr>
        <p:spPr>
          <a:xfrm>
            <a:off x="4211640" y="3933720"/>
            <a:ext cx="34560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6012000" y="393372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421164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995640" y="270828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نمط الاش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419640" y="400536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تسل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2987640" y="5373720"/>
            <a:ext cx="122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ديمقراط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2340000" y="4005360"/>
            <a:ext cx="79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نمط اتخاذ القر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4572000" y="328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وج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6443640" y="328464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سماح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6156360" y="4437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سماحي متسل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4356000" y="443700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وجه متسل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4284720" y="5661000"/>
            <a:ext cx="16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موجه ديمقراط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6012000" y="5661000"/>
            <a:ext cx="173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سماحي ديمقراط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>
            <a:off x="6588000" y="3933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>
            <a:off x="5076720" y="393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4932360" y="51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2"/>
          <p:cNvSpPr/>
          <p:nvPr/>
        </p:nvSpPr>
        <p:spPr>
          <a:xfrm>
            <a:off x="6659640" y="5157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47D7-E942-42D1-A207-F2C1DF682B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39640" y="333360"/>
            <a:ext cx="8280360" cy="33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لقيادة الالها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هناك صفات تجعل من القائد ملهم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ثقة في النف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بصير والرؤ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سلوك غير عادي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رغبة في التغي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حساسية في الموق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187280" y="3716280"/>
            <a:ext cx="2376720" cy="792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اثارالزعامية ل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508720" y="4508640"/>
            <a:ext cx="1871640" cy="19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ثقة في النف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بصير والرؤ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سلوك غير عاد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رغبة في التغي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حساسية في الموق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419640" y="4869000"/>
            <a:ext cx="1944360" cy="1008000"/>
          </a:xfrm>
          <a:prstGeom prst="leftArrow">
            <a:avLst>
              <a:gd name="adj1" fmla="val 50000"/>
              <a:gd name="adj2" fmla="val 4822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292720" y="3716280"/>
            <a:ext cx="2376360" cy="792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صفات الالهامية ل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1403280" y="4508640"/>
            <a:ext cx="1871640" cy="19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ولاء ا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حماس لافكار القائ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تفاني في العمل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26FF-2FFD-4A9D-9D76-8F8A82307E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20:32Z</dcterms:modified>
  <cp:revision>7</cp:revision>
  <dc:subject/>
  <dc:title>Slide 1</dc:title>
</cp:coreProperties>
</file>