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ED3-F855-4936-91FB-C1491F2B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25F-CFD1-4863-92B9-66BC6FC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5CF-CF76-41C1-8CD0-3EA3C903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991-4307-44F8-A76D-C4E31A8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020-00B1-4475-ACE6-351F3B07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CB3-B834-4DC2-B29B-35A1B9C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FE2-EC6D-4C0D-99EA-09297EA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5C3-F846-4A91-83D1-3E05748D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B68-66A8-47CE-9FA3-A9117B4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5CF-5129-4AC2-8DBB-841E0D2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BDF-912B-4A5B-BDDD-5B04466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AEA-9D54-4DF7-AD0B-C8613F1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0D5-38CD-4ED3-AD4B-B03C721DD9C2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79560" y="2276640"/>
            <a:ext cx="756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ثامن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F122-64A1-4523-A67C-58F524CBE5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260280"/>
            <a:ext cx="864216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القيادة التحويل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قدرة عالية على تحديد المشاكل وعلى تحديد طرق حله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حساسية لمشاعر المرؤوس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إثارة حماس ودافعية المروؤس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CE0E-4E8F-405D-9BFE-2231C42F93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26920" y="404640"/>
            <a:ext cx="806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موقف القي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نظرية فيدلر الموقف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76360" y="1773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476360" y="4581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476360" y="1773360"/>
            <a:ext cx="2951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4356000" y="2276640"/>
            <a:ext cx="295272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500720" y="2421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نحنى الانتاجية ال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34000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نحنى الانتاحية ال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9640" y="1773360"/>
            <a:ext cx="8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نمط قيادة مهتم بالانتا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50920" y="364500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نمط قيادة مهتم بالعامل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116000" y="4653000"/>
            <a:ext cx="194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سه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حسن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هام واض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987640" y="4581360"/>
            <a:ext cx="2519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متوس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عادي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هام متوسطة الوضو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متوسط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8"/>
          <p:cNvSpPr/>
          <p:nvPr/>
        </p:nvSpPr>
        <p:spPr>
          <a:xfrm flipH="1">
            <a:off x="3276360" y="292428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5580000" y="285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5796000" y="4581360"/>
            <a:ext cx="2050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صعب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سيئ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وقف صع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ضعي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4A2-C2ED-4F1B-BE5E-1C6022EA45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84360" y="189000"/>
            <a:ext cx="81356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صع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المهتم بالعمل والانتاج والتسلط فعال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سهلة والموات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 المهتم بالعمل والانتاج  والتسلط فعالا ايض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عادية أو المتوسطة الصع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 المهتم بالمروؤسين والعلاقات الانسانية فعال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6462-7FE3-4047-BB11-1772CE7774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03280" y="0"/>
            <a:ext cx="8640720" cy="43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نظرية المسار والهد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ربعة أنماط للقيا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انسا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شارك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وجه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هتمة بالانجا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وقف القياد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طبيعة العم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شخصية 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وقد توصل هاوس الى النتائج المتضمنة في الشكل التالي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4365720"/>
          <a:ext cx="8497800" cy="2305080"/>
        </p:xfrm>
        <a:graphic>
          <a:graphicData uri="http://schemas.openxmlformats.org/drawingml/2006/table">
            <a:tbl>
              <a:tblPr/>
              <a:tblGrid>
                <a:gridCol w="2306520"/>
                <a:gridCol w="3148200"/>
                <a:gridCol w="304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نمط القيادة الفع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طبيعة الموقف القي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شخصية المروؤ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طبيعة ا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إنسا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شا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وج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هتم بالانج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ـ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ت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غل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متك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لكنه يحقق الذ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م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350-5857-405D-B070-284D27BB9A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792000" y="0"/>
            <a:ext cx="8352000" cy="69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عناصر الموقف الإدا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شخصية المرؤسين وجماعة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خصائص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خصائص التنظ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عناصر شخصية المرؤس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عل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س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جم 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خصائص الشخص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خصائص 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عا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ADC-385F-4436-825C-DEDC333454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468360" y="189000"/>
            <a:ext cx="84247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عناصر خصائص العمل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ضوح المه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روتينية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مستوى المها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وافر المعلوم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خصائص التنظي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بيعة هدف التنظ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بيعة المخرج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نمط القيادة في الإدارة العل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055-04BF-4571-A075-2949B80772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9640" y="115920"/>
          <a:ext cx="8136000" cy="6707160"/>
        </p:xfrm>
        <a:graphic>
          <a:graphicData uri="http://schemas.openxmlformats.org/drawingml/2006/table">
            <a:tbl>
              <a:tblPr/>
              <a:tblGrid>
                <a:gridCol w="4032360"/>
                <a:gridCol w="4103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نمط القيادة المهتم بالعلاقات الانسانية والمشاركة يكون فعالا في الاحوال التالية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نمط القيادة المهتم بالعمل والتوجيه يكون فعالا في الظروف التالية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رف يرغب في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رؤوسون راض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أن يكون محبوبا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رف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اهر وخبير با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لديه ظروف صعبة أو سهلة ل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عضاء الجماع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علم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خصص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صغار الس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حمس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نضبط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6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ددهم قلي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عضاء الجماع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دافعيتهم منخفض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ددهم كب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عمل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ثي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فهو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عمل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غير واضح وغير مخط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المرؤوسون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زودون القائد بمعلومات عن ا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ذووأهداف متسقة مع التنظي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قراراتهم موضوع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ؤوسون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ذوو قيم تقليد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أهدافهم متعارضة مع التنظي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قراراتهم شخص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ضلون التوجي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التنظي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مخرجاته في شكل خدم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هتم بالأفراد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لإدارة العليا تفضل نفس القيا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تنظي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خرجاته في شكل انتاج كم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هتم بالعمل والانتاج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لادارة العليا تفضل نفس نمط القيا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66AF-F5FD-4154-8E8C-1F60155B8E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0"/>
            <a:ext cx="8748720" cy="68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ماهية واهمية القي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رف القيادة بأنها القدرة على التأثير في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مروؤسين في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زمل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عضاء في جماعة او تنظيم غير رسم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ظاهرة محورها التأث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أبعاد ظاهرة القي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صفات القائ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وك القائد ونمط قياد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الموقف القياد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وك 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سلوك القائد ..... متغير مستق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سلوك المروؤسين ..... متغيرات تابع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الموقف القيادي ..... متغير وسي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8D1-39CF-4319-A0C7-A646C1EF1A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189000"/>
            <a:ext cx="8820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ل كونك مديرا يجعلك قائدا أيضا....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ليس بالضر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قائد قد يكون مديراً او لايكون مدي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 إذا توافر القائد فيفضل تقليده منصبا اداريا وإذا توافر مدير فيفضل تدريبه على القيادة. وذلك ليصبح القائد مديرا ولكي يصبح المدير قائد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47640" y="2637000"/>
          <a:ext cx="698508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3456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ادارة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قياد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تركز على السلطة الرسمية وعلى إذعان وامتثال الأفراد لهذه ا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التنظيم الرسمي هو مصدر ا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سلطة رسمية ومقنن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وصف التنظيمي للعلاقات هو جوهر التصرفات الإدار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تركز على النفوذ والتاثير الاجتماعي وعلى قبول الافراد لهذا النفو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جماعة والقبول الجماعي هما مصدرا 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السلطة غير رسم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تفاعل بين الافراد هو جوهر القياد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6D7-7E71-409F-BB62-45EE8C5FCB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115920"/>
            <a:ext cx="8642160" cy="65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قوة والنفوذ القياد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كيف يستطيع القائد ان يؤثر على سلوك مرؤوسي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مصادر القوة والنفوذ السياس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الحيل السياسية كمصدر للنفوذ القيا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كيف يستطيع القائد ان يؤثر في سلوك مرؤوسي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مدعمات والعق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اهداف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جمع وتحليل ونشر المعلو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اساليب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هيئة ظروف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قديم النصح والخبرة والمكش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شراك الاخرين في الامور التي ته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ميس ورفع دافعية المرؤوس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20D-7770-4008-A547-A42079EB9F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89000"/>
            <a:ext cx="83534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مصادر القوة والنفوذ القي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حاف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قوة العقاب والق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قوة الشرع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اع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خب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حيل السياسية كمصدر للنفوذ القياد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معلومات كمصدر للقو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خلق انطباعات م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بناء علاقات وتربيطات (ودعم الاخر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هجوم على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سلطة كلعبة للسيطرة على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915-CF88-43A2-A645-F1318B9CBA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404640"/>
            <a:ext cx="871380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شخصية القائ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  نظرية السمات (بعضها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قدرة على الاشر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ذ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حس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دافع عالي الانجا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دافع عالي لتحقيق الذ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F87A-242A-4ED3-ADE6-28CB491CF3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260280"/>
            <a:ext cx="849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0"/>
            <a:ext cx="842472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سلوك  القي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أيو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أوهاي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ميتشج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دوجلاس ماكجريجر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,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نظريةالشبكة الادا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نظرية القيادة بال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2349360"/>
          <a:ext cx="7632720" cy="4380120"/>
        </p:xfrm>
        <a:graphic>
          <a:graphicData uri="http://schemas.openxmlformats.org/drawingml/2006/table">
            <a:tbl>
              <a:tblPr/>
              <a:tblGrid>
                <a:gridCol w="5688000"/>
                <a:gridCol w="1944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أنماط 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دراسة أو النظ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سلطى ............................... تسي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يو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نظيم العمل .........................الحساسية للا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وهاي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هتم بالانتاج ....................... مهتم بالعامل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يتشج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 ................................... 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اكجريج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.9</a:t>
                      </a: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..................................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شبكة الادا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شارك ....................... مشار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ا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223-F3B3-48BE-AD24-4670DE8C81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0280"/>
            <a:ext cx="86407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دراسات  والنظريات الحديثة في السلوك القي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التفاعل بين نمط الاشراف واسلوب اتخاذ القر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نظرية القيادة الالهمية والزعام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نظرية القيادة التحوي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تفاعل بين نمط الاشراف واسلوب اتخاذ القر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95640" y="2781360"/>
          <a:ext cx="5472000" cy="3456000"/>
        </p:xfrm>
        <a:graphic>
          <a:graphicData uri="http://schemas.openxmlformats.org/drawingml/2006/table">
            <a:tbl>
              <a:tblPr/>
              <a:tblGrid>
                <a:gridCol w="547200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5"/>
          <p:cNvSpPr/>
          <p:nvPr/>
        </p:nvSpPr>
        <p:spPr>
          <a:xfrm>
            <a:off x="4211640" y="3933720"/>
            <a:ext cx="3456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6012000" y="3933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421164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995640" y="2708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نمط الاش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419640" y="400536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تسل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987640" y="537372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2340000" y="4005360"/>
            <a:ext cx="79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نمط اتخاذ القر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572000" y="328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6443640" y="3284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سماح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6156360" y="44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سماحي متسل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356000" y="4437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 متسل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4284720" y="5661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 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012000" y="5661000"/>
            <a:ext cx="17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سماحي 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6588000" y="3933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076720" y="393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932360" y="51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15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73B0-D434-40BF-BD94-ADBE7C5C79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9640" y="333360"/>
            <a:ext cx="82803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قيادة الالها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هناك صفات تجعل من القائد ملهم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ثقة في النف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بصير والرؤ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سلوك غير عاد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غبة في التغي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حساسية في الموق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187280" y="3716280"/>
            <a:ext cx="237672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اثارالزعامية ل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508720" y="4508640"/>
            <a:ext cx="187164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ثقة في النف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بصير والرؤ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سلوك غير عا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رغبة في التغي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حساسية في الموق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419640" y="4869000"/>
            <a:ext cx="1944360" cy="1008000"/>
          </a:xfrm>
          <a:prstGeom prst="leftArrow">
            <a:avLst>
              <a:gd name="adj1" fmla="val 50000"/>
              <a:gd name="adj2" fmla="val 4822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292720" y="3716280"/>
            <a:ext cx="237636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صفات الالهامية ل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1403280" y="4508640"/>
            <a:ext cx="187164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ولاء ا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حماس لافكار ا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فاني في العم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9A08-E5AA-4DF9-BBD6-01DE0A9AD9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0:32Z</dcterms:modified>
  <cp:revision>7</cp:revision>
  <dc:subject/>
  <dc:title>Slide 1</dc:title>
</cp:coreProperties>
</file>