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E6779-AFFB-4DB9-9F4E-14B15F70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53480-BC84-4F0C-88B3-2F034E896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FDB99-26B4-4E0D-9BD7-C25BB0D7B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5CD0D-8BDB-4989-BE17-9FB49C28A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C499A-215A-4F12-BAF5-BE3B3ECA2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78CC7-4BD9-4F78-B302-691F64BA2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7F6DC-8842-4D0C-866E-101F90BAB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FF1C1-2A81-4B2B-AAD4-B644E349C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96432-31CB-496D-997D-ED518006F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12D75-07CC-4C8B-B788-17123DBD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C6AB-0268-4379-875C-97DEC235D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30850-FBE0-4B3D-B3F0-5FE8EB8E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1943D-01CB-4378-9D0A-326E5395D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AD5EB-62A4-4A85-A775-603280D25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CCA5F-A1AC-4FE8-A454-F78709F6E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1945D-67C0-4E42-94B5-76D86CECA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0B53E-7132-412D-88A6-89BD82066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5F92-050A-4D78-84F1-9DBD6CF6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FE4B-C668-4A30-A71E-049C44AB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B651-C87B-41B0-83F2-16AD7729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060B9-FF5A-431F-8494-6AA9C64B4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2AB6-2F16-43A5-85F3-178EF995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D7FC-2AF2-4BF4-8999-A599B186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D9B0-561C-4673-A76B-E199A4C39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3C2F-55D0-47EB-B174-E5B0A3B70E5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CD2A-4C29-4383-BA12-B0D94D6AC97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p:nvPr/>
        </p:nvSpPr>
        <p:spPr>
          <a:xfrm>
            <a:off x="0" y="610920"/>
            <a:ext cx="8893080" cy="563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ثامن : الأصول الثابتة</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أصل الثاب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الأصل الذي تحت حيازة المنشأة لتسهيل عملية الإنتاج والذي يستخدم أكثر من فترة محاسبية (أكثر من سنة ماليه) </a:t>
            </a:r>
            <a:r>
              <a:rPr b="1" lang="ar-SA" sz="2800" spc="-1" strike="noStrike">
                <a:solidFill>
                  <a:srgbClr val="ffffff"/>
                </a:solidFill>
                <a:latin typeface="Arial"/>
              </a:rPr>
              <a:t>وتنقسم الأصول الثابته إلى قسمين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أصول ثابتة ملموسة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أراضي –المباني – السيارات- الاثاث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أصول ثابتة غير ملموسة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شهرة – العلامة التجارية – حقوق التأليف)</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اذا يقصد بالإنتاج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كل عملية تؤدي بالمنشأة للحصول على إيرادات من بيع البضائع أو الخدمات</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
          <p:cNvSpPr/>
          <p:nvPr/>
        </p:nvSpPr>
        <p:spPr>
          <a:xfrm>
            <a:off x="0" y="1189080"/>
            <a:ext cx="89694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a:t>
            </a:r>
            <a:r>
              <a:rPr b="1" lang="ar-SA" sz="2400" spc="-1" strike="noStrike">
                <a:solidFill>
                  <a:srgbClr val="ffffff"/>
                </a:solidFill>
                <a:latin typeface="Arial"/>
              </a:rPr>
              <a:t>طريقة مجموع أرقام الس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طريقة تحمل الإنتاج في السنوات الاولى من حياة الأصل بنصيب أكبر من التكلفة التي تتحملها السنوات الاخير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وات 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نحسب مجموع أرقام السنوات لحياة الأصل ليمثل مقام الكس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بسط الكسر يكون حسب النسبة المراد حساب إستهلاك الاصل ع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3</a:t>
            </a:r>
            <a:r>
              <a:rPr b="0" lang="ar-SA" sz="2400" spc="-1" strike="noStrike">
                <a:solidFill>
                  <a:srgbClr val="ffffff"/>
                </a:solidFill>
                <a:latin typeface="Arial"/>
              </a:rPr>
              <a:t>/ قسط الإستهلاك للسنة = (تكلفة الأصل – قيمته كخردة ) × الكسر لنسبة المراد حساب الإستهلاك عنها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
          <p:cNvSpPr/>
          <p:nvPr/>
        </p:nvSpPr>
        <p:spPr>
          <a:xfrm>
            <a:off x="214560" y="1072080"/>
            <a:ext cx="9357840" cy="1922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3</a:t>
            </a:r>
            <a:r>
              <a:rPr b="1" lang="ar-SA" sz="2400" spc="-1" strike="noStrike">
                <a:solidFill>
                  <a:srgbClr val="ffffff"/>
                </a:solidFill>
                <a:latin typeface="Arial"/>
                <a:ea typeface="Times New Roman"/>
              </a:rPr>
              <a:t>/ طريقة وحدات الإنتاج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رفة معيار وحدة الإنتاج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تقدير الطاقة المتوقع الحصول عليها من الاصل طيلة إستخدامه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flipH="1">
            <a:off x="3711240" y="365904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0" y="2670480"/>
            <a:ext cx="878508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حساب معامل الإستهلاك=تكلفة الأصل ــــ قيمته كخرد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وحدات الإنتاج المقدرة طيلة إستخدام الأ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4</a:t>
            </a:r>
            <a:r>
              <a:rPr b="0" lang="ar-SA" sz="2400" spc="-1" strike="noStrike">
                <a:solidFill>
                  <a:srgbClr val="ffffff"/>
                </a:solidFill>
                <a:latin typeface="Arial"/>
                <a:ea typeface="Times New Roman"/>
              </a:rPr>
              <a:t>/قسط الإستهلاك في سنة معينة = معامل الإستهلاك ×وحدات الإنتاج الفعلية لنفس السن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
          <p:cNvSpPr/>
          <p:nvPr/>
        </p:nvSpPr>
        <p:spPr>
          <a:xfrm flipH="1">
            <a:off x="1258560" y="3068640"/>
            <a:ext cx="403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
          <p:cNvSpPr/>
          <p:nvPr/>
        </p:nvSpPr>
        <p:spPr>
          <a:xfrm>
            <a:off x="2259360" y="1649880"/>
            <a:ext cx="686664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الجة المحاسبية ل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يد مصرف الإستهلاك لكل سنة بالقيد التا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روف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جمع الإستهلاك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
          <p:cNvSpPr/>
          <p:nvPr/>
        </p:nvSpPr>
        <p:spPr>
          <a:xfrm>
            <a:off x="1738440" y="1362600"/>
            <a:ext cx="722628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قفل في نهاية السنة بالقيد التا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تاجرة أرباح وخسائ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مصروف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ساب مصروف الإستهلاك لجزء من السن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
          <p:cNvSpPr/>
          <p:nvPr/>
        </p:nvSpPr>
        <p:spPr>
          <a:xfrm>
            <a:off x="0" y="1148400"/>
            <a:ext cx="914400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يع الأصل الثابت وإقفال الحساب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يتم البيع للأصل فيكون إما </a:t>
            </a:r>
            <a:r>
              <a:rPr b="0" lang="ar-SA" sz="2400" spc="-1" strike="noStrike">
                <a:solidFill>
                  <a:srgbClr val="ffffff"/>
                </a:solidFill>
                <a:latin typeface="Arial"/>
              </a:rPr>
              <a:t>1</a:t>
            </a:r>
            <a:r>
              <a:rPr b="0" lang="ar-SA" sz="2400" spc="-1" strike="noStrike">
                <a:solidFill>
                  <a:srgbClr val="ffffff"/>
                </a:solidFill>
                <a:latin typeface="Arial"/>
              </a:rPr>
              <a:t>/ بقيمة مساوية للقيمة الدفترية للأصل فلا تحقق المنشأة ربحا أو خسا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ربح وخسارة بيع الأصل = ثمن البيع ــــ(تكلفة الأصل ـــ مجمع الإستهلاك حتى تاريخ البي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
          <p:cNvSpPr/>
          <p:nvPr/>
        </p:nvSpPr>
        <p:spPr>
          <a:xfrm>
            <a:off x="326160" y="1554120"/>
            <a:ext cx="9242640" cy="302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في حالة البيع بقيمة أكبر من القيمة الدفترية للأصل وبالتالي تحقيق رب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أصل (بالتكلف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ربح بيع الأص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
          <p:cNvSpPr/>
          <p:nvPr/>
        </p:nvSpPr>
        <p:spPr>
          <a:xfrm>
            <a:off x="-482040" y="1409400"/>
            <a:ext cx="10519560" cy="302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في حالة بيع الأصل بأقل من القيمة الدفترية للاصل المباع فتحقق المنشاة خسا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خسارة بيع الأ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
          <p:cNvSpPr/>
          <p:nvPr/>
        </p:nvSpPr>
        <p:spPr>
          <a:xfrm>
            <a:off x="250920" y="1951200"/>
            <a:ext cx="8893080" cy="22885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ول الغير ملموسة :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ماتحت يد المنشأة من منافع إقتصادية ليس لها وجود مادي وتسجل بتكلفة الحصول عليها وتظهر في قائمة المركز المالي في جانب الاصول الغير ملموسة وتستنفذ إمابحسب سنوات الإستنفاذ أوسنوات تحددها جهات حكومية أيهما أقل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p:nvPr/>
        </p:nvSpPr>
        <p:spPr>
          <a:xfrm>
            <a:off x="0" y="170388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أصل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حصول على الأصل عن طريق إحدى الطرق التالية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 الشراء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البناء و التصنيع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أويمنح للمنشأ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ظهر الأصل في السجلات إما عن طريق التكلفة الفعلية للأصل أو التكلفة المقدرة في بعض الحال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
          <p:cNvSpPr/>
          <p:nvPr/>
        </p:nvSpPr>
        <p:spPr>
          <a:xfrm>
            <a:off x="0" y="609840"/>
            <a:ext cx="9144000" cy="5639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في حالة شراء الأصل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تكون التكلفة الفعلية للأصل جميع ماصرف على الأصل ليكون جاهز للإستخدام في الغرض الذي أشتري من أجله</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كلفة الفعلية للأصل = ثمن الشراء + جميع ماصرف عليه لجعله صالحا للإستخدام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في حالة بناء الأصل أو تصنيعه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كلفة الفعلية للأصل = المواد المباشرة + الأجور المباشرة + المصاريف الصناعية الأخرى المباشرة +نصيبه من المصاريف الصناعية الأخرى الغير مباش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في حالة منح الأصل الثابت للمنشأ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يظهر الاصل في السجلات على أساس تقدير التكلفة بقيمة معقولة من واقع السوق أو أصحاب الإختصا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0" y="1250640"/>
            <a:ext cx="874872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هدف من تسجيل الأصل الثابت في السجلا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لتمثل السجلات المنشأة تمثيلا عادلا من واقع المنشأة المالي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لتوزيع تكلفة الاصل الثابت على الإيرادات التي ستتحقق عن طريق إستخدام هذا الأصل وهذا مايسمى بالإستهلاك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إستهلاك الاصل الثاب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فه معهد المحاسبة الأمريكي بأنه نظام أو طريقة محاسبية تهدف إلى توزيع تكلفة الأصل الثابت على الحياة الإنتاجية لذلك الأصل حسب طريقة منطق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
          <p:cNvSpPr/>
          <p:nvPr/>
        </p:nvSpPr>
        <p:spPr>
          <a:xfrm>
            <a:off x="0" y="735120"/>
            <a:ext cx="8675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ديد قسط الإستهلاك</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بد من تحديد ثلاثة عوامل  </a:t>
            </a:r>
            <a:r>
              <a:rPr b="0" lang="ar-SA" sz="2800" spc="-1" strike="noStrike">
                <a:solidFill>
                  <a:srgbClr val="ffffff"/>
                </a:solidFill>
                <a:latin typeface="Arial"/>
              </a:rPr>
              <a:t>1</a:t>
            </a:r>
            <a:r>
              <a:rPr b="0" lang="ar-SA" sz="2800" spc="-1" strike="noStrike">
                <a:solidFill>
                  <a:srgbClr val="ffffff"/>
                </a:solidFill>
                <a:latin typeface="Arial"/>
              </a:rPr>
              <a:t>/ تكلفة الأصل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القيمة البيعية للأصل في نهاية عمرة الإنتاجي              (الخرد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العمر الإنتاجي للأص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ق الإستهلا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طريقة القسط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طريقة القسط المتناقص أ- طريقة مجموع أرقام الس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 طريقة مضاعف القسط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طريقة وحدات الإنتا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
          <p:cNvSpPr/>
          <p:nvPr/>
        </p:nvSpPr>
        <p:spPr>
          <a:xfrm>
            <a:off x="5292720" y="947520"/>
            <a:ext cx="3240000" cy="1191240"/>
          </a:xfrm>
          <a:prstGeom prst="rect">
            <a:avLst/>
          </a:prstGeom>
          <a:noFill/>
          <a:ln w="0">
            <a:noFill/>
          </a:ln>
        </p:spPr>
        <p:style>
          <a:lnRef idx="0"/>
          <a:fillRef idx="0"/>
          <a:effectRef idx="0"/>
          <a:fontRef idx="minor"/>
        </p:style>
        <p:txBody>
          <a:bodyPr lIns="90000" rIns="90000" tIns="46800" bIns="46800" anchor="ctr">
            <a:spAutoFit/>
          </a:bodyPr>
          <a:p>
            <a:pPr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طريقة القسط الثابت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flipH="1">
            <a:off x="5795640" y="2492280"/>
            <a:ext cx="17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0" y="188424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سط السنوي للإستهلاك = تكلفة الأصل ــــ قيمته كخردة</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للأصل</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
          <p:cNvSpPr/>
          <p:nvPr/>
        </p:nvSpPr>
        <p:spPr>
          <a:xfrm flipH="1">
            <a:off x="3635280" y="227664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16080" y="3139920"/>
            <a:ext cx="88279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سط السنوي للإستهلاك لو وجدت نسبة = (تكلفة الاصل ـــــ قيمته كخردة ) × نسبة القسط الثابت </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سهولة حسابها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سهولة تبريرها حيث أن كل سنة من حياة الاصل الإنتاجية تتحمل بجزء من تكلفة الأصل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يوب طريقة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عدم عدالتها حيث تعامل الوحدات المنتجة في بداية إستخدام الاصل معاملة الوحدات المنتجة في نهاية مدة إستخدامها رغم أن في نهاية حياة الأصل عادة ماتتعرض الوحدات المنتجة لزيادة التكاليف نتيجة لقلة كفاءة الأصل وزيادة مصاريف صيانت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
          <p:cNvSpPr/>
          <p:nvPr/>
        </p:nvSpPr>
        <p:spPr>
          <a:xfrm>
            <a:off x="0" y="14767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طريقة القسط المتناقص :    أ/ طريقة مضاعف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في ظل هذة الطريقة تضاعف نسبة القسط الثابت دون الأخذ بالإعتبار قيمة الخردة عند حساب النسبة </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flipH="1">
            <a:off x="3755880" y="355932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0" y="3171960"/>
            <a:ext cx="9144000" cy="2836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دل الإستهلاك (نسبة الإستهلاك ) = (تكلفة الأصل    ÷  تكلفة الأصل ) × </a:t>
            </a:r>
            <a:r>
              <a:rPr b="0" lang="ar-SA" sz="2400" spc="-1" strike="noStrike">
                <a:solidFill>
                  <a:srgbClr val="ffffff"/>
                </a:solidFill>
                <a:latin typeface="Arial"/>
                <a:ea typeface="Times New Roman"/>
              </a:rPr>
              <a:t>100</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مضاعف القسط الثابت = معدل الإستهلاك ×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 قسط الإستهلاك السنوي وفقا لمضاعف القسط الثابت = (تكلفة الأصل ـــــ مجمع الإستهلاك ) × مضاعف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33" name=""/>
          <p:cNvSpPr/>
          <p:nvPr/>
        </p:nvSpPr>
        <p:spPr>
          <a:xfrm flipH="1">
            <a:off x="3276360" y="3789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
          <p:cNvSpPr/>
          <p:nvPr/>
        </p:nvSpPr>
        <p:spPr>
          <a:xfrm>
            <a:off x="0" y="2523600"/>
            <a:ext cx="914400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متناقص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لافي بعض عيوب طريقة القسط الثابت من خلال أن مصرف الإستهلاك ينخفض كلما زاد العمر الإنتاجي للأصل .</a:t>
            </a:r>
            <a:endParaRPr b="0" lang="en-US" sz="2400" spc="-1" strike="noStrike">
              <a:solidFill>
                <a:srgbClr val="ffffff"/>
              </a:solidFill>
              <a:latin typeface="Arial"/>
            </a:endParaRPr>
          </a:p>
          <a:p>
            <a:pPr algn="r">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7:19:54Z</dcterms:created>
  <dc:creator>User</dc:creator>
  <dc:description/>
  <dc:language>en-US</dc:language>
  <cp:lastModifiedBy>User</cp:lastModifiedBy>
  <dcterms:modified xsi:type="dcterms:W3CDTF">2009-12-31T10:46:34Z</dcterms:modified>
  <cp:revision>3</cp:revision>
  <dc:subject/>
  <dc:title>Slide 1</dc:title>
</cp:coreProperties>
</file>