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7F046-7772-4C69-93AE-469A9419B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1AD09-366E-46EA-8DA4-45B4134FA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803BC-B5BA-4D0E-94B9-9BCD51B23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26F24-ACE0-4AB0-91E8-490BECD27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B8537-79AB-40CC-8BAB-68FFE6CBA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3A4DA-ED98-476F-BBEF-180942EAA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04C44-861C-45E7-8AEF-90BD96CEF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638E4-6781-4F73-AF02-46F1EB070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D49CF-608C-4063-B833-4B777BBD9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C1863-C8D7-4F04-9040-50AF8DD5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E663B-7B5C-48FF-9B2F-26C63170F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3B32-7C49-440F-98EA-BD13B39FA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A27F9-F05E-48EC-B4FC-F48AE5DEE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628D1-EBA0-43E0-9E38-570DF3AC7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C4D69-F14F-4CF4-B372-E7606563A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DF837-2DEA-44D7-9748-6059EE3BC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F181D-22D4-425F-ACDE-CC3117507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91C4-4A54-4883-B118-C6D06163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1E50-C2DE-483E-8376-5C9754D88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5C2EE-F364-466B-BF9A-55261988E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FE4B2-58CF-4358-A9C5-F8ABEA2BA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1A2A-A09A-463D-A59F-0DEF0617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45FF-B58C-444D-A8C2-6165F7C02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522E-409F-4228-906E-DB5643BCF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85B-BB7C-46D8-8771-43158F5764D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83BE-F9E6-442E-B805-34CBCC4BEE67}"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0" y="610920"/>
            <a:ext cx="8893080" cy="5639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ثامن : الأصول الثابتة</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أصل الثابت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الأصل الذي تحت حيازة المنشأة لتسهيل عملية الإنتاج والذي يستخدم أكثر من فترة محاسبية (أكثر من سنة ماليه) </a:t>
            </a:r>
            <a:r>
              <a:rPr b="1" lang="ar-SA" sz="2800" spc="-1" strike="noStrike">
                <a:solidFill>
                  <a:srgbClr val="ffffff"/>
                </a:solidFill>
                <a:latin typeface="Arial"/>
              </a:rPr>
              <a:t>وتنقسم الأصول الثابته إلى قسمين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أصول ثابتة ملموسة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أراضي –المباني – السيارات- الاثاث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أصول ثابتة غير ملموسة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شهرة – العلامة التجارية – حقوق التأليف)</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اذا يقصد بالإنتاج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كل عملية تؤدي بالمنشأة للحصول على إيرادات من بيع البضائع أو الخدمات</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611280" y="-183960"/>
            <a:ext cx="7326360" cy="5214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عالجة المحاسبية ل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يد مصرف الإستهلاك لكل سنة بالقيد التا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صروف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مجمع الإستهلاك</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ظهر مصروف الإستهلاك السنوي كل سنه حسب الطريقة المستخدمه ضمن المصروفات في قائمة الدخل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ينما مجمع الإستهلاك يظهر ضمن قائمة المركز المالي في جانب الاصول الثابته مخصوم من تكلفة الأصل لإظهار القيمة الدفترية للأصل الثابت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قيمة الدفترية للأصل الثابت = تكلفة الأصل – مجمع الإستهلاك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706760" y="1545120"/>
            <a:ext cx="7226280" cy="19227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قفل مصروف الإستهلاك في نهاية السنة بالقيد التا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تاجرة أرباح وخسائ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مصروف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1148400"/>
            <a:ext cx="9144000" cy="4117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يع الأصل الثابت وإقفال الحسابات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ما يتم البيع للأصل فيكون إما </a:t>
            </a:r>
            <a:r>
              <a:rPr b="0" lang="ar-SA" sz="2400" spc="-1" strike="noStrike">
                <a:solidFill>
                  <a:srgbClr val="ffffff"/>
                </a:solidFill>
                <a:latin typeface="Arial"/>
              </a:rPr>
              <a:t>1</a:t>
            </a:r>
            <a:r>
              <a:rPr b="0" lang="ar-SA" sz="2400" spc="-1" strike="noStrike">
                <a:solidFill>
                  <a:srgbClr val="ffffff"/>
                </a:solidFill>
                <a:latin typeface="Arial"/>
              </a:rPr>
              <a:t>/ بقيمة مساوية للقيمة الدفترية للأصل فلا تحقق المنشأة ربحا أو خسار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ربح وخسارة بيع الأصل = ثمن البيع ــــ(تكلفة الأصل ـــ مجمع الإستهلاك حتى تاريخ البيع)</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326160" y="1554120"/>
            <a:ext cx="9242640" cy="30200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في حالة البيع بقيمة أكبر من القيمة الدفترية للأصل وبالتالي تحقيق ربح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مجمع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مذكورين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أصل (بالتكلف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ربح بيع الأص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482040" y="1409400"/>
            <a:ext cx="10519560" cy="30200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في حالة بيع الأصل بأقل من القيمة الدفترية للاصل المباع فتحقق المنشاة خسار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خسارة بيع الأصل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50920" y="1951200"/>
            <a:ext cx="8893080" cy="2288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ول الغير ملموسة : </a:t>
            </a: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ماتحت يد المنشأة من منافع إقتصادية ليس لها وجود مادي وتسجل بتكلفة الحصول عليها وتظهر في قائمة المركز المالي في جانب الاصول الغير ملموسة وتستنفذ إمابحسب سنوات الإستنفاذ أوسنوات تحددها جهات حكومية أيهما أقل .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0" y="1703880"/>
            <a:ext cx="914400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أصل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حصول على الأصل عن طريق إحدى الطرق التالية :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أ/ الشراء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البناء و التصنيع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أويمنح للمنشأة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ظهر الأصل في السجلات إما عن طريق التكلفة الفعلية للأصل أو التكلفة المقدرة في بعض الحالا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0" y="609840"/>
            <a:ext cx="9144000" cy="5639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في حالة شراء الأصل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تكون التكلفة الفعلية للأصل جميع ماصرف على الأصل ليكون جاهز للإستخدام في الغرض الذي أشتري من أجله</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كلفة الفعلية للأصل = ثمن الشراء + جميع ماصرف عليه لجعله صالحا للإستخدام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في حالة بناء الأصل أو تصنيعه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كلفة الفعلية للأصل = المواد المباشرة + الأجور المباشرة + المصاريف الصناعية الأخرى المباشرة +نصيبه من المصاريف الصناعية الأخرى الغير مباشرة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في حالة منح الأصل الثابت للمنشأة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يظهر الاصل في السجلات على أساس تقدير التكلفة بقيمة معقولة من واقع السوق أو أصحاب الإختصاص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1250640"/>
            <a:ext cx="8748720" cy="4359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هدف من تسجيل الأصل الثابت في السجلات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لتمثل السجلات المنشأة تمثيلا عادلا من واقع المنشأة المالي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لتوزيع تكلفة الاصل الثابت على الإيرادات التي ستتحقق عن طريق إستخدام هذا الأصل وهذا مايسمى بالإستهلاك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إستهلاك الاصل الثابت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فه معهد المحاسبة الأمريكي بأنه نظام أو طريقة محاسبية تهدف إلى توزيع تكلفة الأصل الثابت على الحياة الإنتاجية لذلك الأصل حسب طريقة منط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735120"/>
            <a:ext cx="8675640" cy="521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ديد قسط الإستهلاك</a:t>
            </a:r>
            <a:r>
              <a:rPr b="0" lang="ar-SA" sz="2800" spc="-1" strike="noStrike">
                <a:solidFill>
                  <a:srgbClr val="ffffff"/>
                </a:solidFill>
                <a:latin typeface="Arial"/>
              </a:rPr>
              <a:t>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بد من تحديد ثلاثة عوامل  </a:t>
            </a:r>
            <a:r>
              <a:rPr b="0" lang="ar-SA" sz="2800" spc="-1" strike="noStrike">
                <a:solidFill>
                  <a:srgbClr val="ffffff"/>
                </a:solidFill>
                <a:latin typeface="Arial"/>
              </a:rPr>
              <a:t>1</a:t>
            </a:r>
            <a:r>
              <a:rPr b="0" lang="ar-SA" sz="2800" spc="-1" strike="noStrike">
                <a:solidFill>
                  <a:srgbClr val="ffffff"/>
                </a:solidFill>
                <a:latin typeface="Arial"/>
              </a:rPr>
              <a:t>/ تكلفة الأصل </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القيمة البيعية للأصل في نهاية عمرة الإنتاجي              (الخردة)</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العمر الإنتاجي للأصل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ق الإستهلاك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طريقة القسط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 طريقة القسط المتناقص أ- طريقة مجموع أرقام السنين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ب- طريقة مضاعف القسط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طريقة وحدات الإنتاج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مربع نص 2"/>
          <p:cNvSpPr/>
          <p:nvPr/>
        </p:nvSpPr>
        <p:spPr>
          <a:xfrm>
            <a:off x="1042920" y="1844640"/>
            <a:ext cx="597708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مد إختيار طريقه من طرق حساب الاستهلاك للأصل الثابت ع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1</a:t>
            </a:r>
            <a:r>
              <a:rPr b="0" lang="ar-SA" sz="2400" spc="-1" strike="noStrike">
                <a:solidFill>
                  <a:srgbClr val="ffffff"/>
                </a:solidFill>
                <a:latin typeface="Times New Roman"/>
              </a:rPr>
              <a:t>- طبيعة نشاط المنشأ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العرف السائد في هذا النوع من النشاط</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a:t>
            </a:r>
            <a:r>
              <a:rPr b="0" lang="ar-SA" sz="2400" spc="-1" strike="noStrike">
                <a:solidFill>
                  <a:srgbClr val="ffffff"/>
                </a:solidFill>
                <a:latin typeface="Times New Roman"/>
              </a:rPr>
              <a:t>-حجم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4</a:t>
            </a:r>
            <a:r>
              <a:rPr b="0" lang="ar-SA" sz="2400" spc="-1" strike="noStrike">
                <a:solidFill>
                  <a:srgbClr val="ffffff"/>
                </a:solidFill>
                <a:latin typeface="Times New Roman"/>
              </a:rPr>
              <a:t>- نظرة الإدار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a:t>
            </a:r>
            <a:r>
              <a:rPr b="0" lang="ar-SA" sz="2400" spc="-1" strike="noStrike">
                <a:solidFill>
                  <a:srgbClr val="ffffff"/>
                </a:solidFill>
                <a:latin typeface="Times New Roman"/>
              </a:rPr>
              <a:t>- الجدوى الإقتصادي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5292720" y="947520"/>
            <a:ext cx="3240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طريقة القسط الثابت :</a:t>
            </a:r>
            <a:endParaRPr b="0" lang="en-US" sz="24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Line 5"/>
          <p:cNvSpPr/>
          <p:nvPr/>
        </p:nvSpPr>
        <p:spPr>
          <a:xfrm flipH="1">
            <a:off x="5795640" y="2492280"/>
            <a:ext cx="17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Rectangle 7"/>
          <p:cNvSpPr/>
          <p:nvPr/>
        </p:nvSpPr>
        <p:spPr>
          <a:xfrm>
            <a:off x="0" y="1701360"/>
            <a:ext cx="9144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سط السنوي للإستهلاك(مصروف الإستهلاك)    = تكلفة الأصل ــــ قيمته كخردة</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العمر الإنتاجي للأصل</a:t>
            </a:r>
            <a:endParaRPr b="0" lang="en-US" sz="2400" spc="-1" strike="noStrike">
              <a:solidFill>
                <a:srgbClr val="ffffff"/>
              </a:solidFill>
              <a:latin typeface="Times New Roman"/>
            </a:endParaRPr>
          </a:p>
          <a:p>
            <a:pPr algn="r">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Line 8"/>
          <p:cNvSpPr/>
          <p:nvPr/>
        </p:nvSpPr>
        <p:spPr>
          <a:xfrm flipH="1">
            <a:off x="1115640" y="2276640"/>
            <a:ext cx="28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9"/>
          <p:cNvSpPr/>
          <p:nvPr/>
        </p:nvSpPr>
        <p:spPr>
          <a:xfrm>
            <a:off x="316080" y="2773800"/>
            <a:ext cx="882792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سبة الأستهلاك = </a:t>
            </a:r>
            <a:r>
              <a:rPr b="0" lang="ar-SA" sz="2400" spc="-1" strike="noStrike">
                <a:solidFill>
                  <a:srgbClr val="ffffff"/>
                </a:solidFill>
                <a:latin typeface="Arial"/>
              </a:rPr>
              <a:t>1</a:t>
            </a:r>
            <a:r>
              <a:rPr b="0" lang="ar-SA" sz="2400" spc="-1" strike="noStrike">
                <a:solidFill>
                  <a:srgbClr val="ffffff"/>
                </a:solidFill>
                <a:latin typeface="Arial"/>
              </a:rPr>
              <a:t>/العمر الإنتاجي للأصل *</a:t>
            </a:r>
            <a:r>
              <a:rPr b="0" lang="ar-SA" sz="2400" spc="-1" strike="noStrike">
                <a:solidFill>
                  <a:srgbClr val="ffffff"/>
                </a:solidFill>
                <a:latin typeface="Arial"/>
              </a:rPr>
              <a:t>100</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سط السنوي للإستهلاك(مصروف الإستهلاك) لو وجدت نسبة = (تكلفة الاصل ـــــ قيمته كخردة ) × نسبة الإستهلاك</a:t>
            </a:r>
            <a:endParaRPr b="0" lang="en-US" sz="2400" spc="-1" strike="noStrike">
              <a:solidFill>
                <a:srgbClr val="ffffff"/>
              </a:solidFill>
              <a:latin typeface="Times New Roman"/>
            </a:endParaRPr>
          </a:p>
          <a:p>
            <a:pPr algn="r">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0" y="10062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زايا طريقة القسط الثابت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سهولة حسابها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سهولة تبريرها حيث أن كل سنة من حياة الاصل الإنتاجية تتحمل بجزء من تكلفة الأصل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يوب طريقة القسط الثابت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عدم عدالتها حيث تعامل الوحدات المنتجة في بداية إستخدام الاصل معاملة الوحدات المنتجة في نهاية مدة إستخدامها رغم أن في نهاية حياة الأصل عادة ماتتعرض الوحدات المنتجة لزيادة التكاليف نتيجة لقلة كفاءة الأصل وزيادة مصاريف صيانته.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ذلك وجدت طريقة القسط المتناقص من مزاياها تسمح لمصروفات الإستهلاك بلإنخفاض كلما</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رت سنة على الأصل في الخدم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214560" y="1072080"/>
            <a:ext cx="9357840" cy="19227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3</a:t>
            </a:r>
            <a:r>
              <a:rPr b="1" lang="ar-SA" sz="2400" spc="-1" strike="noStrike">
                <a:solidFill>
                  <a:srgbClr val="ffffff"/>
                </a:solidFill>
                <a:latin typeface="Arial"/>
                <a:ea typeface="Times New Roman"/>
              </a:rPr>
              <a:t>/ طريقة وحدات الإنتاج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خطوات حسابها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معرفة معيار وحدة الإنتاج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تقدير الطاقة المتوقع الحصول عليها من الاصل طيلة إستخدامه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4"/>
          <p:cNvSpPr/>
          <p:nvPr/>
        </p:nvSpPr>
        <p:spPr>
          <a:xfrm flipH="1">
            <a:off x="3711240" y="365904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Rectangle 6"/>
          <p:cNvSpPr/>
          <p:nvPr/>
        </p:nvSpPr>
        <p:spPr>
          <a:xfrm>
            <a:off x="0" y="2487600"/>
            <a:ext cx="8785080" cy="26542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 /حساب معامل الإستهلاك=              تكلفة الأصل ــــ قيمته كخرد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وحدات الإنتاج المقدرة طيلة إستخدام الأصل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4</a:t>
            </a:r>
            <a:r>
              <a:rPr b="0" lang="ar-SA" sz="2400" spc="-1" strike="noStrike">
                <a:solidFill>
                  <a:srgbClr val="ffffff"/>
                </a:solidFill>
                <a:latin typeface="Arial"/>
                <a:ea typeface="Times New Roman"/>
              </a:rPr>
              <a:t>/قسط الإستهلاك في سنة معينة(مصروف الإستهلاك) = معامل الإستهلاك ×وحدات الإنتاج الفعلية لنفس السنة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7"/>
          <p:cNvSpPr/>
          <p:nvPr/>
        </p:nvSpPr>
        <p:spPr>
          <a:xfrm flipH="1">
            <a:off x="1258560" y="3068640"/>
            <a:ext cx="403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17:19:54Z</dcterms:created>
  <dc:creator>User</dc:creator>
  <dc:description/>
  <dc:language>en-US</dc:language>
  <cp:lastModifiedBy>Amal alfawaz</cp:lastModifiedBy>
  <dcterms:modified xsi:type="dcterms:W3CDTF">2017-10-21T17:07:36Z</dcterms:modified>
  <cp:revision>5</cp:revision>
  <dc:subject/>
  <dc:title>Slide 1</dc:title>
</cp:coreProperties>
</file>