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2529-F95E-40D9-96E7-16558D8E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9DF-05BD-47D3-92C8-68AB72FC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7D70-0B04-442E-BE9B-18263F8A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1F53-E58F-4E0C-B301-D5FB6CFD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86A8-D057-42C7-846E-96D950D3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5938-38E2-47C0-9A85-794F0543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EA40-24C1-4652-8FBC-7DB2E2FC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E5BA-AF0E-4F85-99F8-7776E853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5F1-FE01-4162-A20C-C7B6CBB1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7B3D-54BD-4D76-BD87-5719A844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3A2-3EED-4F6A-A320-89F39845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55C-95AB-4821-B4B6-FE954CF3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8946-FD13-4596-B7EA-2F158CF639E5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Calibri"/>
              </a:rPr>
              <a:t>الفصل الثان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E3C7-4AAC-456F-8240-AED161BE886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</a:rPr>
              <a:t>نصائح سريعة يمكن من خلالها تحسين ادراكتنا بغرض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</a:rPr>
              <a:t>رفع صدق وصحة حكمنا على الآخرين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أجمع اكبر قدر ممكن من المعلومات عن الشئ أو الأشخاص محل الادرا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استمع وانظر جيداً بل واستخدم حواسك كلها في استقبال أكبر قدر ممكن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من المثيرات من حولك.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اشحذ ذهنك وانتباهك لهذه المثيرات.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درب نفسك على ربط هذه المثيرات والمعلومات والأشخاص والاشيا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استخدم رصيد خبرتك وخبرات الآخرين فيما تستقبله من مثيرات.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23F8-921D-496C-A22C-6ABD8C29A0A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حاول أن تستدل بموضوعية عن معاني لهذه المعلوما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درس أخطاؤك الادراكية, وحاول أن تعالجها,فالمعرفة بمشاك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الادراك في حد ذاتها قد يمثل نصف الح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نتبه الى القيم الاجتماعية السائدة وتأثيرها على ماتقوم بادراك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9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كن حساساً للمشاعر والعلاقات الشخصية والاجتماعية المحيط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0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حاول أن لاتسقط في فخ المظهر الخارجي أو الأنتماء الاجتماع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 والوظيفي للفرد</a:t>
            </a:r>
            <a:r>
              <a:rPr b="1" lang="ar-SA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ar-SA" sz="36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4CEC-2324-4904-B71F-3F0F4753834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</a:rPr>
              <a:t>بعض التطبيقات الادراية للادراك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(أ) في مجال الاختيار والترق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لابد من تحديد معايير الاختيار أو تقييم الأداء بشكل موضوع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يجب الأتمس هذه المعاييرجوانباً شخصية, وإنما يج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أن تمثل جوانب موضوعية عن أداء العم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وضع نظام لجمع المعلومات عن العاملين الجدد وتسجيل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واعطائها أوزانا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تدريب المديرين على طرق الاختيار وطرق تقييم الاداء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وتدريبهم على الأخطاء التي يقع فيهاالمديرون عند الاختياروتقيي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اداء الامر الذي اشرنا بالتفصيل فيما سب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EA72-914B-4232-A78B-919EFA8CC5A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003300"/>
                </a:solidFill>
                <a:latin typeface="Calibri"/>
              </a:rPr>
              <a:t>2</a:t>
            </a:r>
            <a:r>
              <a:rPr b="1" lang="ar-SA" sz="4400" spc="-1" strike="noStrike">
                <a:solidFill>
                  <a:srgbClr val="003300"/>
                </a:solidFill>
                <a:latin typeface="Calibri"/>
              </a:rPr>
              <a:t>) في مجال تحسين الانطباعات الاول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867280" y="1125360"/>
            <a:ext cx="2881440" cy="65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ارتدى ملابس جيده, واظهر بشكل مهند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انظر في عيون من تتحدث اليهم, وااشعرهم بالاهتما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صافح الاخرين بحرار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ابتسم في وجه الاخري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انصت اكثر مما تتحد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كن هادئا قدر الامكا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571920" y="1285920"/>
            <a:ext cx="2376360" cy="61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عبر عن نفسك ولاتحاول تقمص شخصية الاخري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اهتم بما يهتمون ب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9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امدح وجهه نظره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0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قدم خدمات له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امدح نفس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اذكر امثلة عن نفس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971640" y="162864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250920" y="1413000"/>
            <a:ext cx="32400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تفق مع راي الاخري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4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لاتقل(لا) في وجه الاخري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5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ضخم النتائج والصفات الايجاب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6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وضح قدرتك على التغلب على الصعا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7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لاتذكر عيوب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8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قدم اسباب لعيوب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صر نائب لرقم الشريحة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19FF-E9EF-4103-B65F-99E3B032772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003300"/>
                </a:solidFill>
                <a:latin typeface="Calibri"/>
              </a:rPr>
              <a:t>3</a:t>
            </a:r>
            <a:r>
              <a:rPr b="1" lang="ar-SA" sz="4400" spc="-1" strike="noStrike">
                <a:solidFill>
                  <a:srgbClr val="003300"/>
                </a:solidFill>
                <a:latin typeface="Calibri"/>
              </a:rPr>
              <a:t>)في مجال اختيار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النموذج المثالي في اتخاذ 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003640" y="1916280"/>
            <a:ext cx="38880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- الوعي بوجود مشلكة وبالحاجة إلى اتخاذ 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-تشخيص وتحديد المشك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-تحديد معايير اتخاذ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50920" y="1989000"/>
            <a:ext cx="3456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- تحديد وزن لكل معي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-تحديد بدائل الح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6</a:t>
            </a: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-تقييم بدائل الح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7</a:t>
            </a: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-اختيار انسب بدي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42C6-CDBF-4AA8-809A-600F0AD585D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</a:rPr>
              <a:t>هل نحن مثاليون في اتخاذ القرارات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بالطبع لا.... نحن نتاثر بادراكنا لما يدور حولنانماذج بديل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لاتخاذ القرا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لنموذج المرضى لاتخاذ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نموذج التفضيل الضمن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6DF1-6FA3-49ED-B8DC-F3D423BAF18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60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60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60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6000" spc="-1" strike="noStrike">
                <a:solidFill>
                  <a:srgbClr val="003300"/>
                </a:solidFill>
                <a:latin typeface="Calibri"/>
              </a:rPr>
              <a:t>الإدرا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Calibri"/>
              </a:rPr>
              <a:t>(معنى الادراك وأهميته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</a:rPr>
              <a:t> يتوقف سلوكنا على كيفية ادراكنا وتفسيرنا للأمور من حولن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توجيه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( ارشاد ونصح ، تحكم وسيطرة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ابتسامه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( تحية ، سخرية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نقد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( اهانة ، محاوله للتقويم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يبدأ عادة الادارك بوجود مثيرات ومؤثرا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مانراه ليس حقيقة بل متأثر بما نختاره لكي ننتبه ل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" spc="-1" strike="noStrike">
                <a:solidFill>
                  <a:srgbClr val="003300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تم تنظيم هذه المعلومات التي استقبلناها من خلال الحوا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ثم نقوم بتفسير هذه المدركا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يؤدي ذلك لسلوك مع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10"/>
          <p:cNvSpPr/>
          <p:nvPr/>
        </p:nvSpPr>
        <p:spPr>
          <a:xfrm flipH="1">
            <a:off x="6948000" y="6093000"/>
            <a:ext cx="57636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11"/>
          <p:cNvSpPr/>
          <p:nvPr/>
        </p:nvSpPr>
        <p:spPr>
          <a:xfrm flipH="1">
            <a:off x="5579640" y="6093000"/>
            <a:ext cx="57636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Line 12"/>
          <p:cNvSpPr/>
          <p:nvPr/>
        </p:nvSpPr>
        <p:spPr>
          <a:xfrm flipH="1">
            <a:off x="3995280" y="6093000"/>
            <a:ext cx="64764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13"/>
          <p:cNvSpPr/>
          <p:nvPr/>
        </p:nvSpPr>
        <p:spPr>
          <a:xfrm flipH="1">
            <a:off x="2700000" y="6093000"/>
            <a:ext cx="57636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14"/>
          <p:cNvSpPr/>
          <p:nvPr/>
        </p:nvSpPr>
        <p:spPr>
          <a:xfrm flipH="1">
            <a:off x="1402920" y="6093000"/>
            <a:ext cx="57492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7308720" y="5877000"/>
            <a:ext cx="8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لمث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6084720" y="5877000"/>
            <a:ext cx="7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لانتبا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4572000" y="5877000"/>
            <a:ext cx="86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لاختي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3132000" y="5877000"/>
            <a:ext cx="7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لتن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1835280" y="587700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لتفس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684360" y="58770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لسلو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250920" y="5661000"/>
            <a:ext cx="842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صر نائب لرقم الشريحة 1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4365-A37C-494A-B88E-A55A8B21FFF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Calibri"/>
              </a:rPr>
              <a:t>العوامل المؤثرة في الادرا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يمكن تقسيم العوامل المؤثرة في الادراك بخلاف حواس الفرد الى ثلاثة أقسا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2627280" y="2997360"/>
            <a:ext cx="3311640" cy="24476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9"/>
          <p:cNvSpPr/>
          <p:nvPr/>
        </p:nvSpPr>
        <p:spPr>
          <a:xfrm>
            <a:off x="4284720" y="3068640"/>
            <a:ext cx="0" cy="158436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10"/>
          <p:cNvSpPr/>
          <p:nvPr/>
        </p:nvSpPr>
        <p:spPr>
          <a:xfrm flipV="1">
            <a:off x="2627280" y="4581000"/>
            <a:ext cx="1657440" cy="86364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4284720" y="4581360"/>
            <a:ext cx="1655640" cy="86364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4211640" y="414972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المثي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3419640" y="4076640"/>
            <a:ext cx="71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البيئ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851280" y="4869000"/>
            <a:ext cx="79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الف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صر نائب لرقم الشريحة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45FC-B831-4D05-BA1E-BCF4510559D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دور المثير أو الشئ محل الادار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هناك عمليتان اساسيتان في إدراك المثيراتحسب ماهو موضح في الشكل التالي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124000" y="1700280"/>
            <a:ext cx="5040360" cy="4681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411280" y="1844640"/>
            <a:ext cx="4464360" cy="576360"/>
          </a:xfrm>
          <a:prstGeom prst="flowChartAlternate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ادراك المثيرات والعناصر المؤثرة في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5219640" y="2997360"/>
            <a:ext cx="1800360" cy="50472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(</a:t>
            </a: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)اختيار المثير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2340000" y="2997360"/>
            <a:ext cx="1871640" cy="50292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(</a:t>
            </a: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)تنظيم المؤثر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435640" y="3500280"/>
            <a:ext cx="1368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الشد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*الحج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*التباي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*الحرك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*التكرا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*الجد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*الالف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627280" y="3500280"/>
            <a:ext cx="1584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*التشاب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*التقارب الزمن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*التقارب المكان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*الاغلا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3132000" y="2708280"/>
            <a:ext cx="29527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3132000" y="2708280"/>
            <a:ext cx="0" cy="2160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6084720" y="2708280"/>
            <a:ext cx="0" cy="2160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14"/>
          <p:cNvSpPr/>
          <p:nvPr/>
        </p:nvSpPr>
        <p:spPr>
          <a:xfrm>
            <a:off x="4572000" y="2421000"/>
            <a:ext cx="0" cy="216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صر نائب لرقم الشريحة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F2CD-45A6-4BDB-B392-271A453172E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</a:rPr>
              <a:t>دور البيئة في الإدرا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جانب الطبيعي من البيئ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المسافات والمساحات والأبعاد والأجواء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جانب الاجتماعي من البيئ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إن الخلفية الاجتماعية المحيطة بالمثيرات يمكن أن تضيف معاني جد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للمثيرات التي يدركها الفر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(النقد بلهجه نابيه امام الزملاء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(النقد بسرية باسلوب لب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1146-AC7B-4480-9FCC-AC5542A8EA8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</a:rPr>
              <a:t>دور الفرد في عملية الادرا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الفروق الفردية,النزعات السريعه للادراك, الاعزا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332000" y="2060640"/>
            <a:ext cx="6408720" cy="41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2771640" y="2421000"/>
            <a:ext cx="3529080" cy="431640"/>
          </a:xfrm>
          <a:prstGeom prst="flowChartAlternateProcess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دور الفرد في عمليةالادرا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6084720" y="3284640"/>
            <a:ext cx="1440000" cy="431640"/>
          </a:xfrm>
          <a:prstGeom prst="flowChartProcess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فروق الفرد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3780000" y="3284640"/>
            <a:ext cx="1944360" cy="431640"/>
          </a:xfrm>
          <a:prstGeom prst="flowChartProcess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نزعات السريعة للادرا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1763640" y="3284640"/>
            <a:ext cx="1297080" cy="431640"/>
          </a:xfrm>
          <a:prstGeom prst="flowChartProcess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اعزا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443640" y="3860640"/>
            <a:ext cx="122400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*الخبرة السابق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*الجن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”*الشخص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*ثقافة الفر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*الحالة النفسية والجسمان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4067280" y="400536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4140360" y="3789360"/>
            <a:ext cx="16556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*</a:t>
            </a:r>
            <a:r>
              <a:rPr b="1" lang="ar-SA" sz="1400" spc="-1" strike="noStrike">
                <a:solidFill>
                  <a:srgbClr val="0000ff"/>
                </a:solidFill>
                <a:latin typeface="Calibri"/>
              </a:rPr>
              <a:t>التعمي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Calibri"/>
              </a:rPr>
              <a:t>*انطباع اللحظة الاول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Calibri"/>
              </a:rPr>
              <a:t>*التنمي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Calibri"/>
              </a:rPr>
              <a:t>*الادراك المحقق لذات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Calibri"/>
              </a:rPr>
              <a:t>*الاسق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Calibri"/>
              </a:rPr>
              <a:t>*الادراك الجاهز فعل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Calibri"/>
              </a:rPr>
              <a:t>*استخدام نظريات ذات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2627280" y="3068640"/>
            <a:ext cx="4321080" cy="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6948360" y="3068640"/>
            <a:ext cx="0" cy="2160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2627280" y="3068640"/>
            <a:ext cx="0" cy="2160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17"/>
          <p:cNvSpPr/>
          <p:nvPr/>
        </p:nvSpPr>
        <p:spPr>
          <a:xfrm>
            <a:off x="4859280" y="2924280"/>
            <a:ext cx="0" cy="360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عنصر نائب لرقم الشريحة 1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AE80-4E96-4976-BFFE-5633FD4025A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</a:rPr>
              <a:t>- الاعزاء الذين يقوم به الفرد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يشير الى كيف يرجع الفرد تصرفاتها و تصرفات من حوله من النا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- كيف يميل إلى اثباتها باسلوب وادل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وينقسم الاعزاء الى قسمي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أ- كيف يعزى الفرد سلوك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ب- كيف يعزى الفرد سلوك الاخري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أ- كيف يعزى الفرد سلوك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- يميل إلى التحيز تجاه نفسه ومصلحته مثال(النجاح,الفشل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(النجاح داخلي, الفشل خارجي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ب- كيف يعزى الفرد سلوك الاخر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اسباب داخ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اسباب خارجي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02ED-3660-41C3-8685-637D15551DF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</a:rPr>
              <a:t>اتجاه الاعزا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إذا كانت تصرفات أو مشاعر فيها إختلاف وتتفق مع مايشعر به الآخ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مثلا: الأكل في مطعم الشرك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(أسباب خارجيه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وعلى العكس  في حال يكون الاختلاف داخلي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(أسباب داخلية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التأكد والدقة في للاعزا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سلوك الاخرين حسن جداً او سئ جد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سلوك الآخرين له تأثير غير عاد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سلوك الآخرين يتم بمحض إرادت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E9D7-0CAC-4CE0-97C8-DE840F8EDF3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Calibri"/>
              </a:rPr>
              <a:t>هل يصدق حكمنا على الآخرين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يكتنف حكمنا على الآخرين كثير من الخطأ للأسباب التالية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نحن نتأثر بخصائص من ندرك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نحن نتأثر بخصائص موجودة فين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نحن نتأثر بخصائص البيئ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6C63-E5C2-4CD7-BE42-D3186E3F421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7:04:25Z</dcterms:created>
  <dc:creator>Murad</dc:creator>
  <dc:description/>
  <dc:language>en-US</dc:language>
  <cp:lastModifiedBy>Murad</cp:lastModifiedBy>
  <dcterms:modified xsi:type="dcterms:W3CDTF">2013-10-13T07:08:00Z</dcterms:modified>
  <cp:revision>1</cp:revision>
  <dc:subject/>
  <dc:title>Slide 1</dc:title>
</cp:coreProperties>
</file>