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218-C32F-41BF-B85A-3BCDED65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6497-9686-4F59-8B98-C289FF7E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363-1570-4C5F-B4AF-97386BA0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500-4395-42B2-B6BF-E33FF4390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B8B-D578-4911-9615-A6BDE1F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056-0B78-4E84-BD3C-899DC580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E7B-D4FB-4234-A726-0B0700A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6FD-A16C-425F-A1A9-7EB64673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016-7746-4FB3-BEF6-60B908AC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0DF-311D-4544-9590-D075192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55E-1E6B-4843-97FD-F82702C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681-351A-4108-8532-21ACC586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2F2-4D27-47AE-8538-FF5A5D1CE897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Calibri"/>
              </a:rPr>
              <a:t>الفصل الثان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A967-E233-478D-9265-82B13D7FE4E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نصائح سريعة يمكن من خلالها تحسين ادراكتنا بغرض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رفع صدق وصحة حكمنا على الآخرين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أجمع اكبر قدر ممكن من المعلومات عن الشئ أو الأشخاص محل الادرا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ستمع وانظر جيداً بل واستخدم حواسك كلها في استقبال أكبر قدر ممك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ن المثيرات من حولك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شحذ ذهنك وانتباهك لهذه المثيرات.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درب نفسك على ربط هذه المثيرات والمعلومات والأشخاص والاشيا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استخدم رصيد خبرتك وخبرات الآخرين فيما تستقبله من مثيرات.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AD0-FFB6-4582-8398-DD50AA69F44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اول أن تستدل بموضوعية عن معاني لهذه المعلوم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درس أخطاؤك الادراكية, وحاول أن تعالجها,فالمعرفة بمشاك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ادراك في حد ذاتها قد يمثل نصف الح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نتبه الى القيم الاجتماعية السائدة وتأثيرها على ماتقوم بادراك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كن حساساً للمشاعر والعلاقات الشخصية والاجتماعية المحيط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حاول أن لاتسقط في فخ المظهر الخارجي أو الأنتماء الاجتماع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 والوظيفي للفرد</a:t>
            </a: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ar-SA" sz="36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31E6-5B74-48D9-B8B6-78BAEF47840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بعض التطبيقات الادراية للادراك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(أ) في مجال الاختيار والترق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لابد من تحديد معايير الاختيار أو تقييم الأداء بشكل موضوع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يجب الأتمس هذه المعاييرجوانباً شخصية, وإنما يج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أن تمثل جوانب موضوعية عن أداء العم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وضع نظام لجمع المعلومات عن العاملين الجدد وتسجيل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واعطائها أوزانا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تدريب المديرين على طرق الاختيار وطرق تقييم الاداء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وتدريبهم على الأخطاء التي يقع فيهاالمديرون عند الاختياروتقي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اداء الامر الذي اشرنا بالتفصيل فيما سب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ED0E-A194-4182-8ED2-46318C54E15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) في مجال تحسين الانطباعات الا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867280" y="1125360"/>
            <a:ext cx="288144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رتدى ملابس جيده, واظهر بشكل مهند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نظر في عيون من تتحدث اليهم, وااشعرهم بالاهتما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صافح الاخرين بحرا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بتسم في وجه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نصت اكثر مما تتحد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كن هادئا قدر الامكا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571920" y="1285920"/>
            <a:ext cx="237636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عبر عن نفسك ولاتحاول تقمص شخصية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هتم بما يهتمون ب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مدح وجهه نظر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قدم خدمات له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مدح نفس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ذكر امثلة عن نفس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71640" y="162864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50920" y="1413000"/>
            <a:ext cx="3240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تفق مع راي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لاتقل(لا) في وجه الاخر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ضخم النتائج والصفات الايجاب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وضح قدرتك على التغلب على الصعا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لاتذكر عيوب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قدم اسباب لعيوب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صر نائب لرقم الشريحة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8AE4-73BE-4FC9-BAF4-B03271E58D4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3300"/>
                </a:solidFill>
                <a:latin typeface="Calibri"/>
              </a:rPr>
              <a:t>)في مجال اختيار القرارات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نموذج المثالي في اتخاذ 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003640" y="1916280"/>
            <a:ext cx="38880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الوعي بوجود مشلكة وبالحاجة إلى اتخاذ 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شخيص وتحديد المشكل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حديد معايير 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0920" y="1989000"/>
            <a:ext cx="34560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تحديد وزن لكل معي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حديد بدائل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تقييم بدائل الح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7</a:t>
            </a: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اختيار انسب بدي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صر نائب لرقم الشريحة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F51-DFA4-455C-BB99-EDEEF553E1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هل نحن مثاليون في اتخاذ القرارات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الطبع لا.... نحن نتاثر بادراكنا لما يدور حولنانماذج بديل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لاتخاذ القرا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نموذج المرضى لاتخاذ القرا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نموذج التفضيل الضمن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DB1B-CB70-4F66-8550-2FBBD8D222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	</a:t>
            </a:r>
            <a:r>
              <a:rPr b="1" lang="ar-SA" sz="6000" spc="-1" strike="noStrike">
                <a:solidFill>
                  <a:srgbClr val="003300"/>
                </a:solidFill>
                <a:latin typeface="Calibri"/>
              </a:rPr>
              <a:t>الإدراك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(معنى الادراك وأهميته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000000"/>
                </a:solidFill>
                <a:uFillTx/>
                <a:latin typeface="Calibri"/>
              </a:rPr>
              <a:t> يتوقف سلوكنا على كيفية ادراكنا وتفسيرنا للأمور من حولن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توجيه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ارشاد ونصح ، تحكم وسيطرة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ابتسامه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تحية ، سخرية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نقد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( اهانة ، محاوله للتقويم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بدأ عادة الادارك بوجود مثيرات ومؤثر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مانراه ليس حقيقة بل متأثر بما نختاره لكي ننتبه ل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" spc="-1" strike="noStrike">
                <a:solidFill>
                  <a:srgbClr val="00330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تم تنظيم هذه المعلومات التي استقبلناها من خلال الحوا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ثم نقوم بتفسير هذه المدركا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يؤدي ذلك لسلوك مع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Line 10"/>
          <p:cNvSpPr/>
          <p:nvPr/>
        </p:nvSpPr>
        <p:spPr>
          <a:xfrm flipH="1">
            <a:off x="694800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11"/>
          <p:cNvSpPr/>
          <p:nvPr/>
        </p:nvSpPr>
        <p:spPr>
          <a:xfrm flipH="1">
            <a:off x="557964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Line 12"/>
          <p:cNvSpPr/>
          <p:nvPr/>
        </p:nvSpPr>
        <p:spPr>
          <a:xfrm flipH="1">
            <a:off x="3995280" y="6093000"/>
            <a:ext cx="64764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Line 13"/>
          <p:cNvSpPr/>
          <p:nvPr/>
        </p:nvSpPr>
        <p:spPr>
          <a:xfrm flipH="1">
            <a:off x="2700000" y="6093000"/>
            <a:ext cx="57636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Line 14"/>
          <p:cNvSpPr/>
          <p:nvPr/>
        </p:nvSpPr>
        <p:spPr>
          <a:xfrm flipH="1">
            <a:off x="1402920" y="6093000"/>
            <a:ext cx="574920" cy="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7308720" y="5877000"/>
            <a:ext cx="8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مث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6084720" y="5877000"/>
            <a:ext cx="7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نتبا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4572000" y="5877000"/>
            <a:ext cx="86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اختي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9"/>
          <p:cNvSpPr/>
          <p:nvPr/>
        </p:nvSpPr>
        <p:spPr>
          <a:xfrm>
            <a:off x="3132000" y="58770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ن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1835280" y="58770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تفس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684360" y="58770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السلو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250920" y="5661000"/>
            <a:ext cx="84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FFD-B026-40E9-81A9-421CC11CE47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Calibri"/>
              </a:rPr>
              <a:t>العوامل المؤثرة في الادرا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مكن تقسيم العوامل المؤثرة في الادراك بخلاف حواس الفرد الى ثلاثة أقسام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627280" y="2997360"/>
            <a:ext cx="3311640" cy="244764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9"/>
          <p:cNvSpPr/>
          <p:nvPr/>
        </p:nvSpPr>
        <p:spPr>
          <a:xfrm>
            <a:off x="4284720" y="3068640"/>
            <a:ext cx="0" cy="158436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10"/>
          <p:cNvSpPr/>
          <p:nvPr/>
        </p:nvSpPr>
        <p:spPr>
          <a:xfrm flipV="1">
            <a:off x="2627280" y="4581000"/>
            <a:ext cx="1657440" cy="8636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284720" y="4581360"/>
            <a:ext cx="1655640" cy="86364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4211640" y="414972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مثي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419640" y="4076640"/>
            <a:ext cx="71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بيئ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851280" y="486900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ff"/>
                </a:solidFill>
                <a:latin typeface="Calibri"/>
              </a:rPr>
              <a:t>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A6F2-BD08-4974-ACFA-C188B39F188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دور المثير أو الشئ محل الادار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هناك عمليتان اساسيتان في إدراك المثيراتحسب ماهو موضح في الشكل التال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24000" y="1700280"/>
            <a:ext cx="5040360" cy="4681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411280" y="1844640"/>
            <a:ext cx="4464360" cy="576360"/>
          </a:xfrm>
          <a:prstGeom prst="flowChartAlternate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ادراك المثيرات والعناصر المؤثرة ف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5219640" y="2997360"/>
            <a:ext cx="1800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1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)اختيار المثي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2340000" y="2997360"/>
            <a:ext cx="1871640" cy="5029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(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2</a:t>
            </a:r>
            <a:r>
              <a:rPr b="1" lang="ar-SA" sz="2000" spc="-1" strike="noStrike">
                <a:solidFill>
                  <a:srgbClr val="003300"/>
                </a:solidFill>
                <a:latin typeface="Calibri"/>
              </a:rPr>
              <a:t>)تنظيم المؤثر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435640" y="3500280"/>
            <a:ext cx="1368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الش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حج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باي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حرك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كرا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جد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الف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627280" y="3500280"/>
            <a:ext cx="1584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شاب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قارب الزمن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تقارب المكان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ff"/>
                </a:solidFill>
                <a:latin typeface="Calibri"/>
              </a:rPr>
              <a:t>*الاغلا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3132000" y="2708280"/>
            <a:ext cx="2952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3132000" y="270828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6084720" y="270828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4572000" y="2421000"/>
            <a:ext cx="0" cy="216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صر نائب لرقم الشريحة 1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C671-4B18-4E45-859D-D4EA84ADC1F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دور البيئة في الإدرا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جانب الطبيعي من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مسافات والمساحات والأبعاد والأجواء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الجانب الاجتماعي من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إن الخلفية الاجتماعية المحيطة بالمثيرات يمكن أن تضيف معاني جد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Calibri"/>
              </a:rPr>
              <a:t>للمثيرات التي يدركها الفر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النقد بلهجه نابيه امام الزملا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النقد بسرية باسلوب لب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DBE7-9FEA-4D97-BC41-8CFCB55777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دور الفرد في عملية الادرا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الفروق الفردية,النزعات السريعه للادراك, الاعز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332000" y="2060640"/>
            <a:ext cx="6408720" cy="41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771640" y="2421000"/>
            <a:ext cx="3529080" cy="431640"/>
          </a:xfrm>
          <a:prstGeom prst="flowChartAlternate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دور الفرد في عمليةالادرا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6084720" y="3284640"/>
            <a:ext cx="144000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فروق الفرد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780000" y="3284640"/>
            <a:ext cx="194436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نزعات السريعة للادرا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1763640" y="3284640"/>
            <a:ext cx="1297080" cy="431640"/>
          </a:xfrm>
          <a:prstGeom prst="flowChartProcess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Calibri"/>
              </a:rPr>
              <a:t>الاعزا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443640" y="3860640"/>
            <a:ext cx="12240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خبرة السابق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جن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”*الشخص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ثقافة الفر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الحالة النفسية والجسمان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4067280" y="400536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4140360" y="3789360"/>
            <a:ext cx="16556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Calibri"/>
              </a:rPr>
              <a:t>*</a:t>
            </a: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التعم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نطباع اللحظة الاول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تنمي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دراك المحقق لذات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سق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لادراك الجاهز فعلا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ff"/>
                </a:solidFill>
                <a:latin typeface="Calibri"/>
              </a:rPr>
              <a:t>*استخدام نظريات ذات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2627280" y="3068640"/>
            <a:ext cx="4321080" cy="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6948360" y="306864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627280" y="3068640"/>
            <a:ext cx="0" cy="21600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ine 17"/>
          <p:cNvSpPr/>
          <p:nvPr/>
        </p:nvSpPr>
        <p:spPr>
          <a:xfrm>
            <a:off x="4859280" y="2924280"/>
            <a:ext cx="0" cy="360360"/>
          </a:xfrm>
          <a:prstGeom prst="line">
            <a:avLst/>
          </a:prstGeom>
          <a:ln w="93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صر نائب لرقم الشريحة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DD20-A09E-470E-B1BC-FA17AB60FA9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- الاعزاء الذين يقوم به الفرد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شير الى كيف يرجع الفرد تصرفاتها و تصرفات من حوله من الن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- كيف يميل إلى اثباتها باسلوب وادل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وينقسم الاعزاء الى قسمين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أ- كيف يعزى الفرد سلوك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ب- كيف يعزى الفرد سلوك الاخري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أ- كيف يعزى الفرد سلوك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- يميل إلى التحيز تجاه نفسه ومصلحته مثال(النجاح,الفشل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(النجاح داخلي, الفشل خارجي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ب- كيف يعزى الفرد سلوك الاخر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سباب دا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Calibri"/>
              </a:rPr>
              <a:t>اسباب خارجي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F17-D3D8-486D-B81B-1ACE2D3655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Calibri"/>
              </a:rPr>
              <a:t>اتجاه الاعزا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إذا كانت تصرفات أو مشاعر فيها إختلاف وتتفق مع مايشعر به الآخ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مثلا: الأكل في مطعم الشرك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أسباب خارجيه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وعلى العكس  في حال يكون الاختلاف داخلي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(أسباب داخلية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التأكد والدقة في للاعزا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اخرين حسن جداً او سئ جد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آخرين له تأثير غير عا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- سلوك الآخرين يتم بمحض إرادت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CECF-4C99-40E7-B620-7312CC7CA6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Calibri"/>
              </a:rPr>
              <a:t>هل يصدق حكمنا على الآخرين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003300"/>
                </a:solidFill>
                <a:latin typeface="Calibri"/>
              </a:rPr>
              <a:t>يكتنف حكمنا على الآخرين كثير من الخطأ للأسباب التالية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من ندرك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موجودة فين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 نحن نتأثر بخصائص البيئ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11D6-585E-48D1-BE5D-7A65169454F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08:00Z</dcterms:modified>
  <cp:revision>1</cp:revision>
  <dc:subject/>
  <dc:title>Slide 1</dc:title>
</cp:coreProperties>
</file>