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61CFB-57DF-4192-8775-6DA94D07E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10CB7-0EBA-4593-AD8E-177104425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8B6C0-4B0F-4BB5-AD6D-BC3B7073A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5BCF2-9E87-4062-86BE-0845A6BE0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0F398-0198-461A-B5AA-C5EBD7030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4066B-045A-4BD0-9C6F-CD28DB7FA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56F85-9464-432D-8912-81506491F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D1EBC-A27F-4D91-ACA2-E7818B530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E03C0-0F9B-4AA3-9FBB-590F4C550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22B3A-6217-46F1-A84E-2EB1EA3AD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5483A-F8E3-4284-8AFE-39B6E5A47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ADBBA-688B-4E37-BEC8-73A62B373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D294-5ED9-4461-B6CF-AE12654838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مستطيل 7"/>
          <p:cNvSpPr/>
          <p:nvPr/>
        </p:nvSpPr>
        <p:spPr>
          <a:xfrm>
            <a:off x="533520" y="609480"/>
            <a:ext cx="7643520" cy="1921320"/>
          </a:xfrm>
          <a:prstGeom prst="rect">
            <a:avLst/>
          </a:prstGeom>
          <a:solidFill>
            <a:srgbClr val="c6d9f1"/>
          </a:solidFill>
          <a:ln w="9360">
            <a:solidFill>
              <a:srgbClr val="ff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ahoma"/>
                <a:cs typeface="Tahoma"/>
              </a:rPr>
              <a:t>الفصل الثاني</a:t>
            </a:r>
            <a:endParaRPr b="0" lang="en-US" sz="3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ahoma"/>
                <a:cs typeface="Tahoma"/>
              </a:rPr>
              <a:t>معنى التأهي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642960"/>
            <a:ext cx="8686800" cy="1643040"/>
          </a:xfrm>
          <a:prstGeom prst="rect">
            <a:avLst/>
          </a:prstGeom>
          <a:noFill/>
          <a:ln w="9360">
            <a:solidFill>
              <a:srgbClr val="00b050"/>
            </a:solidFill>
            <a:miter/>
          </a:ln>
        </p:spPr>
        <p:txBody>
          <a:bodyPr anchor="t">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ahoma"/>
                <a:ea typeface="Tahoma"/>
              </a:rPr>
              <a:t>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cs typeface="Tahoma"/>
              </a:rPr>
              <a:t>سادساً: الأساس الاقتصادي:</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تعتبر فئات المعوقين التي تشكل </a:t>
            </a:r>
            <a:r>
              <a:rPr b="0" lang="ar-SA" sz="2200" spc="-1" strike="noStrike">
                <a:solidFill>
                  <a:srgbClr val="000000"/>
                </a:solidFill>
                <a:latin typeface="Tahoma"/>
              </a:rPr>
              <a:t>10</a:t>
            </a:r>
            <a:r>
              <a:rPr b="0" lang="ar-SA" sz="2200" spc="-1" strike="noStrike">
                <a:solidFill>
                  <a:srgbClr val="000000"/>
                </a:solidFill>
                <a:latin typeface="Tahoma"/>
              </a:rPr>
              <a:t>% من سكان أي مجتمع طاقة بشرية كبيرة سوف يكون لها تأثير إيجابي على التنمية الاقتصادية والاجتماعية إذا ما تم تأهيلهم .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Subtitle 2"/>
          <p:cNvSpPr/>
          <p:nvPr/>
        </p:nvSpPr>
        <p:spPr>
          <a:xfrm>
            <a:off x="214200" y="3500280"/>
            <a:ext cx="8686800" cy="1857600"/>
          </a:xfrm>
          <a:prstGeom prst="rect">
            <a:avLst/>
          </a:prstGeom>
          <a:noFill/>
          <a:ln w="9360">
            <a:solidFill>
              <a:srgbClr val="00b050"/>
            </a:solidFill>
            <a:miter/>
          </a:ln>
        </p:spPr>
        <p:style>
          <a:lnRef idx="0"/>
          <a:fillRef idx="0"/>
          <a:effectRef idx="0"/>
          <a:fontRef idx="minor"/>
        </p:style>
        <p:txBody>
          <a:bodyPr lIns="90000" rIns="90000" tIns="46800" bIns="46800" anchor="t">
            <a:normAutofit fontScale="97000"/>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cs typeface="Tahoma"/>
              </a:rPr>
              <a:t>سابعاً: الأساس الاجتماعي</a:t>
            </a:r>
            <a:endParaRPr b="0" lang="en-US" sz="2200" spc="-1" strike="noStrike">
              <a:solidFill>
                <a:srgbClr val="000000"/>
              </a:solidFill>
              <a:latin typeface="Arial"/>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cs typeface="Tahoma"/>
              </a:rPr>
              <a:t>إن الغاية الأساسية من تأهيل المعوقين هو تمكينهم من الاندماج في المجتمع وإعدادهم وتدريبهم ليكونوا قادرين على  التفاعل والتعايش مع متطلبات الحياة .</a:t>
            </a:r>
            <a:endParaRPr b="0" lang="en-US" sz="2200" spc="-1" strike="noStrike">
              <a:solidFill>
                <a:srgbClr val="000000"/>
              </a:solidFill>
              <a:latin typeface="Arial"/>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599840"/>
            <a:ext cx="8229600" cy="2043000"/>
          </a:xfrm>
          <a:prstGeom prst="rect">
            <a:avLst/>
          </a:prstGeom>
          <a:solidFill>
            <a:srgbClr val="ccff99"/>
          </a:solidFill>
          <a:ln w="9360">
            <a:solidFill>
              <a:srgbClr val="92d050"/>
            </a:solidFill>
            <a:miter/>
          </a:ln>
        </p:spPr>
        <p:txBody>
          <a:bodyPr anchor="t">
            <a:norm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جزء الثاني</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285840" y="914400"/>
            <a:ext cx="8643960" cy="198360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ahoma"/>
                <a:ea typeface="Tahoma"/>
              </a:rPr>
              <a:t>:</a:t>
            </a:r>
            <a:r>
              <a:rPr b="1" lang="ar-SA" sz="2800" spc="-1" strike="noStrike">
                <a:solidFill>
                  <a:srgbClr val="0070c0"/>
                </a:solidFill>
                <a:latin typeface="Tahoma"/>
                <a:cs typeface="Tahoma"/>
              </a:rPr>
              <a:t>مبادئ التأهيل</a:t>
            </a:r>
            <a:r>
              <a:rPr b="1" lang="ar-SA" sz="2800" spc="-1" strike="noStrike">
                <a:solidFill>
                  <a:srgbClr val="0070c0"/>
                </a:solidFill>
                <a:latin typeface="Tahoma"/>
                <a:ea typeface="Tahoma"/>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إن كلمة مبدأ </a:t>
            </a:r>
            <a:r>
              <a:rPr b="0" lang="ar-SA" sz="2400" spc="-1" strike="noStrike">
                <a:solidFill>
                  <a:srgbClr val="000000"/>
                </a:solidFill>
                <a:latin typeface="Tahoma"/>
                <a:cs typeface="Tahoma"/>
              </a:rPr>
              <a:t>تعني الأصل أو المنشأ أو المنبع وهي نقطة البداية للتفكير أو العمل  أو الحركة  أو القياس</a:t>
            </a:r>
            <a:r>
              <a:rPr b="0" lang="ar-SA" sz="2400" spc="-1" strike="noStrike">
                <a:solidFill>
                  <a:srgbClr val="000000"/>
                </a:solidFill>
                <a:latin typeface="Tahoma"/>
                <a:ea typeface="Tahoma"/>
              </a:rPr>
              <a:t> </a:t>
            </a:r>
            <a:r>
              <a:rPr b="0" lang="ar-SA" sz="2400" spc="-1" strike="noStrike">
                <a:solidFill>
                  <a:srgbClr val="000000"/>
                </a:solidFill>
                <a:latin typeface="Tahoma"/>
                <a:ea typeface="Tahoma"/>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713880"/>
            <a:ext cx="8610480" cy="4357800"/>
          </a:xfrm>
          <a:prstGeom prst="rect">
            <a:avLst/>
          </a:prstGeom>
          <a:noFill/>
          <a:ln w="9360">
            <a:solidFill>
              <a:srgbClr val="00b050"/>
            </a:solidFill>
            <a:miter/>
          </a:ln>
        </p:spPr>
        <p:txBody>
          <a:bodyPr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98989"/>
                </a:solidFill>
                <a:latin typeface="Tahoma"/>
                <a:ea typeface="Tahoma"/>
              </a:rPr>
              <a:t>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إن من أهم المبادئ المهنية التي يجب على العاملين في مجال تأهيل المعوقين الالتزام بها هي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ahoma"/>
                <a:ea typeface="Tahoma"/>
              </a:rPr>
              <a:t>1</a:t>
            </a:r>
            <a:r>
              <a:rPr b="1" lang="ar-SA" sz="2000" spc="-1" strike="noStrike">
                <a:solidFill>
                  <a:srgbClr val="0070c0"/>
                </a:solidFill>
                <a:latin typeface="Tahoma"/>
                <a:ea typeface="Tahoma"/>
              </a:rPr>
              <a:t>-الفردي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مبدأ الفردية يعني أن من الضروري على أخصائي التأهيل  أن يتعامل مع الشخص المعاق على أنه إنسان له شخصيته وميوله وقدراته واستعداداته الخاصة التي تعبر عن حالة فريدة تنفرد في مكوناتها وظروفها الذاتية والبيئية واحتياجاتها التأهيلية الخاص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152280"/>
            <a:ext cx="8553240" cy="6120000"/>
          </a:xfrm>
          <a:prstGeom prst="rect">
            <a:avLst/>
          </a:prstGeom>
          <a:noFill/>
          <a:ln w="9360">
            <a:solidFill>
              <a:srgbClr val="00b050"/>
            </a:solidFill>
            <a:miter/>
          </a:ln>
        </p:spPr>
        <p:txBody>
          <a:bodyPr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98989"/>
                </a:solidFill>
                <a:latin typeface="Tahoma"/>
                <a:ea typeface="Tahoma"/>
              </a:rPr>
              <a:t>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ahoma"/>
                <a:ea typeface="Tahoma"/>
              </a:rPr>
              <a:t>2</a:t>
            </a:r>
            <a:r>
              <a:rPr b="1" lang="ar-SA" sz="2000" spc="-1" strike="noStrike">
                <a:solidFill>
                  <a:srgbClr val="0070c0"/>
                </a:solidFill>
                <a:latin typeface="Tahoma"/>
                <a:ea typeface="Tahoma"/>
              </a:rPr>
              <a:t>-الوقاية هي الأساس والدمج هو الغاي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إن الوقاية وفقاً لمفهوم التأهيل لا تعني الحيلولة  دون حصول الإصابة أو المرض فقط  بل تعني الحيلولة دون تحول حالة الإصابة إلى حالة عجز،</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و دون تحول حالة العجز إلى إعاقة ، أو دون تفاقم مشكلة الإعاقة إلى درجة قد تحول دون إمكانية تأهيل صاحبها أو تمكينه من الاستقلال المعيشي والاندماج في المجتمع وأن يحيا حياة كريم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ahoma"/>
                <a:ea typeface="Tahoma"/>
              </a:rPr>
              <a:t>3</a:t>
            </a:r>
            <a:r>
              <a:rPr b="1" lang="ar-SA" sz="2000" spc="-1" strike="noStrike">
                <a:solidFill>
                  <a:srgbClr val="0070c0"/>
                </a:solidFill>
                <a:latin typeface="Tahoma"/>
                <a:ea typeface="Tahoma"/>
              </a:rPr>
              <a:t>- تأهيل القدرات وليس علاج العجز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إن أهم ما يجب على العاملين في مجال تأهيل المعوقين عمله هو الانتباه والتركيز على قدرات المعوق وليس على جوانب القصور والضعف لديه (عجزه) . فالعجز قد يكون دائماً وقد يصعب علاجه أو قد لا يعالج أبداً , ولكن القدرات يمكن البناء عليها وتطويرها وتحسينها وتوظيفها في عملية التأهيل .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304920" y="928440"/>
            <a:ext cx="8686800" cy="2143080"/>
          </a:xfrm>
          <a:prstGeom prst="rect">
            <a:avLst/>
          </a:prstGeom>
          <a:noFill/>
          <a:ln w="9360">
            <a:solidFill>
              <a:srgbClr val="00b050"/>
            </a:solidFill>
            <a:miter/>
          </a:ln>
        </p:spPr>
        <p:txBody>
          <a:bodyPr anchor="t">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ahoma"/>
                <a:ea typeface="Tahoma"/>
              </a:rPr>
              <a:t>4</a:t>
            </a:r>
            <a:r>
              <a:rPr b="1" lang="ar-SA" sz="2200" spc="-1" strike="noStrike">
                <a:solidFill>
                  <a:srgbClr val="0070c0"/>
                </a:solidFill>
                <a:latin typeface="Tahoma"/>
                <a:ea typeface="Tahoma"/>
              </a:rPr>
              <a:t>- التأهيل حق للمعوق وليس منة من أحد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cs typeface="Tahoma"/>
              </a:rPr>
              <a:t>لقدر حرصت جميع التشريعات العالمية والمحلية على اعتبار التأهيل حق من حقوق المعوقين وحثت المجتمعات  والدول على على الالتزام بتوفير كافة البرامج والخدمات التي تيسر حصول المعوقين على هذه الحقوق. </a:t>
            </a:r>
            <a:r>
              <a:rPr b="0" lang="ar-SA" sz="2200" spc="-1" strike="noStrike">
                <a:solidFill>
                  <a:srgbClr val="898989"/>
                </a:solidFill>
                <a:latin typeface="Tahoma"/>
                <a:ea typeface="Tahoma"/>
              </a:rPr>
              <a:t>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2920" y="228600"/>
            <a:ext cx="8848800" cy="6337440"/>
          </a:xfrm>
          <a:prstGeom prst="rect">
            <a:avLst/>
          </a:prstGeom>
          <a:noFill/>
          <a:ln w="9360">
            <a:solidFill>
              <a:srgbClr val="00b050"/>
            </a:solidFill>
            <a:miter/>
          </a:ln>
        </p:spPr>
        <p:txBody>
          <a:bodyPr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98989"/>
                </a:solidFill>
                <a:latin typeface="Tahoma"/>
                <a:ea typeface="Tahoma"/>
              </a:rPr>
              <a:t> </a:t>
            </a:r>
            <a:r>
              <a:rPr b="1" lang="ar-SA" sz="2000" spc="-1" strike="noStrike">
                <a:solidFill>
                  <a:srgbClr val="000000"/>
                </a:solidFill>
                <a:latin typeface="Tahoma"/>
                <a:cs typeface="Tahoma"/>
              </a:rPr>
              <a:t>ويشير الروسان (</a:t>
            </a:r>
            <a:r>
              <a:rPr b="1" lang="ar-SA" sz="2000" spc="-1" strike="noStrike">
                <a:solidFill>
                  <a:srgbClr val="000000"/>
                </a:solidFill>
                <a:latin typeface="Tahoma"/>
                <a:ea typeface="Tahoma"/>
              </a:rPr>
              <a:t>1998</a:t>
            </a:r>
            <a:r>
              <a:rPr b="1" lang="ar-SA" sz="2000" spc="-1" strike="noStrike">
                <a:solidFill>
                  <a:srgbClr val="000000"/>
                </a:solidFill>
                <a:latin typeface="Tahoma"/>
                <a:ea typeface="Tahoma"/>
              </a:rPr>
              <a:t>) إلى أن جميع التشريعات الخاصة بالمعوقين تتميز بالخصائص التالي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 الاعتراف بحقوق المعوقين في المعدات والأجهزة  التعويضية والخدمات الطبية وما تتضمنه من علاج طبي ونفسي وعلاج طبيعي ...إلخ .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  الاعتراف بحق المعوقين في التربية والتأهيل النفسي والاجتماعي والمهني والتشغيل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 الاقتناع بضرورة تطبيق النظام التربوي والتأهيل الإدماجي والإقلاع عن فكرة التكوين العزلي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 الاعتراف بحق شديدي الإعاقة في التأهيل الاجتماعي والرعاي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5</a:t>
            </a:r>
            <a:r>
              <a:rPr b="0" lang="ar-SA" sz="2000" spc="-1" strike="noStrike">
                <a:solidFill>
                  <a:srgbClr val="000000"/>
                </a:solidFill>
                <a:latin typeface="Tahoma"/>
                <a:ea typeface="Tahoma"/>
              </a:rPr>
              <a:t> الاقتناع بضرورة تنسيق جهود الجهات المعنية برعاية المعوقين </a:t>
            </a:r>
            <a:endParaRPr b="0" lang="en-US" sz="2000" spc="-1" strike="noStrike">
              <a:solidFill>
                <a:srgbClr val="000000"/>
              </a:solidFill>
              <a:latin typeface="Calibri"/>
            </a:endParaRPr>
          </a:p>
          <a:p>
            <a:pPr algn="r" rtl="1">
              <a:lnSpc>
                <a:spcPct val="100000"/>
              </a:lnSpc>
              <a:spcBef>
                <a:spcPts val="499"/>
              </a:spcBef>
              <a:buClr>
                <a:srgbClr val="000000"/>
              </a:buClr>
              <a:buFont typeface="Tahoma"/>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الاقتناع بضرورة توفير بعض المزايا لتسهيل مهمة التدريب وتأهيل المعوقين مثل الإعفاءات الجمركية  والإعفاءات الضريبية وتسهيل التنقل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ahoma"/>
                <a:ea typeface="Tahoma"/>
              </a:rPr>
              <a:t>5</a:t>
            </a:r>
            <a:r>
              <a:rPr b="1" lang="ar-SA" sz="2000" spc="-1" strike="noStrike">
                <a:solidFill>
                  <a:srgbClr val="0070c0"/>
                </a:solidFill>
                <a:latin typeface="Tahoma"/>
                <a:ea typeface="Tahoma"/>
              </a:rPr>
              <a:t>- التأهيل عملية مهنية علمية وليس خدمة إنساني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إن عملية تأهيل المعوقين بالإضافة إلى كونها تنطلق من أبعاد إنسانية واجتماعية وأخلاقية ودينية إلا أنها تستند في تنفيذ برامجها وتقديم خدماتها إلى أسس وقواعد علمية وتعتمد في ذلك على مجموعة كبيرة من المهن والاختصاصات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920" y="285840"/>
            <a:ext cx="8858160" cy="5286240"/>
          </a:xfrm>
          <a:prstGeom prst="rect">
            <a:avLst/>
          </a:prstGeom>
          <a:noFill/>
          <a:ln w="9360">
            <a:solidFill>
              <a:srgbClr val="00b050"/>
            </a:solidFill>
            <a:miter/>
          </a:ln>
        </p:spPr>
        <p:txBody>
          <a:bodyPr anchor="t">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ahoma"/>
                <a:ea typeface="Tahoma"/>
              </a:rPr>
              <a:t>6</a:t>
            </a:r>
            <a:r>
              <a:rPr b="1" lang="ar-SA" sz="2200" spc="-1" strike="noStrike">
                <a:solidFill>
                  <a:srgbClr val="0070c0"/>
                </a:solidFill>
                <a:latin typeface="Tahoma"/>
                <a:ea typeface="Tahoma"/>
              </a:rPr>
              <a:t>- الاستقلال المعيشي والاعتماد على الذات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إن </a:t>
            </a:r>
            <a:r>
              <a:rPr b="0" lang="ar-SA" sz="2200" spc="-1" strike="noStrike">
                <a:solidFill>
                  <a:srgbClr val="000000"/>
                </a:solidFill>
                <a:latin typeface="Tahoma"/>
                <a:cs typeface="Tahoma"/>
              </a:rPr>
              <a:t>الهدف الأساسي من برامج التأهيل هو الوصول بالفرد المعاق إلى أقصى درجة  تمكنه من الاعتماد على الذات والاستقلال المعيشي تمهيداً لدمجه في  الحياة اليومية للمجتمع.</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ahoma"/>
              </a:rPr>
              <a:t>إن الاستقلال المعيشي للمعاق لا يأتي إلا من خلال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أ – تأهيل الشخص المعاق بدنياً ونفسياً واجتماعياً ومهنياً ليكون قادراً على الاعتماد على الذات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ب- تأهيل أسرة الفرد المعاق وإرشادها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ت- تعديل الاتجاهات المجتمعية نحو المعوقين ونحو زيادة فرص قبولهم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ث- تأهيل المجتمع وذلك من خلال ما يعرف بتحرير البيئة من العوائق.</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ج- إصدار التشريعات والقوانين والأنظمة الملزمة والتي تحدد حقوق وواجبات المعوقين وتوفير فرص الاستقلال المعيشي وتكافؤ الفرص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42920" y="285480"/>
            <a:ext cx="8858160" cy="5840280"/>
          </a:xfrm>
          <a:prstGeom prst="rect">
            <a:avLst/>
          </a:prstGeom>
          <a:noFill/>
          <a:ln w="93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ahoma"/>
                <a:ea typeface="Tahoma"/>
              </a:rPr>
              <a:t>7</a:t>
            </a:r>
            <a:r>
              <a:rPr b="1" lang="ar-SA" sz="2400" spc="-1" strike="noStrike">
                <a:solidFill>
                  <a:srgbClr val="0070c0"/>
                </a:solidFill>
                <a:latin typeface="Tahoma"/>
                <a:ea typeface="Tahoma"/>
              </a:rPr>
              <a:t>- المشاركة وحق تقرير المصير :</a:t>
            </a:r>
            <a:endParaRPr b="0" lang="en-US" sz="2400" spc="-1" strike="noStrike">
              <a:solidFill>
                <a:srgbClr val="000000"/>
              </a:solidFill>
              <a:latin typeface="Calibri"/>
            </a:endParaRPr>
          </a:p>
          <a:p>
            <a:pPr marL="343080" indent="-34308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إن مبدأ المشاركة وحق تقرير المصير تكفله التشريعات والقوانين وتكفله كذلك الأسس المهنية والوظيفية لكافة برامج وخدمات التأهيل . </a:t>
            </a:r>
            <a:endParaRPr b="0" lang="en-US" sz="22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ahoma"/>
                <a:ea typeface="Tahoma"/>
              </a:rPr>
              <a:t>8</a:t>
            </a:r>
            <a:r>
              <a:rPr b="1" lang="ar-SA" sz="2400" spc="-1" strike="noStrike">
                <a:solidFill>
                  <a:srgbClr val="0070c0"/>
                </a:solidFill>
                <a:latin typeface="Tahoma"/>
                <a:ea typeface="Tahoma"/>
              </a:rPr>
              <a:t>- الدمج وتكافؤ الفرص:</a:t>
            </a:r>
            <a:endParaRPr b="0" lang="en-US" sz="2400" spc="-1" strike="noStrike">
              <a:solidFill>
                <a:srgbClr val="000000"/>
              </a:solidFill>
              <a:latin typeface="Calibri"/>
            </a:endParaRPr>
          </a:p>
          <a:p>
            <a:pPr marL="343080" indent="-34308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cs typeface="Tahoma"/>
              </a:rPr>
              <a:t>يرتبط مفهوم الدمج بمبدأ تكافؤ الفرص, فكلما زاد الاتجاه نحو الدمج كلما أدى ذلك إلى تطبيق قوانين تكافؤ الفرص,و كلما طبقت قوانين تكافؤ الفرص كلما أمكن إدماج المعوقين في المجتمع بشكل أكبر.</a:t>
            </a:r>
            <a:endParaRPr b="0" lang="en-US" sz="2200" spc="-1" strike="noStrike">
              <a:solidFill>
                <a:srgbClr val="000000"/>
              </a:solidFill>
              <a:latin typeface="Calibri"/>
            </a:endParaRPr>
          </a:p>
          <a:p>
            <a:pPr marL="343080" indent="-34308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r" rtl="1">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cs typeface="Tahoma"/>
              </a:rPr>
              <a:t>إن تكافؤ الفرص يعني إتاحة المجال لجميع المعاقين لكي يشاركوا في جميع الفعاليات وأنشطة المجتمع. </a:t>
            </a:r>
            <a:endParaRPr b="0" lang="en-US" sz="2200" spc="-1" strike="noStrike">
              <a:solidFill>
                <a:srgbClr val="000000"/>
              </a:solidFill>
              <a:latin typeface="Calibri"/>
            </a:endParaRPr>
          </a:p>
          <a:p>
            <a:pPr marL="343080" indent="-34308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571680" y="372960"/>
            <a:ext cx="8420040" cy="6041520"/>
          </a:xfrm>
          <a:prstGeom prst="rect">
            <a:avLst/>
          </a:prstGeom>
          <a:solidFill>
            <a:srgbClr val="ffffff"/>
          </a:solidFill>
          <a:ln w="9360">
            <a:solidFill>
              <a:srgbClr val="00b050"/>
            </a:solidFill>
            <a:miter/>
          </a:ln>
        </p:spPr>
        <p:style>
          <a:lnRef idx="0"/>
          <a:fillRef idx="0"/>
          <a:effectRef idx="0"/>
          <a:fontRef idx="minor"/>
        </p:style>
        <p:txBody>
          <a:bodyPr lIns="90000" rIns="90000" tIns="46800" bIns="46800" anchor="t">
            <a:sp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Tahoma"/>
                <a:cs typeface="Tahoma"/>
              </a:rPr>
              <a:t>متطلبات التأهيل:</a:t>
            </a:r>
            <a:endParaRPr b="0" lang="en-US" sz="2200" spc="-1" strike="noStrike">
              <a:solidFill>
                <a:srgbClr val="000000"/>
              </a:solidFill>
              <a:latin typeface="Arial"/>
            </a:endParaRPr>
          </a:p>
          <a:p>
            <a:pPr algn="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هي مجموعة من الإجراءات والعمليات والأنشطة والأدوات اللازمة لتحقيق حاجات معينة. ومن هذا المنطلق فإن ممارسة عملية التأهيل بشكل يضمن تحقيق أهدافها المنشودة ويحتاج إلى توفير المتطلبات التالية: </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المراكز المتخصصة في عملية التأهيل.</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الكوادر المهنية المتخصصة في التأهيل. </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التجهيزات والأجهزة اللازمة لعملية التأهيل.</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أدوات التقييم والتشخيص.</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البرامج والمناهج.</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التشريعات والقوانين والأنظمة.</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الاتجاهات الإيجابية.</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حرير البيئة من العوائق.</a:t>
            </a:r>
            <a:endParaRPr b="0" lang="en-US" sz="1800" spc="-1" strike="noStrike">
              <a:solidFill>
                <a:srgbClr val="000000"/>
              </a:solidFill>
              <a:latin typeface="Arial"/>
            </a:endParaRPr>
          </a:p>
          <a:p>
            <a:pPr algn="r" rtl="1">
              <a:lnSpc>
                <a:spcPct val="1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المشاركة الأسري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ستطيل 5"/>
          <p:cNvSpPr/>
          <p:nvPr/>
        </p:nvSpPr>
        <p:spPr>
          <a:xfrm>
            <a:off x="214200" y="642960"/>
            <a:ext cx="8715600" cy="594612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تعريف التأهي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إن أول تعريف للتأهيل جاء من المجلس القومي للتأهيل في الولايات المتحدة عام</a:t>
            </a:r>
            <a:r>
              <a:rPr b="0" lang="ar-SA" sz="2400" spc="-1" strike="noStrike">
                <a:solidFill>
                  <a:srgbClr val="000000"/>
                </a:solidFill>
                <a:latin typeface="Tahoma"/>
                <a:ea typeface="Tahoma"/>
              </a:rPr>
              <a:t>1944</a:t>
            </a:r>
            <a:r>
              <a:rPr b="0" lang="ar-SA" sz="2400" spc="-1" strike="noStrike">
                <a:solidFill>
                  <a:srgbClr val="000000"/>
                </a:solidFill>
                <a:latin typeface="Tahoma"/>
                <a:ea typeface="Tahoma"/>
              </a:rPr>
              <a:t> وجاء فيه أن التأهيل هو : العملية التي تسعى إلى أن تحقق للمعاق أقصى ما يمكن من الاستفادة من طاقاته البدنية والعقلية والاجتماعية والاقتصادية والمهنية الشناوي </a:t>
            </a:r>
            <a:r>
              <a:rPr b="0" lang="ar-SA" sz="2400" spc="-1" strike="noStrike">
                <a:solidFill>
                  <a:srgbClr val="000000"/>
                </a:solidFill>
                <a:latin typeface="Tahoma"/>
                <a:ea typeface="Tahoma"/>
              </a:rPr>
              <a:t>1998</a:t>
            </a:r>
            <a:r>
              <a:rPr b="0" lang="ar-SA" sz="2400" spc="-1" strike="noStrike">
                <a:solidFill>
                  <a:srgbClr val="000000"/>
                </a:solidFill>
                <a:latin typeface="Tahoma"/>
                <a:ea typeface="Tahoma"/>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ثم جاء تعريف هاملتون </a:t>
            </a:r>
            <a:r>
              <a:rPr b="0" lang="ar-SA" sz="2400" spc="-1" strike="noStrike">
                <a:solidFill>
                  <a:srgbClr val="000000"/>
                </a:solidFill>
                <a:latin typeface="Tahoma"/>
                <a:ea typeface="Tahoma"/>
              </a:rPr>
              <a:t>1950</a:t>
            </a:r>
            <a:r>
              <a:rPr b="0" lang="ar-SA" sz="2400" spc="-1" strike="noStrike">
                <a:solidFill>
                  <a:srgbClr val="000000"/>
                </a:solidFill>
                <a:latin typeface="Tahoma"/>
                <a:ea typeface="Tahoma"/>
              </a:rPr>
              <a:t> الذي قال بان التأهيل هو: عملية تهدف إلى تقدير القدرات النافعة لدى الفرد المعاق وتنميتها والاستفادة من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أما القانون الأردني رقم </a:t>
            </a:r>
            <a:r>
              <a:rPr b="0" lang="ar-SA" sz="2400" spc="-1" strike="noStrike">
                <a:solidFill>
                  <a:srgbClr val="000000"/>
                </a:solidFill>
                <a:latin typeface="Tahoma"/>
                <a:ea typeface="Tahoma"/>
              </a:rPr>
              <a:t>12</a:t>
            </a:r>
            <a:r>
              <a:rPr b="0" lang="ar-SA" sz="2400" spc="-1" strike="noStrike">
                <a:solidFill>
                  <a:srgbClr val="000000"/>
                </a:solidFill>
                <a:latin typeface="Tahoma"/>
                <a:ea typeface="Tahoma"/>
              </a:rPr>
              <a:t> سنة </a:t>
            </a:r>
            <a:r>
              <a:rPr b="0" lang="ar-SA" sz="2400" spc="-1" strike="noStrike">
                <a:solidFill>
                  <a:srgbClr val="000000"/>
                </a:solidFill>
                <a:latin typeface="Tahoma"/>
                <a:ea typeface="Tahoma"/>
              </a:rPr>
              <a:t>1993</a:t>
            </a:r>
            <a:r>
              <a:rPr b="0" lang="ar-SA" sz="2400" spc="-1" strike="noStrike">
                <a:solidFill>
                  <a:srgbClr val="000000"/>
                </a:solidFill>
                <a:latin typeface="Tahoma"/>
                <a:ea typeface="Tahoma"/>
              </a:rPr>
              <a:t> فقد عرف التأهيل بأنه : مجموعة خدمات والأنشطة التي تقدم للفرد المعاق من ممارسة حياته بشكل أفضل على المستويات الجسدية والاجتماعية والذهنية والنفسية والمهن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مربع نص 4"/>
          <p:cNvSpPr/>
          <p:nvPr/>
        </p:nvSpPr>
        <p:spPr>
          <a:xfrm>
            <a:off x="142920" y="500040"/>
            <a:ext cx="8786880" cy="58874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Tahoma"/>
                <a:cs typeface="Tahoma"/>
              </a:rPr>
              <a:t>إن مشاركة الأسرة في البرامج المقدمة للأطفال المعاقين له فوائد عديدة, من أهم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ea typeface="Tahoma"/>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 إن فوائد المشاركة تشمل أفراد الأسرة الآخرين من أخوة وأخوات ولن تنحصر فقط في الوالدين, الأمر الذي سيؤدي إلى تعديل اتجاهاتهم وتوقعاتهم واستجاباتهم وطرق تعاملهم مع الشخص المعاق.</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 إن مشاركة أفراد الأسرة تجعل منهم أداة ووسيلة هامة لنقل أثر التعليم والتدريب من البرنامج المؤسسي إلى المنزل وتوفير جميع المتطلبات التي تضمن استمرارية عملية التعلي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 إن مشاركة الأسرة سترفع من معنويات الأسرة وتسهم في تخفيف الضغوط النفسية وعوامل القلق والإحباط التي قد تشعر بها نتيجةً لحصول الإعاق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 تعتبر الأسرة من أهم الدعائم الأساسية لدمج المعاقين في المجتمع, وهي المحرك الرئيسي لتوفير كافة فرص الدمج اللازمة سواءً كان ذلك بمشاركتها في الجهود التطوعية أو التنظيمات الأسرية التي تعمل على زيادة الضغوط على المجتمع لتوفير كافة المتطلبات وتأكيد حقوق أبنائها في المساواة وتكافؤ الفرص</a:t>
            </a:r>
            <a:r>
              <a:rPr b="0" lang="ar-SA" sz="2000" spc="-1" strike="noStrike">
                <a:solidFill>
                  <a:srgbClr val="000000"/>
                </a:solidFill>
                <a:latin typeface="Century Gothic"/>
                <a:ea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مربع نص 1"/>
          <p:cNvSpPr/>
          <p:nvPr/>
        </p:nvSpPr>
        <p:spPr>
          <a:xfrm>
            <a:off x="142920" y="285840"/>
            <a:ext cx="8786880" cy="646452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Tahoma"/>
                <a:cs typeface="Tahoma"/>
              </a:rPr>
              <a:t>وبالرغم من وجود معوقات قد تؤثر على المشاركة الأسرية (الشمري </a:t>
            </a:r>
            <a:r>
              <a:rPr b="1" lang="ar-SA" sz="2000" spc="-1" strike="noStrike">
                <a:solidFill>
                  <a:srgbClr val="e46c0a"/>
                </a:solidFill>
                <a:latin typeface="Tahoma"/>
                <a:ea typeface="Tahoma"/>
              </a:rPr>
              <a:t>2000</a:t>
            </a:r>
            <a:r>
              <a:rPr b="1" lang="ar-SA" sz="2000" spc="-1" strike="noStrike">
                <a:solidFill>
                  <a:srgbClr val="e46c0a"/>
                </a:solidFill>
                <a:latin typeface="Tahoma"/>
                <a:ea typeface="Tahoma"/>
              </a:rPr>
              <a:t>) إلا أنها قد تأخذ الأشكال التالية:     </a:t>
            </a:r>
            <a:r>
              <a:rPr b="1" lang="ar-SA" sz="2000" spc="-1" strike="noStrike">
                <a:solidFill>
                  <a:srgbClr val="ff0000"/>
                </a:solidFill>
                <a:latin typeface="Tahoma"/>
                <a:ea typeface="Tahoma"/>
              </a:rPr>
              <a:t>(أشكال المشارك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1</a:t>
            </a:r>
            <a:r>
              <a:rPr b="0" lang="ar-SA" sz="1800" spc="-1" strike="noStrike">
                <a:solidFill>
                  <a:srgbClr val="000000"/>
                </a:solidFill>
                <a:latin typeface="Tahoma"/>
                <a:ea typeface="Tahoma"/>
              </a:rPr>
              <a:t>- إن الأسرة بحاجة إلى المشاركة في البرامج والأنشطة التي توفر لها الدعم المعنوي والنفسي والاجتماعي وتقلل من الآثار الناجمة عن إعاقة طفلها والتي يعد من أبرزها المحاضرات والندوات والمؤتمرات وحلقات النقاش وبرامج الإرشاد الجمع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2</a:t>
            </a:r>
            <a:r>
              <a:rPr b="0" lang="ar-SA" sz="1800" spc="-1" strike="noStrike">
                <a:solidFill>
                  <a:srgbClr val="000000"/>
                </a:solidFill>
                <a:latin typeface="Tahoma"/>
                <a:ea typeface="Tahoma"/>
              </a:rPr>
              <a:t>- المشاركة في برامج التدريب الأسري التي تزود الأسر بالمعلومات والمهارات والخبرات اللازمة للتعامل مع الطفل, ويذكر أن هناك اتجاهين للتدريب, الأول هو التدرب المنزلي والثاني هو التدريب المؤسس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3</a:t>
            </a:r>
            <a:r>
              <a:rPr b="0" lang="ar-SA" sz="1800" spc="-1" strike="noStrike">
                <a:solidFill>
                  <a:srgbClr val="000000"/>
                </a:solidFill>
                <a:latin typeface="Tahoma"/>
                <a:ea typeface="Tahoma"/>
              </a:rPr>
              <a:t>- المشاركة في وضع الخطط والبرامج التربوية في مراحل التعليم والتدريب المهني ومراقبة تنفيذها عن طريق مجالس الآباء والمعلمين أو عن طريق برامج الآباء كمعلمين متطوعين, والآباء كمساعدين للمعلمين (الخطيب وآخرين </a:t>
            </a:r>
            <a:r>
              <a:rPr b="0" lang="ar-SA" sz="1800" spc="-1" strike="noStrike">
                <a:solidFill>
                  <a:srgbClr val="000000"/>
                </a:solidFill>
                <a:latin typeface="Tahoma"/>
                <a:ea typeface="Tahoma"/>
              </a:rPr>
              <a:t>1992</a:t>
            </a:r>
            <a:r>
              <a:rPr b="0" lang="ar-SA" sz="1800" spc="-1" strike="noStrike">
                <a:solidFill>
                  <a:srgbClr val="000000"/>
                </a:solidFill>
                <a:latin typeface="Tahoma"/>
                <a:ea typeface="Tahoma"/>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4</a:t>
            </a:r>
            <a:r>
              <a:rPr b="0" lang="ar-SA" sz="1800" spc="-1" strike="noStrike">
                <a:solidFill>
                  <a:srgbClr val="000000"/>
                </a:solidFill>
                <a:latin typeface="Tahoma"/>
                <a:ea typeface="Tahoma"/>
              </a:rPr>
              <a:t>- المشاركة في التنظيمات وجمعيات أهالي وأصدقاء المعوقين, وجماعات الدعم الأسر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5</a:t>
            </a:r>
            <a:r>
              <a:rPr b="0" lang="ar-SA" sz="1800" spc="-1" strike="noStrike">
                <a:solidFill>
                  <a:srgbClr val="000000"/>
                </a:solidFill>
                <a:latin typeface="Tahoma"/>
                <a:ea typeface="Tahoma"/>
              </a:rPr>
              <a:t>- المشاركة في عضوية اللجان المهنية كعضوية فريق التشخيص’ وفريق التأهيل المهني, وفريق الخطة التربوية الفرد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6</a:t>
            </a:r>
            <a:r>
              <a:rPr b="0" lang="ar-SA" sz="1800" spc="-1" strike="noStrike">
                <a:solidFill>
                  <a:srgbClr val="000000"/>
                </a:solidFill>
                <a:latin typeface="Tahoma"/>
                <a:ea typeface="Tahoma"/>
              </a:rPr>
              <a:t>- إن مشاركة الأهل هي مكون ومتطلب أساسي من متطلبات تأهيل المعوقين بغض النظر عن البرنامج التأهيلي, وقد نصت على ذلك جميع التشريعات والقوانين الدولية والمحلية وأكدت عليه الدراسات والأبحاث ونصت عليه تعليمات المراكز والمؤسسات العامل في مجال تأهيل المعوقين المختلف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ستطيل 5"/>
          <p:cNvSpPr/>
          <p:nvPr/>
        </p:nvSpPr>
        <p:spPr>
          <a:xfrm>
            <a:off x="214200" y="785880"/>
            <a:ext cx="8740800" cy="545472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cs typeface="Tahoma"/>
              </a:rPr>
              <a:t>إن المدخل إلى مفهوم التأهيل يفرض علينا ان نقدم تعريفا ينسجم مع هذا التوجه وهو أن التأهيل عبارة عن: عملية تقوم على مجموعة من الأنشطة والبرامج المنسقة والمتكاملة للأفراد المعاقين بغرض مساعدتهم على التكيف مع حالة العجز ومواجهة الآثار السلبية التي تنتج عنها , واكتشاف وتطوير ما تبقى لديهم من قدرات لتمكينهم من مواجهة متطلبات الحياة وتلبية احتياجاتهم الخاصة والاندماج في المجتمع ومايتطلبه ذلك من تعديلات وتشريعات تشمل المعاق والأسرة والمجتمع.</a:t>
            </a:r>
            <a:endParaRPr b="0" lang="en-US" sz="2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ea typeface="Tahoma"/>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14200" y="428400"/>
            <a:ext cx="8715600" cy="6143400"/>
          </a:xfrm>
          <a:prstGeom prst="rect">
            <a:avLst/>
          </a:prstGeom>
          <a:noFill/>
          <a:ln w="9360">
            <a:solidFill>
              <a:srgbClr val="558ed5"/>
            </a:solidFill>
            <a:miter/>
          </a:ln>
        </p:spPr>
        <p:txBody>
          <a:bodyPr anchor="t">
            <a:normAutofit/>
          </a:bodyPr>
          <a:p>
            <a:pPr marL="343080" indent="-34308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ahoma"/>
                <a:cs typeface="Tahoma"/>
              </a:rPr>
              <a:t>إن مفهوم التأهيل تبعا لهذا المنحنى يؤكد على الحقائق التالية :</a:t>
            </a:r>
            <a:endParaRPr b="0" lang="en-US" sz="2200" spc="-1" strike="noStrike">
              <a:solidFill>
                <a:srgbClr val="000000"/>
              </a:solidFill>
              <a:latin typeface="Calibri"/>
            </a:endParaRPr>
          </a:p>
          <a:p>
            <a:pPr marL="343080" indent="-3430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أن التأهيل عملية تضمن مجموعة من المراحل والخطوات المتسلسلة والمنظمة المخطط لها لتحقيق أهداف محددة.</a:t>
            </a:r>
            <a:endParaRPr b="0" lang="en-US" sz="2000" spc="-1" strike="noStrike">
              <a:solidFill>
                <a:srgbClr val="000000"/>
              </a:solidFill>
              <a:latin typeface="Calibri"/>
            </a:endParaRPr>
          </a:p>
          <a:p>
            <a:pPr marL="343080" indent="-3430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أن عملية التأهيل تقوم على مجموعة من الأنشطة التي تقدم للإفراد المعاقين بشكل متناسق ومتكامل,مما يؤكد على مفهوم الفريق المتعدد التخصصات في كل مرحلة وفي كل نشاط  أو برنامج من برامج التأهيل.</a:t>
            </a:r>
            <a:endParaRPr b="0" lang="en-US" sz="2000" spc="-1" strike="noStrike">
              <a:solidFill>
                <a:srgbClr val="000000"/>
              </a:solidFill>
              <a:latin typeface="Calibri"/>
            </a:endParaRPr>
          </a:p>
          <a:p>
            <a:pPr marL="343080" indent="-3430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إن عملية التأهيل تهدف إلى :</a:t>
            </a:r>
            <a:endParaRPr b="0" lang="en-US" sz="2000" spc="-1" strike="noStrike">
              <a:solidFill>
                <a:srgbClr val="000000"/>
              </a:solidFill>
              <a:latin typeface="Calibri"/>
            </a:endParaRPr>
          </a:p>
          <a:p>
            <a:pPr marL="343080" indent="-3430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  مساعدة المعاق وأسرته على التكيف مع حالة العجز وتقبل الأمر الواقع</a:t>
            </a:r>
            <a:endParaRPr b="0" lang="en-US" sz="2000" spc="-1" strike="noStrike">
              <a:solidFill>
                <a:srgbClr val="000000"/>
              </a:solidFill>
              <a:latin typeface="Calibri"/>
            </a:endParaRPr>
          </a:p>
          <a:p>
            <a:pPr marL="343080" indent="-3430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ب- الكشف عن القدرات الذاتية للشخص المعاق والقدرات والإمكانيات المتوفرة في بيئته لتطويرها واستثمارها في عملية التأهيل.</a:t>
            </a:r>
            <a:endParaRPr b="0" lang="en-US" sz="2000" spc="-1" strike="noStrike">
              <a:solidFill>
                <a:srgbClr val="000000"/>
              </a:solidFill>
              <a:latin typeface="Calibri"/>
            </a:endParaRPr>
          </a:p>
          <a:p>
            <a:pPr marL="343080" indent="-3430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ج- تمكين المعاق من مواجهة متطلبات الحياة ويلبي احتياجاته الخاصة بنفسه وبشكل مستقل وعدم الاعتماد على الآخرين.</a:t>
            </a:r>
            <a:endParaRPr b="0" lang="en-US" sz="2000" spc="-1" strike="noStrike">
              <a:solidFill>
                <a:srgbClr val="000000"/>
              </a:solidFill>
              <a:latin typeface="Calibri"/>
            </a:endParaRPr>
          </a:p>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5"/>
          <p:cNvSpPr/>
          <p:nvPr/>
        </p:nvSpPr>
        <p:spPr>
          <a:xfrm>
            <a:off x="142920" y="285840"/>
            <a:ext cx="8858160" cy="619236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إن الغاية والهدف النهائي من عملية التأهيل هو تمكين الشخص المعاق من الاندماج في الحياة العامة للمجتم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5</a:t>
            </a:r>
            <a:r>
              <a:rPr b="0" lang="ar-SA" sz="2000" spc="-1" strike="noStrike">
                <a:solidFill>
                  <a:srgbClr val="000000"/>
                </a:solidFill>
                <a:latin typeface="Tahoma"/>
                <a:ea typeface="Tahoma"/>
              </a:rPr>
              <a:t>.حتى تحقق عملية التأهيل أهدافها فلابد من إجراء تعديلات ليس فقط في شخصية المعاق وقدراته بل تمتد لتشمل الأسرة والمجتم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6</a:t>
            </a:r>
            <a:r>
              <a:rPr b="0" lang="ar-SA" sz="2000" spc="-1" strike="noStrike">
                <a:solidFill>
                  <a:srgbClr val="000000"/>
                </a:solidFill>
                <a:latin typeface="Tahoma"/>
                <a:ea typeface="Tahoma"/>
              </a:rPr>
              <a:t>.إن برامج وأنشطة التأهيل تقوم على أسس وقواعد علمية وليس على أسس وقواعد إنسانيه أو اجتماعيه فقط, أي أن التأهيل عمليه علمية وليس خدمة إنسان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7</a:t>
            </a:r>
            <a:r>
              <a:rPr b="0" lang="ar-SA" sz="2000" spc="-1" strike="noStrike">
                <a:solidFill>
                  <a:srgbClr val="000000"/>
                </a:solidFill>
                <a:latin typeface="Tahoma"/>
                <a:ea typeface="Tahoma"/>
              </a:rPr>
              <a:t>.إن برامج وأنشطة التأهيل يجب أن تستند إلى أسس وقواعد تشخيصية وتفسيرات دقيقة وواقعية للمعلومات المتوفرة عن الشخص المعاق وظروف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8</a:t>
            </a:r>
            <a:r>
              <a:rPr b="0" lang="ar-SA" sz="2000" spc="-1" strike="noStrike">
                <a:solidFill>
                  <a:srgbClr val="000000"/>
                </a:solidFill>
                <a:latin typeface="Tahoma"/>
                <a:ea typeface="Tahoma"/>
              </a:rPr>
              <a:t>.إن عملية التأهيل هي عملية فر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9</a:t>
            </a:r>
            <a:r>
              <a:rPr b="0" lang="ar-SA" sz="2000" spc="-1" strike="noStrike">
                <a:solidFill>
                  <a:srgbClr val="000000"/>
                </a:solidFill>
                <a:latin typeface="Tahoma"/>
                <a:ea typeface="Tahoma"/>
              </a:rPr>
              <a:t>.هناك ضرورة لمشاركة الشخص المعوق وأسرته في جميع مراحل عملية التأهي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0</a:t>
            </a:r>
            <a:r>
              <a:rPr b="0" lang="ar-SA" sz="2000" spc="-1" strike="noStrike">
                <a:solidFill>
                  <a:srgbClr val="000000"/>
                </a:solidFill>
                <a:latin typeface="Tahoma"/>
                <a:ea typeface="Tahoma"/>
              </a:rPr>
              <a:t>.من الضروري إجراء متابعة وتقييم لكل خطوة من خطوات التأهيل للتعرف على النتائج التي تحققها والصعوبات والمشكلات التي تتعرض تطبيق خطة التأهيل تمهيدا لتجنبها في الخطوات والمراحل اللاحق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ستطيل 5"/>
          <p:cNvSpPr/>
          <p:nvPr/>
        </p:nvSpPr>
        <p:spPr>
          <a:xfrm>
            <a:off x="214200" y="500040"/>
            <a:ext cx="8715600" cy="61923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أهداف التأهيل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 التخفيف قدر الإمكان من الآثار السلبية الناجمة عن العجز سواء كانت نفسية او اجتماعية او اقتصا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 العمل على اكتشاف القدرات والميول والاستعدادات التي تتوفر لدى الافراد المعوقين وفي بيئاتهم الداخلية والخارجية والعمل على تنميتها وتطوريها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 مساعدة الشخص المعاق على أن يؤدي وظيفة أو دور يتلاءم مع نوع ومستوى العجز ومع قدراته وإمكاناته المتبق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دمج المعوقين في المجتمع دمجا متكاملا وشاملا من جميع النواحي الاجتماعية والوظيفية والمجتمعية وتامين جميع المستلزمات والتحضيرات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5</a:t>
            </a:r>
            <a:r>
              <a:rPr b="0" lang="ar-SA" sz="2000" spc="-1" strike="noStrike">
                <a:solidFill>
                  <a:srgbClr val="000000"/>
                </a:solidFill>
                <a:latin typeface="Tahoma"/>
                <a:ea typeface="Tahoma"/>
              </a:rPr>
              <a:t>. العمل على توعية المجتمع بالإعاقات المختلفة وأسبابها وطرق الوقاية من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cs typeface="Times New Roman"/>
              </a:rPr>
              <a:t>فلسفة التأهيل</a:t>
            </a:r>
            <a:endParaRPr b="0" lang="en-US" sz="4400" spc="-1" strike="noStrike">
              <a:solidFill>
                <a:srgbClr val="000000"/>
              </a:solidFill>
              <a:latin typeface="Calibri"/>
            </a:endParaRPr>
          </a:p>
        </p:txBody>
      </p:sp>
      <p:sp>
        <p:nvSpPr>
          <p:cNvPr id="48" name=""/>
          <p:cNvSpPr txBox="1"/>
          <p:nvPr/>
        </p:nvSpPr>
        <p:spPr>
          <a:xfrm>
            <a:off x="457200" y="2143080"/>
            <a:ext cx="8229600" cy="3983040"/>
          </a:xfrm>
          <a:prstGeom prst="rect">
            <a:avLst/>
          </a:prstGeom>
          <a:noFill/>
          <a:ln w="9360">
            <a:solidFill>
              <a:srgbClr val="00b050"/>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أولاً :الأساس الديني:</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أصبح المعوقون أكثر أمانًا وقبولا في المجتمع ,بل وأعطى الإسلام المعوقون جميع الحقوق قدم المساواة مع غيرهم من غير المعوقون. إن هذه الحقوق والامتيازات التي أعطاها الدين الإسلامي للأشخاص المعوقين لم تكن هبه أو منه من احد بل جاءت كتعاليم سماوية وقوانين نص عليها القران الكريم وأكدت عليها السنة النبوية الشريفة. </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مستطيل 5"/>
          <p:cNvSpPr/>
          <p:nvPr/>
        </p:nvSpPr>
        <p:spPr>
          <a:xfrm>
            <a:off x="428760" y="4500720"/>
            <a:ext cx="8501040" cy="19234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ثالثًا: الأساس الأخلاق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فيجب أن يتم مراعاة واحترام الحاجات والرغبات والقدرات الخاصة للفرد المعاق في عملية التأهي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 </a:t>
            </a:r>
            <a:endParaRPr b="0" lang="en-US" sz="2000" spc="-1" strike="noStrike">
              <a:solidFill>
                <a:srgbClr val="000000"/>
              </a:solidFill>
              <a:latin typeface="Arial"/>
            </a:endParaRPr>
          </a:p>
        </p:txBody>
      </p:sp>
      <p:sp>
        <p:nvSpPr>
          <p:cNvPr id="50" name="مستطيل 5"/>
          <p:cNvSpPr/>
          <p:nvPr/>
        </p:nvSpPr>
        <p:spPr>
          <a:xfrm>
            <a:off x="438120" y="609480"/>
            <a:ext cx="8501040" cy="22284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ثانيا الأساس الإنسان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إن الشخص المعاق هو إنسان قبل أن يكون معاقا والإنسان المعوق يمر بنفس مراحل النمو التي يمر بها الإنسان الغير المعوق وله نفس الاحتياجات كما أن الإنسان المعوق ليس مسئولا عن إعاقته كما انه لا يحب أن يتحمل تبعاتها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428400" y="3857760"/>
            <a:ext cx="8343720" cy="2133360"/>
          </a:xfrm>
          <a:prstGeom prst="rect">
            <a:avLst/>
          </a:prstGeom>
          <a:noFill/>
          <a:ln w="9360">
            <a:solidFill>
              <a:srgbClr val="00b050"/>
            </a:solidFill>
            <a:miter/>
          </a:ln>
        </p:spPr>
        <p:txBody>
          <a:bodyPr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خامساً: الأساس القانوني:</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تعتبر حقوق المعاقين من القضايا الأساسية التي حظيت باهتمام الدول والمنظمات الدولية وقد نتج عن هذا الاهتمام ظهور عدد من التشريعات والقوانين الدولية والمحلية  .</a:t>
            </a:r>
            <a:endParaRPr b="0" lang="en-US" sz="2000" spc="-1" strike="noStrike">
              <a:solidFill>
                <a:srgbClr val="000000"/>
              </a:solidFill>
              <a:latin typeface="Calibri"/>
            </a:endParaRPr>
          </a:p>
        </p:txBody>
      </p:sp>
      <p:sp>
        <p:nvSpPr>
          <p:cNvPr id="52" name="Subtitle 2"/>
          <p:cNvSpPr/>
          <p:nvPr/>
        </p:nvSpPr>
        <p:spPr>
          <a:xfrm>
            <a:off x="428760" y="785880"/>
            <a:ext cx="8501040" cy="2266920"/>
          </a:xfrm>
          <a:prstGeom prst="rect">
            <a:avLst/>
          </a:prstGeom>
          <a:noFill/>
          <a:ln w="9360">
            <a:solidFill>
              <a:srgbClr val="00b050"/>
            </a:solidFill>
            <a:miter/>
          </a:ln>
        </p:spPr>
        <p:style>
          <a:lnRef idx="0"/>
          <a:fillRef idx="0"/>
          <a:effectRef idx="0"/>
          <a:fontRef idx="minor"/>
        </p:style>
        <p:txBody>
          <a:bodyPr lIns="90000" rIns="90000" tIns="46800" bIns="46800" anchor="t">
            <a:norm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رابعاً: الأساس المهني:</a:t>
            </a: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إن عملية التأهيل تتكون من سلسلة من البرامج والخدمات والأنشطة الفردية الموجهة نحو تحقيق أهداف محددة على رأسها دمج المعاق في الحياة العامة للمجتمع من النواحي الاجتماعية الوظيفية والمهنية والتربوية وغيرها.</a:t>
            </a: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aha althunayan</dc:creator>
  <dc:description/>
  <dc:language>en-US</dc:language>
  <cp:lastModifiedBy>العنود العسكر</cp:lastModifiedBy>
  <dcterms:modified xsi:type="dcterms:W3CDTF">2017-02-10T11:55:16Z</dcterms:modified>
  <cp:revision>65</cp:revision>
  <dc:subject/>
  <dc:title>PowerPoint Presentation</dc:title>
</cp:coreProperties>
</file>