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B9A-7F9C-49A6-9D4E-9E29F91A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793-B124-4E5E-83A6-E06379C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65596-1D9B-4F5E-8C54-1C7431D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C3ED8-DAB6-4AA5-88E1-0E285DE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2BDE-555B-42B2-9167-F97A9E92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0EA9C-F791-4765-9A97-CE6AA124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47312-5567-4BF3-9281-1C8032E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D644E-8215-44C9-9454-065A21F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2F3D8-A001-4B0B-8B27-FE198E1E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0E77D-F89B-4FF4-8C1C-02C0888E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3D7A6-6B56-426B-8473-FAB75F19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0DBB6-DB61-482F-95FA-077407BF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C66-6856-46DC-95CA-344758FF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59BB8-54E0-4A43-826E-1A3F2E9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EA380-01F5-42A0-8CBB-84FFBC6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3221B-5515-49C4-8AA6-4A6A51BC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0F8E2-1A12-4070-A2E0-B473B8F2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7A56F-92D9-4E19-BC84-EC65007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C0D50-A5E2-4264-889C-CDF72E5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8B2B-DAD6-451C-840C-390742ED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39737-8289-4C24-8914-48AFF55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E64F9-DA2A-49C9-A509-B1AA562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8B7A0-61C0-4FF1-B85B-16B76C2A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A42-139A-4C1B-B128-7D0E4BE5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1498F-E937-48E1-B414-D7DE16D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631C4-97D5-41F4-B207-EFCA9325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9AD0-519C-4AFF-93B6-49A6747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3D470-39EB-45C4-8909-456B691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C689-E652-4961-88BB-E13D91E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5E2DA-27E8-4027-B816-D30F9522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A9847-EB4C-46CD-BDF3-FF6F9816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7005-2193-42F5-B007-E4139219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7E4B-CA39-47A1-8A28-380F079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0E665-0D75-4BE0-8330-573620D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7817-4F82-40DF-B600-B0AEC6EC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75A7-3567-4C9A-892D-C1917993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DEBD-70D0-4E2B-9BCE-681F4C83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03CD4-8E5A-4B8F-B8C6-1C521D3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C7DD7-B738-4118-847A-212BA8A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7833B-C5C3-4F4F-8B00-CA860C9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F27F5-C070-4B37-88C0-F61BCEE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25982-65B0-44BB-BB7D-7B43505A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27A6-C09C-497C-B07F-81E712C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D4B06-AD20-43C5-8C45-E30EBED2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0980-2518-4987-B528-ACADBA1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64C8-A704-46C2-8DE2-9B7B5A3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B4C2C-7978-4A7F-8031-01175E1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4D283-91B5-4F98-8EE6-BD984A1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67553-6F8E-4CA7-8177-A980B7C8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D43E5-BFA5-4844-B519-23E99902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45942-4CFE-49F6-876F-2B366CB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801A-5C50-43B6-9B5E-D6C7A48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341-B8D7-4403-9E7E-BCF2F41A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8613-2CA7-43A4-8BF1-7B87783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1E9-A7BD-4589-B644-3A9DB4A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AE9-4319-42AD-9B6B-2FB122F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FBF-A196-4363-88F7-C617220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DAD5-5442-44BF-8C50-0265C27F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5799-1717-487A-BE04-43FB431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8871-8F7B-428F-BF41-DC3F2292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7576-20CC-4021-A09D-42E747E5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9A26-DE64-4E8C-980D-E1630ABF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4028-ED9D-4407-AA94-34FFFA57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0C95-9D19-424B-83D6-10041916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06F2-5A95-4D9C-B264-825F6E67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ED70-950B-45FB-A832-FCA9C4B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34B9-97A4-429D-94C4-92DB155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798-A86D-4046-97DF-220090F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3FDB-F930-4542-9844-9B9CDCD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9D71-30F6-400F-B36D-6F21FDF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0DF0-9059-438D-B18F-AE13E62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A1CB-2853-4FCF-A3EB-4D1928D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A136-2821-41CD-BF33-75926840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C77F-5C5A-455F-BFA0-DEBA97B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4BA9-4BC7-44CF-8FC0-3563EA5C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9248-E115-4992-8EA5-6144A983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67E7-BE1B-4C53-AE5A-EBA1092A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3676-43CC-4992-A6DE-013FFDA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31D-6577-42EE-9AB5-30B6D6F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CCB8-1919-4315-89A5-57A3EB41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20BA-33DA-41CB-82F0-427456FE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19BD4-AFC6-4FB6-9B61-2D57E44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ACC2-8AF3-4A2A-A2FC-079F4C9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C7AB-144B-405A-9BAF-AC1419E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BC2C-18CC-411B-A524-0E2D099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BC7E-6FD1-4DF8-A7B3-53537C5F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45D7-2932-41A6-8C60-529D8183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2E8C-F361-496C-9F5D-C97FC5A1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F754-1AE2-41D1-9086-98B9939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5E1-7830-4F4D-BC60-06A962B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DA47-4F85-4C4C-8746-317B677C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AA31-F829-4002-AE76-DFBAF7CE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6202-15C4-4F4A-850B-0BDBFDD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67E4-A2FE-4B52-B3DD-590B7836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8C7F-51DB-4FE7-ABAF-666FB16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96BA-196B-452D-A4EF-CAF64FB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A8DF-9EC6-455A-9DAB-1C4BD2A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24E95-CA5A-4B3C-974A-192E966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9B75-41D7-4FA4-A756-B415554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82D3-73E8-4966-9A82-3F576108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DA8-B5DF-42D9-AD46-E893B9AE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DBCD9-72C2-43AB-9D4A-EEF47A95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982D-D50D-4A69-8BAD-F6E543A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1D7D-742F-4892-AD4A-F522033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3D04-A7D1-45E9-ADC4-E327D29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E1EF-E7FB-4B30-BD1E-9102DD4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4ECE-4273-45F3-9EA6-3F5871B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19C0-B80C-41BC-8D5D-C313892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8EB15-2203-45FF-AFF1-3BA90EE2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105B2-3E4B-4767-86BC-6A9ACF0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DC97-A8C6-4631-8274-8C294DF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EC0-1E12-4407-B945-C0D803C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7A6E-5FC3-4882-BEC9-480E205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5BE7-FB1B-425B-87C1-E6D90413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3655-6062-4D06-94DE-A7963B7A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3614-62C9-478F-BA98-7EB640B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180AE-695D-4A07-AD71-699E933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A477-08E2-4851-A0AC-AE2F3A4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8D8EC-B566-4940-9611-D68017FA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28B60-B4EA-40AC-8BDE-90EAC6F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62C3-A70E-44F6-BF10-259938A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BB040-519A-4E94-9C98-842B65B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2BF-19B4-49F4-962F-8F852FEA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462D-B06D-4E3C-9D18-D36E130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5CE4-D3FF-4251-B9A7-2A6B00C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10DD-B497-4AFF-8B59-E9B298F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DBC1B-B70E-40B7-808B-B29FB373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3E30-AB8C-4FD1-B842-2EB1416F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D304B-551A-4B9E-BD69-9C87C65F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9718C-E29C-4345-8B77-C1F2972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B7D7-ED24-4617-9B5B-EA153DD1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F3D75-9BA5-4C39-8369-A301133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6BB6-A5DC-4D84-AA15-AAC0E1D8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99B-17A8-48AB-8CE8-A783DC8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44E2-9CD1-4E19-A32B-E98BBE8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ACA3-ED7E-48A7-91EC-8CC1556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B31B-41DF-407E-B47B-5612851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5F9C-9618-42A8-9A33-81A8E7E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AE6D-B35E-4783-9ADE-D105756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BDE87-4183-474F-9E2A-37CDE576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51706-B53F-4472-9A11-27B8E36C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BF1C8-C4FA-4EF3-B6EA-02D5C29D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C3971-07FF-4F7C-A923-9197A56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652FB-66CC-4388-B5DF-04EED9EB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4D00-D8AC-47C2-8915-73A99EE8AE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DA5-3E68-4343-9D77-715EC3124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9A67-B391-43A0-80CC-3735E21A98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CC5-4906-4E06-B8FD-535EDBA63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C13-0172-443A-8E14-FAB7D64C8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BBC-6A30-45D4-B4F3-8D29438484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EE7-C091-46A1-9EC2-F541D73BD5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AD6-46D5-4EE1-BBDF-021CB18C39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BA1B-872A-4A83-AC9B-C018389D34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A3B3-890F-4303-AD92-ADBCBBB33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19A4-9B55-4AF4-BB00-CE16C943CC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8E2-16B9-4229-BF28-2A5D2C05D0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8"/>
          <p:cNvSpPr/>
          <p:nvPr/>
        </p:nvSpPr>
        <p:spPr>
          <a:xfrm>
            <a:off x="222120" y="500040"/>
            <a:ext cx="8639280" cy="87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بيئة إدارة التوزي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مفهوم البيئ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اقسام البيئة التسويق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أنواع بيئة التوزيع والامدا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عوامل المؤثرة على الشركة ضمن البيئة التسويقية الرق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"/>
          <p:cNvSpPr/>
          <p:nvPr/>
        </p:nvSpPr>
        <p:spPr>
          <a:xfrm>
            <a:off x="6948360" y="500040"/>
            <a:ext cx="1913040" cy="1441440"/>
          </a:xfrm>
          <a:prstGeom prst="ellips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Lucida Sans Unicode"/>
              </a:rPr>
              <a:t>المحاضرة الراب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222120" y="504720"/>
            <a:ext cx="1714680" cy="185760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فصل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أولاً:مفهوم البيئة 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هي ذلك المحيط الذي يعيش به الفرد والعلاقات ذات التأثيرات المتعد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 التسويقي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: هي كافة القوى والعوامل والمتغيرات 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داخ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خارج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ؤثر على عمل التوزيع في الشرك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08000" y="189000"/>
            <a:ext cx="8928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ثانياً:اقسام البيئة التسو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- البيئة الخاصة / الداخلية  وهي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أنواع:</a:t>
            </a: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أ-بيئة داخلية مباشرة تشمل عناصر المزيج التسويق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-بيئة داخلية غير مباشرة تشمل كل وظائف الشركة ماعدا التسو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ج- بيئة المهمة الخاصة وهي العوامل الأكثر التصاقاً بالنشاط التسويقي (مستهلكون،منافسون، وسطاء ، عاملون ، التجمعات ، الموردون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295200"/>
            <a:ext cx="885672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ئة العامة الخارج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كل ما يحيط بالشركة واداراتها من ظروف ومتغيرات لا يمكن السيطرة عليها أو توقعها ومن أنواعها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أ- 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طبيعية:(تلوث ، ندرة الموارد الأول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ب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سياسية أو القانون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ج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ديموغرافية :(حجم السكان،توزيعهم، اعمارهم ، نمط حياتهم، عاداتهم، مستواهم، فهمهم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د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اقتصادية:(مستوى المعيشة البطالة ، العمالة ، الضرائب، التضخم، القوة الشرائية.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هـ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تكنولوجية :تطورات  علمية وتق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و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اجتماعية والثقافية:(قيم وعادات ،وعي استهلاكي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8680320" cy="17319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05480" cy="46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-البيئة الداخلية للتوزيع والامداد /الجزئية (الميكروب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1" name="Diagram 3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7875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31160" cy="19144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227016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6"/>
          <p:cNvGrpSpPr/>
          <p:nvPr/>
        </p:nvGrpSpPr>
        <p:grpSpPr>
          <a:xfrm>
            <a:off x="5894280" y="1125360"/>
            <a:ext cx="1895760" cy="2178360"/>
            <a:chOff x="5894280" y="1125360"/>
            <a:chExt cx="1895760" cy="2178360"/>
          </a:xfrm>
        </p:grpSpPr>
        <p:sp>
          <p:nvSpPr>
            <p:cNvPr id="595" name="Hexagon 17"/>
            <p:cNvSpPr/>
            <p:nvPr/>
          </p:nvSpPr>
          <p:spPr>
            <a:xfrm rot="5400000">
              <a:off x="5752800" y="1266480"/>
              <a:ext cx="2178360" cy="189576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Hexagon 4"/>
            <p:cNvSpPr/>
            <p:nvPr/>
          </p:nvSpPr>
          <p:spPr>
            <a:xfrm>
              <a:off x="6189480" y="1464840"/>
              <a:ext cx="130536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ك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3874680" y="1128600"/>
            <a:ext cx="1893960" cy="2178000"/>
            <a:chOff x="3874680" y="1128600"/>
            <a:chExt cx="1893960" cy="2178000"/>
          </a:xfrm>
        </p:grpSpPr>
        <p:sp>
          <p:nvSpPr>
            <p:cNvPr id="598" name="Hexagon 21"/>
            <p:cNvSpPr/>
            <p:nvPr/>
          </p:nvSpPr>
          <p:spPr>
            <a:xfrm rot="5400000">
              <a:off x="373248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Hexagon 4"/>
            <p:cNvSpPr/>
            <p:nvPr/>
          </p:nvSpPr>
          <p:spPr>
            <a:xfrm>
              <a:off x="4000320" y="1564920"/>
              <a:ext cx="15987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والقان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8"/>
          <p:cNvGrpSpPr/>
          <p:nvPr/>
        </p:nvGrpSpPr>
        <p:grpSpPr>
          <a:xfrm>
            <a:off x="1929960" y="1128600"/>
            <a:ext cx="1893960" cy="2178000"/>
            <a:chOff x="1929960" y="1128600"/>
            <a:chExt cx="1893960" cy="2178000"/>
          </a:xfrm>
        </p:grpSpPr>
        <p:sp>
          <p:nvSpPr>
            <p:cNvPr id="601" name="Hexagon 29"/>
            <p:cNvSpPr/>
            <p:nvPr/>
          </p:nvSpPr>
          <p:spPr>
            <a:xfrm rot="5400000">
              <a:off x="178776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Hexagon 4"/>
            <p:cNvSpPr/>
            <p:nvPr/>
          </p:nvSpPr>
          <p:spPr>
            <a:xfrm>
              <a:off x="2225520" y="146808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 البيئة الثقاف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31"/>
          <p:cNvGrpSpPr/>
          <p:nvPr/>
        </p:nvGrpSpPr>
        <p:grpSpPr>
          <a:xfrm>
            <a:off x="4882680" y="2906640"/>
            <a:ext cx="1893960" cy="2178000"/>
            <a:chOff x="4882680" y="2906640"/>
            <a:chExt cx="1893960" cy="2178000"/>
          </a:xfrm>
        </p:grpSpPr>
        <p:sp>
          <p:nvSpPr>
            <p:cNvPr id="604" name="Hexagon 32"/>
            <p:cNvSpPr/>
            <p:nvPr/>
          </p:nvSpPr>
          <p:spPr>
            <a:xfrm rot="5400000">
              <a:off x="4740480" y="304848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Hexagon 4"/>
            <p:cNvSpPr/>
            <p:nvPr/>
          </p:nvSpPr>
          <p:spPr>
            <a:xfrm>
              <a:off x="5178240" y="324612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اقتصاد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34"/>
          <p:cNvGrpSpPr/>
          <p:nvPr/>
        </p:nvGrpSpPr>
        <p:grpSpPr>
          <a:xfrm>
            <a:off x="2927160" y="2906640"/>
            <a:ext cx="1895400" cy="2178000"/>
            <a:chOff x="2927160" y="2906640"/>
            <a:chExt cx="1895400" cy="2178000"/>
          </a:xfrm>
        </p:grpSpPr>
        <p:sp>
          <p:nvSpPr>
            <p:cNvPr id="607" name="Hexagon 35"/>
            <p:cNvSpPr/>
            <p:nvPr/>
          </p:nvSpPr>
          <p:spPr>
            <a:xfrm rot="5400000">
              <a:off x="2785680" y="3047760"/>
              <a:ext cx="2178000" cy="18954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Hexagon 4"/>
            <p:cNvSpPr/>
            <p:nvPr/>
          </p:nvSpPr>
          <p:spPr>
            <a:xfrm>
              <a:off x="3222720" y="3246120"/>
              <a:ext cx="130500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7"/>
          <p:cNvGrpSpPr/>
          <p:nvPr/>
        </p:nvGrpSpPr>
        <p:grpSpPr>
          <a:xfrm>
            <a:off x="6842160" y="2906640"/>
            <a:ext cx="2092320" cy="2178000"/>
            <a:chOff x="6842160" y="2906640"/>
            <a:chExt cx="2092320" cy="2178000"/>
          </a:xfrm>
        </p:grpSpPr>
        <p:sp>
          <p:nvSpPr>
            <p:cNvPr id="610" name="Hexagon 38"/>
            <p:cNvSpPr/>
            <p:nvPr/>
          </p:nvSpPr>
          <p:spPr>
            <a:xfrm rot="5400000">
              <a:off x="6799320" y="2949480"/>
              <a:ext cx="2178000" cy="2092320"/>
            </a:xfrm>
            <a:prstGeom prst="hexagon">
              <a:avLst>
                <a:gd name="adj" fmla="val 22640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Hexagon 4"/>
            <p:cNvSpPr/>
            <p:nvPr/>
          </p:nvSpPr>
          <p:spPr>
            <a:xfrm>
              <a:off x="7167600" y="3246120"/>
              <a:ext cx="144144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تكن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40"/>
          <p:cNvGrpSpPr/>
          <p:nvPr/>
        </p:nvGrpSpPr>
        <p:grpSpPr>
          <a:xfrm>
            <a:off x="979200" y="2938320"/>
            <a:ext cx="1895400" cy="2178360"/>
            <a:chOff x="979200" y="2938320"/>
            <a:chExt cx="1895400" cy="2178360"/>
          </a:xfrm>
        </p:grpSpPr>
        <p:sp>
          <p:nvSpPr>
            <p:cNvPr id="613" name="Hexagon 41"/>
            <p:cNvSpPr/>
            <p:nvPr/>
          </p:nvSpPr>
          <p:spPr>
            <a:xfrm rot="5400000">
              <a:off x="837720" y="3079800"/>
              <a:ext cx="2178360" cy="1895400"/>
            </a:xfrm>
            <a:prstGeom prst="hexagon">
              <a:avLst>
                <a:gd name="adj" fmla="val 24997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Hexagon 4"/>
            <p:cNvSpPr/>
            <p:nvPr/>
          </p:nvSpPr>
          <p:spPr>
            <a:xfrm>
              <a:off x="1274760" y="3277800"/>
              <a:ext cx="130500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بيئة البنية التح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(الفيزيائية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da1f28"/>
                </a:solidFill>
                <a:latin typeface="Lucida Sans Unicode"/>
              </a:rPr>
              <a:t>رابعاً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 : تحليل بيئة التوزيع وفق (</a:t>
            </a: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SWOT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br>
              <a:rPr sz="4100"/>
            </a:br>
            <a:br>
              <a:rPr sz="4100"/>
            </a:b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ويعني تحليل نقاط القوة والضعف/ الفرص والمخاطر</a:t>
            </a:r>
            <a:br>
              <a:rPr sz="3600"/>
            </a:b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>
            <a:off x="1116000" y="60480"/>
            <a:ext cx="7201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خامساً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وامل المؤثرة على الشركة ضمن البيئة التسويقية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Diagram 2" descr=""/>
          <p:cNvPicPr/>
          <p:nvPr/>
        </p:nvPicPr>
        <p:blipFill>
          <a:blip r:embed="rId1"/>
          <a:stretch/>
        </p:blipFill>
        <p:spPr>
          <a:xfrm>
            <a:off x="444600" y="1219320"/>
            <a:ext cx="8229600" cy="54496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"/>
          <p:cNvSpPr/>
          <p:nvPr/>
        </p:nvSpPr>
        <p:spPr>
          <a:xfrm>
            <a:off x="6300720" y="2708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ورد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4427280" y="396396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20" name="Rounded Rectangle 6"/>
          <p:cNvSpPr/>
          <p:nvPr/>
        </p:nvSpPr>
        <p:spPr>
          <a:xfrm>
            <a:off x="6311880" y="4543560"/>
            <a:ext cx="15732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جار والوك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627280" y="4543560"/>
            <a:ext cx="151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كلاء الخدمات التسو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9"/>
          <p:cNvSpPr/>
          <p:nvPr/>
        </p:nvSpPr>
        <p:spPr>
          <a:xfrm>
            <a:off x="4427640" y="4543560"/>
            <a:ext cx="1512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شرك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10"/>
          <p:cNvSpPr/>
          <p:nvPr/>
        </p:nvSpPr>
        <p:spPr>
          <a:xfrm>
            <a:off x="755640" y="4521240"/>
            <a:ext cx="1440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سطاء التم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2"/>
          <p:cNvSpPr/>
          <p:nvPr/>
        </p:nvSpPr>
        <p:spPr>
          <a:xfrm flipV="1">
            <a:off x="4427640" y="4370040"/>
            <a:ext cx="26654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4"/>
          <p:cNvSpPr/>
          <p:nvPr/>
        </p:nvSpPr>
        <p:spPr>
          <a:xfrm flipH="1" flipV="1">
            <a:off x="1258920" y="4344840"/>
            <a:ext cx="3168720" cy="51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16"/>
          <p:cNvCxnSpPr/>
          <p:nvPr/>
        </p:nvCxnSpPr>
        <p:spPr>
          <a:xfrm>
            <a:off x="7097400" y="4370040"/>
            <a:ext cx="1080" cy="151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7" name="Straight Arrow Connector 18"/>
          <p:cNvCxnSpPr/>
          <p:nvPr/>
        </p:nvCxnSpPr>
        <p:spPr>
          <a:xfrm>
            <a:off x="5292720" y="4395960"/>
            <a:ext cx="7200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8" name="Straight Arrow Connector 20"/>
          <p:cNvCxnSpPr/>
          <p:nvPr/>
        </p:nvCxnSpPr>
        <p:spPr>
          <a:xfrm>
            <a:off x="1258560" y="4370040"/>
            <a:ext cx="1080" cy="8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9" name="Straight Arrow Connector 26"/>
          <p:cNvCxnSpPr/>
          <p:nvPr/>
        </p:nvCxnSpPr>
        <p:spPr>
          <a:xfrm>
            <a:off x="3384360" y="4395960"/>
            <a:ext cx="108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0" name="Straight Arrow Connector 28"/>
          <p:cNvCxnSpPr/>
          <p:nvPr/>
        </p:nvCxnSpPr>
        <p:spPr>
          <a:xfrm>
            <a:off x="6156000" y="4444920"/>
            <a:ext cx="1080" cy="1000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1" name="Straight Arrow Connector 30"/>
          <p:cNvCxnSpPr/>
          <p:nvPr/>
        </p:nvCxnSpPr>
        <p:spPr>
          <a:xfrm>
            <a:off x="428436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2" name="Straight Arrow Connector 19456"/>
          <p:cNvCxnSpPr/>
          <p:nvPr/>
        </p:nvCxnSpPr>
        <p:spPr>
          <a:xfrm>
            <a:off x="241092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3" name="Rounded Rectangle 19459"/>
          <p:cNvSpPr/>
          <p:nvPr/>
        </p:nvSpPr>
        <p:spPr>
          <a:xfrm>
            <a:off x="5940360" y="5445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ed Rectangle 19460"/>
          <p:cNvSpPr/>
          <p:nvPr/>
        </p:nvSpPr>
        <p:spPr>
          <a:xfrm>
            <a:off x="4164120" y="544500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سته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ounded Rectangle 19461"/>
          <p:cNvSpPr/>
          <p:nvPr/>
        </p:nvSpPr>
        <p:spPr>
          <a:xfrm>
            <a:off x="2233440" y="5416560"/>
            <a:ext cx="144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شتري الصن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9463"/>
          <p:cNvSpPr/>
          <p:nvPr/>
        </p:nvSpPr>
        <p:spPr>
          <a:xfrm flipH="1">
            <a:off x="610920" y="4370400"/>
            <a:ext cx="6476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19465"/>
          <p:cNvCxnSpPr/>
          <p:nvPr/>
        </p:nvCxnSpPr>
        <p:spPr>
          <a:xfrm>
            <a:off x="610920" y="4344480"/>
            <a:ext cx="1080" cy="117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8" name="Rounded Rectangle 19467"/>
          <p:cNvSpPr/>
          <p:nvPr/>
        </p:nvSpPr>
        <p:spPr>
          <a:xfrm>
            <a:off x="250920" y="5516640"/>
            <a:ext cx="151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وسط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Oval 1"/>
          <p:cNvSpPr/>
          <p:nvPr/>
        </p:nvSpPr>
        <p:spPr>
          <a:xfrm>
            <a:off x="3348000" y="876240"/>
            <a:ext cx="2305080" cy="1800360"/>
          </a:xfrm>
          <a:prstGeom prst="ellipse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مناف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3"/>
          <p:cNvCxnSpPr/>
          <p:nvPr/>
        </p:nvCxnSpPr>
        <p:spPr>
          <a:xfrm>
            <a:off x="4500360" y="2708280"/>
            <a:ext cx="108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1" name="Straight Connector 5"/>
          <p:cNvSpPr/>
          <p:nvPr/>
        </p:nvSpPr>
        <p:spPr>
          <a:xfrm>
            <a:off x="1727280" y="3213000"/>
            <a:ext cx="6373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8"/>
          <p:cNvCxnSpPr/>
          <p:nvPr/>
        </p:nvCxnSpPr>
        <p:spPr>
          <a:xfrm>
            <a:off x="81007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3" name="Straight Arrow Connector 10"/>
          <p:cNvCxnSpPr/>
          <p:nvPr/>
        </p:nvCxnSpPr>
        <p:spPr>
          <a:xfrm>
            <a:off x="58669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4" name="Straight Arrow Connector 14"/>
          <p:cNvCxnSpPr/>
          <p:nvPr/>
        </p:nvCxnSpPr>
        <p:spPr>
          <a:xfrm>
            <a:off x="394128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5" name="Straight Arrow Connector 16"/>
          <p:cNvCxnSpPr/>
          <p:nvPr/>
        </p:nvCxnSpPr>
        <p:spPr>
          <a:xfrm>
            <a:off x="1726920" y="3213000"/>
            <a:ext cx="108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6" name="Rectangle 18"/>
          <p:cNvSpPr/>
          <p:nvPr/>
        </p:nvSpPr>
        <p:spPr>
          <a:xfrm>
            <a:off x="7236000" y="3645000"/>
            <a:ext cx="136836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ش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076720" y="3645000"/>
            <a:ext cx="136692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3203640" y="3645000"/>
            <a:ext cx="1512720" cy="647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900000" y="3716280"/>
            <a:ext cx="1656000" cy="6494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سع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0-15T06:25:16Z</dcterms:modified>
  <cp:revision>918</cp:revision>
  <dc:subject/>
  <dc:title>الشريحة 1</dc:title>
</cp:coreProperties>
</file>