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5B-E035-496A-8CB0-885B30E3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EDB-8749-4D2E-9073-660B9DF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1220B-79F9-455D-8D9C-7985FFC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83905-0B6E-4412-AF0A-10126B5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EC467-CBAF-4B47-9A65-BD2C3DB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7F057-D78D-42E2-AEDE-A18FD79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63F43-394B-4418-B195-FCFBB2A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889FA-80E8-4169-A0AA-5C9E565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75AA0-E362-4D4F-8F1A-E88126A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70097-0461-4D62-B56A-C0068868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C9AF-5BE4-4FD7-A127-D3C4A7DF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BEFD5-8950-4E0A-8597-9E8480A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94F-32B7-4831-9DFC-6080E25F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B1DCD-3C54-4B3D-B8A3-9332031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E83A3-5FC1-4652-8BD3-EF7A7A9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322E4-6C6F-4A98-9717-3E2EDCAE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5E99A-CE50-40A9-BD3C-A7E3A98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0C77C-318A-4472-B1D3-05424BB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52DBB-DF0D-4B10-8FC1-540C48A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038EC-3643-4F7B-8122-0CB58FA5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1E793-FAE8-472F-81F4-3C23D0B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6A687-65F7-42CB-AB59-3EDCABA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86C17-8547-41DD-B3A3-2A9575CA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28C-90FF-4815-B67A-0E7384F2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6B011-CE94-48E1-9528-A0431BBD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0784-56AD-4939-B57D-F52892D6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3E53E-EC65-4365-A30E-CECB151B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2EC0C-86CE-4E5F-8996-06949F7E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C14AF-DB3C-4DB4-BF9D-4BE90CD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6D3D-9D15-40CE-AB30-2943826D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D0C68-86B0-4EE5-AA74-567CDEAC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0D886-3F9C-4787-83BB-CC213F4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DC23C-483E-4222-88B6-D968442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4F149-0CFD-403E-A3FE-A97A69D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C6E7-74B2-4747-8C85-731BC6F7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5DAC-95D9-4EDD-9FAE-CCA37E28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39488-DF9F-430E-8618-61D108AE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C9F59-4BD2-4CBA-9352-DD2D9B0E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DBD5C-C482-43CF-AAC7-6B000D00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90716-B764-4AA1-9F1C-72015AD4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C0F7D-8BAF-4BD0-9E47-5A478374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67C00-5C24-4F69-BB88-BA9DC5C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32A85-6566-419D-9013-9C070A3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1C53B-2FBB-443D-B847-8379676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07754-D169-478C-9398-5405583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4FFC-65DD-4A1C-B614-AFF7BE4E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F89C-A98C-44D5-A0A1-87E21B3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65F32-E6E5-4C33-9689-D22898A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866CD-C8F4-462E-96E3-06FDBD3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89928-C09F-4039-A355-62290B3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5AA4-B531-4FBF-AE02-6E2B65F7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D459-38A5-4F72-8400-B5623B6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557-3874-4CAD-B590-92E111B6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5DE-7FF3-4CD7-8FEA-47ABFA9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D6ED-8437-495E-A08C-A697DA51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6B31-281F-4768-B357-D93D75EE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E1D-3596-4B95-8C9B-F4D6105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92F-431B-4A88-BE03-F309AD2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BE34-1BE7-4A86-B1CF-D96143F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0827-126A-486C-BF83-24D36F7C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112-76CB-4A72-8F17-3E6265D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1E7-4CBB-469F-9A27-FDAD57C8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7A7C1-A6F7-4E29-ADF1-0B0CC31E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3282-08C4-4FB0-B268-211A5C4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7ADF-905D-4CFC-ACB1-4E16B260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593A-5AD6-423C-AC64-A8CBB5F0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0242-04D0-4677-9CE5-E36C475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99E-F071-4CF8-B394-72F79F08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A093-EA64-475F-A18E-2B4C54F9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6250-260C-45A9-91E3-1E0BDFF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B6AB-096D-4719-865D-678809A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D6C9-D4E2-4445-8610-76125384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E8D0-0517-4EAF-8079-96678C0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2738-46A5-4B1A-AAB8-9611A34A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6C71-6890-46B8-8F27-01D8D003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697B-8C5E-409C-B8C0-9A13AAF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A490-9D6A-4F8C-8A21-99330A3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6E5F-BB3A-4C64-9878-B6D34C0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9C7-260D-411B-BB46-CED78C9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11F0-9F48-4DAA-9366-2418DEC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560A-9C6E-4585-9263-79D5201E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E9B7-D4FD-4920-AFB1-B44D83D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37AB-E839-40E0-93B3-38AB3FBC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A71B-E055-41C1-9340-9A5F8FB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585A-B980-406C-99D2-6362819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F0B4-19FC-4270-923C-CFB9CC8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D65A-706F-4633-BADB-AB384EC3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B9AC-0333-4D8A-9F99-90AAC97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4D2A-B237-4B40-9172-C5873474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9E7-4ED7-4F1E-AC8A-1AE66382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1BF0-615C-4A80-999F-83CC48B7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87CD-FF66-41C3-84A7-7E766A9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691F-9EEE-48DB-A2F9-7A083E1F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1054-C4D4-47CA-8FD8-8CF2A6F9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0909-3261-4C7D-B452-C0B817E7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6A7C-FE16-422F-B54F-6DBD116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3B3A-64B9-4F45-9BA8-6B314DF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7643-363B-4193-AA27-029E091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0C9B-B69E-4732-9A12-2DEF432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3034E-50DD-435F-92B3-03BA9DBC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A93-53D4-462B-B95A-0FEE6A87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2585-86BE-4306-AE82-102B4424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0960-4289-41E1-818D-5428AAF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8A3D-489E-49CC-883A-335E97DC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F05E2-DD35-4C77-923F-99E03CF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85986-A533-4B0F-8DE9-21C6B0A2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36F8-26FE-4CD9-9A58-45F2DD49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1ADD-D6B5-4A8C-8CC9-9FE9127C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31C0-D257-4A93-B2C4-8F27ADC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4F18-4C4F-4FDF-99BB-09A068BB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52DA-235A-4702-87A9-F619ADD0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319-15B9-49A0-B78C-91D712F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7401-E032-41E3-BE07-1B7F700C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4D2FA-F32D-413C-B1D4-B7B1542A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91E4-23C5-4B56-B13A-AA12CA51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10FF-D52A-4C9B-B92E-92EB05A2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8CCD-F404-4D97-BCAD-B8D9227E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CFEC-CCC1-4C99-B35F-6A0AE916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B06B-8815-4B3E-9412-850BEDB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95A0-4DE7-4C1F-8EA5-771F243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3A3BC-7069-43F7-BF76-71801FE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4867D-9E36-4C78-BE99-24F8D02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20B-8834-44DC-8731-4D5B0B3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E8A1-A34C-4E97-8027-5D0634E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49578-CD6A-46C7-B8D1-7982159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00A42-BA6C-4E5D-8148-0C414E92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3547-6EF0-44A3-AFDA-8DD80791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2A430-22C9-447A-B22B-75C9D4BD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5395-1CD7-45FC-B674-44B1D151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CF27-25DC-48FE-B836-7DBD3F65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5538-621D-4A40-AA74-2EB2A7A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A4DA8-F23A-4E74-8BB7-420E3C9F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863F-15E8-4F80-B832-183A6F1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4AC-719A-4C1F-9B41-E4E7B69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6CD9C-EACD-48D7-B2FC-BF22367D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BB36-AE9F-4755-8D41-736EA49A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A9D4-D959-4276-8A92-205BEE0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8918-14A4-45EC-8A04-20BC3DD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C854-8B71-4C25-966E-F36EAC1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9C24-39E5-4A5A-9AB6-5532E7E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9FF4-D196-4AA5-80EC-35BA2ED6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DF3A3-F723-4868-9A03-71D615F3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788C3-CB1B-4B9C-BCD8-9070A7A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DFD96-4D93-4BE3-B915-9A14160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B1D3-9422-403A-9256-59CB2BEE9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F6C-6CA2-4C3A-8362-9F01DB4258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BDE1-2D62-447D-A1F4-2A7419189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FB2-3A08-4AD0-AE12-ED2E25AAE4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DD2F-DEFB-4884-BB50-03C6F512C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F17-5B7B-4794-A77B-6727F4B5E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FD8-031A-48CA-9954-0B992A48D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9DF-F308-4346-B92C-1CAA71E1E9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DF1-1BE1-4D9C-BBAA-7EAF77F0F2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C53-1499-45EE-8826-B47F35F9FB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0C20-BD73-4D07-9244-4944599CAD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2DA-8A83-4D9C-AA23-5A3F78AA23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8"/>
          <p:cNvSpPr/>
          <p:nvPr/>
        </p:nvSpPr>
        <p:spPr>
          <a:xfrm>
            <a:off x="222120" y="500040"/>
            <a:ext cx="8639280" cy="87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بيئة إدارة التوزي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مفهوم البيئ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اقسام البيئة التسويق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أنواع بيئة التوزيع والامدا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عوامل المؤثرة على الشركة ضمن البيئة التسويقية الرق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"/>
          <p:cNvSpPr/>
          <p:nvPr/>
        </p:nvSpPr>
        <p:spPr>
          <a:xfrm>
            <a:off x="6948360" y="500040"/>
            <a:ext cx="1913040" cy="1441440"/>
          </a:xfrm>
          <a:prstGeom prst="ellips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Lucida Sans Unicode"/>
              </a:rPr>
              <a:t>المحاضرة الراب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222120" y="504720"/>
            <a:ext cx="1714680" cy="185760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فصل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أولاً:مفهوم البيئة 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هي ذلك المحيط الذي يعيش به الفرد والعلاقات ذات التأثيرات المتعد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 التسويقي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: هي كافة القوى والعوامل والمتغيرات 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داخ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خارج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ؤثر على عمل التوزيع في الشرك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08000" y="189000"/>
            <a:ext cx="8928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ثانياً:اقسام البيئة التسو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- البيئة الخاصة / الداخلية  وهي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أنواع:</a:t>
            </a: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أ-بيئة داخلية مباشرة تشمل عناصر المزيج التسويق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-بيئة داخلية غير مباشرة تشمل كل وظائف الشركة ماعدا التسو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ج- بيئة المهمة الخاصة وهي العوامل الأكثر التصاقاً بالنشاط التسويقي (مستهلكون،منافسون، وسطاء ، عاملون ، التجمعات ، الموردون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295200"/>
            <a:ext cx="885672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ئة العامة الخارج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كل ما يحيط بالشركة واداراتها من ظروف ومتغيرات لا يمكن السيطرة عليها أو توقعها ومن أنواعها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أ- 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طبيعية:(تلوث ، ندرة الموارد الأول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ب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سياسية أو القانون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ج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ديموغرافية :(حجم السكان،توزيعهم، اعمارهم ، نمط حياتهم، عاداتهم، مستواهم، فهمهم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د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اقتصادية:(مستوى المعيشة البطالة ، العمالة ، الضرائب، التضخم، القوة الشرائية.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هـ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تكنولوجية :تطورات  علمية وتق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و-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اجتماعية والثقافية:(قيم وعادات ،وعي استهلاكي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8680320" cy="17319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05480" cy="46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-البيئة الداخلية للتوزيع والامداد /الجزئية (الميكروب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1" name="Diagram 3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7875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31160" cy="19144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227016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6"/>
          <p:cNvGrpSpPr/>
          <p:nvPr/>
        </p:nvGrpSpPr>
        <p:grpSpPr>
          <a:xfrm>
            <a:off x="5894280" y="1125360"/>
            <a:ext cx="1895760" cy="2178360"/>
            <a:chOff x="5894280" y="1125360"/>
            <a:chExt cx="1895760" cy="2178360"/>
          </a:xfrm>
        </p:grpSpPr>
        <p:sp>
          <p:nvSpPr>
            <p:cNvPr id="595" name="Hexagon 17"/>
            <p:cNvSpPr/>
            <p:nvPr/>
          </p:nvSpPr>
          <p:spPr>
            <a:xfrm rot="5400000">
              <a:off x="5752800" y="1266480"/>
              <a:ext cx="2178360" cy="189576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Hexagon 4"/>
            <p:cNvSpPr/>
            <p:nvPr/>
          </p:nvSpPr>
          <p:spPr>
            <a:xfrm>
              <a:off x="6189480" y="1464840"/>
              <a:ext cx="130536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ك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3874680" y="1128600"/>
            <a:ext cx="1893960" cy="2178000"/>
            <a:chOff x="3874680" y="1128600"/>
            <a:chExt cx="1893960" cy="2178000"/>
          </a:xfrm>
        </p:grpSpPr>
        <p:sp>
          <p:nvSpPr>
            <p:cNvPr id="598" name="Hexagon 21"/>
            <p:cNvSpPr/>
            <p:nvPr/>
          </p:nvSpPr>
          <p:spPr>
            <a:xfrm rot="5400000">
              <a:off x="373248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Hexagon 4"/>
            <p:cNvSpPr/>
            <p:nvPr/>
          </p:nvSpPr>
          <p:spPr>
            <a:xfrm>
              <a:off x="4000320" y="1564920"/>
              <a:ext cx="15987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والقان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8"/>
          <p:cNvGrpSpPr/>
          <p:nvPr/>
        </p:nvGrpSpPr>
        <p:grpSpPr>
          <a:xfrm>
            <a:off x="1929960" y="1128600"/>
            <a:ext cx="1893960" cy="2178000"/>
            <a:chOff x="1929960" y="1128600"/>
            <a:chExt cx="1893960" cy="2178000"/>
          </a:xfrm>
        </p:grpSpPr>
        <p:sp>
          <p:nvSpPr>
            <p:cNvPr id="601" name="Hexagon 29"/>
            <p:cNvSpPr/>
            <p:nvPr/>
          </p:nvSpPr>
          <p:spPr>
            <a:xfrm rot="5400000">
              <a:off x="178776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Hexagon 4"/>
            <p:cNvSpPr/>
            <p:nvPr/>
          </p:nvSpPr>
          <p:spPr>
            <a:xfrm>
              <a:off x="2225520" y="146808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 البيئة الثقاف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31"/>
          <p:cNvGrpSpPr/>
          <p:nvPr/>
        </p:nvGrpSpPr>
        <p:grpSpPr>
          <a:xfrm>
            <a:off x="4882680" y="2906640"/>
            <a:ext cx="1893960" cy="2178000"/>
            <a:chOff x="4882680" y="2906640"/>
            <a:chExt cx="1893960" cy="2178000"/>
          </a:xfrm>
        </p:grpSpPr>
        <p:sp>
          <p:nvSpPr>
            <p:cNvPr id="604" name="Hexagon 32"/>
            <p:cNvSpPr/>
            <p:nvPr/>
          </p:nvSpPr>
          <p:spPr>
            <a:xfrm rot="5400000">
              <a:off x="4740480" y="304848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Hexagon 4"/>
            <p:cNvSpPr/>
            <p:nvPr/>
          </p:nvSpPr>
          <p:spPr>
            <a:xfrm>
              <a:off x="5178240" y="324612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اقتصاد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34"/>
          <p:cNvGrpSpPr/>
          <p:nvPr/>
        </p:nvGrpSpPr>
        <p:grpSpPr>
          <a:xfrm>
            <a:off x="2927160" y="2906640"/>
            <a:ext cx="1895400" cy="2178000"/>
            <a:chOff x="2927160" y="2906640"/>
            <a:chExt cx="1895400" cy="2178000"/>
          </a:xfrm>
        </p:grpSpPr>
        <p:sp>
          <p:nvSpPr>
            <p:cNvPr id="607" name="Hexagon 35"/>
            <p:cNvSpPr/>
            <p:nvPr/>
          </p:nvSpPr>
          <p:spPr>
            <a:xfrm rot="5400000">
              <a:off x="2785680" y="3047760"/>
              <a:ext cx="2178000" cy="18954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Hexagon 4"/>
            <p:cNvSpPr/>
            <p:nvPr/>
          </p:nvSpPr>
          <p:spPr>
            <a:xfrm>
              <a:off x="3222720" y="3246120"/>
              <a:ext cx="130500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7"/>
          <p:cNvGrpSpPr/>
          <p:nvPr/>
        </p:nvGrpSpPr>
        <p:grpSpPr>
          <a:xfrm>
            <a:off x="6842160" y="2906640"/>
            <a:ext cx="2092320" cy="2178000"/>
            <a:chOff x="6842160" y="2906640"/>
            <a:chExt cx="2092320" cy="2178000"/>
          </a:xfrm>
        </p:grpSpPr>
        <p:sp>
          <p:nvSpPr>
            <p:cNvPr id="610" name="Hexagon 38"/>
            <p:cNvSpPr/>
            <p:nvPr/>
          </p:nvSpPr>
          <p:spPr>
            <a:xfrm rot="5400000">
              <a:off x="6799320" y="2949480"/>
              <a:ext cx="2178000" cy="2092320"/>
            </a:xfrm>
            <a:prstGeom prst="hexagon">
              <a:avLst>
                <a:gd name="adj" fmla="val 22640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Hexagon 4"/>
            <p:cNvSpPr/>
            <p:nvPr/>
          </p:nvSpPr>
          <p:spPr>
            <a:xfrm>
              <a:off x="7167600" y="3246120"/>
              <a:ext cx="144144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تكن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40"/>
          <p:cNvGrpSpPr/>
          <p:nvPr/>
        </p:nvGrpSpPr>
        <p:grpSpPr>
          <a:xfrm>
            <a:off x="979200" y="2938320"/>
            <a:ext cx="1895400" cy="2178360"/>
            <a:chOff x="979200" y="2938320"/>
            <a:chExt cx="1895400" cy="2178360"/>
          </a:xfrm>
        </p:grpSpPr>
        <p:sp>
          <p:nvSpPr>
            <p:cNvPr id="613" name="Hexagon 41"/>
            <p:cNvSpPr/>
            <p:nvPr/>
          </p:nvSpPr>
          <p:spPr>
            <a:xfrm rot="5400000">
              <a:off x="837720" y="3079800"/>
              <a:ext cx="2178360" cy="1895400"/>
            </a:xfrm>
            <a:prstGeom prst="hexagon">
              <a:avLst>
                <a:gd name="adj" fmla="val 24997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Hexagon 4"/>
            <p:cNvSpPr/>
            <p:nvPr/>
          </p:nvSpPr>
          <p:spPr>
            <a:xfrm>
              <a:off x="1274760" y="3277800"/>
              <a:ext cx="130500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بيئة البنية التح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(الفيزيائية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da1f28"/>
                </a:solidFill>
                <a:latin typeface="Lucida Sans Unicode"/>
              </a:rPr>
              <a:t>رابعاً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 : تحليل بيئة التوزيع وفق (</a:t>
            </a: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SWOT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br>
              <a:rPr sz="4100"/>
            </a:br>
            <a:br>
              <a:rPr sz="4100"/>
            </a:b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ويعني تحليل نقاط القوة والضعف/ الفرص والمخاطر</a:t>
            </a:r>
            <a:br>
              <a:rPr sz="3600"/>
            </a:b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>
            <a:off x="1116000" y="60480"/>
            <a:ext cx="7201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خامساً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وامل المؤثرة على الشركة ضمن البيئة التسويقية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Diagram 2" descr=""/>
          <p:cNvPicPr/>
          <p:nvPr/>
        </p:nvPicPr>
        <p:blipFill>
          <a:blip r:embed="rId1"/>
          <a:stretch/>
        </p:blipFill>
        <p:spPr>
          <a:xfrm>
            <a:off x="444600" y="1219320"/>
            <a:ext cx="8229600" cy="54496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"/>
          <p:cNvSpPr/>
          <p:nvPr/>
        </p:nvSpPr>
        <p:spPr>
          <a:xfrm>
            <a:off x="6300720" y="2708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ورد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4427280" y="396396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20" name="Rounded Rectangle 6"/>
          <p:cNvSpPr/>
          <p:nvPr/>
        </p:nvSpPr>
        <p:spPr>
          <a:xfrm>
            <a:off x="6311880" y="4543560"/>
            <a:ext cx="15732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جار والوك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627280" y="4543560"/>
            <a:ext cx="151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كلاء الخدمات التسو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9"/>
          <p:cNvSpPr/>
          <p:nvPr/>
        </p:nvSpPr>
        <p:spPr>
          <a:xfrm>
            <a:off x="4427640" y="4543560"/>
            <a:ext cx="1512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شرك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10"/>
          <p:cNvSpPr/>
          <p:nvPr/>
        </p:nvSpPr>
        <p:spPr>
          <a:xfrm>
            <a:off x="755640" y="4521240"/>
            <a:ext cx="1440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سطاء التم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2"/>
          <p:cNvSpPr/>
          <p:nvPr/>
        </p:nvSpPr>
        <p:spPr>
          <a:xfrm flipV="1">
            <a:off x="4427640" y="4370040"/>
            <a:ext cx="26654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4"/>
          <p:cNvSpPr/>
          <p:nvPr/>
        </p:nvSpPr>
        <p:spPr>
          <a:xfrm flipH="1" flipV="1">
            <a:off x="1258920" y="4344840"/>
            <a:ext cx="3168720" cy="51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16"/>
          <p:cNvCxnSpPr/>
          <p:nvPr/>
        </p:nvCxnSpPr>
        <p:spPr>
          <a:xfrm>
            <a:off x="7097400" y="4370040"/>
            <a:ext cx="1080" cy="151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7" name="Straight Arrow Connector 18"/>
          <p:cNvCxnSpPr/>
          <p:nvPr/>
        </p:nvCxnSpPr>
        <p:spPr>
          <a:xfrm>
            <a:off x="5292720" y="4395960"/>
            <a:ext cx="7200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8" name="Straight Arrow Connector 20"/>
          <p:cNvCxnSpPr/>
          <p:nvPr/>
        </p:nvCxnSpPr>
        <p:spPr>
          <a:xfrm>
            <a:off x="1258560" y="4370040"/>
            <a:ext cx="1080" cy="8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9" name="Straight Arrow Connector 26"/>
          <p:cNvCxnSpPr/>
          <p:nvPr/>
        </p:nvCxnSpPr>
        <p:spPr>
          <a:xfrm>
            <a:off x="3384360" y="4395960"/>
            <a:ext cx="108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0" name="Straight Arrow Connector 28"/>
          <p:cNvCxnSpPr/>
          <p:nvPr/>
        </p:nvCxnSpPr>
        <p:spPr>
          <a:xfrm>
            <a:off x="6156000" y="4444920"/>
            <a:ext cx="1080" cy="1000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1" name="Straight Arrow Connector 30"/>
          <p:cNvCxnSpPr/>
          <p:nvPr/>
        </p:nvCxnSpPr>
        <p:spPr>
          <a:xfrm>
            <a:off x="428436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2" name="Straight Arrow Connector 19456"/>
          <p:cNvCxnSpPr/>
          <p:nvPr/>
        </p:nvCxnSpPr>
        <p:spPr>
          <a:xfrm>
            <a:off x="241092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3" name="Rounded Rectangle 19459"/>
          <p:cNvSpPr/>
          <p:nvPr/>
        </p:nvSpPr>
        <p:spPr>
          <a:xfrm>
            <a:off x="5940360" y="5445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ed Rectangle 19460"/>
          <p:cNvSpPr/>
          <p:nvPr/>
        </p:nvSpPr>
        <p:spPr>
          <a:xfrm>
            <a:off x="4164120" y="544500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سته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ounded Rectangle 19461"/>
          <p:cNvSpPr/>
          <p:nvPr/>
        </p:nvSpPr>
        <p:spPr>
          <a:xfrm>
            <a:off x="2233440" y="5416560"/>
            <a:ext cx="144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شتري الصن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9463"/>
          <p:cNvSpPr/>
          <p:nvPr/>
        </p:nvSpPr>
        <p:spPr>
          <a:xfrm flipH="1">
            <a:off x="610920" y="4370400"/>
            <a:ext cx="6476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19465"/>
          <p:cNvCxnSpPr/>
          <p:nvPr/>
        </p:nvCxnSpPr>
        <p:spPr>
          <a:xfrm>
            <a:off x="610920" y="4344480"/>
            <a:ext cx="1080" cy="117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8" name="Rounded Rectangle 19467"/>
          <p:cNvSpPr/>
          <p:nvPr/>
        </p:nvSpPr>
        <p:spPr>
          <a:xfrm>
            <a:off x="250920" y="5516640"/>
            <a:ext cx="151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وسط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Oval 1"/>
          <p:cNvSpPr/>
          <p:nvPr/>
        </p:nvSpPr>
        <p:spPr>
          <a:xfrm>
            <a:off x="3348000" y="876240"/>
            <a:ext cx="2305080" cy="1800360"/>
          </a:xfrm>
          <a:prstGeom prst="ellipse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مناف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3"/>
          <p:cNvCxnSpPr/>
          <p:nvPr/>
        </p:nvCxnSpPr>
        <p:spPr>
          <a:xfrm>
            <a:off x="4500360" y="2708280"/>
            <a:ext cx="108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1" name="Straight Connector 5"/>
          <p:cNvSpPr/>
          <p:nvPr/>
        </p:nvSpPr>
        <p:spPr>
          <a:xfrm>
            <a:off x="1727280" y="3213000"/>
            <a:ext cx="6373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8"/>
          <p:cNvCxnSpPr/>
          <p:nvPr/>
        </p:nvCxnSpPr>
        <p:spPr>
          <a:xfrm>
            <a:off x="81007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3" name="Straight Arrow Connector 10"/>
          <p:cNvCxnSpPr/>
          <p:nvPr/>
        </p:nvCxnSpPr>
        <p:spPr>
          <a:xfrm>
            <a:off x="58669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4" name="Straight Arrow Connector 14"/>
          <p:cNvCxnSpPr/>
          <p:nvPr/>
        </p:nvCxnSpPr>
        <p:spPr>
          <a:xfrm>
            <a:off x="394128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5" name="Straight Arrow Connector 16"/>
          <p:cNvCxnSpPr/>
          <p:nvPr/>
        </p:nvCxnSpPr>
        <p:spPr>
          <a:xfrm>
            <a:off x="1726920" y="3213000"/>
            <a:ext cx="108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6" name="Rectangle 18"/>
          <p:cNvSpPr/>
          <p:nvPr/>
        </p:nvSpPr>
        <p:spPr>
          <a:xfrm>
            <a:off x="7236000" y="3645000"/>
            <a:ext cx="136836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ش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076720" y="3645000"/>
            <a:ext cx="136692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3203640" y="3645000"/>
            <a:ext cx="1512720" cy="647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900000" y="3716280"/>
            <a:ext cx="1656000" cy="6494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سع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0-15T06:25:16Z</dcterms:modified>
  <cp:revision>918</cp:revision>
  <dc:subject/>
  <dc:title>الشريحة 1</dc:title>
</cp:coreProperties>
</file>