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BB7-BB4F-49F9-95F7-18726538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362-DA0C-4D9D-9642-B3A01953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1E231-2D7D-4D76-BE3B-6774B7FC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6770B-0BA0-4614-A1C1-9EEE246F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5C921-B687-4F5F-892A-65D9F5F6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5F6F3-88C4-453E-A824-997DEEED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C933A-E75E-4012-A685-3FB1DAD8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F054B-7465-4EEB-97AB-0DC53442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92D81-E055-454C-9172-8CC76E4F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08DC0-5155-4C79-8935-6517C63F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1A0B5-25C2-4516-AC60-B1718A56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5F92F-2EC0-4967-9A56-F2899DF4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D77-E811-4187-A1CB-77DC5F41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103F7-B0F7-4FC3-9BDF-CAAF0B46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6A229-F909-4829-A6BA-F14B04E3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12A89-D070-40A4-8D33-48EBCA99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02BEE-7461-4986-9F09-0ECCF98C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1EE91-011E-4109-BD42-5C5E6D01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51029-FEAF-4A0A-87E4-2B454BC3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ADCEA-DDC7-47BF-9749-EE456846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79CC6-D822-4E5A-AD90-788B3AAF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4A733-6521-4A8A-B8DA-F37A612A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4DB0A-D3FF-481F-8912-D3EC0C20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5EB-B834-42EE-9D52-AB8D1CBF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D6E7E-2381-41BA-B210-0AEDD782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843B8-E621-4CB2-AFB9-75100122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1538A-2861-4DD8-BFE7-CE495E96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B3514-4FCF-4FB3-8A6A-46386212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0E729-754F-4473-AD69-41FAB9C5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0378C-ACB8-4A97-8E0C-68E6870C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94D38-F0CC-4DF9-A35E-2F8F72C6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F26DE-7F5B-4E20-B9DE-E06423D3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48615-C4F9-41D3-9156-C7465896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C3878-3C37-4DCC-8019-8DA65FBD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C741-2C3E-4975-8294-30A22BDA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195B9-639B-4416-BB74-EFCF02E5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92250-1BB9-4AEE-941F-AB7DEBBF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36D59-9A93-44D3-AE8E-35EB7BF6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30AE7-B47F-4BA9-B389-AE57ACC0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60193-A358-403A-B4A0-959295A3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F36CA-2C63-4614-B314-7217F920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385FC-D025-4E2D-A6FD-D7954635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66554-0D9A-4E7A-98B4-5730A532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4CD58-5A15-42B1-A721-9DB78682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90DD2-AE46-4276-BF90-C1740C04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4953-1FC7-4D97-9467-0601A9C2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F0F44-279B-4B05-8758-088EB2C4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806F1-4ADC-4216-A745-BF4B37D7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812A4-9F42-45E5-BA43-CC5F4AD9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FDAF4-3FDD-4084-9E89-75A38FE3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5EF5B-9A72-4D0D-A28A-BF4E7F1D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60DD-55DD-4B97-BE01-325CCE20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1139-4213-4FCA-A74E-4689877C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5E37-57EB-4275-B91E-0CE9FA23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3DCF-4DEF-4F6E-B226-28F65DB6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C0F3-4542-49A6-A5CC-68427FC2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3AAE-E84D-430C-8DC1-FFE1D0CF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A78B-05BC-435A-BF20-07C988DE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B075-18BB-45E7-81A1-77E115E6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09F7-6177-42BC-8F84-575C9732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5C69-3F85-48BC-B2F4-E15C7B87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37F8-41A1-406F-AC5F-2DB82368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AD4CD-0E8F-476E-97C3-AC6F9327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43408-6219-4955-8B84-736AB6B7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1B61D-5F4B-4350-BD1C-2E62A8B4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890EE-B65B-460D-A64A-4D4EB64E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97B1D-8964-4CF5-A5C5-0E52C1AC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453-D14E-40F6-90F5-1AD942F5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90750-DC36-4984-849B-63F4F7E8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B49C-120F-4A24-9714-BC492082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CD0CC-98E2-4F58-A414-5B87F1A2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5BD16-068E-43EF-B300-314055E5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66910-325E-4194-A807-70587DBB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F409B-1B25-4206-93C5-B1717838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707D-05EA-4D4B-B5EB-16329529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4AD8-21EB-4A4A-A2D7-5992393A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77290-1BBA-4A76-BE48-8B877CA5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78A3E-AC76-4EE6-808A-65CB9C34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B75-E1E3-4F99-9913-4A08AFA1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CF89C-AAF3-4764-95CC-D83778C8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F42CA-DE10-4D20-81C1-6B1BAC2C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CD36D-A54F-4229-B509-708A5B2D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F2834-9980-4F3B-83A0-46A7FAA9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CB1E0-E413-4CA0-AB3E-4701C762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BE23C-DB1C-4635-B83B-0B27C773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17694-58D0-438B-87E9-3BA822A9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7952E-1E63-435C-A2F2-999A97FD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B0C7D-6F43-4DC1-AB5A-95761BDA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953E3-27D6-4C13-AD8D-685C89D0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7A1-B7F0-40AF-9F6A-0412E4F7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94EF5-8AEB-4E53-96FF-23D9F512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B9CC2-B5D7-4B10-BB67-90EBB8F8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D2E61-645C-4511-AE8B-F8FF851A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1AF97-C0FA-4234-BEFF-7E0B0094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F4973-008A-4972-857B-0BA6F104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039A1-35B6-43FB-9D07-FBDBF89D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F3514-2C64-4B65-AF0F-BCA3BD19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89135-BAA5-498F-9B37-345F35DC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8EBFE-F7CB-4EDD-BDA9-4CAF252E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8C03F-E009-4D1F-B9A3-9E396BC0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114-B587-418B-B74C-1BD0B32F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5EC63-BA54-4FA3-A1C0-0CB63345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0D3FF-DCCA-48D7-89E7-851D1373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AE954-1313-4CFB-9E57-796C9B91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0FEEC-B101-4FD5-B2B8-61205E02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2D78E-1098-4143-AFA3-19FE49FC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90B06-075B-401B-919C-81148C98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078E9-741C-447B-9614-5798A626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DF4A9-CEFE-4178-9EB3-9B2D13A1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2D807-702A-4553-BC7A-76EA7161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D58F8-37E6-4805-BB65-94EDD0A3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F48-9D7B-4F0C-9036-0290B8A1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38268-30C5-4541-BBBB-4B66E8A6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16E2B-3867-4FE8-A434-DF48CD68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8F643-AFCE-494E-935D-7E1E19C2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B652C-E94D-4379-8B57-CE7A1EA7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5F6BB-8D05-4205-A073-641EF850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B1DB2-99B9-4F38-A22D-757A07ED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B93E4-D1AB-4D57-858E-7B6E110F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4B327-DB75-4DB2-8526-C8D6AB7F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D00D9-F212-4FBD-8DEB-FE85B31D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3A195-974A-4CE9-A9E2-432B467E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2DD-8A25-4D08-AACE-9B02A4D3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EEBA5-171E-4384-AD72-CF1D0412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2709D-F8BD-4365-9EC9-47A68CD5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F3520-26AD-48B4-ADBE-5637FCFA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88412-3EDF-4822-9F14-4C2C4C03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E3AA5-F93C-40EB-9C40-B1510C97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78A76-2F0E-48DC-8C65-DD15939A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5E525-095E-4975-AD01-6F6D938F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1EF0F-1302-429B-9581-2E9BD841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CDCD2-4001-47BC-8B9D-79B5BF21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DEB80-EC2E-4B67-AACB-2D049D8F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673-518D-4870-AA76-B3F38047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36719-D4C7-4B7E-8DB3-701F2FA3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5849B-6E90-42C3-BBB4-E4C7129C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C9434-A9E9-4211-8FE4-7AAFFBBC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51B51-C32C-438C-A13F-514638B5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A62BD-A05D-4406-B34C-8B244785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6318C-02BE-489C-8D7A-751D27B6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F69B7-FFB5-48F3-B184-61481C00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3DA11-C176-42C6-A793-ED16F279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3B524-4825-4EF0-B2A0-41D81473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5D060-7E2A-4FA9-A839-91C5FA2F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0005-73D3-4DA7-B876-142BEAE07F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F4E8-50C4-432F-AC72-20D64805EF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1971-2B77-452D-A694-ACACACB3DB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C061-5E1D-4EC3-B95A-7720AEAAEE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3349-BD7F-4A24-BC06-80D9744636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C62F-41F3-41F6-A2E5-3F46E449CF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9615-C6BB-4B3D-98EF-2893BFF166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7489-BDE7-4446-8A4E-020468F72E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E7C9-17AC-4C42-86B2-FFE50A1A67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6E36-9404-44F6-A1BF-11217D2C91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E6DD-FE7D-4733-B62E-661ACA317F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43FC-716C-4A5C-B21D-9C8EE4C30F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8"/>
          <p:cNvSpPr/>
          <p:nvPr/>
        </p:nvSpPr>
        <p:spPr>
          <a:xfrm>
            <a:off x="222120" y="500040"/>
            <a:ext cx="863928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2060"/>
                </a:solidFill>
                <a:latin typeface="Arial"/>
                <a:cs typeface="PT Bold Heading"/>
              </a:rPr>
              <a:t>بيئة إدارة التوزيع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PT Bold Heading"/>
              </a:rPr>
              <a:t>-مفهوم البيئ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PT Bold Heading"/>
              </a:rPr>
              <a:t>-اقسام البيئة التسويق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PT Bold Heading"/>
              </a:rPr>
              <a:t>-أنواع بيئة التوزيع والامدا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عوامل المؤثرة على الشركة ضمن البيئة التسويقية الرقم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"/>
          <p:cNvSpPr/>
          <p:nvPr/>
        </p:nvSpPr>
        <p:spPr>
          <a:xfrm>
            <a:off x="6948360" y="500040"/>
            <a:ext cx="1913040" cy="1441440"/>
          </a:xfrm>
          <a:prstGeom prst="ellipse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Lucida Sans Unicode"/>
              </a:rPr>
              <a:t>المحاضرة الراب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شكل بيضاوي 5"/>
          <p:cNvSpPr/>
          <p:nvPr/>
        </p:nvSpPr>
        <p:spPr>
          <a:xfrm>
            <a:off x="222120" y="504720"/>
            <a:ext cx="1714680" cy="1857600"/>
          </a:xfrm>
          <a:prstGeom prst="ellipse">
            <a:avLst/>
          </a:prstGeom>
          <a:solidFill>
            <a:srgbClr val="2da2bf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Lucida Sans Unicode"/>
              </a:rPr>
              <a:t>الفصل الثان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8"/>
          <p:cNvSpPr/>
          <p:nvPr/>
        </p:nvSpPr>
        <p:spPr>
          <a:xfrm>
            <a:off x="684360" y="625320"/>
            <a:ext cx="7775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أولاً:مفهوم البيئة </a:t>
            </a:r>
            <a:r>
              <a:rPr b="0" lang="ar-SA" sz="80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بيئة</a:t>
            </a:r>
            <a:r>
              <a:rPr b="0" lang="ar-SA" sz="80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هي ذلك المحيط الذي يعيش به الفرد والعلاقات ذات التأثيرات المتعدد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بيئة التسويقية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: هي كافة القوى والعوامل والمتغيرات </a:t>
            </a: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الداخل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و</a:t>
            </a: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الخارج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تي تؤثر على عمل التوزيع في الشرك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8"/>
          <p:cNvSpPr/>
          <p:nvPr/>
        </p:nvSpPr>
        <p:spPr>
          <a:xfrm>
            <a:off x="108000" y="189000"/>
            <a:ext cx="8928000" cy="83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ثانياً:اقسام البيئة التسويق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- البيئة الخاصة / الداخلية  وهي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3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 أنواع:</a:t>
            </a:r>
            <a:r>
              <a:rPr b="0" lang="ar-SA" sz="5400" spc="-1" strike="noStrike">
                <a:solidFill>
                  <a:srgbClr val="ff0000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ea typeface="PT Bold Heading"/>
              </a:rPr>
              <a:t>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أ-بيئة داخلية مباشرة تشمل عناصر المزيج التسويقي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    ب-بيئة داخلية غير مباشرة تشمل كل وظائف الشركة ماعدا التسوي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    ج- بيئة المهمة الخاصة وهي العوامل الأكثر التصاقاً بالنشاط التسويقي (مستهلكون،منافسون، وسطاء ، عاملون ، التجمعات ، الموردون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8"/>
          <p:cNvSpPr/>
          <p:nvPr/>
        </p:nvSpPr>
        <p:spPr>
          <a:xfrm>
            <a:off x="1042920" y="1873080"/>
            <a:ext cx="7201080" cy="4770720"/>
          </a:xfrm>
          <a:prstGeom prst="flowChartDocumen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79280" y="295200"/>
            <a:ext cx="8856720" cy="10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بيئة العامة الخارج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وهي كل ما يحيط بالشركة واداراتها من ظروف ومتغيرات لا يمكن السيطرة عليها أو توقعها ومن أنواعها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أ- 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بيئة الطبيعية:(تلوث ، ندرة الموارد الأولي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ب-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بيئة السياسية أو القانون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ج-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بيئة الديموغرافية :(حجم السكان،توزيعهم، اعمارهم ، نمط حياتهم، عاداتهم، مستواهم، فهمهم.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د-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بيئة الاقتصادية:(مستوى المعيشة البطالة ، العمالة ، الضرائب، التضخم، القوة الشرائية..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هـ-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بيئة التكنولوجية :تطورات  علمية وتقن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-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بيئة الاجتماعية والثقافية:(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قيم وعادات ،وعي استهلاكي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le 1" descr=""/>
          <p:cNvPicPr/>
          <p:nvPr/>
        </p:nvPicPr>
        <p:blipFill>
          <a:blip r:embed="rId1"/>
          <a:stretch/>
        </p:blipFill>
        <p:spPr>
          <a:xfrm>
            <a:off x="689040" y="73080"/>
            <a:ext cx="8680320" cy="17748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4000" y="1197000"/>
            <a:ext cx="8205480" cy="46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ar-SA" sz="2700" spc="-1" strike="noStrike">
                <a:solidFill>
                  <a:srgbClr val="464646"/>
                </a:solidFill>
                <a:latin typeface="Lucida Sans Unicode"/>
              </a:rPr>
              <a:t>-البيئة الداخلية للتوزيع والامداد /الجزئية (الميكروبي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1" name="Diagram 3" descr=""/>
          <p:cNvPicPr/>
          <p:nvPr/>
        </p:nvPicPr>
        <p:blipFill>
          <a:blip r:embed="rId2"/>
          <a:stretch/>
        </p:blipFill>
        <p:spPr>
          <a:xfrm>
            <a:off x="944640" y="1676520"/>
            <a:ext cx="78753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Title 1" descr=""/>
          <p:cNvPicPr/>
          <p:nvPr/>
        </p:nvPicPr>
        <p:blipFill>
          <a:blip r:embed="rId1"/>
          <a:stretch/>
        </p:blipFill>
        <p:spPr>
          <a:xfrm>
            <a:off x="689040" y="401760"/>
            <a:ext cx="7931160" cy="19144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"/>
          <p:cNvSpPr/>
          <p:nvPr/>
        </p:nvSpPr>
        <p:spPr>
          <a:xfrm>
            <a:off x="2270160" y="508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16"/>
          <p:cNvGrpSpPr/>
          <p:nvPr/>
        </p:nvGrpSpPr>
        <p:grpSpPr>
          <a:xfrm>
            <a:off x="5894280" y="1125360"/>
            <a:ext cx="1895760" cy="2178360"/>
            <a:chOff x="5894280" y="1125360"/>
            <a:chExt cx="1895760" cy="2178360"/>
          </a:xfrm>
        </p:grpSpPr>
        <p:sp>
          <p:nvSpPr>
            <p:cNvPr id="595" name="Hexagon 17"/>
            <p:cNvSpPr/>
            <p:nvPr/>
          </p:nvSpPr>
          <p:spPr>
            <a:xfrm rot="5400000">
              <a:off x="5752800" y="1266480"/>
              <a:ext cx="2178360" cy="189576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Hexagon 4"/>
            <p:cNvSpPr/>
            <p:nvPr/>
          </p:nvSpPr>
          <p:spPr>
            <a:xfrm>
              <a:off x="6189480" y="1464840"/>
              <a:ext cx="1305360" cy="14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 السك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0"/>
          <p:cNvGrpSpPr/>
          <p:nvPr/>
        </p:nvGrpSpPr>
        <p:grpSpPr>
          <a:xfrm>
            <a:off x="3874680" y="1128600"/>
            <a:ext cx="1893960" cy="2178000"/>
            <a:chOff x="3874680" y="1128600"/>
            <a:chExt cx="1893960" cy="2178000"/>
          </a:xfrm>
        </p:grpSpPr>
        <p:sp>
          <p:nvSpPr>
            <p:cNvPr id="598" name="Hexagon 21"/>
            <p:cNvSpPr/>
            <p:nvPr/>
          </p:nvSpPr>
          <p:spPr>
            <a:xfrm rot="5400000">
              <a:off x="3732480" y="1270440"/>
              <a:ext cx="2178000" cy="189396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Hexagon 4"/>
            <p:cNvSpPr/>
            <p:nvPr/>
          </p:nvSpPr>
          <p:spPr>
            <a:xfrm>
              <a:off x="4000320" y="1564920"/>
              <a:ext cx="159876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 السياس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والقانوني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8"/>
          <p:cNvGrpSpPr/>
          <p:nvPr/>
        </p:nvGrpSpPr>
        <p:grpSpPr>
          <a:xfrm>
            <a:off x="1929960" y="1128600"/>
            <a:ext cx="1893960" cy="2178000"/>
            <a:chOff x="1929960" y="1128600"/>
            <a:chExt cx="1893960" cy="2178000"/>
          </a:xfrm>
        </p:grpSpPr>
        <p:sp>
          <p:nvSpPr>
            <p:cNvPr id="601" name="Hexagon 29"/>
            <p:cNvSpPr/>
            <p:nvPr/>
          </p:nvSpPr>
          <p:spPr>
            <a:xfrm rot="5400000">
              <a:off x="1787760" y="1270440"/>
              <a:ext cx="2178000" cy="189396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Hexagon 4"/>
            <p:cNvSpPr/>
            <p:nvPr/>
          </p:nvSpPr>
          <p:spPr>
            <a:xfrm>
              <a:off x="2225520" y="1468080"/>
              <a:ext cx="130356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 البيئة الثقاف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31"/>
          <p:cNvGrpSpPr/>
          <p:nvPr/>
        </p:nvGrpSpPr>
        <p:grpSpPr>
          <a:xfrm>
            <a:off x="4882680" y="2906640"/>
            <a:ext cx="1893960" cy="2178000"/>
            <a:chOff x="4882680" y="2906640"/>
            <a:chExt cx="1893960" cy="2178000"/>
          </a:xfrm>
        </p:grpSpPr>
        <p:sp>
          <p:nvSpPr>
            <p:cNvPr id="604" name="Hexagon 32"/>
            <p:cNvSpPr/>
            <p:nvPr/>
          </p:nvSpPr>
          <p:spPr>
            <a:xfrm rot="5400000">
              <a:off x="4740480" y="3048480"/>
              <a:ext cx="2178000" cy="189396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Hexagon 4"/>
            <p:cNvSpPr/>
            <p:nvPr/>
          </p:nvSpPr>
          <p:spPr>
            <a:xfrm>
              <a:off x="5178240" y="3246120"/>
              <a:ext cx="130356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 الاقتصاد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34"/>
          <p:cNvGrpSpPr/>
          <p:nvPr/>
        </p:nvGrpSpPr>
        <p:grpSpPr>
          <a:xfrm>
            <a:off x="2927160" y="2906640"/>
            <a:ext cx="1895400" cy="2178000"/>
            <a:chOff x="2927160" y="2906640"/>
            <a:chExt cx="1895400" cy="2178000"/>
          </a:xfrm>
        </p:grpSpPr>
        <p:sp>
          <p:nvSpPr>
            <p:cNvPr id="607" name="Hexagon 35"/>
            <p:cNvSpPr/>
            <p:nvPr/>
          </p:nvSpPr>
          <p:spPr>
            <a:xfrm rot="5400000">
              <a:off x="2785680" y="3047760"/>
              <a:ext cx="2178000" cy="18954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Hexagon 4"/>
            <p:cNvSpPr/>
            <p:nvPr/>
          </p:nvSpPr>
          <p:spPr>
            <a:xfrm>
              <a:off x="3222720" y="3246120"/>
              <a:ext cx="130500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37"/>
          <p:cNvGrpSpPr/>
          <p:nvPr/>
        </p:nvGrpSpPr>
        <p:grpSpPr>
          <a:xfrm>
            <a:off x="6842160" y="2906640"/>
            <a:ext cx="2092320" cy="2178000"/>
            <a:chOff x="6842160" y="2906640"/>
            <a:chExt cx="2092320" cy="2178000"/>
          </a:xfrm>
        </p:grpSpPr>
        <p:sp>
          <p:nvSpPr>
            <p:cNvPr id="610" name="Hexagon 38"/>
            <p:cNvSpPr/>
            <p:nvPr/>
          </p:nvSpPr>
          <p:spPr>
            <a:xfrm rot="5400000">
              <a:off x="6799320" y="2949480"/>
              <a:ext cx="2178000" cy="2092320"/>
            </a:xfrm>
            <a:prstGeom prst="hexagon">
              <a:avLst>
                <a:gd name="adj" fmla="val 22640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Hexagon 4"/>
            <p:cNvSpPr/>
            <p:nvPr/>
          </p:nvSpPr>
          <p:spPr>
            <a:xfrm>
              <a:off x="7167600" y="3246120"/>
              <a:ext cx="144144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تكنولوج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40"/>
          <p:cNvGrpSpPr/>
          <p:nvPr/>
        </p:nvGrpSpPr>
        <p:grpSpPr>
          <a:xfrm>
            <a:off x="979200" y="2938320"/>
            <a:ext cx="1895400" cy="2178360"/>
            <a:chOff x="979200" y="2938320"/>
            <a:chExt cx="1895400" cy="2178360"/>
          </a:xfrm>
        </p:grpSpPr>
        <p:sp>
          <p:nvSpPr>
            <p:cNvPr id="613" name="Hexagon 41"/>
            <p:cNvSpPr/>
            <p:nvPr/>
          </p:nvSpPr>
          <p:spPr>
            <a:xfrm rot="5400000">
              <a:off x="837720" y="3079800"/>
              <a:ext cx="2178360" cy="1895400"/>
            </a:xfrm>
            <a:prstGeom prst="hexagon">
              <a:avLst>
                <a:gd name="adj" fmla="val 24997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Hexagon 4"/>
            <p:cNvSpPr/>
            <p:nvPr/>
          </p:nvSpPr>
          <p:spPr>
            <a:xfrm>
              <a:off x="1274760" y="3277800"/>
              <a:ext cx="1305000" cy="14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بيئة البنية التح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(الفيزيائية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da1f28"/>
                </a:solidFill>
                <a:latin typeface="Lucida Sans Unicode"/>
              </a:rPr>
              <a:t>رابعاً</a:t>
            </a:r>
            <a:r>
              <a:rPr b="1" lang="ar-SA" sz="4100" spc="-1" strike="noStrike">
                <a:solidFill>
                  <a:srgbClr val="000000"/>
                </a:solidFill>
                <a:latin typeface="Lucida Sans Unicode"/>
              </a:rPr>
              <a:t> : تحليل بيئة التوزيع وفق (</a:t>
            </a: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SWOT</a:t>
            </a:r>
            <a:r>
              <a:rPr b="1" lang="ar-SA" sz="4100" spc="-1" strike="noStrike">
                <a:solidFill>
                  <a:srgbClr val="000000"/>
                </a:solidFill>
                <a:latin typeface="Lucida Sans Unicode"/>
              </a:rPr>
              <a:t>)</a:t>
            </a:r>
            <a:br>
              <a:rPr sz="4100"/>
            </a:br>
            <a:br>
              <a:rPr sz="4100"/>
            </a:b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ويعني تحليل نقاط القوة والضعف/ الفرص والمخاطر</a:t>
            </a:r>
            <a:br>
              <a:rPr sz="3600"/>
            </a:br>
            <a:endParaRPr b="1" lang="en-US" sz="36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7"/>
          <p:cNvSpPr/>
          <p:nvPr/>
        </p:nvSpPr>
        <p:spPr>
          <a:xfrm>
            <a:off x="1116000" y="60480"/>
            <a:ext cx="7201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خامساً: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عوامل المؤثرة على الشركة ضمن البيئة التسويقية الرق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Diagram 2" descr=""/>
          <p:cNvPicPr/>
          <p:nvPr/>
        </p:nvPicPr>
        <p:blipFill>
          <a:blip r:embed="rId1"/>
          <a:stretch/>
        </p:blipFill>
        <p:spPr>
          <a:xfrm>
            <a:off x="444600" y="1219320"/>
            <a:ext cx="8229600" cy="5449680"/>
          </a:xfrm>
          <a:prstGeom prst="rect">
            <a:avLst/>
          </a:prstGeom>
          <a:ln w="0">
            <a:noFill/>
          </a:ln>
        </p:spPr>
      </p:pic>
      <p:sp>
        <p:nvSpPr>
          <p:cNvPr id="618" name="TextBox 1"/>
          <p:cNvSpPr/>
          <p:nvPr/>
        </p:nvSpPr>
        <p:spPr>
          <a:xfrm>
            <a:off x="6300720" y="2708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موردو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4"/>
          <p:cNvCxnSpPr/>
          <p:nvPr/>
        </p:nvCxnSpPr>
        <p:spPr>
          <a:xfrm>
            <a:off x="4427280" y="3963960"/>
            <a:ext cx="10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20" name="Rounded Rectangle 6"/>
          <p:cNvSpPr/>
          <p:nvPr/>
        </p:nvSpPr>
        <p:spPr>
          <a:xfrm>
            <a:off x="6311880" y="4543560"/>
            <a:ext cx="15732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تجار والوكل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ounded Rectangle 8"/>
          <p:cNvSpPr/>
          <p:nvPr/>
        </p:nvSpPr>
        <p:spPr>
          <a:xfrm>
            <a:off x="2627280" y="4543560"/>
            <a:ext cx="1513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وكلاء الخدمات التسو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ounded Rectangle 9"/>
          <p:cNvSpPr/>
          <p:nvPr/>
        </p:nvSpPr>
        <p:spPr>
          <a:xfrm>
            <a:off x="4427640" y="4543560"/>
            <a:ext cx="1512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شركات المتخصص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ounded Rectangle 10"/>
          <p:cNvSpPr/>
          <p:nvPr/>
        </p:nvSpPr>
        <p:spPr>
          <a:xfrm>
            <a:off x="755640" y="4521240"/>
            <a:ext cx="14400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وسطاء التمو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12"/>
          <p:cNvSpPr/>
          <p:nvPr/>
        </p:nvSpPr>
        <p:spPr>
          <a:xfrm flipV="1">
            <a:off x="4427640" y="4370040"/>
            <a:ext cx="2665440" cy="25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14"/>
          <p:cNvSpPr/>
          <p:nvPr/>
        </p:nvSpPr>
        <p:spPr>
          <a:xfrm flipH="1" flipV="1">
            <a:off x="1258920" y="4344840"/>
            <a:ext cx="3168720" cy="51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6" name="Straight Arrow Connector 16"/>
          <p:cNvCxnSpPr/>
          <p:nvPr/>
        </p:nvCxnSpPr>
        <p:spPr>
          <a:xfrm>
            <a:off x="7097400" y="4370040"/>
            <a:ext cx="1080" cy="1515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27" name="Straight Arrow Connector 18"/>
          <p:cNvCxnSpPr/>
          <p:nvPr/>
        </p:nvCxnSpPr>
        <p:spPr>
          <a:xfrm>
            <a:off x="5292720" y="4395960"/>
            <a:ext cx="72000" cy="126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28" name="Straight Arrow Connector 20"/>
          <p:cNvCxnSpPr/>
          <p:nvPr/>
        </p:nvCxnSpPr>
        <p:spPr>
          <a:xfrm>
            <a:off x="1258560" y="4370040"/>
            <a:ext cx="1080" cy="896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29" name="Straight Arrow Connector 26"/>
          <p:cNvCxnSpPr/>
          <p:nvPr/>
        </p:nvCxnSpPr>
        <p:spPr>
          <a:xfrm>
            <a:off x="3384360" y="4395960"/>
            <a:ext cx="1080" cy="126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30" name="Straight Arrow Connector 28"/>
          <p:cNvCxnSpPr/>
          <p:nvPr/>
        </p:nvCxnSpPr>
        <p:spPr>
          <a:xfrm>
            <a:off x="6156000" y="4444920"/>
            <a:ext cx="1080" cy="1000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31" name="Straight Arrow Connector 30"/>
          <p:cNvCxnSpPr/>
          <p:nvPr/>
        </p:nvCxnSpPr>
        <p:spPr>
          <a:xfrm>
            <a:off x="4284360" y="4459320"/>
            <a:ext cx="1080" cy="9864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32" name="Straight Arrow Connector 19456"/>
          <p:cNvCxnSpPr/>
          <p:nvPr/>
        </p:nvCxnSpPr>
        <p:spPr>
          <a:xfrm>
            <a:off x="2410920" y="4459320"/>
            <a:ext cx="1080" cy="9864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33" name="Rounded Rectangle 19459"/>
          <p:cNvSpPr/>
          <p:nvPr/>
        </p:nvSpPr>
        <p:spPr>
          <a:xfrm>
            <a:off x="5940360" y="544500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عمل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ounded Rectangle 19460"/>
          <p:cNvSpPr/>
          <p:nvPr/>
        </p:nvSpPr>
        <p:spPr>
          <a:xfrm>
            <a:off x="4164120" y="5445000"/>
            <a:ext cx="1224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سوق المستهل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ounded Rectangle 19461"/>
          <p:cNvSpPr/>
          <p:nvPr/>
        </p:nvSpPr>
        <p:spPr>
          <a:xfrm>
            <a:off x="2233440" y="5416560"/>
            <a:ext cx="1440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سوق المشتري الصن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traight Connector 19463"/>
          <p:cNvSpPr/>
          <p:nvPr/>
        </p:nvSpPr>
        <p:spPr>
          <a:xfrm flipH="1">
            <a:off x="610920" y="4370400"/>
            <a:ext cx="647640" cy="25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Straight Arrow Connector 19465"/>
          <p:cNvCxnSpPr/>
          <p:nvPr/>
        </p:nvCxnSpPr>
        <p:spPr>
          <a:xfrm>
            <a:off x="610920" y="4344480"/>
            <a:ext cx="1080" cy="117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38" name="Rounded Rectangle 19467"/>
          <p:cNvSpPr/>
          <p:nvPr/>
        </p:nvSpPr>
        <p:spPr>
          <a:xfrm>
            <a:off x="250920" y="5516640"/>
            <a:ext cx="1512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سوق الوسط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Oval 1"/>
          <p:cNvSpPr/>
          <p:nvPr/>
        </p:nvSpPr>
        <p:spPr>
          <a:xfrm>
            <a:off x="3348000" y="876240"/>
            <a:ext cx="2305080" cy="1800360"/>
          </a:xfrm>
          <a:prstGeom prst="ellipse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المنافس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0" name="Straight Arrow Connector 3"/>
          <p:cNvCxnSpPr/>
          <p:nvPr/>
        </p:nvCxnSpPr>
        <p:spPr>
          <a:xfrm>
            <a:off x="4500360" y="2708280"/>
            <a:ext cx="1080" cy="505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41" name="Straight Connector 5"/>
          <p:cNvSpPr/>
          <p:nvPr/>
        </p:nvSpPr>
        <p:spPr>
          <a:xfrm>
            <a:off x="1727280" y="3213000"/>
            <a:ext cx="637380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Straight Arrow Connector 8"/>
          <p:cNvCxnSpPr/>
          <p:nvPr/>
        </p:nvCxnSpPr>
        <p:spPr>
          <a:xfrm>
            <a:off x="8100720" y="3213000"/>
            <a:ext cx="10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43" name="Straight Arrow Connector 10"/>
          <p:cNvCxnSpPr/>
          <p:nvPr/>
        </p:nvCxnSpPr>
        <p:spPr>
          <a:xfrm>
            <a:off x="5866920" y="3213000"/>
            <a:ext cx="10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44" name="Straight Arrow Connector 14"/>
          <p:cNvCxnSpPr/>
          <p:nvPr/>
        </p:nvCxnSpPr>
        <p:spPr>
          <a:xfrm>
            <a:off x="3941280" y="3213000"/>
            <a:ext cx="10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45" name="Straight Arrow Connector 16"/>
          <p:cNvCxnSpPr/>
          <p:nvPr/>
        </p:nvCxnSpPr>
        <p:spPr>
          <a:xfrm>
            <a:off x="1726920" y="3213000"/>
            <a:ext cx="1080" cy="504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46" name="Rectangle 18"/>
          <p:cNvSpPr/>
          <p:nvPr/>
        </p:nvSpPr>
        <p:spPr>
          <a:xfrm>
            <a:off x="7236000" y="3645000"/>
            <a:ext cx="1368360" cy="5760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نافسة الشام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9"/>
          <p:cNvSpPr/>
          <p:nvPr/>
        </p:nvSpPr>
        <p:spPr>
          <a:xfrm>
            <a:off x="5076720" y="3645000"/>
            <a:ext cx="1366920" cy="5760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نافسة بين المنظ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0"/>
          <p:cNvSpPr/>
          <p:nvPr/>
        </p:nvSpPr>
        <p:spPr>
          <a:xfrm>
            <a:off x="3203640" y="3645000"/>
            <a:ext cx="1512720" cy="6476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نافسة بين المنت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1"/>
          <p:cNvSpPr/>
          <p:nvPr/>
        </p:nvSpPr>
        <p:spPr>
          <a:xfrm>
            <a:off x="900000" y="3716280"/>
            <a:ext cx="1656000" cy="6494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نافسة السع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help</cp:lastModifiedBy>
  <dcterms:modified xsi:type="dcterms:W3CDTF">2017-10-14T20:25:15Z</dcterms:modified>
  <cp:revision>917</cp:revision>
  <dc:subject/>
  <dc:title>الشريحة 1</dc:title>
</cp:coreProperties>
</file>