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A4B-B23B-4BC9-BAA7-92C56CB0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B93-1EF9-4400-8818-8F7F66EE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CCC2C-E784-4A82-82B4-062ECC06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F1D42-D0D3-491F-B859-6837FCA8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E9302-E4A6-479C-94E4-3F17526E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E92D8-E774-4303-9F5F-E27687B6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05B8C-FB3F-4912-81C1-B881CF28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CED69C-9DE8-4CC0-A4E9-ECE95A0B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DB1C9-49D7-4604-891F-A56344D1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5D72C-6593-4577-ADB9-11A8851F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8FFAA-8599-4559-B3BD-F7D18FC5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569D1-79DA-4B19-BE72-EDE398A0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63AE-99B3-4C06-A1A5-46C0234A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E130A-854C-456B-96E0-30BA487B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25882D-BE23-45D7-9DFE-E823B31E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8E63A-3C06-46BD-B3CE-6C0E9C49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6591B-8BBF-4382-B3EA-0DF83165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ED164-10D5-4747-9707-80EDE821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18F01-60EA-4C6F-AA0D-1E3052F2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80506-CA32-4322-BE7C-0CA5420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19B19-B983-4E6F-BA4E-F4A9BC0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15E26-15BC-44FD-8397-7CBE9A24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3B362-40F8-48B1-8178-7BFC9A7A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176E-FDDB-497F-897A-7C540D76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EC5AD-7661-4898-A095-D5FD04B4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573C5-0587-4448-95BB-52100EA5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29CFA-864F-4C46-852B-39525D80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6440B-ADC6-449F-9455-F687D056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EC5B9-33EA-48E0-AFA5-7FDF5DD1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59F91-51B7-4A2E-8676-B99CD7F4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A4A90-F94F-479D-9BBE-877F9D82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8B2F7-D4BF-45AD-8AB0-832D5A93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E79CF-4E76-4020-8ADA-B89E9B5F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2C5DA-8866-4FEE-A659-2E0A4528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7521-5D3B-4FF7-A3D0-C2834076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B54F5-3B60-41E0-B114-673A26F4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EC857-A9A9-45D5-883F-4F0EC1D8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143CF-0754-4110-BA9E-5BEC6326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590DC-8F5B-46CB-B8F5-E318612E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96F74-245F-43D8-85B3-9C6C718F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42F1C-6CD3-4203-BF6E-F182B744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9F807-E22F-4709-AEFB-0010BE41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F2A50-A3B5-4126-B8BA-E9E48DB6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2305C-744C-4050-8733-AF4378B0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40813-BEBC-418F-B5DC-2D6AB606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7C3C-3501-4ECF-84A2-CB89C610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3BBBD-DBC6-47E3-9510-468802A3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C2D51-AF53-40A7-A82A-61D1BCEA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43EC0-7177-4978-9074-E13F48EC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19702-1867-4163-999A-2CB3290EA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FCEF4-F2B2-45A3-8545-FDBCEF79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5BED-B592-4024-BC75-51436BDA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37D1-5B33-4D93-AE38-2785CFAF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A87A-1F4B-47AF-AFF1-6F985AD5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5A0D-32DD-4E67-BF22-DD3E4F3C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D354-14A5-4CD0-9D6A-1C326F36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EB1-D842-4D1B-AF37-9720CC9B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145E-877A-4864-A234-04310C74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6F7D-DA4F-4867-A58C-497E9ECF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38B1-9DFB-452B-8297-6DFB8E2B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72F3-AA7A-4275-B639-B8B6D2CB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1E2B-D0B1-41C5-8166-3FEA352D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58A3-62CB-49D6-8F78-7FF000D6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664B-0976-42D3-8F18-E96396E7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CDCC-7D58-4FE4-BC8A-8A86C90E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1CA4D-BAE2-4E8B-B44E-8E50D644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2094B-75B0-44F6-AE17-4DCA8A42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D2F-F421-425C-97B2-1FE2B1EE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8034-E027-4BD8-A318-B470975B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9E83-75A7-4523-97F8-FFBA609E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DB5D6-8DB2-4BC0-8BE7-800AEA5F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05D1-59B6-4051-879A-F6AB0346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757B-9203-466D-BE12-43A2E6F1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2441-C841-481B-9F26-CFAB26577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0EA78-50F8-473D-B557-1E75F0A3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A33BE-101B-415D-A05C-37B4ABDF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915B1-1FE6-4053-B685-E4989C9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1134A-A8A3-4D9F-9438-4C3A9DA3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994-ED98-49EB-B2A5-EC83FF8C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AD3B-2973-4F68-95EF-5E229ECC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5A6B2-0C20-432E-8F53-E5372DB7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5F07-B7D7-4AF1-BB01-DB95843F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339A2-65AA-4272-BA67-C6801BA5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ED264-620A-4A80-A739-8EBD502E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AD97-7BC6-4A1F-B39C-0A41F999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CE3EB-989E-4BA1-9A92-D423388A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93E59-ABD7-4B6C-B389-01E37102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D977-1FEE-4F91-AE26-0B3FB453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02432-F9A3-46E6-98B1-7057E2D7E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52C-EAD0-4827-98A0-2E5195C8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AEBD7-E968-4715-A144-A19B4CEB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E13B4-81C9-4BE4-80C4-831335BA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C585-EE31-4C16-BAF6-2EF46F21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6FF3B-9FD1-4A48-8FAE-B194212C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5B6A7-6461-49F4-BBA4-D8DD8F97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23CAD-A083-4080-80B1-210283A4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833D-6854-4594-96B5-DB8C40C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7F9BF-6868-489E-B97B-94019D4F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99B57-67CE-4C8E-B85A-4247261F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0384F-B212-48C3-A6C9-81EDA646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A184-D216-4BEA-9531-86A28A4B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E429-5B91-4D6F-889E-2689F870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346E-F218-4F40-ACC5-FCFFFAFA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6DFBC-082A-4EFA-B2F3-7C140416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DDBD7-E644-4C50-B3BF-20F4722E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DD2E7-8994-4AF0-98F4-8532AB13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5D2FD-81F7-44A6-A9CD-E121778E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ADB60-AE1C-437B-B992-A805F811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9C2F3-53B3-4A61-A070-81083F6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C2442-7DEE-4121-B4A4-3AC08360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282E8-82D4-4E3E-AABB-F69720DB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717-6C6C-4D6E-A25F-EF3B9A59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BBBD0-F3A8-44E6-88A8-56E578E0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D4385-6B86-477A-B423-96CE033D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37C2C-4DAD-492B-B800-11F658A1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921CF-7FBD-4674-B2E4-C7E200A8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38FCD-873A-4AD5-A14B-F67502A6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738FD-AF76-4381-AD6E-DB9213F6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C8E03-D72B-4FA3-B727-33B68EBC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FE01B-CB51-4A95-8407-2C0B5BC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DE6C9-E8CB-4ACC-A7D5-4AC95D65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2E46A-369A-49FC-A0BA-1F38C73D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931A-1E67-4055-B8EC-A6001A16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24650-5E6F-4EF8-9C93-9DF1474E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26F1A-66E8-4193-A4B4-3F0F10E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84921-B6C5-4AB1-9E03-3F0C3119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48D5-34E9-4D53-887D-23D61E2C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A7071-DC78-42B1-B8CC-1A7BAC09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923DC-96B9-4FAA-B512-E1AE94CB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A95FA-FF72-4D5B-848F-717CCA47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65376A-4F57-4B42-A6A4-591CA15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B1C1A-7526-4243-934A-930C7A2C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9D165-9011-4B3E-875A-85A5CFE9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934-B56B-4C5C-8B03-51C21FA1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A6949-EC2C-461B-BB02-61C006B2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E7B93-E436-4152-922E-7D14B16E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4FA94-EEC8-4BF1-881E-8CD6DCC0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92EEF-CA64-4E23-A9ED-C36F957F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191F4-4057-4244-B7E9-3C9BAB80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9E7FF-37A7-4D14-BBF7-023122775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8C7D2-04BF-48F2-81E2-32D6EC64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4BC4F-B778-49E0-A657-F6C44B9B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A70B0-51BD-4E5D-8A52-D879DD5D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5D2CC-F679-4CB1-8E67-21C7299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B05E-6125-4D43-AD44-0E3C17A05E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36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8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39" name="شكل حر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شكل حر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مثلث قائم الزاوية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42" name="مثلث قائم الزاوية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رابط مستقيم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45" name="شارة رتبة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ارة رتبة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87C6-59FF-49F5-871B-C722A8968D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9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DC31-7CEC-40FE-95EB-36CE220A48C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3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B56-93F3-4269-9810-ED461D676E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مثلث قائم الزاوية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مجموعة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شكل حر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شكل حر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شكل حر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شكل حر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رابط مستقيم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7C65-CAA1-496D-9B97-37E1618EAD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091F-6C97-4B5A-A915-CB81F3AFDF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5" name="شارة رتبة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ارة رتبة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EBCB-C964-4AA6-B396-5E6C4D69EE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9288-AAFF-4BB6-93AC-B536A67B24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4116-935D-4E73-AD9A-49DCB06A2C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AB57-34FA-44C5-B0EC-A56CAC87B1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C71A-FD41-4DDA-81A3-ED8B3C924F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شكل حر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شكل حر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مثلث قائم الزاوية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89" name="مثلث قائم الزاوية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1" name="رابط مستقيم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 algn="r" rtl="1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 algn="r" rtl="1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 algn="r" rtl="1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310E-4FB6-4A50-BF0F-9FFF35826A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8"/>
          <p:cNvSpPr/>
          <p:nvPr/>
        </p:nvSpPr>
        <p:spPr>
          <a:xfrm>
            <a:off x="222120" y="500040"/>
            <a:ext cx="863928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2060"/>
                </a:solidFill>
                <a:latin typeface="Arial"/>
                <a:cs typeface="PT Bold Heading"/>
              </a:rPr>
              <a:t>بيئة إدارة التوزيع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مفهوم البيئ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اقسام البيئة التسويق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أنواع بيئة التوزيع والامدا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عوامل المؤثرة على الشركة ضمن البيئة التسويقية الرقمي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"/>
          <p:cNvSpPr/>
          <p:nvPr/>
        </p:nvSpPr>
        <p:spPr>
          <a:xfrm>
            <a:off x="6948360" y="500040"/>
            <a:ext cx="1913040" cy="1441440"/>
          </a:xfrm>
          <a:prstGeom prst="ellipse">
            <a:avLst/>
          </a:prstGeom>
          <a:solidFill>
            <a:srgbClr val="da1f28"/>
          </a:solidFill>
          <a:ln w="55080">
            <a:solidFill>
              <a:srgbClr val="a014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Lucida Sans Unicode"/>
              </a:rPr>
              <a:t>المحاضرة الراب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شكل بيضاوي 5"/>
          <p:cNvSpPr/>
          <p:nvPr/>
        </p:nvSpPr>
        <p:spPr>
          <a:xfrm>
            <a:off x="222120" y="504720"/>
            <a:ext cx="1714680" cy="1857600"/>
          </a:xfrm>
          <a:prstGeom prst="ellipse">
            <a:avLst/>
          </a:prstGeom>
          <a:solidFill>
            <a:srgbClr val="2da2bf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Lucida Sans Unicode"/>
              </a:rPr>
              <a:t>الفصل الثان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8"/>
          <p:cNvSpPr/>
          <p:nvPr/>
        </p:nvSpPr>
        <p:spPr>
          <a:xfrm>
            <a:off x="684360" y="625320"/>
            <a:ext cx="7775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أولاً:مفهوم البيئة </a:t>
            </a:r>
            <a:r>
              <a:rPr b="0" lang="ar-SA" sz="8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يئة</a:t>
            </a:r>
            <a:r>
              <a:rPr b="0" lang="ar-SA" sz="8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هي ذلك المحيط الذي يعيش به الفرد والعلاقات ذات التأثيرات المتعدد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البيئة التسويقية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: هي كافة القوى والعوامل والمتغيرات 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الداخل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و</a:t>
            </a: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"/>
                <a:cs typeface="PT Bold Heading"/>
              </a:rPr>
              <a:t>الخارج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 التي تؤثر على عمل التوزيع في الشرك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8"/>
          <p:cNvSpPr/>
          <p:nvPr/>
        </p:nvSpPr>
        <p:spPr>
          <a:xfrm>
            <a:off x="108000" y="189000"/>
            <a:ext cx="8928000" cy="83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PT Bold Heading"/>
              </a:rPr>
              <a:t>ثانياً:اقسام البيئة التسويق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- البيئة الخاصة / الداخلية  وهي 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Arial"/>
                <a:ea typeface="PT Bold Heading"/>
              </a:rPr>
              <a:t> أنواع:</a:t>
            </a: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  <a:ea typeface="PT Bold Heading"/>
              </a:rPr>
              <a:t> 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أ-بيئة داخلية مباشرة تشمل عناصر المزيج التسويق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ب-بيئة داخلية غير مباشرة تشمل كل وظائف الشركة ماعدا التسوي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PT Bold Heading"/>
              </a:rPr>
              <a:t>    ج- بيئة المهمة الخاصة وهي العوامل الأكثر التصاقاً بالنشاط التسويقي (مستهلكون،منافسون، وسطاء ، عاملون ، التجمعات ، الموردون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8"/>
          <p:cNvSpPr/>
          <p:nvPr/>
        </p:nvSpPr>
        <p:spPr>
          <a:xfrm>
            <a:off x="1042920" y="1873080"/>
            <a:ext cx="7201080" cy="4770720"/>
          </a:xfrm>
          <a:prstGeom prst="flowChartDocumen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179280" y="295200"/>
            <a:ext cx="8856720" cy="107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2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- البيئة العامة الخارجية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PT Bold Heading"/>
              </a:rPr>
              <a:t>وهي كل ما يحيط بالشركة واداراتها من ظروف ومتغيرات لا يمكن السيطرة عليها أو توقعها ومن أنواعها</a:t>
            </a:r>
            <a:r>
              <a:rPr b="1" lang="ar-SA" sz="4000" spc="-1" strike="noStrike">
                <a:solidFill>
                  <a:srgbClr val="c00000"/>
                </a:solidFill>
                <a:latin typeface="Arial"/>
                <a:ea typeface="PT Bold Heading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00000"/>
                </a:solidFill>
                <a:latin typeface="Arial"/>
                <a:cs typeface="PT Bold Heading"/>
              </a:rPr>
              <a:t>أ- 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طبيعية:(تلوث ، ندرة الموارد الأولية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ب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سياسية أو القانوني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ج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ديموغرافية :(حجم السكان،توزيعهم، اعمارهم ، نمط حياتهم، عاداتهم، مستواهم، فهمهم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د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cs typeface="PT Bold Heading"/>
              </a:rPr>
              <a:t>البيئة الاقتصادية:(مستوى المعيشة البطالة ، العمالة ، الضرائب، التضخم، القوة الشرائية.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هـ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بيئة التكنولوجية :تطورات  علمية وتقن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00000"/>
                </a:solidFill>
                <a:latin typeface="Arial"/>
                <a:cs typeface="PT Bold Heading"/>
              </a:rPr>
              <a:t>و-</a:t>
            </a:r>
            <a:r>
              <a:rPr b="1" lang="ar-SA" sz="3600" spc="-1" strike="noStrike">
                <a:solidFill>
                  <a:srgbClr val="002060"/>
                </a:solidFill>
                <a:latin typeface="Arial"/>
                <a:ea typeface="PT Bold Heading"/>
              </a:rPr>
              <a:t> البيئة الاجتماعية والثقافية:(</a:t>
            </a:r>
            <a:r>
              <a:rPr b="1" lang="ar-SA" sz="2800" spc="-1" strike="noStrike">
                <a:solidFill>
                  <a:srgbClr val="002060"/>
                </a:solidFill>
                <a:latin typeface="Arial"/>
                <a:cs typeface="PT Bold Heading"/>
              </a:rPr>
              <a:t>قيم وعادات ،وعي استهلاكي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Title 1" descr=""/>
          <p:cNvPicPr/>
          <p:nvPr/>
        </p:nvPicPr>
        <p:blipFill>
          <a:blip r:embed="rId1"/>
          <a:stretch/>
        </p:blipFill>
        <p:spPr>
          <a:xfrm>
            <a:off x="689040" y="73080"/>
            <a:ext cx="8680320" cy="17748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684000" y="1197000"/>
            <a:ext cx="8205480" cy="46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1</a:t>
            </a: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-البيئة الداخلية للتوزيع والامداد /الجزئية (الميكروبية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91" name="Diagram 3" descr=""/>
          <p:cNvPicPr/>
          <p:nvPr/>
        </p:nvPicPr>
        <p:blipFill>
          <a:blip r:embed="rId2"/>
          <a:stretch/>
        </p:blipFill>
        <p:spPr>
          <a:xfrm>
            <a:off x="944640" y="1676520"/>
            <a:ext cx="787536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Title 1" descr=""/>
          <p:cNvPicPr/>
          <p:nvPr/>
        </p:nvPicPr>
        <p:blipFill>
          <a:blip r:embed="rId1"/>
          <a:stretch/>
        </p:blipFill>
        <p:spPr>
          <a:xfrm>
            <a:off x="689040" y="401760"/>
            <a:ext cx="7931160" cy="19144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"/>
          <p:cNvSpPr/>
          <p:nvPr/>
        </p:nvSpPr>
        <p:spPr>
          <a:xfrm>
            <a:off x="2270160" y="50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16"/>
          <p:cNvGrpSpPr/>
          <p:nvPr/>
        </p:nvGrpSpPr>
        <p:grpSpPr>
          <a:xfrm>
            <a:off x="5894280" y="1125360"/>
            <a:ext cx="1895760" cy="2178360"/>
            <a:chOff x="5894280" y="1125360"/>
            <a:chExt cx="1895760" cy="2178360"/>
          </a:xfrm>
        </p:grpSpPr>
        <p:sp>
          <p:nvSpPr>
            <p:cNvPr id="595" name="Hexagon 17"/>
            <p:cNvSpPr/>
            <p:nvPr/>
          </p:nvSpPr>
          <p:spPr>
            <a:xfrm rot="5400000">
              <a:off x="5752800" y="1266480"/>
              <a:ext cx="2178360" cy="189576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Hexagon 4"/>
            <p:cNvSpPr/>
            <p:nvPr/>
          </p:nvSpPr>
          <p:spPr>
            <a:xfrm>
              <a:off x="6189480" y="1464840"/>
              <a:ext cx="1305360" cy="14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سكان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20"/>
          <p:cNvGrpSpPr/>
          <p:nvPr/>
        </p:nvGrpSpPr>
        <p:grpSpPr>
          <a:xfrm>
            <a:off x="3874680" y="1128600"/>
            <a:ext cx="1893960" cy="2178000"/>
            <a:chOff x="3874680" y="1128600"/>
            <a:chExt cx="1893960" cy="2178000"/>
          </a:xfrm>
        </p:grpSpPr>
        <p:sp>
          <p:nvSpPr>
            <p:cNvPr id="598" name="Hexagon 21"/>
            <p:cNvSpPr/>
            <p:nvPr/>
          </p:nvSpPr>
          <p:spPr>
            <a:xfrm rot="5400000">
              <a:off x="3732480" y="127044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Hexagon 4"/>
            <p:cNvSpPr/>
            <p:nvPr/>
          </p:nvSpPr>
          <p:spPr>
            <a:xfrm>
              <a:off x="4000320" y="1564920"/>
              <a:ext cx="159876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سياس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والقانونية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28"/>
          <p:cNvGrpSpPr/>
          <p:nvPr/>
        </p:nvGrpSpPr>
        <p:grpSpPr>
          <a:xfrm>
            <a:off x="1929960" y="1128600"/>
            <a:ext cx="1893960" cy="2178000"/>
            <a:chOff x="1929960" y="1128600"/>
            <a:chExt cx="1893960" cy="2178000"/>
          </a:xfrm>
        </p:grpSpPr>
        <p:sp>
          <p:nvSpPr>
            <p:cNvPr id="601" name="Hexagon 29"/>
            <p:cNvSpPr/>
            <p:nvPr/>
          </p:nvSpPr>
          <p:spPr>
            <a:xfrm rot="5400000">
              <a:off x="1787760" y="127044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Hexagon 4"/>
            <p:cNvSpPr/>
            <p:nvPr/>
          </p:nvSpPr>
          <p:spPr>
            <a:xfrm>
              <a:off x="2225520" y="1468080"/>
              <a:ext cx="130356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 البيئة الثقاف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31"/>
          <p:cNvGrpSpPr/>
          <p:nvPr/>
        </p:nvGrpSpPr>
        <p:grpSpPr>
          <a:xfrm>
            <a:off x="4882680" y="2906640"/>
            <a:ext cx="1893960" cy="2178000"/>
            <a:chOff x="4882680" y="2906640"/>
            <a:chExt cx="1893960" cy="2178000"/>
          </a:xfrm>
        </p:grpSpPr>
        <p:sp>
          <p:nvSpPr>
            <p:cNvPr id="604" name="Hexagon 32"/>
            <p:cNvSpPr/>
            <p:nvPr/>
          </p:nvSpPr>
          <p:spPr>
            <a:xfrm rot="5400000">
              <a:off x="4740480" y="3048480"/>
              <a:ext cx="2178000" cy="1893960"/>
            </a:xfrm>
            <a:prstGeom prst="hexagon">
              <a:avLst>
                <a:gd name="adj" fmla="val 2501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Hexagon 4"/>
            <p:cNvSpPr/>
            <p:nvPr/>
          </p:nvSpPr>
          <p:spPr>
            <a:xfrm>
              <a:off x="5178240" y="3246120"/>
              <a:ext cx="130356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اقتصاد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34"/>
          <p:cNvGrpSpPr/>
          <p:nvPr/>
        </p:nvGrpSpPr>
        <p:grpSpPr>
          <a:xfrm>
            <a:off x="2927160" y="2906640"/>
            <a:ext cx="1895400" cy="2178000"/>
            <a:chOff x="2927160" y="2906640"/>
            <a:chExt cx="1895400" cy="2178000"/>
          </a:xfrm>
        </p:grpSpPr>
        <p:sp>
          <p:nvSpPr>
            <p:cNvPr id="607" name="Hexagon 35"/>
            <p:cNvSpPr/>
            <p:nvPr/>
          </p:nvSpPr>
          <p:spPr>
            <a:xfrm rot="5400000">
              <a:off x="2785680" y="3047760"/>
              <a:ext cx="2178000" cy="1895400"/>
            </a:xfrm>
            <a:prstGeom prst="hexagon">
              <a:avLst>
                <a:gd name="adj" fmla="val 24992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Hexagon 4"/>
            <p:cNvSpPr/>
            <p:nvPr/>
          </p:nvSpPr>
          <p:spPr>
            <a:xfrm>
              <a:off x="3222720" y="3246120"/>
              <a:ext cx="130500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37"/>
          <p:cNvGrpSpPr/>
          <p:nvPr/>
        </p:nvGrpSpPr>
        <p:grpSpPr>
          <a:xfrm>
            <a:off x="6842160" y="2906640"/>
            <a:ext cx="2092320" cy="2178000"/>
            <a:chOff x="6842160" y="2906640"/>
            <a:chExt cx="2092320" cy="2178000"/>
          </a:xfrm>
        </p:grpSpPr>
        <p:sp>
          <p:nvSpPr>
            <p:cNvPr id="610" name="Hexagon 38"/>
            <p:cNvSpPr/>
            <p:nvPr/>
          </p:nvSpPr>
          <p:spPr>
            <a:xfrm rot="5400000">
              <a:off x="6799320" y="2949480"/>
              <a:ext cx="2178000" cy="2092320"/>
            </a:xfrm>
            <a:prstGeom prst="hexagon">
              <a:avLst>
                <a:gd name="adj" fmla="val 22640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Hexagon 4"/>
            <p:cNvSpPr/>
            <p:nvPr/>
          </p:nvSpPr>
          <p:spPr>
            <a:xfrm>
              <a:off x="7167600" y="3246120"/>
              <a:ext cx="144144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بيئ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التكنولوج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Group 40"/>
          <p:cNvGrpSpPr/>
          <p:nvPr/>
        </p:nvGrpSpPr>
        <p:grpSpPr>
          <a:xfrm>
            <a:off x="979200" y="2938320"/>
            <a:ext cx="1895400" cy="2178360"/>
            <a:chOff x="979200" y="2938320"/>
            <a:chExt cx="1895400" cy="2178360"/>
          </a:xfrm>
        </p:grpSpPr>
        <p:sp>
          <p:nvSpPr>
            <p:cNvPr id="613" name="Hexagon 41"/>
            <p:cNvSpPr/>
            <p:nvPr/>
          </p:nvSpPr>
          <p:spPr>
            <a:xfrm rot="5400000">
              <a:off x="837720" y="3079800"/>
              <a:ext cx="2178360" cy="1895400"/>
            </a:xfrm>
            <a:prstGeom prst="hexagon">
              <a:avLst>
                <a:gd name="adj" fmla="val 24997"/>
                <a:gd name="vf" fmla="val 115470"/>
              </a:avLst>
            </a:prstGeom>
            <a:solidFill>
              <a:srgbClr val="2da2bf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Hexagon 4"/>
            <p:cNvSpPr/>
            <p:nvPr/>
          </p:nvSpPr>
          <p:spPr>
            <a:xfrm>
              <a:off x="1274760" y="3277800"/>
              <a:ext cx="1305000" cy="149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بيئة البنية التحت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Lucida Sans Unicode"/>
                </a:rPr>
                <a:t>(الفيزيائية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100" spc="-1" strike="noStrike">
                <a:solidFill>
                  <a:srgbClr val="da1f28"/>
                </a:solidFill>
                <a:latin typeface="Lucida Sans Unicode"/>
              </a:rPr>
              <a:t>رابعاً</a:t>
            </a:r>
            <a:r>
              <a:rPr b="1" lang="ar-SA" sz="4100" spc="-1" strike="noStrike">
                <a:solidFill>
                  <a:srgbClr val="000000"/>
                </a:solidFill>
                <a:latin typeface="Lucida Sans Unicode"/>
              </a:rPr>
              <a:t> : تحليل بيئة التوزيع وفق (</a:t>
            </a:r>
            <a:r>
              <a:rPr b="1" lang="en-US" sz="4100" spc="-1" strike="noStrike">
                <a:solidFill>
                  <a:srgbClr val="000000"/>
                </a:solidFill>
                <a:latin typeface="Lucida Sans Unicode"/>
              </a:rPr>
              <a:t>SWOT</a:t>
            </a:r>
            <a:r>
              <a:rPr b="1" lang="ar-SA" sz="4100" spc="-1" strike="noStrike">
                <a:solidFill>
                  <a:srgbClr val="000000"/>
                </a:solidFill>
                <a:latin typeface="Lucida Sans Unicode"/>
              </a:rPr>
              <a:t>)</a:t>
            </a:r>
            <a:br>
              <a:rPr sz="4100"/>
            </a:br>
            <a:br>
              <a:rPr sz="4100"/>
            </a:b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ويعني تحليل نقاط القوة والضعف/ الفرص والمخاطر</a:t>
            </a:r>
            <a:br>
              <a:rPr sz="3600"/>
            </a:br>
            <a:endParaRPr b="1" lang="en-US" sz="3600" spc="-1" strike="noStrike">
              <a:solidFill>
                <a:srgbClr val="def5fa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7"/>
          <p:cNvSpPr/>
          <p:nvPr/>
        </p:nvSpPr>
        <p:spPr>
          <a:xfrm>
            <a:off x="1116000" y="60480"/>
            <a:ext cx="7201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f5f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Arial"/>
                <a:ea typeface="PT Bold Heading"/>
              </a:rPr>
              <a:t> </a:t>
            </a:r>
            <a:r>
              <a:rPr b="1" lang="ar-SA" sz="4400" spc="-1" strike="noStrike">
                <a:solidFill>
                  <a:srgbClr val="c00000"/>
                </a:solidFill>
                <a:latin typeface="Arial"/>
                <a:cs typeface="PT Bold Heading"/>
              </a:rPr>
              <a:t>خامساً: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PT Bold Heading"/>
              </a:rPr>
              <a:t>العوامل المؤثرة على الشركة ضمن البيئة التسويقية الرقم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Diagram 2" descr=""/>
          <p:cNvPicPr/>
          <p:nvPr/>
        </p:nvPicPr>
        <p:blipFill>
          <a:blip r:embed="rId1"/>
          <a:stretch/>
        </p:blipFill>
        <p:spPr>
          <a:xfrm>
            <a:off x="444600" y="1219320"/>
            <a:ext cx="8229600" cy="544968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"/>
          <p:cNvSpPr/>
          <p:nvPr/>
        </p:nvSpPr>
        <p:spPr>
          <a:xfrm>
            <a:off x="6300720" y="27082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لموردو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9" name="Straight Arrow Connector 4"/>
          <p:cNvCxnSpPr/>
          <p:nvPr/>
        </p:nvCxnSpPr>
        <p:spPr>
          <a:xfrm>
            <a:off x="4427280" y="396396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20" name="Rounded Rectangle 6"/>
          <p:cNvSpPr/>
          <p:nvPr/>
        </p:nvSpPr>
        <p:spPr>
          <a:xfrm>
            <a:off x="6311880" y="4543560"/>
            <a:ext cx="157320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تجار والوك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ounded Rectangle 8"/>
          <p:cNvSpPr/>
          <p:nvPr/>
        </p:nvSpPr>
        <p:spPr>
          <a:xfrm>
            <a:off x="2627280" y="4543560"/>
            <a:ext cx="1513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وكلاء الخدمات التسويق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ounded Rectangle 9"/>
          <p:cNvSpPr/>
          <p:nvPr/>
        </p:nvSpPr>
        <p:spPr>
          <a:xfrm>
            <a:off x="4427640" y="4543560"/>
            <a:ext cx="1512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شركات المتخصص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ounded Rectangle 10"/>
          <p:cNvSpPr/>
          <p:nvPr/>
        </p:nvSpPr>
        <p:spPr>
          <a:xfrm>
            <a:off x="755640" y="4521240"/>
            <a:ext cx="1440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d8f"/>
              </a:gs>
              <a:gs pos="100000">
                <a:srgbClr val="ffd0d1"/>
              </a:gs>
            </a:gsLst>
            <a:lin ang="16200000"/>
          </a:gradFill>
          <a:ln w="9360">
            <a:solidFill>
              <a:srgbClr val="da1f28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وسطاء التمو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Straight Connector 12"/>
          <p:cNvSpPr/>
          <p:nvPr/>
        </p:nvSpPr>
        <p:spPr>
          <a:xfrm flipV="1">
            <a:off x="4427640" y="4370040"/>
            <a:ext cx="2665440" cy="25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traight Connector 14"/>
          <p:cNvSpPr/>
          <p:nvPr/>
        </p:nvSpPr>
        <p:spPr>
          <a:xfrm flipH="1" flipV="1">
            <a:off x="1258920" y="4344840"/>
            <a:ext cx="3168720" cy="51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Straight Arrow Connector 16"/>
          <p:cNvCxnSpPr/>
          <p:nvPr/>
        </p:nvCxnSpPr>
        <p:spPr>
          <a:xfrm>
            <a:off x="7097400" y="4370040"/>
            <a:ext cx="1080" cy="1515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7" name="Straight Arrow Connector 18"/>
          <p:cNvCxnSpPr/>
          <p:nvPr/>
        </p:nvCxnSpPr>
        <p:spPr>
          <a:xfrm>
            <a:off x="5292720" y="4395960"/>
            <a:ext cx="72000" cy="126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8" name="Straight Arrow Connector 20"/>
          <p:cNvCxnSpPr/>
          <p:nvPr/>
        </p:nvCxnSpPr>
        <p:spPr>
          <a:xfrm>
            <a:off x="1258560" y="4370040"/>
            <a:ext cx="1080" cy="896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29" name="Straight Arrow Connector 26"/>
          <p:cNvCxnSpPr/>
          <p:nvPr/>
        </p:nvCxnSpPr>
        <p:spPr>
          <a:xfrm>
            <a:off x="3384360" y="4395960"/>
            <a:ext cx="1080" cy="126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0" name="Straight Arrow Connector 28"/>
          <p:cNvCxnSpPr/>
          <p:nvPr/>
        </p:nvCxnSpPr>
        <p:spPr>
          <a:xfrm>
            <a:off x="6156000" y="4444920"/>
            <a:ext cx="1080" cy="10008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1" name="Straight Arrow Connector 30"/>
          <p:cNvCxnSpPr/>
          <p:nvPr/>
        </p:nvCxnSpPr>
        <p:spPr>
          <a:xfrm>
            <a:off x="4284360" y="4459320"/>
            <a:ext cx="1080" cy="9864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32" name="Straight Arrow Connector 19456"/>
          <p:cNvCxnSpPr/>
          <p:nvPr/>
        </p:nvCxnSpPr>
        <p:spPr>
          <a:xfrm>
            <a:off x="2410920" y="4459320"/>
            <a:ext cx="1080" cy="9864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33" name="Rounded Rectangle 19459"/>
          <p:cNvSpPr/>
          <p:nvPr/>
        </p:nvSpPr>
        <p:spPr>
          <a:xfrm>
            <a:off x="5940360" y="5445000"/>
            <a:ext cx="12956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عمل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ounded Rectangle 19460"/>
          <p:cNvSpPr/>
          <p:nvPr/>
        </p:nvSpPr>
        <p:spPr>
          <a:xfrm>
            <a:off x="4164120" y="5445000"/>
            <a:ext cx="12240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مستهل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ounded Rectangle 19461"/>
          <p:cNvSpPr/>
          <p:nvPr/>
        </p:nvSpPr>
        <p:spPr>
          <a:xfrm>
            <a:off x="2233440" y="5416560"/>
            <a:ext cx="1440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مشتري الصن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19463"/>
          <p:cNvSpPr/>
          <p:nvPr/>
        </p:nvSpPr>
        <p:spPr>
          <a:xfrm flipH="1">
            <a:off x="610920" y="4370400"/>
            <a:ext cx="647640" cy="25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Straight Arrow Connector 19465"/>
          <p:cNvCxnSpPr/>
          <p:nvPr/>
        </p:nvCxnSpPr>
        <p:spPr>
          <a:xfrm>
            <a:off x="610920" y="4344480"/>
            <a:ext cx="1080" cy="11725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38" name="Rounded Rectangle 19467"/>
          <p:cNvSpPr/>
          <p:nvPr/>
        </p:nvSpPr>
        <p:spPr>
          <a:xfrm>
            <a:off x="250920" y="5516640"/>
            <a:ext cx="15127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سوق الوسط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Oval 1"/>
          <p:cNvSpPr/>
          <p:nvPr/>
        </p:nvSpPr>
        <p:spPr>
          <a:xfrm>
            <a:off x="3348000" y="876240"/>
            <a:ext cx="2305080" cy="1800360"/>
          </a:xfrm>
          <a:prstGeom prst="ellipse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Lucida Sans Unicode"/>
              </a:rPr>
              <a:t>المنافس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0" name="Straight Arrow Connector 3"/>
          <p:cNvCxnSpPr/>
          <p:nvPr/>
        </p:nvCxnSpPr>
        <p:spPr>
          <a:xfrm>
            <a:off x="4500360" y="2708280"/>
            <a:ext cx="1080" cy="50544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41" name="Straight Connector 5"/>
          <p:cNvSpPr/>
          <p:nvPr/>
        </p:nvSpPr>
        <p:spPr>
          <a:xfrm>
            <a:off x="1727280" y="3213000"/>
            <a:ext cx="6373800" cy="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8"/>
          <p:cNvCxnSpPr/>
          <p:nvPr/>
        </p:nvCxnSpPr>
        <p:spPr>
          <a:xfrm>
            <a:off x="810072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3" name="Straight Arrow Connector 10"/>
          <p:cNvCxnSpPr/>
          <p:nvPr/>
        </p:nvCxnSpPr>
        <p:spPr>
          <a:xfrm>
            <a:off x="586692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4" name="Straight Arrow Connector 14"/>
          <p:cNvCxnSpPr/>
          <p:nvPr/>
        </p:nvCxnSpPr>
        <p:spPr>
          <a:xfrm>
            <a:off x="3941280" y="3213000"/>
            <a:ext cx="1080" cy="43272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645" name="Straight Arrow Connector 16"/>
          <p:cNvCxnSpPr/>
          <p:nvPr/>
        </p:nvCxnSpPr>
        <p:spPr>
          <a:xfrm>
            <a:off x="1726920" y="3213000"/>
            <a:ext cx="1080" cy="50400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646" name="Rectangle 18"/>
          <p:cNvSpPr/>
          <p:nvPr/>
        </p:nvSpPr>
        <p:spPr>
          <a:xfrm>
            <a:off x="7236000" y="3645000"/>
            <a:ext cx="1368360" cy="5760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الشام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9"/>
          <p:cNvSpPr/>
          <p:nvPr/>
        </p:nvSpPr>
        <p:spPr>
          <a:xfrm>
            <a:off x="5076720" y="3645000"/>
            <a:ext cx="1366920" cy="5760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بين المنظ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3203640" y="3645000"/>
            <a:ext cx="1512720" cy="647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بين المنتج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1"/>
          <p:cNvSpPr/>
          <p:nvPr/>
        </p:nvSpPr>
        <p:spPr>
          <a:xfrm>
            <a:off x="900000" y="3716280"/>
            <a:ext cx="1656000" cy="6494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Lucida Sans Unicode"/>
              </a:rPr>
              <a:t>المنافسة السع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58:44Z</dcterms:created>
  <dc:creator>dokhails</dc:creator>
  <dc:description/>
  <dc:language>en-US</dc:language>
  <cp:lastModifiedBy>help</cp:lastModifiedBy>
  <dcterms:modified xsi:type="dcterms:W3CDTF">2017-10-14T20:25:15Z</dcterms:modified>
  <cp:revision>917</cp:revision>
  <dc:subject/>
  <dc:title>الشريحة 1</dc:title>
</cp:coreProperties>
</file>