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621-78CC-49F3-A6CA-76157668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C47D-A50D-4928-BAA0-C4CF3B55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25C-1293-4905-886F-70F6DBCC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564-DFD9-4A8D-B20D-CA51516F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0CB-3DAD-4D9F-BD3A-D3068750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A54-74F4-4023-85DC-65072642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04E-911A-40CC-B4A6-99D3360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8C4-9673-40EB-87B0-9687AABC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5478-4355-487E-9806-848C2AD4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6A8A-FAF7-4739-8BD5-978FAFE3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3E8-AC84-458A-AD4E-76AFE3D6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8F0-1245-4BF9-8056-C7EFE2DE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932E-9ABC-4DC8-A5E5-0A8629ECA2F5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692280"/>
            <a:ext cx="80647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Calibri"/>
              </a:rPr>
              <a:t>الفصل التاس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B262-8660-4F7A-A652-BA4EC07B3C6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539640" y="476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التفاعلات المعاكس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6156360" y="2276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156360" y="357336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6156360" y="494172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1476360" y="4941720"/>
            <a:ext cx="1081080" cy="792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1476360" y="2349360"/>
            <a:ext cx="108108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1476360" y="3573360"/>
            <a:ext cx="1081080" cy="7923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2556000" y="2708280"/>
            <a:ext cx="3598560" cy="22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13"/>
          <p:cNvSpPr/>
          <p:nvPr/>
        </p:nvSpPr>
        <p:spPr>
          <a:xfrm flipH="1" flipV="1">
            <a:off x="2626920" y="2997000"/>
            <a:ext cx="3529080" cy="21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4211640" y="2923920"/>
            <a:ext cx="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15"/>
          <p:cNvSpPr/>
          <p:nvPr/>
        </p:nvSpPr>
        <p:spPr>
          <a:xfrm>
            <a:off x="4211640" y="429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3276720" y="5373720"/>
            <a:ext cx="201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هتم بشؤنك بدلا عن مساعدت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3419640" y="2133720"/>
            <a:ext cx="11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دعني أساعد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5867280" y="148428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1187280" y="148428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A857-D6D6-4D63-9CEB-AA2991AA781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71640" y="47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التفاعلات الخ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val 5"/>
          <p:cNvSpPr/>
          <p:nvPr/>
        </p:nvSpPr>
        <p:spPr>
          <a:xfrm>
            <a:off x="6516720" y="242100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6516720" y="371628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6659640" y="522936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2195640" y="2492280"/>
            <a:ext cx="1081080" cy="792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9"/>
          <p:cNvSpPr/>
          <p:nvPr/>
        </p:nvSpPr>
        <p:spPr>
          <a:xfrm>
            <a:off x="2195640" y="3860640"/>
            <a:ext cx="108108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0"/>
          <p:cNvSpPr/>
          <p:nvPr/>
        </p:nvSpPr>
        <p:spPr>
          <a:xfrm>
            <a:off x="2195640" y="5229360"/>
            <a:ext cx="1081080" cy="792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3203280" y="2781360"/>
            <a:ext cx="3313080" cy="23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12"/>
          <p:cNvSpPr/>
          <p:nvPr/>
        </p:nvSpPr>
        <p:spPr>
          <a:xfrm flipV="1">
            <a:off x="3276720" y="3284640"/>
            <a:ext cx="3168360" cy="22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13"/>
          <p:cNvSpPr/>
          <p:nvPr/>
        </p:nvSpPr>
        <p:spPr>
          <a:xfrm flipH="1">
            <a:off x="3634920" y="5516640"/>
            <a:ext cx="30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3276720" y="5877000"/>
            <a:ext cx="3382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780000" y="5013360"/>
            <a:ext cx="30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00"/>
                </a:solidFill>
                <a:latin typeface="Calibri"/>
              </a:rPr>
              <a:t>أستطيع أن أقوم بالعمل أفضل من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80000" y="5950080"/>
            <a:ext cx="23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00"/>
                </a:solidFill>
                <a:latin typeface="Calibri"/>
              </a:rPr>
              <a:t>لا..... فأنت لاتستط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6448320" y="17002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1885320" y="1700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DDC1-BAD3-432E-A883-5302075FD6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539640" y="549360"/>
            <a:ext cx="8280360" cy="58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استما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عناصر الشفهية للاس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ألفاظ والصياغ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وجيه المناقش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صرف العم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عناصر  غير الشفهية في الاس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حركة الجسد والايد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عبيرات الو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ناخ والبيئ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74F5-833A-4D39-831F-220B1D7619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079640" y="0"/>
            <a:ext cx="8064360" cy="62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مقابل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شكل أ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نتماء اطر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فكرة الشخص عن الطرف الاخ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حركات الجس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تعبيرات الوج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صو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لغ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ومركز ا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رتباك ا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ود بين اطراف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رتيب للجلسة ومكان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اعلان عن موضوع المقاب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283-6592-4665-8086-28F36CDA44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00000" y="476280"/>
            <a:ext cx="792000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الاجتماعا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عوامل المؤثرة في الاجتماع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هدف الاجتماع وموضوع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ور أعضاء الاجتمك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شكيل الاجتمك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عدد الاعض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وقت الاج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نواحي الرسمية للاجتم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ور الرئي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8F22-2CF2-4C82-94AB-FD38DE1AEDB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476280"/>
            <a:ext cx="842472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الاتصا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ماهية وأهمية الاتصال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الاتصال التنظيمي والإداري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- المهارات الشخصية في الاتصال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5CBA-BA3B-4DF1-94D1-141866398C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50920" y="0"/>
            <a:ext cx="799308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اهية الاتص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عملية مستمرة  تتضمن قيام احد الاطراف بتحويل افكار ومعلومات معينة الى رسالة شفوية او مكتوبة, تنقل من خلال وسيلة اتصال الى الطرف الاخ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عناصر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راس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رسا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وسي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مستقب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رد الفع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بيئة والتشوي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8360" y="3284640"/>
            <a:ext cx="3311640" cy="43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بيئة والتشوي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268360" y="4724280"/>
            <a:ext cx="136692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وسيلة اتصال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شفوية أو مكتوب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211640" y="4724280"/>
            <a:ext cx="1368360" cy="15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رسالة بها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صياغة افك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084720" y="4869000"/>
            <a:ext cx="107964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84360" y="4869000"/>
            <a:ext cx="1079280" cy="100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1403280" y="3933720"/>
            <a:ext cx="525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665964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140328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291636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859280" y="3933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16"/>
          <p:cNvSpPr/>
          <p:nvPr/>
        </p:nvSpPr>
        <p:spPr>
          <a:xfrm flipH="1">
            <a:off x="5651280" y="537372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17"/>
          <p:cNvSpPr/>
          <p:nvPr/>
        </p:nvSpPr>
        <p:spPr>
          <a:xfrm flipH="1">
            <a:off x="1834920" y="537372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Line 18"/>
          <p:cNvSpPr/>
          <p:nvPr/>
        </p:nvSpPr>
        <p:spPr>
          <a:xfrm flipH="1">
            <a:off x="3779640" y="5445000"/>
            <a:ext cx="433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1187280" y="6669000"/>
            <a:ext cx="540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20"/>
          <p:cNvSpPr/>
          <p:nvPr/>
        </p:nvSpPr>
        <p:spPr>
          <a:xfrm flipV="1">
            <a:off x="6588000" y="61653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21"/>
          <p:cNvSpPr/>
          <p:nvPr/>
        </p:nvSpPr>
        <p:spPr>
          <a:xfrm flipV="1">
            <a:off x="1187280" y="61653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3059280" y="6308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رد الفع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6227640" y="42926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4354920" y="42926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رسال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2268360" y="4221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وسيل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900000" y="4292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صر نائب لرقم الشريحة 2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2294-CF00-45F8-BFD1-9EDB41AF14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50920" y="333360"/>
            <a:ext cx="8893080" cy="65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هميةالاتصالات للادارة والمد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تحديد الاهداف الواجب تنفيذ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تعريف المشاكل وسبل علاجه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قييم الاداء وانتاجية العمل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نسيق بين المهام والوحدات المختلف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ديد معايير ومؤشرات الاداء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إصدار الاوامر والتعليما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وجيه العاملين ونصحهم وارشاده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أثير في الاخرين وقيادته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حفز وتحميس العاملي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تصال من اعلى الى اسف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تصال افقي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اتصال من اسفل الى اعلى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3AB-238B-4AD0-B155-0D59AF5596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476280"/>
            <a:ext cx="8640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معوقات الاتصا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الراس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الرسالة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وسيلة الاتصا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المستقب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عوقات في بيئة الاتصال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B32A-6FC4-4441-9C11-C4CA1E64CCA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476360" y="1052640"/>
            <a:ext cx="712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150920" y="0"/>
            <a:ext cx="799308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كفاءة الاتص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سرعة في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ارتد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سجي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كثا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رس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كل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00000" y="2852640"/>
          <a:ext cx="7705800" cy="3743280"/>
        </p:xfrm>
        <a:graphic>
          <a:graphicData uri="http://schemas.openxmlformats.org/drawingml/2006/table">
            <a:tbl>
              <a:tblPr/>
              <a:tblGrid>
                <a:gridCol w="1225800"/>
                <a:gridCol w="1008000"/>
                <a:gridCol w="790560"/>
                <a:gridCol w="936720"/>
                <a:gridCol w="1008000"/>
                <a:gridCol w="1152360"/>
                <a:gridCol w="1584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تكل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رسم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كثاف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تسج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ارتدا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سرع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وسيلة الاتص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ري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مقابلة غير رسم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ريع نسبي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جتماع رسمي او لجن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ري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تليفو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توس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مذكرة داخ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بط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تقر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رسم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عال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خف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بط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خطا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75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EBA2-D69F-4386-873E-B8F64D51829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50920" y="0"/>
            <a:ext cx="8893080" cy="68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اتصالات التنظيمية والادار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أنواع الاتصالات التنظيمية والادا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تصالات لنقل معلومات من المنظمة والمديرين الى العاملين بشأن العمل (من أعلى الى اسفل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تصالات لنقل المعلومات من العاملين  والمديرين الى المنظمة والمستويات الادارية الاعلى ( من اسفل الى اعلى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تصالات لبناء شخصية متميزة للمنظمة ولرفع ولاء العاملين للمنظمة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أهم أنواع الاتصالات التنظيمية والادار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أنظمة الشكاو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أنظمة المقابل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لوحة الاعلان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رفوف القراء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مجل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رفق الشيك الشهر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ED87-7CCC-4FF2-8BEF-7E46CEB96C9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755640" y="189000"/>
            <a:ext cx="8136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هارات الشخصية في الاتصا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تحليل علاقات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لات الذاتية لشخصية أطراف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5"/>
          <p:cNvSpPr/>
          <p:nvPr/>
        </p:nvSpPr>
        <p:spPr>
          <a:xfrm>
            <a:off x="4427640" y="2421000"/>
            <a:ext cx="1152360" cy="86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أ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427640" y="3429000"/>
            <a:ext cx="1152360" cy="86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ناض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7"/>
          <p:cNvSpPr/>
          <p:nvPr/>
        </p:nvSpPr>
        <p:spPr>
          <a:xfrm>
            <a:off x="4356000" y="4437000"/>
            <a:ext cx="1152720" cy="863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طف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211640" y="5013360"/>
            <a:ext cx="46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خصية الأ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خصية 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خصية 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صر نائب لرقم الشريحة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C0F-8529-4B99-81CB-31FD35428F9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87280" y="33336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تفاعلات الاتصا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1</a:t>
            </a: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- التفاعلات المكم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val 5"/>
          <p:cNvSpPr/>
          <p:nvPr/>
        </p:nvSpPr>
        <p:spPr>
          <a:xfrm>
            <a:off x="6084720" y="2852640"/>
            <a:ext cx="10810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7"/>
          <p:cNvSpPr/>
          <p:nvPr/>
        </p:nvSpPr>
        <p:spPr>
          <a:xfrm>
            <a:off x="6084720" y="414972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8"/>
          <p:cNvSpPr/>
          <p:nvPr/>
        </p:nvSpPr>
        <p:spPr>
          <a:xfrm>
            <a:off x="6156360" y="5516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9"/>
          <p:cNvSpPr/>
          <p:nvPr/>
        </p:nvSpPr>
        <p:spPr>
          <a:xfrm>
            <a:off x="1763640" y="5516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طف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1692360" y="429264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ناض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1619280" y="2997360"/>
            <a:ext cx="108108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ال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867280" y="2205000"/>
            <a:ext cx="12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را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32000" y="220500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مستقب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419640" y="299736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دعني أساعد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851280" y="5445000"/>
            <a:ext cx="14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نعم.... فإنني أحتاج لهذه المساع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2771280" y="3357720"/>
            <a:ext cx="331308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2843280" y="3715920"/>
            <a:ext cx="3311280" cy="20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18"/>
          <p:cNvSpPr/>
          <p:nvPr/>
        </p:nvSpPr>
        <p:spPr>
          <a:xfrm flipV="1">
            <a:off x="4572000" y="3573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4572000" y="47242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0264-0052-4801-9AF5-5635E9EDB95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22:01Z</dcterms:modified>
  <cp:revision>8</cp:revision>
  <dc:subject/>
  <dc:title>Slide 1</dc:title>
</cp:coreProperties>
</file>