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3E2-8DC5-4BA2-9D02-9524BD51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3B2-9D3B-4FFD-B2E0-3B5D0BF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E70-8AD7-42D3-9BD8-9A5926E9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89E-4B04-468F-95C8-773B174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2EC-8DB7-47C4-B832-AE365F52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91B-9FE0-490C-9A13-FEE50F7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768-3978-4FB8-9BDC-C808184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B76-A010-4A42-8A80-C1C260AF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C21-5359-4BB2-B262-1CBF8323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34D-E8F6-47A2-B979-711EAA0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A5D-7B6B-46B1-9C99-2515F5A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9D4-6683-4C7A-8A27-4B0363A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B00A-7A10-4D7C-8DD8-515596D54715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692280"/>
            <a:ext cx="80647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Calibri"/>
              </a:rPr>
              <a:t>الفصل التاس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FD7-2B02-4BD3-8986-86960F8123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لتفاعلات المعاك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6156360" y="227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156360" y="357336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156360" y="494172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1476360" y="4941720"/>
            <a:ext cx="108108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1476360" y="2349360"/>
            <a:ext cx="108108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1476360" y="3573360"/>
            <a:ext cx="1081080" cy="79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2556000" y="2708280"/>
            <a:ext cx="3598560" cy="22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3"/>
          <p:cNvSpPr/>
          <p:nvPr/>
        </p:nvSpPr>
        <p:spPr>
          <a:xfrm flipH="1" flipV="1">
            <a:off x="2626920" y="2997000"/>
            <a:ext cx="3529080" cy="21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4211640" y="292392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21164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276720" y="5373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هتم بشؤنك بدلا عن مساعدت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419640" y="2133720"/>
            <a:ext cx="11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دعني أساعد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867280" y="148428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1187280" y="148428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EC3C-4DE7-4FAD-990E-6E84E6264C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7164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لتفاعلات الخ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6516720" y="242100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6516720" y="371628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6659640" y="522936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2195640" y="2492280"/>
            <a:ext cx="108108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2195640" y="3860640"/>
            <a:ext cx="108108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2195640" y="5229360"/>
            <a:ext cx="108108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3203280" y="2781360"/>
            <a:ext cx="331308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3276720" y="3284640"/>
            <a:ext cx="316836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3"/>
          <p:cNvSpPr/>
          <p:nvPr/>
        </p:nvSpPr>
        <p:spPr>
          <a:xfrm flipH="1">
            <a:off x="3634920" y="5516640"/>
            <a:ext cx="30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3276720" y="587700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780000" y="501336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00"/>
                </a:solidFill>
                <a:latin typeface="Calibri"/>
              </a:rPr>
              <a:t>أستطيع أن أقوم بالعمل أفضل من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80000" y="595008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00"/>
                </a:solidFill>
                <a:latin typeface="Calibri"/>
              </a:rPr>
              <a:t>لا..... فأنت لاتستط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6448320" y="1700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885320" y="17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B91A-1870-4B57-B598-C2BA2BBD644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8280360" cy="58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استما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عناصر الشفهية للاس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ألفاظ والصياغ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وجيه المناقش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صرف العم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عناصر  غير الشفهية في الاس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حركة الجسد والايد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عبيرات الو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ناخ والبي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7B19-B23B-4C2F-A781-E745C0FBFFE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79640" y="0"/>
            <a:ext cx="806436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مقابل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شكل أ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نتماء اطر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فكرة الشخص عن الطرف الاخ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ركات الجس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عبيرات الوج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لغ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ومركز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رتباك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ود بين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رتيب للجلسة ومكان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اعلان عن موضوع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0041-04BD-43B1-9EAA-DA4F66DD62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00000" y="476280"/>
            <a:ext cx="7920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اجتماع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عوامل المؤثرة في الاجتماع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هدف الاجتماع وموضوع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ور أعضاء الاجتمك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شكيل الاجتمك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عدد الاعض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قت الاج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نواحي الرسمية للاج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ور الرئي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3A6B-ABB5-4A98-AD59-ED6B450565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476280"/>
            <a:ext cx="842472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الاتصا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ماهية وأهمية الاتصا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الاتصال التنظيمي والإداري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المهارات الشخصية في الاتصا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CBCD-2A12-474F-B88A-50B40716B0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50920" y="0"/>
            <a:ext cx="79930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اهية الاتص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عملية مستمرة  تتضمن قيام احد الاطراف بتحويل افكار ومعلومات معينة الى رسالة شفوية او مكتوبة, تنقل من خلال وسيلة اتصال الى الطرف الاخ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عناصر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اس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س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وسي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مستقب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رد الفع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بيئة والتشوي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8360" y="3284640"/>
            <a:ext cx="3311640" cy="4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بيئة والتشوي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268360" y="4724280"/>
            <a:ext cx="136692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وسيلة اتصا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شفوية أو مكتوب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211640" y="4724280"/>
            <a:ext cx="136836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رسالة بها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صياغة افك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084720" y="4869000"/>
            <a:ext cx="107964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360" y="4869000"/>
            <a:ext cx="1079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1403280" y="3933720"/>
            <a:ext cx="52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665964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140328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91636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85928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5651280" y="537372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1834920" y="537372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3779640" y="544500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187280" y="6669000"/>
            <a:ext cx="54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6588000" y="61653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1187280" y="61653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059280" y="6308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رد الفع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227640" y="429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354920" y="4292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2268360" y="42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وسيل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90000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صر نائب لرقم الشريحة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4F2E-A26D-4B9E-9536-25D3D1A0BD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333360"/>
            <a:ext cx="8893080" cy="65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هميةالاتصالات للادارة والمد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حديد الاهداف الواجب تنفيذ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عريف المشاكل وسبل علاج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قييم الاداء وانتاجية العم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نسيق بين المهام والوحدات المختلف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معايير ومؤشرات الاد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إصدار الاوامر والتعلي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وجيه العاملين ونصحهم وارشاد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أثير في الاخرين وقيادت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فز وتحميس العامل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تصال من اعلى الى اسف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تصال اف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تصال من اسفل الى اعل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7DE6-4F87-4B44-8767-AF2E7689CA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476280"/>
            <a:ext cx="8640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معوقات الاتصا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راس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رسال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وسيلة الاتصا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مستقب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بيئة الاتصا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AFC1-EF14-4C3D-AEB7-68CC1AD46F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476360" y="1052640"/>
            <a:ext cx="712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50920" y="0"/>
            <a:ext cx="799308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كفاءة الاتص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سرعة في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رتد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سجي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كثا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رس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كل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00000" y="2852640"/>
          <a:ext cx="7705800" cy="3743280"/>
        </p:xfrm>
        <a:graphic>
          <a:graphicData uri="http://schemas.openxmlformats.org/drawingml/2006/table">
            <a:tbl>
              <a:tblPr/>
              <a:tblGrid>
                <a:gridCol w="1225800"/>
                <a:gridCol w="1008000"/>
                <a:gridCol w="790560"/>
                <a:gridCol w="936720"/>
                <a:gridCol w="1008000"/>
                <a:gridCol w="1152360"/>
                <a:gridCol w="1584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كل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رس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كثا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سج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ارتدا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سرع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وسيلة الاتص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مقابلة غير رس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 نسبي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جتماع رسمي او لجن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تليف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مذكرة داخ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ط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تقر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ط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خطا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75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94C1-7ECB-49BD-BDB6-A4603A2707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50920" y="0"/>
            <a:ext cx="889308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اتصالات التنظيمية والا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أنواع الاتصالات التنظيمية والادا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تصالات لنقل معلومات من المنظمة والمديرين الى العاملين بشأن العمل (من أعلى الى اسفل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تصالات لنقل المعلومات من العاملين  والمديرين الى المنظمة والمستويات الادارية الاعلى ( من اسفل الى اعلى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تصالات لبناء شخصية متميزة للمنظمة ولرفع ولاء العاملين للمنظ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أهم أنواع الاتصالات التنظيمية والادا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أنظمة الشكاو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أنظمة المقاب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لوحة الاعلان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رفوف القراء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مجل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رفق الشيك الشه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1BB-ECEC-4ED2-B4C6-B50121CEC8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755640" y="189000"/>
            <a:ext cx="8136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هارات الشخصية في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حليل علاقات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لات الذاتية لشخصية أطراف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5"/>
          <p:cNvSpPr/>
          <p:nvPr/>
        </p:nvSpPr>
        <p:spPr>
          <a:xfrm>
            <a:off x="4427640" y="2421000"/>
            <a:ext cx="115236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أ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427640" y="3429000"/>
            <a:ext cx="115236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7"/>
          <p:cNvSpPr/>
          <p:nvPr/>
        </p:nvSpPr>
        <p:spPr>
          <a:xfrm>
            <a:off x="4356000" y="4437000"/>
            <a:ext cx="115272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211640" y="5013360"/>
            <a:ext cx="46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أ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DE05-EBAB-4CA8-AF60-D607FDFEB6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7280" y="33336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فاعلات الاتصا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1</a:t>
            </a: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- التفاعلات المكم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84720" y="285264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084720" y="414972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8"/>
          <p:cNvSpPr/>
          <p:nvPr/>
        </p:nvSpPr>
        <p:spPr>
          <a:xfrm>
            <a:off x="6156360" y="551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9"/>
          <p:cNvSpPr/>
          <p:nvPr/>
        </p:nvSpPr>
        <p:spPr>
          <a:xfrm>
            <a:off x="1763640" y="551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692360" y="4292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619280" y="299736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867280" y="220500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32000" y="22050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419640" y="299736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دعني أساعد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851280" y="5445000"/>
            <a:ext cx="14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نعم.... فإنني أحتاج لهذه المساع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2771280" y="3357720"/>
            <a:ext cx="331308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2843280" y="3715920"/>
            <a:ext cx="3311280" cy="20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457200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4572000" y="4724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BDB-CD0B-4479-A1E3-5FC48377E9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2:01Z</dcterms:modified>
  <cp:revision>8</cp:revision>
  <dc:subject/>
  <dc:title>Slide 1</dc:title>
</cp:coreProperties>
</file>