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0A77-990F-42C3-BC8D-2253C012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4313-0373-48D9-BF65-C7B9F334B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D340C-2BCB-49B4-8810-C12E33B22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F4A28-D492-43B9-80A0-63419EE6E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FAB20-02C5-4F00-9450-4180E7062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263ED-D245-4853-A5BE-E1057AD72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2EE5E-4395-4CDF-B50A-CD2F424E8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BEBD5-AC86-4E37-84FD-E6F4A4ABB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88746-D2F2-41E8-86B2-D80422BEE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2D647-8AD7-4E35-992C-DFFBCCED9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33E48-E649-4622-BDB3-93A367AD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A587-A8E2-4537-9D85-DBB14E7C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276D-6192-4414-BFB8-904022BB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572B-D9DC-4770-A99B-D020F8EE3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C77E0-B4C6-4436-B468-8E8C70A4B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CA6C8-46B6-4F7E-94FC-3DE74122D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39A4D-F268-486C-A4D0-8FB6256E4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2765F-304D-4CBB-8D33-74141A1B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6E4EF-0327-419F-B683-C9B4D272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D6CA-2114-4CA9-85C0-D82482FA4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D537E-0EDB-4371-B676-80F0EE97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868E-20A3-4CEB-8455-B304E14D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CEE92-DBB9-4F3F-98D9-45492245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6E3A-D4CC-4B68-9D06-629B9CB1A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DF0F-AD76-438F-B354-926C7AEFB9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A20A-D266-4EA4-A232-93924EACE2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0" y="2103840"/>
            <a:ext cx="9144000" cy="265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تاسع : الإلتزامات قصيرة و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تزامات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الإلتزامات التي تسدد خلال الدورة الإنتاجية أوخلال سنة أيهما أقصر وهي التي يلزم لسدادها إستخدام الأصول المتداولة الموجودة أونشوء إلتزام أخر قصير الأجل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1251360"/>
            <a:ext cx="914400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نواعـــــــــــــــــــــــ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1" lang="ar-SA" sz="2800" spc="-1" strike="noStrike">
                <a:solidFill>
                  <a:srgbClr val="ffffff"/>
                </a:solidFill>
                <a:latin typeface="Arial"/>
              </a:rPr>
              <a:t>/ جاري مدين لحساب البنك (سحب على المكشوف)</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و عادة ماينشأ عندما تقوم المنشأة بسحب أكثر من الرصيد المتوفر لديها بالبنك وذلك نظرا لأن معظم البنوك تعطي تسهيلات بنكية لعملائ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1" lang="ar-SA" sz="2800" spc="-1" strike="noStrike">
                <a:solidFill>
                  <a:srgbClr val="ffffff"/>
                </a:solidFill>
                <a:latin typeface="Arial"/>
              </a:rPr>
              <a:t>/ القرض العادي من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لجأ المنشأة أحيانا للإقتراض من البنك إذا كان السحب على المكشوف غير ميسر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1" lang="ar-SA" sz="2800" spc="-1" strike="noStrike">
                <a:solidFill>
                  <a:srgbClr val="ffffff"/>
                </a:solidFill>
                <a:latin typeface="Arial"/>
              </a:rPr>
              <a:t>/ الدائ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شا هذا الحساب عند الشراء بالأج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03896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أوراق الدفع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أوراق التجارية التي تحدثنا عنها في الفصل السادس (أوراق القبض) أوراق دفع من وجهة نظر قابل الكمبيالة(المشتري) وتمثل إلتزاما على قابل الكمبيالة  وتظهر بقيمتها الإسمية في قائمة المركز المالي ضمن الخصوم المتداو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5</a:t>
            </a:r>
            <a:r>
              <a:rPr b="0" lang="ar-SA" sz="2800" spc="-1" strike="noStrike">
                <a:solidFill>
                  <a:srgbClr val="ffffff"/>
                </a:solidFill>
                <a:latin typeface="Arial"/>
              </a:rPr>
              <a:t>/ </a:t>
            </a:r>
            <a:r>
              <a:rPr b="1" lang="ar-SA" sz="2800" spc="-1" strike="noStrike">
                <a:solidFill>
                  <a:srgbClr val="ffffff"/>
                </a:solidFill>
                <a:latin typeface="Arial"/>
              </a:rPr>
              <a:t>الأرباح المعلن عن توزيع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ندما تعلن الجمعية العمومية للشركة توزيع أرباحها فإنها تصبح أرباح معلنة التوزيع وتعتبر دينا على الشرك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ضمن الخصوم قصيرة الأج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18576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6</a:t>
            </a:r>
            <a:r>
              <a:rPr b="0" lang="ar-SA" sz="2800" spc="-1" strike="noStrike">
                <a:solidFill>
                  <a:srgbClr val="ffffff"/>
                </a:solidFill>
                <a:latin typeface="Arial"/>
              </a:rPr>
              <a:t>/ </a:t>
            </a:r>
            <a:r>
              <a:rPr b="1" lang="ar-SA" sz="2800" spc="-1" strike="noStrike">
                <a:solidFill>
                  <a:srgbClr val="ffffff"/>
                </a:solidFill>
                <a:latin typeface="Arial"/>
              </a:rPr>
              <a:t>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يجة للتعاملات التجارية قد يستدعي ذلك أن تدفع المنشأة مبالغ ودفعات مقدمة ضمانا لجدية طالب الخدمة أو السلعة أو تأمينا لأصل تملكه المنشأة وقدمته للعميل لإستخدامه كتأمين عدادات الكهرباء والهاتف وإسطوانات الغاز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دما تستلم المنشأة هذة المقدمات أوالتأمينات فإنها تقيدها بالقيد الت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ن حـ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هذة التأمينات ضمن الخصوم قصيرة الأجل في قائمة المركز الم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r>
              <a:rPr b="1" lang="ar-SA" sz="2800" spc="-1" strike="noStrike">
                <a:solidFill>
                  <a:srgbClr val="ffffff"/>
                </a:solidFill>
                <a:latin typeface="Arial"/>
              </a:rPr>
              <a:t>- الإيرادات 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8</a:t>
            </a:r>
            <a:r>
              <a:rPr b="0" lang="ar-SA" sz="2800" spc="-1" strike="noStrike">
                <a:solidFill>
                  <a:srgbClr val="ffffff"/>
                </a:solidFill>
                <a:latin typeface="Arial"/>
              </a:rPr>
              <a:t>- </a:t>
            </a:r>
            <a:r>
              <a:rPr b="1" lang="ar-SA" sz="2800" spc="-1" strike="noStrike">
                <a:solidFill>
                  <a:srgbClr val="ffffff"/>
                </a:solidFill>
                <a:latin typeface="Arial"/>
              </a:rPr>
              <a:t>المصروفات المستحق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9:23:43Z</dcterms:created>
  <dc:creator>User</dc:creator>
  <dc:description/>
  <dc:language>en-US</dc:language>
  <cp:lastModifiedBy>User</cp:lastModifiedBy>
  <dcterms:modified xsi:type="dcterms:W3CDTF">2009-12-21T09:24:30Z</dcterms:modified>
  <cp:revision>1</cp:revision>
  <dc:subject/>
  <dc:title>Slide 1</dc:title>
</cp:coreProperties>
</file>