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E4D0F-73BC-4D4E-9E81-2CCB6CAF4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7B62D-6D1A-422B-96DE-8C919A529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ECC0E-519F-42A5-8695-8A7173A5D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E909F-A7BB-4BFD-BE10-7FA191D9A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EA1197-083D-47BC-B603-01FC379B82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15297-393D-4BE8-8C99-28F0A241E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8765E-707E-4820-863E-BD698E829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9FA91-8AEB-45E2-8790-6980E9F90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28AF2-FA88-42A3-85A5-9AA20F39B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87174-8EAF-4A98-B82B-F293556F0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84ADA-8422-4389-AB6D-61ED2DA7C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35D27-E99D-4CB1-A9CE-0B76F60FB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62099-4525-4748-A8C5-47225EC5A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12CCE-8A46-43A9-9BC9-110403052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C7C59-0ADA-4D93-AE62-97C581F14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478005-BB6A-4684-9E59-E3379CE8E2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6A98DA-1313-4858-95BB-5383789CFC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2FEC6-3AD4-4F80-AA24-EA4DCA6C3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22111-BE76-4AC9-85C6-4D4F1B4C2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8048F-56C7-4F6A-B23C-4350CBF2A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8129C-2BB8-42B5-93DA-21E91CE7D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E3A7E-8A6E-4D1F-BD5C-702AE6160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93DC6-C90B-4D67-A22F-68BCA95BF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5388A-A8E5-4CF6-9CF4-364D29736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01A15-4563-4C7E-815D-AC12D6DA55D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5C025-F19B-4EF2-8AC5-009108DD5A7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0" y="2103840"/>
            <a:ext cx="9144000" cy="26535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التاسع : الإلتزامات قصيرة وطويلة الأجل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إلتزامات قصيرة الأجل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ي الإلتزامات التي تسدد خلال الدورة الإنتاجية أوخلال سنة أيهما أقصر وهي التي يلزم لسدادها إستخدام الأصول المتداولة الموجودة أونشوء إلتزام أخر قصير الأجل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0" y="1251360"/>
            <a:ext cx="9144000" cy="43599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نواعـــــــــــــــــــــــها</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1</a:t>
            </a:r>
            <a:r>
              <a:rPr b="1" lang="ar-SA" sz="2800" spc="-1" strike="noStrike">
                <a:solidFill>
                  <a:srgbClr val="ffffff"/>
                </a:solidFill>
                <a:latin typeface="Arial"/>
              </a:rPr>
              <a:t>/ جاري مدين لحساب البنك (سحب على المكشوف)</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هو عادة ماينشأ عندما تقوم المنشأة بسحب أكثر من الرصيد المتوفر لديها بالبنك وذلك نظرا لأن معظم البنوك تعطي تسهيلات بنكية لعملائها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2</a:t>
            </a:r>
            <a:r>
              <a:rPr b="1" lang="ar-SA" sz="2800" spc="-1" strike="noStrike">
                <a:solidFill>
                  <a:srgbClr val="ffffff"/>
                </a:solidFill>
                <a:latin typeface="Arial"/>
              </a:rPr>
              <a:t>/ القرض العادي من البنك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لجأ المنشأة أحيانا للإقتراض من البنك إذا كان السحب على المكشوف غير ميسرا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3</a:t>
            </a:r>
            <a:r>
              <a:rPr b="1" lang="ar-SA" sz="2800" spc="-1" strike="noStrike">
                <a:solidFill>
                  <a:srgbClr val="ffffff"/>
                </a:solidFill>
                <a:latin typeface="Arial"/>
              </a:rPr>
              <a:t>/ الدائنين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نشا هذا الحساب عند الشراء بالأجل</a:t>
            </a:r>
            <a:r>
              <a:rPr b="0" lang="ar-SA"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0" y="1038960"/>
            <a:ext cx="9144000" cy="4786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4</a:t>
            </a:r>
            <a:r>
              <a:rPr b="1" lang="ar-SA" sz="2800" spc="-1" strike="noStrike">
                <a:solidFill>
                  <a:srgbClr val="ffffff"/>
                </a:solidFill>
                <a:latin typeface="Arial"/>
              </a:rPr>
              <a:t>/ أوراق الدفع قصيرة الأجل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عتبر الأوراق التجارية التي تحدثنا عنها في الفصل السادس (أوراق القبض) أوراق دفع من وجهة نظر قابل الكمبيالة(المشتري) وتمثل إلتزاما على قابل الكمبيالة  وتظهر بقيمتها الإسمية في قائمة المركز المالي ضمن الخصوم المتداول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5</a:t>
            </a:r>
            <a:r>
              <a:rPr b="0" lang="ar-SA" sz="2800" spc="-1" strike="noStrike">
                <a:solidFill>
                  <a:srgbClr val="ffffff"/>
                </a:solidFill>
                <a:latin typeface="Arial"/>
              </a:rPr>
              <a:t>/ </a:t>
            </a:r>
            <a:r>
              <a:rPr b="1" lang="ar-SA" sz="2800" spc="-1" strike="noStrike">
                <a:solidFill>
                  <a:srgbClr val="ffffff"/>
                </a:solidFill>
                <a:latin typeface="Arial"/>
              </a:rPr>
              <a:t>الأرباح المعلن عن توزيعها:</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ندما تعلن الجمعية العمومية للشركة توزيع أرباحها فإنها تصبح أرباح معلنة التوزيع وتعتبر دينا على الشرك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تظهر ضمن الخصوم قصيرة الأجل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0" y="185760"/>
            <a:ext cx="9144000" cy="6492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6</a:t>
            </a:r>
            <a:r>
              <a:rPr b="0" lang="ar-SA" sz="2800" spc="-1" strike="noStrike">
                <a:solidFill>
                  <a:srgbClr val="ffffff"/>
                </a:solidFill>
                <a:latin typeface="Arial"/>
              </a:rPr>
              <a:t>/ </a:t>
            </a:r>
            <a:r>
              <a:rPr b="1" lang="ar-SA" sz="2800" spc="-1" strike="noStrike">
                <a:solidFill>
                  <a:srgbClr val="ffffff"/>
                </a:solidFill>
                <a:latin typeface="Arial"/>
              </a:rPr>
              <a:t>التأمينات المسترد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تيجة للتعاملات التجارية قد يستدعي ذلك أن تدفع المنشأة مبالغ ودفعات مقدمة ضمانا لجدية طالب الخدمة أو السلعة أو تأمينا لأصل تملكه المنشأة وقدمته للعميل لإستخدامه كتأمين عدادات الكهرباء والهاتف وإسطوانات الغاز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عندما تستلم المنشأة هذة المقدمات أوالتأمينات فإنها تقيدها بالقيد التالي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من حـ /البنك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إلى حـ / التأمينات المسترد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تظهر هذة التأمينات ضمن الخصوم قصيرة الأجل في قائمة المركز المالي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7</a:t>
            </a:r>
            <a:r>
              <a:rPr b="1" lang="ar-SA" sz="2800" spc="-1" strike="noStrike">
                <a:solidFill>
                  <a:srgbClr val="ffffff"/>
                </a:solidFill>
                <a:latin typeface="Arial"/>
              </a:rPr>
              <a:t>- الإيرادات المقدم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8</a:t>
            </a:r>
            <a:r>
              <a:rPr b="0" lang="ar-SA" sz="2800" spc="-1" strike="noStrike">
                <a:solidFill>
                  <a:srgbClr val="ffffff"/>
                </a:solidFill>
                <a:latin typeface="Arial"/>
              </a:rPr>
              <a:t>- </a:t>
            </a:r>
            <a:r>
              <a:rPr b="1" lang="ar-SA" sz="2800" spc="-1" strike="noStrike">
                <a:solidFill>
                  <a:srgbClr val="ffffff"/>
                </a:solidFill>
                <a:latin typeface="Arial"/>
              </a:rPr>
              <a:t>المصروفات المستحق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09:23:43Z</dcterms:created>
  <dc:creator>User</dc:creator>
  <dc:description/>
  <dc:language>en-US</dc:language>
  <cp:lastModifiedBy>User</cp:lastModifiedBy>
  <dcterms:modified xsi:type="dcterms:W3CDTF">2009-12-21T09:24:30Z</dcterms:modified>
  <cp:revision>1</cp:revision>
  <dc:subject/>
  <dc:title>Slide 1</dc:title>
</cp:coreProperties>
</file>