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7A7B3-82BD-42E1-8DEB-FCBE869FA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9BB6D-3FF9-428D-B5A0-F7916A8AE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CE9DA-FA91-494A-A879-F1C40979A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5F4BB-60ED-4220-8A78-254E02E31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0C4E5-4145-4F33-AABA-6220651CB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FDE06-826D-4D35-9604-5579A5565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2C446-0733-4CE7-80A8-9069F5C65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ACFF5-4ACB-4300-9676-CCD275DEA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66AF2-D491-4BD7-9C8D-B6146AAC5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74A3-5783-42C7-A235-A6040E82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E90E-80AB-4D8D-8D30-DD3BACA8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0BCF-4285-4F5F-AAB3-71B8BD3E4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34C1-8BC8-4E8C-AA0B-EC2BC01D3E22}"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0" y="1650600"/>
            <a:ext cx="9144000" cy="2653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فصل التاسع : الإلتزامات قصيرة وطويل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إلتزامات قصير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ي الإلتزامات التي تسدد خلال الدورة الإنتاجية أوخلال سنة أيهما أقصر وهي التي يلزم لسدادها إستخدام الأصول المتداولة الموجودة أونشوء إلتزام أخر قصير الأجل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0" y="1251360"/>
            <a:ext cx="9144000" cy="4359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نواعـــــــــــــــــــــــ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1</a:t>
            </a:r>
            <a:r>
              <a:rPr b="1" lang="ar-SA" sz="2800" spc="-1" strike="noStrike">
                <a:solidFill>
                  <a:srgbClr val="ff0000"/>
                </a:solidFill>
                <a:latin typeface="Arial"/>
              </a:rPr>
              <a:t>/ جاري مدين لحساب البنك (سحب على المكشوف)</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هو عادة ماينشأ عندما تقوم المنشأة بسحب أكثر من الرصيد المتوفر لديها بالبنك وذلك نظرا لأن معظم البنوك تعطي تسهيلات بنكية لعملائه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2</a:t>
            </a:r>
            <a:r>
              <a:rPr b="1" lang="ar-SA" sz="2800" spc="-1" strike="noStrike">
                <a:solidFill>
                  <a:srgbClr val="ff0000"/>
                </a:solidFill>
                <a:latin typeface="Arial"/>
              </a:rPr>
              <a:t>/ القرض العادي من البن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لجأ المنشأة أحيانا للإقتراض من البنك إذا كان السحب على المكشوف غير ميسر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3</a:t>
            </a:r>
            <a:r>
              <a:rPr b="1" lang="ar-SA" sz="2800" spc="-1" strike="noStrike">
                <a:solidFill>
                  <a:srgbClr val="ff0000"/>
                </a:solidFill>
                <a:latin typeface="Arial"/>
              </a:rPr>
              <a:t>/ الدائنين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نشا هذا الحساب عند الشراء بالأج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0" y="1038960"/>
            <a:ext cx="91440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4</a:t>
            </a:r>
            <a:r>
              <a:rPr b="1" lang="ar-SA" sz="2800" spc="-1" strike="noStrike">
                <a:solidFill>
                  <a:srgbClr val="ff0000"/>
                </a:solidFill>
                <a:latin typeface="Arial"/>
              </a:rPr>
              <a:t>/ أوراق الدفع قصير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أوراق التجارية التي تحدثنا عنها في الفصل السادس (أوراق القبض) أوراق دفع من وجهة نظر قابل الكمبيالة(المشتري) وتمثل إلتزاما على قابل الكمبيالة  وتظهر بقيمتها الإسمية في قائمة المركز المالي ضمن الخصوم المتداول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5</a:t>
            </a:r>
            <a:r>
              <a:rPr b="0" lang="ar-SA" sz="2800" spc="-1" strike="noStrike">
                <a:solidFill>
                  <a:srgbClr val="ff0000"/>
                </a:solidFill>
                <a:latin typeface="Arial"/>
              </a:rPr>
              <a:t>/ </a:t>
            </a:r>
            <a:r>
              <a:rPr b="1" lang="ar-SA" sz="2800" spc="-1" strike="noStrike">
                <a:solidFill>
                  <a:srgbClr val="ff0000"/>
                </a:solidFill>
                <a:latin typeface="Arial"/>
              </a:rPr>
              <a:t>الأرباح المعلن عن توزيع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ندما تعلن الجمعية العمومية للشركة توزيع أرباحها فإنها تصبح أرباح معلنة التوزيع وتعتبر دينا على الشرك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ظهر ضمن الخصوم قصيرة الأج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0" y="18576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6</a:t>
            </a:r>
            <a:r>
              <a:rPr b="0" lang="ar-SA" sz="2800" spc="-1" strike="noStrike">
                <a:solidFill>
                  <a:srgbClr val="ff0000"/>
                </a:solidFill>
                <a:latin typeface="Arial"/>
              </a:rPr>
              <a:t>/ </a:t>
            </a:r>
            <a:r>
              <a:rPr b="1" lang="ar-SA" sz="2800" spc="-1" strike="noStrike">
                <a:solidFill>
                  <a:srgbClr val="ff0000"/>
                </a:solidFill>
                <a:latin typeface="Arial"/>
              </a:rPr>
              <a:t>التأمينات المستر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تيجة للتعاملات التجارية قد يستدعي ذلك أن تدفع المنشأة مبالغ ودفعات مقدمة ضمانا لجدية طالب الخدمة أو السلعة أو تأمينا لأصل تملكه المنشأة وقدمته للعميل لإستخدامه كتأمين عدادات الكهرباء والهاتف وإسطوانات الغاز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عندما تستلم المنشأة هذة المقدمات أوالتأمينات فإنها تقيدها بالقيد التال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من حـ /البنك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إلى حـ / التأمينات المستر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ظهر هذة التأمينات ضمن الخصوم قصيرة الأجل في قائمة المركز المال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7</a:t>
            </a:r>
            <a:r>
              <a:rPr b="1" lang="ar-SA" sz="2800" spc="-1" strike="noStrike">
                <a:solidFill>
                  <a:srgbClr val="ff0000"/>
                </a:solidFill>
                <a:latin typeface="Arial"/>
              </a:rPr>
              <a:t>- الإيرادات المقدم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8</a:t>
            </a:r>
            <a:r>
              <a:rPr b="0" lang="ar-SA" sz="2800" spc="-1" strike="noStrike">
                <a:solidFill>
                  <a:srgbClr val="ff0000"/>
                </a:solidFill>
                <a:latin typeface="Arial"/>
              </a:rPr>
              <a:t>- </a:t>
            </a:r>
            <a:r>
              <a:rPr b="1" lang="ar-SA" sz="2800" spc="-1" strike="noStrike">
                <a:solidFill>
                  <a:srgbClr val="ff0000"/>
                </a:solidFill>
                <a:latin typeface="Arial"/>
              </a:rPr>
              <a:t>المصروفات المستحقة</a:t>
            </a:r>
            <a:r>
              <a:rPr b="0" lang="ar-SA" sz="2800" spc="-1" strike="noStrike">
                <a:solidFill>
                  <a:srgbClr val="ff00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1"/>
          <p:cNvSpPr/>
          <p:nvPr/>
        </p:nvSpPr>
        <p:spPr>
          <a:xfrm>
            <a:off x="1116000" y="620640"/>
            <a:ext cx="7128000" cy="4664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الالتزامات طويلة الاجل</a:t>
            </a:r>
            <a:endParaRPr b="0" lang="en-US" sz="4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ي كل التزام ينشأ على المنشأة ولا يستدعي الامر سداده خلال السنة  المالي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معظم صور الإلتزامات طويلة الاجل هي:</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7ffd1"/>
                </a:solidFill>
                <a:latin typeface="Arial"/>
              </a:rPr>
              <a:t>1</a:t>
            </a:r>
            <a:r>
              <a:rPr b="0" lang="ar-SA" sz="2800" spc="-1" strike="noStrike">
                <a:solidFill>
                  <a:srgbClr val="47ffd1"/>
                </a:solidFill>
                <a:latin typeface="Arial"/>
              </a:rPr>
              <a:t>-القروض طويلة الأجل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7ffd1"/>
                </a:solidFill>
                <a:latin typeface="Arial"/>
              </a:rPr>
              <a:t>2</a:t>
            </a:r>
            <a:r>
              <a:rPr b="0" lang="ar-SA" sz="2800" spc="-1" strike="noStrike">
                <a:solidFill>
                  <a:srgbClr val="47ffd1"/>
                </a:solidFill>
                <a:latin typeface="Arial"/>
              </a:rPr>
              <a:t>-التأجير المالي أو الرأسمالي </a:t>
            </a:r>
            <a:r>
              <a:rPr b="0" lang="ar-SA" sz="2800" spc="-1" strike="noStrike">
                <a:solidFill>
                  <a:srgbClr val="ffffff"/>
                </a:solidFill>
                <a:latin typeface="Arial"/>
              </a:rPr>
              <a:t>(إتفاق بين طرفين يقدم أحدهما للآخر عينا ليستفيد منها مدة من الزمن بعوض متفق عليه ويمتلكها المستأجر في نهاية العقد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يقصد بة التأجير المنتهي بالتمليك.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09:23:43Z</dcterms:created>
  <dc:creator>User</dc:creator>
  <dc:description/>
  <dc:language>en-US</dc:language>
  <cp:lastModifiedBy>Amal alfawaz</cp:lastModifiedBy>
  <dcterms:modified xsi:type="dcterms:W3CDTF">2017-11-04T07:57:52Z</dcterms:modified>
  <cp:revision>2</cp:revision>
  <dc:subject/>
  <dc:title>Slide 1</dc:title>
</cp:coreProperties>
</file>