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AAC-F269-499E-A351-01EF72C7A0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عنصر نائب لرقم الشريحة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A1F2-E27D-4556-9306-840BC7A78B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عنصر نائب للتذييل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رقم الشريحة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5703-F5FB-4040-9294-79DDE55398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عنصر نائب للتذييل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734-97DA-4282-8A0D-790C0441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207-AFDF-4E1D-9732-04C864AF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D12-D3D3-4B54-8E5A-21042170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3CD-A798-4C20-BE00-B7B3A59D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FE5-7CAA-402C-9067-22A3C3C3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98D4-D35F-40F1-9728-6C4E3DF5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1EB-76B4-4DC5-BFD6-89B39566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94A-4957-4089-94B7-1DA10D6B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DC3-8E3C-454A-83E1-FDBA8596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1BD-EE3A-4013-817D-11297A09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2C1-3326-4355-9142-09BCE40B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0F6-202C-400C-9F30-49B11FEC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E78E-3524-4B21-9CEE-74E629DF58C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r-SA" sz="6000" spc="-1" strike="noStrike">
                <a:solidFill>
                  <a:srgbClr val="604a7b"/>
                </a:solidFill>
                <a:latin typeface="Arial"/>
              </a:rPr>
              <a:t>شرائح تدريسية من كتاب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604a7b"/>
                </a:solidFill>
                <a:latin typeface="Arial"/>
              </a:rPr>
              <a:t>     السلوك التنظيمي 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1" lang="ar-SA" sz="6600" spc="-1" strike="noStrike">
                <a:solidFill>
                  <a:srgbClr val="003300"/>
                </a:solidFill>
                <a:latin typeface="Arial"/>
              </a:rPr>
              <a:t>(مدخل بناء المهارات)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3300"/>
                </a:solidFill>
                <a:latin typeface="Arial"/>
              </a:rPr>
              <a:t>    د.أحمد ماهر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1f497d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رقم الشريحة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42E7-8E72-4DD7-BE14-85826D960CE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التطور التاريخي لدراسة السلوك التنظيم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حاول الإنسان منذ الأزل أن يقدم تفسير للسلوك الانس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أديان السماوية قدمت لنا نظريات متكاملة للسلوك الانس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لم توضع في قالب متكامل يخدم العمل الإداري والمدري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تطور العلمي لم يبدأ إلا في بداية القرن العش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- ميكيافيل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عدم الثقة والشك ولابد من القسوة والخداع أو أي وسيلة 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مبدأ الأساسي ”الغاية تبرر الوسيلة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هل بعض المدريين كذلك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هل بعض المنظمات كذلك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84CA-8543-4994-8D3D-7CECCD1E318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النظرية الكلاسيك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800080"/>
                </a:solidFill>
                <a:uFillTx/>
                <a:latin typeface="Arial"/>
              </a:rPr>
              <a:t>فرضيات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أفراد</a:t>
            </a:r>
            <a:r>
              <a:rPr b="1" lang="ar-SA" sz="3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كسالى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غير قادرين على تنظيم وتخطيط العمل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غير عقلانيين وانفعالين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غير قادرين على أداء العمل بصورة  سليمة وفع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800080"/>
                </a:solidFill>
                <a:uFillTx/>
                <a:latin typeface="Arial"/>
              </a:rPr>
              <a:t>فلابد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فرض نموذج عقلاني ورشيد وقوي على العامل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(سيطرة وتحكم على السلو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7214-8848-4EAF-9DF5-08FC11E3C3B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3300"/>
                </a:solidFill>
                <a:uFillTx/>
                <a:latin typeface="Arial"/>
              </a:rPr>
              <a:t>اولا :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 نموذج الإدارة العلم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أشهر روادها فردريك تايلور,فرانك وليليان جيلبرث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يمكن السيطرة على سلوك الأفراد داخل أعمالهم من خلا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تصميم مثالي للوظائف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حوافز أجرية (مالية)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تصميم طريقة واحدة ومثا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003300"/>
                </a:solidFill>
                <a:uFillTx/>
                <a:latin typeface="Arial"/>
              </a:rPr>
              <a:t>أهم مبادئها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تجزئة الوظيفة لمهام صغيرة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اختيار الفرد بطريقة تناسب العمل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تنظيم العمل في المنظمة بين الإدارة والعمال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جب تقديم الحوافز المادية عن طريق الأج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دراسة الحركة و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44BC-A09E-4C3F-8D79-C10D57B7D62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ثانياً :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 نموذج العملية الادار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يمكن السيطرة على السلوك الإنساني من خلال العمل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إدارية والقواعد والأ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أشهر الرواد هنري فايو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قسم العملية الإدارية إلى خمسة انشط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خطي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تنظ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أ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تنسي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رقا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3971-BCD8-4968-BBD6-6A241EF3700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قدم</a:t>
            </a:r>
            <a:r>
              <a:rPr b="1" lang="ar-SA" sz="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r>
              <a:rPr b="1" lang="ar-SA" sz="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بدأ يمكن  من خلال الاضطلاع بانشطةالادارة على خير وج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تقسيم العمل والتخص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سلطة والمسئو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ضبط والرب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وحدة الام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وحدة الهد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ولوية المصالح العامة على المصالح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عوائد العامل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تسلسل الرئا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عد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ستقرار العم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مباد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تنمية روح الج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F596-DB67-4960-8341-ECB54375C27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ثالثاً : 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النموذج البيروقراطي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Arial"/>
              </a:rPr>
              <a:t>يعتبر ماكس ويبر أكثر العلماء قرباً من الاتجاه البيروقراط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- بنى نظريته في البيروقراطية على المبادئ الاتيه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خصص والتقسيم العمل .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سلسل الرئاسي .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لقواعد .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لاجراءات .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من العلاقات غير الشخصية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ختيار وترقية العاملين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BC2B-85E0-4A18-B0F5-597CC2CE116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أهم العيوب (نتائج سلبية غير متوقعة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تضخم الأعباء الروتينية .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عدم اعتناء العاملون بصالح المنظمات و اهتمامهم بالإجراء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شعور العاملون بأنهم يعملون كآلات وانتقال نفس الشعور ل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يتعامل معه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تشابه في السلوك وتوحده .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قضاء على روح المبادرة والابتكار والنمو الشخصي 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B501-594B-4769-9214-76EFF315FB6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835280" y="189000"/>
            <a:ext cx="7129440" cy="72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- نظرية العلاقات الانسان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نقد إلى الكلاسيكية أدى إلى ظهور اتجاه جديد يهتم بالعلاقات الإنسا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نظرية أن الأنسان مخلوق اجتماعي يسعى الى علاقات أفضل مع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تعاون وليس التنافس  </a:t>
            </a: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5BB1-3A61-421D-AC8D-8BB4C9AA83F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أهم المبادئ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تأثر الناس في سلوكهم بالحاجات الاجت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شعر الناس بأهميتهم من خلال علاقتهم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تخصص وتقسيم العمل يفقد الجوانب اجت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تأثر الناس بعلاقتهم الاجتماعية اكثر من التنظيم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على الإدارة أن تأخذ المبادئ الأربعة في الاعت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A263-ACD2-4B20-9FC3-D916249F708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 نظرية النظام المفتو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لمنظمات ليست ساكنة بل متحركة وتحصل على مواردها من المجتم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ن خلال عمليات و أنشطة المنظمة تقوم بتحويل هذه الموارد إلى نتائج يح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عليها المجتمع مرة أخر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يوضح الشكل التالي هذه الفكرة وهي ما تسمى بالنظام المفتو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6877080" y="3716280"/>
            <a:ext cx="2087640" cy="165744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المدخ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مثل الموارد الماد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والموارد البش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492360" y="3716280"/>
            <a:ext cx="2159280" cy="165744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ال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مثل الا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والتدر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50920" y="3716280"/>
            <a:ext cx="2017440" cy="158436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خرج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مث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منتجات والاد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والحافز والرض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796000" y="422100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2411280" y="4221000"/>
            <a:ext cx="792360" cy="432000"/>
          </a:xfrm>
          <a:prstGeom prst="leftArrow">
            <a:avLst>
              <a:gd name="adj1" fmla="val 50000"/>
              <a:gd name="adj2" fmla="val 45854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عنصر نائب لرقم الشريحة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2DFA-47C5-4875-ADDE-E5B4DE3B127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</a:rPr>
              <a:t>الفصل الأو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CC44-7CE5-4D1D-88F1-BA736EE5DE3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 النظرية الموقفية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لسلوك الإنساني يتأثر بالعديد من العناصر الموجودة في الموقف الخا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هذا السلو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يوضح الشكل التالي العناصر الخاصة بالموق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940360" y="2997360"/>
            <a:ext cx="2016360" cy="504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5940360" y="3789360"/>
            <a:ext cx="201636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ج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5940360" y="4653000"/>
            <a:ext cx="201780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940360" y="5516640"/>
            <a:ext cx="208764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ب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042920" y="3645000"/>
            <a:ext cx="1584360" cy="1728720"/>
          </a:xfrm>
          <a:prstGeom prst="flowChartProcess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سلوك النا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داخل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292360" y="321300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5292360" y="407664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292720" y="3213000"/>
            <a:ext cx="0" cy="25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 flipH="1">
            <a:off x="2916000" y="4508640"/>
            <a:ext cx="237636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H="1">
            <a:off x="5292360" y="494172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5292360" y="580536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رقم الشريحة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A6E4-3807-4857-A6B2-822C2E2C19F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العولمة وأثرها على السلوك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عولمة حقيقة نعيش في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شركات اجنبية تعمل في الداخ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شركات داخلية تعمل في الخار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فهم الاتصال الثقافي(بين الحضارات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عمل تحت قيادة اجنب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عمل بقيادة اجانب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سلوك المختلف في الحضا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تفاوض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فهم اللغة بانواعها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ar-SA" sz="5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فهم نمط اتخاذ القرارات.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8E54-FC97-4F97-A20C-C655C2E3B40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- نظرية العلوم السلوكية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ركزت نظرية العلاقات الإنسانية على الاهتمام بمشاعر ا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بينما ركزت نظرية العلوم السلوكية على إعطاء تفسيرات واق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Arial"/>
              </a:rPr>
              <a:t>أهم الرواد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كريس ارجير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دوجلاس ماكجريج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رنسيس ليكر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ابراهام مازل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فردريك هرزبرج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6F98-A3CC-4D32-A8C1-BDA239A2973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يمكن تجميع أراء هؤلاء المساهمين وتلخيصه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في المبادئ الاتي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ختلاف الناس في حاجتهم (مادية- معنوي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سعى الناس إلى أن يكونوا ناضجين وناجحين في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سعى الأفراد إلى أن يكونوا منظمين في العمل.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تميز الناس بأن لديهم قدر من الحماس  والدافعية الداخ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تتضافر عناصر آخرى تؤثر في سلوك الفرد (طريقة الفهم, اسلوب الاتص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الاخرين, القدرة على القياد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9CD6-6F0B-434F-B165-EE28D317C46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سعى الأفراد لتحقيق تقابل وتماثل بين أهدافه وأهداف المنظمة التي يعمل ب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ختلف سلوك الأفراد حسب الموقف الذي يتعرضون له.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ختلف السلوك الفردي والإداري من دولة لآخرى.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إن إعتراف المنظمات بالمبادئ الثمانية السابقة يعني اقتناعها بضرورة وضع ممارس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إدارية تتمشى مع هذه المبادئ.</a:t>
            </a: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Arial"/>
              </a:rPr>
              <a:t>”اهتمت بالجوانب السلوكية مع إغفال العمليات الادارية والتنظيمية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FE27-7105-4011-92F3-FBDF72BB769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أثر الاتجاهات الحديثة في الادارة على السلوك التنظيم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تمثل العولمة أحد الاتجاهات الحديثة في الادارة المؤثرة على السلوك التنظيم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بالاضافة ال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لتنوع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Diversity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ترتيبات جديدة في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الظروف الاقتصادية تؤدي إلى ما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-تقليل العم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-التعاقد مع الغ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 -العمل من المنز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أنظمة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إدارة الجودة الشاملة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otal Qu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الايز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SO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إعادة بناء المنظمات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e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السلوك الاخلاقي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A5BC-C95D-40DD-8194-70C8FF3D32F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دور المهارات السلوكية في عمل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ثلاثة مهارات أساسية ومطلوبة لكل مد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مهارات الف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مهارات السلوك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مهارات العق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619280" y="3141720"/>
            <a:ext cx="5400720" cy="1944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                                              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عق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سلوك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فني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V="1">
            <a:off x="1619280" y="4149360"/>
            <a:ext cx="5400720" cy="86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1619280" y="3284640"/>
            <a:ext cx="5400720" cy="72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227640" y="515772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5580000" y="5157720"/>
            <a:ext cx="1370160" cy="4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اشرا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564000" y="5157720"/>
            <a:ext cx="1369800" cy="43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وسط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619280" y="5157720"/>
            <a:ext cx="1222200" cy="4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علي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عنصر نائب لرقم الشريحة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5B9F-8AC3-4C86-9F3C-B366DD1E5CA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خطة الكتا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1042920" y="1773360"/>
            <a:ext cx="7056360" cy="4464000"/>
          </a:xfrm>
          <a:prstGeom prst="flowChartProcess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5724360" y="1989000"/>
            <a:ext cx="2160720" cy="2160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عناصر السلوك الفر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إدرا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تعل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داف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شخص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اتجاه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5724360" y="4365720"/>
            <a:ext cx="2160720" cy="151128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عناصر السلوك الجماع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جماعات الع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قيادة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اتصا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547640" y="2492280"/>
            <a:ext cx="1654200" cy="208908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نواتج السلو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اداء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رضا والضغو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*التطوير التنظيم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859280" y="2637000"/>
            <a:ext cx="0" cy="2232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4859280" y="2637000"/>
            <a:ext cx="865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859280" y="4869000"/>
            <a:ext cx="865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3419280" y="3357720"/>
            <a:ext cx="1368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3419640" y="3645000"/>
            <a:ext cx="1368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عنصر نائب لرقم الشريحة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8FA5-0EFF-46C7-9200-B800C9010C3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مقدمة في السلوك التنظيم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ماهية السلوك التنظي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هدف من دراسة السلوك التنظيم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تطور التاريخي لدراسة السلوك التنظي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دور المهارات السلوكية في عمل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خطة الكتاب.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9988-CCCA-4221-B29C-4837747B56A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ماهية السلوك التنظيم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Arial"/>
              </a:rPr>
              <a:t>السلوك التنظيمي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لوك الأفراد داخل المنظمات أي الأستجاب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تي تصدر عن الفرد نتيجة لإحتكاكه بغيره من الأفراد أو نتيجة لإتصا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بيئة الخارجية من حو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- تتضمن كل ما يصدر عن الفرد من عمل حركي و تفكير أو حتى - سلوك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و مشاعر أو انفعالات أو إدرا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- أمثلة للتدليل على أهمية السلوك -  الإنساني وأهمية تفسير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A433-678E-4D93-977E-358A913C65A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يقصد بالمنظمات تلك المؤسسات التي تنتمي اليها وتهد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إلى تقدم نفع وقيمة جديدة(امثل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هناك نوعين من سلوك الافر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فردي (علم النفس) إجتماعي ( علم الإجتما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نظيمي تفاعل علم النفس مع علم الإجتماع مع علو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آخرى(إدارة ,إقتصاد,سياسة..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ويهتم بسلوك الناس داخل المنظم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11E1-C746-4F52-B209-2F3B19ADD46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 مجال نامي للمعرفة ولكنه ليس علماً بالمعنى المعتر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به ليس مستقلاً وله مجال محدد خاص به لا يخرج أناس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ذوي مستقبل وظيفي مميز(( هو محصلة علوم اخرى )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علم النفس (تفسير سلوك الأفرا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علم الاجتماع (التفاعلات الإنسان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تساؤل: هل السلوك التنظيمي علم أم فن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9603-64CD-4069-9807-AA310F14892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خلاصة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أن علم السلوك التنظيمي هو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هو العلم الذي يدرس سلوك الأفراد داخل المنظم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محصلة علوم أخرى (هما علم النفس وعلم الاجتما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علم وف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7DE4-4EA5-4DF7-B8B1-801B43AC00D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الهدف من دارسة السلوك التنظيمي :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التنبؤ بالسلوك المتوقع لشخص معين والتحكم في هذا السلو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 عن طري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أ- التعرف عن مسببات السلو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ب- التنبؤ بالسلوك في حالة التعرف على هذه المسبب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- التوجيه والسيطرة والتحكم في السلوك من خلال التأثير في المسب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08F0-5520-43B1-87AB-1364E3647A9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تفسير وتحليل السلوك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التعرف على مسببات السلوك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كيف تعمل مسببات السلوك بالتأثير عليه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السيطرة عليه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جابة : </a:t>
            </a: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بالإيجاب النس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- يتطلب وجود نماذج ونظري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”مثل شركة الاسكندريه وجدوال العمل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6C19-0234-4FA5-85DB-20F3E2EA1A1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3:16:01Z</dcterms:created>
  <dc:creator>admin</dc:creator>
  <dc:description/>
  <dc:language>en-US</dc:language>
  <cp:lastModifiedBy>Murad</cp:lastModifiedBy>
  <dcterms:modified xsi:type="dcterms:W3CDTF">2013-10-13T07:25:43Z</dcterms:modified>
  <cp:revision>461</cp:revision>
  <dc:subject/>
  <dc:title>Slide 1</dc:title>
</cp:coreProperties>
</file>