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DB2-FC36-4123-B3CD-F799356D6E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BA5-670B-4C84-8E18-C832B08758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85EA-9A67-40A5-A428-102ECC97F8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7C7-38E3-43CA-B690-82D7AF48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FF0-F604-4E25-B27D-51A7449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3C1-E83F-4D2C-B1C0-604B167D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576-DA3A-4156-B43B-DAA1614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FE1-DBDD-4A3C-A009-DCC79FF9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D18-2823-4203-B23F-DEE4724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9A4-918A-4B42-BC9C-470D3155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4D2-4A82-4E0E-BCB8-20DB510B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C6F-C40F-4C7E-A5AB-549B1C5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B78-32AA-4207-B867-3D5EE68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72A-4B99-4F39-B904-B2D971B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738-D410-4BED-AB8B-91ECD09F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78A3-1D4C-4DEE-9AC9-7E54E02556B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شرائح تدريسية من كتاب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     السلوك التنظيمي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(مدخل بناء المهارات)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    د.أحمد ماهر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4C55-E6D2-447F-B018-EDA226A343F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تطور التاريخي لدراسة السلوك التنظيم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حاول الإنسان منذ الأزل أن يقدم تفسير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أديان السماوية قدمت لنا نظريات متكاملة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لم توضع في قالب متكامل يخدم العمل الإداري والمدري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طور العلمي لم يبدأ إلا في بداية القرن العش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ميكيافيل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عدم الثقة والشك ولابد من القسوة والخداع أو أي وسيلة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مبدأ الأساسي ”الغاية تبرر الوسيل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دريين كذلك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نظمات كذلك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DFE-10D1-4890-ABE4-686682895C9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كلاسيك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رضيات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أفراد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سالى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تنظيم وتخطيط العمل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غير عقلانيين وانفعالين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أداء العمل بصورة  سليمة وفع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لابد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فرض نموذج عقلاني ورشيد وقوي على العامل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(سيطرة وتحكم على السلو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B4B1-7903-4E7B-A362-D6E97C54B0A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اولا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إدارة العلم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أشهر روادها فردريك تايلور,فرانك وليليان جيلبرث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يمكن السيطرة على سلوك الأفراد داخل أعمالهم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تصميم مثالي للوظائ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حوافز أجرية (مالية)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تصميم طريقة واحدة ومثا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أهم مبادئها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جزئة الوظيفة لمهام صغيرة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اختيار الفرد بطريقة تناسب العم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نظيم العمل في المنظمة بين الإدارة والعمال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جب تقديم الحوافز المادية عن طريق الأج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راسة الحركة و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B46-58B5-4F8B-8BB4-3266E6DFC99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نياً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عملية الادار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يمكن السيطرة على السلوك الإنساني من خلال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إدارية والقواعد و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أشهر الرواد هنري فايو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قسم العملية الإدارية إلى خمسة انشط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ط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ظ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س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رق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BEC-C799-4803-9264-F050EE874F9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قدم</a:t>
            </a:r>
            <a:r>
              <a:rPr b="1" lang="ar-SA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1" lang="ar-SA" sz="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بدأ يمكن  من خلال الاضطلاع بانشطةالادارة على خير وج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قسيم العمل وال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سلطة والمسئو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ضبط وال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ام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ه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ولوية المصالح العامة على المصالح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عوائد العام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تسلسل الرئ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عد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ستقرار العم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باد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نمية روح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C1EB-B870-4643-B89F-031BC2F0FEC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لثاً :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نموذج البيروقراطي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Arial"/>
              </a:rPr>
              <a:t>يعتبر ماكس ويبر أكثر العلماء قرباً من الاتجاه البيروقراط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- بنى نظريته في البيروقراطية على المبادئ الاتي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صص والتقسيم العمل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سلسل الرئاسي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قواعد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اجراءات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من العلاقات غير الشخصية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ختيار وترقية العاملين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C6AA-5926-4EBB-ABB4-C07D2012C0B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أهم العيوب (نتائج سلبية غير متوقعة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ضخم الأعباء الروتينية .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عدم اعتناء العاملون بصالح المنظمات و اهتمامهم بالإجراء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شعور العاملون بأنهم يعملون كآلات وانتقال نفس الشعور ل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يتعامل معه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شابه في السلوك وتوحده 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قضاء على روح المبادرة والابتكار والنمو الشخصي 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1C99-1529-41B4-B6D9-A41E325CA27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835280" y="189000"/>
            <a:ext cx="7129440" cy="72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اقات الانس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نقد إلى الكلاسيكية أدى إلى ظهور اتجاه جديد يهتم بالعلاقات الإنسا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نظرية أن الأنسان مخلوق اجتماعي يسعى الى علاقات أفضل مع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عاون وليس التنافس  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9776-1E34-49E0-B389-D343C2D570B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أهم المبادئ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في سلوكهم بالحاجات ال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شعر الناس بأهميتهم من خلال علاقتهم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تخصص وتقسيم العمل يفقد الجوانب 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بعلاقتهم الاجتماعية اكثر من التنظيم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على الإدارة أن تأخذ المبادئ الأربعة في الاع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C88F-34FE-41AC-8E35-7C33B541443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نظرية النظام المفتو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منظمات ليست ساكنة بل متحركة وتحصل على مواردها من المجتم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ن خلال عمليات و أنشطة المنظمة تقوم بتحويل هذه الموارد إلى نتائج يح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عليها المجتمع مرة 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هذه الفكرة وهي ما تسمى بالنظام المفتو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877080" y="3716280"/>
            <a:ext cx="208764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مدخ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موارد الما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موارد البش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492360" y="3716280"/>
            <a:ext cx="215928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ا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50920" y="3716280"/>
            <a:ext cx="2017440" cy="158436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خرج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مث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منتجات والاد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والحافز والرض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796000" y="422100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411280" y="4221000"/>
            <a:ext cx="792360" cy="432000"/>
          </a:xfrm>
          <a:prstGeom prst="leftArrow">
            <a:avLst>
              <a:gd name="adj1" fmla="val 50000"/>
              <a:gd name="adj2" fmla="val 45854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CAC-389C-41D5-A9A4-3942D038AC6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E353-0C99-4B83-9C9B-DB0F491B04B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موقفية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سلوك الإنساني يتأثر بالعديد من العناصر الموجودة في الموقف الخا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هذا السلو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العناصر الخاصة بالموق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940360" y="2997360"/>
            <a:ext cx="2016360" cy="50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940360" y="3789360"/>
            <a:ext cx="201636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5940360" y="4653000"/>
            <a:ext cx="201780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940360" y="5516640"/>
            <a:ext cx="208764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042920" y="3645000"/>
            <a:ext cx="1584360" cy="1728720"/>
          </a:xfrm>
          <a:prstGeom prst="flowChartProcess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سلوك الن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داخل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292360" y="3213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292360" y="407664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292720" y="3213000"/>
            <a:ext cx="0" cy="25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H="1">
            <a:off x="2916000" y="4508640"/>
            <a:ext cx="237636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>
            <a:off x="5292360" y="494172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5292360" y="580536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رقم الشريحة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DA4-929D-494A-9FE5-68769FB2579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عولمة وأثرها على السلو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ولمة حقيقة نعيش في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اجنبية تعمل في الداخ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داخلية تعمل في الخار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فهم الاتصال الثقافي(بين الحضارات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عمل تحت قيادة اجنب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مل بقيادة اجانب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سلوك المختلف في الحضا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فاوض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اللغة بانواعها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ar-SA" sz="5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نمط اتخاذ القرارات.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156-C5EB-4EDF-9320-106323F2239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وم السلوكية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ركزت نظرية العلاقات الإنسانية على الاهتمام بمشاعر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ينما ركزت نظرية العلوم السلوكية على إعطاء تفسيرات واق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أهم الروا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كريس ارجي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دوجلاس ماكجريج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رنسيس ليكر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ابراهام مازل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فردريك هرزبرج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067-AC2E-43F5-AD86-50FAC89B23C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يمكن تجميع أراء هؤلاء المساهمين وتلخيصه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في المبادئ الاتي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ختلاف الناس في حاجتهم (مادية- معنو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ناس إلى أن يكونوا ناضجين وناجحي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أفراد إلى أن يكونوا منظمين في العمل.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تميز الناس بأن لديهم قدر من الحماس  والدافعية الداخ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تتضافر عناصر آخرى تؤثر في سلوك الفرد (طريقة الفهم, اسلوب الاتص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الاخرين, القدرة على القياد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984-1891-4A86-878C-95D3ED40A31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سعى الأفراد لتحقيق تقابل وتماثل بين أهدافه وأهداف المنظمة التي يعمل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سلوك الأفراد حسب الموقف الذي يتعرضون له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السلوك الفردي والإداري من دولة لآخرى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إن إعتراف المنظمات بالمبادئ الثمانية السابقة يعني اقتناعها بضرورة وضع ممارس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دارية تتمشى مع هذه المبادئ.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”اهتمت بالجوانب السلوكية مع إغفال العمليات الادارية والتنظيمي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DE3-FBCE-45E5-A9A6-2D1E16348AF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ثر الاتجاهات الحديثة في الادارة على السلوك التنظيم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مثل العولمة أحد الاتجاهات الحديثة في الادارة المؤثرة على السلوك التنظيم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بالاضافة ا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تنوع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ترتيبات جديدة في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الظروف الاقتصادية تؤدي إلى ما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تقليل العم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-التعاقد مع الغ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 -العمل من المنز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أنظم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دارة الجودة الشاملة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otal 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الايز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SO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إعادة بناء المنظمات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سلوك الاخلاقي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31D4-597B-460B-91A0-E31D63B1FBD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دور المهارات السلوكية في عمل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ثلاثة مهارات أساسية ومطلوبة لكل مد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ف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مهارات السلو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عق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619280" y="3141720"/>
            <a:ext cx="5400720" cy="194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                                              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عق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سلوك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فني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1619280" y="4149360"/>
            <a:ext cx="5400720" cy="86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1619280" y="3284640"/>
            <a:ext cx="5400720" cy="72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227640" y="5157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580000" y="5157720"/>
            <a:ext cx="137016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اشرا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564000" y="5157720"/>
            <a:ext cx="1369800" cy="43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وسط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619280" y="5157720"/>
            <a:ext cx="122220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علي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9029-18B6-483A-B697-86753929F5D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خطة الكتا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042920" y="1773360"/>
            <a:ext cx="7056360" cy="4464000"/>
          </a:xfrm>
          <a:prstGeom prst="flowChartProcess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5724360" y="1989000"/>
            <a:ext cx="2160720" cy="2160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عناصر السلوك الفر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إدرا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تعل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داف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شخص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5724360" y="4365720"/>
            <a:ext cx="2160720" cy="151128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عناصر السلوك الجم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جماعات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قيادة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اتصا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547640" y="2492280"/>
            <a:ext cx="1654200" cy="208908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نواتج السلو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اداء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رضا والضغو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تطوير التنظي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859280" y="2637000"/>
            <a:ext cx="0" cy="2232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859280" y="2637000"/>
            <a:ext cx="865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859280" y="4869000"/>
            <a:ext cx="865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3419280" y="3357720"/>
            <a:ext cx="136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3419640" y="3645000"/>
            <a:ext cx="136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عنصر نائب لرقم الشريحة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6D01-4FD2-4D1F-A600-0127D85130E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مقدمة في السلوك التنظيم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ماهي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هدف من دراسة السلوك التنظيم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طور التاريخي لدراس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ور المهارات السلوكية في عمل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خطة الكتاب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2BB1-5B3F-4CEF-A265-FC0B7C485B1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ماهية السلوك التنظي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Arial"/>
              </a:rPr>
              <a:t>السلوك التنظيمي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لوك الأفراد داخل المنظمات أي الأستجاب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تي تصدر عن الفرد نتيجة لإحتكاكه بغيره من الأفراد أو نتيجة لإتص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بيئة الخارجية من حو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تتضمن كل ما يصدر عن الفرد من عمل حركي و تفكير أو حتى - سلوك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و مشاعر أو انفعالات أو إدرا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أمثلة للتدليل على أهمية السلوك -  الإنساني وأهمية تفسير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25E-BBDC-45DE-9E18-2E64A2D20C1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يقصد بالمنظمات تلك المؤسسات التي تنتمي اليها وتهد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إلى تقدم نفع وقيمة جديدة(امثل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هناك نوعين من سلوك الافر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فردي (علم النفس) إجتماعي ( علم الإ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نظيمي تفاعل علم النفس مع علم الإجتماع مع علو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آخرى(إدارة ,إقتصاد,سياسة..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ويهتم بسلوك الناس داخل المنظ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D5AB-69DE-4488-AA5B-0E51669BF4D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 مجال نامي للمعرفة ولكنه ليس علماً بالمعنى المعتر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به ليس مستقلاً وله مجال محدد خاص به لا يخرج أناس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ذوي مستقبل وظيفي مميز(( هو محصلة علوم اخرى 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نفس (تفسير سلوك الأفرا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اجتماع (التفاعلات الإنسان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تساؤل: هل السلوك التنظيمي علم أم ف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AF40-239F-4051-A157-84D4E5AC20F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اصة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أن علم السلوك التنظيمي هو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هو العلم الذي يدرس سلوك الأفراد داخل المنظم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محصلة علوم أخرى (هما علم النفس وعلم الا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علم وف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52ED-68FC-4E8F-9412-0AF89EEE4DD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الهدف من دارسة السلوك التنظيمي 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التنبؤ بالسلوك المتوقع لشخص معين والتحكم في هذا السلو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 عن طري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أ- التعرف عن مسببات السلو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- التنبؤ بالسلوك في حالة التعرف على هذه المسبب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- التوجيه والسيطرة والتحكم في السلوك من خلال التأثير في المسب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E16-4413-4620-8CB1-A0A58676A32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تفسير وتحليل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تعرف على مسببات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كيف تعمل مسببات السلوك بالتأثير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سيطرة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جابة : </a:t>
            </a: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بالإيجاب النس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- يتطلب وجود نماذج ونظري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”مثل شركة الاسكندريه وجدوال العمل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381-F33F-4D50-BAEF-B18BBA2C608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3:16:01Z</dcterms:created>
  <dc:creator>admin</dc:creator>
  <dc:description/>
  <dc:language>en-US</dc:language>
  <cp:lastModifiedBy>Murad</cp:lastModifiedBy>
  <dcterms:modified xsi:type="dcterms:W3CDTF">2013-10-13T07:25:43Z</dcterms:modified>
  <cp:revision>461</cp:revision>
  <dc:subject/>
  <dc:title>Slide 1</dc:title>
</cp:coreProperties>
</file>