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4B592-DF6A-4F46-A819-557671635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F1623-9420-4748-A925-86D5B3777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0349A-DD5F-4F10-AFE1-B86DE76D5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68772-8F26-4D6A-AC6E-FA2028724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9215B-3C77-44C9-8030-53EA4119D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74085-FA3C-4DDD-9AA5-A6B2C4CDB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376C5-6C66-4A49-A1CD-6AAE9FDC2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8883B-FF2B-4DF6-85BA-05115B073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26678-06DA-442E-8CE2-99E46097A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FD231-5FC3-48C6-836C-C1DDE4B7F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FEA73-5639-4962-B9FC-0C5212F49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9032E-FC3B-4306-BADF-08E796702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8A9CB-47F9-4169-9574-C9B9C7DB4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C3828-D714-4C2E-B7C8-554038BA0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21DE6-207E-4D29-A1E2-53B0E5009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D8438-51DB-47BD-8566-A3835CA58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BB323-8CC4-45B1-9DBE-F1098AFCD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D5DAA-A333-4D21-BDC4-19B2C96A4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286E4-2C30-433E-9D9C-41DA8CF72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1B482-090A-47A7-B122-682DE6941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129D5-ECDC-441C-BE6D-8ECACD005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2F5F0-4A42-4118-A816-DB6D9C656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B4238-F8C5-4805-BF60-E3E282CF0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A2F38-0D7C-481C-B39D-BAF1666B4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gd name="textAreaLeft" fmla="*/ 0 w 9140760"/>
                <a:gd name="textAreaRight" fmla="*/ 9141120 w 9140760"/>
                <a:gd name="textAreaTop" fmla="*/ 0 h 1655640"/>
                <a:gd name="textAreaBottom" fmla="*/ 1656000 h 1655640"/>
              </a:gdLst>
              <a:ahLst/>
              <a:rect l="textAreaLeft" t="textAreaTop" r="textAreaRight" b="textAreaBottom"/>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gd name="textAreaLeft" fmla="*/ 0 w 9141120"/>
                  <a:gd name="textAreaRight" fmla="*/ 9141480 w 914112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gd name="textAreaLeft" fmla="*/ 0 w 9140760"/>
                  <a:gd name="textAreaRight" fmla="*/ 9141120 w 9140760"/>
                  <a:gd name="textAreaTop" fmla="*/ 0 h 66600"/>
                  <a:gd name="textAreaBottom" fmla="*/ 66960 h 66600"/>
                </a:gdLst>
                <a:ahLst/>
                <a:rect l="textAreaLeft" t="textAreaTop" r="textAreaRight" b="textAreaBottom"/>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gd name="textAreaLeft" fmla="*/ 0 w 9140760"/>
                  <a:gd name="textAreaRight" fmla="*/ 9141120 w 9140760"/>
                  <a:gd name="textAreaTop" fmla="*/ 0 h 49320"/>
                  <a:gd name="textAreaBottom" fmla="*/ 49680 h 493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gd name="textAreaLeft" fmla="*/ 0 w 66960"/>
                    <a:gd name="textAreaRight" fmla="*/ 67320 w 66960"/>
                    <a:gd name="textAreaTop" fmla="*/ 0 h 1658880"/>
                    <a:gd name="textAreaBottom" fmla="*/ 1659240 h 1658880"/>
                  </a:gdLst>
                  <a:ahLst/>
                  <a:rect l="textAreaLeft" t="textAreaTop" r="textAreaRight" b="textAreaBottom"/>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gd name="textAreaLeft" fmla="*/ 0 w 560160"/>
                    <a:gd name="textAreaRight" fmla="*/ 560160 w 560160"/>
                    <a:gd name="textAreaTop" fmla="*/ 0 h 1658880"/>
                    <a:gd name="textAreaBottom" fmla="*/ 1659240 h 1658880"/>
                  </a:gdLst>
                  <a:ahLst/>
                  <a:rect l="textAreaLeft" t="textAreaTop" r="textAreaRight" b="textAreaBottom"/>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gd name="textAreaLeft" fmla="*/ 0 w 714240"/>
                    <a:gd name="textAreaRight" fmla="*/ 714240 w 714240"/>
                    <a:gd name="textAreaTop" fmla="*/ 0 h 1658880"/>
                    <a:gd name="textAreaBottom" fmla="*/ 1659240 h 1658880"/>
                  </a:gdLst>
                  <a:ahLst/>
                  <a:rect l="textAreaLeft" t="textAreaTop" r="textAreaRight" b="textAreaBottom"/>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gd name="textAreaLeft" fmla="*/ 0 w 857160"/>
                    <a:gd name="textAreaRight" fmla="*/ 857520 w 857160"/>
                    <a:gd name="textAreaTop" fmla="*/ 0 h 1658880"/>
                    <a:gd name="textAreaBottom" fmla="*/ 1659240 h 1658880"/>
                  </a:gdLst>
                  <a:ahLst/>
                  <a:rect l="textAreaLeft" t="textAreaTop" r="textAreaRight" b="textAreaBottom"/>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gd name="textAreaLeft" fmla="*/ 0 w 1000080"/>
                    <a:gd name="textAreaRight" fmla="*/ 1000440 w 1000080"/>
                    <a:gd name="textAreaTop" fmla="*/ 0 h 1487520"/>
                    <a:gd name="textAreaBottom" fmla="*/ 1487880 h 1487520"/>
                  </a:gdLst>
                  <a:ahLst/>
                  <a:rect l="textAreaLeft" t="textAreaTop" r="textAreaRight" b="textAreaBottom"/>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gd name="textAreaLeft" fmla="*/ 0 w 569880"/>
                    <a:gd name="textAreaRight" fmla="*/ 570240 w 569880"/>
                    <a:gd name="textAreaTop" fmla="*/ 0 h 1658880"/>
                    <a:gd name="textAreaBottom" fmla="*/ 1659240 h 1658880"/>
                  </a:gdLst>
                  <a:ahLst/>
                  <a:rect l="textAreaLeft" t="textAreaTop" r="textAreaRight" b="textAreaBottom"/>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gd name="textAreaLeft" fmla="*/ 0 w 712800"/>
                    <a:gd name="textAreaRight" fmla="*/ 713160 w 712800"/>
                    <a:gd name="textAreaTop" fmla="*/ 0 h 1658880"/>
                    <a:gd name="textAreaBottom" fmla="*/ 1659240 h 1658880"/>
                  </a:gdLst>
                  <a:ahLst/>
                  <a:rect l="textAreaLeft" t="textAreaTop" r="textAreaRight" b="textAreaBottom"/>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gd name="textAreaLeft" fmla="*/ 0 w 858600"/>
                    <a:gd name="textAreaRight" fmla="*/ 858960 w 858600"/>
                    <a:gd name="textAreaTop" fmla="*/ 0 h 1658880"/>
                    <a:gd name="textAreaBottom" fmla="*/ 1659240 h 1658880"/>
                  </a:gdLst>
                  <a:ahLst/>
                  <a:rect l="textAreaLeft" t="textAreaTop" r="textAreaRight" b="textAreaBottom"/>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gd name="textAreaLeft" fmla="*/ 0 w 1066680"/>
                    <a:gd name="textAreaRight" fmla="*/ 1067040 w 1066680"/>
                    <a:gd name="textAreaTop" fmla="*/ 0 h 1582560"/>
                    <a:gd name="textAreaBottom" fmla="*/ 1582920 h 1582560"/>
                  </a:gdLst>
                  <a:ahLst/>
                  <a:rect l="textAreaLeft" t="textAreaTop" r="textAreaRight" b="textAreaBottom"/>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gd name="textAreaLeft" fmla="*/ 0 w 485640"/>
                    <a:gd name="textAreaRight" fmla="*/ 486000 w 485640"/>
                    <a:gd name="textAreaTop" fmla="*/ 0 h 677880"/>
                    <a:gd name="textAreaBottom" fmla="*/ 678240 h 677880"/>
                  </a:gdLst>
                  <a:ahLst/>
                  <a:rect l="textAreaLeft" t="textAreaTop" r="textAreaRight" b="textAreaBottom"/>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gd name="textAreaLeft" fmla="*/ 0 w 552240"/>
                    <a:gd name="textAreaRight" fmla="*/ 552240 w 552240"/>
                    <a:gd name="textAreaTop" fmla="*/ 0 h 772920"/>
                    <a:gd name="textAreaBottom" fmla="*/ 773280 h 772920"/>
                  </a:gdLst>
                  <a:ahLst/>
                  <a:rect l="textAreaLeft" t="textAreaTop" r="textAreaRight" b="textAreaBottom"/>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gd name="textAreaLeft" fmla="*/ 0 w 66960"/>
                    <a:gd name="textAreaRight" fmla="*/ 67320 w 66960"/>
                    <a:gd name="textAreaTop" fmla="*/ 0 h 5207040"/>
                    <a:gd name="textAreaBottom" fmla="*/ 5207400 h 5207040"/>
                  </a:gdLst>
                  <a:ahLst/>
                  <a:rect l="textAreaLeft" t="textAreaTop" r="textAreaRight" b="textAreaBottom"/>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gd name="textAreaLeft" fmla="*/ 0 w 636480"/>
                    <a:gd name="textAreaRight" fmla="*/ 636840 w 636480"/>
                    <a:gd name="textAreaTop" fmla="*/ 0 h 5207040"/>
                    <a:gd name="textAreaBottom" fmla="*/ 5207400 h 5207040"/>
                  </a:gdLst>
                  <a:ahLst/>
                  <a:rect l="textAreaLeft" t="textAreaTop" r="textAreaRight" b="textAreaBottom"/>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gd name="textAreaLeft" fmla="*/ 0 w 1636560"/>
                    <a:gd name="textAreaRight" fmla="*/ 1636920 w 1636560"/>
                    <a:gd name="textAreaTop" fmla="*/ 0 h 5207040"/>
                    <a:gd name="textAreaBottom" fmla="*/ 5207400 h 5207040"/>
                  </a:gdLst>
                  <a:ahLst/>
                  <a:rect l="textAreaLeft" t="textAreaTop" r="textAreaRight" b="textAreaBottom"/>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gd name="textAreaLeft" fmla="*/ 0 w 2094120"/>
                    <a:gd name="textAreaRight" fmla="*/ 2094120 w 2094120"/>
                    <a:gd name="textAreaTop" fmla="*/ 0 h 5207040"/>
                    <a:gd name="textAreaBottom" fmla="*/ 5207400 h 5207040"/>
                  </a:gdLst>
                  <a:ahLst/>
                  <a:rect l="textAreaLeft" t="textAreaTop" r="textAreaRight" b="textAreaBottom"/>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gd name="textAreaLeft" fmla="*/ 0 w 638280"/>
                    <a:gd name="textAreaRight" fmla="*/ 638280 w 638280"/>
                    <a:gd name="textAreaTop" fmla="*/ 0 h 5207040"/>
                    <a:gd name="textAreaBottom" fmla="*/ 5207400 h 5207040"/>
                  </a:gdLst>
                  <a:ahLst/>
                  <a:rect l="textAreaLeft" t="textAreaTop" r="textAreaRight" b="textAreaBottom"/>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gd name="textAreaLeft" fmla="*/ 0 w 1644480"/>
                    <a:gd name="textAreaRight" fmla="*/ 1644840 w 1644480"/>
                    <a:gd name="textAreaTop" fmla="*/ 0 h 5207040"/>
                    <a:gd name="textAreaBottom" fmla="*/ 5207400 h 5207040"/>
                  </a:gdLst>
                  <a:ahLst/>
                  <a:rect l="textAreaLeft" t="textAreaTop" r="textAreaRight" b="textAreaBottom"/>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gd name="textAreaLeft" fmla="*/ 0 w 2106720"/>
                    <a:gd name="textAreaRight" fmla="*/ 2107080 w 2106720"/>
                    <a:gd name="textAreaTop" fmla="*/ 0 h 5207040"/>
                    <a:gd name="textAreaBottom" fmla="*/ 5207400 h 5207040"/>
                  </a:gdLst>
                  <a:ahLst/>
                  <a:rect l="textAreaLeft" t="textAreaTop" r="textAreaRight" b="textAreaBottom"/>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gd name="textAreaLeft" fmla="*/ 0 w 1990800"/>
                  <a:gd name="textAreaRight" fmla="*/ 1991160 w 1990800"/>
                  <a:gd name="textAreaTop" fmla="*/ 0 h 4178160"/>
                  <a:gd name="textAreaBottom" fmla="*/ 4178160 h 4178160"/>
                </a:gdLst>
                <a:ahLst/>
                <a:rect l="textAreaLeft" t="textAreaTop" r="textAreaRight" b="textAreaBottom"/>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gd name="textAreaLeft" fmla="*/ 0 w 1504800"/>
                  <a:gd name="textAreaRight" fmla="*/ 1505160 w 1504800"/>
                  <a:gd name="textAreaTop" fmla="*/ 0 h 2660400"/>
                  <a:gd name="textAreaBottom" fmla="*/ 2660760 h 2660400"/>
                </a:gdLst>
                <a:ahLst/>
                <a:rect l="textAreaLeft" t="textAreaTop" r="textAreaRight" b="textAreaBottom"/>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gd name="textAreaLeft" fmla="*/ 0 w 998640"/>
                  <a:gd name="textAreaRight" fmla="*/ 999000 w 998640"/>
                  <a:gd name="textAreaTop" fmla="*/ 0 h 1487520"/>
                  <a:gd name="textAreaBottom" fmla="*/ 1487880 h 1487520"/>
                </a:gdLst>
                <a:ahLst/>
                <a:rect l="textAreaLeft" t="textAreaTop" r="textAreaRight" b="textAreaBottom"/>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gd name="textAreaLeft" fmla="*/ 0 w 484200"/>
                  <a:gd name="textAreaRight" fmla="*/ 484560 w 484200"/>
                  <a:gd name="textAreaTop" fmla="*/ 0 h 677880"/>
                  <a:gd name="textAreaBottom" fmla="*/ 677880 h 677880"/>
                </a:gdLst>
                <a:ahLst/>
                <a:rect l="textAreaLeft" t="textAreaTop" r="textAreaRight" b="textAreaBottom"/>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gd name="textAreaLeft" fmla="*/ 0 w 2027160"/>
                  <a:gd name="textAreaRight" fmla="*/ 2027520 w 2027160"/>
                  <a:gd name="textAreaTop" fmla="*/ 0 h 4263840"/>
                  <a:gd name="textAreaBottom" fmla="*/ 4264200 h 4263840"/>
                </a:gdLst>
                <a:ahLst/>
                <a:rect l="textAreaLeft" t="textAreaTop" r="textAreaRight" b="textAreaBottom"/>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gd name="textAreaLeft" fmla="*/ 0 w 1568520"/>
                  <a:gd name="textAreaRight" fmla="*/ 1568880 w 1568520"/>
                  <a:gd name="textAreaTop" fmla="*/ 0 h 2746440"/>
                  <a:gd name="textAreaBottom" fmla="*/ 2746800 h 2746440"/>
                </a:gdLst>
                <a:ahLst/>
                <a:rect l="textAreaLeft" t="textAreaTop" r="textAreaRight" b="textAreaBottom"/>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gd name="textAreaLeft" fmla="*/ 0 w 1063440"/>
                  <a:gd name="textAreaRight" fmla="*/ 1063800 w 1063440"/>
                  <a:gd name="textAreaTop" fmla="*/ 0 h 1582560"/>
                  <a:gd name="textAreaBottom" fmla="*/ 1582920 h 1582560"/>
                </a:gdLst>
                <a:ahLst/>
                <a:rect l="textAreaLeft" t="textAreaTop" r="textAreaRight" b="textAreaBottom"/>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gd name="textAreaLeft" fmla="*/ 0 w 549360"/>
                  <a:gd name="textAreaRight" fmla="*/ 549720 w 549360"/>
                  <a:gd name="textAreaTop" fmla="*/ 0 h 772920"/>
                  <a:gd name="textAreaBottom" fmla="*/ 773280 h 772920"/>
                </a:gdLst>
                <a:ahLst/>
                <a:rect l="textAreaLeft" t="textAreaTop" r="textAreaRight" b="textAreaBottom"/>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367F-BF4A-4016-8E60-A4BA6A293A9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gd name="textAreaLeft" fmla="*/ 0 w 9140760"/>
                <a:gd name="textAreaRight" fmla="*/ 9141120 w 9140760"/>
                <a:gd name="textAreaTop" fmla="*/ 0 h 1655640"/>
                <a:gd name="textAreaBottom" fmla="*/ 1656000 h 1655640"/>
              </a:gdLst>
              <a:ahLst/>
              <a:rect l="textAreaLeft" t="textAreaTop" r="textAreaRight" b="textAreaBottom"/>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gd name="textAreaLeft" fmla="*/ 0 w 9141120"/>
                  <a:gd name="textAreaRight" fmla="*/ 9141480 w 914112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gd name="textAreaLeft" fmla="*/ 0 w 9140760"/>
                  <a:gd name="textAreaRight" fmla="*/ 9141120 w 9140760"/>
                  <a:gd name="textAreaTop" fmla="*/ 0 h 66600"/>
                  <a:gd name="textAreaBottom" fmla="*/ 66960 h 66600"/>
                </a:gdLst>
                <a:ahLst/>
                <a:rect l="textAreaLeft" t="textAreaTop" r="textAreaRight" b="textAreaBottom"/>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gd name="textAreaLeft" fmla="*/ 0 w 9140760"/>
                  <a:gd name="textAreaRight" fmla="*/ 9141120 w 9140760"/>
                  <a:gd name="textAreaTop" fmla="*/ 0 h 49320"/>
                  <a:gd name="textAreaBottom" fmla="*/ 49680 h 493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gd name="textAreaLeft" fmla="*/ 0 w 66960"/>
                    <a:gd name="textAreaRight" fmla="*/ 67320 w 66960"/>
                    <a:gd name="textAreaTop" fmla="*/ 0 h 1658880"/>
                    <a:gd name="textAreaBottom" fmla="*/ 1659240 h 1658880"/>
                  </a:gdLst>
                  <a:ahLst/>
                  <a:rect l="textAreaLeft" t="textAreaTop" r="textAreaRight" b="textAreaBottom"/>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gd name="textAreaLeft" fmla="*/ 0 w 560160"/>
                    <a:gd name="textAreaRight" fmla="*/ 560160 w 560160"/>
                    <a:gd name="textAreaTop" fmla="*/ 0 h 1658880"/>
                    <a:gd name="textAreaBottom" fmla="*/ 1659240 h 1658880"/>
                  </a:gdLst>
                  <a:ahLst/>
                  <a:rect l="textAreaLeft" t="textAreaTop" r="textAreaRight" b="textAreaBottom"/>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gd name="textAreaLeft" fmla="*/ 0 w 714240"/>
                    <a:gd name="textAreaRight" fmla="*/ 714240 w 714240"/>
                    <a:gd name="textAreaTop" fmla="*/ 0 h 1658880"/>
                    <a:gd name="textAreaBottom" fmla="*/ 1659240 h 1658880"/>
                  </a:gdLst>
                  <a:ahLst/>
                  <a:rect l="textAreaLeft" t="textAreaTop" r="textAreaRight" b="textAreaBottom"/>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gd name="textAreaLeft" fmla="*/ 0 w 857160"/>
                    <a:gd name="textAreaRight" fmla="*/ 857520 w 857160"/>
                    <a:gd name="textAreaTop" fmla="*/ 0 h 1658880"/>
                    <a:gd name="textAreaBottom" fmla="*/ 1659240 h 1658880"/>
                  </a:gdLst>
                  <a:ahLst/>
                  <a:rect l="textAreaLeft" t="textAreaTop" r="textAreaRight" b="textAreaBottom"/>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gd name="textAreaLeft" fmla="*/ 0 w 1000080"/>
                    <a:gd name="textAreaRight" fmla="*/ 1000440 w 1000080"/>
                    <a:gd name="textAreaTop" fmla="*/ 0 h 1487520"/>
                    <a:gd name="textAreaBottom" fmla="*/ 1487880 h 1487520"/>
                  </a:gdLst>
                  <a:ahLst/>
                  <a:rect l="textAreaLeft" t="textAreaTop" r="textAreaRight" b="textAreaBottom"/>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gd name="textAreaLeft" fmla="*/ 0 w 569880"/>
                    <a:gd name="textAreaRight" fmla="*/ 570240 w 569880"/>
                    <a:gd name="textAreaTop" fmla="*/ 0 h 1658880"/>
                    <a:gd name="textAreaBottom" fmla="*/ 1659240 h 1658880"/>
                  </a:gdLst>
                  <a:ahLst/>
                  <a:rect l="textAreaLeft" t="textAreaTop" r="textAreaRight" b="textAreaBottom"/>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gd name="textAreaLeft" fmla="*/ 0 w 712800"/>
                    <a:gd name="textAreaRight" fmla="*/ 713160 w 712800"/>
                    <a:gd name="textAreaTop" fmla="*/ 0 h 1658880"/>
                    <a:gd name="textAreaBottom" fmla="*/ 1659240 h 1658880"/>
                  </a:gdLst>
                  <a:ahLst/>
                  <a:rect l="textAreaLeft" t="textAreaTop" r="textAreaRight" b="textAreaBottom"/>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gd name="textAreaLeft" fmla="*/ 0 w 858600"/>
                    <a:gd name="textAreaRight" fmla="*/ 858960 w 858600"/>
                    <a:gd name="textAreaTop" fmla="*/ 0 h 1658880"/>
                    <a:gd name="textAreaBottom" fmla="*/ 1659240 h 1658880"/>
                  </a:gdLst>
                  <a:ahLst/>
                  <a:rect l="textAreaLeft" t="textAreaTop" r="textAreaRight" b="textAreaBottom"/>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gd name="textAreaLeft" fmla="*/ 0 w 1066680"/>
                    <a:gd name="textAreaRight" fmla="*/ 1067040 w 1066680"/>
                    <a:gd name="textAreaTop" fmla="*/ 0 h 1582560"/>
                    <a:gd name="textAreaBottom" fmla="*/ 1582920 h 1582560"/>
                  </a:gdLst>
                  <a:ahLst/>
                  <a:rect l="textAreaLeft" t="textAreaTop" r="textAreaRight" b="textAreaBottom"/>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gd name="textAreaLeft" fmla="*/ 0 w 485640"/>
                    <a:gd name="textAreaRight" fmla="*/ 486000 w 485640"/>
                    <a:gd name="textAreaTop" fmla="*/ 0 h 677880"/>
                    <a:gd name="textAreaBottom" fmla="*/ 678240 h 677880"/>
                  </a:gdLst>
                  <a:ahLst/>
                  <a:rect l="textAreaLeft" t="textAreaTop" r="textAreaRight" b="textAreaBottom"/>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gd name="textAreaLeft" fmla="*/ 0 w 552240"/>
                    <a:gd name="textAreaRight" fmla="*/ 552240 w 552240"/>
                    <a:gd name="textAreaTop" fmla="*/ 0 h 772920"/>
                    <a:gd name="textAreaBottom" fmla="*/ 773280 h 772920"/>
                  </a:gdLst>
                  <a:ahLst/>
                  <a:rect l="textAreaLeft" t="textAreaTop" r="textAreaRight" b="textAreaBottom"/>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gd name="textAreaLeft" fmla="*/ 0 w 66960"/>
                    <a:gd name="textAreaRight" fmla="*/ 67320 w 66960"/>
                    <a:gd name="textAreaTop" fmla="*/ 0 h 5207040"/>
                    <a:gd name="textAreaBottom" fmla="*/ 5207400 h 5207040"/>
                  </a:gdLst>
                  <a:ahLst/>
                  <a:rect l="textAreaLeft" t="textAreaTop" r="textAreaRight" b="textAreaBottom"/>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gd name="textAreaLeft" fmla="*/ 0 w 636480"/>
                    <a:gd name="textAreaRight" fmla="*/ 636840 w 636480"/>
                    <a:gd name="textAreaTop" fmla="*/ 0 h 5207040"/>
                    <a:gd name="textAreaBottom" fmla="*/ 5207400 h 5207040"/>
                  </a:gdLst>
                  <a:ahLst/>
                  <a:rect l="textAreaLeft" t="textAreaTop" r="textAreaRight" b="textAreaBottom"/>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gd name="textAreaLeft" fmla="*/ 0 w 1636560"/>
                    <a:gd name="textAreaRight" fmla="*/ 1636920 w 1636560"/>
                    <a:gd name="textAreaTop" fmla="*/ 0 h 5207040"/>
                    <a:gd name="textAreaBottom" fmla="*/ 5207400 h 5207040"/>
                  </a:gdLst>
                  <a:ahLst/>
                  <a:rect l="textAreaLeft" t="textAreaTop" r="textAreaRight" b="textAreaBottom"/>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gd name="textAreaLeft" fmla="*/ 0 w 2094120"/>
                    <a:gd name="textAreaRight" fmla="*/ 2094120 w 2094120"/>
                    <a:gd name="textAreaTop" fmla="*/ 0 h 5207040"/>
                    <a:gd name="textAreaBottom" fmla="*/ 5207400 h 5207040"/>
                  </a:gdLst>
                  <a:ahLst/>
                  <a:rect l="textAreaLeft" t="textAreaTop" r="textAreaRight" b="textAreaBottom"/>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gd name="textAreaLeft" fmla="*/ 0 w 638280"/>
                    <a:gd name="textAreaRight" fmla="*/ 638280 w 638280"/>
                    <a:gd name="textAreaTop" fmla="*/ 0 h 5207040"/>
                    <a:gd name="textAreaBottom" fmla="*/ 5207400 h 5207040"/>
                  </a:gdLst>
                  <a:ahLst/>
                  <a:rect l="textAreaLeft" t="textAreaTop" r="textAreaRight" b="textAreaBottom"/>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gd name="textAreaLeft" fmla="*/ 0 w 1644480"/>
                    <a:gd name="textAreaRight" fmla="*/ 1644840 w 1644480"/>
                    <a:gd name="textAreaTop" fmla="*/ 0 h 5207040"/>
                    <a:gd name="textAreaBottom" fmla="*/ 5207400 h 5207040"/>
                  </a:gdLst>
                  <a:ahLst/>
                  <a:rect l="textAreaLeft" t="textAreaTop" r="textAreaRight" b="textAreaBottom"/>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gd name="textAreaLeft" fmla="*/ 0 w 2106720"/>
                    <a:gd name="textAreaRight" fmla="*/ 2107080 w 2106720"/>
                    <a:gd name="textAreaTop" fmla="*/ 0 h 5207040"/>
                    <a:gd name="textAreaBottom" fmla="*/ 5207400 h 5207040"/>
                  </a:gdLst>
                  <a:ahLst/>
                  <a:rect l="textAreaLeft" t="textAreaTop" r="textAreaRight" b="textAreaBottom"/>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gd name="textAreaLeft" fmla="*/ 0 w 1990800"/>
                  <a:gd name="textAreaRight" fmla="*/ 1991160 w 1990800"/>
                  <a:gd name="textAreaTop" fmla="*/ 0 h 4178160"/>
                  <a:gd name="textAreaBottom" fmla="*/ 4178160 h 4178160"/>
                </a:gdLst>
                <a:ahLst/>
                <a:rect l="textAreaLeft" t="textAreaTop" r="textAreaRight" b="textAreaBottom"/>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gd name="textAreaLeft" fmla="*/ 0 w 1504800"/>
                  <a:gd name="textAreaRight" fmla="*/ 1505160 w 1504800"/>
                  <a:gd name="textAreaTop" fmla="*/ 0 h 2660400"/>
                  <a:gd name="textAreaBottom" fmla="*/ 2660760 h 2660400"/>
                </a:gdLst>
                <a:ahLst/>
                <a:rect l="textAreaLeft" t="textAreaTop" r="textAreaRight" b="textAreaBottom"/>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gd name="textAreaLeft" fmla="*/ 0 w 998640"/>
                  <a:gd name="textAreaRight" fmla="*/ 999000 w 998640"/>
                  <a:gd name="textAreaTop" fmla="*/ 0 h 1487520"/>
                  <a:gd name="textAreaBottom" fmla="*/ 1487880 h 1487520"/>
                </a:gdLst>
                <a:ahLst/>
                <a:rect l="textAreaLeft" t="textAreaTop" r="textAreaRight" b="textAreaBottom"/>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gd name="textAreaLeft" fmla="*/ 0 w 484200"/>
                  <a:gd name="textAreaRight" fmla="*/ 484560 w 484200"/>
                  <a:gd name="textAreaTop" fmla="*/ 0 h 677880"/>
                  <a:gd name="textAreaBottom" fmla="*/ 677880 h 677880"/>
                </a:gdLst>
                <a:ahLst/>
                <a:rect l="textAreaLeft" t="textAreaTop" r="textAreaRight" b="textAreaBottom"/>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gd name="textAreaLeft" fmla="*/ 0 w 2027160"/>
                  <a:gd name="textAreaRight" fmla="*/ 2027520 w 2027160"/>
                  <a:gd name="textAreaTop" fmla="*/ 0 h 4263840"/>
                  <a:gd name="textAreaBottom" fmla="*/ 4264200 h 4263840"/>
                </a:gdLst>
                <a:ahLst/>
                <a:rect l="textAreaLeft" t="textAreaTop" r="textAreaRight" b="textAreaBottom"/>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gd name="textAreaLeft" fmla="*/ 0 w 1568520"/>
                  <a:gd name="textAreaRight" fmla="*/ 1568880 w 1568520"/>
                  <a:gd name="textAreaTop" fmla="*/ 0 h 2746440"/>
                  <a:gd name="textAreaBottom" fmla="*/ 2746800 h 2746440"/>
                </a:gdLst>
                <a:ahLst/>
                <a:rect l="textAreaLeft" t="textAreaTop" r="textAreaRight" b="textAreaBottom"/>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gd name="textAreaLeft" fmla="*/ 0 w 1063440"/>
                  <a:gd name="textAreaRight" fmla="*/ 1063800 w 1063440"/>
                  <a:gd name="textAreaTop" fmla="*/ 0 h 1582560"/>
                  <a:gd name="textAreaBottom" fmla="*/ 1582920 h 1582560"/>
                </a:gdLst>
                <a:ahLst/>
                <a:rect l="textAreaLeft" t="textAreaTop" r="textAreaRight" b="textAreaBottom"/>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gd name="textAreaLeft" fmla="*/ 0 w 549360"/>
                  <a:gd name="textAreaRight" fmla="*/ 549720 w 549360"/>
                  <a:gd name="textAreaTop" fmla="*/ 0 h 772920"/>
                  <a:gd name="textAreaBottom" fmla="*/ 773280 h 772920"/>
                </a:gdLst>
                <a:ahLst/>
                <a:rect l="textAreaLeft" t="textAreaTop" r="textAreaRight" b="textAreaBottom"/>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258B-92ED-4C96-8F52-CF6F4F501480}" type="slidenum">
              <a:rPr b="0" lang="ar-SA"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10920" y="1197000"/>
            <a:ext cx="822636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rPr>
              <a:t>الفصل الأول: حقيقة الزكاة وحكمها </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سوف يتم التركيز في هذا الفصل على النقاط التالية:</a:t>
            </a:r>
            <a:br>
              <a:rPr sz="2400"/>
            </a:br>
            <a:r>
              <a:rPr b="1" lang="ar-SA" sz="2400" spc="-1" strike="noStrike">
                <a:solidFill>
                  <a:srgbClr val="eaeaea"/>
                </a:solidFill>
                <a:latin typeface="Arial"/>
              </a:rPr>
              <a:t>1</a:t>
            </a:r>
            <a:r>
              <a:rPr b="1" lang="ar-SA" sz="2400" spc="-1" strike="noStrike">
                <a:solidFill>
                  <a:srgbClr val="eaeaea"/>
                </a:solidFill>
                <a:latin typeface="Arial"/>
              </a:rPr>
              <a:t>- ماهية الزكاة</a:t>
            </a:r>
            <a:endParaRPr b="0" lang="en-US" sz="2400" spc="-1" strike="noStrike">
              <a:solidFill>
                <a:srgbClr val="eaeaea"/>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2</a:t>
            </a:r>
            <a:r>
              <a:rPr b="1" lang="ar-SA" sz="2400" spc="-1" strike="noStrike">
                <a:solidFill>
                  <a:srgbClr val="eaeaea"/>
                </a:solidFill>
                <a:latin typeface="Arial"/>
              </a:rPr>
              <a:t>-أهداف الزكاة</a:t>
            </a:r>
            <a:endParaRPr b="0" lang="en-US" sz="2400" spc="-1" strike="noStrike">
              <a:solidFill>
                <a:srgbClr val="eaeaea"/>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3</a:t>
            </a:r>
            <a:r>
              <a:rPr b="1" lang="ar-SA" sz="2400" spc="-1" strike="noStrike">
                <a:solidFill>
                  <a:srgbClr val="eaeaea"/>
                </a:solidFill>
                <a:latin typeface="Arial"/>
              </a:rPr>
              <a:t>-خصائص الزكاة</a:t>
            </a:r>
            <a:endParaRPr b="0" lang="en-US" sz="2400" spc="-1" strike="noStrike">
              <a:solidFill>
                <a:srgbClr val="eaeaea"/>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4</a:t>
            </a:r>
            <a:r>
              <a:rPr b="1" lang="ar-SA" sz="2400" spc="-1" strike="noStrike">
                <a:solidFill>
                  <a:srgbClr val="eaeaea"/>
                </a:solidFill>
                <a:latin typeface="Arial"/>
              </a:rPr>
              <a:t>-الفرق بين الزكاة والضريبة</a:t>
            </a:r>
            <a:endParaRPr b="0" lang="en-US" sz="2400" spc="-1" strike="noStrike">
              <a:solidFill>
                <a:srgbClr val="eaeaea"/>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5</a:t>
            </a:r>
            <a:r>
              <a:rPr b="1" lang="ar-SA" sz="2400" spc="-1" strike="noStrike">
                <a:solidFill>
                  <a:srgbClr val="eaeaea"/>
                </a:solidFill>
                <a:latin typeface="Arial"/>
              </a:rPr>
              <a:t>-موقف الإسلام من فرض الضرائب بجانب الزكاة.</a:t>
            </a:r>
            <a:endParaRPr b="0" lang="en-US" sz="2400" spc="-1" strike="noStrike">
              <a:solidFill>
                <a:srgbClr val="eaeaea"/>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موقف الإسلام من فرض الضرائب بجانب الزكاة:</a:t>
            </a:r>
            <a:endParaRPr b="0" lang="en-US" sz="4000" spc="-1" strike="noStrike">
              <a:solidFill>
                <a:srgbClr val="ccecff"/>
              </a:solidFill>
              <a:latin typeface="Arial"/>
            </a:endParaRPr>
          </a:p>
        </p:txBody>
      </p:sp>
      <p:sp>
        <p:nvSpPr>
          <p:cNvPr id="23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Arial"/>
              </a:rPr>
              <a:t>إختلف العلماء بشأنها على قولين أحدهما </a:t>
            </a:r>
            <a:endParaRPr b="0" lang="en-US" sz="3200" spc="-1" strike="noStrike">
              <a:solidFill>
                <a:srgbClr val="eaeaea"/>
              </a:solidFill>
              <a:latin typeface="Arial"/>
            </a:endParaRPr>
          </a:p>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Arial"/>
              </a:rPr>
              <a:t>التحريم المطلق والآخر </a:t>
            </a:r>
            <a:endParaRPr b="0" lang="en-US" sz="3200" spc="-1" strike="noStrike">
              <a:solidFill>
                <a:srgbClr val="eaeaea"/>
              </a:solidFill>
              <a:latin typeface="Arial"/>
            </a:endParaRPr>
          </a:p>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Arial"/>
              </a:rPr>
              <a:t>الجواز بشروط</a:t>
            </a:r>
            <a:endParaRPr b="0" lang="en-US" sz="3200" spc="-1" strike="noStrike">
              <a:solidFill>
                <a:srgbClr val="eaeaea"/>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اهية الزكاة</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anchor="t">
            <a:normAutofit fontScale="91000"/>
          </a:bodyPr>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الزكاة هي الركن الثالث من أركان الإسلام يكفر من جحدها ويفسق من تهرب من دفعها</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تؤخذ بالقوة ممن منعها ويقاتل من أبى وتمردعلى دفعها والدليل على وجوبها:</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 من القرآن(وأقيموا الصلاة وآتوا الزكاة)</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من السنة(بني الإسلام على خمس:وذكر منها إيتاء الزكاة)</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والإجماع منعقد على مر العصور على وجوبها بين المسلمين.</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الزكاة لغة: تدل على النماء والزيادة وتطهير وتزكية للنفس والمال.</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سميت زكاة لأنها تزكي المال المخرج منة.</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شرعا : الزكاة حق واجب في مال خاص لطائفه مخصوصة في وقت مخصوص.</a:t>
            </a:r>
            <a:endParaRPr b="0" lang="en-US" sz="2800" spc="-1" strike="noStrike">
              <a:solidFill>
                <a:srgbClr val="eaeaea"/>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هداف الزكا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217" name="PlaceHolder 2"/>
          <p:cNvSpPr>
            <a:spLocks noGrp="1"/>
          </p:cNvSpPr>
          <p:nvPr>
            <p:ph/>
          </p:nvPr>
        </p:nvSpPr>
        <p:spPr>
          <a:xfrm>
            <a:off x="455400" y="1598760"/>
            <a:ext cx="8226360" cy="4497120"/>
          </a:xfrm>
          <a:prstGeom prst="rect">
            <a:avLst/>
          </a:prstGeom>
          <a:noFill/>
          <a:ln w="0">
            <a:noFill/>
          </a:ln>
        </p:spPr>
        <p:txBody>
          <a:bodyPr anchor="t">
            <a:normAutofit fontScale="88000"/>
          </a:bodyPr>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Arial"/>
              </a:rPr>
              <a:t> </a:t>
            </a:r>
            <a:r>
              <a:rPr b="1" lang="ar-SA" sz="1800" spc="-1" strike="noStrike">
                <a:solidFill>
                  <a:srgbClr val="9900ff"/>
                </a:solidFill>
                <a:latin typeface="Arial"/>
              </a:rPr>
              <a:t>أ-أهداف دينية</a:t>
            </a:r>
            <a:r>
              <a:rPr b="1" lang="ar-SA" sz="1800" spc="-1" strike="noStrike">
                <a:solidFill>
                  <a:srgbClr val="eaeaea"/>
                </a:solidFill>
                <a:latin typeface="Arial"/>
              </a:rPr>
              <a:t> : أهم الأهداف أن الزكاة تتمثل في التطهير والتزكية للنفس والمال </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تدرب الإنسان على البذل والعطاء كما أنها سبب من أسباب إنشراح الصدر</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مؤمن المزكي يتخلى عن غريزة الشح ويحقق معنى العبودية لله .</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   </a:t>
            </a:r>
            <a:r>
              <a:rPr b="1" lang="ar-SA" sz="1800" spc="-1" strike="noStrike">
                <a:solidFill>
                  <a:srgbClr val="9900ff"/>
                </a:solidFill>
                <a:latin typeface="Arial"/>
              </a:rPr>
              <a:t>ب- أهداف إجتماعية</a:t>
            </a:r>
            <a:r>
              <a:rPr b="1" lang="ar-SA" sz="1800" spc="-1" strike="noStrike">
                <a:solidFill>
                  <a:srgbClr val="eaeaea"/>
                </a:solidFill>
                <a:latin typeface="Arial"/>
              </a:rPr>
              <a:t>: تحرر مستحقها من ذل المسألة من أجل المحافظة على كرامة الإنسان</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تحقيق معنى الأخوة الإسلامية </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تجلب الود والمحبة بين أفراد المجتمع الإسلامي</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وفرضت الزكاة من أجل القضاء على الفقر وأضراره.</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  </a:t>
            </a:r>
            <a:r>
              <a:rPr b="1" lang="ar-SA" sz="1800" spc="-1" strike="noStrike">
                <a:solidFill>
                  <a:srgbClr val="9900ff"/>
                </a:solidFill>
                <a:latin typeface="Arial"/>
              </a:rPr>
              <a:t>ج- أهداف إقتصادية</a:t>
            </a:r>
            <a:r>
              <a:rPr b="1" lang="ar-SA" sz="1800" spc="-1" strike="noStrike">
                <a:solidFill>
                  <a:srgbClr val="eaeaea"/>
                </a:solidFill>
                <a:latin typeface="Arial"/>
              </a:rPr>
              <a:t>:  إن أموال الزكاة التي يحصل عليها الفقراء تساعد على زيادة القوة الشرائية لديهم.</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أموال الزكاة تساعد على القضاء على البطالة حيث تيسر العمل للعامل .</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كما أن إنتقال جزء من أموال الأغنياء الى الفقراء يؤدي إلى زيادة منفعتها الحدية.</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ff"/>
                </a:solidFill>
                <a:latin typeface="Arial"/>
              </a:rPr>
              <a:t>د- أهداف سياسية:</a:t>
            </a:r>
            <a:r>
              <a:rPr b="1" lang="ar-SA" sz="1800" spc="-1" strike="noStrike">
                <a:solidFill>
                  <a:srgbClr val="eaeaea"/>
                </a:solidFill>
                <a:latin typeface="Arial"/>
              </a:rPr>
              <a:t> اعطى الإسلام الدولة الإسلامية الحق في جباية الزكاة وصرفها في مصارفها.ومن هذه المصارف(المؤلفة قلوبهم) ويحقق هذا المصرف عدة أهداف منها نشر الدعوة الإسلامية ,ومساندة الدول المضطهده.أيضا مصرف(وفي الرقاب)يحقق إعادة لمجد الإسلام الذي سلبه المستعمرون,وفك أسرى المسلمين الذين يتعرضون للإسترقاق في الحرب,أما مصرف (في سبيل الله)يوفر للدولة الأجهزة والمعدات الحربية.</a:t>
            </a:r>
            <a:endParaRPr b="0" lang="en-US" sz="1800" spc="-1" strike="noStrike">
              <a:solidFill>
                <a:srgbClr val="eaeaea"/>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2599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خصائص الزكاة</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19" name="PlaceHolder 2"/>
          <p:cNvSpPr>
            <a:spLocks noGrp="1"/>
          </p:cNvSpPr>
          <p:nvPr>
            <p:ph/>
          </p:nvPr>
        </p:nvSpPr>
        <p:spPr>
          <a:xfrm>
            <a:off x="539640" y="1197000"/>
            <a:ext cx="8229600" cy="4525920"/>
          </a:xfrm>
          <a:prstGeom prst="rect">
            <a:avLst/>
          </a:prstGeom>
          <a:noFill/>
          <a:ln w="0">
            <a:noFill/>
          </a:ln>
        </p:spPr>
        <p:txBody>
          <a:bodyPr anchor="t">
            <a:normAutofit fontScale="81000"/>
          </a:bodyPr>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Arial"/>
              </a:rPr>
              <a:t>1</a:t>
            </a:r>
            <a:r>
              <a:rPr b="0" lang="ar-SA" sz="1600" spc="-1" strike="noStrike">
                <a:solidFill>
                  <a:srgbClr val="eaeaea"/>
                </a:solidFill>
                <a:latin typeface="Arial"/>
              </a:rPr>
              <a:t>-الزكاة عبادة مالية ثابتة قدرا وإستمرارا.</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Arial"/>
              </a:rPr>
              <a:t>(الزكاة عبادة مالية ولاتجزأ إلا بنية خالصة من مخرجها)</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Arial"/>
              </a:rPr>
              <a:t>2</a:t>
            </a:r>
            <a:r>
              <a:rPr b="0" lang="ar-SA" sz="1600" spc="-1" strike="noStrike">
                <a:solidFill>
                  <a:srgbClr val="eaeaea"/>
                </a:solidFill>
                <a:latin typeface="Arial"/>
              </a:rPr>
              <a:t>-الزكاة تجبى وتصرف تحت إشراف الدولة.</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Arial"/>
              </a:rPr>
              <a:t>3</a:t>
            </a:r>
            <a:r>
              <a:rPr b="0" lang="ar-SA" sz="1600" spc="-1" strike="noStrike">
                <a:solidFill>
                  <a:srgbClr val="eaeaea"/>
                </a:solidFill>
                <a:latin typeface="Arial"/>
              </a:rPr>
              <a:t>-الزكاة إجبارية.</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Arial"/>
              </a:rPr>
              <a:t>(الزكاة واجبة على من تجب عليه الزكاة وتوفرت فيه الشروط)</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Arial"/>
              </a:rPr>
              <a:t>4</a:t>
            </a:r>
            <a:r>
              <a:rPr b="0" lang="ar-SA" sz="1600" spc="-1" strike="noStrike">
                <a:solidFill>
                  <a:srgbClr val="eaeaea"/>
                </a:solidFill>
                <a:latin typeface="Arial"/>
              </a:rPr>
              <a:t>-الزكاة ليس لها مقابل خاص.</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Arial"/>
              </a:rPr>
              <a:t>(الزكاة تقوم على الاساس النظري –النظرية العامة للتكليف- النظرية الإستخلافية- نظرية التكافل الإجتماعي- نظرية الإخاء)</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Arial"/>
              </a:rPr>
              <a:t>5</a:t>
            </a:r>
            <a:r>
              <a:rPr b="0" lang="ar-SA" sz="1600" spc="-1" strike="noStrike">
                <a:solidFill>
                  <a:srgbClr val="eaeaea"/>
                </a:solidFill>
                <a:latin typeface="Arial"/>
              </a:rPr>
              <a:t>- الزكاة نوعية مباشرة.</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Arial"/>
              </a:rPr>
              <a:t>(الزكاة متعددة لأن الشريعة الإسلامية تفرض زكاة مستقلة على كل نوع من أنواع الأموال والدخول المختلفة.كما أنها تخرج بصورة مباشرة لمستحقيها).</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أموال التي تجب فيها الزكاة :</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بهيمة الأنعام(الإبل-البقر –الغنم)</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نقدين,هما الذهب والفضة وما يقوم مقامهما من أنواع العمل المختلفة</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عروض التجارة (وهي كل ماأعد للبيع والشراء لأجل الربح المدار منها والمحتكر)</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زروع والثمار (وهو الناتج من إستغلال الأراضي الزراعية)</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ركاز وهو كل ما يستخرج من الأرض من معادن وكنوز سواء كان مخلوقا في باطن الأرض مما له قيمة كالمناجم والبترول أوكان مدفونا فيها بفعل البشر.</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مستغلات (وهي الأموال الثابتة التي تقتنى بغرض استغلالها وليس بغرض اعادة بيعها كالمصانع والسفن.</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أوراق المالية كالأسهم والسندات </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كسب العمل كالمرتبات والأجور والمكافآت وأرباح المهن الحرة.</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ثروة البحريةكالأسماك والؤلؤ.</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مال المستفاد الذي إستفاده الشخص بسبب مستقل كالارث أوالهبة</a:t>
            </a:r>
            <a:r>
              <a:rPr b="0" lang="ar-SA" sz="1600" spc="-1" strike="noStrike">
                <a:solidFill>
                  <a:srgbClr val="ccecff"/>
                </a:solidFill>
                <a:latin typeface="Arial"/>
              </a:rPr>
              <a:t> .</a:t>
            </a:r>
            <a:endParaRPr b="0" lang="en-US" sz="1600" spc="-1" strike="noStrike">
              <a:solidFill>
                <a:srgbClr val="eaeaea"/>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4"/>
          <p:cNvSpPr/>
          <p:nvPr/>
        </p:nvSpPr>
        <p:spPr>
          <a:xfrm>
            <a:off x="-816840" y="404640"/>
            <a:ext cx="10758960" cy="5806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Arial"/>
                <a:cs typeface="Times New Roman"/>
              </a:rPr>
              <a:t>وهذه الأموال التي تجب فيها الزكاة يمكن تقسيمها إلى نوعين من الزكوات المباشرة بحسب طبيعة المادة الخاضعة لها ومدى تجددها</a:t>
            </a:r>
            <a:endParaRPr b="0" lang="en-US" sz="1600" spc="-1" strike="noStrike">
              <a:solidFill>
                <a:srgbClr val="eaeaea"/>
              </a:solidFill>
              <a:latin typeface="Arial"/>
            </a:endParaRPr>
          </a:p>
          <a:p>
            <a:pPr>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graphicFrame>
        <p:nvGraphicFramePr>
          <p:cNvPr id="221" name=""/>
          <p:cNvGraphicFramePr/>
          <p:nvPr/>
        </p:nvGraphicFramePr>
        <p:xfrm>
          <a:off x="3132000" y="981000"/>
          <a:ext cx="5416560" cy="1874880"/>
        </p:xfrm>
        <a:graphic>
          <a:graphicData uri="http://schemas.openxmlformats.org/drawingml/2006/table">
            <a:tbl>
              <a:tblPr/>
              <a:tblGrid>
                <a:gridCol w="2735280"/>
                <a:gridCol w="2681280"/>
              </a:tblGrid>
              <a:tr h="33732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زكاة رأس المال</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cs typeface="Times New Roman"/>
                        </a:rPr>
                        <a:t>زكاة الدخل</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وهي التي تفرض على الأموال عند تملكها وتكوين ثروة منها ,فوعاء الزكاة رأس المال والدخل معا (رأس المال العامل ونمائه)عند حولان الحول </a:t>
                      </a:r>
                      <a:endParaRPr b="0" lang="en-US" sz="1400" spc="-1" strike="noStrike">
                        <a:solidFill>
                          <a:srgbClr val="eaeaea"/>
                        </a:solidFill>
                        <a:latin typeface="Arial"/>
                      </a:endParaRPr>
                    </a:p>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مثال(عروض التجارة,الاثمان)</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وهي التي تفرض على الأموال عند إكتسابها ,أي عند دخول الأموال في ذمة المكلف ,فوعاء زكاة الدخل فقط وليس رأس المال الثابت</a:t>
                      </a:r>
                      <a:endParaRPr b="0" lang="en-US" sz="1400" spc="-1" strike="noStrike">
                        <a:solidFill>
                          <a:srgbClr val="eaeaea"/>
                        </a:solidFill>
                        <a:latin typeface="Arial"/>
                      </a:endParaRPr>
                    </a:p>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مثال(دخل الإستغلال الزراعي "زكاة الزروع والثمار")</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Rectangle 31"/>
          <p:cNvSpPr/>
          <p:nvPr/>
        </p:nvSpPr>
        <p:spPr>
          <a:xfrm>
            <a:off x="900000" y="2959560"/>
            <a:ext cx="8048880" cy="2225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Arial"/>
                <a:ea typeface="Times New Roman"/>
              </a:rPr>
              <a:t>*الزكاة لم توجب إلا في الاموال النامية حقيقة أوتقديرا لتؤخذ الزكاة من الزيادة والفضل ويبقى الاصل سالما فهي لاتجب في رأس المال الثابت وإنما في غلتها ونمائها.</a:t>
            </a:r>
            <a:endParaRPr b="0" lang="en-US" sz="1400" spc="-1" strike="noStrike">
              <a:solidFill>
                <a:srgbClr val="eaeaea"/>
              </a:solidFill>
              <a:latin typeface="Arial"/>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Arial"/>
                <a:ea typeface="Times New Roman"/>
              </a:rPr>
              <a:t>6</a:t>
            </a:r>
            <a:r>
              <a:rPr b="1" lang="ar-SA" sz="1400" spc="-1" strike="noStrike">
                <a:solidFill>
                  <a:srgbClr val="eaeaea"/>
                </a:solidFill>
                <a:latin typeface="Arial"/>
                <a:ea typeface="Times New Roman"/>
              </a:rPr>
              <a:t>- الزكاة سعرها نسبي:</a:t>
            </a:r>
            <a:endParaRPr b="0" lang="en-US" sz="1400" spc="-1" strike="noStrike">
              <a:solidFill>
                <a:srgbClr val="eaeaea"/>
              </a:solidFill>
              <a:latin typeface="Arial"/>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Arial"/>
                <a:cs typeface="Times New Roman"/>
              </a:rPr>
              <a:t>الزكاة سعرها نسبي وليس تصاعدي أي أن نسبة الزكاة المستحقة تظل ثابتة إلى قيمة الوعاء الزكوي مهما تغيرت قيمة المادة الخاضعة للزكاة </a:t>
            </a:r>
            <a:endParaRPr b="0" lang="en-US" sz="1400" spc="-1" strike="noStrike">
              <a:solidFill>
                <a:srgbClr val="eaeaea"/>
              </a:solidFill>
              <a:latin typeface="Arial"/>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Arial"/>
                <a:ea typeface="Times New Roman"/>
              </a:rPr>
              <a:t>7</a:t>
            </a:r>
            <a:r>
              <a:rPr b="1" lang="ar-SA" sz="1400" spc="-1" strike="noStrike">
                <a:solidFill>
                  <a:srgbClr val="eaeaea"/>
                </a:solidFill>
                <a:latin typeface="Arial"/>
                <a:ea typeface="Times New Roman"/>
              </a:rPr>
              <a:t>- الزكاة تجب في عين المال ولها تعلق في الذمة:</a:t>
            </a:r>
            <a:endParaRPr b="0" lang="en-US" sz="1400" spc="-1" strike="noStrike">
              <a:solidFill>
                <a:srgbClr val="eaeaea"/>
              </a:solidFill>
              <a:latin typeface="Arial"/>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Arial"/>
                <a:ea typeface="Times New Roman"/>
              </a:rPr>
              <a:t>8</a:t>
            </a:r>
            <a:r>
              <a:rPr b="1" lang="ar-SA" sz="1400" spc="-1" strike="noStrike">
                <a:solidFill>
                  <a:srgbClr val="eaeaea"/>
                </a:solidFill>
                <a:latin typeface="Arial"/>
                <a:ea typeface="Times New Roman"/>
              </a:rPr>
              <a:t>- الزكاة مصارفها محددة: </a:t>
            </a:r>
            <a:endParaRPr b="0" lang="en-US" sz="1400" spc="-1" strike="noStrike">
              <a:solidFill>
                <a:srgbClr val="eaeaea"/>
              </a:solidFill>
              <a:latin typeface="Arial"/>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Arial"/>
                <a:ea typeface="Times New Roman"/>
              </a:rPr>
              <a:t>9</a:t>
            </a:r>
            <a:r>
              <a:rPr b="1" lang="ar-SA" sz="1400" spc="-1" strike="noStrike">
                <a:solidFill>
                  <a:srgbClr val="eaeaea"/>
                </a:solidFill>
                <a:latin typeface="Arial"/>
                <a:ea typeface="Times New Roman"/>
              </a:rPr>
              <a:t>- الزكاة إقليمية الأداء:</a:t>
            </a:r>
            <a:endParaRPr b="0" lang="en-US" sz="1400" spc="-1" strike="noStrike">
              <a:solidFill>
                <a:srgbClr val="eaeaea"/>
              </a:solidFill>
              <a:latin typeface="Arial"/>
            </a:endParaRPr>
          </a:p>
          <a:p>
            <a:pPr>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2386080" y="1219320"/>
            <a:ext cx="11530080" cy="3111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Arial"/>
              </a:rPr>
              <a:t>10</a:t>
            </a:r>
            <a:r>
              <a:rPr b="0" lang="ar-SA" sz="1800" spc="-1" strike="noStrike">
                <a:solidFill>
                  <a:srgbClr val="eaeaea"/>
                </a:solidFill>
                <a:latin typeface="Arial"/>
              </a:rPr>
              <a:t>-الزكاة فريضة شخصية</a:t>
            </a:r>
            <a:endParaRPr b="0" lang="en-US" sz="1800" spc="-1" strike="noStrike">
              <a:solidFill>
                <a:srgbClr val="eaeaea"/>
              </a:solidFill>
              <a:latin typeface="Arial"/>
            </a:endParaRPr>
          </a:p>
          <a:p>
            <a:pPr algn="r" rtl="1">
              <a:tabLst>
                <a:tab algn="l" pos="0"/>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Arial"/>
              </a:rPr>
              <a:t>(الزكاة شخصية ومحل النظر وعاء الزكاة والمركز المالي للمكلف وحالته الأجتماعية والمدنية ونفقات المعيشة للمكلف واعباءة</a:t>
            </a:r>
            <a:endParaRPr b="0" lang="en-US" sz="1800" spc="-1" strike="noStrike">
              <a:solidFill>
                <a:srgbClr val="eaeaea"/>
              </a:solidFill>
              <a:latin typeface="Arial"/>
            </a:endParaRPr>
          </a:p>
          <a:p>
            <a:pPr algn="r" rtl="1">
              <a:tabLst>
                <a:tab algn="l" pos="0"/>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Arial"/>
              </a:rPr>
              <a:t> العائلية واعباء الديون)ومن ذلك:</a:t>
            </a:r>
            <a:endParaRPr b="0" lang="en-US" sz="1800" spc="-1" strike="noStrike">
              <a:solidFill>
                <a:srgbClr val="eaeaea"/>
              </a:solidFill>
              <a:latin typeface="Arial"/>
            </a:endParaRPr>
          </a:p>
          <a:p>
            <a:pPr algn="r" rtl="1">
              <a:tabLst>
                <a:tab algn="l" pos="0"/>
                <a:tab algn="l" pos="457200"/>
                <a:tab algn="l" pos="10047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lvl="1" marL="457200" algn="r" rtl="1">
              <a:lnSpc>
                <a:spcPct val="100000"/>
              </a:lnSpc>
              <a:buClr>
                <a:srgbClr val="65b2ff"/>
              </a:buClr>
              <a:buFont typeface="Arial"/>
              <a:buChar char="•"/>
              <a:tabLst>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5b2ff"/>
                </a:solidFill>
                <a:latin typeface="Arial"/>
                <a:cs typeface="Arial"/>
              </a:rPr>
              <a:t>إعفاء مادون النصاب من وجوب الزكاة.</a:t>
            </a:r>
            <a:endParaRPr b="0" lang="en-US" sz="1800" spc="-1" strike="noStrike">
              <a:solidFill>
                <a:srgbClr val="eaeaea"/>
              </a:solidFill>
              <a:latin typeface="Arial"/>
            </a:endParaRPr>
          </a:p>
          <a:p>
            <a:pPr lvl="1" marL="457200" algn="r" rtl="1">
              <a:lnSpc>
                <a:spcPct val="100000"/>
              </a:lnSpc>
              <a:buClr>
                <a:srgbClr val="65b2ff"/>
              </a:buClr>
              <a:buFont typeface="Arial"/>
              <a:buChar char="•"/>
              <a:tabLst>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5b2ff"/>
                </a:solidFill>
                <a:latin typeface="Arial"/>
                <a:cs typeface="Arial"/>
              </a:rPr>
              <a:t>إعفاء الأموال التي ترتبط بها ضرورات الإنسان وحاجاتة.</a:t>
            </a:r>
            <a:endParaRPr b="0" lang="en-US" sz="1800" spc="-1" strike="noStrike">
              <a:solidFill>
                <a:srgbClr val="eaeaea"/>
              </a:solidFill>
              <a:latin typeface="Arial"/>
            </a:endParaRPr>
          </a:p>
          <a:p>
            <a:pPr lvl="1" marL="457200" algn="r" rtl="1">
              <a:lnSpc>
                <a:spcPct val="100000"/>
              </a:lnSpc>
              <a:buClr>
                <a:srgbClr val="65b2ff"/>
              </a:buClr>
              <a:buFont typeface="Arial"/>
              <a:buChar char="•"/>
              <a:tabLst>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5b2ff"/>
                </a:solidFill>
                <a:latin typeface="Arial"/>
                <a:cs typeface="Arial"/>
              </a:rPr>
              <a:t>إعفاء الديون التي لدى الغير والتي لاقدرة لصاحبها من التصرف فيها وتنميتها.</a:t>
            </a:r>
            <a:endParaRPr b="0" lang="en-US" sz="1800" spc="-1" strike="noStrike">
              <a:solidFill>
                <a:srgbClr val="eaeaea"/>
              </a:solidFill>
              <a:latin typeface="Arial"/>
            </a:endParaRPr>
          </a:p>
          <a:p>
            <a:pPr lvl="1" marL="457200" algn="r" rtl="1">
              <a:lnSpc>
                <a:spcPct val="100000"/>
              </a:lnSpc>
              <a:buClr>
                <a:srgbClr val="65b2ff"/>
              </a:buClr>
              <a:buFont typeface="Arial"/>
              <a:buChar char="•"/>
              <a:tabLst>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5b2ff"/>
                </a:solidFill>
                <a:latin typeface="Arial"/>
                <a:cs typeface="Arial"/>
              </a:rPr>
              <a:t>إعفاء المال الذي هو وصية لميت ولو بلغ نصابا .</a:t>
            </a:r>
            <a:endParaRPr b="0" lang="en-US" sz="1800" spc="-1" strike="noStrike">
              <a:solidFill>
                <a:srgbClr val="eaeaea"/>
              </a:solidFill>
              <a:latin typeface="Arial"/>
            </a:endParaRPr>
          </a:p>
          <a:p>
            <a:pPr lvl="1" marL="457200" algn="r" rtl="1">
              <a:lnSpc>
                <a:spcPct val="100000"/>
              </a:lnSpc>
              <a:buClr>
                <a:srgbClr val="65b2ff"/>
              </a:buClr>
              <a:buFont typeface="Arial"/>
              <a:buChar char="•"/>
              <a:tabLst>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5b2ff"/>
                </a:solidFill>
                <a:latin typeface="Arial"/>
                <a:cs typeface="Arial"/>
              </a:rPr>
              <a:t>خصم النفقات والتكاليف بالنسبة للاموال الباطنه.</a:t>
            </a:r>
            <a:endParaRPr b="0" lang="en-US" sz="1800" spc="-1" strike="noStrike">
              <a:solidFill>
                <a:srgbClr val="eaeaea"/>
              </a:solidFill>
              <a:latin typeface="Arial"/>
            </a:endParaRPr>
          </a:p>
          <a:p>
            <a:pPr lvl="1" marL="457200" algn="r" rtl="1">
              <a:lnSpc>
                <a:spcPct val="100000"/>
              </a:lnSpc>
              <a:buClr>
                <a:srgbClr val="65b2ff"/>
              </a:buClr>
              <a:buFont typeface="Arial"/>
              <a:buChar char="•"/>
              <a:tabLst>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5b2ff"/>
                </a:solidFill>
                <a:latin typeface="Arial"/>
                <a:cs typeface="Arial"/>
              </a:rPr>
              <a:t>مراعات مصدر الدخل.</a:t>
            </a:r>
            <a:endParaRPr b="0" lang="en-US" sz="1800" spc="-1" strike="noStrike">
              <a:solidFill>
                <a:srgbClr val="eaeaea"/>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فرق بين الزكاة والضريبة:</a:t>
            </a:r>
            <a:endParaRPr b="0" lang="en-US" sz="4400" spc="-1" strike="noStrike">
              <a:solidFill>
                <a:srgbClr val="ccecff"/>
              </a:solidFill>
              <a:latin typeface="Arial"/>
            </a:endParaRPr>
          </a:p>
        </p:txBody>
      </p:sp>
      <p:sp>
        <p:nvSpPr>
          <p:cNvPr id="225" name="PlaceHolder 2"/>
          <p:cNvSpPr>
            <a:spLocks noGrp="1"/>
          </p:cNvSpPr>
          <p:nvPr>
            <p:ph/>
          </p:nvPr>
        </p:nvSpPr>
        <p:spPr>
          <a:xfrm>
            <a:off x="455400" y="1598760"/>
            <a:ext cx="8226360" cy="4497120"/>
          </a:xfrm>
          <a:prstGeom prst="rect">
            <a:avLst/>
          </a:prstGeom>
          <a:noFill/>
          <a:ln w="0">
            <a:noFill/>
          </a:ln>
        </p:spPr>
        <p:txBody>
          <a:bodyPr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Arial"/>
              </a:rPr>
              <a:t>أ-من ناحية التعريف:                                        </a:t>
            </a:r>
            <a:r>
              <a:rPr b="0" lang="ar-SA" sz="3200" spc="-1" strike="noStrike">
                <a:solidFill>
                  <a:srgbClr val="9900ff"/>
                </a:solidFill>
                <a:latin typeface="Arial"/>
              </a:rPr>
              <a:t>*الزكاة:</a:t>
            </a:r>
            <a:r>
              <a:rPr b="0" lang="ar-SA" sz="3200" spc="-1" strike="noStrike">
                <a:solidFill>
                  <a:srgbClr val="eaeaea"/>
                </a:solidFill>
                <a:latin typeface="Arial"/>
              </a:rPr>
              <a:t>هي حق واجب في مال مخصوص لطائفة مخصوصة في وقت مخصوص.</a:t>
            </a:r>
            <a:endParaRPr b="0" lang="en-US" sz="3200" spc="-1" strike="noStrike">
              <a:solidFill>
                <a:srgbClr val="eaeaea"/>
              </a:solidFill>
              <a:latin typeface="Arial"/>
            </a:endParaRPr>
          </a:p>
          <a:p>
            <a:pPr lvl="1" marL="9410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ff"/>
                </a:solidFill>
                <a:latin typeface="Arial"/>
              </a:rPr>
              <a:t>*الضريبة:</a:t>
            </a:r>
            <a:r>
              <a:rPr b="0" lang="ar-SA" sz="2800" spc="-1" strike="noStrike">
                <a:solidFill>
                  <a:srgbClr val="eaeaea"/>
                </a:solidFill>
                <a:latin typeface="Arial"/>
              </a:rPr>
              <a:t> هي اقتطاع مالي إجباري غير عقابي تحدده الدولة ويلزم الاشخاص –الطبيعيون والمعنويون –بأدائه للدولة بصفه نهائية وبلا مقابل تمكينا للدولة من القيام بوظائفها الاقتصادية والاجتماعية والسياسية. </a:t>
            </a:r>
            <a:endParaRPr b="0" lang="en-US" sz="2800" spc="-1" strike="noStrike">
              <a:solidFill>
                <a:srgbClr val="eaeaea"/>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1" marL="9410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ب- أوجه التشابه بين الزكاة والضريبة:</a:t>
            </a:r>
            <a:r>
              <a:rPr b="0" lang="en-US"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27" name=""/>
          <p:cNvGraphicFramePr/>
          <p:nvPr/>
        </p:nvGraphicFramePr>
        <p:xfrm>
          <a:off x="455760" y="1598760"/>
          <a:ext cx="8226360" cy="4497120"/>
        </p:xfrm>
        <a:graphic>
          <a:graphicData uri="http://schemas.openxmlformats.org/drawingml/2006/table">
            <a:tbl>
              <a:tblPr/>
              <a:tblGrid>
                <a:gridCol w="3249360"/>
                <a:gridCol w="2949840"/>
                <a:gridCol w="2027160"/>
              </a:tblGrid>
              <a:tr h="5205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cs typeface="Times New Roman"/>
                        </a:rPr>
                        <a:t>الضريبة</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cs typeface="Times New Roman"/>
                        </a:rPr>
                        <a:t>الزكاة</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1</a:t>
                      </a:r>
                      <a:r>
                        <a:rPr b="1" lang="ar-SA" sz="1800" spc="-1" strike="noStrike">
                          <a:solidFill>
                            <a:srgbClr val="eaeaea"/>
                          </a:solidFill>
                          <a:latin typeface="Times New Roman"/>
                          <a:ea typeface="Times New Roman"/>
                        </a:rPr>
                        <a:t>-الجبر والإلزام</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2</a:t>
                      </a:r>
                      <a:r>
                        <a:rPr b="1" lang="ar-SA" sz="1800" spc="-1" strike="noStrike">
                          <a:solidFill>
                            <a:srgbClr val="eaeaea"/>
                          </a:solidFill>
                          <a:latin typeface="Times New Roman"/>
                          <a:ea typeface="Times New Roman"/>
                        </a:rPr>
                        <a:t>-الجهاز الإداري</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3</a:t>
                      </a:r>
                      <a:r>
                        <a:rPr b="1" lang="ar-SA" sz="1800" spc="-1" strike="noStrike">
                          <a:solidFill>
                            <a:srgbClr val="eaeaea"/>
                          </a:solidFill>
                          <a:latin typeface="Times New Roman"/>
                          <a:ea typeface="Times New Roman"/>
                        </a:rPr>
                        <a:t>-إنعدام المقابل</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4</a:t>
                      </a:r>
                      <a:r>
                        <a:rPr b="1" lang="ar-SA" sz="1800" spc="-1" strike="noStrike">
                          <a:solidFill>
                            <a:srgbClr val="eaeaea"/>
                          </a:solidFill>
                          <a:latin typeface="Times New Roman"/>
                          <a:ea typeface="Times New Roman"/>
                        </a:rPr>
                        <a:t>-الأهداف</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5</a:t>
                      </a:r>
                      <a:r>
                        <a:rPr b="1" lang="ar-SA" sz="1800" spc="-1" strike="noStrike">
                          <a:solidFill>
                            <a:srgbClr val="eaeaea"/>
                          </a:solidFill>
                          <a:latin typeface="Times New Roman"/>
                          <a:ea typeface="Times New Roman"/>
                        </a:rPr>
                        <a:t>-الوعاء</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6</a:t>
                      </a:r>
                      <a:r>
                        <a:rPr b="1" lang="ar-SA" sz="1800" spc="-1" strike="noStrike">
                          <a:solidFill>
                            <a:srgbClr val="eaeaea"/>
                          </a:solidFill>
                          <a:latin typeface="Times New Roman"/>
                          <a:ea typeface="Times New Roman"/>
                        </a:rPr>
                        <a:t>-العدالة</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7</a:t>
                      </a:r>
                      <a:r>
                        <a:rPr b="1" lang="ar-SA" sz="1800" spc="-1" strike="noStrike">
                          <a:solidFill>
                            <a:srgbClr val="eaeaea"/>
                          </a:solidFill>
                          <a:latin typeface="Times New Roman"/>
                          <a:ea typeface="Times New Roman"/>
                        </a:rPr>
                        <a:t>-اليقين</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8</a:t>
                      </a:r>
                      <a:r>
                        <a:rPr b="1" lang="ar-SA" sz="1800" spc="-1" strike="noStrike">
                          <a:solidFill>
                            <a:srgbClr val="eaeaea"/>
                          </a:solidFill>
                          <a:latin typeface="Times New Roman"/>
                          <a:ea typeface="Times New Roman"/>
                        </a:rPr>
                        <a:t>-الملاءمة</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9</a:t>
                      </a:r>
                      <a:r>
                        <a:rPr b="1" lang="ar-SA" sz="1800" spc="-1" strike="noStrike">
                          <a:solidFill>
                            <a:srgbClr val="eaeaea"/>
                          </a:solidFill>
                          <a:latin typeface="Times New Roman"/>
                          <a:ea typeface="Times New Roman"/>
                        </a:rPr>
                        <a:t>-الإقتصاد</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10</a:t>
                      </a:r>
                      <a:r>
                        <a:rPr b="1" lang="ar-SA" sz="1800" spc="-1" strike="noStrike">
                          <a:solidFill>
                            <a:srgbClr val="eaeaea"/>
                          </a:solidFill>
                          <a:latin typeface="Times New Roman"/>
                          <a:ea typeface="Times New Roman"/>
                        </a:rPr>
                        <a:t>- النسبية والتصاعدية</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ج- أوجه الإختلاف بين الزكاة والضريبة</a:t>
            </a:r>
            <a:r>
              <a:rPr b="0" lang="en-US"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29" name=""/>
          <p:cNvGraphicFramePr/>
          <p:nvPr/>
        </p:nvGraphicFramePr>
        <p:xfrm>
          <a:off x="179280" y="1628640"/>
          <a:ext cx="8855280" cy="3687840"/>
        </p:xfrm>
        <a:graphic>
          <a:graphicData uri="http://schemas.openxmlformats.org/drawingml/2006/table">
            <a:tbl>
              <a:tblPr/>
              <a:tblGrid>
                <a:gridCol w="3672000"/>
                <a:gridCol w="3097080"/>
                <a:gridCol w="2086200"/>
              </a:tblGrid>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cs typeface="Times New Roman"/>
                        </a:rPr>
                        <a:t>الضريبة</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cs typeface="Times New Roman"/>
                        </a:rPr>
                        <a:t>الزكاة</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1</a:t>
                      </a:r>
                      <a:r>
                        <a:rPr b="1" lang="ar-SA" sz="1600" spc="-1" strike="noStrike">
                          <a:solidFill>
                            <a:srgbClr val="eaeaea"/>
                          </a:solidFill>
                          <a:latin typeface="Times New Roman"/>
                          <a:ea typeface="Times New Roman"/>
                        </a:rPr>
                        <a:t>-التسمية</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2</a:t>
                      </a:r>
                      <a:r>
                        <a:rPr b="1" lang="ar-SA" sz="1600" spc="-1" strike="noStrike">
                          <a:solidFill>
                            <a:srgbClr val="eaeaea"/>
                          </a:solidFill>
                          <a:latin typeface="Times New Roman"/>
                          <a:ea typeface="Times New Roman"/>
                        </a:rPr>
                        <a:t>-العبادة والقربة</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3</a:t>
                      </a:r>
                      <a:r>
                        <a:rPr b="1" lang="ar-SA" sz="1600" spc="-1" strike="noStrike">
                          <a:solidFill>
                            <a:srgbClr val="eaeaea"/>
                          </a:solidFill>
                          <a:latin typeface="Times New Roman"/>
                          <a:ea typeface="Times New Roman"/>
                        </a:rPr>
                        <a:t>-الانصبة والمقادير</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4</a:t>
                      </a:r>
                      <a:r>
                        <a:rPr b="1" lang="ar-SA" sz="1600" spc="-1" strike="noStrike">
                          <a:solidFill>
                            <a:srgbClr val="eaeaea"/>
                          </a:solidFill>
                          <a:latin typeface="Times New Roman"/>
                          <a:ea typeface="Times New Roman"/>
                        </a:rPr>
                        <a:t>-الثبات والدوام</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5</a:t>
                      </a:r>
                      <a:r>
                        <a:rPr b="1" lang="ar-SA" sz="1600" spc="-1" strike="noStrike">
                          <a:solidFill>
                            <a:srgbClr val="eaeaea"/>
                          </a:solidFill>
                          <a:latin typeface="Times New Roman"/>
                          <a:ea typeface="Times New Roman"/>
                        </a:rPr>
                        <a:t>-المصرف</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6</a:t>
                      </a:r>
                      <a:r>
                        <a:rPr b="1" lang="ar-SA" sz="1600" spc="-1" strike="noStrike">
                          <a:solidFill>
                            <a:srgbClr val="eaeaea"/>
                          </a:solidFill>
                          <a:latin typeface="Times New Roman"/>
                          <a:ea typeface="Times New Roman"/>
                        </a:rPr>
                        <a:t>-العلاقة بالسلطة</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7</a:t>
                      </a:r>
                      <a:r>
                        <a:rPr b="1" lang="ar-SA" sz="1600" spc="-1" strike="noStrike">
                          <a:solidFill>
                            <a:srgbClr val="eaeaea"/>
                          </a:solidFill>
                          <a:latin typeface="Times New Roman"/>
                          <a:ea typeface="Times New Roman"/>
                        </a:rPr>
                        <a:t>-الأهداف الروحية الخلقية</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8</a:t>
                      </a:r>
                      <a:r>
                        <a:rPr b="1" lang="ar-SA" sz="1600" spc="-1" strike="noStrike">
                          <a:solidFill>
                            <a:srgbClr val="eaeaea"/>
                          </a:solidFill>
                          <a:latin typeface="Times New Roman"/>
                          <a:ea typeface="Times New Roman"/>
                        </a:rPr>
                        <a:t>-الاساس النظري</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9</a:t>
                      </a:r>
                      <a:r>
                        <a:rPr b="1" lang="ar-SA" sz="1600" spc="-1" strike="noStrike">
                          <a:solidFill>
                            <a:srgbClr val="eaeaea"/>
                          </a:solidFill>
                          <a:latin typeface="Times New Roman"/>
                          <a:ea typeface="Times New Roman"/>
                        </a:rPr>
                        <a:t>-طريقة الدفع</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10</a:t>
                      </a:r>
                      <a:r>
                        <a:rPr b="1" lang="ar-SA" sz="1600" spc="-1" strike="noStrike">
                          <a:solidFill>
                            <a:srgbClr val="eaeaea"/>
                          </a:solidFill>
                          <a:latin typeface="Times New Roman"/>
                          <a:ea typeface="Times New Roman"/>
                        </a:rPr>
                        <a:t>-الضمانات</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0:23:54Z</dcterms:created>
  <dc:creator>User</dc:creator>
  <dc:description/>
  <dc:language>en-US</dc:language>
  <cp:lastModifiedBy>Amal alfawaz</cp:lastModifiedBy>
  <dcterms:modified xsi:type="dcterms:W3CDTF">2015-08-29T17:02:59Z</dcterms:modified>
  <cp:revision>8</cp:revision>
  <dc:subject/>
  <dc:title>الفصل الأول: حقيقة الزكاة وحكمها </dc:title>
</cp:coreProperties>
</file>