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2D97B-6AF9-4CAA-A538-FA99419E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F7FE1-9C8F-4FBF-84EB-06C509C2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9B110-2D16-4DC5-A64E-36BCA6DEF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DBCF0-CD0C-4989-B2D1-CA2A9054F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73028-ACC1-4A59-AA8D-4B0A96DF3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9661C-FA5D-4FB3-B41A-C105471F0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DA8AD-5D25-4497-9D92-70F6BE134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014C4-F306-4F66-B6D5-BDAC2A222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0BCCD-ACAB-4387-B854-057A28CC7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12E18-5C5E-40B5-8F0A-D270F6FFF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ED532-D577-4DF3-BAE1-A119E761A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A5CD-FD31-4E7A-8D56-18140DBB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1BCB-B91A-4058-9FA8-28D199B4F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C8BC9-B4AF-4547-B5BB-62F5C5D6F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0FBE3-D9D3-4E68-8244-C0F3F7EAD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8F971-5712-40B5-9189-0119CB43E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554B3-7BCE-44DB-8443-C66251376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D22F-255B-4866-AE28-A869FBE8B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7965-287F-414F-9C77-BFE5F6D1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AE03-721E-41AA-847D-364EAA6C9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B2EB1-53C0-4ADB-BBB4-D73A6AEA6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F883-DBB7-4AFD-9D75-2749482D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F487A-781F-407E-8282-E8AC4C5D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F924-FCFB-47D7-B3E5-53C8A3298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8298-02D1-443A-9210-7B6D42AA03E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gd name="textAreaLeft" fmla="*/ 0 w 9140760"/>
                <a:gd name="textAreaRight" fmla="*/ 9141120 w 9140760"/>
                <a:gd name="textAreaTop" fmla="*/ 0 h 1655640"/>
                <a:gd name="textAreaBottom" fmla="*/ 1656000 h 1655640"/>
              </a:gdLst>
              <a:ahLst/>
              <a:rect l="textAreaLeft" t="textAreaTop" r="textAreaRight" b="textAreaBottom"/>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gd name="textAreaLeft" fmla="*/ 0 w 9141120"/>
                  <a:gd name="textAreaRight" fmla="*/ 9141480 w 914112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gd name="textAreaLeft" fmla="*/ 0 w 9140760"/>
                  <a:gd name="textAreaRight" fmla="*/ 9141120 w 9140760"/>
                  <a:gd name="textAreaTop" fmla="*/ 0 h 66600"/>
                  <a:gd name="textAreaBottom" fmla="*/ 66960 h 66600"/>
                </a:gdLst>
                <a:ahLst/>
                <a:rect l="textAreaLeft" t="textAreaTop" r="textAreaRight" b="textAreaBottom"/>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gd name="textAreaLeft" fmla="*/ 0 w 9140760"/>
                  <a:gd name="textAreaRight" fmla="*/ 9141120 w 9140760"/>
                  <a:gd name="textAreaTop" fmla="*/ 0 h 49320"/>
                  <a:gd name="textAreaBottom" fmla="*/ 49680 h 49320"/>
                </a:gdLst>
                <a:ahLst/>
                <a:rect l="textAreaLeft" t="textAreaTop" r="textAreaRight" b="textAreaBottom"/>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gd name="textAreaLeft" fmla="*/ 0 w 9140760"/>
                  <a:gd name="textAreaRight" fmla="*/ 9141120 w 9140760"/>
                  <a:gd name="textAreaTop" fmla="*/ 0 h 47880"/>
                  <a:gd name="textAreaBottom" fmla="*/ 48240 h 4788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gd name="textAreaLeft" fmla="*/ 0 w 9140760"/>
                  <a:gd name="textAreaRight" fmla="*/ 9141120 w 9140760"/>
                  <a:gd name="textAreaTop" fmla="*/ 0 h 57240"/>
                  <a:gd name="textAreaBottom" fmla="*/ 57600 h 57240"/>
                </a:gdLst>
                <a:ahLst/>
                <a:rect l="textAreaLeft" t="textAreaTop" r="textAreaRight" b="textAreaBottom"/>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gd name="textAreaLeft" fmla="*/ 0 w 9140760"/>
                  <a:gd name="textAreaRight" fmla="*/ 9141120 w 9140760"/>
                  <a:gd name="textAreaTop" fmla="*/ 0 h 19080"/>
                  <a:gd name="textAreaBottom" fmla="*/ 19440 h 19080"/>
                </a:gdLst>
                <a:ahLst/>
                <a:rect l="textAreaLeft" t="textAreaTop" r="textAreaRight" b="textAreaBottom"/>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gd name="textAreaLeft" fmla="*/ 0 w 9140760"/>
                  <a:gd name="textAreaRight" fmla="*/ 9141120 w 9140760"/>
                  <a:gd name="textAreaTop" fmla="*/ 0 h 47520"/>
                  <a:gd name="textAreaBottom" fmla="*/ 47880 h 47520"/>
                </a:gdLst>
                <a:ahLst/>
                <a:rect l="textAreaLeft" t="textAreaTop" r="textAreaRight" b="textAreaBottom"/>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gd name="textAreaLeft" fmla="*/ 0 w 9140760"/>
                  <a:gd name="textAreaRight" fmla="*/ 9141120 w 9140760"/>
                  <a:gd name="textAreaTop" fmla="*/ 0 h 37800"/>
                  <a:gd name="textAreaBottom" fmla="*/ 38160 h 3780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gd name="textAreaLeft" fmla="*/ 0 w 9140760"/>
                  <a:gd name="textAreaRight" fmla="*/ 9141120 w 9140760"/>
                  <a:gd name="textAreaTop" fmla="*/ 0 h 38160"/>
                  <a:gd name="textAreaBottom" fmla="*/ 38520 h 38160"/>
                </a:gdLst>
                <a:ahLst/>
                <a:rect l="textAreaLeft" t="textAreaTop" r="textAreaRight" b="textAreaBottom"/>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gd name="textAreaLeft" fmla="*/ 0 w 9140760"/>
                  <a:gd name="textAreaRight" fmla="*/ 9141120 w 9140760"/>
                  <a:gd name="textAreaTop" fmla="*/ 0 h 28440"/>
                  <a:gd name="textAreaBottom" fmla="*/ 28800 h 2844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gd name="textAreaLeft" fmla="*/ 0 w 9140760"/>
                  <a:gd name="textAreaRight" fmla="*/ 9141120 w 9140760"/>
                  <a:gd name="textAreaTop" fmla="*/ 0 h 28800"/>
                  <a:gd name="textAreaBottom" fmla="*/ 29160 h 28800"/>
                </a:gdLst>
                <a:ahLst/>
                <a:rect l="textAreaLeft" t="textAreaTop" r="textAreaRight" b="textAreaBottom"/>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gd name="textAreaLeft" fmla="*/ 0 w 66960"/>
                    <a:gd name="textAreaRight" fmla="*/ 67320 w 66960"/>
                    <a:gd name="textAreaTop" fmla="*/ 0 h 1658880"/>
                    <a:gd name="textAreaBottom" fmla="*/ 1659240 h 1658880"/>
                  </a:gdLst>
                  <a:ahLst/>
                  <a:rect l="textAreaLeft" t="textAreaTop" r="textAreaRight" b="textAreaBottom"/>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gd name="textAreaLeft" fmla="*/ 0 w 560160"/>
                    <a:gd name="textAreaRight" fmla="*/ 560160 w 560160"/>
                    <a:gd name="textAreaTop" fmla="*/ 0 h 1658880"/>
                    <a:gd name="textAreaBottom" fmla="*/ 1659240 h 1658880"/>
                  </a:gdLst>
                  <a:ahLst/>
                  <a:rect l="textAreaLeft" t="textAreaTop" r="textAreaRight" b="textAreaBottom"/>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gd name="textAreaLeft" fmla="*/ 0 w 714240"/>
                    <a:gd name="textAreaRight" fmla="*/ 714240 w 714240"/>
                    <a:gd name="textAreaTop" fmla="*/ 0 h 1658880"/>
                    <a:gd name="textAreaBottom" fmla="*/ 1659240 h 1658880"/>
                  </a:gdLst>
                  <a:ahLst/>
                  <a:rect l="textAreaLeft" t="textAreaTop" r="textAreaRight" b="textAreaBottom"/>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gd name="textAreaLeft" fmla="*/ 0 w 857160"/>
                    <a:gd name="textAreaRight" fmla="*/ 857520 w 857160"/>
                    <a:gd name="textAreaTop" fmla="*/ 0 h 1658880"/>
                    <a:gd name="textAreaBottom" fmla="*/ 1659240 h 1658880"/>
                  </a:gdLst>
                  <a:ahLst/>
                  <a:rect l="textAreaLeft" t="textAreaTop" r="textAreaRight" b="textAreaBottom"/>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gd name="textAreaLeft" fmla="*/ 0 w 1000080"/>
                    <a:gd name="textAreaRight" fmla="*/ 1000440 w 1000080"/>
                    <a:gd name="textAreaTop" fmla="*/ 0 h 1487520"/>
                    <a:gd name="textAreaBottom" fmla="*/ 1487880 h 1487520"/>
                  </a:gdLst>
                  <a:ahLst/>
                  <a:rect l="textAreaLeft" t="textAreaTop" r="textAreaRight" b="textAreaBottom"/>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gd name="textAreaLeft" fmla="*/ 0 w 246240"/>
                    <a:gd name="textAreaRight" fmla="*/ 246240 w 246240"/>
                    <a:gd name="textAreaTop" fmla="*/ 0 h 1658880"/>
                    <a:gd name="textAreaBottom" fmla="*/ 1659240 h 1658880"/>
                  </a:gdLst>
                  <a:ahLst/>
                  <a:rect l="textAreaLeft" t="textAreaTop" r="textAreaRight" b="textAreaBottom"/>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gd name="textAreaLeft" fmla="*/ 0 w 380880"/>
                    <a:gd name="textAreaRight" fmla="*/ 381240 w 380880"/>
                    <a:gd name="textAreaTop" fmla="*/ 0 h 1658880"/>
                    <a:gd name="textAreaBottom" fmla="*/ 1659240 h 1658880"/>
                  </a:gdLst>
                  <a:ahLst/>
                  <a:rect l="textAreaLeft" t="textAreaTop" r="textAreaRight" b="textAreaBottom"/>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gd name="textAreaLeft" fmla="*/ 0 w 569880"/>
                    <a:gd name="textAreaRight" fmla="*/ 570240 w 569880"/>
                    <a:gd name="textAreaTop" fmla="*/ 0 h 1658880"/>
                    <a:gd name="textAreaBottom" fmla="*/ 1659240 h 1658880"/>
                  </a:gdLst>
                  <a:ahLst/>
                  <a:rect l="textAreaLeft" t="textAreaTop" r="textAreaRight" b="textAreaBottom"/>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gd name="textAreaLeft" fmla="*/ 0 w 712800"/>
                    <a:gd name="textAreaRight" fmla="*/ 713160 w 712800"/>
                    <a:gd name="textAreaTop" fmla="*/ 0 h 1658880"/>
                    <a:gd name="textAreaBottom" fmla="*/ 1659240 h 1658880"/>
                  </a:gdLst>
                  <a:ahLst/>
                  <a:rect l="textAreaLeft" t="textAreaTop" r="textAreaRight" b="textAreaBottom"/>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gd name="textAreaLeft" fmla="*/ 0 w 858600"/>
                    <a:gd name="textAreaRight" fmla="*/ 858960 w 858600"/>
                    <a:gd name="textAreaTop" fmla="*/ 0 h 1658880"/>
                    <a:gd name="textAreaBottom" fmla="*/ 1659240 h 1658880"/>
                  </a:gdLst>
                  <a:ahLst/>
                  <a:rect l="textAreaLeft" t="textAreaTop" r="textAreaRight" b="textAreaBottom"/>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gd name="textAreaLeft" fmla="*/ 0 w 1019160"/>
                    <a:gd name="textAreaRight" fmla="*/ 1019520 w 1019160"/>
                    <a:gd name="textAreaTop" fmla="*/ 0 h 1658880"/>
                    <a:gd name="textAreaBottom" fmla="*/ 1659240 h 1658880"/>
                  </a:gdLst>
                  <a:ahLst/>
                  <a:rect l="textAreaLeft" t="textAreaTop" r="textAreaRight" b="textAreaBottom"/>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gd name="textAreaLeft" fmla="*/ 0 w 1066680"/>
                    <a:gd name="textAreaRight" fmla="*/ 1067040 w 1066680"/>
                    <a:gd name="textAreaTop" fmla="*/ 0 h 1582560"/>
                    <a:gd name="textAreaBottom" fmla="*/ 1582920 h 1582560"/>
                  </a:gdLst>
                  <a:ahLst/>
                  <a:rect l="textAreaLeft" t="textAreaTop" r="textAreaRight" b="textAreaBottom"/>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gd name="textAreaLeft" fmla="*/ 0 w 485640"/>
                    <a:gd name="textAreaRight" fmla="*/ 486000 w 485640"/>
                    <a:gd name="textAreaTop" fmla="*/ 0 h 677880"/>
                    <a:gd name="textAreaBottom" fmla="*/ 678240 h 677880"/>
                  </a:gdLst>
                  <a:ahLst/>
                  <a:rect l="textAreaLeft" t="textAreaTop" r="textAreaRight" b="textAreaBottom"/>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gd name="textAreaLeft" fmla="*/ 0 w 552240"/>
                    <a:gd name="textAreaRight" fmla="*/ 552240 w 552240"/>
                    <a:gd name="textAreaTop" fmla="*/ 0 h 772920"/>
                    <a:gd name="textAreaBottom" fmla="*/ 773280 h 772920"/>
                  </a:gdLst>
                  <a:ahLst/>
                  <a:rect l="textAreaLeft" t="textAreaTop" r="textAreaRight" b="textAreaBottom"/>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gd name="textAreaLeft" fmla="*/ 0 w 66960"/>
                    <a:gd name="textAreaRight" fmla="*/ 67320 w 66960"/>
                    <a:gd name="textAreaTop" fmla="*/ 0 h 5207040"/>
                    <a:gd name="textAreaBottom" fmla="*/ 5207400 h 5207040"/>
                  </a:gdLst>
                  <a:ahLst/>
                  <a:rect l="textAreaLeft" t="textAreaTop" r="textAreaRight" b="textAreaBottom"/>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gd name="textAreaLeft" fmla="*/ 0 w 636480"/>
                    <a:gd name="textAreaRight" fmla="*/ 636840 w 636480"/>
                    <a:gd name="textAreaTop" fmla="*/ 0 h 5207040"/>
                    <a:gd name="textAreaBottom" fmla="*/ 5207400 h 5207040"/>
                  </a:gdLst>
                  <a:ahLst/>
                  <a:rect l="textAreaLeft" t="textAreaTop" r="textAreaRight" b="textAreaBottom"/>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gd name="textAreaLeft" fmla="*/ 0 w 1636560"/>
                    <a:gd name="textAreaRight" fmla="*/ 1636920 w 1636560"/>
                    <a:gd name="textAreaTop" fmla="*/ 0 h 5207040"/>
                    <a:gd name="textAreaBottom" fmla="*/ 5207400 h 5207040"/>
                  </a:gdLst>
                  <a:ahLst/>
                  <a:rect l="textAreaLeft" t="textAreaTop" r="textAreaRight" b="textAreaBottom"/>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gd name="textAreaLeft" fmla="*/ 0 w 2094120"/>
                    <a:gd name="textAreaRight" fmla="*/ 2094120 w 2094120"/>
                    <a:gd name="textAreaTop" fmla="*/ 0 h 5207040"/>
                    <a:gd name="textAreaBottom" fmla="*/ 5207400 h 5207040"/>
                  </a:gdLst>
                  <a:ahLst/>
                  <a:rect l="textAreaLeft" t="textAreaTop" r="textAreaRight" b="textAreaBottom"/>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gd name="textAreaLeft" fmla="*/ 0 w 638280"/>
                    <a:gd name="textAreaRight" fmla="*/ 638280 w 638280"/>
                    <a:gd name="textAreaTop" fmla="*/ 0 h 5207040"/>
                    <a:gd name="textAreaBottom" fmla="*/ 5207400 h 5207040"/>
                  </a:gdLst>
                  <a:ahLst/>
                  <a:rect l="textAreaLeft" t="textAreaTop" r="textAreaRight" b="textAreaBottom"/>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gd name="textAreaLeft" fmla="*/ 0 w 1074600"/>
                    <a:gd name="textAreaRight" fmla="*/ 1074960 w 1074600"/>
                    <a:gd name="textAreaTop" fmla="*/ 0 h 5207040"/>
                    <a:gd name="textAreaBottom" fmla="*/ 5207400 h 5207040"/>
                  </a:gdLst>
                  <a:ahLst/>
                  <a:rect l="textAreaLeft" t="textAreaTop" r="textAreaRight" b="textAreaBottom"/>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gd name="textAreaLeft" fmla="*/ 0 w 1644480"/>
                    <a:gd name="textAreaRight" fmla="*/ 1644840 w 1644480"/>
                    <a:gd name="textAreaTop" fmla="*/ 0 h 5207040"/>
                    <a:gd name="textAreaBottom" fmla="*/ 5207400 h 5207040"/>
                  </a:gdLst>
                  <a:ahLst/>
                  <a:rect l="textAreaLeft" t="textAreaTop" r="textAreaRight" b="textAreaBottom"/>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gd name="textAreaLeft" fmla="*/ 0 w 2106720"/>
                    <a:gd name="textAreaRight" fmla="*/ 2107080 w 2106720"/>
                    <a:gd name="textAreaTop" fmla="*/ 0 h 5207040"/>
                    <a:gd name="textAreaBottom" fmla="*/ 5207400 h 5207040"/>
                  </a:gdLst>
                  <a:ahLst/>
                  <a:rect l="textAreaLeft" t="textAreaTop" r="textAreaRight" b="textAreaBottom"/>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gd name="textAreaLeft" fmla="*/ 0 w 1990800"/>
                  <a:gd name="textAreaRight" fmla="*/ 1991160 w 1990800"/>
                  <a:gd name="textAreaTop" fmla="*/ 0 h 4178160"/>
                  <a:gd name="textAreaBottom" fmla="*/ 4178160 h 4178160"/>
                </a:gdLst>
                <a:ahLst/>
                <a:rect l="textAreaLeft" t="textAreaTop" r="textAreaRight" b="textAreaBottom"/>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gd name="textAreaLeft" fmla="*/ 0 w 1504800"/>
                  <a:gd name="textAreaRight" fmla="*/ 1505160 w 1504800"/>
                  <a:gd name="textAreaTop" fmla="*/ 0 h 2660400"/>
                  <a:gd name="textAreaBottom" fmla="*/ 2660760 h 2660400"/>
                </a:gdLst>
                <a:ahLst/>
                <a:rect l="textAreaLeft" t="textAreaTop" r="textAreaRight" b="textAreaBottom"/>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gd name="textAreaLeft" fmla="*/ 0 w 998640"/>
                  <a:gd name="textAreaRight" fmla="*/ 999000 w 998640"/>
                  <a:gd name="textAreaTop" fmla="*/ 0 h 1487520"/>
                  <a:gd name="textAreaBottom" fmla="*/ 1487880 h 1487520"/>
                </a:gdLst>
                <a:ahLst/>
                <a:rect l="textAreaLeft" t="textAreaTop" r="textAreaRight" b="textAreaBottom"/>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gd name="textAreaLeft" fmla="*/ 0 w 484200"/>
                  <a:gd name="textAreaRight" fmla="*/ 484560 w 484200"/>
                  <a:gd name="textAreaTop" fmla="*/ 0 h 677880"/>
                  <a:gd name="textAreaBottom" fmla="*/ 677880 h 677880"/>
                </a:gdLst>
                <a:ahLst/>
                <a:rect l="textAreaLeft" t="textAreaTop" r="textAreaRight" b="textAreaBottom"/>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gd name="textAreaLeft" fmla="*/ 0 w 2027160"/>
                  <a:gd name="textAreaRight" fmla="*/ 2027520 w 2027160"/>
                  <a:gd name="textAreaTop" fmla="*/ 0 h 4263840"/>
                  <a:gd name="textAreaBottom" fmla="*/ 4264200 h 4263840"/>
                </a:gdLst>
                <a:ahLst/>
                <a:rect l="textAreaLeft" t="textAreaTop" r="textAreaRight" b="textAreaBottom"/>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gd name="textAreaLeft" fmla="*/ 0 w 1568520"/>
                  <a:gd name="textAreaRight" fmla="*/ 1568880 w 1568520"/>
                  <a:gd name="textAreaTop" fmla="*/ 0 h 2746440"/>
                  <a:gd name="textAreaBottom" fmla="*/ 2746800 h 2746440"/>
                </a:gdLst>
                <a:ahLst/>
                <a:rect l="textAreaLeft" t="textAreaTop" r="textAreaRight" b="textAreaBottom"/>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gd name="textAreaLeft" fmla="*/ 0 w 1063440"/>
                  <a:gd name="textAreaRight" fmla="*/ 1063800 w 1063440"/>
                  <a:gd name="textAreaTop" fmla="*/ 0 h 1582560"/>
                  <a:gd name="textAreaBottom" fmla="*/ 1582920 h 1582560"/>
                </a:gdLst>
                <a:ahLst/>
                <a:rect l="textAreaLeft" t="textAreaTop" r="textAreaRight" b="textAreaBottom"/>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gd name="textAreaLeft" fmla="*/ 0 w 549360"/>
                  <a:gd name="textAreaRight" fmla="*/ 549720 w 549360"/>
                  <a:gd name="textAreaTop" fmla="*/ 0 h 772920"/>
                  <a:gd name="textAreaBottom" fmla="*/ 773280 h 772920"/>
                </a:gdLst>
                <a:ahLst/>
                <a:rect l="textAreaLeft" t="textAreaTop" r="textAreaRight" b="textAreaBottom"/>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0CAC-1530-4020-BB80-5F1741562366}" type="slidenum">
              <a:rPr b="0" lang="ar-SA"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10920" y="1197000"/>
            <a:ext cx="822636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rPr>
              <a:t>الفصل الأول: حقيقة الزكاة وحكمها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سوف يتم التركيز في هذا الفصل على النقاط التالية:</a:t>
            </a:r>
            <a:br>
              <a:rPr sz="2400"/>
            </a:br>
            <a:r>
              <a:rPr b="1" lang="ar-SA" sz="2400" spc="-1" strike="noStrike">
                <a:solidFill>
                  <a:srgbClr val="eaeaea"/>
                </a:solidFill>
                <a:latin typeface="Arial"/>
              </a:rPr>
              <a:t>1</a:t>
            </a:r>
            <a:r>
              <a:rPr b="1" lang="ar-SA" sz="2400" spc="-1" strike="noStrike">
                <a:solidFill>
                  <a:srgbClr val="eaeaea"/>
                </a:solidFill>
                <a:latin typeface="Arial"/>
              </a:rPr>
              <a:t>- ماهية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2</a:t>
            </a:r>
            <a:r>
              <a:rPr b="1" lang="ar-SA" sz="2400" spc="-1" strike="noStrike">
                <a:solidFill>
                  <a:srgbClr val="eaeaea"/>
                </a:solidFill>
                <a:latin typeface="Arial"/>
              </a:rPr>
              <a:t>-أهداف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3</a:t>
            </a:r>
            <a:r>
              <a:rPr b="1" lang="ar-SA" sz="2400" spc="-1" strike="noStrike">
                <a:solidFill>
                  <a:srgbClr val="eaeaea"/>
                </a:solidFill>
                <a:latin typeface="Arial"/>
              </a:rPr>
              <a:t>-خصائص الزكا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4</a:t>
            </a:r>
            <a:r>
              <a:rPr b="1" lang="ar-SA" sz="2400" spc="-1" strike="noStrike">
                <a:solidFill>
                  <a:srgbClr val="eaeaea"/>
                </a:solidFill>
                <a:latin typeface="Arial"/>
              </a:rPr>
              <a:t>-الفرق بين الزكاة والضريبة</a:t>
            </a:r>
            <a:endParaRPr b="0" lang="en-US" sz="2400" spc="-1" strike="noStrike">
              <a:solidFill>
                <a:srgbClr val="eaeaea"/>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aeaea"/>
                </a:solidFill>
                <a:latin typeface="Arial"/>
              </a:rPr>
              <a:t>5</a:t>
            </a:r>
            <a:r>
              <a:rPr b="1" lang="ar-SA" sz="2400" spc="-1" strike="noStrike">
                <a:solidFill>
                  <a:srgbClr val="eaeaea"/>
                </a:solidFill>
                <a:latin typeface="Arial"/>
              </a:rPr>
              <a:t>-موقف الإسلام من فرض الضرائب بجانب الزكاة.</a:t>
            </a:r>
            <a:endParaRPr b="0" lang="en-US" sz="2400" spc="-1" strike="noStrike">
              <a:solidFill>
                <a:srgbClr val="eaeae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وقف الإسلام من فرض الضرائب بجانب الزكاة:</a:t>
            </a:r>
            <a:endParaRPr b="0" lang="en-US" sz="40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إختلف العلماء بشأنها على قولين أحدهما </a:t>
            </a:r>
            <a:endParaRPr b="0" lang="en-US" sz="3200" spc="-1" strike="noStrike">
              <a:solidFill>
                <a:srgbClr val="eaeaea"/>
              </a:solidFill>
              <a:latin typeface="Arial"/>
            </a:endParaRPr>
          </a:p>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التحريم المطلق والآخر </a:t>
            </a:r>
            <a:endParaRPr b="0" lang="en-US" sz="3200" spc="-1" strike="noStrike">
              <a:solidFill>
                <a:srgbClr val="eaeaea"/>
              </a:solidFill>
              <a:latin typeface="Arial"/>
            </a:endParaRPr>
          </a:p>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الجواز بشروط</a:t>
            </a:r>
            <a:endParaRPr b="0" lang="en-US" sz="3200" spc="-1" strike="noStrike">
              <a:solidFill>
                <a:srgbClr val="eaeaea"/>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هية الزكاة</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anchor="t">
            <a:normAutofit fontScale="91000"/>
          </a:bodyPr>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الزكاة هي الركن الثالث من أركان الإسلام يكفر من جحدها ويفسق من تهرب من دفعها</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تؤخذ بالقوة ممن منعها ويقاتل من أبى وتمردعلى دفعها والدليل على وجوبها:</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 من القرآن(وأقيموا الصلاة وآتوا الزكا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من السنة(بني الإسلام على خمس:وذكر منها إيتاء الزكا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والإجماع منعقد على مر العصور على وجوبها بين المسلمين.</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الزكاة لغة: تدل على النماء والزيادة وتطهير وتزكية للنفس والمال.</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سميت زكاة لأنها تزكي المال المخرج منة.</a:t>
            </a:r>
            <a:endParaRPr b="0" lang="en-US" sz="2800" spc="-1" strike="noStrike">
              <a:solidFill>
                <a:srgbClr val="eaeaea"/>
              </a:solidFill>
              <a:latin typeface="Arial"/>
            </a:endParaRPr>
          </a:p>
          <a:p>
            <a:pPr marL="312120" indent="-31212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شرعا : الزكاة حق واجب في مال خاص لطائفه مخصوصة في وقت مخصوص.</a:t>
            </a:r>
            <a:endParaRPr b="0" lang="en-US" sz="2800" spc="-1" strike="noStrike">
              <a:solidFill>
                <a:srgbClr val="eaeaea"/>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هداف الزكا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anchor="t">
            <a:normAutofit fontScale="88000"/>
          </a:bodyPr>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Arial"/>
              </a:rPr>
              <a:t> </a:t>
            </a:r>
            <a:r>
              <a:rPr b="1" lang="ar-SA" sz="1800" spc="-1" strike="noStrike">
                <a:solidFill>
                  <a:srgbClr val="9900ff"/>
                </a:solidFill>
                <a:latin typeface="Arial"/>
              </a:rPr>
              <a:t>أ-أهداف دينية</a:t>
            </a:r>
            <a:r>
              <a:rPr b="1" lang="ar-SA" sz="1800" spc="-1" strike="noStrike">
                <a:solidFill>
                  <a:srgbClr val="eaeaea"/>
                </a:solidFill>
                <a:latin typeface="Arial"/>
              </a:rPr>
              <a:t> : أهم الأهداف أن الزكاة تتمثل في التطهير والتزكية للنفس والمال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درب الإنسان على البذل والعطاء كما أنها سبب من أسباب إنشراح الصدر</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المؤمن المزكي يتخلى عن غريزة الشح ويحقق معنى العبودية لله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a:t>
            </a:r>
            <a:r>
              <a:rPr b="1" lang="ar-SA" sz="1800" spc="-1" strike="noStrike">
                <a:solidFill>
                  <a:srgbClr val="9900ff"/>
                </a:solidFill>
                <a:latin typeface="Arial"/>
              </a:rPr>
              <a:t>ب- أهداف إجتماعية</a:t>
            </a:r>
            <a:r>
              <a:rPr b="1" lang="ar-SA" sz="1800" spc="-1" strike="noStrike">
                <a:solidFill>
                  <a:srgbClr val="eaeaea"/>
                </a:solidFill>
                <a:latin typeface="Arial"/>
              </a:rPr>
              <a:t>: تحرر مستحقها من ذل المسألة من أجل المحافظة على كرامة الإنسان</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حقيق معنى الأخوة الإسلامية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تجلب الود والمحبة بين أفراد المجتمع الإسلامي</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وفرضت الزكاة من أجل القضاء على الفقر وأضراره.</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  </a:t>
            </a:r>
            <a:r>
              <a:rPr b="1" lang="ar-SA" sz="1800" spc="-1" strike="noStrike">
                <a:solidFill>
                  <a:srgbClr val="9900ff"/>
                </a:solidFill>
                <a:latin typeface="Arial"/>
              </a:rPr>
              <a:t>ج- أهداف إقتصادية</a:t>
            </a:r>
            <a:r>
              <a:rPr b="1" lang="ar-SA" sz="1800" spc="-1" strike="noStrike">
                <a:solidFill>
                  <a:srgbClr val="eaeaea"/>
                </a:solidFill>
                <a:latin typeface="Arial"/>
              </a:rPr>
              <a:t>:  إن أموال الزكاة التي يحصل عليها الفقراء تساعد على زيادة القوة الشرائية لديهم.</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أموال الزكاة تساعد على القضاء على البطالة حيث تيسر العمل للعامل .</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Arial"/>
              </a:rPr>
              <a:t>كما أن إنتقال جزء من أموال الأغنياء الى الفقراء يؤدي إلى زيادة منفعتها الحدية.</a:t>
            </a:r>
            <a:endParaRPr b="0" lang="en-US" sz="1800" spc="-1" strike="noStrike">
              <a:solidFill>
                <a:srgbClr val="eaeaea"/>
              </a:solidFill>
              <a:latin typeface="Arial"/>
            </a:endParaRPr>
          </a:p>
          <a:p>
            <a:pPr marL="301680" indent="-301680" algn="r" rtl="1">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ff"/>
                </a:solidFill>
                <a:latin typeface="Arial"/>
              </a:rPr>
              <a:t>د- أهداف سياسية:</a:t>
            </a:r>
            <a:r>
              <a:rPr b="1" lang="ar-SA" sz="1800" spc="-1" strike="noStrike">
                <a:solidFill>
                  <a:srgbClr val="eaeaea"/>
                </a:solidFill>
                <a:latin typeface="Arial"/>
              </a:rPr>
              <a:t> اعطى الإسلام الدولة الإسلامية الحق في جباية الزكاة وصرفها في مصارفها.ومن هذه المصارف(المؤلفة قلوبهم) ويحقق هذا المصرف عدة أهداف منها نشر الدعوة الإسلامية ,ومساندة الدول المضطهده.أيضا مصرف(وفي الرقاب)يحقق إعادة لمجد الإسلام الذي سلبه المستعمرون,وفك أسرى المسلمين الذين يتعرضون للإسترقاق في الحرب,أما مصرف (في سبيل الله)يوفر للدولة الأجهزة والمعدات الحربية.</a:t>
            </a:r>
            <a:endParaRPr b="0" lang="en-US" sz="1800" spc="-1" strike="noStrike">
              <a:solidFill>
                <a:srgbClr val="eaeaea"/>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2599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خصائص الزكاة</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19" name="PlaceHolder 2"/>
          <p:cNvSpPr>
            <a:spLocks noGrp="1"/>
          </p:cNvSpPr>
          <p:nvPr>
            <p:ph/>
          </p:nvPr>
        </p:nvSpPr>
        <p:spPr>
          <a:xfrm>
            <a:off x="539640" y="1197000"/>
            <a:ext cx="8229600" cy="4525920"/>
          </a:xfrm>
          <a:prstGeom prst="rect">
            <a:avLst/>
          </a:prstGeom>
          <a:noFill/>
          <a:ln w="0">
            <a:noFill/>
          </a:ln>
        </p:spPr>
        <p:txBody>
          <a:bodyPr anchor="t">
            <a:normAutofit fontScale="81000"/>
          </a:bodyPr>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1</a:t>
            </a:r>
            <a:r>
              <a:rPr b="0" lang="ar-SA" sz="1600" spc="-1" strike="noStrike">
                <a:solidFill>
                  <a:srgbClr val="eaeaea"/>
                </a:solidFill>
                <a:latin typeface="Arial"/>
              </a:rPr>
              <a:t>-الزكاة عبادة مالية ثابتة قدرا وإستمرار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عبادة مالية ولاتجزأ إلا بنية خالصة من مخرجه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2</a:t>
            </a:r>
            <a:r>
              <a:rPr b="0" lang="ar-SA" sz="1600" spc="-1" strike="noStrike">
                <a:solidFill>
                  <a:srgbClr val="eaeaea"/>
                </a:solidFill>
                <a:latin typeface="Arial"/>
              </a:rPr>
              <a:t>-الزكاة تجبى وتصرف تحت إشراف الدول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3</a:t>
            </a:r>
            <a:r>
              <a:rPr b="0" lang="ar-SA" sz="1600" spc="-1" strike="noStrike">
                <a:solidFill>
                  <a:srgbClr val="eaeaea"/>
                </a:solidFill>
                <a:latin typeface="Arial"/>
              </a:rPr>
              <a:t>-الزكاة إجباري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واجبة على من تجب عليه الزكاة وتوفرت فيه الشروط)</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4</a:t>
            </a:r>
            <a:r>
              <a:rPr b="0" lang="ar-SA" sz="1600" spc="-1" strike="noStrike">
                <a:solidFill>
                  <a:srgbClr val="eaeaea"/>
                </a:solidFill>
                <a:latin typeface="Arial"/>
              </a:rPr>
              <a:t>-الزكاة ليس لها مقابل خاص.</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تقوم على الاساس النظري –النظرية العامة للتكليف- النظرية الإستخلافية- نظرية التكافل الإجتماعي- نظرية الإخاء)</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Arial"/>
              </a:rPr>
              <a:t>5</a:t>
            </a:r>
            <a:r>
              <a:rPr b="0" lang="ar-SA" sz="1600" spc="-1" strike="noStrike">
                <a:solidFill>
                  <a:srgbClr val="eaeaea"/>
                </a:solidFill>
                <a:latin typeface="Arial"/>
              </a:rPr>
              <a:t>- الزكاة نوعية مباشرة.</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rPr>
              <a:t>(الزكاة متعددة لأن الشريعة الإسلامية تفرض زكاة مستقلة على كل نوع من أنواع الأموال والدخول المختلفة.كما أنها تخرج بصورة مباشرة لمستحقيها).</a:t>
            </a:r>
            <a:endParaRPr b="0" lang="en-US" sz="1600" spc="-1" strike="noStrike">
              <a:solidFill>
                <a:srgbClr val="eaeaea"/>
              </a:solidFill>
              <a:latin typeface="Arial"/>
            </a:endParaRPr>
          </a:p>
          <a:p>
            <a:pPr marL="2775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أموال التي تجب فيها الزكاة :</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بهيمة الأنعام(الإبل-البقر –الغنم)</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نقدين,هما الذهب والفضة وما يقوم مقامهما من أنواع العمل المختلف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عروض التجارة (وهي كل ماأعد للبيع والشراء لأجل الربح المدار منها والمحتكر)</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زروع والثمار (وهو الناتج من إستغلال الأراضي الزراعي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ركاز وهو كل ما يستخرج من الأرض من معادن وكنوز سواء كان مخلوقا في باطن الأرض مما له قيمة كالمناجم والبترول أوكان مدفونا فيها بفعل البشر.</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مستغلات (وهي الأموال الثابتة التي تقتنى بغرض استغلالها وليس بغرض اعادة بيعها كالمصانع والسفن.</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أوراق المالية كالأسهم والسندات </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كسب العمل كالمرتبات والأجور والمكافآت وأرباح المهن الحرة.</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ثروة البحريةكالأسماك والؤلؤ.</a:t>
            </a:r>
            <a:endParaRPr b="0" lang="en-US" sz="1600" spc="-1" strike="noStrike">
              <a:solidFill>
                <a:srgbClr val="eaeaea"/>
              </a:solidFill>
              <a:latin typeface="Arial"/>
            </a:endParaRPr>
          </a:p>
          <a:p>
            <a:pPr marL="277560" indent="-277560" algn="r" rtl="1">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65b2ff"/>
                </a:solidFill>
                <a:latin typeface="Arial"/>
              </a:rPr>
              <a:t>المال المستفاد الذي إستفاده الشخص بسبب مستقل كالارث أوالهبة</a:t>
            </a:r>
            <a:r>
              <a:rPr b="0" lang="ar-SA" sz="1600" spc="-1" strike="noStrike">
                <a:solidFill>
                  <a:srgbClr val="ccecff"/>
                </a:solidFill>
                <a:latin typeface="Arial"/>
              </a:rPr>
              <a:t> .</a:t>
            </a:r>
            <a:endParaRPr b="0" lang="en-US" sz="1600" spc="-1" strike="noStrike">
              <a:solidFill>
                <a:srgbClr val="eaeaea"/>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816840" y="404640"/>
            <a:ext cx="10758960" cy="5806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Arial"/>
                <a:cs typeface="Times New Roman"/>
              </a:rPr>
              <a:t>وهذه الأموال التي تجب فيها الزكاة يمكن تقسيمها إلى نوعين من الزكوات المباشرة بحسب طبيعة المادة الخاضعة لها ومدى تجددها</a:t>
            </a:r>
            <a:endParaRPr b="0" lang="en-US" sz="1600" spc="-1" strike="noStrike">
              <a:solidFill>
                <a:srgbClr val="eaeaea"/>
              </a:solidFill>
              <a:latin typeface="Arial"/>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graphicFrame>
        <p:nvGraphicFramePr>
          <p:cNvPr id="221" name=""/>
          <p:cNvGraphicFramePr/>
          <p:nvPr/>
        </p:nvGraphicFramePr>
        <p:xfrm>
          <a:off x="3132000" y="981000"/>
          <a:ext cx="5416560" cy="1874880"/>
        </p:xfrm>
        <a:graphic>
          <a:graphicData uri="http://schemas.openxmlformats.org/drawingml/2006/table">
            <a:tbl>
              <a:tblPr/>
              <a:tblGrid>
                <a:gridCol w="2735280"/>
                <a:gridCol w="2681280"/>
              </a:tblGrid>
              <a:tr h="33732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زكاة رأس المال</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زكاة الدخل</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وهي التي تفرض على الأموال عند تملكها وتكوين ثروة منها ,فوعاء الزكاة رأس المال والدخل معا (رأس المال العامل ونمائه)عند حولان الحول </a:t>
                      </a:r>
                      <a:endParaRPr b="0" lang="en-US" sz="1400" spc="-1" strike="noStrike">
                        <a:solidFill>
                          <a:srgbClr val="eaeaea"/>
                        </a:solidFill>
                        <a:latin typeface="Arial"/>
                      </a:endParaRPr>
                    </a:p>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ثال(عروض التجارة,الاثمان)</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وهي التي تفرض على الأموال عند إكتسابها ,أي عند دخول الأموال في ذمة المكلف ,فوعاء زكاة الدخل فقط وليس رأس المال الثابت</a:t>
                      </a:r>
                      <a:endParaRPr b="0" lang="en-US" sz="1400" spc="-1" strike="noStrike">
                        <a:solidFill>
                          <a:srgbClr val="eaeaea"/>
                        </a:solidFill>
                        <a:latin typeface="Arial"/>
                      </a:endParaRPr>
                    </a:p>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Times New Roman"/>
                          <a:cs typeface="Times New Roman"/>
                        </a:rPr>
                        <a:t>مثال(دخل الإستغلال الزراعي "زكاة الزروع والثمار")</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Rectangle 31"/>
          <p:cNvSpPr/>
          <p:nvPr/>
        </p:nvSpPr>
        <p:spPr>
          <a:xfrm>
            <a:off x="900000" y="2959560"/>
            <a:ext cx="8048880" cy="2225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الزكاة لم توجب إلا في الاموال النامية حقيقة أوتقديرا لتؤخذ الزكاة من الزيادة والفضل ويبقى الاصل سالما فهي لاتجب في رأس المال الثابت وإنما في غلتها ونمائها.</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6</a:t>
            </a:r>
            <a:r>
              <a:rPr b="1" lang="ar-SA" sz="1400" spc="-1" strike="noStrike">
                <a:solidFill>
                  <a:srgbClr val="eaeaea"/>
                </a:solidFill>
                <a:latin typeface="Arial"/>
                <a:ea typeface="Times New Roman"/>
              </a:rPr>
              <a:t>- الزكاة سعرها نسبي:</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cs typeface="Times New Roman"/>
              </a:rPr>
              <a:t>الزكاة سعرها نسبي وليس تصاعدي أي أن نسبة الزكاة المستحقة تظل ثابتة إلى قيمة الوعاء الزكوي مهما تغيرت قيمة المادة الخاضعة للزكاة </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7</a:t>
            </a:r>
            <a:r>
              <a:rPr b="1" lang="ar-SA" sz="1400" spc="-1" strike="noStrike">
                <a:solidFill>
                  <a:srgbClr val="eaeaea"/>
                </a:solidFill>
                <a:latin typeface="Arial"/>
                <a:ea typeface="Times New Roman"/>
              </a:rPr>
              <a:t>- الزكاة تجب في عين المال ولها تعلق في الذمة:</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8</a:t>
            </a:r>
            <a:r>
              <a:rPr b="1" lang="ar-SA" sz="1400" spc="-1" strike="noStrike">
                <a:solidFill>
                  <a:srgbClr val="eaeaea"/>
                </a:solidFill>
                <a:latin typeface="Arial"/>
                <a:ea typeface="Times New Roman"/>
              </a:rPr>
              <a:t>- الزكاة مصارفها محددة: </a:t>
            </a:r>
            <a:endParaRPr b="0" lang="en-US" sz="1400" spc="-1" strike="noStrike">
              <a:solidFill>
                <a:srgbClr val="eaeaea"/>
              </a:solidFill>
              <a:latin typeface="Arial"/>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eaeaea"/>
                </a:solidFill>
                <a:latin typeface="Arial"/>
                <a:ea typeface="Times New Roman"/>
              </a:rPr>
              <a:t>9</a:t>
            </a:r>
            <a:r>
              <a:rPr b="1" lang="ar-SA" sz="1400" spc="-1" strike="noStrike">
                <a:solidFill>
                  <a:srgbClr val="eaeaea"/>
                </a:solidFill>
                <a:latin typeface="Arial"/>
                <a:ea typeface="Times New Roman"/>
              </a:rPr>
              <a:t>- الزكاة إقليمية الأداء:</a:t>
            </a:r>
            <a:endParaRPr b="0" lang="en-US" sz="1400" spc="-1" strike="noStrike">
              <a:solidFill>
                <a:srgbClr val="eaeaea"/>
              </a:solidFill>
              <a:latin typeface="Arial"/>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2386080" y="1219320"/>
            <a:ext cx="11530080" cy="3111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10</a:t>
            </a:r>
            <a:r>
              <a:rPr b="0" lang="ar-SA" sz="1800" spc="-1" strike="noStrike">
                <a:solidFill>
                  <a:srgbClr val="eaeaea"/>
                </a:solidFill>
                <a:latin typeface="Arial"/>
              </a:rPr>
              <a:t>-الزكاة فريضة شخصية</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الزكاة شخصية ومحل النظر وعاء الزكاة والمركز المالي للمكلف وحالته الأجتماعية والمدنية ونفقات المعيشة للمكلف واعباءة</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Arial"/>
              </a:rPr>
              <a:t> العائلية واعباء الديون)ومن ذلك:</a:t>
            </a:r>
            <a:endParaRPr b="0" lang="en-US" sz="1800" spc="-1" strike="noStrike">
              <a:solidFill>
                <a:srgbClr val="eaeaea"/>
              </a:solidFill>
              <a:latin typeface="Arial"/>
            </a:endParaRPr>
          </a:p>
          <a:p>
            <a:pPr algn="r" rtl="1">
              <a:tabLst>
                <a:tab algn="l" pos="0"/>
                <a:tab algn="l" pos="45720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مادون النصاب من وجوب الزكاة.</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أموال التي ترتبط بها ضرورات الإنسان وحاجاتة.</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ديون التي لدى الغير والتي لاقدرة لصاحبها من التصرف فيها وتنميتها.</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إعفاء المال الذي هو وصية لميت ولو بلغ نصابا .</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خصم النفقات والتكاليف بالنسبة للاموال الباطنه.</a:t>
            </a:r>
            <a:endParaRPr b="0" lang="en-US" sz="1800" spc="-1" strike="noStrike">
              <a:solidFill>
                <a:srgbClr val="eaeaea"/>
              </a:solidFill>
              <a:latin typeface="Arial"/>
            </a:endParaRPr>
          </a:p>
          <a:p>
            <a:pPr lvl="1" marL="457200" algn="r" rtl="1">
              <a:lnSpc>
                <a:spcPct val="100000"/>
              </a:lnSpc>
              <a:buClr>
                <a:srgbClr val="65b2ff"/>
              </a:buClr>
              <a:buFont typeface="Arial"/>
              <a:buChar char="•"/>
              <a:tabLst>
                <a:tab algn="l" pos="457200"/>
                <a:tab algn="l" pos="100476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5b2ff"/>
                </a:solidFill>
                <a:latin typeface="Arial"/>
                <a:cs typeface="Arial"/>
              </a:rPr>
              <a:t>مراعات مصدر الدخل.</a:t>
            </a:r>
            <a:endParaRPr b="0" lang="en-US" sz="1800" spc="-1" strike="noStrike">
              <a:solidFill>
                <a:srgbClr val="eaeaea"/>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فرق بين الزكاة والضريبة:</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Arial"/>
              </a:rPr>
              <a:t>أ-من ناحية التعريف:                                        </a:t>
            </a:r>
            <a:r>
              <a:rPr b="0" lang="ar-SA" sz="3200" spc="-1" strike="noStrike">
                <a:solidFill>
                  <a:srgbClr val="9900ff"/>
                </a:solidFill>
                <a:latin typeface="Arial"/>
              </a:rPr>
              <a:t>*الزكاة:</a:t>
            </a:r>
            <a:r>
              <a:rPr b="0" lang="ar-SA" sz="3200" spc="-1" strike="noStrike">
                <a:solidFill>
                  <a:srgbClr val="eaeaea"/>
                </a:solidFill>
                <a:latin typeface="Arial"/>
              </a:rPr>
              <a:t>هي حق واجب في مال مخصوص لطائفة مخصوصة في وقت مخصوص.</a:t>
            </a:r>
            <a:endParaRPr b="0" lang="en-US" sz="3200" spc="-1" strike="noStrike">
              <a:solidFill>
                <a:srgbClr val="eaeaea"/>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ff"/>
                </a:solidFill>
                <a:latin typeface="Arial"/>
              </a:rPr>
              <a:t>*الضريبة:</a:t>
            </a:r>
            <a:r>
              <a:rPr b="0" lang="ar-SA" sz="2800" spc="-1" strike="noStrike">
                <a:solidFill>
                  <a:srgbClr val="eaeaea"/>
                </a:solidFill>
                <a:latin typeface="Arial"/>
              </a:rPr>
              <a:t> هي اقتطاع مالي إجباري غير عقابي تحدده الدولة ويلزم الاشخاص –الطبيعيون والمعنويون –بأدائه للدولة بصفه نهائية وبلا مقابل تمكينا للدولة من القيام بوظائفها الاقتصادية والاجتماعية والسياسية. </a:t>
            </a:r>
            <a:endParaRPr b="0" lang="en-US" sz="28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ب- أوجه التشابه بين الزكاة والضريبة:</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27" name=""/>
          <p:cNvGraphicFramePr/>
          <p:nvPr/>
        </p:nvGraphicFramePr>
        <p:xfrm>
          <a:off x="455760" y="1598760"/>
          <a:ext cx="8226360" cy="4497120"/>
        </p:xfrm>
        <a:graphic>
          <a:graphicData uri="http://schemas.openxmlformats.org/drawingml/2006/table">
            <a:tbl>
              <a:tblPr/>
              <a:tblGrid>
                <a:gridCol w="3249360"/>
                <a:gridCol w="2949840"/>
                <a:gridCol w="2027160"/>
              </a:tblGrid>
              <a:tr h="5205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cs typeface="Times New Roman"/>
                        </a:rPr>
                        <a:t>الضريب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cs typeface="Times New Roman"/>
                        </a:rPr>
                        <a:t>الزكا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1</a:t>
                      </a:r>
                      <a:r>
                        <a:rPr b="1" lang="ar-SA" sz="1800" spc="-1" strike="noStrike">
                          <a:solidFill>
                            <a:srgbClr val="eaeaea"/>
                          </a:solidFill>
                          <a:latin typeface="Times New Roman"/>
                          <a:ea typeface="Times New Roman"/>
                        </a:rPr>
                        <a:t>-الجبر والإلزام</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2</a:t>
                      </a:r>
                      <a:r>
                        <a:rPr b="1" lang="ar-SA" sz="1800" spc="-1" strike="noStrike">
                          <a:solidFill>
                            <a:srgbClr val="eaeaea"/>
                          </a:solidFill>
                          <a:latin typeface="Times New Roman"/>
                          <a:ea typeface="Times New Roman"/>
                        </a:rPr>
                        <a:t>-الجهاز الإداري</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3</a:t>
                      </a:r>
                      <a:r>
                        <a:rPr b="1" lang="ar-SA" sz="1800" spc="-1" strike="noStrike">
                          <a:solidFill>
                            <a:srgbClr val="eaeaea"/>
                          </a:solidFill>
                          <a:latin typeface="Times New Roman"/>
                          <a:ea typeface="Times New Roman"/>
                        </a:rPr>
                        <a:t>-إنعدام المقابل</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4</a:t>
                      </a:r>
                      <a:r>
                        <a:rPr b="1" lang="ar-SA" sz="1800" spc="-1" strike="noStrike">
                          <a:solidFill>
                            <a:srgbClr val="eaeaea"/>
                          </a:solidFill>
                          <a:latin typeface="Times New Roman"/>
                          <a:ea typeface="Times New Roman"/>
                        </a:rPr>
                        <a:t>-الأهداف</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5</a:t>
                      </a:r>
                      <a:r>
                        <a:rPr b="1" lang="ar-SA" sz="1800" spc="-1" strike="noStrike">
                          <a:solidFill>
                            <a:srgbClr val="eaeaea"/>
                          </a:solidFill>
                          <a:latin typeface="Times New Roman"/>
                          <a:ea typeface="Times New Roman"/>
                        </a:rPr>
                        <a:t>-الوعاء</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6</a:t>
                      </a:r>
                      <a:r>
                        <a:rPr b="1" lang="ar-SA" sz="1800" spc="-1" strike="noStrike">
                          <a:solidFill>
                            <a:srgbClr val="eaeaea"/>
                          </a:solidFill>
                          <a:latin typeface="Times New Roman"/>
                          <a:ea typeface="Times New Roman"/>
                        </a:rPr>
                        <a:t>-العدال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7</a:t>
                      </a:r>
                      <a:r>
                        <a:rPr b="1" lang="ar-SA" sz="1800" spc="-1" strike="noStrike">
                          <a:solidFill>
                            <a:srgbClr val="eaeaea"/>
                          </a:solidFill>
                          <a:latin typeface="Times New Roman"/>
                          <a:ea typeface="Times New Roman"/>
                        </a:rPr>
                        <a:t>-اليقين</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8</a:t>
                      </a:r>
                      <a:r>
                        <a:rPr b="1" lang="ar-SA" sz="1800" spc="-1" strike="noStrike">
                          <a:solidFill>
                            <a:srgbClr val="eaeaea"/>
                          </a:solidFill>
                          <a:latin typeface="Times New Roman"/>
                          <a:ea typeface="Times New Roman"/>
                        </a:rPr>
                        <a:t>-الملاءم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9</a:t>
                      </a:r>
                      <a:r>
                        <a:rPr b="1" lang="ar-SA" sz="1800" spc="-1" strike="noStrike">
                          <a:solidFill>
                            <a:srgbClr val="eaeaea"/>
                          </a:solidFill>
                          <a:latin typeface="Times New Roman"/>
                          <a:ea typeface="Times New Roman"/>
                        </a:rPr>
                        <a:t>-الإقتصاد</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aeaea"/>
                          </a:solidFill>
                          <a:latin typeface="Times New Roman"/>
                          <a:ea typeface="Times New Roman"/>
                        </a:rPr>
                        <a:t>10</a:t>
                      </a:r>
                      <a:r>
                        <a:rPr b="1" lang="ar-SA" sz="1800" spc="-1" strike="noStrike">
                          <a:solidFill>
                            <a:srgbClr val="eaeaea"/>
                          </a:solidFill>
                          <a:latin typeface="Times New Roman"/>
                          <a:ea typeface="Times New Roman"/>
                        </a:rPr>
                        <a:t>- النسبية والتصاعدية</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ج- أوجه الإختلاف بين الزكاة والضريبة</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29" name=""/>
          <p:cNvGraphicFramePr/>
          <p:nvPr/>
        </p:nvGraphicFramePr>
        <p:xfrm>
          <a:off x="179280" y="1628640"/>
          <a:ext cx="8855280" cy="3687840"/>
        </p:xfrm>
        <a:graphic>
          <a:graphicData uri="http://schemas.openxmlformats.org/drawingml/2006/table">
            <a:tbl>
              <a:tblPr/>
              <a:tblGrid>
                <a:gridCol w="3672000"/>
                <a:gridCol w="3097080"/>
                <a:gridCol w="2086200"/>
              </a:tblGrid>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لضريب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cs typeface="Times New Roman"/>
                        </a:rPr>
                        <a:t>الزكا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1</a:t>
                      </a:r>
                      <a:r>
                        <a:rPr b="1" lang="ar-SA" sz="1600" spc="-1" strike="noStrike">
                          <a:solidFill>
                            <a:srgbClr val="eaeaea"/>
                          </a:solidFill>
                          <a:latin typeface="Times New Roman"/>
                          <a:ea typeface="Times New Roman"/>
                        </a:rPr>
                        <a:t>-التسمي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2</a:t>
                      </a:r>
                      <a:r>
                        <a:rPr b="1" lang="ar-SA" sz="1600" spc="-1" strike="noStrike">
                          <a:solidFill>
                            <a:srgbClr val="eaeaea"/>
                          </a:solidFill>
                          <a:latin typeface="Times New Roman"/>
                          <a:ea typeface="Times New Roman"/>
                        </a:rPr>
                        <a:t>-العبادة والقرب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3</a:t>
                      </a:r>
                      <a:r>
                        <a:rPr b="1" lang="ar-SA" sz="1600" spc="-1" strike="noStrike">
                          <a:solidFill>
                            <a:srgbClr val="eaeaea"/>
                          </a:solidFill>
                          <a:latin typeface="Times New Roman"/>
                          <a:ea typeface="Times New Roman"/>
                        </a:rPr>
                        <a:t>-الانصبة والمقادير</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4</a:t>
                      </a:r>
                      <a:r>
                        <a:rPr b="1" lang="ar-SA" sz="1600" spc="-1" strike="noStrike">
                          <a:solidFill>
                            <a:srgbClr val="eaeaea"/>
                          </a:solidFill>
                          <a:latin typeface="Times New Roman"/>
                          <a:ea typeface="Times New Roman"/>
                        </a:rPr>
                        <a:t>-الثبات والدوام</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5</a:t>
                      </a:r>
                      <a:r>
                        <a:rPr b="1" lang="ar-SA" sz="1600" spc="-1" strike="noStrike">
                          <a:solidFill>
                            <a:srgbClr val="eaeaea"/>
                          </a:solidFill>
                          <a:latin typeface="Times New Roman"/>
                          <a:ea typeface="Times New Roman"/>
                        </a:rPr>
                        <a:t>-المصرف</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6</a:t>
                      </a:r>
                      <a:r>
                        <a:rPr b="1" lang="ar-SA" sz="1600" spc="-1" strike="noStrike">
                          <a:solidFill>
                            <a:srgbClr val="eaeaea"/>
                          </a:solidFill>
                          <a:latin typeface="Times New Roman"/>
                          <a:ea typeface="Times New Roman"/>
                        </a:rPr>
                        <a:t>-العلاقة بالسلط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7</a:t>
                      </a:r>
                      <a:r>
                        <a:rPr b="1" lang="ar-SA" sz="1600" spc="-1" strike="noStrike">
                          <a:solidFill>
                            <a:srgbClr val="eaeaea"/>
                          </a:solidFill>
                          <a:latin typeface="Times New Roman"/>
                          <a:ea typeface="Times New Roman"/>
                        </a:rPr>
                        <a:t>-الأهداف الروحية الخلقية</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8</a:t>
                      </a:r>
                      <a:r>
                        <a:rPr b="1" lang="ar-SA" sz="1600" spc="-1" strike="noStrike">
                          <a:solidFill>
                            <a:srgbClr val="eaeaea"/>
                          </a:solidFill>
                          <a:latin typeface="Times New Roman"/>
                          <a:ea typeface="Times New Roman"/>
                        </a:rPr>
                        <a:t>-الاساس النظري</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9</a:t>
                      </a:r>
                      <a:r>
                        <a:rPr b="1" lang="ar-SA" sz="1600" spc="-1" strike="noStrike">
                          <a:solidFill>
                            <a:srgbClr val="eaeaea"/>
                          </a:solidFill>
                          <a:latin typeface="Times New Roman"/>
                          <a:ea typeface="Times New Roman"/>
                        </a:rPr>
                        <a:t>-طريقة الدفع</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aeaea"/>
                          </a:solidFill>
                          <a:latin typeface="Times New Roman"/>
                          <a:ea typeface="Times New Roman"/>
                        </a:rPr>
                        <a:t>10</a:t>
                      </a:r>
                      <a:r>
                        <a:rPr b="1" lang="ar-SA" sz="1600" spc="-1" strike="noStrike">
                          <a:solidFill>
                            <a:srgbClr val="eaeaea"/>
                          </a:solidFill>
                          <a:latin typeface="Times New Roman"/>
                          <a:ea typeface="Times New Roman"/>
                        </a:rPr>
                        <a:t>-الضمانات</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0:23:54Z</dcterms:created>
  <dc:creator>User</dc:creator>
  <dc:description/>
  <dc:language>en-US</dc:language>
  <cp:lastModifiedBy>Amal alfawaz</cp:lastModifiedBy>
  <dcterms:modified xsi:type="dcterms:W3CDTF">2015-08-29T17:02:59Z</dcterms:modified>
  <cp:revision>8</cp:revision>
  <dc:subject/>
  <dc:title>الفصل الأول: حقيقة الزكاة وحكمها </dc:title>
</cp:coreProperties>
</file>