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BA0D-2668-4B7F-AF00-0E8D2ADB86D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6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4727-172E-42E3-8379-B931F32131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3A91-C811-41F1-A182-7CB6AD7651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2DC37-562E-4034-AA28-15565FED4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5CB0C-DA52-466D-ADA9-97756108D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9CE772-BF6E-4D5D-96FE-840CA61BF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99C081-1DF0-40F7-B07B-E1391ADA2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A9A9F-677D-4D8C-98FB-B3C3EEEA1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49FD28-E754-4388-AD2A-33EE3A731E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E2084-B05F-4C26-9C64-2832BC95E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49DB8-11FE-4FF0-A401-0A0ECF16D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DCB4B9-1E4E-4D9B-B8A1-2FCECE1CA7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228DCC-7EEF-4062-AE9B-5F18F34EF1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A121E6-18E9-45E0-84A9-6911186B44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D4D271-F597-4E04-A153-6165A7FE7C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943A-3F48-4462-B830-03C957A7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3FB6D6-628A-4409-9F92-E51B648D4D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62A061-0F02-46BD-897A-A976235DCF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1B30DF-D65A-4447-B4A7-0D294C4775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E4B704-3807-4191-9372-75366DA3B6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5C394C-B135-4FD0-AC4B-EC140BF466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CAE9B1-C70E-410F-BFBB-95F71C988E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0C130-8763-437A-92F9-7E5698AA68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65DD45-6352-43C0-9F0E-741B669902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B5BDB3-9D97-4713-A932-5773934081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F6982A-5221-49D7-9778-74CB515E07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11F65-0025-453C-B853-0A172E8D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FBFC77-8A40-499F-A39A-35044B4CBE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652565-3A86-4EBC-9C1E-6F72A33BA1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213F51-BFA9-4608-996A-35CAF8160A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BAEEA9-290B-4DEF-9A91-A10E400D43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1B4520-C129-4580-AD9F-DC5B9E7300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37ED9E-8EA4-4D3A-B7D0-E425238E7E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4CAF7A-0F3C-47B4-9485-61A6D85BEF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00D115-18D5-40FC-851C-74982E257A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9FA882-217C-4457-A7C9-1C798EFC0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DF80D1-6A0C-4655-BA4B-1AA65AF123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16401-8F0C-4622-A9F9-3E5050504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B4FB5F-9B13-4EE9-B288-EBC8DF1E8F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112471-282A-4EFB-80A3-3350BFB001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B3228F-4490-4DC4-9F3E-E4FC6205FC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55C573-5826-4C28-BD94-CD8430BF3C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177799-3DF0-4A77-97C8-993F0B0109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5F8D89-B0D5-40E6-B097-1A6402815B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89CDBE-ABD1-4C6D-A4C4-BD98C0F43F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FE6538-07EF-4B7D-A31D-0D14223F4F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39B747-E3C8-41AA-8908-7521DB4C31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926930-16C0-4175-9EDC-031E53021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11811-B781-48A7-A28B-3575AE041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6C98AB-13AF-40EB-A05A-8CFE2CFAC9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BA9F3E-640F-4FDB-86E8-2E1B104350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BC6F65-F9A5-4708-AC59-92E3B0E99B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5453FD-1B11-4D7C-B20F-85BD4696D8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FF78FC-691D-45F7-B113-85271BB686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79248-19DB-46EC-A217-B6239DC23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CDE84-7422-44FA-9D54-DCBA68FD0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F2F55-7700-409D-9256-14F1DE4D0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298EC-9521-49FC-8F8B-7070F5976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FC2C-56F6-43B6-9C0B-E4E9ADF9D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00D4-3FAF-4A92-BBB3-7FAD514C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1B1EA-BEA9-4A6C-9821-228309D39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48AC4-F8E8-4275-B37E-240DE529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4CBA4-0D08-4851-AED2-B975532C7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14D7E-9EF3-49BE-9E3E-F33408778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6C25D-5A8F-48F7-9AFB-6CE866917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6F8E1-D9B9-4E4C-9B86-22786C2624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758A3-9CC0-4C9B-87B3-AE638D5A8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4AB8E-5B5D-40CF-9E47-1E3797F6E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0D176-170E-4E34-B1BD-0C2CE33AF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AA29F-C2FF-4332-85C7-9B81ACAA9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13B3-61F0-4C26-AFDF-01FDB54D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F1A37-E15E-477D-9D50-C6FE96BA4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6147D-BCC6-4B28-9041-00573B4F2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766C1-B13F-4E86-9066-FFABBBB95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8D441-5204-4F2B-8F5A-816A168CE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D811B-9AD4-4B7A-841F-ED0D176C7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0523E-7E66-4CA5-BC63-6D5D37B31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B474B-DEA3-4854-9F1D-73DB427D6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183952-2AFB-47C7-BC01-421F546B89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73888-39A8-4A11-8A94-D89EF12CE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D98D7-0380-4D0E-BC48-3A50CFDC5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BC2A-0F9E-45FA-B198-954EAF4A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ED0D2-90CF-4118-AA4D-7F12A2F15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D5F98-0683-4E7D-8D6A-4FF65CC66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3AC36-7E52-4EB7-9D54-A478CE7ED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CE079-A7DA-4DC6-B100-503FB9F03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F5072-2457-44B7-A88A-64A90226B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325F9-0BCD-4C9A-9233-85FF48BDB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9F9EE-D55B-474A-8EC1-E940A6F92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63370E-75D1-4936-A30C-532C5D97A3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80042-02FA-4490-ADB2-C7AC5FCC3F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7C9532-F169-4570-993F-E46A39088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4AC2-DB7B-4187-B1AD-C05D8B84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B84C9-8901-42EB-9078-885CCB9E0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2B290-8BC7-48F5-BC1A-782AC6004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1BBD6-7C6D-401C-BB76-22F81913D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F8A08-C2F5-44A7-8252-ECC37DDD4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F3C00-868D-467F-84D2-9B71BCF19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80963-4A64-42E1-8ED1-2C2D3185E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0EE3B-B19E-4101-865E-61F822970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A6796-E016-4D4D-A6DB-39C2DC977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AAA6F-FC94-4B05-8DD2-DFD5175DC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53797F-7C81-46DA-87DC-EEFF00AC76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CC6D7-35CB-4410-8373-574F2189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91F60-F6D7-41C0-833D-6CDF21B938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E5981-EB96-4894-BEBB-D97E61F79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C45FE-6CB4-4A36-A6AF-5D71E27AD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30FEBB-586E-4A28-A2F6-9F4C7D5DA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B1223-12BA-4246-9B1A-7FCC2BDAB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99C45-6480-4C29-8F71-50E59AA5F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C1A37C-D357-473C-86D0-AF09F95721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BCC54-FC63-45E4-96E2-6CA51581E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9150A5-812E-4A16-8007-46C80E2E0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258CE-00C0-4785-91EB-8F0EAF342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5AE1-EDF8-4D87-BBA8-38C54D5B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3909B-FD8C-4DB6-ABE0-E9536C452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A988E7-A41C-4D48-813C-05661B2683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E1730C-0318-40A8-B0FA-76D47889AD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E3495D-DA87-47FA-810F-5694584F9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79678-47E6-4F52-BE69-636ACF6EA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6B22B-24F3-46A9-AAF1-B2BC794D8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84784-8A3C-4C70-A172-8C8105DF7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8D608-9983-4507-A3E4-0C1BDF47A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6B2016-5D0C-4B07-9AF2-59008F4C6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68708-564D-44F0-A243-EEAE25BC9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B8A1-7741-47BD-807E-D336CA6D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0B5AF-A6AA-41AD-90B2-E7B2FBF33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821FA-F2AD-4141-B648-05ED1AFD4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38B35-D48F-4CB7-B707-8F54EF2A3D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8D893-00BC-4103-9BC1-945859D00F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604698-620F-49B8-807E-2E0413BD2F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5BE74D-1F71-43C2-9CBF-A328BC7966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59E1DF-988C-4279-AC71-0BB19789DE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40BC4-43E1-4423-8553-19B506642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F5115-AFF1-4166-B957-B345ED73BD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9E9DA-362B-4210-A9F1-8C8DC9DD7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7AFA-2FC0-4C34-86FE-70D24C58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525D3-A54F-47BF-BB6E-1528C6BB7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DBF9E-26D2-4937-A0D2-8DF4D3DE2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93C23-59E1-4F83-884C-B47FE8502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9618A-0C48-4B6D-9058-CD952F2F2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2D42D-1235-4C8E-BB90-9DC100009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432EED-A1EB-4513-B372-4A359BC8C4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5C38B4-1483-4379-B1BB-256BC1DA54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549B00-15F2-4F15-AFBB-B81C2215A8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CE44A-20D4-40B9-90CE-18C398E565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EDD16-5D58-405C-B8A3-09F3D12EF5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0440-B0D8-4A3D-8426-A25F4FFA73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4B99-25BC-476F-A128-906061F19B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84AD-AB43-4480-B03F-FB9EE3BCD2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F097-BB55-4F91-A115-7CD5144E96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DEEA-E7D9-4C69-B370-7C0C3C168C7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7A4A-0BFD-46E4-87FE-F4895A37B3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8616-BB23-4E4E-A6FD-35D569FFA3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13EF-65D5-4F8C-B8CA-F8FDC9FBE9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53CD-41E6-494F-BB9C-9B2E1C89D5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3C5A-E0E7-48C6-93D5-AF35D48B68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9FC1-3D19-474B-9D88-FA15B3660C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4ED5-31A3-4998-A3E0-BEE8395D9D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28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وزيع والامداد/الأسس والمفاهيم </a:t>
            </a:r>
            <a:endParaRPr b="0" lang="en-US" sz="4800" spc="-1" strike="noStrike">
              <a:solidFill>
                <a:srgbClr val="000000"/>
              </a:solidFill>
              <a:latin typeface="Arial"/>
            </a:endParaRPr>
          </a:p>
        </p:txBody>
      </p:sp>
      <p:sp>
        <p:nvSpPr>
          <p:cNvPr id="590" name="شكل بيضاوي 5"/>
          <p:cNvSpPr/>
          <p:nvPr/>
        </p:nvSpPr>
        <p:spPr>
          <a:xfrm>
            <a:off x="822240" y="1898640"/>
            <a:ext cx="1714680" cy="1857240"/>
          </a:xfrm>
          <a:prstGeom prst="ellipse">
            <a:avLst/>
          </a:pr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فصل الأول</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4" name="Text Box 7"/>
          <p:cNvSpPr/>
          <p:nvPr/>
        </p:nvSpPr>
        <p:spPr>
          <a:xfrm>
            <a:off x="571680" y="146160"/>
            <a:ext cx="798480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دساً:منافع التوزيع والامداد</a:t>
            </a:r>
            <a:endParaRPr b="0" lang="en-US" sz="4400" spc="-1" strike="noStrike">
              <a:solidFill>
                <a:srgbClr val="000000"/>
              </a:solidFill>
              <a:latin typeface="Arial"/>
            </a:endParaRPr>
          </a:p>
        </p:txBody>
      </p:sp>
      <p:pic>
        <p:nvPicPr>
          <p:cNvPr id="625" name="Diagram 2" descr=""/>
          <p:cNvPicPr/>
          <p:nvPr/>
        </p:nvPicPr>
        <p:blipFill>
          <a:blip r:embed="rId2"/>
          <a:stretch/>
        </p:blipFill>
        <p:spPr>
          <a:xfrm>
            <a:off x="1523880" y="1249200"/>
            <a:ext cx="6096240" cy="4438800"/>
          </a:xfrm>
          <a:prstGeom prst="rect">
            <a:avLst/>
          </a:prstGeom>
          <a:ln w="0">
            <a:noFill/>
          </a:ln>
        </p:spPr>
      </p:pic>
      <p:sp>
        <p:nvSpPr>
          <p:cNvPr id="626" name="Quad Arrow 3"/>
          <p:cNvSpPr/>
          <p:nvPr/>
        </p:nvSpPr>
        <p:spPr>
          <a:xfrm>
            <a:off x="4140360" y="2708280"/>
            <a:ext cx="718920" cy="1728720"/>
          </a:xfrm>
          <a:custGeom>
            <a:avLst/>
            <a:gdLst/>
            <a:ahLst/>
            <a:rect l="l" t="t" r="r" b="b"/>
            <a:pathLst>
              <a:path w="719138" h="1728788">
                <a:moveTo>
                  <a:pt x="0" y="864394"/>
                </a:moveTo>
                <a:lnTo>
                  <a:pt x="161806" y="702588"/>
                </a:lnTo>
                <a:lnTo>
                  <a:pt x="161806" y="783491"/>
                </a:lnTo>
                <a:lnTo>
                  <a:pt x="278666" y="783491"/>
                </a:lnTo>
                <a:lnTo>
                  <a:pt x="278666" y="161806"/>
                </a:lnTo>
                <a:lnTo>
                  <a:pt x="197763" y="161806"/>
                </a:lnTo>
                <a:lnTo>
                  <a:pt x="359569" y="0"/>
                </a:lnTo>
                <a:lnTo>
                  <a:pt x="521375" y="161806"/>
                </a:lnTo>
                <a:lnTo>
                  <a:pt x="440472" y="161806"/>
                </a:lnTo>
                <a:lnTo>
                  <a:pt x="440472" y="783491"/>
                </a:lnTo>
                <a:lnTo>
                  <a:pt x="557332" y="783491"/>
                </a:lnTo>
                <a:lnTo>
                  <a:pt x="557332" y="702588"/>
                </a:lnTo>
                <a:lnTo>
                  <a:pt x="719138" y="864394"/>
                </a:lnTo>
                <a:lnTo>
                  <a:pt x="557332" y="1026200"/>
                </a:lnTo>
                <a:lnTo>
                  <a:pt x="557332" y="945297"/>
                </a:lnTo>
                <a:lnTo>
                  <a:pt x="440472" y="945297"/>
                </a:lnTo>
                <a:lnTo>
                  <a:pt x="440472" y="1566982"/>
                </a:lnTo>
                <a:lnTo>
                  <a:pt x="521375" y="1566982"/>
                </a:lnTo>
                <a:lnTo>
                  <a:pt x="359569" y="1728788"/>
                </a:lnTo>
                <a:lnTo>
                  <a:pt x="197763" y="1566982"/>
                </a:lnTo>
                <a:lnTo>
                  <a:pt x="278666" y="1566982"/>
                </a:lnTo>
                <a:lnTo>
                  <a:pt x="278666" y="945297"/>
                </a:lnTo>
                <a:lnTo>
                  <a:pt x="161806" y="945297"/>
                </a:lnTo>
                <a:lnTo>
                  <a:pt x="161806" y="1026200"/>
                </a:lnTo>
                <a:lnTo>
                  <a:pt x="0" y="864394"/>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
          <p:cNvSpPr/>
          <p:nvPr/>
        </p:nvSpPr>
        <p:spPr>
          <a:xfrm>
            <a:off x="-108000" y="765000"/>
            <a:ext cx="1871640" cy="115128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محاضرة الثالثة</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7"/>
          <p:cNvSpPr/>
          <p:nvPr/>
        </p:nvSpPr>
        <p:spPr>
          <a:xfrm>
            <a:off x="1071720" y="426960"/>
            <a:ext cx="700056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بعاً:أنشطة التوزيع والامداد</a:t>
            </a:r>
            <a:endParaRPr b="0" lang="en-US" sz="4400" spc="-1" strike="noStrike">
              <a:solidFill>
                <a:srgbClr val="000000"/>
              </a:solidFill>
              <a:latin typeface="Arial"/>
            </a:endParaRPr>
          </a:p>
        </p:txBody>
      </p:sp>
      <p:pic>
        <p:nvPicPr>
          <p:cNvPr id="629" name="Diagram 12" descr=""/>
          <p:cNvPicPr/>
          <p:nvPr/>
        </p:nvPicPr>
        <p:blipFill>
          <a:blip r:embed="rId1"/>
          <a:stretch/>
        </p:blipFill>
        <p:spPr>
          <a:xfrm>
            <a:off x="1073160" y="1390680"/>
            <a:ext cx="7674120" cy="5497560"/>
          </a:xfrm>
          <a:prstGeom prst="rect">
            <a:avLst/>
          </a:prstGeom>
          <a:ln w="0">
            <a:noFill/>
          </a:ln>
        </p:spPr>
      </p:pic>
      <p:sp>
        <p:nvSpPr>
          <p:cNvPr id="630" name="TextBox 14"/>
          <p:cNvSpPr/>
          <p:nvPr/>
        </p:nvSpPr>
        <p:spPr>
          <a:xfrm>
            <a:off x="7093080" y="3603600"/>
            <a:ext cx="143964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م المعلومات</a:t>
            </a:r>
            <a:endParaRPr b="0" lang="en-US" sz="2000" spc="-1" strike="noStrike">
              <a:solidFill>
                <a:srgbClr val="000000"/>
              </a:solidFill>
              <a:latin typeface="Arial"/>
            </a:endParaRPr>
          </a:p>
        </p:txBody>
      </p:sp>
      <p:sp>
        <p:nvSpPr>
          <p:cNvPr id="631" name="TextBox 15"/>
          <p:cNvSpPr/>
          <p:nvPr/>
        </p:nvSpPr>
        <p:spPr>
          <a:xfrm>
            <a:off x="1258920" y="1814400"/>
            <a:ext cx="1441440" cy="1648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خزو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Box 16"/>
          <p:cNvSpPr/>
          <p:nvPr/>
        </p:nvSpPr>
        <p:spPr>
          <a:xfrm>
            <a:off x="1071720" y="5373720"/>
            <a:ext cx="162864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صميم العكسي لمنافذ التوزيع </a:t>
            </a:r>
            <a:endParaRPr b="0" lang="en-US" sz="2000" spc="-1" strike="noStrike">
              <a:solidFill>
                <a:srgbClr val="000000"/>
              </a:solidFill>
              <a:latin typeface="Arial"/>
            </a:endParaRPr>
          </a:p>
        </p:txBody>
      </p:sp>
      <p:sp>
        <p:nvSpPr>
          <p:cNvPr id="633" name="TextBox 17"/>
          <p:cNvSpPr/>
          <p:nvPr/>
        </p:nvSpPr>
        <p:spPr>
          <a:xfrm>
            <a:off x="6443640" y="6381720"/>
            <a:ext cx="180036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حديد تكلفة التوزيع</a:t>
            </a:r>
            <a:endParaRPr b="0" lang="en-US" sz="2000" spc="-1" strike="noStrike">
              <a:solidFill>
                <a:srgbClr val="000000"/>
              </a:solidFill>
              <a:latin typeface="Arial"/>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show_file3"/>
          <p:cNvPicPr/>
          <p:nvPr/>
        </p:nvPicPr>
        <p:blipFill>
          <a:blip r:embed="rId1">
            <a:lum bright="70000" contrast="-70000"/>
          </a:blip>
          <a:stretch/>
        </p:blipFill>
        <p:spPr>
          <a:xfrm>
            <a:off x="-473040" y="115920"/>
            <a:ext cx="9753480" cy="7315200"/>
          </a:xfrm>
          <a:prstGeom prst="rect">
            <a:avLst/>
          </a:prstGeom>
          <a:ln w="0">
            <a:noFill/>
          </a:ln>
        </p:spPr>
      </p:pic>
      <p:sp>
        <p:nvSpPr>
          <p:cNvPr id="635" name="Text Box 8"/>
          <p:cNvSpPr/>
          <p:nvPr/>
        </p:nvSpPr>
        <p:spPr>
          <a:xfrm>
            <a:off x="1590840" y="422280"/>
            <a:ext cx="6510240" cy="1129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da1f28"/>
                </a:solidFill>
                <a:latin typeface="Arial"/>
                <a:cs typeface="PT Bold Heading"/>
              </a:rPr>
              <a:t>ثامناً:أسس وركائز وأركان التوزيع والامداد</a:t>
            </a:r>
            <a:endParaRPr b="0" lang="en-US" sz="3400" spc="-1" strike="noStrike">
              <a:solidFill>
                <a:srgbClr val="000000"/>
              </a:solidFill>
              <a:latin typeface="Arial"/>
            </a:endParaRPr>
          </a:p>
        </p:txBody>
      </p:sp>
      <p:sp>
        <p:nvSpPr>
          <p:cNvPr id="636" name="TextBox 2"/>
          <p:cNvSpPr/>
          <p:nvPr/>
        </p:nvSpPr>
        <p:spPr>
          <a:xfrm>
            <a:off x="2987640" y="1341360"/>
            <a:ext cx="36003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3200" spc="-1" strike="noStrike">
                <a:solidFill>
                  <a:srgbClr val="000000"/>
                </a:solidFill>
                <a:latin typeface="Arial"/>
              </a:rPr>
              <a:t>- قنوات التوزيع والامدا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توزيع المادي</a:t>
            </a:r>
            <a:endParaRPr b="0" lang="en-US" sz="3200" spc="-1" strike="noStrike">
              <a:solidFill>
                <a:srgbClr val="000000"/>
              </a:solidFill>
              <a:latin typeface="Arial"/>
            </a:endParaRPr>
          </a:p>
        </p:txBody>
      </p:sp>
      <p:sp>
        <p:nvSpPr>
          <p:cNvPr id="637" name="Oval 3"/>
          <p:cNvSpPr/>
          <p:nvPr/>
        </p:nvSpPr>
        <p:spPr>
          <a:xfrm>
            <a:off x="2484360" y="2417760"/>
            <a:ext cx="3456000" cy="122724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1</a:t>
            </a:r>
            <a:r>
              <a:rPr b="1" lang="ar-SA" sz="2800" spc="-1" strike="noStrike">
                <a:solidFill>
                  <a:srgbClr val="000000"/>
                </a:solidFill>
                <a:latin typeface="Lucida Sans Unicode"/>
              </a:rPr>
              <a:t>-قنوات التوزيع والامداد</a:t>
            </a:r>
            <a:endParaRPr b="0" lang="en-US" sz="2800" spc="-1" strike="noStrike">
              <a:solidFill>
                <a:srgbClr val="000000"/>
              </a:solidFill>
              <a:latin typeface="Arial"/>
            </a:endParaRPr>
          </a:p>
        </p:txBody>
      </p:sp>
      <p:sp>
        <p:nvSpPr>
          <p:cNvPr id="638" name="Straight Connector 5"/>
          <p:cNvSpPr/>
          <p:nvPr/>
        </p:nvSpPr>
        <p:spPr>
          <a:xfrm>
            <a:off x="4211640" y="3773520"/>
            <a:ext cx="0" cy="3762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Elbow Connector 7"/>
          <p:cNvCxnSpPr/>
          <p:nvPr/>
        </p:nvCxnSpPr>
        <p:spPr>
          <a:xfrm>
            <a:off x="4211640" y="4159080"/>
            <a:ext cx="1513440" cy="386640"/>
          </a:xfrm>
          <a:prstGeom prst="bentConnector3">
            <a:avLst>
              <a:gd name="adj1" fmla="val 49988"/>
            </a:avLst>
          </a:prstGeom>
          <a:ln w="9360">
            <a:solidFill>
              <a:srgbClr val="2da2bf"/>
            </a:solidFill>
            <a:miter/>
            <a:tailEnd len="med" type="arrow" w="med"/>
          </a:ln>
        </p:spPr>
      </p:cxnSp>
      <p:cxnSp>
        <p:nvCxnSpPr>
          <p:cNvPr id="640" name="Elbow Connector 10"/>
          <p:cNvCxnSpPr/>
          <p:nvPr/>
        </p:nvCxnSpPr>
        <p:spPr>
          <a:xfrm flipV="1" rot="10800000">
            <a:off x="2986920" y="4149360"/>
            <a:ext cx="1224720" cy="288000"/>
          </a:xfrm>
          <a:prstGeom prst="bentConnector3">
            <a:avLst>
              <a:gd name="adj1" fmla="val 49985"/>
            </a:avLst>
          </a:prstGeom>
          <a:ln w="9360">
            <a:solidFill>
              <a:srgbClr val="2da2bf"/>
            </a:solidFill>
            <a:miter/>
            <a:tailEnd len="med" type="arrow" w="med"/>
          </a:ln>
        </p:spPr>
      </p:cxnSp>
      <p:sp>
        <p:nvSpPr>
          <p:cNvPr id="641" name="Rounded Rectangle 11"/>
          <p:cNvSpPr/>
          <p:nvPr/>
        </p:nvSpPr>
        <p:spPr>
          <a:xfrm>
            <a:off x="5724360" y="3962520"/>
            <a:ext cx="295128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مباش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Rounded Rectangle 12"/>
          <p:cNvSpPr/>
          <p:nvPr/>
        </p:nvSpPr>
        <p:spPr>
          <a:xfrm>
            <a:off x="-181080" y="3962520"/>
            <a:ext cx="316872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غير مباشر</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396720" y="-196920"/>
            <a:ext cx="9753480" cy="7315200"/>
          </a:xfrm>
          <a:prstGeom prst="rect">
            <a:avLst/>
          </a:prstGeom>
          <a:ln w="0">
            <a:noFill/>
          </a:ln>
        </p:spPr>
      </p:pic>
      <p:sp>
        <p:nvSpPr>
          <p:cNvPr id="644" name="Text Box 7"/>
          <p:cNvSpPr/>
          <p:nvPr/>
        </p:nvSpPr>
        <p:spPr>
          <a:xfrm>
            <a:off x="1785960" y="42696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
        <p:nvSpPr>
          <p:cNvPr id="645" name="Text Box 8"/>
          <p:cNvSpPr/>
          <p:nvPr/>
        </p:nvSpPr>
        <p:spPr>
          <a:xfrm>
            <a:off x="1000080" y="1692360"/>
            <a:ext cx="721512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اولاً:الطرق للسلع الاستهلاكية</a:t>
            </a:r>
            <a:r>
              <a:rPr b="0" lang="ar-SA" sz="3600" spc="-1" strike="noStrike">
                <a:solidFill>
                  <a:srgbClr val="000000"/>
                </a:solidFill>
                <a:latin typeface="Arial"/>
              </a:rPr>
              <a:t>:</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طواف رجال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بيع عن طريق معارض يملكها المنتجو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ج-البيع بالبري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د-البيع الآل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ثانيا:الطرق للسلع الصن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المعارض المتخصصة  ب-مندوبو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TextBox 1"/>
          <p:cNvSpPr/>
          <p:nvPr/>
        </p:nvSpPr>
        <p:spPr>
          <a:xfrm>
            <a:off x="3419640" y="1195560"/>
            <a:ext cx="47955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طرق التوزيع المباشر: </a:t>
            </a:r>
            <a:endParaRPr b="0" lang="en-US" sz="3600" spc="-1" strike="noStrike">
              <a:solidFill>
                <a:srgbClr val="000000"/>
              </a:solidFill>
              <a:latin typeface="Arial"/>
            </a:endParaRPr>
          </a:p>
        </p:txBody>
      </p:sp>
      <p:sp>
        <p:nvSpPr>
          <p:cNvPr id="647" name="Text Box 7"/>
          <p:cNvSpPr/>
          <p:nvPr/>
        </p:nvSpPr>
        <p:spPr>
          <a:xfrm>
            <a:off x="1938240" y="57960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15840" y="0"/>
            <a:ext cx="9753480" cy="7315200"/>
          </a:xfrm>
          <a:prstGeom prst="rect">
            <a:avLst/>
          </a:prstGeom>
          <a:ln w="0">
            <a:noFill/>
          </a:ln>
        </p:spPr>
      </p:pic>
      <p:sp>
        <p:nvSpPr>
          <p:cNvPr id="649" name="Text Box 8"/>
          <p:cNvSpPr/>
          <p:nvPr/>
        </p:nvSpPr>
        <p:spPr>
          <a:xfrm>
            <a:off x="1913040" y="971640"/>
            <a:ext cx="6067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rPr>
              <a:t> </a:t>
            </a:r>
            <a:endParaRPr b="0" lang="en-US" sz="5400" spc="-1" strike="noStrike">
              <a:solidFill>
                <a:srgbClr val="000000"/>
              </a:solidFill>
              <a:latin typeface="Arial"/>
            </a:endParaRPr>
          </a:p>
        </p:txBody>
      </p:sp>
      <p:sp>
        <p:nvSpPr>
          <p:cNvPr id="65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1116000" y="1844640"/>
            <a:ext cx="7559640" cy="5578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طرق التوزيع الغيرمباش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1f28"/>
                </a:solidFill>
                <a:latin typeface="Arial"/>
              </a:rPr>
              <a:t>باستخدام الوسطاء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4a76"/>
                </a:solidFill>
                <a:latin typeface="Arial"/>
              </a:rPr>
              <a:t>أنواع الوسطاء</a:t>
            </a:r>
            <a:r>
              <a:rPr b="1" lang="ar-SA" sz="2800" spc="-1" strike="noStrike">
                <a:solidFill>
                  <a:srgbClr val="000000"/>
                </a:solidFill>
                <a:latin typeface="Arial"/>
              </a:rPr>
              <a:t>:</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ار (تجار الجملة وتجار التجزئة)يملكون البضاعة ثم يبيعو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 الوكلاء بأنواعهم والسماسرة يبحثون عن العملاء ويتفاوضون معهم باسم المنتج لكنهم لا يشترون ولا يمتلكون البضا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 المسهلون مثل مؤسسات النقل ، البنوك وكالات الاعلان وهؤلاء يساعدون في توزيع البضاعة لكن لايمتلكونها ولا يتفاوضون على شرائها أوبيعها.</a:t>
            </a:r>
            <a:endParaRPr b="0" lang="en-US" sz="2800" spc="-1" strike="noStrike">
              <a:solidFill>
                <a:srgbClr val="000000"/>
              </a:solidFill>
              <a:latin typeface="Arial"/>
            </a:endParaRPr>
          </a:p>
        </p:txBody>
      </p:sp>
      <p:sp>
        <p:nvSpPr>
          <p:cNvPr id="653" name="Rounded Rectangle 6"/>
          <p:cNvSpPr/>
          <p:nvPr/>
        </p:nvSpPr>
        <p:spPr>
          <a:xfrm>
            <a:off x="2627280" y="671400"/>
            <a:ext cx="4608720" cy="97956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قنوات التوزيع الغير مباشر</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show_file3"/>
          <p:cNvPicPr/>
          <p:nvPr/>
        </p:nvPicPr>
        <p:blipFill>
          <a:blip r:embed="rId1">
            <a:lum bright="70000" contrast="-70000"/>
          </a:blip>
          <a:stretch/>
        </p:blipFill>
        <p:spPr>
          <a:xfrm>
            <a:off x="-468360" y="-390600"/>
            <a:ext cx="9753480" cy="7315200"/>
          </a:xfrm>
          <a:prstGeom prst="rect">
            <a:avLst/>
          </a:prstGeom>
          <a:ln w="0">
            <a:noFill/>
          </a:ln>
        </p:spPr>
      </p:pic>
      <p:sp>
        <p:nvSpPr>
          <p:cNvPr id="65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
          <p:cNvSpPr/>
          <p:nvPr/>
        </p:nvSpPr>
        <p:spPr>
          <a:xfrm>
            <a:off x="2340000" y="-169920"/>
            <a:ext cx="3673440" cy="1150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2</a:t>
            </a:r>
            <a:r>
              <a:rPr b="1" lang="ar-SA" sz="3200" spc="-1" strike="noStrike">
                <a:solidFill>
                  <a:srgbClr val="000000"/>
                </a:solidFill>
                <a:latin typeface="Lucida Sans Unicode"/>
              </a:rPr>
              <a:t>- التوزيع المادي</a:t>
            </a:r>
            <a:endParaRPr b="0" lang="en-US" sz="3200" spc="-1" strike="noStrike">
              <a:solidFill>
                <a:srgbClr val="000000"/>
              </a:solidFill>
              <a:latin typeface="Arial"/>
            </a:endParaRPr>
          </a:p>
        </p:txBody>
      </p:sp>
      <p:sp>
        <p:nvSpPr>
          <p:cNvPr id="658" name="TextBox 2"/>
          <p:cNvSpPr/>
          <p:nvPr/>
        </p:nvSpPr>
        <p:spPr>
          <a:xfrm>
            <a:off x="611280" y="1160640"/>
            <a:ext cx="80661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جميع الأنشطة التسويقية المرافقة للسلعة وهي: </a:t>
            </a:r>
            <a:endParaRPr b="0" lang="en-US" sz="2800" spc="-1" strike="noStrike">
              <a:solidFill>
                <a:srgbClr val="000000"/>
              </a:solidFill>
              <a:latin typeface="Arial"/>
            </a:endParaRPr>
          </a:p>
        </p:txBody>
      </p:sp>
      <p:pic>
        <p:nvPicPr>
          <p:cNvPr id="659" name="Diagram 3" descr=""/>
          <p:cNvPicPr/>
          <p:nvPr/>
        </p:nvPicPr>
        <p:blipFill>
          <a:blip r:embed="rId2"/>
          <a:stretch/>
        </p:blipFill>
        <p:spPr>
          <a:xfrm>
            <a:off x="1504800" y="1689120"/>
            <a:ext cx="6102360" cy="5205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 descr=""/>
          <p:cNvPicPr/>
          <p:nvPr/>
        </p:nvPicPr>
        <p:blipFill>
          <a:blip r:embed="rId1"/>
          <a:stretch/>
        </p:blipFill>
        <p:spPr>
          <a:xfrm>
            <a:off x="457200" y="1481040"/>
            <a:ext cx="8229600" cy="4525920"/>
          </a:xfrm>
          <a:prstGeom prst="rect">
            <a:avLst/>
          </a:prstGeom>
          <a:ln w="0">
            <a:noFill/>
          </a:ln>
        </p:spPr>
      </p:pic>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464646"/>
              </a:solidFill>
              <a:latin typeface="Lucida Sans Unicode"/>
            </a:endParaRPr>
          </a:p>
        </p:txBody>
      </p:sp>
      <p:pic>
        <p:nvPicPr>
          <p:cNvPr id="662" name="Picture 2" descr="C:\Users\User\AppData\Local\Temp\IMG-20171011-WA0035.jpg"/>
          <p:cNvPicPr/>
          <p:nvPr/>
        </p:nvPicPr>
        <p:blipFill>
          <a:blip r:embed="rId2"/>
          <a:stretch/>
        </p:blipFill>
        <p:spPr>
          <a:xfrm>
            <a:off x="-108000" y="0"/>
            <a:ext cx="9252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 descr=""/>
          <p:cNvPicPr/>
          <p:nvPr/>
        </p:nvPicPr>
        <p:blipFill>
          <a:blip r:embed="rId1"/>
          <a:stretch/>
        </p:blipFill>
        <p:spPr>
          <a:xfrm>
            <a:off x="457200" y="1481040"/>
            <a:ext cx="8229600" cy="4525920"/>
          </a:xfrm>
          <a:prstGeom prst="rect">
            <a:avLst/>
          </a:prstGeom>
          <a:ln w="0">
            <a:noFill/>
          </a:ln>
        </p:spPr>
      </p:pic>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464646"/>
              </a:solidFill>
              <a:latin typeface="Lucida Sans Unicode"/>
            </a:endParaRPr>
          </a:p>
        </p:txBody>
      </p:sp>
      <p:pic>
        <p:nvPicPr>
          <p:cNvPr id="665" name="Picture 2" descr="C:\Users\User\AppData\Local\Temp\IMG-20171011-WA0036.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8"/>
          <p:cNvSpPr/>
          <p:nvPr/>
        </p:nvSpPr>
        <p:spPr>
          <a:xfrm>
            <a:off x="857160" y="500040"/>
            <a:ext cx="7643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المزيج التسويقي </a:t>
            </a:r>
            <a:endParaRPr b="0" lang="en-US" sz="4400" spc="-1" strike="noStrike">
              <a:solidFill>
                <a:srgbClr val="000000"/>
              </a:solidFill>
              <a:latin typeface="Arial"/>
            </a:endParaRPr>
          </a:p>
        </p:txBody>
      </p:sp>
      <p:sp>
        <p:nvSpPr>
          <p:cNvPr id="592"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596"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597"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598"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
        <p:nvSpPr>
          <p:cNvPr id="599" name="Oval 1"/>
          <p:cNvSpPr/>
          <p:nvPr/>
        </p:nvSpPr>
        <p:spPr>
          <a:xfrm>
            <a:off x="515880" y="703440"/>
            <a:ext cx="1913040" cy="144144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محاضرة الأولى</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8"/>
          <p:cNvSpPr/>
          <p:nvPr/>
        </p:nvSpPr>
        <p:spPr>
          <a:xfrm>
            <a:off x="684360" y="625320"/>
            <a:ext cx="7775280" cy="6979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تعريف التوز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a:t>
            </a:r>
            <a:r>
              <a:rPr b="0" lang="ar-SA" sz="4800" spc="-1" strike="noStrike">
                <a:solidFill>
                  <a:srgbClr val="105766"/>
                </a:solidFill>
                <a:latin typeface="Arial"/>
                <a:cs typeface="PT Bold Heading"/>
              </a:rPr>
              <a:t>حسب جمعية التوزيع الأمريكية </a:t>
            </a:r>
            <a:r>
              <a:rPr b="0" lang="ar-SA" sz="4800" spc="-1" strike="noStrike">
                <a:solidFill>
                  <a:srgbClr val="c00000"/>
                </a:solidFill>
                <a:latin typeface="Arial"/>
                <a:cs typeface="PT Bold Heading"/>
              </a:rPr>
              <a:t>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تنفيذ أنشطة الشركة المختلفة التي تهدف إلى توجيه تدفق السلع والخدمات من المُنتِج إلى المستهلك أو المستخد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8"/>
          <p:cNvSpPr/>
          <p:nvPr/>
        </p:nvSpPr>
        <p:spPr>
          <a:xfrm>
            <a:off x="1285920" y="189000"/>
            <a:ext cx="657216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المكونات الرئيسية للتوزيع والإمدا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PT Bold Heading"/>
              </a:rPr>
              <a:t> </a:t>
            </a:r>
            <a:endParaRPr b="0" lang="en-US" sz="5400" spc="-1" strike="noStrike">
              <a:solidFill>
                <a:srgbClr val="000000"/>
              </a:solidFill>
              <a:latin typeface="Arial"/>
            </a:endParaRPr>
          </a:p>
        </p:txBody>
      </p:sp>
      <p:sp>
        <p:nvSpPr>
          <p:cNvPr id="602" name="Rounded Rectangle 2"/>
          <p:cNvSpPr/>
          <p:nvPr/>
        </p:nvSpPr>
        <p:spPr>
          <a:xfrm>
            <a:off x="826920" y="1547640"/>
            <a:ext cx="7272360" cy="10814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1</a:t>
            </a:r>
            <a:r>
              <a:rPr b="0" lang="ar-SA" sz="1800" spc="-1" strike="noStrike">
                <a:solidFill>
                  <a:srgbClr val="000000"/>
                </a:solidFill>
                <a:latin typeface="Lucida Sans Unicode"/>
              </a:rPr>
              <a:t>- </a:t>
            </a:r>
            <a:r>
              <a:rPr b="1" lang="ar-SA" sz="2400" spc="-1" strike="noStrike">
                <a:solidFill>
                  <a:srgbClr val="da1f28"/>
                </a:solidFill>
                <a:latin typeface="Lucida Sans Unicode"/>
              </a:rPr>
              <a:t>إدارة التوزيع الداخلي</a:t>
            </a:r>
            <a:r>
              <a:rPr b="0" lang="ar-SA" sz="1800" spc="-1" strike="noStrike">
                <a:solidFill>
                  <a:srgbClr val="000000"/>
                </a:solidFill>
                <a:latin typeface="Lucida Sans Unicode"/>
              </a:rPr>
              <a:t>:تشمل الأنشطة المسئولة عن ادارة المواد الخام والسلع نصف المصنعة من </a:t>
            </a:r>
            <a:r>
              <a:rPr b="0" lang="ar-SA" sz="1800" spc="-1" strike="noStrike" u="sng">
                <a:solidFill>
                  <a:srgbClr val="000000"/>
                </a:solidFill>
                <a:uFillTx/>
                <a:latin typeface="Lucida Sans Unicode"/>
              </a:rPr>
              <a:t>الموردين إلى مستودعات الشركة</a:t>
            </a:r>
            <a:r>
              <a:rPr b="0" lang="ar-SA" sz="1800" spc="-1" strike="noStrike">
                <a:solidFill>
                  <a:srgbClr val="000000"/>
                </a:solidFill>
                <a:latin typeface="Lucida Sans Unicode"/>
              </a:rPr>
              <a:t>.</a:t>
            </a:r>
            <a:endParaRPr b="0" lang="en-US" sz="1800" spc="-1" strike="noStrike">
              <a:solidFill>
                <a:srgbClr val="000000"/>
              </a:solidFill>
              <a:latin typeface="Arial"/>
            </a:endParaRPr>
          </a:p>
        </p:txBody>
      </p:sp>
      <p:sp>
        <p:nvSpPr>
          <p:cNvPr id="603" name="Rounded Rectangle 3"/>
          <p:cNvSpPr/>
          <p:nvPr/>
        </p:nvSpPr>
        <p:spPr>
          <a:xfrm>
            <a:off x="826920" y="3008160"/>
            <a:ext cx="7272360" cy="1008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2</a:t>
            </a:r>
            <a:r>
              <a:rPr b="1" lang="ar-SA" sz="2400" spc="-1" strike="noStrike">
                <a:solidFill>
                  <a:srgbClr val="da1f28"/>
                </a:solidFill>
                <a:latin typeface="Lucida Sans Unicode"/>
              </a:rPr>
              <a:t>-إدارة المواد </a:t>
            </a:r>
            <a:r>
              <a:rPr b="0" lang="ar-SA" sz="1800" spc="-1" strike="noStrike">
                <a:solidFill>
                  <a:srgbClr val="000000"/>
                </a:solidFill>
                <a:latin typeface="Lucida Sans Unicode"/>
              </a:rPr>
              <a:t>:تشمل الأنشطة المسئولة عن ادارة المواد الخام والسلع نصف المصنع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ن </a:t>
            </a:r>
            <a:r>
              <a:rPr b="0" lang="ar-SA" sz="1800" spc="-1" strike="noStrike" u="sng">
                <a:solidFill>
                  <a:srgbClr val="000000"/>
                </a:solidFill>
                <a:uFillTx/>
                <a:latin typeface="Lucida Sans Unicode"/>
              </a:rPr>
              <a:t>المخزون لتلبية طلبات الانتاج.  </a:t>
            </a:r>
            <a:endParaRPr b="0" lang="en-US" sz="1800" spc="-1" strike="noStrike">
              <a:solidFill>
                <a:srgbClr val="000000"/>
              </a:solidFill>
              <a:latin typeface="Arial"/>
            </a:endParaRPr>
          </a:p>
        </p:txBody>
      </p:sp>
      <p:sp>
        <p:nvSpPr>
          <p:cNvPr id="604" name="Rounded Rectangle 4"/>
          <p:cNvSpPr/>
          <p:nvPr/>
        </p:nvSpPr>
        <p:spPr>
          <a:xfrm>
            <a:off x="826920" y="4473720"/>
            <a:ext cx="7272360" cy="107928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3</a:t>
            </a:r>
            <a:r>
              <a:rPr b="1" lang="ar-SA" sz="2400" spc="-1" strike="noStrike">
                <a:solidFill>
                  <a:srgbClr val="da1f28"/>
                </a:solidFill>
                <a:latin typeface="Lucida Sans Unicode"/>
              </a:rPr>
              <a:t> -إدارة التوزيع المادي </a:t>
            </a:r>
            <a:r>
              <a:rPr b="0" lang="ar-SA" sz="1800" spc="-1" strike="noStrike">
                <a:solidFill>
                  <a:srgbClr val="000000"/>
                </a:solidFill>
                <a:latin typeface="Lucida Sans Unicode"/>
              </a:rPr>
              <a:t>:تشمل الأنشطة المسئولة عن ادارة المواد الخام والسلع تامة الصنع </a:t>
            </a:r>
            <a:r>
              <a:rPr b="0" lang="ar-SA" sz="1800" spc="-1" strike="noStrike" u="sng">
                <a:solidFill>
                  <a:srgbClr val="000000"/>
                </a:solidFill>
                <a:uFillTx/>
                <a:latin typeface="Lucida Sans Unicode"/>
              </a:rPr>
              <a:t>الى الأسواق والزبائن المستهدفين.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
          <p:cNvSpPr/>
          <p:nvPr/>
        </p:nvSpPr>
        <p:spPr>
          <a:xfrm>
            <a:off x="1596960" y="295200"/>
            <a:ext cx="6093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ثانياً: مفهوم التوزيع والامداد</a:t>
            </a:r>
            <a:endParaRPr b="0" lang="en-US" sz="4000" spc="-1" strike="noStrike">
              <a:solidFill>
                <a:srgbClr val="000000"/>
              </a:solidFill>
              <a:latin typeface="Arial"/>
            </a:endParaRPr>
          </a:p>
        </p:txBody>
      </p:sp>
      <p:sp>
        <p:nvSpPr>
          <p:cNvPr id="607" name="Text Box 6"/>
          <p:cNvSpPr/>
          <p:nvPr/>
        </p:nvSpPr>
        <p:spPr>
          <a:xfrm>
            <a:off x="900000" y="135720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608" name="Rectangle 1"/>
          <p:cNvSpPr/>
          <p:nvPr/>
        </p:nvSpPr>
        <p:spPr>
          <a:xfrm>
            <a:off x="611280" y="3068640"/>
            <a:ext cx="7993080" cy="208908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2</a:t>
            </a:r>
            <a:r>
              <a:rPr b="1" lang="ar-SA" sz="2400" spc="-1" strike="noStrike">
                <a:solidFill>
                  <a:srgbClr val="000000"/>
                </a:solidFill>
                <a:latin typeface="Lucida Sans Unicode"/>
              </a:rPr>
              <a:t>- المفهوم الحديث للتوزيع</a:t>
            </a:r>
            <a:r>
              <a:rPr b="0" lang="ar-SA" sz="1800" spc="-1" strike="noStrike">
                <a:solidFill>
                  <a:srgbClr val="000000"/>
                </a:solidFill>
                <a:latin typeface="Lucida Sans Unicode"/>
              </a:rPr>
              <a:t>: </a:t>
            </a:r>
            <a:r>
              <a:rPr b="0" lang="ar-SA" sz="2400" spc="-1" strike="noStrike">
                <a:solidFill>
                  <a:srgbClr val="000000"/>
                </a:solidFill>
                <a:latin typeface="Lucida Sans Unicode"/>
              </a:rPr>
              <a:t>هو العمل الاداري الخاص بالتخطيط الاستراتيجي لجهود المشروع وتوجيهها والرقابة على استخدامها في برامج تستهدف الربح للمنظمة واشباع حاجات المستهلكين ذلك العمل الذي يتضمن توحيد كل انشطة المنظمة بما فيها الانتاج والتمويل والبيع في نظام عمل موحد.</a:t>
            </a:r>
            <a:endParaRPr b="0" lang="en-US" sz="2400" spc="-1" strike="noStrike">
              <a:solidFill>
                <a:srgbClr val="000000"/>
              </a:solidFill>
              <a:latin typeface="Arial"/>
            </a:endParaRPr>
          </a:p>
        </p:txBody>
      </p:sp>
      <p:sp>
        <p:nvSpPr>
          <p:cNvPr id="609" name="Rectangle 3"/>
          <p:cNvSpPr/>
          <p:nvPr/>
        </p:nvSpPr>
        <p:spPr>
          <a:xfrm>
            <a:off x="611280" y="1606680"/>
            <a:ext cx="7993080" cy="103032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d314e"/>
                </a:solidFill>
                <a:latin typeface="Lucida Sans Unicode"/>
              </a:rPr>
              <a:t>1</a:t>
            </a:r>
            <a:r>
              <a:rPr b="1" lang="ar-SA" sz="2400" spc="-1" strike="noStrike">
                <a:solidFill>
                  <a:srgbClr val="1d314e"/>
                </a:solidFill>
                <a:latin typeface="Lucida Sans Unicode"/>
              </a:rPr>
              <a:t>- المفهوم التقليدي للتوزيع: ويتضمن أن التوز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b4a76"/>
                </a:solidFill>
                <a:latin typeface="Lucida Sans Unicode"/>
              </a:rPr>
              <a:t>نشاط انساني يستهدف تسهيل عملية التبادل للسلع والخدمات</a:t>
            </a:r>
            <a:endParaRPr b="0" lang="en-US" sz="2400" spc="-1" strike="noStrike">
              <a:solidFill>
                <a:srgbClr val="000000"/>
              </a:solidFill>
              <a:latin typeface="Arial"/>
            </a:endParaRPr>
          </a:p>
        </p:txBody>
      </p:sp>
      <p:sp>
        <p:nvSpPr>
          <p:cNvPr id="610" name="Oval 2"/>
          <p:cNvSpPr/>
          <p:nvPr/>
        </p:nvSpPr>
        <p:spPr>
          <a:xfrm>
            <a:off x="179280" y="404640"/>
            <a:ext cx="1656000" cy="95256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محاضرة الثانية</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12"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وجه الاختلاف بين مفهومي البيع والتوزيع</a:t>
            </a:r>
            <a:endParaRPr b="0" lang="en-US" sz="3600" spc="-1" strike="noStrike">
              <a:solidFill>
                <a:srgbClr val="000000"/>
              </a:solidFill>
              <a:latin typeface="Arial"/>
            </a:endParaRPr>
          </a:p>
        </p:txBody>
      </p:sp>
      <p:graphicFrame>
        <p:nvGraphicFramePr>
          <p:cNvPr id="613" name=""/>
          <p:cNvGraphicFramePr/>
          <p:nvPr/>
        </p:nvGraphicFramePr>
        <p:xfrm>
          <a:off x="461880" y="1379520"/>
          <a:ext cx="8502840" cy="4998960"/>
        </p:xfrm>
        <a:graphic>
          <a:graphicData uri="http://schemas.openxmlformats.org/drawingml/2006/table">
            <a:tbl>
              <a:tblPr/>
              <a:tblGrid>
                <a:gridCol w="3171960"/>
                <a:gridCol w="2658960"/>
                <a:gridCol w="26719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توز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من ناح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161640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جنب الشركة ظاهرة تراكم المنتج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مكن الشركة من تصريف المنتجات المتراكمة لدي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صور الوظيف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70164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عى لتحقيق الربح من خلال رضا المستهل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تحقق الربح من خلال حجم المبيع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بحث عن الربح</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1890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بق عملية الانتاج ويليه.</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تصر دورة على تصريف الانتاج فهو يلي 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الموقع من انشطة المؤسس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100656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ركز على ارضاء المستهلك عن السلعة وعن الخدمات المرفقة ب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تركز الشركة على تحويل السلع لنقو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جال التركيز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3114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انتاج يندرج ضمن المنظور التكاملي لأنشطة الشركة حيث تكون على نفس المستوى لبلوغ الأهدا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أسبقية ل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كامل وانفراد الجهود</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show_file3"/>
          <p:cNvPicPr/>
          <p:nvPr/>
        </p:nvPicPr>
        <p:blipFill>
          <a:blip r:embed="rId1">
            <a:lum bright="70000" contrast="-70000"/>
          </a:blip>
          <a:stretch/>
        </p:blipFill>
        <p:spPr>
          <a:xfrm>
            <a:off x="-547560" y="-100080"/>
            <a:ext cx="9753480" cy="7315200"/>
          </a:xfrm>
          <a:prstGeom prst="rect">
            <a:avLst/>
          </a:prstGeom>
          <a:ln w="0">
            <a:noFill/>
          </a:ln>
        </p:spPr>
      </p:pic>
      <p:sp>
        <p:nvSpPr>
          <p:cNvPr id="615" name="Text Box 8"/>
          <p:cNvSpPr/>
          <p:nvPr/>
        </p:nvSpPr>
        <p:spPr>
          <a:xfrm>
            <a:off x="2933640" y="800280"/>
            <a:ext cx="6067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endParaRPr b="0" lang="en-US" sz="3600" spc="-1" strike="noStrike">
              <a:solidFill>
                <a:srgbClr val="000000"/>
              </a:solidFill>
              <a:latin typeface="Arial"/>
            </a:endParaRPr>
          </a:p>
        </p:txBody>
      </p:sp>
      <p:sp>
        <p:nvSpPr>
          <p:cNvPr id="616" name="Rectangle 1"/>
          <p:cNvSpPr/>
          <p:nvPr/>
        </p:nvSpPr>
        <p:spPr>
          <a:xfrm>
            <a:off x="1547640" y="430200"/>
            <a:ext cx="57610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ثالثاً: مراحل تطور مفهوم التوزيع والامداد </a:t>
            </a:r>
            <a:endParaRPr b="0" lang="en-US" sz="2800" spc="-1" strike="noStrike">
              <a:solidFill>
                <a:srgbClr val="000000"/>
              </a:solidFill>
              <a:latin typeface="Arial"/>
            </a:endParaRPr>
          </a:p>
        </p:txBody>
      </p:sp>
      <p:pic>
        <p:nvPicPr>
          <p:cNvPr id="617" name="Diagram 2" descr=""/>
          <p:cNvPicPr/>
          <p:nvPr/>
        </p:nvPicPr>
        <p:blipFill>
          <a:blip r:embed="rId2"/>
          <a:stretch/>
        </p:blipFill>
        <p:spPr>
          <a:xfrm>
            <a:off x="1500120" y="1090440"/>
            <a:ext cx="6558120" cy="531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7"/>
          <p:cNvSpPr/>
          <p:nvPr/>
        </p:nvSpPr>
        <p:spPr>
          <a:xfrm>
            <a:off x="1116000" y="60480"/>
            <a:ext cx="720108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1" lang="ar-SA" sz="4400" spc="-1" strike="noStrike">
                <a:solidFill>
                  <a:srgbClr val="c00000"/>
                </a:solidFill>
                <a:latin typeface="Arial"/>
                <a:cs typeface="PT Bold Heading"/>
              </a:rPr>
              <a:t>رابعاً: أهداف إدارة التوزيع والامداد</a:t>
            </a:r>
            <a:endParaRPr b="0" lang="en-US" sz="4400" spc="-1" strike="noStrike">
              <a:solidFill>
                <a:srgbClr val="000000"/>
              </a:solidFill>
              <a:latin typeface="Arial"/>
            </a:endParaRPr>
          </a:p>
        </p:txBody>
      </p:sp>
      <p:pic>
        <p:nvPicPr>
          <p:cNvPr id="619" name="Diagram 2" descr=""/>
          <p:cNvPicPr/>
          <p:nvPr/>
        </p:nvPicPr>
        <p:blipFill>
          <a:blip r:embed="rId1"/>
          <a:stretch/>
        </p:blipFill>
        <p:spPr>
          <a:xfrm>
            <a:off x="1523880" y="1395360"/>
            <a:ext cx="6096240" cy="406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1" name="Text Box 7"/>
          <p:cNvSpPr/>
          <p:nvPr/>
        </p:nvSpPr>
        <p:spPr>
          <a:xfrm>
            <a:off x="1571760" y="345960"/>
            <a:ext cx="621504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خامساً:وظائف التوزيع والامداد</a:t>
            </a:r>
            <a:endParaRPr b="0" lang="en-US" sz="4400" spc="-1" strike="noStrike">
              <a:solidFill>
                <a:srgbClr val="000000"/>
              </a:solidFill>
              <a:latin typeface="Arial"/>
            </a:endParaRPr>
          </a:p>
        </p:txBody>
      </p:sp>
      <p:sp>
        <p:nvSpPr>
          <p:cNvPr id="622" name="Text Box 8"/>
          <p:cNvSpPr/>
          <p:nvPr/>
        </p:nvSpPr>
        <p:spPr>
          <a:xfrm>
            <a:off x="1000080" y="1500120"/>
            <a:ext cx="72151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ايصال السلع والماركات المختلفة للمستهلكين في الوقت والمكان المناسب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2</a:t>
            </a:r>
            <a:r>
              <a:rPr b="0" lang="ar-SA" sz="3600" spc="-1" strike="noStrike">
                <a:solidFill>
                  <a:srgbClr val="002060"/>
                </a:solidFill>
                <a:latin typeface="Arial"/>
                <a:ea typeface="PT Bold Heading"/>
              </a:rPr>
              <a:t>-تزويد المستهلكين بكافة المعلومات والبيانات عن كيفية استخدام وصيانة السلع من التلف.</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3</a:t>
            </a:r>
            <a:r>
              <a:rPr b="0" lang="ar-SA" sz="3600" spc="-1" strike="noStrike">
                <a:solidFill>
                  <a:srgbClr val="002060"/>
                </a:solidFill>
                <a:latin typeface="Arial"/>
                <a:ea typeface="PT Bold Heading"/>
              </a:rPr>
              <a:t>-تخزين السلع والمواد الخام والمواد نصف المصنعة لحين الحاجة الي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4</a:t>
            </a:r>
            <a:r>
              <a:rPr b="0" lang="ar-SA" sz="3600" spc="-1" strike="noStrike">
                <a:solidFill>
                  <a:srgbClr val="002060"/>
                </a:solidFill>
                <a:latin typeface="Arial"/>
                <a:ea typeface="PT Bold Heading"/>
              </a:rPr>
              <a:t>-تأمين نقل السلع بالوسائل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5</a:t>
            </a:r>
            <a:r>
              <a:rPr b="0" lang="ar-SA" sz="3600" spc="-1" strike="noStrike">
                <a:solidFill>
                  <a:srgbClr val="002060"/>
                </a:solidFill>
                <a:latin typeface="Arial"/>
                <a:ea typeface="PT Bold Heading"/>
              </a:rPr>
              <a:t>-تسهيلات ماليه مرتبطة بالشحن والتأمين على البضائع المنقولة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User</cp:lastModifiedBy>
  <dcterms:modified xsi:type="dcterms:W3CDTF">2017-10-11T18:20:46Z</dcterms:modified>
  <cp:revision>902</cp:revision>
  <dc:subject/>
  <dc:title>الشريحة 1</dc:title>
</cp:coreProperties>
</file>