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CB1-DF6C-481E-A1EC-29222945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F2E-815D-48D8-A4FD-BA1FB932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E09-B092-4F16-9EF2-F39C8165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E7E-A90B-4624-A818-3B29232A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0893-B29C-43CF-A591-DE382412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4EA5-04A2-4FE8-A493-10EF475E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DDF7-10E2-4F44-AB32-B8BAE07B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9AF7-0D2D-41F0-B8AB-F4FC8679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8B19-5508-4842-B61E-BCBC0E63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53A8-467F-42AA-86FB-1EC95981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9D4B-00D0-4762-92BE-2700F1A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AD7-93E3-42D5-B3ED-FC66F457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B8F1-4254-44B8-B508-DC0ACB67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88B4-10D3-4208-AC8F-39612E50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B17F-7E2A-4D5F-8FBD-C869966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98D5-47DA-459F-8124-8A2F882C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95D0-2298-4D3A-9237-7362CF2F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1E2-F7ED-47F6-A81B-68F4F1BD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964-3B24-4A5F-ACBD-D582760C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898-DD72-4107-9ACB-FEE0DBB9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8BA-E837-4398-8D67-37C6678A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CB1-5678-43E3-B9D1-401B2321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48E-CF0F-4850-85FB-5C313E6F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980-286D-410B-8D4E-2DC5CE5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8E1B-91DC-43D0-B4C0-1C4C9F35FAA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8177-3D61-4B66-9929-BCDB1F722E05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Verdana"/>
              </a:rPr>
              <a:t>الفصل الثاني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Verdana"/>
              </a:rPr>
              <a:t>طبيعة الاقتصاد وطرق دراست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الاقتصاد الجزئي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فإنه يقوم بدراسة وتحليل سلوك وحدات اقتصادية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فردية، كالمستهلك، العوامل المحددة لطلب المستهلك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على سلعة ما، المنتج والعوامل المحددة للكمية التي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يقوم المنتج بإنتاجها وبيعها، المنشأة وسلوك المنشأة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تجاه العمالة والتكاليف والإنتاج، توازن السوق وما إلى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ذلك.</a:t>
            </a:r>
            <a:r>
              <a:rPr b="0" lang="ar-KW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ff33"/>
                </a:solidFill>
                <a:latin typeface="Arial"/>
              </a:rPr>
              <a:t>منهجية البحث في الاقتصا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هناك طريقتين للبحث العلمي تناسب علم الاقتصاد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3399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ff3399"/>
                </a:solidFill>
                <a:latin typeface="Verdana"/>
              </a:rPr>
              <a:t>. </a:t>
            </a:r>
            <a:r>
              <a:rPr b="1" lang="ar-SA" sz="2400" spc="-1" strike="noStrike">
                <a:solidFill>
                  <a:srgbClr val="ff3399"/>
                </a:solidFill>
                <a:latin typeface="Verdana"/>
              </a:rPr>
              <a:t>الاستقراء (الاستدلال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تعتمد على ربط الظواهر الاقتصادية بناء على البيانات التاريخية، ثم يتم استخراج مبادئ وأحكام عام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ثال: يمكن ملاحظة وجود علاقة طردية من خلال البيانات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سنوات الماضية بين كمية النقود والمستوى العام للأسعار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3200" spc="-1" strike="noStrike">
                <a:solidFill>
                  <a:srgbClr val="ff3399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ff3399"/>
                </a:solidFill>
                <a:latin typeface="Verdana"/>
              </a:rPr>
              <a:t>. الاستنباط (الاستنتاج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تمثل في وضع فروض أولية حول ظاهرة معينة ثم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قيام بعملية استنتاجات منطقية للوصول الى طبيع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علاقة بين المتغيرات، ثم اختبار هذه الفرضية من خلال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بيانا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ff33"/>
                </a:solidFill>
                <a:latin typeface="Arial"/>
              </a:rPr>
              <a:t>أدوات التحليل الاقتصادي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. الطريقة الوصفي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وضيح النظرية الاقتصادية أو العلاقة بين متغيرين بصورة كلامي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. الطريقة البياني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قيام برسم بياني يوضح العلاقة بين المتغيرات (طردية أم عكسية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. الطريقة الرياضي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يوضح العلاقة بين المتغيرات بصورة رياض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الة الطلب:  ك ط = أ – ب 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225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ecff"/>
                </a:solidFill>
                <a:latin typeface="Arial"/>
              </a:rPr>
              <a:t>تمرين لبيان العلاقة الطردية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876560" y="1981080"/>
            <a:ext cx="349092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جدول العر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743200"/>
          <a:ext cx="3228840" cy="3078000"/>
        </p:xfrm>
        <a:graphic>
          <a:graphicData uri="http://schemas.openxmlformats.org/drawingml/2006/table">
            <a:tbl>
              <a:tblPr/>
              <a:tblGrid>
                <a:gridCol w="1585800"/>
                <a:gridCol w="1643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الكمية المعروض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السعر بالريا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Object 28"/>
          <p:cNvGraphicFramePr/>
          <p:nvPr/>
        </p:nvGraphicFramePr>
        <p:xfrm>
          <a:off x="152280" y="2133720"/>
          <a:ext cx="428652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428652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الخطوط العريض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عريف علم الاقتصاد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شكلة الاقتصادي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اقتصاد الجزئي والاقتصاد الكلي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نهجية البحث في الاقتصاد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دوات التحليل الاقتصادي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عريف علم الاقتصاد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يمكن تعريف الاقتصاد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أنه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ar-SA" sz="3600" spc="-1" strike="noStrike">
                <a:solidFill>
                  <a:srgbClr val="ccecff"/>
                </a:solidFill>
                <a:latin typeface="Verdana"/>
              </a:rPr>
              <a:t>العلم الذي يبحث عن أفضل السبل لاستخدام الموارد الاقتصادية المتاحة لتلبية احتياجات ورغبات الأفراد والمجتمعات من السلع والخدمات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مشكلة الاقتصادية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Economic Probl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هي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Verdana"/>
              </a:rPr>
              <a:t>تعدد الحاجات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في ظل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Verdana"/>
              </a:rPr>
              <a:t>ندرة الموارد الاقتصادية المتاح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ناصر المشكلة الاقتصادية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اجات: حاجات الإنسان كثيرة ومتنوعة كلما ظهرت حاجة وأشبعت ظهرت  حاجه أخرى (لأن حاجات الإنسان كثيرة ومتعددة ومتجددة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الندرة: الموارد متوفرة ولكن بكميات قليلة والتي لا يمكن أن تفي بجميع احتياجات أفراد المجتم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حل للمشكلة الاقتصادية والحل يكون بـ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ff"/>
                </a:solidFill>
                <a:uFillTx/>
                <a:latin typeface="Verdana"/>
                <a:cs typeface="Microsoft Uighur"/>
              </a:rPr>
              <a:t>الاختيا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  <a:ea typeface="Microsoft Uighur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من خلال التصرف الرشيد بأن تحقق أقصى إشباع ممكن في ظل ترتيب الاحتياجات من الأهم فألاقل أهمي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Verdana"/>
                <a:cs typeface="Microsoft Uighur"/>
              </a:rPr>
              <a:t>التضحية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Verdana"/>
                <a:ea typeface="Microsoft Uighur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أي التنازل عن حاجات غير ملحه للحصول على حاجات ملح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ff33"/>
                </a:solidFill>
                <a:latin typeface="Arial"/>
              </a:rPr>
              <a:t>الحاجات الإنسانية وخصائصها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-الحاجات الإنسانية متعددة ومختلف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-الحاجات الإنسانية متغيرة ومتزايدة بتغير الزمان والمكا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-الحاجات الإنسانية متجددة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ff33"/>
                </a:solidFill>
                <a:latin typeface="Arial"/>
              </a:rPr>
              <a:t>الموارد الاقتصادية (عناصر الانتاج)</a:t>
            </a:r>
            <a:br>
              <a:rPr sz="4000"/>
            </a:b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conomic Resources (Factors of Production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لموارد الاقتصادية هي كل ما يحقق منفعة مباشرة أو غير مباشرة للإنسان وتكون موجودة بشكل ناد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 algn="just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خاصية الندرة من أهم خصائص الموارد الاقتصادية. الندرة فكرة نسبية مرتبطة بالحاجة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 algn="just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لمتوفر من الموارد الاقتصادية لا يكفي لتلبية جميع الاحتياجات الي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 algn="just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ذا كان المتوفر من المورد اكثر من الحاجة اليه يسمى ”مورد حر“ ولا يكون له ثمن (الهواء – الرمال في الصحراء ..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يمكن تقسيم الموارد الاقتصادية الى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مجموعات رئيسي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أ-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العمل: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الموارد البشرية وأصله العمل ونقصد به ذلك المجهود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عضلي والذهني الذي يقوم به الإنسان لغرض إنتاج السلع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و الخدمات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ب- الموارد الطبيعية (الأرض):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ونقصد به كل ما على سطحها أ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في باطنها   أو فوقها ويمكن استخدامه في الإنتاج كالموارد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زراعية والحيوانية والمعدنية والأمطار والرياح والمناخ بشكل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عا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ج- رأس المال: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ونقصد به الموارد التي أنتجها الإنسان لغرض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ساعدته في الإنتاج كالآلات والمعدات والمباني والجسور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والطر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66ff33"/>
                </a:solidFill>
                <a:latin typeface="Arial"/>
              </a:rPr>
              <a:t>الاقتصاد الكلي (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Macroeconomics</a:t>
            </a:r>
            <a:r>
              <a:rPr b="1" lang="ar-KW" sz="4000" spc="-1" strike="noStrike">
                <a:solidFill>
                  <a:srgbClr val="66ff33"/>
                </a:solidFill>
                <a:latin typeface="Arial"/>
              </a:rPr>
              <a:t>) والاقتصاد الجزئي (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Microeconomics</a:t>
            </a:r>
            <a:r>
              <a:rPr b="1" lang="ar-KW" sz="40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just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اقتصاد الكلي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يقوم الاقتصاد الكلي بالتركيز على دراسة اقتصاد دولة ما ككل أو دراسة القطاعات المختلفة المكونة للاقتصاد كدراسة قطاع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المستهلكين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والذي يتضمن المستهلكين ككل أو دراسة القطاع الحكومي أو قطاع المنتجين أو القطاع الخارجي والذي يتضمن صادرات وواردات السلع والخدمات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ويركز التحليل الكلي على ظواهر اقتصادية كلية كالمستوى العام للأسعار، معدلات التضخم، نسبة البطالة، النمو الاقتصادي، التنمية، مستويات الاستثمار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6:51:21Z</dcterms:created>
  <dc:creator>DrMajdi</dc:creator>
  <dc:description/>
  <dc:language>en-US</dc:language>
  <cp:lastModifiedBy>admin</cp:lastModifiedBy>
  <dcterms:modified xsi:type="dcterms:W3CDTF">2012-01-01T22:57:36Z</dcterms:modified>
  <cp:revision>46</cp:revision>
  <dc:subject/>
  <dc:title>الشريحة 1</dc:title>
</cp:coreProperties>
</file>