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5AF-8211-4B8F-8159-3472E91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4DA-18E9-4B94-8505-CDFEA39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FAC-C481-49B6-9AB4-ADF881A2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DFD-E79A-4166-B43A-FFC99D33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065-8610-4B7C-9DFB-A0A15935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5FFC-7DE5-4CFE-8BDD-23094D6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911F-0D6D-420E-B980-0CF7F698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53C5-7A4F-494F-8429-DE0766FF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ED0E-FA4D-440C-88DD-9B80A09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6A5A-BAB9-40D1-B014-67AC9623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387-9536-4599-A702-E13A418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35C-8A0D-41B1-BDC5-3081BE40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12C9-CD57-4A74-9209-90696F2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A0B-DC9F-4315-B6BD-4BAB23B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B573-E60C-4B58-8006-AEA7A9C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5CD8-F05C-40E3-AD8E-9A53E4B3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D1AE-A906-49D0-9F06-5081646E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537-ACFB-4EEC-8282-0C10A21C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294-B32C-4559-8ED8-A4A7F92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455-167F-45AD-97D3-9D3534C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5DF-C6BE-4E14-BDD5-78A9CEC0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79B-6C64-4E85-B6C3-BF11331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E5A-39AC-4C8D-BF48-D10CA134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901-6FA4-4E75-9318-E366B1C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847-5AAE-416A-AF3B-C0332AF946C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DCF0-C832-4076-A5BE-93F4034D719F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</a:rPr>
              <a:t>الفصل الثان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</a:rPr>
              <a:t>طبيعة الاقتصاد وطرق دراست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الاقتصاد الجزئي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فإنه يقوم بدراسة وتحليل سلوك وحدات اقتصادية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فردية، كالمستهلك، العوامل المحددة لطلب المستهلك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على سلعة ما، المنتج والعوامل المحددة للكمية التي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يقوم المنتج بإنتاجها وبيعها، المنشأة وسلوك المنشأة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تجاه العمالة والتكاليف والإنتاج، توازن السوق وما إلى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ذلك.</a:t>
            </a:r>
            <a:r>
              <a:rPr b="0" lang="ar-KW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ff33"/>
                </a:solidFill>
                <a:latin typeface="Arial"/>
              </a:rPr>
              <a:t>منهجية البحث في الاقتصا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هناك طريقتين للبحث العلمي تناسب علم الاقتصاد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3399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ff3399"/>
                </a:solidFill>
                <a:latin typeface="Verdana"/>
              </a:rPr>
              <a:t>. </a:t>
            </a:r>
            <a:r>
              <a:rPr b="1" lang="ar-SA" sz="2400" spc="-1" strike="noStrike">
                <a:solidFill>
                  <a:srgbClr val="ff3399"/>
                </a:solidFill>
                <a:latin typeface="Verdana"/>
              </a:rPr>
              <a:t>الاستقراء (الاستدلال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عتمد على ربط الظواهر الاقتصادية بناء على البيانات التاريخية، ثم يتم استخراج مبادئ وأحكام عامة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ثال: يمكن ملاحظة وجود علاقة طردية من خلال البيانات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سنوات الماضية بين كمية النقود والمستوى العام للأسعار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3200" spc="-1" strike="noStrike">
                <a:solidFill>
                  <a:srgbClr val="ff3399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ff3399"/>
                </a:solidFill>
                <a:latin typeface="Verdana"/>
              </a:rPr>
              <a:t>. الاستنباط (الاستنتاج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تمثل في وضع فروض أولية حول ظاهرة معينة ثم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قيام بعملية استنتاجات منطقية للوصول الى طبيع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علاقة بين المتغيرات، ثم اختبار هذه الفرضية من خلال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بيانا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ff33"/>
                </a:solidFill>
                <a:latin typeface="Arial"/>
              </a:rPr>
              <a:t>أدوات التحليل الاقتصاد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. الطريقة الوصف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وضيح النظرية الاقتصادية أو العلاقة بين متغيرين بصورة كلامي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. الطريقة البيان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يام برسم بياني يوضح العلاقة بين المتغيرات (طردية أم عكسية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. الطريقة الرياض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يوضح العلاقة بين المتغيرات بصورة رياض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الة الطلب:  ك ط = أ – ب 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25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ecff"/>
                </a:solidFill>
                <a:latin typeface="Arial"/>
              </a:rPr>
              <a:t>تمرين لبيان العلاقة الطردية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876560" y="1981080"/>
            <a:ext cx="34909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جدول العر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743200"/>
          <a:ext cx="3228840" cy="3078000"/>
        </p:xfrm>
        <a:graphic>
          <a:graphicData uri="http://schemas.openxmlformats.org/drawingml/2006/table">
            <a:tbl>
              <a:tblPr/>
              <a:tblGrid>
                <a:gridCol w="1585800"/>
                <a:gridCol w="164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الكمية المعروض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السعر بالريا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Object 28"/>
          <p:cNvGraphicFramePr/>
          <p:nvPr/>
        </p:nvGraphicFramePr>
        <p:xfrm>
          <a:off x="152280" y="2133720"/>
          <a:ext cx="428652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428652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الخطوط العريض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علم الاقتصا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شكلة الاقتصادي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اقتصاد الجزئي والاقتصاد الكلي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نهجية البحث في الاقتصا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دوات التحليل الاقتصادي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عريف علم الاقتصاد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يمكن تعريف الاقتصاد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أنه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ar-SA" sz="3600" spc="-1" strike="noStrike">
                <a:solidFill>
                  <a:srgbClr val="ccecff"/>
                </a:solidFill>
                <a:latin typeface="Verdana"/>
              </a:rPr>
              <a:t>العلم الذي يبحث عن أفضل السبل لاستخدام الموارد الاقتصادية المتاحة لتلبية احتياجات ورغبات الأفراد والمجتمعات من السلع والخدمات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مشكلة الاقتصادية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conomic Probl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هي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Verdana"/>
              </a:rPr>
              <a:t>تعدد الحاجات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في ظل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Verdana"/>
              </a:rPr>
              <a:t>ندرة الموارد الاقتصادية المتاح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ناصر المشكلة الاقتصادية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اجات: حاجات الإنسان كثيرة ومتنوعة كلما ظهرت حاجة وأشبعت ظهرت  حاجه أخرى (لأن حاجات الإنسان كثيرة ومتعددة ومتجددة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الندرة: الموارد متوفرة ولكن بكميات قليلة والتي لا يمكن أن تفي بجميع احتياجات أفراد المجتم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حل للمشكلة الاقتصادية والحل يكون بـ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ff"/>
                </a:solidFill>
                <a:uFillTx/>
                <a:latin typeface="Verdana"/>
                <a:cs typeface="Microsoft Uighur"/>
              </a:rPr>
              <a:t>الاختيا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  <a:ea typeface="Microsoft Uighur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من خلال التصرف الرشيد بأن تحقق أقصى إشباع ممكن في ظل ترتيب الاحتياجات من الأهم فألاقل أهمي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just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Verdana"/>
                <a:cs typeface="Microsoft Uighur"/>
              </a:rPr>
              <a:t>التضحية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Verdana"/>
                <a:ea typeface="Microsoft Uighur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أي التنازل عن حاجات غير ملحه للحصول على حاجات ملح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ff33"/>
                </a:solidFill>
                <a:latin typeface="Arial"/>
              </a:rPr>
              <a:t>الحاجات الإنسانية وخصائصها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-الحاجات الإنسانية متعددة ومختلف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-الحاجات الإنسانية متغيرة ومتزايدة بتغير الزمان والمكا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-الحاجات الإنسانية متجدد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ff33"/>
                </a:solidFill>
                <a:latin typeface="Arial"/>
              </a:rPr>
              <a:t>الموارد الاقتصادية (عناصر الانتاج)</a:t>
            </a:r>
            <a:br>
              <a:rPr sz="4000"/>
            </a:b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conomic Resources (Factors of Production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لموارد الاقتصادية هي كل ما يحقق منفعة مباشرة أو غير مباشرة للإنسان وتكون موجودة بشكل ناد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خاصية الندرة من أهم خصائص الموارد الاقتصادية. الندرة فكرة نسبية مرتبطة بالحاج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لمتوفر من الموارد الاقتصادية لا يكفي لتلبية جميع الاحتياجات الي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 algn="just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ذا كان المتوفر من المورد اكثر من الحاجة اليه يسمى ”مورد حر“ ولا يكون له ثمن (الهواء – الرمال في الصحراء ..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يمكن تقسيم الموارد الاقتصادية الى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مجموعات رئيسية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أ-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العمل: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الموارد البشرية وأصله العمل ونقصد به ذلك المجهود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عضلي والذهني الذي يقوم به الإنسان لغرض إنتاج السلع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و الخدمات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ب- الموارد الطبيعية (الأرض):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ونقصد به كل ما على سطحها أ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في باطنها   أو فوقها ويمكن استخدامه في الإنتاج كالموارد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زراعية والحيوانية والمعدنية والأمطار والرياح والمناخ بشكل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عا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ج- رأس المال: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ونقصد به الموارد التي أنتجها الإنسان لغرض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ساعدته في الإنتاج كالآلات والمعدات والمباني والجسور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والطر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66ff33"/>
                </a:solidFill>
                <a:latin typeface="Arial"/>
              </a:rPr>
              <a:t>الاقتصاد الكلي (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Macroeconomics</a:t>
            </a:r>
            <a:r>
              <a:rPr b="1" lang="ar-KW" sz="4000" spc="-1" strike="noStrike">
                <a:solidFill>
                  <a:srgbClr val="66ff33"/>
                </a:solidFill>
                <a:latin typeface="Arial"/>
              </a:rPr>
              <a:t>) والاقتصاد الجزئي (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Microeconomics</a:t>
            </a:r>
            <a:r>
              <a:rPr b="1" lang="ar-KW" sz="40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just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اقتصاد الكلي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يقوم الاقتصاد الكلي بالتركيز على دراسة اقتصاد دولة ما ككل أو دراسة القطاعات المختلفة المكونة للاقتصاد كدراسة قطاع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المستهلكين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والذي يتضمن المستهلكين ككل أو دراسة القطاع الحكومي أو قطاع المنتجين أو القطاع الخارجي والذي يتضمن صادرات وواردات السلع والخدمات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KW" sz="3200" spc="-1" strike="noStrike">
                <a:solidFill>
                  <a:srgbClr val="ffffff"/>
                </a:solidFill>
                <a:latin typeface="Verdana"/>
              </a:rPr>
              <a:t>ويركز التحليل الكلي على ظواهر اقتصادية كلية كالمستوى العام للأسعار، معدلات التضخم، نسبة البطالة، النمو الاقتصادي، التنمية، مستويات الاستثمار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51:21Z</dcterms:created>
  <dc:creator>DrMajdi</dc:creator>
  <dc:description/>
  <dc:language>en-US</dc:language>
  <cp:lastModifiedBy>admin</cp:lastModifiedBy>
  <dcterms:modified xsi:type="dcterms:W3CDTF">2012-01-01T22:57:36Z</dcterms:modified>
  <cp:revision>46</cp:revision>
  <dc:subject/>
  <dc:title>الشريحة 1</dc:title>
</cp:coreProperties>
</file>