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F019E-7253-4153-8C68-CE8356EFD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1610F-3BDE-4A5F-B329-048692E2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AE946-7AB5-4608-801F-DEEAC683B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544E2-2325-4CDF-9372-3159F954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C211-9D8D-4C82-ABB2-6159A505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F7D50-CD7D-483A-9FD6-90134C0F7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92FF-04DA-4D56-88F8-B86A094F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4C4D-1F5C-4956-BBFC-D1ABBB86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7AAC-F267-4892-B0B5-FA945F6E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D820-780E-4D13-B212-9C30FC5E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B4EF-CE88-4CDE-8037-194CD9FD3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255E-2851-459B-8AEB-065EE9941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4047-327E-4C70-9583-77252A2E3A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sa/imgres?imgurl=http://www.fungi4schools.org/Reprints/Photoset01/Coprinus_micaceus_Glistening_Inkcap.jpg&amp;imgrefurl=http://www.fungi4schools.org/Documentation/Photo_Gallery.htm&amp;usg=__iqVYX06bXdfEC_iekIRCxoBeAPY=&amp;h=1016&amp;w=920&amp;sz=331&amp;hl=ar&amp;start=1&amp;um=1&amp;tbnid=HhCmT6SWip-XVM:&amp;tbnh=150&amp;tbnw=136&amp;prev=/images%3Fq%3Dcoprinus%26hl%3Dar%26sa%3DN%26um%3D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sa/imgres?imgurl=http://www.fungaljungal.org/image/Polyporus_badius_group1.JPG&amp;imgrefurl=http://www.fungaljungal.org/family_pages/Polyporus.htm&amp;usg=__wbarEw5fgBkSJEhelbhf2X48sHE=&amp;h=265&amp;w=350&amp;sz=81&amp;hl=ar&amp;start=17&amp;um=1&amp;tbnid=HcRp4P5syc1ChM:&amp;tbnh=91&amp;tbnw=120&amp;prev=/images%3Fq%3DPolyporus%26hl%3Dar%26sa%3DG%26um%3D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sa/imgres?imgurl=http://botit.botany.wisc.edu/toms_fungi/images/psqpor.jpg&amp;imgrefurl=http://botit.botany.wisc.edu/toms_fungi/may2001.html&amp;usg=__WvsRVTSjGetirp5obTnWWUxwPxE=&amp;h=130&amp;w=200&amp;sz=8&amp;hl=ar&amp;start=2&amp;um=1&amp;tbnid=xRL65uVzMATrgM:&amp;tbnh=68&amp;tbnw=104&amp;prev=/images%3Fq%3DPolyporus%2Bmicroscope%26hl%3Dar%26sa%3DG%26um%3D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sa/imgres?imgurl=http://www.public.asu.edu/~stbates/azfungi/podaxis_pistillaris.jpg&amp;imgrefurl=http://www.public.asu.edu/~stbates/azfungi/podaxis_pistillaris.html&amp;usg=__zpP3xB1rsCfQtzAuHWB4h0H2igE=&amp;h=855&amp;w=700&amp;sz=354&amp;hl=ar&amp;start=2&amp;um=1&amp;tbnid=WkxtBm3E5PS_eM:&amp;tbnh=145&amp;tbnw=119&amp;prev=/images%3Fq%3DPodaxis%26hl%3Dar%26safe%3Dactive%26sa%3DG%26um%3D1"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sa/imgres?imgurl=http://www1.fccj.edu/dbyres/images/coprinus.jpg&amp;imgrefurl=http://www1.fccj.edu/dbyres/fungi.htm&amp;usg=__ldsfN_L-yKymFWGVE3HnlgEV8Sw=&amp;h=480&amp;w=720&amp;sz=42&amp;hl=ar&amp;start=4&amp;um=1&amp;tbnid=_UHx3QJKU1ZcgM:&amp;tbnh=93&amp;tbnw=140&amp;prev=/images%3Fq%3Dcoprinus%26hl%3Dar%26sa%3DN%26um%3D1"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الدرس العملي الساب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الفطريات البازيد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 Subdivision:Basidiomycotina Class: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5"/>
          <p:cNvSpPr/>
          <p:nvPr/>
        </p:nvSpPr>
        <p:spPr>
          <a:xfrm>
            <a:off x="3419640" y="3429000"/>
            <a:ext cx="457200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garical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Coprinaceae</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Coprin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395280" y="836640"/>
            <a:ext cx="8229600" cy="4525920"/>
          </a:xfrm>
          <a:prstGeom prst="rect">
            <a:avLst/>
          </a:prstGeom>
          <a:noFill/>
          <a:ln w="0">
            <a:noFill/>
          </a:ln>
        </p:spPr>
        <p:txBody>
          <a:bodyPr anchor="t">
            <a:normAutofit fontScale="97000"/>
          </a:bodyPr>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فطر مترمم فوق روث البهائم.</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يتميز هذا الجنس بجراثيمة السوداء ويعرف بفطرعش الغراب ذا القلنسوة الحبرية حيث ان خياشيم هذا الفطر تذوب عند نضجها وتسيل على شكل قطرات من القلنسوة المتحللة في صورة سائل اسود بلون الحبر. </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لة قلنسوة اسطوانية ذات قشور كثيرة قدتكون مفتوحة كالمظلة ويوجد طوق متصلا بالساق على شكل حلقة كما ان الخياشم تحوي الطبقة الخصيبة التي تتكون من البازيديات التي تتخلها الخيوط العقيمة والجراثيم البازيدية لونها اسود داك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6" name="Picture 8" descr="Coprinus_micaceus_Glistening_Inkcap">
            <a:hlinkClick r:id="rId1"/>
          </p:cNvPr>
          <p:cNvPicPr/>
          <p:nvPr/>
        </p:nvPicPr>
        <p:blipFill>
          <a:blip r:embed="rId2"/>
          <a:stretch/>
        </p:blipFill>
        <p:spPr>
          <a:xfrm>
            <a:off x="2700360" y="1125360"/>
            <a:ext cx="3905280" cy="430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8" name="Picture 4" descr="2"/>
          <p:cNvPicPr/>
          <p:nvPr/>
        </p:nvPicPr>
        <p:blipFill>
          <a:blip r:embed="rId1"/>
          <a:stretch/>
        </p:blipFill>
        <p:spPr>
          <a:xfrm>
            <a:off x="3492360" y="476280"/>
            <a:ext cx="3292560" cy="584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395280" y="764640"/>
            <a:ext cx="8229600" cy="45262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phyllophor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Polypor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Polypor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395280" y="1125000"/>
            <a:ext cx="8229600" cy="45262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يعيش مترمم اومتطفل على الاشجار مسببة لها اعفان   وامراض تقلل من قيمتها الاقتصادي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تعرف </a:t>
            </a:r>
            <a:r>
              <a:rPr b="0" lang="ar-SA" sz="3200" spc="-1" strike="noStrike">
                <a:solidFill>
                  <a:srgbClr val="ff0000"/>
                </a:solidFill>
                <a:latin typeface="Arial"/>
              </a:rPr>
              <a:t>بالفطريات ذات الثقوب</a:t>
            </a:r>
            <a:r>
              <a:rPr b="0" lang="ar-SA" sz="3200" spc="-1" strike="noStrike">
                <a:solidFill>
                  <a:srgbClr val="333399"/>
                </a:solidFill>
                <a:latin typeface="Arial"/>
              </a:rPr>
              <a:t> لان الطبقة الخصيبة تقع داخل ثقوب خيشيومية كثيرة في الثمرة البازيدية التي تكون ذات حجم كبير نظرا لنموها سنة بعد اخرى و تأخذشكل الارفف او القشور لذلك تعرف ايضا </a:t>
            </a:r>
            <a:r>
              <a:rPr b="0" lang="ar-SA" sz="3200" spc="-1" strike="noStrike">
                <a:solidFill>
                  <a:srgbClr val="ff0000"/>
                </a:solidFill>
                <a:latin typeface="Arial"/>
              </a:rPr>
              <a:t>بالفطريات الرفية</a:t>
            </a:r>
            <a:r>
              <a:rPr b="0" lang="ar-SA" sz="3200" spc="-1" strike="noStrike">
                <a:solidFill>
                  <a:srgbClr val="333399"/>
                </a:solidFill>
                <a:latin typeface="Arial"/>
              </a:rPr>
              <a:t> وتكون رخوةوطرية في حداثتها ثم تصبح صلبة خشبية او فلينية عندالنض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4" name="Picture 7" descr="Polyporus_badius_group1">
            <a:hlinkClick r:id="rId1"/>
          </p:cNvPr>
          <p:cNvPicPr/>
          <p:nvPr/>
        </p:nvPicPr>
        <p:blipFill>
          <a:blip r:embed="rId2"/>
          <a:stretch/>
        </p:blipFill>
        <p:spPr>
          <a:xfrm>
            <a:off x="1403280" y="1484280"/>
            <a:ext cx="5268960" cy="399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psqpor">
            <a:hlinkClick r:id="rId1"/>
          </p:cNvPr>
          <p:cNvPicPr/>
          <p:nvPr/>
        </p:nvPicPr>
        <p:blipFill>
          <a:blip r:embed="rId2"/>
          <a:stretch/>
        </p:blipFill>
        <p:spPr>
          <a:xfrm>
            <a:off x="2484360" y="1916280"/>
            <a:ext cx="4348080" cy="284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7" name="Picture 4" descr="4"/>
          <p:cNvPicPr/>
          <p:nvPr/>
        </p:nvPicPr>
        <p:blipFill>
          <a:blip r:embed="rId1">
            <a:lum bright="6000"/>
          </a:blip>
          <a:stretch/>
        </p:blipFill>
        <p:spPr>
          <a:xfrm>
            <a:off x="2268360" y="549360"/>
            <a:ext cx="5403960" cy="574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Hymenogastr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Podax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Podaxi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كوين الجراثيم البازيدي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عند انبات الجرثومة البازيدية تعطي غزلا فطريا خلاياة احادية النواة وعندما تتقابل الهيفات تندمجان ويحدث ترافق للانوية نواتهما وينتج غزلا خلاياة ثنائية النوا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وينشأ الحامل البازيدي من خلية طرفية في خيط خلاياة ثنائية النوا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يحوي كل بازيديوم على نواتين احاديتا المجموعة الصبغية تتحد هاتان النواتان لتكونا نواة واحدة ثنائية المجموعة الصبغية وتنقسم انقساما ميوزيا ينتج عنة تكوين اربع انوية احادية المجوعة الصبغية وتتكون الجراثيم عند نهاية عنق يسمى ذنيب او زائدة على البازيديم تمر خلالة النواة الى الجرثومة وعدد الجراثيم عادة </a:t>
            </a:r>
            <a:r>
              <a:rPr b="0" lang="ar-SA" sz="2800" spc="-1" strike="noStrike">
                <a:solidFill>
                  <a:srgbClr val="333399"/>
                </a:solidFill>
                <a:latin typeface="Arial"/>
              </a:rPr>
              <a:t>4</a:t>
            </a:r>
            <a:r>
              <a:rPr b="0" lang="ar-SA" sz="2800" spc="-1" strike="noStrike">
                <a:solidFill>
                  <a:srgbClr val="333399"/>
                </a:solidFill>
                <a:latin typeface="Arial"/>
              </a:rPr>
              <a:t>ونادرا </a:t>
            </a:r>
            <a:r>
              <a:rPr b="0" lang="ar-SA" sz="2800" spc="-1" strike="noStrike">
                <a:solidFill>
                  <a:srgbClr val="333399"/>
                </a:solidFill>
                <a:latin typeface="Arial"/>
              </a:rPr>
              <a:t>2</a:t>
            </a:r>
            <a:r>
              <a:rPr b="0" lang="ar-SA" sz="2800" spc="-1" strike="noStrike">
                <a:solidFill>
                  <a:srgbClr val="333399"/>
                </a:solidFill>
                <a:latin typeface="Arial"/>
              </a:rPr>
              <a:t>.</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الخيوط في الفطريات البازيدية مقسمة ومتفرع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395280" y="907920"/>
            <a:ext cx="8229600" cy="4525920"/>
          </a:xfrm>
          <a:prstGeom prst="rect">
            <a:avLst/>
          </a:prstGeom>
          <a:noFill/>
          <a:ln w="0">
            <a:noFill/>
          </a:ln>
        </p:spPr>
        <p:txBody>
          <a:bodyPr anchor="t">
            <a:normAutofit fontScale="95000"/>
          </a:bodyPr>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فطر مترمم في الاراضي الرملية وشبة الطينية</a:t>
            </a:r>
            <a:endParaRPr b="0" lang="en-US" sz="3200" spc="-1" strike="noStrike">
              <a:solidFill>
                <a:srgbClr val="000000"/>
              </a:solidFill>
              <a:latin typeface="Arial"/>
            </a:endParaRPr>
          </a:p>
          <a:p>
            <a:pPr marL="3258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الثمرة البازيدية تغطى بقشوروهي ذات حامل اسطواني عند قاعدتة انتفاخا بصلي الشكل يلتصق بالترية يسمى القدم يمتد منةعويميد الى داخل القلنسوة .وتتركب الثمرة البازيدية الناضجة من جزء خارجي عقيم يسمى الجراب الثمري وجزءداخلي يسمى اللب الخصيب يتحلل عند النضج التام للثمرة ويتحول الى كتلة مسحوقية من جراثيم الفطر البازيدية الداكنة الل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podaxis_pistillaris">
            <a:hlinkClick r:id="rId1"/>
          </p:cNvPr>
          <p:cNvPicPr/>
          <p:nvPr/>
        </p:nvPicPr>
        <p:blipFill>
          <a:blip r:embed="rId2"/>
          <a:stretch/>
        </p:blipFill>
        <p:spPr>
          <a:xfrm>
            <a:off x="3203640" y="1413000"/>
            <a:ext cx="2698560" cy="3289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5" name="Picture 4" descr="6"/>
          <p:cNvPicPr/>
          <p:nvPr/>
        </p:nvPicPr>
        <p:blipFill>
          <a:blip r:embed="rId1">
            <a:lum bright="6000"/>
          </a:blip>
          <a:stretch/>
        </p:blipFill>
        <p:spPr>
          <a:xfrm>
            <a:off x="2771640" y="549360"/>
            <a:ext cx="3910320" cy="524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395280" y="62064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Lycoperd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ily:Lycoperd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Lycoperdon.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9" name="Picture 5" descr="lycoperdon-perlatum"/>
          <p:cNvPicPr/>
          <p:nvPr/>
        </p:nvPicPr>
        <p:blipFill>
          <a:blip r:embed="rId1"/>
          <a:stretch/>
        </p:blipFill>
        <p:spPr>
          <a:xfrm>
            <a:off x="2484360" y="2060640"/>
            <a:ext cx="3959280" cy="29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395280" y="764640"/>
            <a:ext cx="8229600" cy="45262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333399"/>
                </a:solidFill>
                <a:latin typeface="Arial"/>
              </a:rPr>
              <a:t>يعرف بفطريات الكرات النافخة .الثمرة البازيدية كروية او كمثرية الشكل الطبقة الخارجية لها شوكية او محببة.تذوب وتبقى طبقة داخلية رقيقة مزودة بفتحة مركزية تخرج منها الجراثيم البازيدية الى الخارج.</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يوجد في الطبقة الخصيبة عدد من التجاويف الصغيرة غير منتظمة الشكل مبطنة بالبازيديات التي تفصل بينها التراما والبازيديوم تخرج منة ذنيبات نحيفة تحمل جرثومة بازيدية كروي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3" name="Picture 4" descr="5"/>
          <p:cNvPicPr/>
          <p:nvPr/>
        </p:nvPicPr>
        <p:blipFill>
          <a:blip r:embed="rId1">
            <a:lum bright="6000"/>
          </a:blip>
          <a:stretch/>
        </p:blipFill>
        <p:spPr>
          <a:xfrm>
            <a:off x="1835280" y="692280"/>
            <a:ext cx="5803920" cy="493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 Subdivision:Basidiomycotina Class: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Nidularial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Nidulari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Cyath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7" name="Picture 5" descr="cyathus_olla0"/>
          <p:cNvPicPr/>
          <p:nvPr/>
        </p:nvPicPr>
        <p:blipFill>
          <a:blip r:embed="rId1"/>
          <a:stretch/>
        </p:blipFill>
        <p:spPr>
          <a:xfrm>
            <a:off x="2556000" y="1484280"/>
            <a:ext cx="4476600" cy="32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333399"/>
                </a:solidFill>
                <a:latin typeface="Arial"/>
              </a:rPr>
              <a:t>يعرف بفطريات عش الطائر وسمي بهذا الاسم لان الجسم الثمري( الثمرة البازيدية) يشبة عش الطائر ,التي تحوي ثميرات بازيدية بشكل ولون يشبة بيض الطيورويصل عددها الى</a:t>
            </a:r>
            <a:r>
              <a:rPr b="0" lang="ar-SA" sz="3200" spc="-1" strike="noStrike">
                <a:solidFill>
                  <a:srgbClr val="333399"/>
                </a:solidFill>
                <a:latin typeface="Arial"/>
              </a:rPr>
              <a:t>20</a:t>
            </a:r>
            <a:r>
              <a:rPr b="0" lang="ar-SA" sz="3200" spc="-1" strike="noStrike">
                <a:solidFill>
                  <a:srgbClr val="333399"/>
                </a:solidFill>
                <a:latin typeface="Arial"/>
              </a:rPr>
              <a:t> ثمي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صنيف الفطريات الباريدي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نقسم الى </a:t>
            </a:r>
            <a:r>
              <a:rPr b="0" lang="ar-SA" sz="2800" spc="-1" strike="noStrike">
                <a:solidFill>
                  <a:srgbClr val="000000"/>
                </a:solidFill>
                <a:latin typeface="Arial"/>
              </a:rPr>
              <a:t>3</a:t>
            </a:r>
            <a:r>
              <a:rPr b="0" lang="ar-SA" sz="2800" spc="-1" strike="noStrike">
                <a:solidFill>
                  <a:srgbClr val="000000"/>
                </a:solidFill>
                <a:latin typeface="Arial"/>
              </a:rPr>
              <a:t>طويئفات  </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Holobasid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phragmobas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tel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بعا لــــ:</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شكل وتركيب الحوامل البازيدية اذا كانت مقسمة او غير مقسمة.</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عدد الجراثيم البازيدية .</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طريقة انبات الجراثيم البازي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1" name="Picture 4" descr="3"/>
          <p:cNvPicPr/>
          <p:nvPr/>
        </p:nvPicPr>
        <p:blipFill>
          <a:blip r:embed="rId1">
            <a:lum bright="6000"/>
          </a:blip>
          <a:stretch/>
        </p:blipFill>
        <p:spPr>
          <a:xfrm>
            <a:off x="1332000" y="981000"/>
            <a:ext cx="6900840" cy="457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755640" y="836640"/>
            <a:ext cx="8229600" cy="45259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garic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Agaric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Agaric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68360" y="1125000"/>
            <a:ext cx="8229600" cy="4526280"/>
          </a:xfrm>
          <a:prstGeom prst="rect">
            <a:avLst/>
          </a:prstGeom>
          <a:noFill/>
          <a:ln w="0">
            <a:noFill/>
          </a:ln>
        </p:spPr>
        <p:txBody>
          <a:bodyPr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00"/>
                </a:solidFill>
                <a:latin typeface="Arial"/>
              </a:rPr>
              <a:t>فطر مترمم في التربة الرطبة وكتل الاخشاب وبقايا الاشجار المتساقطة.وتستغل ثمارة البازيدية كغذاء للانسان</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a:t>
            </a:r>
            <a:r>
              <a:rPr b="0" lang="ar-SA" sz="2800" spc="-1" strike="noStrike">
                <a:solidFill>
                  <a:srgbClr val="bbe0e3"/>
                </a:solidFill>
                <a:latin typeface="Arial"/>
              </a:rPr>
              <a:t>التكاثر اللاجنسي:</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نادرا مايحدث ويكون عن طريق تكوين جراثيم كلاميدية.</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be0e3"/>
                </a:solidFill>
                <a:latin typeface="Arial"/>
              </a:rPr>
              <a:t>  التكاثر الجنسي:</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يبدأبتكون الثمرة البازيدية كانتفاخ صغير على هيئة عقدة من خلايا الخيوط الفطرية ثنائية النواة والتي تزيد في الحجم وتتحول الى جسم كروي او بيضاوي الشكل يتكون الجزء العلوي من القلنسوة اما الجزء السفلي يكون العنق.</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2" name="Picture 5" descr="almond%20agaricus,%20less%20easy"/>
          <p:cNvPicPr/>
          <p:nvPr/>
        </p:nvPicPr>
        <p:blipFill>
          <a:blip r:embed="rId1"/>
          <a:stretch/>
        </p:blipFill>
        <p:spPr>
          <a:xfrm>
            <a:off x="1547640" y="907920"/>
            <a:ext cx="6096240" cy="516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95280" y="620640"/>
            <a:ext cx="8229600" cy="4525920"/>
          </a:xfrm>
          <a:prstGeom prst="rect">
            <a:avLst/>
          </a:prstGeom>
          <a:noFill/>
          <a:ln w="0">
            <a:noFill/>
          </a:ln>
        </p:spPr>
        <p:txBody>
          <a:bodyPr anchor="t">
            <a:normAutofit fontScale="95000"/>
          </a:bodyPr>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يتكون الحامل الجرثومي  للثمرة البازيدية الناضجةمن عنق اسطواني يوجد علية طوق ينتهي عند طرفة العلوي بقلنسوة بشكل المظلة تنتظم على السطح السفلي للقلنسوة صفائح خيشومية (خياشيم) باطوال غير متساوية ويتكون الخيشوم من :</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منطقة وسطى تسمى التراما تتكون من خيوط فطرية مفككة على جانبيها تقع</a:t>
            </a: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طبقة تحت خصيبة تتكون من خيوط فطرية متماسكة خلاياها مستديرة</a:t>
            </a: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وطبقة خصيبة تتكون من الحوامل البازيدية والبازيديوم التي تحمل الجراثيم البازيدية كروية او بيضاوية الشكل.</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وخيوط عقيمة تشبة الحوامل البازيدية الا انها لاتنتهي بجراثيم بازي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6" name="Picture 5" descr="gills3"/>
          <p:cNvPicPr/>
          <p:nvPr/>
        </p:nvPicPr>
        <p:blipFill>
          <a:blip r:embed="rId1"/>
          <a:stretch/>
        </p:blipFill>
        <p:spPr>
          <a:xfrm>
            <a:off x="4859280" y="476280"/>
            <a:ext cx="3895920" cy="5715000"/>
          </a:xfrm>
          <a:prstGeom prst="rect">
            <a:avLst/>
          </a:prstGeom>
          <a:ln w="0">
            <a:noFill/>
          </a:ln>
        </p:spPr>
      </p:pic>
      <p:pic>
        <p:nvPicPr>
          <p:cNvPr id="57" name="Picture 6" descr="coprinus">
            <a:hlinkClick r:id="rId2"/>
          </p:cNvPr>
          <p:cNvPicPr/>
          <p:nvPr/>
        </p:nvPicPr>
        <p:blipFill>
          <a:blip r:embed="rId3"/>
          <a:stretch/>
        </p:blipFill>
        <p:spPr>
          <a:xfrm>
            <a:off x="684360" y="907920"/>
            <a:ext cx="3444840" cy="228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9" name="Picture 4" descr="1"/>
          <p:cNvPicPr/>
          <p:nvPr/>
        </p:nvPicPr>
        <p:blipFill>
          <a:blip r:embed="rId1">
            <a:lum bright="6000"/>
          </a:blip>
          <a:stretch/>
        </p:blipFill>
        <p:spPr>
          <a:xfrm>
            <a:off x="1116000" y="404640"/>
            <a:ext cx="6534000" cy="630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0:58:51Z</dcterms:created>
  <dc:creator>User</dc:creator>
  <dc:description/>
  <dc:language>en-US</dc:language>
  <cp:lastModifiedBy>user</cp:lastModifiedBy>
  <dcterms:modified xsi:type="dcterms:W3CDTF">2015-04-04T20:18:02Z</dcterms:modified>
  <cp:revision>7</cp:revision>
  <dc:subject/>
  <dc:title>الدرس العملي السابع</dc:title>
</cp:coreProperties>
</file>