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13D69-52E0-460E-AB84-C7BECACDE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3ABAC-FD1F-4612-BE48-D98A71DE1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6B759-B4DD-4D45-B73A-82CAF41AB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E3211-46DE-40EF-AE07-882EA229C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7B7F-9631-49C9-B7C9-9F71C584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3F0B0-25BD-47DE-9792-3C6A980D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1D79D-0EE9-4D50-A4AC-4D1F5A028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0142-0409-4E62-8AD4-8DB0CD6D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D9E11-D182-4BE3-A2FB-6E8BC7EAA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92FC-6B65-4920-9013-AD2356839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D47D-3EB9-4AD9-841C-797E1BFF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63C7-1006-4DEC-886E-28C39256C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62AC-7BB4-4FBD-BFD3-D8732C305A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google.com.sa/imgres?imgurl=http://entomology.ifas.ufl.edu/pestalert/photos/rust-04.jpg&amp;imgrefurl=http://entomology.ifas.ufl.edu/pestalert/tmm-0209.htm&amp;usg=__AphYL7W_d8xeiWTrS16Lgdplpcs=&amp;h=479&amp;w=639&amp;sz=46&amp;hl=ar&amp;start=28&amp;um=1&amp;tbnid=_Whxx95GnhPN-M:&amp;tbnh=103&amp;tbnw=137&amp;prev=/images%3Fq%3DPuccinia%26ndsp%3D18%26hl%3Dar%26safe%3Dactive%26sa%3DN%26start%3D18%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sa/imgres?imgurl=http://www.fgsc.net/homepageimages/image12.jpg&amp;imgrefurl=http://www.fgsc.net/blogarchives/blogarchive107.htm&amp;usg=__c4RZ4gVYSZnU6NBBu55rSSdiOIE=&amp;h=423&amp;w=340&amp;sz=27&amp;hl=ar&amp;start=14&amp;um=1&amp;tbnid=KQnQp7PQSDUDSM:&amp;tbnh=126&amp;tbnw=101&amp;prev=/images%3Fq%3DPuccinia%26hl%3Dar%26safe%3Dactive%26sa%3DG%26um%3D1" TargetMode="External"/><Relationship Id="rId2" Type="http://schemas.openxmlformats.org/officeDocument/2006/relationships/image" Target="../media/image9.jpeg"/><Relationship Id="rId3" Type="http://schemas.openxmlformats.org/officeDocument/2006/relationships/hyperlink" Target="http://images.google.com.sa/imgres?imgurl=http://www.apsnet.org/online/Archive/2006/PucciniaGraminis.jpg&amp;imgrefurl=http://www.apsnet.org/online/Archive/2006/PUCCINIA.asp&amp;usg=__gLrfrV7yHVddQFMBmF2qT8g5IvM=&amp;h=430&amp;w=640&amp;sz=522&amp;hl=ar&amp;start=1&amp;um=1&amp;tbnid=qjSJKifu7vTrBM:&amp;tbnh=92&amp;tbnw=137&amp;prev=/images%3Fq%3DPuccinia%26hl%3Dar%26safe%3Dactive%26sa%3DG%26um%3D1"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pdl.purdue.edu/PPDL/images/uromyces_telio.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sa/imgres?imgurl=http://www.uoguelph.ca/~gbarron/MISCE2002/phragm1.jpg&amp;imgrefurl=http://www.uoguelph.ca/~gbarron/MISCE2002/phragmid.htm&amp;usg=__z5zDMiLfqHOq6vORoI0Z2iFVi5A=&amp;h=366&amp;w=567&amp;sz=37&amp;hl=ar&amp;start=17&amp;um=1&amp;tbnid=p0ZHwi6aIAHvHM:&amp;tbnh=86&amp;tbnw=134&amp;prev=/images%3Fq%3DPhragmidium%26ndsp%3D18%26hl%3Dar%26safe%3Dactive%26sa%3DG%26um%3D1"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www.jamaa.cc/up/_%3D5937%3D_sher_jamaa.jpg&amp;imgrefurl=http://agr.jamaa.cc/post188391.html&amp;usg=__8BH6h66p2L-D_w4PY9-WvBrDCQs=&amp;h=298&amp;w=448&amp;sz=28&amp;hl=ar&amp;start=58&amp;um=1&amp;tbnid=IDV-hnVPxnLsjM:&amp;tbnh=84&amp;tbnw=127&amp;prev=/images%3Fq%3DUstilago%26ndsp%3D18%26hl%3Dar%26safe%3Dactive%26sa%3DN%26start%3D54%26um%3D1"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s.google.com.sa/imgres?imgurl=http://www.agro.ar.szczecin.pl/~jblaszkowski/Mycota/images/Urocystis%2520occulta-2-9-r_psd.jpg&amp;imgrefurl=http://www.agro.ar.szczecin.pl/~jblaszkowski/Mycota/pages/Urocystis%2520occulta-2-9-r_psd.htm&amp;usg=__eOUdxeE9m7P7ANEEwT45BW4d_k8=&amp;h=315&amp;w=472&amp;sz=19&amp;hl=ar&amp;start=20&amp;um=1&amp;tbnid=dl-iw1HqMSm1XM:&amp;tbnh=86&amp;tbnw=129&amp;prev=/images%3Fq%3DUrocystis%26ndsp%3D18%26hl%3Dar%26safe%3Dactive%26sa%3DN%26start%3D18%26um%3D1" TargetMode="External"/><Relationship Id="rId2" Type="http://schemas.openxmlformats.org/officeDocument/2006/relationships/image" Target="../media/image18.jpeg"/><Relationship Id="rId3" Type="http://schemas.openxmlformats.org/officeDocument/2006/relationships/hyperlink" Target="http://images.google.com.sa/imgres?imgurl=http://ipm.illinois.edu/diseases/series400/rpd409/409-4.gif&amp;imgrefurl=http://ipm.illinois.edu/diseases/series400/rpd409/index.html&amp;usg=__iJo7nC5KGdFQkFhxyXhBFWhoKYE=&amp;h=203&amp;w=223&amp;sz=21&amp;hl=ar&amp;start=18&amp;um=1&amp;tbnid=JjUUASm-6lXw3M:&amp;tbnh=97&amp;tbnw=107&amp;prev=/images%3Fq%3DUrocystis%26hl%3Dar%26safe%3Dactive%26sa%3DG%26um%3D1"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sa/imgres?imgurl=http://www.agric.wa.gov.au/ikmp/images/f03395e1.GIF&amp;imgrefurl=http://www.agric.wa.gov.au/content/pw/ph/dis/cer/fn033_1995.htm&amp;usg=__0pafotGDrpWpDJI4ikv0FjI5v7s=&amp;h=412&amp;w=275&amp;sz=100&amp;hl=ar&amp;start=21&amp;um=1&amp;tbnid=_3idTqDMBYXGfM:&amp;tbnh=125&amp;tbnw=83&amp;prev=/images%3Fq%3DPuccinia%26ndsp%3D18%26hl%3Dar%26safe%3Dactive%26sa%3DN%26start%3D18%26um%3D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فطريات البازيد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9" name="Picture 5" descr="Puccinia graminis f. sp. tritici"/>
          <p:cNvPicPr/>
          <p:nvPr/>
        </p:nvPicPr>
        <p:blipFill>
          <a:blip r:embed="rId1"/>
          <a:stretch/>
        </p:blipFill>
        <p:spPr>
          <a:xfrm>
            <a:off x="1187280" y="476280"/>
            <a:ext cx="6096240" cy="1123920"/>
          </a:xfrm>
          <a:prstGeom prst="rect">
            <a:avLst/>
          </a:prstGeom>
          <a:ln w="0">
            <a:noFill/>
          </a:ln>
        </p:spPr>
      </p:pic>
      <p:pic>
        <p:nvPicPr>
          <p:cNvPr id="60" name="Picture 7" descr="wpe28.jpg (109036 bytes)"/>
          <p:cNvPicPr/>
          <p:nvPr/>
        </p:nvPicPr>
        <p:blipFill>
          <a:blip r:embed="rId2"/>
          <a:stretch/>
        </p:blipFill>
        <p:spPr>
          <a:xfrm>
            <a:off x="2916360" y="1844640"/>
            <a:ext cx="2828880" cy="41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68360" y="836640"/>
            <a:ext cx="8229600" cy="4525920"/>
          </a:xfrm>
          <a:prstGeom prst="rect">
            <a:avLst/>
          </a:prstGeom>
          <a:noFill/>
          <a:ln w="0">
            <a:noFill/>
          </a:ln>
        </p:spPr>
        <p:txBody>
          <a:bodyPr anchor="t">
            <a:normAutofit fontScale="82000"/>
          </a:bodyPr>
          <a:p>
            <a:pPr marL="281160" indent="-281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ور الثاني</a:t>
            </a:r>
            <a:r>
              <a:rPr b="1" lang="en-US" sz="2800" spc="-1" strike="noStrike">
                <a:solidFill>
                  <a:srgbClr val="000000"/>
                </a:solidFill>
                <a:latin typeface="Arial"/>
              </a:rPr>
              <a:t>stage</a:t>
            </a:r>
            <a:r>
              <a:rPr b="1" lang="en-US" sz="2800" spc="-1" strike="noStrike">
                <a:solidFill>
                  <a:srgbClr val="000000"/>
                </a:solidFill>
                <a:latin typeface="Microsoft YaHei"/>
                <a:ea typeface="Microsoft YaHei"/>
              </a:rPr>
              <a:t>Ⅱ</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سمى الطوراليوريدي ويطلق علية الطور المتكرر لان الفطر يكرر خلال هذا الطور عدة مرات في موسم نمو المحصول مما يؤدي الى انتشار المرض.ويتمثل هذا الطوربوجودبثراث تسمى البثرات اليوردية يوجد داخلها جراثيم يوريدية بيضية او مستديرة برتقالية اللون ذات نواتين مترافقتين وكل جرثومة لها جداران خارجي مسنن وغليظ وداخلي رقيق وتتخلل الجراثيم خيوط عقيمة.</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طلق على الطور طور الصداء الاحمر ويتكون على القمح.</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pic>
        <p:nvPicPr>
          <p:cNvPr id="64" name="Picture 3" descr="15"/>
          <p:cNvPicPr/>
          <p:nvPr/>
        </p:nvPicPr>
        <p:blipFill>
          <a:blip r:embed="rId1"/>
          <a:stretch/>
        </p:blipFill>
        <p:spPr>
          <a:xfrm>
            <a:off x="4386240" y="1989000"/>
            <a:ext cx="4757760" cy="4299120"/>
          </a:xfrm>
          <a:prstGeom prst="rect">
            <a:avLst/>
          </a:prstGeom>
          <a:ln w="0">
            <a:noFill/>
          </a:ln>
        </p:spPr>
      </p:pic>
      <p:pic>
        <p:nvPicPr>
          <p:cNvPr id="65" name="Picture 4" descr="rust-04">
            <a:hlinkClick r:id="rId2"/>
          </p:cNvPr>
          <p:cNvPicPr/>
          <p:nvPr/>
        </p:nvPicPr>
        <p:blipFill>
          <a:blip r:embed="rId3"/>
          <a:stretch/>
        </p:blipFill>
        <p:spPr>
          <a:xfrm>
            <a:off x="395280" y="2637000"/>
            <a:ext cx="3606840" cy="271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68360" y="764640"/>
            <a:ext cx="8229600" cy="452628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ور الثالث</a:t>
            </a:r>
            <a:r>
              <a:rPr b="1" lang="en-US" sz="2800" spc="-1" strike="noStrike">
                <a:solidFill>
                  <a:srgbClr val="000000"/>
                </a:solidFill>
                <a:latin typeface="Arial"/>
              </a:rPr>
              <a:t> </a:t>
            </a:r>
            <a:r>
              <a:rPr b="1" lang="en-US" sz="2800" spc="-1" strike="noStrike">
                <a:solidFill>
                  <a:srgbClr val="000000"/>
                </a:solidFill>
                <a:latin typeface="Arial"/>
              </a:rPr>
              <a:t>stage</a:t>
            </a:r>
            <a:r>
              <a:rPr b="1" lang="en-US" sz="2800" spc="-1" strike="noStrike">
                <a:solidFill>
                  <a:srgbClr val="000000"/>
                </a:solidFill>
                <a:latin typeface="Microsoft YaHei"/>
                <a:ea typeface="Microsoft YaHei"/>
              </a:rPr>
              <a:t>Ⅲ</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ق علية الطور التليتي ويتمثل بوجود بثرات تليتية تتكون قرب نهاية موسم نمو المحصول المصاب يوجد داخلها جراثيم تليتية تتكون من خليتين بينهما تخصر بسيط عند الحاجز المستعرض الذي يفصل بين الخليتين,كل خلية وهي صغيرة تحوي نواتين تندمجان في نواة واحدة ثنائية المجموعة الصبغية عند النضج ,وهي معنقة لها قمة مدببة جدارها الخارجي سميك لكنة ناعم املس لونة بني غامق والجرثومة التليتة تتحمل الظروف القاسية ثم تنبت وتعطي اربع جراثيم بازيدية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ا الطور يعرف بالصداء الاسو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9" name="Picture 3" descr="image12">
            <a:hlinkClick r:id="rId1"/>
          </p:cNvPr>
          <p:cNvPicPr/>
          <p:nvPr/>
        </p:nvPicPr>
        <p:blipFill>
          <a:blip r:embed="rId2"/>
          <a:stretch/>
        </p:blipFill>
        <p:spPr>
          <a:xfrm>
            <a:off x="971640" y="1773360"/>
            <a:ext cx="2346120" cy="2927160"/>
          </a:xfrm>
          <a:prstGeom prst="rect">
            <a:avLst/>
          </a:prstGeom>
          <a:ln w="0">
            <a:noFill/>
          </a:ln>
        </p:spPr>
      </p:pic>
      <p:pic>
        <p:nvPicPr>
          <p:cNvPr id="70" name="Picture 4" descr="PucciniaGraminis">
            <a:hlinkClick r:id="rId3"/>
          </p:cNvPr>
          <p:cNvPicPr/>
          <p:nvPr/>
        </p:nvPicPr>
        <p:blipFill>
          <a:blip r:embed="rId4"/>
          <a:stretch/>
        </p:blipFill>
        <p:spPr>
          <a:xfrm>
            <a:off x="4284720" y="2205000"/>
            <a:ext cx="3556080" cy="23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250920" y="90792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ور الرابع</a:t>
            </a:r>
            <a:r>
              <a:rPr b="1" lang="en-US" sz="3200" spc="-1" strike="noStrike">
                <a:solidFill>
                  <a:srgbClr val="000000"/>
                </a:solidFill>
                <a:latin typeface="Arial"/>
              </a:rPr>
              <a:t>stage</a:t>
            </a:r>
            <a:r>
              <a:rPr b="1" lang="en-US" sz="3200" spc="-1" strike="noStrike">
                <a:solidFill>
                  <a:srgbClr val="000000"/>
                </a:solidFill>
                <a:latin typeface="Microsoft YaHei"/>
                <a:ea typeface="Microsoft YaHei"/>
              </a:rPr>
              <a:t>Ⅳ</a:t>
            </a:r>
            <a:endParaRPr b="0" lang="en-US" sz="3200" spc="-1" strike="noStrike">
              <a:solidFill>
                <a:srgbClr val="000000"/>
              </a:solidFill>
              <a:latin typeface="Arial"/>
            </a:endParaRPr>
          </a:p>
          <a:p>
            <a:pPr marL="3052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YaHei"/>
                <a:cs typeface="Microsoft YaHei"/>
              </a:rPr>
              <a:t>الطور البازيدي ويمثلة الجراثيم الجنسية وهي الجراثيم البازيدية التي تنشأ</a:t>
            </a:r>
            <a:r>
              <a:rPr b="1" lang="en-US" sz="3200" spc="-1" strike="noStrike">
                <a:solidFill>
                  <a:srgbClr val="000000"/>
                </a:solidFill>
                <a:latin typeface="Microsoft YaHei"/>
                <a:ea typeface="Microsoft YaHei"/>
              </a:rPr>
              <a:t> </a:t>
            </a:r>
            <a:r>
              <a:rPr b="1" lang="ar-SA" sz="3200" spc="-1" strike="noStrike">
                <a:solidFill>
                  <a:srgbClr val="000000"/>
                </a:solidFill>
                <a:latin typeface="Microsoft YaHei"/>
                <a:ea typeface="Microsoft YaHei"/>
              </a:rPr>
              <a:t> على البازيديم او الميسيليوم الاولي الناتج من انبات الجرثومة التليتية ,والجرثومة البازيدية احادية الخلية بها نواة واحدة وهي لاتصيب النبات العائل الذي نشأت عن جراثيمة التليتية ولكن تصيب عائل اخر وهو نبات الباربري وينتج عنها تكون الطور البكني على هذا العائ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395280" y="620640"/>
            <a:ext cx="8229600" cy="452592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Uredinales </a:t>
            </a:r>
            <a:r>
              <a:rPr b="1" lang="ar-SA" sz="4000" spc="-1" strike="noStrike">
                <a:solidFill>
                  <a:srgbClr val="000000"/>
                </a:solidFill>
                <a:latin typeface="Arial"/>
              </a:rPr>
              <a:t> </a:t>
            </a:r>
            <a:r>
              <a:rPr b="1" lang="en-US" sz="4000" spc="-1" strike="noStrike">
                <a:solidFill>
                  <a:srgbClr val="000000"/>
                </a:solidFill>
                <a:latin typeface="Arial"/>
              </a:rPr>
              <a:t>order</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mily:-Pucciniaceae</a:t>
            </a:r>
            <a:endParaRPr b="0" lang="en-US" sz="40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genus:-Uromyces.sp</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324000" y="9810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a:t>
            </a:r>
            <a:r>
              <a:rPr b="0" lang="en-US" sz="3200" spc="-1" strike="noStrike">
                <a:solidFill>
                  <a:srgbClr val="ff0000"/>
                </a:solidFill>
                <a:latin typeface="Arial"/>
              </a:rPr>
              <a:t>-</a:t>
            </a:r>
            <a:r>
              <a:rPr b="0" lang="en-US" sz="3200" spc="-1" strike="noStrike">
                <a:solidFill>
                  <a:srgbClr val="ff0000"/>
                </a:solidFill>
                <a:latin typeface="Arial"/>
              </a:rPr>
              <a:t>genus:-Uromyces.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رثومة التيلية تتكون من خلية واحدة بيضاوية لونها غامق ذات حامل مستديم ولها قمة بها حليمة وتظهر في بثر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8" name="Picture 4" descr="1"/>
          <p:cNvPicPr/>
          <p:nvPr/>
        </p:nvPicPr>
        <p:blipFill>
          <a:blip r:embed="rId1"/>
          <a:stretch/>
        </p:blipFill>
        <p:spPr>
          <a:xfrm>
            <a:off x="755640" y="1628640"/>
            <a:ext cx="2843280" cy="3592800"/>
          </a:xfrm>
          <a:prstGeom prst="rect">
            <a:avLst/>
          </a:prstGeom>
          <a:ln w="0">
            <a:noFill/>
          </a:ln>
        </p:spPr>
      </p:pic>
      <p:pic>
        <p:nvPicPr>
          <p:cNvPr id="79" name="Picture 6" descr="مشاهدة الصورة بالحجم الكامل">
            <a:hlinkClick r:id="rId2"/>
          </p:cNvPr>
          <p:cNvPicPr/>
          <p:nvPr/>
        </p:nvPicPr>
        <p:blipFill>
          <a:blip r:embed="rId3"/>
          <a:stretch/>
        </p:blipFill>
        <p:spPr>
          <a:xfrm>
            <a:off x="4067280" y="1628640"/>
            <a:ext cx="4686120" cy="37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68360" y="549360"/>
            <a:ext cx="8229600" cy="452592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Uredinales </a:t>
            </a:r>
            <a:r>
              <a:rPr b="1" lang="ar-SA" sz="4000" spc="-1" strike="noStrike">
                <a:solidFill>
                  <a:srgbClr val="000000"/>
                </a:solidFill>
                <a:latin typeface="Arial"/>
              </a:rPr>
              <a:t> </a:t>
            </a:r>
            <a:r>
              <a:rPr b="1" lang="en-US" sz="4000" spc="-1" strike="noStrike">
                <a:solidFill>
                  <a:srgbClr val="000000"/>
                </a:solidFill>
                <a:latin typeface="Arial"/>
              </a:rPr>
              <a:t>order</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mily:-Pucciniaceae</a:t>
            </a:r>
            <a:endParaRPr b="0" lang="en-US" sz="40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a:t>
            </a:r>
            <a:r>
              <a:rPr b="1" lang="en-US" sz="3200" spc="-1" strike="noStrike">
                <a:solidFill>
                  <a:srgbClr val="000000"/>
                </a:solidFill>
                <a:latin typeface="Arial"/>
              </a:rPr>
              <a:t>genus:-Phragmidium.sp</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468360" y="189000"/>
            <a:ext cx="8229600" cy="4525920"/>
          </a:xfrm>
          <a:prstGeom prst="rect">
            <a:avLst/>
          </a:prstGeom>
          <a:noFill/>
          <a:ln w="0">
            <a:noFill/>
          </a:ln>
        </p:spPr>
        <p:txBody>
          <a:bodyPr anchor="t">
            <a:normAutofit fontScale="63000"/>
          </a:bodyPr>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طائفة الفطريات البازيدية</a:t>
            </a:r>
            <a:r>
              <a:rPr b="1" lang="en-US" sz="3200" spc="-1" strike="noStrike">
                <a:solidFill>
                  <a:srgbClr val="000000"/>
                </a:solidFill>
                <a:latin typeface="Arial"/>
              </a:rPr>
              <a:t>            </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Basidiomycetes</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bclass:-Teliomycetidae</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قسم الى رتبتين جميع افرادها طفيليات نباتية متخصصة على اورق وثمار وسوق النباتات خاصة الحبوب ولاتنتج ثمار بازيدية لذلك تعرف بالفطريات البازيدية الدنيا.</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Uredinales</a:t>
            </a:r>
            <a:r>
              <a:rPr b="1" lang="ar-SA" sz="3200" spc="-1" strike="noStrike">
                <a:solidFill>
                  <a:srgbClr val="000000"/>
                </a:solidFill>
                <a:latin typeface="Arial"/>
              </a:rPr>
              <a:t> </a:t>
            </a:r>
            <a:r>
              <a:rPr b="1" lang="en-US" sz="3200" spc="-1" strike="noStrike">
                <a:solidFill>
                  <a:srgbClr val="000000"/>
                </a:solidFill>
                <a:latin typeface="Arial"/>
              </a:rPr>
              <a:t>order</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رتبة الاصداء وفيها تتكون الجراثيم البازيدية على ذنيبات</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ضم اجناس اجبارية التطفل وسميت بفطريات الاصدا نظرالظهور بعض اطوارها الجرثومية على سوق واوراق عوائلها في بثرات بلون الحديد.</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تميز بعدم انتاجها للثمار البازيدية ويتكون البازيديم من انبات جرثومة تليتية .</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a:t>
            </a:r>
            <a:r>
              <a:rPr b="0" lang="en-US" sz="3200" spc="-1" strike="noStrike">
                <a:solidFill>
                  <a:srgbClr val="ff0000"/>
                </a:solidFill>
                <a:latin typeface="Arial"/>
              </a:rPr>
              <a:t>-</a:t>
            </a:r>
            <a:r>
              <a:rPr b="0" lang="en-US" sz="3200" spc="-1" strike="noStrike">
                <a:solidFill>
                  <a:srgbClr val="ff0000"/>
                </a:solidFill>
                <a:latin typeface="Arial"/>
              </a:rPr>
              <a:t>genus:-Phragmidium.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رثومة التليتية تتكون من اكثر من خليتين مرتبة طوليا في صف واحد جدارها متدرن ولها عنق طويل والجرثومة لها حليمة طويلة طرفية والحامل لة قاعدة منتفخ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5" name="Picture 6" descr="3"/>
          <p:cNvPicPr/>
          <p:nvPr/>
        </p:nvPicPr>
        <p:blipFill>
          <a:blip r:embed="rId1"/>
          <a:stretch/>
        </p:blipFill>
        <p:spPr>
          <a:xfrm>
            <a:off x="3535200" y="981000"/>
            <a:ext cx="2073600" cy="48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7" name="Picture 5" descr="phragm1">
            <a:hlinkClick r:id="rId1"/>
          </p:cNvPr>
          <p:cNvPicPr/>
          <p:nvPr/>
        </p:nvPicPr>
        <p:blipFill>
          <a:blip r:embed="rId2"/>
          <a:stretch/>
        </p:blipFill>
        <p:spPr>
          <a:xfrm>
            <a:off x="2050920" y="2060640"/>
            <a:ext cx="4700880" cy="301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68360" y="907920"/>
            <a:ext cx="8229600" cy="4525920"/>
          </a:xfrm>
          <a:prstGeom prst="rect">
            <a:avLst/>
          </a:prstGeom>
          <a:noFill/>
          <a:ln w="0">
            <a:noFill/>
          </a:ln>
        </p:spPr>
        <p:txBody>
          <a:bodyPr anchor="t">
            <a:normAutofit fontScale="90000"/>
          </a:bodyPr>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تبة التفحمات</a:t>
            </a:r>
            <a:r>
              <a:rPr b="0" lang="en-US" sz="2800" spc="-1" strike="noStrike">
                <a:solidFill>
                  <a:srgbClr val="000000"/>
                </a:solidFill>
                <a:latin typeface="Arial"/>
              </a:rPr>
              <a:t>order:-Ustilaginales</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Ustilaginaceae</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Tilletiaceae</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طريات متطفلة اختياريا وفي حال عدم وجود العائل تعيش مترممة وسميت بفطريات التفحم تظرا لان معظمها يكون على النبات العائل في موضع الاجزاء المصابة كتلا جرثومية سوداء اللون تشبة الرماد او الفحم نتيجة لتواجد ملايين من جراثيم الفطر السوداء في اي مكان من النبات المصاب.وتتكون دورة حياتها من طورين التليتي والبازيدي.</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Ustilaginales</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Ustilagin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a:t>
            </a:r>
            <a:r>
              <a:rPr b="1" lang="en-US" sz="3200" spc="-1" strike="noStrike">
                <a:solidFill>
                  <a:srgbClr val="000000"/>
                </a:solidFill>
                <a:latin typeface="Arial"/>
              </a:rPr>
              <a:t>genus:-Ustilago.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en-US" sz="3200" spc="-1" strike="noStrike">
                <a:solidFill>
                  <a:srgbClr val="ff0000"/>
                </a:solidFill>
                <a:latin typeface="Arial"/>
              </a:rPr>
              <a:t>-</a:t>
            </a:r>
            <a:r>
              <a:rPr b="1" lang="en-US" sz="3200" spc="-1" strike="noStrike">
                <a:solidFill>
                  <a:srgbClr val="ff0000"/>
                </a:solidFill>
                <a:latin typeface="Arial"/>
              </a:rPr>
              <a:t>genus:-Ustilago.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راثيم التليتية للفطر كروية الى بيضاوية الشكل ثنائية النواة مفردة بنية الى سوداء اللون ذات جدار شوكي تتميز بأن جانب من جدارها افتح لونا من الجانب الاخ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4"/>
          <p:cNvPicPr/>
          <p:nvPr/>
        </p:nvPicPr>
        <p:blipFill>
          <a:blip r:embed="rId1"/>
          <a:stretch/>
        </p:blipFill>
        <p:spPr>
          <a:xfrm>
            <a:off x="2771640" y="3860640"/>
            <a:ext cx="3998880" cy="256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96" name="Picture 5" descr="_%3D5937%3D_sher_jamaa">
            <a:hlinkClick r:id="rId1"/>
          </p:cNvPr>
          <p:cNvPicPr/>
          <p:nvPr/>
        </p:nvPicPr>
        <p:blipFill>
          <a:blip r:embed="rId2"/>
          <a:stretch/>
        </p:blipFill>
        <p:spPr>
          <a:xfrm>
            <a:off x="1835280" y="1197000"/>
            <a:ext cx="4800600" cy="317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Ustilaginales</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Ustilagin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genus:-Urocysti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a:t>
            </a:r>
            <a:r>
              <a:rPr b="1" lang="en-US" sz="3200" spc="-1" strike="noStrike">
                <a:solidFill>
                  <a:srgbClr val="ff0000"/>
                </a:solidFill>
                <a:latin typeface="Arial"/>
              </a:rPr>
              <a:t>genus:-Urocystis.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راثيم التليتية توجد في كرات من </a:t>
            </a: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3</a:t>
            </a:r>
            <a:r>
              <a:rPr b="1" lang="ar-SA" sz="3200" spc="-1" strike="noStrike">
                <a:solidFill>
                  <a:srgbClr val="000000"/>
                </a:solidFill>
                <a:latin typeface="Arial"/>
              </a:rPr>
              <a:t>جراثيم يحيط بها غلاف من خلايا عقيم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02" name="Picture 3" descr="6"/>
          <p:cNvPicPr/>
          <p:nvPr/>
        </p:nvPicPr>
        <p:blipFill>
          <a:blip r:embed="rId1"/>
          <a:stretch/>
        </p:blipFill>
        <p:spPr>
          <a:xfrm>
            <a:off x="3059280" y="2276640"/>
            <a:ext cx="2852640" cy="245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طريات فيها تتكون من خيوط مقسمة ومتفرعة تنمو في المسافات البينية لانسجة النبات العائل وتظهرفي فطريات الاصداء ظاهرة التخصص الفسيولوجي اي ان الفطريختص باصابة اصناف معينة دون غيرها ,كما تتميز دورة حياتها بخمس اطوار جرثومية قد يختفي طور او اكثر من هذة الاطوار الا انة يتكون فيها جميعا الطور التليتي.</a:t>
            </a:r>
            <a:endParaRPr b="0" lang="en-US" sz="3200" spc="-1" strike="noStrike">
              <a:solidFill>
                <a:srgbClr val="000000"/>
              </a:solidFill>
              <a:latin typeface="Arial"/>
            </a:endParaRPr>
          </a:p>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تميز بوجود ظاهرة تباين العوائل في انواع معينة منها اي ان انواع الجراثيم المختلفة لفطر ما منها يتكون على عائلين منفصلين لاعلاقة او صلة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04" name="Picture 5" descr="Urocystis%2520occulta-2-9-r_psd">
            <a:hlinkClick r:id="rId1"/>
          </p:cNvPr>
          <p:cNvPicPr/>
          <p:nvPr/>
        </p:nvPicPr>
        <p:blipFill>
          <a:blip r:embed="rId2"/>
          <a:stretch/>
        </p:blipFill>
        <p:spPr>
          <a:xfrm>
            <a:off x="3276720" y="404640"/>
            <a:ext cx="2201760" cy="1468440"/>
          </a:xfrm>
          <a:prstGeom prst="rect">
            <a:avLst/>
          </a:prstGeom>
          <a:ln w="0">
            <a:noFill/>
          </a:ln>
        </p:spPr>
      </p:pic>
      <p:pic>
        <p:nvPicPr>
          <p:cNvPr id="105" name="Picture 7" descr="409-4">
            <a:hlinkClick r:id="rId3"/>
          </p:cNvPr>
          <p:cNvPicPr/>
          <p:nvPr/>
        </p:nvPicPr>
        <p:blipFill>
          <a:blip r:embed="rId4"/>
          <a:stretch/>
        </p:blipFill>
        <p:spPr>
          <a:xfrm>
            <a:off x="2916360" y="2924280"/>
            <a:ext cx="2806560" cy="254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324000" y="981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Ustilaginal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Tilleti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us:-Tilletia.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395280" y="1052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us:-Tilletia.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طر متطفل على افراد الفصيلة النجيلية يسبب مرض التفحم المغطى وذلك نسبة الى رائحتة المميز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راثيم التليتية كروية خشنة الملمس شبكية السطح مزينة مضلعة بارزة عن السطح ذات لون بني غامقوعليها زوائد شفاف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5"/>
          <p:cNvPicPr/>
          <p:nvPr/>
        </p:nvPicPr>
        <p:blipFill>
          <a:blip r:embed="rId1"/>
          <a:stretch/>
        </p:blipFill>
        <p:spPr>
          <a:xfrm>
            <a:off x="3059280" y="4437000"/>
            <a:ext cx="3047760" cy="195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12" name="Picture 5" descr="Tilletia_controversa"/>
          <p:cNvPicPr/>
          <p:nvPr/>
        </p:nvPicPr>
        <p:blipFill>
          <a:blip r:embed="rId1"/>
          <a:stretch/>
        </p:blipFill>
        <p:spPr>
          <a:xfrm>
            <a:off x="3419640" y="1700280"/>
            <a:ext cx="249372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68360" y="764640"/>
            <a:ext cx="8229600" cy="452628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Uredinales </a:t>
            </a:r>
            <a:r>
              <a:rPr b="1" lang="ar-SA" sz="4000" spc="-1" strike="noStrike">
                <a:solidFill>
                  <a:srgbClr val="000000"/>
                </a:solidFill>
                <a:latin typeface="Arial"/>
              </a:rPr>
              <a:t> </a:t>
            </a:r>
            <a:r>
              <a:rPr b="1" lang="en-US" sz="4000" spc="-1" strike="noStrike">
                <a:solidFill>
                  <a:srgbClr val="000000"/>
                </a:solidFill>
                <a:latin typeface="Arial"/>
              </a:rPr>
              <a:t>order</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mily:-Pucciniace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4000" spc="-1" strike="noStrike">
                <a:solidFill>
                  <a:srgbClr val="000000"/>
                </a:solidFill>
                <a:latin typeface="Arial"/>
              </a:rPr>
              <a:t>-</a:t>
            </a:r>
            <a:r>
              <a:rPr b="1" lang="en-US" sz="4000" spc="-1" strike="noStrike">
                <a:solidFill>
                  <a:srgbClr val="000000"/>
                </a:solidFill>
                <a:latin typeface="Arial"/>
              </a:rPr>
              <a:t>Genus:-Puccinia.sp</a:t>
            </a:r>
            <a:endParaRPr b="0" lang="en-US" sz="40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فطر الباكسينيا</a:t>
            </a:r>
            <a:r>
              <a:rPr b="0" lang="ar-SA" sz="4400" spc="-1" strike="noStrike">
                <a:solidFill>
                  <a:srgbClr val="ff0000"/>
                </a:solidFill>
                <a:latin typeface="Arial"/>
              </a:rPr>
              <a:t>  </a:t>
            </a:r>
            <a:r>
              <a:rPr b="1" lang="en-US" sz="5400" spc="-1" strike="noStrike">
                <a:solidFill>
                  <a:srgbClr val="ff0000"/>
                </a:solidFill>
                <a:latin typeface="Arial"/>
              </a:rPr>
              <a:t>Puccinia.sp</a:t>
            </a:r>
            <a:endParaRPr b="0" lang="en-US" sz="5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r>
              <a:rPr b="1" lang="ar-SA" sz="2400" spc="-1" strike="noStrike">
                <a:solidFill>
                  <a:srgbClr val="000000"/>
                </a:solidFill>
                <a:latin typeface="Arial"/>
              </a:rPr>
              <a:t>متطفل اجباريا على عدد من نباتات الفصيلة النجيلية مثل القمح والشعير مسببا لها امراض الصدا .ويتطلب اكمال دورة حياتها تواجد عائلين هما افراد الفصيلة النجيلية كعائل ابتدائي ونبات الباربري كعائل ثانوي.</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الطور صفر </a:t>
            </a:r>
            <a:r>
              <a:rPr b="1" lang="en-US" sz="2400" spc="-1" strike="noStrike">
                <a:solidFill>
                  <a:srgbClr val="000000"/>
                </a:solidFill>
                <a:latin typeface="Arial"/>
              </a:rPr>
              <a:t>stage 0</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رف بالطور البكني وفية يكون الفطر تراكيب او اوعية دورقية الشكل تسمى الاوعية البكنية وتتكون على السطوح العليا لاوراق النات العائل ويوجد داخلها خيوط خصيبة تحمل الجراثيم البكنية احادية الخلية احادية النواة وهي تقوم بوظيفة الاعضاء الجنسية المذكرة اما الخيوط تسمى هيفات استقبال وتقوم بوظيفة الاعضاء الجنسية المؤنث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1" name="Picture 4" descr="f03395e1">
            <a:hlinkClick r:id="rId1"/>
          </p:cNvPr>
          <p:cNvPicPr/>
          <p:nvPr/>
        </p:nvPicPr>
        <p:blipFill>
          <a:blip r:embed="rId2"/>
          <a:stretch/>
        </p:blipFill>
        <p:spPr>
          <a:xfrm>
            <a:off x="3419640" y="1628640"/>
            <a:ext cx="2079360" cy="31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3" name="Picture 5" descr="phot0099"/>
          <p:cNvPicPr/>
          <p:nvPr/>
        </p:nvPicPr>
        <p:blipFill>
          <a:blip r:embed="rId1"/>
          <a:stretch/>
        </p:blipFill>
        <p:spPr>
          <a:xfrm>
            <a:off x="2268360" y="1557360"/>
            <a:ext cx="5010480" cy="33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5" name="Picture 5" descr="pgram4"/>
          <p:cNvPicPr/>
          <p:nvPr/>
        </p:nvPicPr>
        <p:blipFill>
          <a:blip r:embed="rId1"/>
          <a:stretch/>
        </p:blipFill>
        <p:spPr>
          <a:xfrm>
            <a:off x="900000" y="692280"/>
            <a:ext cx="6851880" cy="51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764640"/>
            <a:ext cx="8229600" cy="452628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ور الاول</a:t>
            </a:r>
            <a:r>
              <a:rPr b="1" lang="en-US" sz="3200" spc="-1" strike="noStrike">
                <a:solidFill>
                  <a:srgbClr val="000000"/>
                </a:solidFill>
                <a:latin typeface="Arial"/>
              </a:rPr>
              <a:t>stage</a:t>
            </a:r>
            <a:r>
              <a:rPr b="1" lang="en-US" sz="3200" spc="-1" strike="noStrike">
                <a:solidFill>
                  <a:srgbClr val="000000"/>
                </a:solidFill>
                <a:latin typeface="Microsoft YaHei"/>
                <a:ea typeface="Microsoft YaHei"/>
              </a:rPr>
              <a:t>Ⅰ</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عرف بالطور الاسيدي ويمتاز بوجود تراكيب كأسية الشكل تعرف بالكؤوس الاسيدية وهي تتكون على السطوح السفلى لاوراق النبات المصاب في الجهة المقابلة للاوعية البكنية وتتكون داخلها الجراثيم الاسيدية في سلاسل يفصلها عن بعضها خلايا بينية وكل جرثومة اسيدية بها نواتين منفصلتين.</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0:07:12Z</dcterms:created>
  <dc:creator>User</dc:creator>
  <dc:description/>
  <dc:language>en-US</dc:language>
  <cp:lastModifiedBy>user</cp:lastModifiedBy>
  <dcterms:modified xsi:type="dcterms:W3CDTF">2015-04-11T19:26:10Z</dcterms:modified>
  <cp:revision>6</cp:revision>
  <dc:subject/>
  <dc:title>Slide 1</dc:title>
</cp:coreProperties>
</file>