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3.jpeg" ContentType="image/jpeg"/>
  <Override PartName="/ppt/media/image21.jpeg" ContentType="image/jpeg"/>
  <Override PartName="/ppt/media/image20.jpeg" ContentType="image/jpeg"/>
  <Override PartName="/ppt/media/image19.jpeg" ContentType="image/jpeg"/>
  <Override PartName="/ppt/media/image7.jpeg" ContentType="image/jpeg"/>
  <Override PartName="/ppt/media/image28.jpeg" ContentType="image/jpeg"/>
  <Override PartName="/ppt/media/image12.jpeg" ContentType="image/jpeg"/>
  <Override PartName="/ppt/media/image11.jpeg" ContentType="image/jpeg"/>
  <Override PartName="/ppt/media/image9.jpeg" ContentType="image/jpeg"/>
  <Override PartName="/ppt/media/image29.jpeg" ContentType="image/jpeg"/>
  <Override PartName="/ppt/media/image10.jpeg" ContentType="image/jpeg"/>
  <Override PartName="/ppt/media/image8.jpeg" ContentType="image/jpeg"/>
  <Override PartName="/ppt/media/image13.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EBADA6-B70E-4C4A-8861-E36228DB9B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10B4FA-76F3-4ECB-AC0E-3B9878709A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46C5A1-5043-4665-BD21-14F21A77E4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C1CDE9-E8E1-4B90-98F7-233954BE5C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D77B49-B9ED-4A8E-9064-FFC965F6D8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CCA468-6E65-41A3-8C96-82123607C2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F7B3C3-D319-455B-BF34-7185820372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7631DA-1251-4D60-9560-0B01E985BE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68A20B-B50D-4489-91BB-ADA85C8659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73D8E9-C55E-49B5-A645-8B26A44336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00E584-AAB8-4E0B-AF89-E32903F3A4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7AEC67-A96A-4E20-9B7E-C2CA25A281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9F0FF5-36F9-47D4-8BA0-04005F8999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992E1E-AEA4-4546-8480-4A7A677431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DB0BE1-E6DB-4B36-9527-12E4C73999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144654-454F-4C64-BE31-449BE8B97B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4C74BA-F9AB-4A59-BA8D-0F98811668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38A7CF3-F75A-4881-A774-879ABDC9F4C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305861-35B1-4505-AE6D-EC7EE8442A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8E1C8F-1B16-4140-BAE2-EB1E6E09A2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6035A6-B3E4-4035-A449-1CC7985026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8DFB41-7F63-47B3-BD6F-2864DD5A70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E9E158-4198-41EA-BD3E-23E76FE325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937ECE-937B-4CD7-8516-EF3A446BD6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F7F279-5351-4631-A4B3-71076041D9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3CA164-8212-49A3-98A8-00D40CBD55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487C23-7163-4394-82BE-421591E8F8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1F99B4-11E1-4D12-9DFE-90F565B3E0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44D3DCF-726C-4E25-96E1-1A9942ECC83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FAF7C21-E442-438C-B767-1E82651F569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0285B0D-2D0C-4059-87B5-9E9EEE2B676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2F4420-2E55-4A8C-B12C-5F6A8FE854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C308D8-BE99-4553-852D-D69F7542CB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390A82-F062-44F0-B635-25E5321E11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9B3C5B-F91E-4498-B473-7D7D5C696F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02D73A-E339-4910-92EA-19830DD340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BA0B81-4BFC-4F40-88CB-251F6EDC94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C84640-998E-4CE9-85FA-F7FDBFE544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AA80A9-B21E-4ED9-BB61-2BEDBAA508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622207-2D93-489D-B118-E1CE8D63F7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2AFF25-6B3D-4EE8-94A3-88FB21F833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6D50629-DCAC-4227-8C2D-AF0D35C5822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3AB4856-DDFB-4F3B-9145-B5D2E163354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F327C20-E00E-4BAF-A842-569A382D78C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9F7355-3A8E-404E-BDA4-ED9C054089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7000CA0-F956-4318-B06D-0B4D0A2E0C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F3FFEF0-F09A-438C-B72E-C822689F23F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5D94D0-D39F-408F-A026-F0C1330DA4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C2E7107-9F50-4AC0-A8ED-5B006D2232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F88BFC-7EB9-45CB-A9E6-7781082E10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5E74A0-87B8-45C9-BCB4-8ACDD6371E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7FC5E7-7842-4A51-9CBF-0C08A0B98A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A8F757-A124-4976-8074-B58B898280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D3FC813-0A7F-4D34-9A28-882C6C1A22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1FA4FF7-CDE4-4DA1-9046-45EE2DE269E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CFB869-060F-4D69-82EC-686D08F05A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82ABCA6-BAB8-4F49-9ACA-73F9EE73F85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E3B36A-A01A-458B-872F-948FF767B6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B5475C-7FC3-4410-8AF4-9178500AB5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ECA448-6B60-4660-98A2-C58BA29412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D5E99-2BCF-47C4-81E3-5C1A85347892}"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4"/>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5"/>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CBDC8-A276-4E8D-BCA1-2E0AC9A25508}"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4"/>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5"/>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38EBD-C5D9-4874-8082-0BFB387F3315}"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AA661-A18C-4A7A-BCE4-0AFAE20E8FF1}"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5CFD5-6673-47FA-8FA2-8A46BCC95F5C}"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images.google.com.sa/imgres?imgurl=http://www.mycolog.com/4b%2520Botrytis%25208.jpg&amp;imgrefurl=http://www.mycolog.com/CHAP4b.htm&amp;usg=__qijy3qUHwFxySPS4uYz0Dh_roUQ=&amp;h=423&amp;w=400&amp;sz=37&amp;hl=ar&amp;start=44&amp;um=1&amp;tbnid=4BE9CxZYpqBs4M:&amp;tbnh=126&amp;tbnw=119&amp;prev=/images%3Fq%3DBotrytis%2Bspore%26ndsp%3D18%26hl%3Dar%26safe%3Dactive%26sa%3DN%26start%3D36%26um%3D1"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images.google.com.sa/imgres?imgurl=http://botit.botany.wisc.edu/images/332/Deuteromycetes/Deuteromycotina_D_sw_sl_so/Alternaria_spore_tjv.gif&amp;imgrefurl=http://botit.botany.wisc.edu/images/332/Deuteromycetes/Deuteromycotina_D_sw_sl_so/Alternaria_spore_tjv.html&amp;usg=__ENTJ347CnNl0bBB4RUqJcZffPfo=&amp;h=480&amp;w=264&amp;sz=85&amp;hl=ar&amp;start=1&amp;um=1&amp;tbnid=k1bAy3HLe7xY6M:&amp;tbnh=129&amp;tbnw=71&amp;prev=/images%3Fq%3DAlternaria%2Bspore%26hl%3Dar%26safe%3Dactive%26sa%3DG%26um%3D1" TargetMode="External"/><Relationship Id="rId2" Type="http://schemas.openxmlformats.org/officeDocument/2006/relationships/image" Target="../media/image10.jpeg"/><Relationship Id="rId3" Type="http://schemas.openxmlformats.org/officeDocument/2006/relationships/hyperlink" Target="http://images.google.com.sa/imgres?imgurl=http://www.uoguelph.ca/~gbarron/MISCELLANEOUS/altern3.jpg&amp;imgrefurl=http://www.uoguelph.ca/~gbarron/MISCELLANEOUS/alternar.htm&amp;usg=__YHik6otwzxjo3TPe_O_O8vtvq2o=&amp;h=442&amp;w=633&amp;sz=45&amp;hl=ar&amp;start=10&amp;um=1&amp;tbnid=KR5tsIjkGHTVPM:&amp;tbnh=96&amp;tbnw=137&amp;prev=/images%3Fq%3DAlternaria%2Bspore%26hl%3Dar%26safe%3Dactive%26sa%3DG%26um%3D1" TargetMode="External"/><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images.google.com.sa/imgres?imgurl=http://bugs.bio.usyd.edu.au/learning/resources/CAL/Microconcepts/images/Topics/fungi_key/alternaria.jpg&amp;imgrefurl=http://bugs.bio.usyd.edu.au/learning/resources/CAL/Microconcepts/Diversity/fungal_key.html&amp;usg=__P-lNzKjkg6MrA1Ur_n-JuN_EdiY=&amp;h=500&amp;w=400&amp;sz=28&amp;hl=ar&amp;start=17&amp;um=1&amp;tbnid=lNg9dwSvYQ3NDM:&amp;tbnh=130&amp;tbnw=104&amp;prev=/images%3Fq%3DAlternaria%2Bspore%26hl%3Dar%26safe%3Dactive%26sa%3DG%26um%3D1"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images.google.com.sa/imgres?imgurl=http://www.ipm.uiuc.edu/diseases/series400/rpd405/405-4.gif&amp;imgrefurl=http://www.ipm.uiuc.edu/diseases/series400/rpd405/index.html&amp;usg=__5BypxPcLXjqD9ngu161NA52bSbw=&amp;h=291&amp;w=356&amp;sz=16&amp;hl=ar&amp;start=8&amp;um=1&amp;tbnid=MTSa5RQk8mJMlM:&amp;tbnh=99&amp;tbnw=121&amp;prev=/images%3Fq%3DHelminthosporium%2Bspore%26hl%3Dar%26safe%3Dactive%26sa%3DG%26um%3D1" TargetMode="External"/><Relationship Id="rId2" Type="http://schemas.openxmlformats.org/officeDocument/2006/relationships/hyperlink" Target="http://images.google.com.sa/imgres?imgurl=http://www.ipm.uiuc.edu/diseases/series400/rpd405/405-4.gif&amp;imgrefurl=http://www.ipm.uiuc.edu/diseases/series400/rpd405/index.html&amp;usg=__5BypxPcLXjqD9ngu161NA52bSbw=&amp;h=291&amp;w=356&amp;sz=16&amp;hl=ar&amp;start=8&amp;um=1&amp;tbnid=MTSa5RQk8mJMlM:&amp;tbnh=99&amp;tbnw=121&amp;prev=/images%3Fq%3DHelminthosporium%2Bspore%26hl%3Dar%26safe%3Dactive%26sa%3DG%26um%3D1" TargetMode="External"/><Relationship Id="rId3" Type="http://schemas.openxmlformats.org/officeDocument/2006/relationships/hyperlink" Target="http://images.google.com.sa/imgres?imgurl=http://content.ll-0.com/pureaircontrols/pureaircontrols_e_a000257153.JPG%3Fi%3D050604185059&amp;imgrefurl=http://www.tristaterestores.com/Commonmolds.html&amp;usg=__brIRqTfS3LqkgJsYsd0cx2EhEsw=&amp;h=295&amp;w=428&amp;sz=32&amp;hl=ar&amp;start=7&amp;um=1&amp;tbnid=85AW-KJWfc078M:&amp;tbnh=87&amp;tbnw=126&amp;prev=/images%3Fq%3DHelminthosporium%2Bspore%26ndsp%3D18%26hl%3Dar%26safe%3Dactive%26sa%3DN%26um%3D1" TargetMode="External"/><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images.google.com.sa/imgres?imgurl=http://www.firstchoicemold.com/images/molds/Curvularia-sp..jpg&amp;imgrefurl=http://www.firstchoicemold.com/Molds.htm&amp;usg=__imnOgi-zfHV3Nfq76DcqUGKf46g=&amp;h=100&amp;w=100&amp;sz=6&amp;hl=ar&amp;start=17&amp;um=1&amp;tbnid=WPlN-2mICUN0yM:&amp;tbnh=82&amp;tbnw=82&amp;prev=/images%3Fq%3DCurvularia%2Bspore%26hl%3Dar%26safe%3Dactive%26sa%3DG%26um%3D1" TargetMode="External"/><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hyperlink" Target="http://images.google.com.sa/imgres?imgurl=http://pollen.utulsa.edu/Spores/Curvularia%2520Images/Curvularia%2520in%2520air-2.jpg&amp;imgrefurl=http://pollen.utulsa.edu/Spores/Curvularia.html&amp;usg=__YIYdaV9fgmGN7MaVAF0bcG5zVR4=&amp;h=180&amp;w=270&amp;sz=10&amp;hl=ar&amp;start=11&amp;um=1&amp;tbnid=s1zdIyV6MIF6hM:&amp;tbnh=75&amp;tbnw=113&amp;prev=/images%3Fq%3DCurvularia%2BsporeS.%26hl%3Dar%26safe%3Dactive%26sa%3DG%26um%3D1" TargetMode="External"/><Relationship Id="rId5" Type="http://schemas.openxmlformats.org/officeDocument/2006/relationships/image" Target="../media/image18.jpeg"/><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images.google.com.sa/imgres?imgurl=http://www.mycology.adelaide.edu.au/images/stemphylium.gif&amp;imgrefurl=http://www.mycology.adelaide.edu.au/Fungal_Descriptions/Hyphomycetes_(dematiaceous)/Stemphylium/&amp;usg=__kUfyoSMXejZuc1RzuH91tfPkeUc=&amp;h=162&amp;w=225&amp;sz=23&amp;hl=ar&amp;start=3&amp;um=1&amp;tbnid=Il2XtGlVXzqChM:&amp;tbnh=78&amp;tbnw=108&amp;prev=/images%3Fq%3DStemphylium%26hl%3Dar%26safe%3Dactive%26sa%3DG%26um%3D1" TargetMode="External"/><Relationship Id="rId2" Type="http://schemas.openxmlformats.org/officeDocument/2006/relationships/image" Target="../media/image20.jpeg"/><Relationship Id="rId3" Type="http://schemas.openxmlformats.org/officeDocument/2006/relationships/hyperlink" Target="http://images.google.com.sa/imgres?imgurl=http://www.mycology.adelaide.edu.au/gallery/photos/stem1.gif&amp;imgrefurl=http://www.mycology.adelaide.edu.au/gallery/photos/stem1.html&amp;usg=__qTp-xuLwftL-lWtgFjrj63Ge8BQ=&amp;h=401&amp;w=576&amp;sz=145&amp;hl=ar&amp;start=1&amp;um=1&amp;tbnid=4he89jUCTPQmFM:&amp;tbnh=93&amp;tbnw=134&amp;prev=/images%3Fq%3DStemphylium%26hl%3Dar%26safe%3Dactive%26sa%3DG%26um%3D1" TargetMode="External"/><Relationship Id="rId4" Type="http://schemas.openxmlformats.org/officeDocument/2006/relationships/image" Target="../media/image21.jpe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images.google.com.sa/imgres?imgurl=http://www.med.univ-angers.fr/GEIHP/Images/Fusarium.jpg&amp;imgrefurl=http://www.med.univ-angers.fr/GEIHP/English/Gallery.html&amp;usg=__CXIOCYCGUmWPUPWDI3h4fmRCPKU=&amp;h=960&amp;w=1280&amp;sz=111&amp;hl=ar&amp;start=11&amp;um=1&amp;tbnid=HhiSqgpFBliBrM:&amp;tbnh=113&amp;tbnw=150&amp;prev=/images%3Fq%3DFusarium.%26hl%3Dar%26safe%3Dactive%26sa%3DG%26um%3D1" TargetMode="External"/><Relationship Id="rId2" Type="http://schemas.openxmlformats.org/officeDocument/2006/relationships/image" Target="../media/image23.jpeg"/><Relationship Id="rId3" Type="http://schemas.openxmlformats.org/officeDocument/2006/relationships/hyperlink" Target="http://images.google.com.sa/imgres?imgurl=http://dic.academic.ru/pictures/enwiki/70/Fusarium_verticillioides_01.jpg&amp;imgrefurl=http://dic.academic.ru/dic.nsf/enwiki/468535&amp;usg=__UTluBCu4L37nJx5zhmXo2yftltA=&amp;h=1944&amp;w=2897&amp;sz=3494&amp;hl=ar&amp;start=6&amp;um=1&amp;tbnid=Zp76pdI4IlptWM:&amp;tbnh=101&amp;tbnw=150&amp;prev=/images%3Fq%3DFusarium.%26hl%3Dar%26safe%3Dactive%26sa%3DG%26um%3D1" TargetMode="External"/><Relationship Id="rId4" Type="http://schemas.openxmlformats.org/officeDocument/2006/relationships/image" Target="../media/image24.jpeg"/><Relationship Id="rId5" Type="http://schemas.openxmlformats.org/officeDocument/2006/relationships/hyperlink" Target="http://images.google.com.sa/imgres?imgurl=http://www.prosementi.com/images/uploads/rewind/mas_fusariosi.jpg&amp;imgrefurl=http://www.prosementi.com/index.php/eng/research_projects/mas_for_fusarium_head_blight/&amp;usg=__nHDYiAz27nbfkz9wffoU0-mB6dk=&amp;h=311&amp;w=340&amp;sz=117&amp;hl=ar&amp;start=25&amp;um=1&amp;tbnid=FIJdKNwKGpaONM:&amp;tbnh=109&amp;tbnw=119&amp;prev=/images%3Fq%3DFusarium.%26ndsp%3D18%26hl%3Dar%26safe%3Dactive%26sa%3DN%26start%3D18%26um%3D1" TargetMode="External"/><Relationship Id="rId6" Type="http://schemas.openxmlformats.org/officeDocument/2006/relationships/image" Target="../media/image25.jpeg"/><Relationship Id="rId7" Type="http://schemas.openxmlformats.org/officeDocument/2006/relationships/image" Target="../media/image26.jpeg"/><Relationship Id="rId8"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images.google.com.sa/imgres?imgurl=http://www.bspp.org.uk/publications/new-disease-reports/013/2006-36-3.jpg&amp;imgrefurl=http://www.bspp.org.uk/publications/new-disease-reports/ndr.php%3Fid%3D013028&amp;usg=__121ajH7YeLTVInYZjf91fW0jNTQ=&amp;h=525&amp;w=700&amp;sz=246&amp;hl=ar&amp;start=3&amp;um=1&amp;tbnid=LNINTWyzZ7wrkM:&amp;tbnh=105&amp;tbnw=140&amp;prev=/images%3Fq%3DSclerotium%26hl%3Dar%26safe%3Dactive%26sa%3DG%26um%3D1" TargetMode="External"/><Relationship Id="rId2" Type="http://schemas.openxmlformats.org/officeDocument/2006/relationships/image" Target="../media/image28.jpeg"/><Relationship Id="rId3" Type="http://schemas.openxmlformats.org/officeDocument/2006/relationships/hyperlink" Target="http://images.google.com.sa/imgres?imgurl=http://www.botany.hawaii.edu/faculty/wong/Bot201/Deuteromycota/Sclerotium_rolfsii1.jpg&amp;imgrefurl=http://www.botany.hawaii.edu/faculty/wong/Bot201/Deuteromycota/Deuteromycota.htm&amp;usg=__proBs74kds1Nf_6yXR9_MqTC_qE=&amp;h=215&amp;w=288&amp;sz=64&amp;hl=ar&amp;start=2&amp;um=1&amp;tbnid=bdZKEZbENp-GnM:&amp;tbnh=86&amp;tbnw=115&amp;prev=/images%3Fq%3DSclerotium%26hl%3Dar%26safe%3Dactive%26sa%3DG%26um%3D1" TargetMode="External"/><Relationship Id="rId4" Type="http://schemas.openxmlformats.org/officeDocument/2006/relationships/image" Target="../media/image29.jpeg"/><Relationship Id="rId5" Type="http://schemas.openxmlformats.org/officeDocument/2006/relationships/hyperlink" Target="http://images.google.com.sa/imgres?imgurl=http://www.apsnet.org/Education/IllustratedGlossary/PhotosS-V/sterilefungus.jpg&amp;imgrefurl=http://www.apsnet.org/Education/IllustratedGlossary/PhotosS-V/sterilefungus.htm&amp;usg=__sNkjZsiSgXKWqu2Ky0fwojaKnHU=&amp;h=275&amp;w=329&amp;sz=23&amp;hl=ar&amp;start=28&amp;um=1&amp;tbnid=XhC-f3uMmZYDdM:&amp;tbnh=99&amp;tbnw=119&amp;prev=/images%3Fq%3DSclerotium%26ndsp%3D18%26hl%3Dar%26safe%3Dactive%26sa%3DN%26start%3D18%26um%3D1" TargetMode="External"/><Relationship Id="rId6" Type="http://schemas.openxmlformats.org/officeDocument/2006/relationships/image" Target="../media/image30.jpeg"/><Relationship Id="rId7"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images.google.com.sa/imgres?imgurl=http://bugs.bio.usyd.edu.au/Mycology/images/Topics/Reprodn_Dispersal/Rhizoctonia_solani.jpg&amp;imgrefurl=http://bugs.bio.usyd.edu.au/Mycology/Reprodn_Dispersal/compatibility.shtml&amp;usg=__3zLOq1MrFKxLt_nfheUcOjslskI=&amp;h=298&amp;w=398&amp;sz=43&amp;hl=ar&amp;start=2&amp;um=1&amp;tbnid=pObplnQ8i3CzPM:&amp;tbnh=93&amp;tbnw=124&amp;prev=/images%3Fq%3DRhizoctonia%26hl%3Dar%26safe%3Dactive%26sa%3DG%26um%3D1" TargetMode="External"/><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images.google.com.sa/imgres?imgurl=http://www.forestpests.org/nursery/images/fnp13-3.jpg&amp;imgrefurl=http://www.forestpests.org/nursery/phomablight.html&amp;usg=__VDyQTjTUJQJgfsyjiK3UEkQ0XrY=&amp;h=419&amp;w=600&amp;sz=43&amp;hl=ar&amp;start=4&amp;um=1&amp;tbnid=6vyN0JXFL0rcoM:&amp;tbnh=94&amp;tbnw=135&amp;prev=/images%3Fq%3D:Phoma%26hl%3Dar%26safe%3Dactive%26sa%3DN%26um%3D1" TargetMode="External"/><Relationship Id="rId2" Type="http://schemas.openxmlformats.org/officeDocument/2006/relationships/image" Target="../media/image3.jpeg"/><Relationship Id="rId3" Type="http://schemas.openxmlformats.org/officeDocument/2006/relationships/hyperlink" Target="http://www.eamlabs.com/mold%20training%20pictures/Phoma2.jpg" TargetMode="External"/><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images.google.com.sa/imgres?imgurl=http://www.forestryimages.org/images/3072x2048/5368308.jpg&amp;imgrefurl=http://www.forestryimages.org/browse/detail.cfm%3Fimgnum%3D5368308&amp;usg=__4NkhVjmAAxtQlGoLq6rzHOUHB34=&amp;h=2304&amp;w=3072&amp;sz=617&amp;hl=ar&amp;start=13&amp;um=1&amp;tbnid=u3M66_gkoVrZ9M:&amp;tbnh=113&amp;tbnw=150&amp;prev=/images%3Fq%3DDiplodia%2Bspore%26hl%3Dar%26safe%3Dactive%26sa%3DG%26um%3D1"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images.google.com.sa/imgres?imgurl=http://www.ipm.uiuc.edu/landturf/diseases/sphaeropsis/images/image03_small.jpg&amp;imgrefurl=http://www.ipm.uiuc.edu/landturf/diseases/sphaeropsis/index.html&amp;usg=__80lW9jSrndHzgIXE5qom1gClhxQ=&amp;h=136&amp;w=150&amp;sz=20&amp;hl=ar&amp;start=37&amp;um=1&amp;tbnid=je7hL7prYHa33M:&amp;tbnh=87&amp;tbnw=96&amp;prev=/images%3Fq%3DDiplodia%2Bspore%26ndsp%3D18%26hl%3Dar%26safe%3Dactive%26sa%3DN%26start%3D36%26um%3D1"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06240"/>
            <a:ext cx="8229600" cy="1469880"/>
          </a:xfrm>
          <a:prstGeom prst="rect">
            <a:avLst/>
          </a:prstGeom>
          <a:noFill/>
          <a:ln w="0">
            <a:noFill/>
          </a:ln>
        </p:spPr>
        <p:txBody>
          <a:bodyPr lIns="90000" rIns="90000" tIns="46800" bIns="9144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0033"/>
                </a:solidFill>
                <a:latin typeface="Franklin Gothic Book"/>
              </a:rPr>
              <a:t>الفطريات الناقصة</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696464"/>
              </a:solidFill>
              <a:latin typeface="Franklin Gothic Book"/>
            </a:endParaRPr>
          </a:p>
        </p:txBody>
      </p:sp>
      <p:sp>
        <p:nvSpPr>
          <p:cNvPr id="247" name=""/>
          <p:cNvSpPr txBox="1"/>
          <p:nvPr/>
        </p:nvSpPr>
        <p:spPr>
          <a:xfrm>
            <a:off x="468360" y="1125000"/>
            <a:ext cx="8229600" cy="4526280"/>
          </a:xfrm>
          <a:prstGeom prst="rect">
            <a:avLst/>
          </a:prstGeom>
          <a:noFill/>
          <a:ln w="0">
            <a:noFill/>
          </a:ln>
        </p:spPr>
        <p:txBody>
          <a:bodyPr lIns="90000" rIns="90000" tIns="46800" bIns="46800"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rm-subclass:Hyphomycetidae</a:t>
            </a: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rm-order:Moniliales</a:t>
            </a: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rm-family:Moniliaceae</a:t>
            </a: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en-US" sz="2600" spc="-1" strike="noStrike">
                <a:solidFill>
                  <a:srgbClr val="000000"/>
                </a:solidFill>
                <a:latin typeface="Perpetua"/>
              </a:rPr>
              <a:t>Form-genus:Botrytis.sp</a:t>
            </a: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696464"/>
              </a:solidFill>
              <a:latin typeface="Franklin Gothic Book"/>
            </a:endParaRPr>
          </a:p>
        </p:txBody>
      </p:sp>
      <p:sp>
        <p:nvSpPr>
          <p:cNvPr id="249"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Perpetua"/>
              </a:rPr>
              <a:t>الغزل الفطري مقسم متفرع ,الحوامل الكونيدية طويلة ,داكنة اللون ,متفرعة قرب نهايتها الى افرع جانبية عديدة قصيرة ,تنتفخ عند اطرافها وتتكون ذنيبات دقيقة كل ذنيب يحمل جرثومة كونيدية وحيدة الخلية بيضية الشكل عديمة اللون وتشكل الكونيدة تركيب يشبة عنقود العنب.</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696464"/>
              </a:solidFill>
              <a:latin typeface="Franklin Gothic Book"/>
            </a:endParaRPr>
          </a:p>
        </p:txBody>
      </p:sp>
      <p:pic>
        <p:nvPicPr>
          <p:cNvPr id="251" name="Picture 5" descr="8"/>
          <p:cNvPicPr/>
          <p:nvPr/>
        </p:nvPicPr>
        <p:blipFill>
          <a:blip r:embed="rId1"/>
          <a:stretch/>
        </p:blipFill>
        <p:spPr>
          <a:xfrm>
            <a:off x="1908000" y="1125360"/>
            <a:ext cx="4681800" cy="4337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696464"/>
              </a:solidFill>
              <a:latin typeface="Franklin Gothic Book"/>
            </a:endParaRPr>
          </a:p>
        </p:txBody>
      </p:sp>
      <p:pic>
        <p:nvPicPr>
          <p:cNvPr id="253" name="Picture 5" descr="4b%2520Botrytis%25208">
            <a:hlinkClick r:id="rId1"/>
          </p:cNvPr>
          <p:cNvPicPr/>
          <p:nvPr/>
        </p:nvPicPr>
        <p:blipFill>
          <a:blip r:embed="rId2"/>
          <a:stretch/>
        </p:blipFill>
        <p:spPr>
          <a:xfrm>
            <a:off x="3132000" y="1700280"/>
            <a:ext cx="3170520" cy="3355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696464"/>
              </a:solidFill>
              <a:latin typeface="Franklin Gothic Book"/>
            </a:endParaRPr>
          </a:p>
        </p:txBody>
      </p:sp>
      <p:sp>
        <p:nvSpPr>
          <p:cNvPr id="255"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rm-family:Dematiaceae</a:t>
            </a: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1</a:t>
            </a:r>
            <a:r>
              <a:rPr b="0" lang="en-US" sz="2600" spc="-1" strike="noStrike">
                <a:solidFill>
                  <a:srgbClr val="000000"/>
                </a:solidFill>
                <a:latin typeface="Perpetua"/>
              </a:rPr>
              <a:t>-</a:t>
            </a:r>
            <a:r>
              <a:rPr b="0" lang="en-US" sz="2600" spc="-1" strike="noStrike">
                <a:solidFill>
                  <a:srgbClr val="000000"/>
                </a:solidFill>
                <a:latin typeface="Perpetua"/>
              </a:rPr>
              <a:t>Form-genus:Alternaria.sp</a:t>
            </a: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696464"/>
              </a:solidFill>
              <a:latin typeface="Franklin Gothic Book"/>
            </a:endParaRPr>
          </a:p>
        </p:txBody>
      </p:sp>
      <p:sp>
        <p:nvSpPr>
          <p:cNvPr id="257"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gn="r" rtl="1">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Perpetua"/>
              </a:rPr>
              <a:t>تعيش رمية في التربة او متطفلة على كثير من النباتات كالطماطم والبطاطس حيث تسبب لها مرضا يسمى اللفحة المبكرة في الطماطم والبطاطس.</a:t>
            </a:r>
            <a:endParaRPr b="0" lang="en-US" sz="2600" spc="-1" strike="noStrike">
              <a:solidFill>
                <a:srgbClr val="000000"/>
              </a:solidFill>
              <a:latin typeface="Perpetua"/>
            </a:endParaRPr>
          </a:p>
          <a:p>
            <a:pPr marL="272880" indent="-272880" algn="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Perpetua"/>
              </a:rPr>
              <a:t>الجراثيم الكونيدية كبيرة الحجم ,صولجانية الشكل ولها منقار طويل ومقسمة بحواجز طولية وعرضية الى عدة خلايا .</a:t>
            </a:r>
            <a:endParaRPr b="0" lang="en-US" sz="2600" spc="-1" strike="noStrike">
              <a:solidFill>
                <a:srgbClr val="000000"/>
              </a:solidFill>
              <a:latin typeface="Perpetua"/>
            </a:endParaRPr>
          </a:p>
          <a:p>
            <a:pPr marL="272880" indent="-272880" algn="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Perpetua"/>
              </a:rPr>
              <a:t> لونها فاتح زيتوني وغالبا تكون مفردة على اطراف الخيوط التي تحملها واحيانا تكون في سلاسل من جرثومتين او ثلاثة والحوامل الكونيدية قصيرة بسيطة او متفرعة مقسمة غامقة اللون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696464"/>
              </a:solidFill>
              <a:latin typeface="Franklin Gothic Book"/>
            </a:endParaRPr>
          </a:p>
        </p:txBody>
      </p:sp>
      <p:pic>
        <p:nvPicPr>
          <p:cNvPr id="259" name="Picture 5" descr="Alternaria_spore_tjv">
            <a:hlinkClick r:id="rId1"/>
          </p:cNvPr>
          <p:cNvPicPr/>
          <p:nvPr/>
        </p:nvPicPr>
        <p:blipFill>
          <a:blip r:embed="rId2"/>
          <a:stretch/>
        </p:blipFill>
        <p:spPr>
          <a:xfrm>
            <a:off x="6084720" y="1700280"/>
            <a:ext cx="1366920" cy="2482920"/>
          </a:xfrm>
          <a:prstGeom prst="rect">
            <a:avLst/>
          </a:prstGeom>
          <a:ln w="0">
            <a:noFill/>
          </a:ln>
        </p:spPr>
      </p:pic>
      <p:pic>
        <p:nvPicPr>
          <p:cNvPr id="260" name="Picture 7" descr="altern3">
            <a:hlinkClick r:id="rId3"/>
          </p:cNvPr>
          <p:cNvPicPr/>
          <p:nvPr/>
        </p:nvPicPr>
        <p:blipFill>
          <a:blip r:embed="rId4"/>
          <a:stretch/>
        </p:blipFill>
        <p:spPr>
          <a:xfrm>
            <a:off x="1403280" y="1773360"/>
            <a:ext cx="3822840" cy="2679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696464"/>
              </a:solidFill>
              <a:latin typeface="Franklin Gothic Book"/>
            </a:endParaRPr>
          </a:p>
        </p:txBody>
      </p:sp>
      <p:pic>
        <p:nvPicPr>
          <p:cNvPr id="262" name="Picture 5" descr="alternaria">
            <a:hlinkClick r:id="rId1"/>
          </p:cNvPr>
          <p:cNvPicPr/>
          <p:nvPr/>
        </p:nvPicPr>
        <p:blipFill>
          <a:blip r:embed="rId2"/>
          <a:stretch/>
        </p:blipFill>
        <p:spPr>
          <a:xfrm>
            <a:off x="3708360" y="1916280"/>
            <a:ext cx="2025720" cy="2533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696464"/>
              </a:solidFill>
              <a:latin typeface="Franklin Gothic Book"/>
            </a:endParaRPr>
          </a:p>
        </p:txBody>
      </p:sp>
      <p:sp>
        <p:nvSpPr>
          <p:cNvPr id="264"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gn="r" rtl="1">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2</a:t>
            </a:r>
            <a:r>
              <a:rPr b="0" lang="en-US" sz="2600" spc="-1" strike="noStrike">
                <a:solidFill>
                  <a:srgbClr val="000000"/>
                </a:solidFill>
                <a:latin typeface="Perpetua"/>
              </a:rPr>
              <a:t>-</a:t>
            </a:r>
            <a:r>
              <a:rPr b="0" lang="en-US" sz="2600" spc="-1" strike="noStrike">
                <a:solidFill>
                  <a:srgbClr val="000000"/>
                </a:solidFill>
                <a:latin typeface="Perpetua"/>
              </a:rPr>
              <a:t>Form-genus:Helminthosporium.sp</a:t>
            </a: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lgn="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Perpetua"/>
              </a:rPr>
              <a:t> تعيش متطفلة على النباتات مثل الشعير .</a:t>
            </a:r>
            <a:endParaRPr b="0" lang="en-US" sz="2600" spc="-1" strike="noStrike">
              <a:solidFill>
                <a:srgbClr val="000000"/>
              </a:solidFill>
              <a:latin typeface="Perpetua"/>
            </a:endParaRPr>
          </a:p>
          <a:p>
            <a:pPr marL="272880" indent="-272880" algn="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Perpetua"/>
              </a:rPr>
              <a:t>والغزل الفطري ينتشر داخل انسجة العائل بين الخلايا وهو مؤلف من هيفات مقسمة بجدر مستعرضة الى خلايا برميلية الشكل ذات لون فاتح اصفر .</a:t>
            </a:r>
            <a:endParaRPr b="0" lang="en-US" sz="2600" spc="-1" strike="noStrike">
              <a:solidFill>
                <a:srgbClr val="000000"/>
              </a:solidFill>
              <a:latin typeface="Perpetua"/>
            </a:endParaRPr>
          </a:p>
          <a:p>
            <a:pPr marL="272880" indent="-272880" algn="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Perpetua"/>
              </a:rPr>
              <a:t>الحوامل الكونيدية تظهر بشكل مجاميع من </a:t>
            </a:r>
            <a:r>
              <a:rPr b="0" lang="ar-SA" sz="2600" spc="-1" strike="noStrike">
                <a:solidFill>
                  <a:srgbClr val="000000"/>
                </a:solidFill>
                <a:latin typeface="Perpetua"/>
              </a:rPr>
              <a:t>3</a:t>
            </a:r>
            <a:r>
              <a:rPr b="0" lang="ar-SA" sz="2600" spc="-1" strike="noStrike">
                <a:solidFill>
                  <a:srgbClr val="000000"/>
                </a:solidFill>
                <a:latin typeface="Perpetua"/>
              </a:rPr>
              <a:t>-</a:t>
            </a:r>
            <a:r>
              <a:rPr b="0" lang="ar-SA" sz="2600" spc="-1" strike="noStrike">
                <a:solidFill>
                  <a:srgbClr val="000000"/>
                </a:solidFill>
                <a:latin typeface="Perpetua"/>
              </a:rPr>
              <a:t>4</a:t>
            </a:r>
            <a:r>
              <a:rPr b="0" lang="ar-SA" sz="2600" spc="-1" strike="noStrike">
                <a:solidFill>
                  <a:srgbClr val="000000"/>
                </a:solidFill>
                <a:latin typeface="Perpetua"/>
              </a:rPr>
              <a:t>حوامل قائمة كل منها يحمل جرثومة كونيدية واحدة لونها بني فاتح مستطيلة او منحنية قليلا تحوي حواجز مستعرضة تقسمها الى عدد من الخلايا </a:t>
            </a:r>
            <a:r>
              <a:rPr b="0" lang="ar-SA" sz="2600" spc="-1" strike="noStrike">
                <a:solidFill>
                  <a:srgbClr val="000000"/>
                </a:solidFill>
                <a:latin typeface="Perpetua"/>
              </a:rPr>
              <a:t>2</a:t>
            </a:r>
            <a:r>
              <a:rPr b="0" lang="ar-SA" sz="2600" spc="-1" strike="noStrike">
                <a:solidFill>
                  <a:srgbClr val="000000"/>
                </a:solidFill>
                <a:latin typeface="Perpetua"/>
              </a:rPr>
              <a:t>-</a:t>
            </a:r>
            <a:r>
              <a:rPr b="0" lang="ar-SA" sz="2600" spc="-1" strike="noStrike">
                <a:solidFill>
                  <a:srgbClr val="000000"/>
                </a:solidFill>
                <a:latin typeface="Perpetua"/>
              </a:rPr>
              <a:t>7</a:t>
            </a:r>
            <a:r>
              <a:rPr b="0" lang="ar-SA" sz="2600" spc="-1" strike="noStrike">
                <a:solidFill>
                  <a:srgbClr val="000000"/>
                </a:solidFill>
                <a:latin typeface="Perpetua"/>
              </a:rPr>
              <a:t>خلايا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696464"/>
              </a:solidFill>
              <a:latin typeface="Franklin Gothic Book"/>
            </a:endParaRPr>
          </a:p>
        </p:txBody>
      </p:sp>
      <p:pic>
        <p:nvPicPr>
          <p:cNvPr id="266" name="Picture 4" descr="9"/>
          <p:cNvPicPr/>
          <p:nvPr/>
        </p:nvPicPr>
        <p:blipFill>
          <a:blip r:embed="rId1"/>
          <a:stretch/>
        </p:blipFill>
        <p:spPr>
          <a:xfrm>
            <a:off x="1890720" y="1687680"/>
            <a:ext cx="5364000" cy="3484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Franklin Gothic Book"/>
              </a:rPr>
              <a:t>مميزات الفطريات الناقصة</a:t>
            </a:r>
            <a:endParaRPr b="0" lang="en-US" sz="4000" spc="-1" strike="noStrike">
              <a:solidFill>
                <a:srgbClr val="696464"/>
              </a:solidFill>
              <a:latin typeface="Franklin Gothic Book"/>
            </a:endParaRPr>
          </a:p>
        </p:txBody>
      </p:sp>
      <p:sp>
        <p:nvSpPr>
          <p:cNvPr id="230"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Perpetua"/>
              </a:rPr>
              <a:t>الميسيليوم مقسم عرضيا الى خلايا.</a:t>
            </a:r>
            <a:endParaRPr b="0" lang="en-US" sz="2600" spc="-1" strike="noStrike">
              <a:solidFill>
                <a:srgbClr val="000000"/>
              </a:solidFill>
              <a:latin typeface="Perpetua"/>
            </a:endParaRPr>
          </a:p>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Perpetua"/>
              </a:rPr>
              <a:t>تعيش رمية في التربة او فوق البقايا النباتية او طفيلية عليها وبعضها يتطفل على الانسان والحيوان حيث تسبب لهم بعض الامراض الخطيرة .</a:t>
            </a:r>
            <a:endParaRPr b="0" lang="en-US" sz="2600" spc="-1" strike="noStrike">
              <a:solidFill>
                <a:srgbClr val="000000"/>
              </a:solidFill>
              <a:latin typeface="Perpetua"/>
            </a:endParaRPr>
          </a:p>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Perpetua"/>
              </a:rPr>
              <a:t>لم يكتشف فيها الطور الجنسي .</a:t>
            </a:r>
            <a:endParaRPr b="0" lang="en-US" sz="2600" spc="-1" strike="noStrike">
              <a:solidFill>
                <a:srgbClr val="000000"/>
              </a:solidFill>
              <a:latin typeface="Perpetua"/>
            </a:endParaRPr>
          </a:p>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Perpetua"/>
              </a:rPr>
              <a:t>تتكاثر لاجنسيا بتكوين الكونيدات وعدد قليل منها عرف بالخيوط الفطرية العقيمة التي تتكاثر لاجنسيا عن طريق انبات الاجسام الحجرية او تجزئة الخيط الفطري نفسة.</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68360" y="404280"/>
            <a:ext cx="82296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696464"/>
              </a:solidFill>
              <a:latin typeface="Franklin Gothic Book"/>
            </a:endParaRPr>
          </a:p>
        </p:txBody>
      </p:sp>
      <p:sp>
        <p:nvSpPr>
          <p:cNvPr id="268" name="Rectangle 4">
            <a:hlinkClick r:id="rId1"/>
          </p:cNvPr>
          <p:cNvSpPr/>
          <p:nvPr/>
        </p:nvSpPr>
        <p:spPr>
          <a:xfrm>
            <a:off x="0" y="3429000"/>
            <a:ext cx="9144000" cy="360"/>
          </a:xfrm>
          <a:prstGeom prst="rect">
            <a:avLst/>
          </a:prstGeom>
          <a:noFill/>
          <a:ln w="0">
            <a:noFill/>
          </a:ln>
        </p:spPr>
        <p:style>
          <a:lnRef idx="0"/>
          <a:fillRef idx="0"/>
          <a:effectRef idx="0"/>
          <a:fontRef idx="minor"/>
        </p:style>
        <p:txBody>
          <a:bodyPr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5">
            <a:hlinkClick r:id="rId2"/>
          </p:cNvPr>
          <p:cNvSpPr/>
          <p:nvPr/>
        </p:nvSpPr>
        <p:spPr>
          <a:xfrm>
            <a:off x="0" y="3429000"/>
            <a:ext cx="9144000" cy="360"/>
          </a:xfrm>
          <a:prstGeom prst="rect">
            <a:avLst/>
          </a:prstGeom>
          <a:noFill/>
          <a:ln w="0">
            <a:noFill/>
          </a:ln>
        </p:spPr>
        <p:style>
          <a:lnRef idx="0"/>
          <a:fillRef idx="0"/>
          <a:effectRef idx="0"/>
          <a:fontRef idx="minor"/>
        </p:style>
        <p:txBody>
          <a:bodyPr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0" name="Picture 7" descr="pureaircontrols_e_a000257153">
            <a:hlinkClick r:id="rId3"/>
          </p:cNvPr>
          <p:cNvPicPr/>
          <p:nvPr/>
        </p:nvPicPr>
        <p:blipFill>
          <a:blip r:embed="rId4"/>
          <a:stretch/>
        </p:blipFill>
        <p:spPr>
          <a:xfrm>
            <a:off x="1619280" y="1268280"/>
            <a:ext cx="5786280" cy="3996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696464"/>
              </a:solidFill>
              <a:latin typeface="Franklin Gothic Book"/>
            </a:endParaRPr>
          </a:p>
        </p:txBody>
      </p:sp>
      <p:sp>
        <p:nvSpPr>
          <p:cNvPr id="272" name=""/>
          <p:cNvSpPr txBox="1"/>
          <p:nvPr/>
        </p:nvSpPr>
        <p:spPr>
          <a:xfrm>
            <a:off x="468360" y="836640"/>
            <a:ext cx="8229600" cy="4525920"/>
          </a:xfrm>
          <a:prstGeom prst="rect">
            <a:avLst/>
          </a:prstGeom>
          <a:noFill/>
          <a:ln w="0">
            <a:noFill/>
          </a:ln>
        </p:spPr>
        <p:txBody>
          <a:bodyPr lIns="90000" rIns="90000" tIns="46800" bIns="46800"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3</a:t>
            </a:r>
            <a:r>
              <a:rPr b="0" lang="en-US" sz="2600" spc="-1" strike="noStrike">
                <a:solidFill>
                  <a:srgbClr val="000000"/>
                </a:solidFill>
                <a:latin typeface="Perpetua"/>
              </a:rPr>
              <a:t>-</a:t>
            </a:r>
            <a:r>
              <a:rPr b="0" lang="en-US" sz="2600" spc="-1" strike="noStrike">
                <a:solidFill>
                  <a:srgbClr val="000000"/>
                </a:solidFill>
                <a:latin typeface="Perpetua"/>
              </a:rPr>
              <a:t>Form-genus:Curvularia.sp</a:t>
            </a: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Perpetua"/>
              </a:rPr>
              <a:t>الجراثيم الكونيدية منحنية ومقسمة بجدرمستعرضة بجدر عرضية فقط الى عدد من الخلايا.</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696464"/>
              </a:solidFill>
              <a:latin typeface="Franklin Gothic Book"/>
            </a:endParaRPr>
          </a:p>
        </p:txBody>
      </p:sp>
      <p:pic>
        <p:nvPicPr>
          <p:cNvPr id="274" name="Picture 4" descr="12"/>
          <p:cNvPicPr/>
          <p:nvPr/>
        </p:nvPicPr>
        <p:blipFill>
          <a:blip r:embed="rId1"/>
          <a:stretch/>
        </p:blipFill>
        <p:spPr>
          <a:xfrm>
            <a:off x="3157560" y="1724040"/>
            <a:ext cx="2828880" cy="3409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696464"/>
              </a:solidFill>
              <a:latin typeface="Franklin Gothic Book"/>
            </a:endParaRPr>
          </a:p>
        </p:txBody>
      </p:sp>
      <p:pic>
        <p:nvPicPr>
          <p:cNvPr id="276" name="Picture 5" descr="Curvularia-sp">
            <a:hlinkClick r:id="rId1"/>
          </p:cNvPr>
          <p:cNvPicPr/>
          <p:nvPr/>
        </p:nvPicPr>
        <p:blipFill>
          <a:blip r:embed="rId2"/>
          <a:stretch/>
        </p:blipFill>
        <p:spPr>
          <a:xfrm>
            <a:off x="0" y="2421000"/>
            <a:ext cx="3803760" cy="3803760"/>
          </a:xfrm>
          <a:prstGeom prst="rect">
            <a:avLst/>
          </a:prstGeom>
          <a:ln w="0">
            <a:noFill/>
          </a:ln>
        </p:spPr>
      </p:pic>
      <p:pic>
        <p:nvPicPr>
          <p:cNvPr id="277" name="Picture 7" descr="Curvularia"/>
          <p:cNvPicPr/>
          <p:nvPr/>
        </p:nvPicPr>
        <p:blipFill>
          <a:blip r:embed="rId3"/>
          <a:stretch/>
        </p:blipFill>
        <p:spPr>
          <a:xfrm>
            <a:off x="4140360" y="1484280"/>
            <a:ext cx="4728960" cy="3556080"/>
          </a:xfrm>
          <a:prstGeom prst="rect">
            <a:avLst/>
          </a:prstGeom>
          <a:ln w="0">
            <a:noFill/>
          </a:ln>
        </p:spPr>
      </p:pic>
      <p:pic>
        <p:nvPicPr>
          <p:cNvPr id="278" name="Picture 9" descr="Curvularia%2520in%2520air-2">
            <a:hlinkClick r:id="rId4"/>
          </p:cNvPr>
          <p:cNvPicPr/>
          <p:nvPr/>
        </p:nvPicPr>
        <p:blipFill>
          <a:blip r:embed="rId5"/>
          <a:stretch/>
        </p:blipFill>
        <p:spPr>
          <a:xfrm>
            <a:off x="1042920" y="404640"/>
            <a:ext cx="2162160" cy="1435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696464"/>
              </a:solidFill>
              <a:latin typeface="Franklin Gothic Book"/>
            </a:endParaRPr>
          </a:p>
        </p:txBody>
      </p:sp>
      <p:sp>
        <p:nvSpPr>
          <p:cNvPr id="280"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4</a:t>
            </a:r>
            <a:r>
              <a:rPr b="0" lang="en-US" sz="2600" spc="-1" strike="noStrike">
                <a:solidFill>
                  <a:srgbClr val="000000"/>
                </a:solidFill>
                <a:latin typeface="Perpetua"/>
              </a:rPr>
              <a:t>-</a:t>
            </a:r>
            <a:r>
              <a:rPr b="0" lang="en-US" sz="2600" spc="-1" strike="noStrike">
                <a:solidFill>
                  <a:srgbClr val="000000"/>
                </a:solidFill>
                <a:latin typeface="Perpetua"/>
              </a:rPr>
              <a:t>Form-genus:Stemphylium.sp</a:t>
            </a: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Perpetua"/>
              </a:rPr>
              <a:t>    الحامل الكونيدي طويل ومتفرع ومقسم وتحمل التفرعات جراثيم كونيدية مستطيلة او مربعة الشكل ,بعضها لها جدار متدرن ,ومقسمة الى عدة خلايا بجدر مستعرضة وطولية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696464"/>
              </a:solidFill>
              <a:latin typeface="Franklin Gothic Book"/>
            </a:endParaRPr>
          </a:p>
        </p:txBody>
      </p:sp>
      <p:pic>
        <p:nvPicPr>
          <p:cNvPr id="282" name="Picture 4" descr="10"/>
          <p:cNvPicPr/>
          <p:nvPr/>
        </p:nvPicPr>
        <p:blipFill>
          <a:blip r:embed="rId1"/>
          <a:stretch/>
        </p:blipFill>
        <p:spPr>
          <a:xfrm>
            <a:off x="2411280" y="1484280"/>
            <a:ext cx="4794480" cy="38577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696464"/>
              </a:solidFill>
              <a:latin typeface="Franklin Gothic Book"/>
            </a:endParaRPr>
          </a:p>
        </p:txBody>
      </p:sp>
      <p:pic>
        <p:nvPicPr>
          <p:cNvPr id="284" name="Picture 5" descr="stemphylium">
            <a:hlinkClick r:id="rId1"/>
          </p:cNvPr>
          <p:cNvPicPr/>
          <p:nvPr/>
        </p:nvPicPr>
        <p:blipFill>
          <a:blip r:embed="rId2"/>
          <a:stretch/>
        </p:blipFill>
        <p:spPr>
          <a:xfrm>
            <a:off x="1908000" y="260280"/>
            <a:ext cx="4613400" cy="3332160"/>
          </a:xfrm>
          <a:prstGeom prst="rect">
            <a:avLst/>
          </a:prstGeom>
          <a:ln w="0">
            <a:noFill/>
          </a:ln>
        </p:spPr>
      </p:pic>
      <p:pic>
        <p:nvPicPr>
          <p:cNvPr id="285" name="Picture 7" descr="stem1">
            <a:hlinkClick r:id="rId3"/>
          </p:cNvPr>
          <p:cNvPicPr/>
          <p:nvPr/>
        </p:nvPicPr>
        <p:blipFill>
          <a:blip r:embed="rId4"/>
          <a:stretch/>
        </p:blipFill>
        <p:spPr>
          <a:xfrm>
            <a:off x="2124000" y="3645000"/>
            <a:ext cx="4337280" cy="30099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696464"/>
              </a:solidFill>
              <a:latin typeface="Franklin Gothic Book"/>
            </a:endParaRPr>
          </a:p>
        </p:txBody>
      </p:sp>
      <p:sp>
        <p:nvSpPr>
          <p:cNvPr id="287" name=""/>
          <p:cNvSpPr txBox="1"/>
          <p:nvPr/>
        </p:nvSpPr>
        <p:spPr>
          <a:xfrm>
            <a:off x="468360" y="981000"/>
            <a:ext cx="8229600" cy="4525920"/>
          </a:xfrm>
          <a:prstGeom prst="rect">
            <a:avLst/>
          </a:prstGeom>
          <a:noFill/>
          <a:ln w="0">
            <a:noFill/>
          </a:ln>
        </p:spPr>
        <p:txBody>
          <a:bodyPr lIns="90000" rIns="90000" tIns="46800" bIns="46800"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rm-family:Tuberculariaceae</a:t>
            </a: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rm-genus:Fusarium.sp</a:t>
            </a: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ar-SA" sz="2600" spc="-1" strike="noStrike">
                <a:solidFill>
                  <a:srgbClr val="000000"/>
                </a:solidFill>
                <a:latin typeface="Perpetua"/>
              </a:rPr>
              <a:t> يضم عدد من اشباة الانواع التي يصعب تمييز الرمي فيها عن المتطفل .</a:t>
            </a:r>
            <a:endParaRPr b="0" lang="en-US" sz="2600" spc="-1" strike="noStrike">
              <a:solidFill>
                <a:srgbClr val="000000"/>
              </a:solidFill>
              <a:latin typeface="Perpetua"/>
            </a:endParaRPr>
          </a:p>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Perpetua"/>
              </a:rPr>
              <a:t> تسبب انواعة المتطفلة امراض للنبات تسمى امراض الذبول الفيوزارمي ويمتاز بتكوين </a:t>
            </a:r>
            <a:r>
              <a:rPr b="0" lang="ar-SA" sz="2600" spc="-1" strike="noStrike">
                <a:solidFill>
                  <a:srgbClr val="000000"/>
                </a:solidFill>
                <a:latin typeface="Perpetua"/>
              </a:rPr>
              <a:t>3</a:t>
            </a:r>
            <a:r>
              <a:rPr b="0" lang="ar-SA" sz="2600" spc="-1" strike="noStrike">
                <a:solidFill>
                  <a:srgbClr val="000000"/>
                </a:solidFill>
                <a:latin typeface="Perpetua"/>
              </a:rPr>
              <a:t>انواع من الجراثيم تبعا للظروف المناخية.</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696464"/>
              </a:solidFill>
              <a:latin typeface="Franklin Gothic Book"/>
            </a:endParaRPr>
          </a:p>
        </p:txBody>
      </p:sp>
      <p:sp>
        <p:nvSpPr>
          <p:cNvPr id="289"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Perpetua"/>
              </a:rPr>
              <a:t>1</a:t>
            </a:r>
            <a:r>
              <a:rPr b="0" lang="ar-SA" sz="2600" spc="-1" strike="noStrike">
                <a:solidFill>
                  <a:srgbClr val="000000"/>
                </a:solidFill>
                <a:latin typeface="Perpetua"/>
              </a:rPr>
              <a:t>-ابواغ كونيدية صغيرة :كروية او بيضاوية واحيانا هلالية من خلية او خليتين على حوامل كونيدية مفردة بسيطة او متفرعة .من اكثر انواع جراثيم الفيوزاريم تكوينا.وتتكون داخل الاوعية الناقلة للعائل.</a:t>
            </a:r>
            <a:endParaRPr b="0" lang="en-US" sz="2600" spc="-1" strike="noStrike">
              <a:solidFill>
                <a:srgbClr val="000000"/>
              </a:solidFill>
              <a:latin typeface="Perpetua"/>
            </a:endParaRPr>
          </a:p>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Perpetua"/>
              </a:rPr>
              <a:t>2</a:t>
            </a:r>
            <a:r>
              <a:rPr b="0" lang="ar-SA" sz="2600" spc="-1" strike="noStrike">
                <a:solidFill>
                  <a:srgbClr val="000000"/>
                </a:solidFill>
                <a:latin typeface="Perpetua"/>
              </a:rPr>
              <a:t>-ابواغ كونيدية كبيرة:هلالية الشكل منحنية في طرفها تحوي </a:t>
            </a:r>
            <a:r>
              <a:rPr b="0" lang="ar-SA" sz="2600" spc="-1" strike="noStrike">
                <a:solidFill>
                  <a:srgbClr val="000000"/>
                </a:solidFill>
                <a:latin typeface="Perpetua"/>
              </a:rPr>
              <a:t>3</a:t>
            </a:r>
            <a:r>
              <a:rPr b="0" lang="ar-SA" sz="2600" spc="-1" strike="noStrike">
                <a:solidFill>
                  <a:srgbClr val="000000"/>
                </a:solidFill>
                <a:latin typeface="Perpetua"/>
              </a:rPr>
              <a:t>-</a:t>
            </a:r>
            <a:r>
              <a:rPr b="0" lang="ar-SA" sz="2600" spc="-1" strike="noStrike">
                <a:solidFill>
                  <a:srgbClr val="000000"/>
                </a:solidFill>
                <a:latin typeface="Perpetua"/>
              </a:rPr>
              <a:t>4</a:t>
            </a:r>
            <a:r>
              <a:rPr b="0" lang="ar-SA" sz="2600" spc="-1" strike="noStrike">
                <a:solidFill>
                  <a:srgbClr val="000000"/>
                </a:solidFill>
                <a:latin typeface="Perpetua"/>
              </a:rPr>
              <a:t>حواجز عرضية وتوجد على سطح النبات المصاب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696464"/>
              </a:solidFill>
              <a:latin typeface="Franklin Gothic Book"/>
            </a:endParaRPr>
          </a:p>
        </p:txBody>
      </p:sp>
      <p:sp>
        <p:nvSpPr>
          <p:cNvPr id="291"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Perpetua"/>
              </a:rPr>
              <a:t>ابواغ كلاميدية:تتألف من خلية او خليتين ذات جدران سميكة وهي وسطية او طرفية او في سلاسل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800080"/>
                </a:solidFill>
                <a:latin typeface="Franklin Gothic Book"/>
              </a:rPr>
              <a:t>تصنيف الفطريات الناقصة</a:t>
            </a:r>
            <a:endParaRPr b="0" lang="en-US" sz="4000" spc="-1" strike="noStrike">
              <a:solidFill>
                <a:srgbClr val="696464"/>
              </a:solidFill>
              <a:latin typeface="Franklin Gothic Book"/>
            </a:endParaRPr>
          </a:p>
        </p:txBody>
      </p:sp>
      <p:sp>
        <p:nvSpPr>
          <p:cNvPr id="232" name=""/>
          <p:cNvSpPr txBox="1"/>
          <p:nvPr/>
        </p:nvSpPr>
        <p:spPr>
          <a:xfrm>
            <a:off x="914400" y="1447920"/>
            <a:ext cx="7772400" cy="4572000"/>
          </a:xfrm>
          <a:prstGeom prst="rect">
            <a:avLst/>
          </a:prstGeom>
          <a:noFill/>
          <a:ln w="0">
            <a:noFill/>
          </a:ln>
        </p:spPr>
        <p:txBody>
          <a:bodyPr lIns="90000" rIns="90000" tIns="46800" bIns="46800" anchor="t">
            <a:normAutofit fontScale="96000"/>
          </a:bodyPr>
          <a:p>
            <a:pPr marL="261720" indent="-261720" algn="r" rtl="1">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Perpetua"/>
              </a:rPr>
              <a:t>تصنف استنادا الى :-</a:t>
            </a:r>
            <a:endParaRPr b="0" lang="en-US" sz="2800" spc="-1" strike="noStrike">
              <a:solidFill>
                <a:srgbClr val="000000"/>
              </a:solidFill>
              <a:latin typeface="Perpetua"/>
            </a:endParaRPr>
          </a:p>
          <a:p>
            <a:pPr marL="261720" indent="-261720" algn="r"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Perpetua"/>
              </a:rPr>
              <a:t>1</a:t>
            </a:r>
            <a:r>
              <a:rPr b="0" lang="ar-SA" sz="2800" spc="-1" strike="noStrike">
                <a:solidFill>
                  <a:srgbClr val="000000"/>
                </a:solidFill>
                <a:latin typeface="Perpetua"/>
              </a:rPr>
              <a:t>-شكل ولون الاوعية البكنيدية والكويمات الكونيدية.</a:t>
            </a:r>
            <a:endParaRPr b="0" lang="en-US" sz="2800" spc="-1" strike="noStrike">
              <a:solidFill>
                <a:srgbClr val="000000"/>
              </a:solidFill>
              <a:latin typeface="Perpetua"/>
            </a:endParaRPr>
          </a:p>
          <a:p>
            <a:pPr marL="261720" indent="-261720" algn="r"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Perpetua"/>
              </a:rPr>
              <a:t>2</a:t>
            </a:r>
            <a:r>
              <a:rPr b="0" lang="ar-SA" sz="2800" spc="-1" strike="noStrike">
                <a:solidFill>
                  <a:srgbClr val="000000"/>
                </a:solidFill>
                <a:latin typeface="Perpetua"/>
              </a:rPr>
              <a:t>-شكل الحوامل الكونيدية</a:t>
            </a:r>
            <a:endParaRPr b="0" lang="en-US" sz="2800" spc="-1" strike="noStrike">
              <a:solidFill>
                <a:srgbClr val="000000"/>
              </a:solidFill>
              <a:latin typeface="Perpetua"/>
            </a:endParaRPr>
          </a:p>
          <a:p>
            <a:pPr marL="261720" indent="-261720" algn="r"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Perpetua"/>
              </a:rPr>
              <a:t>3</a:t>
            </a:r>
            <a:r>
              <a:rPr b="0" lang="ar-SA" sz="2800" spc="-1" strike="noStrike">
                <a:solidFill>
                  <a:srgbClr val="000000"/>
                </a:solidFill>
                <a:latin typeface="Perpetua"/>
              </a:rPr>
              <a:t>-طريقة حمل الجراثيم الكونيدية وشكلها ,ولونها ,تركيبها,عدد الخلايا في كل جرثومة,مقسمة بجدرمستعرضة اومستعرضة وطولية.</a:t>
            </a:r>
            <a:endParaRPr b="0" lang="en-US" sz="2800" spc="-1" strike="noStrike">
              <a:solidFill>
                <a:srgbClr val="000000"/>
              </a:solidFill>
              <a:latin typeface="Perpetua"/>
            </a:endParaRPr>
          </a:p>
          <a:p>
            <a:pPr marL="261720" indent="-261720" algn="r"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Perpetua"/>
              </a:rPr>
              <a:t>ويعتبر تصنيف الفطريات الناقصة تصنيف اصطناعي لانة مجرد تجميع للاجناس الشكلية التي تتماثل في الصفات الكونيدية من ناحية الشكل واللون .</a:t>
            </a:r>
            <a:endParaRPr b="0" lang="en-US" sz="2800" spc="-1" strike="noStrike">
              <a:solidFill>
                <a:srgbClr val="000000"/>
              </a:solidFill>
              <a:latin typeface="Perpetua"/>
            </a:endParaRPr>
          </a:p>
          <a:p>
            <a:pPr marL="261720" indent="-261720" algn="r"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Perpetua"/>
              </a:rPr>
              <a:t>والتقسيم لايعكس صلات القربى التطورية بين هذة الفطريات ويطلق صفة شبة </a:t>
            </a:r>
            <a:r>
              <a:rPr b="0" lang="en-US" sz="2800" spc="-1" strike="noStrike">
                <a:solidFill>
                  <a:srgbClr val="000000"/>
                </a:solidFill>
                <a:latin typeface="Perpetua"/>
              </a:rPr>
              <a:t>form</a:t>
            </a:r>
            <a:r>
              <a:rPr b="0" lang="ar-SA" sz="2800" spc="-1" strike="noStrike">
                <a:solidFill>
                  <a:srgbClr val="000000"/>
                </a:solidFill>
                <a:latin typeface="Perpetua"/>
              </a:rPr>
              <a:t>على درجات التصنيف لهذة الفطريات.</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696464"/>
              </a:solidFill>
              <a:latin typeface="Franklin Gothic Book"/>
            </a:endParaRPr>
          </a:p>
        </p:txBody>
      </p:sp>
      <p:pic>
        <p:nvPicPr>
          <p:cNvPr id="293" name="Picture 4" descr="7"/>
          <p:cNvPicPr/>
          <p:nvPr/>
        </p:nvPicPr>
        <p:blipFill>
          <a:blip r:embed="rId1"/>
          <a:stretch/>
        </p:blipFill>
        <p:spPr>
          <a:xfrm>
            <a:off x="1036800" y="1577880"/>
            <a:ext cx="7070400" cy="37036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696464"/>
              </a:solidFill>
              <a:latin typeface="Franklin Gothic Book"/>
            </a:endParaRPr>
          </a:p>
        </p:txBody>
      </p:sp>
      <p:pic>
        <p:nvPicPr>
          <p:cNvPr id="295" name="Picture 5" descr="Fusarium">
            <a:hlinkClick r:id="rId1"/>
          </p:cNvPr>
          <p:cNvPicPr/>
          <p:nvPr/>
        </p:nvPicPr>
        <p:blipFill>
          <a:blip r:embed="rId2"/>
          <a:stretch/>
        </p:blipFill>
        <p:spPr>
          <a:xfrm>
            <a:off x="4610160" y="0"/>
            <a:ext cx="4533840" cy="3416400"/>
          </a:xfrm>
          <a:prstGeom prst="rect">
            <a:avLst/>
          </a:prstGeom>
          <a:ln w="0">
            <a:noFill/>
          </a:ln>
        </p:spPr>
      </p:pic>
      <p:pic>
        <p:nvPicPr>
          <p:cNvPr id="296" name="Picture 7" descr="Fusarium_verticillioides_01">
            <a:hlinkClick r:id="rId3"/>
          </p:cNvPr>
          <p:cNvPicPr/>
          <p:nvPr/>
        </p:nvPicPr>
        <p:blipFill>
          <a:blip r:embed="rId4"/>
          <a:stretch/>
        </p:blipFill>
        <p:spPr>
          <a:xfrm>
            <a:off x="250920" y="3500280"/>
            <a:ext cx="4686120" cy="3157560"/>
          </a:xfrm>
          <a:prstGeom prst="rect">
            <a:avLst/>
          </a:prstGeom>
          <a:ln w="0">
            <a:noFill/>
          </a:ln>
        </p:spPr>
      </p:pic>
      <p:pic>
        <p:nvPicPr>
          <p:cNvPr id="297" name="Picture 9" descr="mas_fusariosi">
            <a:hlinkClick r:id="rId5"/>
          </p:cNvPr>
          <p:cNvPicPr/>
          <p:nvPr/>
        </p:nvPicPr>
        <p:blipFill>
          <a:blip r:embed="rId6"/>
          <a:stretch/>
        </p:blipFill>
        <p:spPr>
          <a:xfrm>
            <a:off x="5435640" y="3692520"/>
            <a:ext cx="3454200" cy="3165480"/>
          </a:xfrm>
          <a:prstGeom prst="rect">
            <a:avLst/>
          </a:prstGeom>
          <a:ln w="0">
            <a:noFill/>
          </a:ln>
        </p:spPr>
      </p:pic>
      <p:pic>
        <p:nvPicPr>
          <p:cNvPr id="298" name="Picture 10" descr="08_008"/>
          <p:cNvPicPr/>
          <p:nvPr/>
        </p:nvPicPr>
        <p:blipFill>
          <a:blip r:embed="rId7"/>
          <a:stretch/>
        </p:blipFill>
        <p:spPr>
          <a:xfrm>
            <a:off x="0" y="260280"/>
            <a:ext cx="4390920" cy="29242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696464"/>
              </a:solidFill>
              <a:latin typeface="Franklin Gothic Book"/>
            </a:endParaRPr>
          </a:p>
        </p:txBody>
      </p:sp>
      <p:sp>
        <p:nvSpPr>
          <p:cNvPr id="300" name=""/>
          <p:cNvSpPr txBox="1"/>
          <p:nvPr/>
        </p:nvSpPr>
        <p:spPr>
          <a:xfrm>
            <a:off x="914400" y="1447920"/>
            <a:ext cx="7772400" cy="4572000"/>
          </a:xfrm>
          <a:prstGeom prst="rect">
            <a:avLst/>
          </a:prstGeom>
          <a:noFill/>
          <a:ln w="0">
            <a:noFill/>
          </a:ln>
        </p:spPr>
        <p:txBody>
          <a:bodyPr lIns="90000" rIns="90000" tIns="46800" bIns="46800" anchor="t">
            <a:normAutofit fontScale="94000"/>
          </a:bodyPr>
          <a:p>
            <a:pPr marL="256320" indent="-256320" algn="r" rtl="1">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rm-order:Agonomycetales</a:t>
            </a:r>
            <a:r>
              <a:rPr b="0" lang="en-US" sz="2400" spc="-1" strike="noStrike">
                <a:solidFill>
                  <a:srgbClr val="000000"/>
                </a:solidFill>
                <a:latin typeface="Perpetua"/>
              </a:rPr>
              <a:t>       </a:t>
            </a:r>
            <a:endParaRPr b="0" lang="en-US" sz="2400" spc="-1" strike="noStrike">
              <a:solidFill>
                <a:srgbClr val="000000"/>
              </a:solidFill>
              <a:latin typeface="Perpetua"/>
            </a:endParaRPr>
          </a:p>
          <a:p>
            <a:pPr marL="256320" indent="-256320" algn="r" rtl="1">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Perpetua"/>
              </a:rPr>
              <a:t>ويطلق عليها شبة رتبة الخيوط العقيمة وهي مجموعة فطريات غير متجانسة تتكون من خيوط ذات ميسيليوم مقسم تتكاثر عادة بتجزؤ الخيط او تكو ين الاجسام الحجرية .</a:t>
            </a:r>
            <a:endParaRPr b="0" lang="en-US" sz="2400" spc="-1" strike="noStrike">
              <a:solidFill>
                <a:srgbClr val="000000"/>
              </a:solidFill>
              <a:latin typeface="Perpetua"/>
            </a:endParaRPr>
          </a:p>
          <a:p>
            <a:pPr marL="256320" indent="-256320" algn="r" rtl="1">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56320" indent="-256320" algn="r" rtl="1">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1</a:t>
            </a:r>
            <a:r>
              <a:rPr b="0" lang="en-US" sz="2400" spc="-1" strike="noStrike">
                <a:solidFill>
                  <a:srgbClr val="000000"/>
                </a:solidFill>
                <a:latin typeface="Perpetua"/>
              </a:rPr>
              <a:t>-</a:t>
            </a:r>
            <a:r>
              <a:rPr b="0" lang="en-US" sz="2400" spc="-1" strike="noStrike">
                <a:solidFill>
                  <a:srgbClr val="000000"/>
                </a:solidFill>
                <a:latin typeface="Perpetua"/>
              </a:rPr>
              <a:t>Forum- genus:Sclerotium</a:t>
            </a:r>
            <a:r>
              <a:rPr b="0" lang="en-US" sz="2400" spc="-1" strike="noStrike">
                <a:solidFill>
                  <a:srgbClr val="000000"/>
                </a:solidFill>
                <a:latin typeface="Perpetua"/>
              </a:rPr>
              <a:t>    </a:t>
            </a:r>
            <a:endParaRPr b="0" lang="en-US" sz="2400" spc="-1" strike="noStrike">
              <a:solidFill>
                <a:srgbClr val="000000"/>
              </a:solidFill>
              <a:latin typeface="Perpetua"/>
            </a:endParaRPr>
          </a:p>
          <a:p>
            <a:pPr marL="256320" indent="-256320" algn="r"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Perpetua"/>
              </a:rPr>
              <a:t>   واسع التخصص على العوائل النباتية مثل البطاطس ,الطماطم ,الفول البصل ,الكرنب وغيرها وتحدث الاصابة عادة من التربة قرب مستوى سطح الارض.وتصاب الانسجة الحية بسهولة بالفطر.</a:t>
            </a:r>
            <a:endParaRPr b="0" lang="en-US" sz="2400" spc="-1" strike="noStrike">
              <a:solidFill>
                <a:srgbClr val="000000"/>
              </a:solidFill>
              <a:latin typeface="Perpetua"/>
            </a:endParaRPr>
          </a:p>
          <a:p>
            <a:pPr marL="256320" indent="-256320" algn="r"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Perpetua"/>
              </a:rPr>
              <a:t> الغزل الفطري من خيوط سميكة بيضاء قطني المظهر مقسمة وتحوي اتصالات كلابية بين خلاياة .والطريقة الوحيدة لتكاثرة تكوين اجسام حجرية على سطح الميسيليوم او مطمورة فية,وهي صغيرة كروية ,سوداءاللون ذات قدرة على تحمل الظروف غير المناسبة.</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696464"/>
              </a:solidFill>
              <a:latin typeface="Franklin Gothic Book"/>
            </a:endParaRPr>
          </a:p>
        </p:txBody>
      </p:sp>
      <p:pic>
        <p:nvPicPr>
          <p:cNvPr id="302" name="Picture 4" descr="13"/>
          <p:cNvPicPr/>
          <p:nvPr/>
        </p:nvPicPr>
        <p:blipFill>
          <a:blip r:embed="rId1"/>
          <a:stretch/>
        </p:blipFill>
        <p:spPr>
          <a:xfrm>
            <a:off x="2700360" y="1773360"/>
            <a:ext cx="4167000" cy="33112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696464"/>
              </a:solidFill>
              <a:latin typeface="Franklin Gothic Book"/>
            </a:endParaRPr>
          </a:p>
        </p:txBody>
      </p:sp>
      <p:pic>
        <p:nvPicPr>
          <p:cNvPr id="304" name="Picture 5" descr="2006-36-3">
            <a:hlinkClick r:id="rId1"/>
          </p:cNvPr>
          <p:cNvPicPr/>
          <p:nvPr/>
        </p:nvPicPr>
        <p:blipFill>
          <a:blip r:embed="rId2"/>
          <a:stretch/>
        </p:blipFill>
        <p:spPr>
          <a:xfrm>
            <a:off x="2700360" y="404640"/>
            <a:ext cx="3300480" cy="2475000"/>
          </a:xfrm>
          <a:prstGeom prst="rect">
            <a:avLst/>
          </a:prstGeom>
          <a:ln w="0">
            <a:noFill/>
          </a:ln>
        </p:spPr>
      </p:pic>
      <p:pic>
        <p:nvPicPr>
          <p:cNvPr id="305" name="Picture 7" descr="Sclerotium_rolfsii1">
            <a:hlinkClick r:id="rId3"/>
          </p:cNvPr>
          <p:cNvPicPr/>
          <p:nvPr/>
        </p:nvPicPr>
        <p:blipFill>
          <a:blip r:embed="rId4"/>
          <a:stretch/>
        </p:blipFill>
        <p:spPr>
          <a:xfrm>
            <a:off x="5219640" y="3357720"/>
            <a:ext cx="2973600" cy="2224080"/>
          </a:xfrm>
          <a:prstGeom prst="rect">
            <a:avLst/>
          </a:prstGeom>
          <a:ln w="0">
            <a:noFill/>
          </a:ln>
        </p:spPr>
      </p:pic>
      <p:pic>
        <p:nvPicPr>
          <p:cNvPr id="306" name="Picture 9" descr="sterilefungus">
            <a:hlinkClick r:id="rId5"/>
          </p:cNvPr>
          <p:cNvPicPr/>
          <p:nvPr/>
        </p:nvPicPr>
        <p:blipFill>
          <a:blip r:embed="rId6"/>
          <a:stretch/>
        </p:blipFill>
        <p:spPr>
          <a:xfrm>
            <a:off x="971640" y="3284640"/>
            <a:ext cx="3512880" cy="29224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696464"/>
              </a:solidFill>
              <a:latin typeface="Franklin Gothic Book"/>
            </a:endParaRPr>
          </a:p>
        </p:txBody>
      </p:sp>
      <p:sp>
        <p:nvSpPr>
          <p:cNvPr id="308"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gn="r" rtl="1">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rum-genus:Rhizoctonia</a:t>
            </a: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lgn="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ar-SA" sz="2600" spc="-1" strike="noStrike">
                <a:solidFill>
                  <a:srgbClr val="000000"/>
                </a:solidFill>
                <a:latin typeface="Perpetua"/>
              </a:rPr>
              <a:t>يوجد في التربة في جميع مناطق العالم ويصيب الخضروات مثل الطماطم والبطاطس وبعض الاشجار مثل القطن ويسبب مرض سقوط البادرات وتعفن الجذور والثمار.</a:t>
            </a:r>
            <a:endParaRPr b="0" lang="en-US" sz="2600" spc="-1" strike="noStrike">
              <a:solidFill>
                <a:srgbClr val="000000"/>
              </a:solidFill>
              <a:latin typeface="Perpetua"/>
            </a:endParaRPr>
          </a:p>
          <a:p>
            <a:pPr marL="272880" indent="-272880" algn="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Perpetua"/>
              </a:rPr>
              <a:t>  وميسيليوم مقسم الى اعداد كبيرة من الخلايا الصغيرة ومتفرع بكثرة وعديم اللون عندما يكون حيث السن ,ولكنة يتحول الى اللون الاسود او البني بتقدم العمر ثم يصبح سميكا , وتحوي الفروع الفطرية على تخصر عندمنطقة تفرعها من الاصل وتشكل مع الفرع الرئيسي زاوية قائمة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696464"/>
              </a:solidFill>
              <a:latin typeface="Franklin Gothic Book"/>
            </a:endParaRPr>
          </a:p>
        </p:txBody>
      </p:sp>
      <p:pic>
        <p:nvPicPr>
          <p:cNvPr id="310" name="Picture 4" descr="14"/>
          <p:cNvPicPr/>
          <p:nvPr/>
        </p:nvPicPr>
        <p:blipFill>
          <a:blip r:embed="rId1"/>
          <a:stretch/>
        </p:blipFill>
        <p:spPr>
          <a:xfrm>
            <a:off x="2646360" y="1709640"/>
            <a:ext cx="3852720" cy="34387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696464"/>
              </a:solidFill>
              <a:latin typeface="Franklin Gothic Book"/>
            </a:endParaRPr>
          </a:p>
        </p:txBody>
      </p:sp>
      <p:pic>
        <p:nvPicPr>
          <p:cNvPr id="312" name="Picture 6" descr="Rhizoctonia_solani">
            <a:hlinkClick r:id="rId1"/>
          </p:cNvPr>
          <p:cNvPicPr/>
          <p:nvPr/>
        </p:nvPicPr>
        <p:blipFill>
          <a:blip r:embed="rId2"/>
          <a:stretch/>
        </p:blipFill>
        <p:spPr>
          <a:xfrm>
            <a:off x="2771640" y="765000"/>
            <a:ext cx="3627720" cy="2721240"/>
          </a:xfrm>
          <a:prstGeom prst="rect">
            <a:avLst/>
          </a:prstGeom>
          <a:ln w="0">
            <a:noFill/>
          </a:ln>
        </p:spPr>
      </p:pic>
      <p:pic>
        <p:nvPicPr>
          <p:cNvPr id="313" name="Picture 8" descr="fig20"/>
          <p:cNvPicPr/>
          <p:nvPr/>
        </p:nvPicPr>
        <p:blipFill>
          <a:blip r:embed="rId3"/>
          <a:stretch/>
        </p:blipFill>
        <p:spPr>
          <a:xfrm>
            <a:off x="3348000" y="4005360"/>
            <a:ext cx="2062080" cy="191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696464"/>
              </a:solidFill>
              <a:latin typeface="Franklin Gothic Book"/>
            </a:endParaRPr>
          </a:p>
        </p:txBody>
      </p:sp>
      <p:sp>
        <p:nvSpPr>
          <p:cNvPr id="234" name=""/>
          <p:cNvSpPr txBox="1"/>
          <p:nvPr/>
        </p:nvSpPr>
        <p:spPr>
          <a:xfrm>
            <a:off x="468360" y="836640"/>
            <a:ext cx="8229600" cy="4525920"/>
          </a:xfrm>
          <a:prstGeom prst="rect">
            <a:avLst/>
          </a:prstGeom>
          <a:noFill/>
          <a:ln w="0">
            <a:noFill/>
          </a:ln>
        </p:spPr>
        <p:txBody>
          <a:bodyPr lIns="90000" rIns="90000" tIns="46800" bIns="46800" anchor="t">
            <a:normAutofit/>
          </a:bodyPr>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ub division:Deuteromycotina</a:t>
            </a: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rm-class:Deuteromycetes</a:t>
            </a: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rm-subclass:Coelomycetidae</a:t>
            </a: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rm-order:sphaeropsidales</a:t>
            </a: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rm-family:sphaeropsidaceae</a:t>
            </a: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rm-genus:Phoma.sp            </a:t>
            </a:r>
            <a:r>
              <a:rPr b="0" lang="ar-SA" sz="2600" spc="-1" strike="noStrike">
                <a:solidFill>
                  <a:srgbClr val="000000"/>
                </a:solidFill>
                <a:latin typeface="Perpetua"/>
              </a:rPr>
              <a:t>   </a:t>
            </a:r>
            <a:r>
              <a:rPr b="0" lang="en-US" sz="2600" spc="-1" strike="noStrike">
                <a:solidFill>
                  <a:srgbClr val="000000"/>
                </a:solidFill>
                <a:latin typeface="Perpetua"/>
              </a:rPr>
              <a:t>1</a:t>
            </a:r>
            <a:r>
              <a:rPr b="0" lang="en-US" sz="2600" spc="-1" strike="noStrike">
                <a:solidFill>
                  <a:srgbClr val="000000"/>
                </a:solidFill>
                <a:latin typeface="Perpetua"/>
              </a:rPr>
              <a:t>-</a:t>
            </a:r>
            <a:endParaRPr b="0" lang="en-US" sz="2600" spc="-1" strike="noStrike">
              <a:solidFill>
                <a:srgbClr val="000000"/>
              </a:solidFill>
              <a:latin typeface="Perpetua"/>
            </a:endParaRPr>
          </a:p>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2</a:t>
            </a:r>
            <a:r>
              <a:rPr b="0" lang="en-US" sz="2600" spc="-1" strike="noStrike">
                <a:solidFill>
                  <a:srgbClr val="000000"/>
                </a:solidFill>
                <a:latin typeface="Perpetua"/>
              </a:rPr>
              <a:t>-</a:t>
            </a:r>
            <a:r>
              <a:rPr b="0" lang="en-US" sz="2600" spc="-1" strike="noStrike">
                <a:solidFill>
                  <a:srgbClr val="000000"/>
                </a:solidFill>
                <a:latin typeface="Perpetua"/>
              </a:rPr>
              <a:t>Form-genus:Diplodia.sp</a:t>
            </a:r>
            <a:r>
              <a:rPr b="0" lang="en-U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696464"/>
              </a:solidFill>
              <a:latin typeface="Franklin Gothic Book"/>
            </a:endParaRPr>
          </a:p>
        </p:txBody>
      </p:sp>
      <p:sp>
        <p:nvSpPr>
          <p:cNvPr id="236" name=""/>
          <p:cNvSpPr txBox="1"/>
          <p:nvPr/>
        </p:nvSpPr>
        <p:spPr>
          <a:xfrm>
            <a:off x="468360" y="1197000"/>
            <a:ext cx="8229600" cy="4525920"/>
          </a:xfrm>
          <a:prstGeom prst="rect">
            <a:avLst/>
          </a:prstGeom>
          <a:noFill/>
          <a:ln w="0">
            <a:noFill/>
          </a:ln>
        </p:spPr>
        <p:txBody>
          <a:bodyPr lIns="90000" rIns="90000" tIns="46800" bIns="46800" anchor="t">
            <a:normAutofit/>
          </a:bodyPr>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Perpetua"/>
              </a:rPr>
              <a:t>1</a:t>
            </a:r>
            <a:r>
              <a:rPr b="0" lang="ar-SA" sz="2600" spc="-1" strike="noStrike">
                <a:solidFill>
                  <a:srgbClr val="000000"/>
                </a:solidFill>
                <a:latin typeface="Perpetua"/>
              </a:rPr>
              <a:t>-</a:t>
            </a:r>
            <a:r>
              <a:rPr b="0" lang="en-US" sz="2600" spc="-1" strike="noStrike">
                <a:solidFill>
                  <a:srgbClr val="000000"/>
                </a:solidFill>
                <a:latin typeface="Perpetua"/>
              </a:rPr>
              <a:t>Phoma</a:t>
            </a:r>
            <a:r>
              <a:rPr b="0" lang="ar-SA" sz="2600" spc="-1" strike="noStrike">
                <a:solidFill>
                  <a:srgbClr val="000000"/>
                </a:solidFill>
                <a:latin typeface="Perpetua"/>
              </a:rPr>
              <a:t>الجراثيم الكونيدية داخل الاوعية البكنيدية التى تكون </a:t>
            </a:r>
            <a:endParaRPr b="0" lang="en-US" sz="2600" spc="-1" strike="noStrike">
              <a:solidFill>
                <a:srgbClr val="000000"/>
              </a:solidFill>
              <a:latin typeface="Perpetua"/>
            </a:endParaRPr>
          </a:p>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Perpetua"/>
              </a:rPr>
              <a:t>قاسية ,جلدية او هشة صغيرة سوداء ,مزودة بفتحة دائرية اعلاها .</a:t>
            </a:r>
            <a:endParaRPr b="0" lang="en-US" sz="2600" spc="-1" strike="noStrike">
              <a:solidFill>
                <a:srgbClr val="000000"/>
              </a:solidFill>
              <a:latin typeface="Perpetua"/>
            </a:endParaRPr>
          </a:p>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Perpetua"/>
              </a:rPr>
              <a:t>الكونيدات صغيرة ,وحيدة الخلية ,شفافة ,كروية او بيضاوية.</a:t>
            </a:r>
            <a:endParaRPr b="0" lang="en-US" sz="2600" spc="-1" strike="noStrike">
              <a:solidFill>
                <a:srgbClr val="000000"/>
              </a:solidFill>
              <a:latin typeface="Perpetua"/>
            </a:endParaRPr>
          </a:p>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Perpetua"/>
              </a:rPr>
              <a:t>2</a:t>
            </a:r>
            <a:r>
              <a:rPr b="0" lang="ar-SA" sz="2600" spc="-1" strike="noStrike">
                <a:solidFill>
                  <a:srgbClr val="000000"/>
                </a:solidFill>
                <a:latin typeface="Perpetua"/>
              </a:rPr>
              <a:t>-</a:t>
            </a:r>
            <a:r>
              <a:rPr b="0" lang="en-US" sz="2600" spc="-1" strike="noStrike">
                <a:solidFill>
                  <a:srgbClr val="000000"/>
                </a:solidFill>
                <a:latin typeface="Perpetua"/>
              </a:rPr>
              <a:t>Diplodia</a:t>
            </a:r>
            <a:r>
              <a:rPr b="0" lang="ar-SA" sz="2600" spc="-1" strike="noStrike">
                <a:solidFill>
                  <a:srgbClr val="000000"/>
                </a:solidFill>
                <a:latin typeface="Perpetua"/>
              </a:rPr>
              <a:t>الكونيدات فيها منقسمة الى قسمين.</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696464"/>
              </a:solidFill>
              <a:latin typeface="Franklin Gothic Book"/>
            </a:endParaRPr>
          </a:p>
        </p:txBody>
      </p:sp>
      <p:pic>
        <p:nvPicPr>
          <p:cNvPr id="238" name="Picture 5" descr="fnp13-3">
            <a:hlinkClick r:id="rId1"/>
          </p:cNvPr>
          <p:cNvPicPr/>
          <p:nvPr/>
        </p:nvPicPr>
        <p:blipFill>
          <a:blip r:embed="rId2"/>
          <a:stretch/>
        </p:blipFill>
        <p:spPr>
          <a:xfrm>
            <a:off x="2916360" y="549360"/>
            <a:ext cx="3249360" cy="2262240"/>
          </a:xfrm>
          <a:prstGeom prst="rect">
            <a:avLst/>
          </a:prstGeom>
          <a:ln w="0">
            <a:noFill/>
          </a:ln>
        </p:spPr>
      </p:pic>
      <p:pic>
        <p:nvPicPr>
          <p:cNvPr id="239" name="Picture 7" descr="مشاهدة الصورة بالحجم الكامل">
            <a:hlinkClick r:id="rId3"/>
          </p:cNvPr>
          <p:cNvPicPr/>
          <p:nvPr/>
        </p:nvPicPr>
        <p:blipFill>
          <a:blip r:embed="rId4"/>
          <a:stretch/>
        </p:blipFill>
        <p:spPr>
          <a:xfrm>
            <a:off x="3203640" y="3500280"/>
            <a:ext cx="2774880" cy="2094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696464"/>
              </a:solidFill>
              <a:latin typeface="Franklin Gothic Book"/>
            </a:endParaRPr>
          </a:p>
        </p:txBody>
      </p:sp>
      <p:pic>
        <p:nvPicPr>
          <p:cNvPr id="241" name="Picture 5" descr="phoma"/>
          <p:cNvPicPr/>
          <p:nvPr/>
        </p:nvPicPr>
        <p:blipFill>
          <a:blip r:embed="rId1"/>
          <a:stretch/>
        </p:blipFill>
        <p:spPr>
          <a:xfrm>
            <a:off x="2243160" y="1643040"/>
            <a:ext cx="4657680" cy="3571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696464"/>
              </a:solidFill>
              <a:latin typeface="Franklin Gothic Book"/>
            </a:endParaRPr>
          </a:p>
        </p:txBody>
      </p:sp>
      <p:pic>
        <p:nvPicPr>
          <p:cNvPr id="243" name="Picture 6" descr="5368308">
            <a:hlinkClick r:id="rId1"/>
          </p:cNvPr>
          <p:cNvPicPr/>
          <p:nvPr/>
        </p:nvPicPr>
        <p:blipFill>
          <a:blip r:embed="rId2"/>
          <a:stretch/>
        </p:blipFill>
        <p:spPr>
          <a:xfrm>
            <a:off x="2484360" y="1989000"/>
            <a:ext cx="4294440" cy="3235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696464"/>
              </a:solidFill>
              <a:latin typeface="Franklin Gothic Book"/>
            </a:endParaRPr>
          </a:p>
        </p:txBody>
      </p:sp>
      <p:pic>
        <p:nvPicPr>
          <p:cNvPr id="245" name="Picture 5" descr="image03_small">
            <a:hlinkClick r:id="rId1"/>
          </p:cNvPr>
          <p:cNvPicPr/>
          <p:nvPr/>
        </p:nvPicPr>
        <p:blipFill>
          <a:blip r:embed="rId2"/>
          <a:stretch/>
        </p:blipFill>
        <p:spPr>
          <a:xfrm>
            <a:off x="3132000" y="1773360"/>
            <a:ext cx="3138480" cy="2844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8T17:03:32Z</dcterms:created>
  <dc:creator>User</dc:creator>
  <dc:description/>
  <dc:language>en-US</dc:language>
  <cp:lastModifiedBy>user</cp:lastModifiedBy>
  <dcterms:modified xsi:type="dcterms:W3CDTF">2015-04-19T04:25:35Z</dcterms:modified>
  <cp:revision>7</cp:revision>
  <dc:subject/>
  <dc:title>الفطريات الناقصة</dc:title>
</cp:coreProperties>
</file>