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E7649-0ED8-417B-B2AF-7972262A1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A5070-D1E8-480F-BC15-AF2AB15F5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84F46-5034-4A87-A207-9A49C524D6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13B09-1CF2-440C-9107-CF366031F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FC067-C04C-4A13-B3CD-5C5B24DB4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963C0-A0D7-459A-BD59-4C4C8B463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C6B50-9172-424C-8158-E0FC49F1A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830E6-5C6F-49EB-8C6E-75FCD09AE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77A75-FBB6-4893-B1EC-7597DFFCC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B8E7F-C704-45D3-A041-F13B75A6F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F1710-078C-47C6-BFAA-464ADB8DF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391AA-6C3B-4F28-A82C-349D19442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91298-BE2B-4487-BE50-6A76E6C06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A9D00A-6D9D-47F4-9B04-2C4058220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8EF1C-1178-4C16-AFFD-1E0D558A46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339B31-83CF-4005-A3C9-0E2FE2D8E6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4BE51E-BAAF-45C5-BC7B-6F86C11B08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023597-A7C8-4EBC-BD98-14C70308D9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96BBD3-6F99-46DC-8A48-BFD7972641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A0AC98-745B-4C15-8398-76CE61F384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F92F70-2D0D-40D6-BE34-BC46128AE7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0C8C05-A608-4BC3-B582-D18D9C9A26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A3041-30F9-4CB6-AD40-10E22EDF0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82843B-BC17-4BB7-9B7C-8D413AF5D2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73F734-7B90-4633-8522-72CC62E957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767B8A-6873-4E98-904C-746FF7B1B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FDA034-7D13-4C36-BBE4-326396FF7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2F5E1E-5F18-4482-9A80-424ED0F69E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221722-92A4-41C9-B627-2301979399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355325-CBD9-4283-9260-84D55A48C6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4F85EF-E68C-4BD9-8A74-E609F93BBF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7C8449-F70A-43B8-8F05-6DB40F6615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793F1E-5CBB-4385-AD2E-370A273D4B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08C21-E325-4D41-BDE7-4EF3A37B7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271630-39A5-42FB-BB52-1CCDBCF03E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DA72F6-77D7-4ED6-8C84-1A005C0A5A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C58A94-13C9-4184-9276-373CD0071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0EEE64-7F09-4CC1-A838-FD51C932D8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A3FE89-4EBF-4CB6-B80E-4B84A1A97D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BABE96-AEFC-42FF-9C0C-CED74F38D3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397006-C8CA-4C88-BE16-BA722B74DF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AE6D0A-C766-4251-8C8C-26928BF0D1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945A83-5210-44C4-ACBE-1E4640225C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910B2A-72E5-44C7-93F9-5FCB0D2265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B9B82-0201-4CAB-B3FF-6712E5499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6B020A-6C9F-45BB-9A0D-0ECB408EBE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3DA0F8-F22A-4D79-94C2-70E7AAA84D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44669A-FD0E-4758-8F86-5C3D1148BE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7E43DB-2D55-4F0F-A24C-023F000F52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30991A-7E25-49D7-9E4E-960B1CF5C7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D651D1-FA0B-4BB1-9CC9-F7C8B60CB9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1D5001-0A02-40F3-AFC6-BAC6B58843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AEE911-B63A-4974-B111-FE96873C2C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074BA5-2A12-410D-9E1F-7D75A30792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616C74-E773-4B7E-AE1F-76785E483B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D6702-CAAF-443C-86E5-3C04F79A0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A378F7-E333-45F6-9419-36B59DACCF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BC9A3-4458-4F6E-8131-851B02773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E7589-C40B-498C-AAF9-6A1B7F652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AEA23-4155-4503-AE5D-CC614DA8AE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4F869-31F8-425E-8248-7FCA50708AE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99B3-3190-4F82-8C75-CF0E292AA4EB}"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0237-5D03-4AFE-A96A-FC2CFA0C2E9E}"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A1A7-FBC6-4267-9C8E-F303AFCB8B6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E0B1-5566-4B07-9C8F-CF0D99F9D44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com.sa/imgres?imgurl=http://www.mycolog.com/4b%2520Botrytis%25208.jpg&amp;imgrefurl=http://www.mycolog.com/CHAP4b.htm&amp;usg=__qijy3qUHwFxySPS4uYz0Dh_roUQ=&amp;h=423&amp;w=400&amp;sz=37&amp;hl=ar&amp;start=44&amp;um=1&amp;tbnid=4BE9CxZYpqBs4M:&amp;tbnh=126&amp;tbnw=119&amp;prev=/images%3Fq%3DBotrytis%2Bspore%26ndsp%3D18%26hl%3Dar%26safe%3Dactive%26sa%3DN%26start%3D36%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com.sa/imgres?imgurl=http://botit.botany.wisc.edu/images/332/Deuteromycetes/Deuteromycotina_D_sw_sl_so/Alternaria_spore_tjv.gif&amp;imgrefurl=http://botit.botany.wisc.edu/images/332/Deuteromycetes/Deuteromycotina_D_sw_sl_so/Alternaria_spore_tjv.html&amp;usg=__ENTJ347CnNl0bBB4RUqJcZffPfo=&amp;h=480&amp;w=264&amp;sz=85&amp;hl=ar&amp;start=1&amp;um=1&amp;tbnid=k1bAy3HLe7xY6M:&amp;tbnh=129&amp;tbnw=71&amp;prev=/images%3Fq%3DAlternaria%2Bspore%26hl%3Dar%26safe%3Dactive%26sa%3DG%26um%3D1" TargetMode="External"/><Relationship Id="rId2" Type="http://schemas.openxmlformats.org/officeDocument/2006/relationships/image" Target="../media/image10.jpeg"/><Relationship Id="rId3" Type="http://schemas.openxmlformats.org/officeDocument/2006/relationships/hyperlink" Target="http://images.google.com.sa/imgres?imgurl=http://www.uoguelph.ca/~gbarron/MISCELLANEOUS/altern3.jpg&amp;imgrefurl=http://www.uoguelph.ca/~gbarron/MISCELLANEOUS/alternar.htm&amp;usg=__YHik6otwzxjo3TPe_O_O8vtvq2o=&amp;h=442&amp;w=633&amp;sz=45&amp;hl=ar&amp;start=10&amp;um=1&amp;tbnid=KR5tsIjkGHTVPM:&amp;tbnh=96&amp;tbnw=137&amp;prev=/images%3Fq%3DAlternaria%2Bspore%26hl%3Dar%26safe%3Dactive%26sa%3DG%26um%3D1"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om.sa/imgres?imgurl=http://bugs.bio.usyd.edu.au/learning/resources/CAL/Microconcepts/images/Topics/fungi_key/alternaria.jpg&amp;imgrefurl=http://bugs.bio.usyd.edu.au/learning/resources/CAL/Microconcepts/Diversity/fungal_key.html&amp;usg=__P-lNzKjkg6MrA1Ur_n-JuN_EdiY=&amp;h=500&amp;w=400&amp;sz=28&amp;hl=ar&amp;start=17&amp;um=1&amp;tbnid=lNg9dwSvYQ3NDM:&amp;tbnh=130&amp;tbnw=104&amp;prev=/images%3Fq%3DAlternaria%2Bspore%26hl%3Dar%26safe%3Dactive%26sa%3DG%26um%3D1"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m.sa/imgres?imgurl=http://www.ipm.uiuc.edu/diseases/series400/rpd405/405-4.gif&amp;imgrefurl=http://www.ipm.uiuc.edu/diseases/series400/rpd405/index.html&amp;usg=__5BypxPcLXjqD9ngu161NA52bSbw=&amp;h=291&amp;w=356&amp;sz=16&amp;hl=ar&amp;start=8&amp;um=1&amp;tbnid=MTSa5RQk8mJMlM:&amp;tbnh=99&amp;tbnw=121&amp;prev=/images%3Fq%3DHelminthosporium%2Bspore%26hl%3Dar%26safe%3Dactive%26sa%3DG%26um%3D1" TargetMode="External"/><Relationship Id="rId2" Type="http://schemas.openxmlformats.org/officeDocument/2006/relationships/hyperlink" Target="http://images.google.com.sa/imgres?imgurl=http://www.ipm.uiuc.edu/diseases/series400/rpd405/405-4.gif&amp;imgrefurl=http://www.ipm.uiuc.edu/diseases/series400/rpd405/index.html&amp;usg=__5BypxPcLXjqD9ngu161NA52bSbw=&amp;h=291&amp;w=356&amp;sz=16&amp;hl=ar&amp;start=8&amp;um=1&amp;tbnid=MTSa5RQk8mJMlM:&amp;tbnh=99&amp;tbnw=121&amp;prev=/images%3Fq%3DHelminthosporium%2Bspore%26hl%3Dar%26safe%3Dactive%26sa%3DG%26um%3D1" TargetMode="External"/><Relationship Id="rId3" Type="http://schemas.openxmlformats.org/officeDocument/2006/relationships/hyperlink" Target="http://images.google.com.sa/imgres?imgurl=http://content.ll-0.com/pureaircontrols/pureaircontrols_e_a000257153.JPG%3Fi%3D050604185059&amp;imgrefurl=http://www.tristaterestores.com/Commonmolds.html&amp;usg=__brIRqTfS3LqkgJsYsd0cx2EhEsw=&amp;h=295&amp;w=428&amp;sz=32&amp;hl=ar&amp;start=7&amp;um=1&amp;tbnid=85AW-KJWfc078M:&amp;tbnh=87&amp;tbnw=126&amp;prev=/images%3Fq%3DHelminthosporium%2Bspore%26ndsp%3D18%26hl%3Dar%26safe%3Dactive%26sa%3DN%26um%3D1"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images.google.com.sa/imgres?imgurl=http://www.firstchoicemold.com/images/molds/Curvularia-sp..jpg&amp;imgrefurl=http://www.firstchoicemold.com/Molds.htm&amp;usg=__imnOgi-zfHV3Nfq76DcqUGKf46g=&amp;h=100&amp;w=100&amp;sz=6&amp;hl=ar&amp;start=17&amp;um=1&amp;tbnid=WPlN-2mICUN0yM:&amp;tbnh=82&amp;tbnw=82&amp;prev=/images%3Fq%3DCurvularia%2Bspore%26hl%3Dar%26safe%3Dactive%26sa%3DG%26um%3D1"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hyperlink" Target="http://images.google.com.sa/imgres?imgurl=http://pollen.utulsa.edu/Spores/Curvularia%2520Images/Curvularia%2520in%2520air-2.jpg&amp;imgrefurl=http://pollen.utulsa.edu/Spores/Curvularia.html&amp;usg=__YIYdaV9fgmGN7MaVAF0bcG5zVR4=&amp;h=180&amp;w=270&amp;sz=10&amp;hl=ar&amp;start=11&amp;um=1&amp;tbnid=s1zdIyV6MIF6hM:&amp;tbnh=75&amp;tbnw=113&amp;prev=/images%3Fq%3DCurvularia%2BsporeS.%26hl%3Dar%26safe%3Dactive%26sa%3DG%26um%3D1" TargetMode="External"/><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s.google.com.sa/imgres?imgurl=http://www.mycology.adelaide.edu.au/images/stemphylium.gif&amp;imgrefurl=http://www.mycology.adelaide.edu.au/Fungal_Descriptions/Hyphomycetes_(dematiaceous)/Stemphylium/&amp;usg=__kUfyoSMXejZuc1RzuH91tfPkeUc=&amp;h=162&amp;w=225&amp;sz=23&amp;hl=ar&amp;start=3&amp;um=1&amp;tbnid=Il2XtGlVXzqChM:&amp;tbnh=78&amp;tbnw=108&amp;prev=/images%3Fq%3DStemphylium%26hl%3Dar%26safe%3Dactive%26sa%3DG%26um%3D1" TargetMode="External"/><Relationship Id="rId2" Type="http://schemas.openxmlformats.org/officeDocument/2006/relationships/image" Target="../media/image20.jpeg"/><Relationship Id="rId3" Type="http://schemas.openxmlformats.org/officeDocument/2006/relationships/hyperlink" Target="http://images.google.com.sa/imgres?imgurl=http://www.mycology.adelaide.edu.au/gallery/photos/stem1.gif&amp;imgrefurl=http://www.mycology.adelaide.edu.au/gallery/photos/stem1.html&amp;usg=__qTp-xuLwftL-lWtgFjrj63Ge8BQ=&amp;h=401&amp;w=576&amp;sz=145&amp;hl=ar&amp;start=1&amp;um=1&amp;tbnid=4he89jUCTPQmFM:&amp;tbnh=93&amp;tbnw=134&amp;prev=/images%3Fq%3DStemphylium%26hl%3Dar%26safe%3Dactive%26sa%3DG%26um%3D1" TargetMode="External"/><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s.google.com.sa/imgres?imgurl=http://www.med.univ-angers.fr/GEIHP/Images/Fusarium.jpg&amp;imgrefurl=http://www.med.univ-angers.fr/GEIHP/English/Gallery.html&amp;usg=__CXIOCYCGUmWPUPWDI3h4fmRCPKU=&amp;h=960&amp;w=1280&amp;sz=111&amp;hl=ar&amp;start=11&amp;um=1&amp;tbnid=HhiSqgpFBliBrM:&amp;tbnh=113&amp;tbnw=150&amp;prev=/images%3Fq%3DFusarium.%26hl%3Dar%26safe%3Dactive%26sa%3DG%26um%3D1" TargetMode="External"/><Relationship Id="rId2" Type="http://schemas.openxmlformats.org/officeDocument/2006/relationships/image" Target="../media/image23.jpeg"/><Relationship Id="rId3" Type="http://schemas.openxmlformats.org/officeDocument/2006/relationships/hyperlink" Target="http://images.google.com.sa/imgres?imgurl=http://dic.academic.ru/pictures/enwiki/70/Fusarium_verticillioides_01.jpg&amp;imgrefurl=http://dic.academic.ru/dic.nsf/enwiki/468535&amp;usg=__UTluBCu4L37nJx5zhmXo2yftltA=&amp;h=1944&amp;w=2897&amp;sz=3494&amp;hl=ar&amp;start=6&amp;um=1&amp;tbnid=Zp76pdI4IlptWM:&amp;tbnh=101&amp;tbnw=150&amp;prev=/images%3Fq%3DFusarium.%26hl%3Dar%26safe%3Dactive%26sa%3DG%26um%3D1" TargetMode="External"/><Relationship Id="rId4" Type="http://schemas.openxmlformats.org/officeDocument/2006/relationships/image" Target="../media/image24.jpeg"/><Relationship Id="rId5" Type="http://schemas.openxmlformats.org/officeDocument/2006/relationships/hyperlink" Target="http://images.google.com.sa/imgres?imgurl=http://www.prosementi.com/images/uploads/rewind/mas_fusariosi.jpg&amp;imgrefurl=http://www.prosementi.com/index.php/eng/research_projects/mas_for_fusarium_head_blight/&amp;usg=__nHDYiAz27nbfkz9wffoU0-mB6dk=&amp;h=311&amp;w=340&amp;sz=117&amp;hl=ar&amp;start=25&amp;um=1&amp;tbnid=FIJdKNwKGpaONM:&amp;tbnh=109&amp;tbnw=119&amp;prev=/images%3Fq%3DFusarium.%26ndsp%3D18%26hl%3Dar%26safe%3Dactive%26sa%3DN%26start%3D18%26um%3D1" TargetMode="External"/><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images.google.com.sa/imgres?imgurl=http://www.bspp.org.uk/publications/new-disease-reports/013/2006-36-3.jpg&amp;imgrefurl=http://www.bspp.org.uk/publications/new-disease-reports/ndr.php%3Fid%3D013028&amp;usg=__121ajH7YeLTVInYZjf91fW0jNTQ=&amp;h=525&amp;w=700&amp;sz=246&amp;hl=ar&amp;start=3&amp;um=1&amp;tbnid=LNINTWyzZ7wrkM:&amp;tbnh=105&amp;tbnw=140&amp;prev=/images%3Fq%3DSclerotium%26hl%3Dar%26safe%3Dactive%26sa%3DG%26um%3D1" TargetMode="External"/><Relationship Id="rId2" Type="http://schemas.openxmlformats.org/officeDocument/2006/relationships/image" Target="../media/image28.jpeg"/><Relationship Id="rId3" Type="http://schemas.openxmlformats.org/officeDocument/2006/relationships/hyperlink" Target="http://images.google.com.sa/imgres?imgurl=http://www.botany.hawaii.edu/faculty/wong/Bot201/Deuteromycota/Sclerotium_rolfsii1.jpg&amp;imgrefurl=http://www.botany.hawaii.edu/faculty/wong/Bot201/Deuteromycota/Deuteromycota.htm&amp;usg=__proBs74kds1Nf_6yXR9_MqTC_qE=&amp;h=215&amp;w=288&amp;sz=64&amp;hl=ar&amp;start=2&amp;um=1&amp;tbnid=bdZKEZbENp-GnM:&amp;tbnh=86&amp;tbnw=115&amp;prev=/images%3Fq%3DSclerotium%26hl%3Dar%26safe%3Dactive%26sa%3DG%26um%3D1" TargetMode="External"/><Relationship Id="rId4" Type="http://schemas.openxmlformats.org/officeDocument/2006/relationships/image" Target="../media/image29.jpeg"/><Relationship Id="rId5" Type="http://schemas.openxmlformats.org/officeDocument/2006/relationships/hyperlink" Target="http://images.google.com.sa/imgres?imgurl=http://www.apsnet.org/Education/IllustratedGlossary/PhotosS-V/sterilefungus.jpg&amp;imgrefurl=http://www.apsnet.org/Education/IllustratedGlossary/PhotosS-V/sterilefungus.htm&amp;usg=__sNkjZsiSgXKWqu2Ky0fwojaKnHU=&amp;h=275&amp;w=329&amp;sz=23&amp;hl=ar&amp;start=28&amp;um=1&amp;tbnid=XhC-f3uMmZYDdM:&amp;tbnh=99&amp;tbnw=119&amp;prev=/images%3Fq%3DSclerotium%26ndsp%3D18%26hl%3Dar%26safe%3Dactive%26sa%3DN%26start%3D18%26um%3D1" TargetMode="External"/><Relationship Id="rId6" Type="http://schemas.openxmlformats.org/officeDocument/2006/relationships/image" Target="../media/image30.jpeg"/><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images.google.com.sa/imgres?imgurl=http://bugs.bio.usyd.edu.au/Mycology/images/Topics/Reprodn_Dispersal/Rhizoctonia_solani.jpg&amp;imgrefurl=http://bugs.bio.usyd.edu.au/Mycology/Reprodn_Dispersal/compatibility.shtml&amp;usg=__3zLOq1MrFKxLt_nfheUcOjslskI=&amp;h=298&amp;w=398&amp;sz=43&amp;hl=ar&amp;start=2&amp;um=1&amp;tbnid=pObplnQ8i3CzPM:&amp;tbnh=93&amp;tbnw=124&amp;prev=/images%3Fq%3DRhizoctonia%26hl%3Dar%26safe%3Dactive%26sa%3DG%26um%3D1" TargetMode="External"/><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m.sa/imgres?imgurl=http://www.forestpests.org/nursery/images/fnp13-3.jpg&amp;imgrefurl=http://www.forestpests.org/nursery/phomablight.html&amp;usg=__VDyQTjTUJQJgfsyjiK3UEkQ0XrY=&amp;h=419&amp;w=600&amp;sz=43&amp;hl=ar&amp;start=4&amp;um=1&amp;tbnid=6vyN0JXFL0rcoM:&amp;tbnh=94&amp;tbnw=135&amp;prev=/images%3Fq%3D:Phoma%26hl%3Dar%26safe%3Dactive%26sa%3DN%26um%3D1" TargetMode="External"/><Relationship Id="rId2" Type="http://schemas.openxmlformats.org/officeDocument/2006/relationships/image" Target="../media/image3.jpeg"/><Relationship Id="rId3" Type="http://schemas.openxmlformats.org/officeDocument/2006/relationships/hyperlink" Target="http://www.eamlabs.com/mold%20training%20pictures/Phoma2.jp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com.sa/imgres?imgurl=http://www.forestryimages.org/images/3072x2048/5368308.jpg&amp;imgrefurl=http://www.forestryimages.org/browse/detail.cfm%3Fimgnum%3D5368308&amp;usg=__4NkhVjmAAxtQlGoLq6rzHOUHB34=&amp;h=2304&amp;w=3072&amp;sz=617&amp;hl=ar&amp;start=13&amp;um=1&amp;tbnid=u3M66_gkoVrZ9M:&amp;tbnh=113&amp;tbnw=150&amp;prev=/images%3Fq%3DDiplodia%2Bspore%26hl%3Dar%26safe%3Dactive%26sa%3DG%26um%3D1"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sa/imgres?imgurl=http://www.ipm.uiuc.edu/landturf/diseases/sphaeropsis/images/image03_small.jpg&amp;imgrefurl=http://www.ipm.uiuc.edu/landturf/diseases/sphaeropsis/index.html&amp;usg=__80lW9jSrndHzgIXE5qom1gClhxQ=&amp;h=136&amp;w=150&amp;sz=20&amp;hl=ar&amp;start=37&amp;um=1&amp;tbnid=je7hL7prYHa33M:&amp;tbnh=87&amp;tbnw=96&amp;prev=/images%3Fq%3DDiplodia%2Bspore%26ndsp%3D18%26hl%3Dar%26safe%3Dactive%26sa%3DN%26start%3D36%26um%3D1"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0033"/>
                </a:solidFill>
                <a:latin typeface="Franklin Gothic Book"/>
              </a:rPr>
              <a:t>الفطريات الناقصة</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sp>
        <p:nvSpPr>
          <p:cNvPr id="247" name=""/>
          <p:cNvSpPr txBox="1"/>
          <p:nvPr/>
        </p:nvSpPr>
        <p:spPr>
          <a:xfrm>
            <a:off x="468360" y="1125000"/>
            <a:ext cx="8229600" cy="452628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subclass:Hyphomycetidae</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order:Moniliales</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family:Moniliaceae</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Form-genus:Botrytis.sp</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غزل الفطري مقسم متفرع ,الحوامل الكونيدية طويلة ,داكنة اللون ,متفرعة قرب نهايتها الى افرع جانبية عديدة قصيرة ,تنتفخ عند اطرافها وتتكون ذنيبات دقيقة كل ذنيب يحمل جرثومة كونيدية وحيدة الخلية بيضية الشكل عديمة اللون وتشكل الكونيدة تركيب يشبة عنقود العنب.</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pic>
        <p:nvPicPr>
          <p:cNvPr id="251" name="Picture 5" descr="8"/>
          <p:cNvPicPr/>
          <p:nvPr/>
        </p:nvPicPr>
        <p:blipFill>
          <a:blip r:embed="rId1"/>
          <a:stretch/>
        </p:blipFill>
        <p:spPr>
          <a:xfrm>
            <a:off x="1908000" y="1125360"/>
            <a:ext cx="4681800" cy="433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pic>
        <p:nvPicPr>
          <p:cNvPr id="253" name="Picture 5" descr="4b%2520Botrytis%25208">
            <a:hlinkClick r:id="rId1"/>
          </p:cNvPr>
          <p:cNvPicPr/>
          <p:nvPr/>
        </p:nvPicPr>
        <p:blipFill>
          <a:blip r:embed="rId2"/>
          <a:stretch/>
        </p:blipFill>
        <p:spPr>
          <a:xfrm>
            <a:off x="3132000" y="1700280"/>
            <a:ext cx="3170520" cy="335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family:Dematiaceae</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a:t>
            </a:r>
            <a:r>
              <a:rPr b="0" lang="en-US" sz="2600" spc="-1" strike="noStrike">
                <a:solidFill>
                  <a:srgbClr val="000000"/>
                </a:solidFill>
                <a:latin typeface="Perpetua"/>
              </a:rPr>
              <a:t>-</a:t>
            </a:r>
            <a:r>
              <a:rPr b="0" lang="en-US" sz="2600" spc="-1" strike="noStrike">
                <a:solidFill>
                  <a:srgbClr val="000000"/>
                </a:solidFill>
                <a:latin typeface="Perpetua"/>
              </a:rPr>
              <a:t>Form-genus:Alternaria.sp</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تعيش رمية في التربة او متطفلة على كثير من النباتات كالطماطم والبطاطس حيث تسبب لها مرضا يسمى اللفحة المبكرة في الطماطم والبطاطس.</a:t>
            </a:r>
            <a:endParaRPr b="0" lang="en-US" sz="26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جراثيم الكونيدية كبيرة الحجم ,صولجانية الشكل ولها منقار طويل ومقسمة بحواجز طولية وعرضية الى عدة خلايا .</a:t>
            </a:r>
            <a:endParaRPr b="0" lang="en-US" sz="26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لونها فاتح زيتوني وغالبا تكون مفردة على اطراف الخيوط التي تحملها واحيانا تكون في سلاسل من جرثومتين او ثلاثة والحوامل الكونيدية قصيرة بسيطة او متفرعة مقسمة غامقة اللون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59" name="Picture 5" descr="Alternaria_spore_tjv">
            <a:hlinkClick r:id="rId1"/>
          </p:cNvPr>
          <p:cNvPicPr/>
          <p:nvPr/>
        </p:nvPicPr>
        <p:blipFill>
          <a:blip r:embed="rId2"/>
          <a:stretch/>
        </p:blipFill>
        <p:spPr>
          <a:xfrm>
            <a:off x="6084720" y="1700280"/>
            <a:ext cx="1366920" cy="2482920"/>
          </a:xfrm>
          <a:prstGeom prst="rect">
            <a:avLst/>
          </a:prstGeom>
          <a:ln w="0">
            <a:noFill/>
          </a:ln>
        </p:spPr>
      </p:pic>
      <p:pic>
        <p:nvPicPr>
          <p:cNvPr id="260" name="Picture 7" descr="altern3">
            <a:hlinkClick r:id="rId3"/>
          </p:cNvPr>
          <p:cNvPicPr/>
          <p:nvPr/>
        </p:nvPicPr>
        <p:blipFill>
          <a:blip r:embed="rId4"/>
          <a:stretch/>
        </p:blipFill>
        <p:spPr>
          <a:xfrm>
            <a:off x="1403280" y="1773360"/>
            <a:ext cx="3822840" cy="2679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62" name="Picture 5" descr="alternaria">
            <a:hlinkClick r:id="rId1"/>
          </p:cNvPr>
          <p:cNvPicPr/>
          <p:nvPr/>
        </p:nvPicPr>
        <p:blipFill>
          <a:blip r:embed="rId2"/>
          <a:stretch/>
        </p:blipFill>
        <p:spPr>
          <a:xfrm>
            <a:off x="3708360" y="1916280"/>
            <a:ext cx="2025720" cy="2533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26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a:t>
            </a:r>
            <a:r>
              <a:rPr b="0" lang="en-US" sz="2600" spc="-1" strike="noStrike">
                <a:solidFill>
                  <a:srgbClr val="000000"/>
                </a:solidFill>
                <a:latin typeface="Perpetua"/>
              </a:rPr>
              <a:t>-</a:t>
            </a:r>
            <a:r>
              <a:rPr b="0" lang="en-US" sz="2600" spc="-1" strike="noStrike">
                <a:solidFill>
                  <a:srgbClr val="000000"/>
                </a:solidFill>
                <a:latin typeface="Perpetua"/>
              </a:rPr>
              <a:t>Form-genus:Helminthosporium.sp</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تعيش متطفلة على النباتات مثل الشعير .</a:t>
            </a:r>
            <a:endParaRPr b="0" lang="en-US" sz="26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والغزل الفطري ينتشر داخل انسجة العائل بين الخلايا وهو مؤلف من هيفات مقسمة بجدر مستعرضة الى خلايا برميلية الشكل ذات لون فاتح اصفر .</a:t>
            </a:r>
            <a:endParaRPr b="0" lang="en-US" sz="26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حوامل الكونيدية تظهر بشكل مجاميع من </a:t>
            </a:r>
            <a:r>
              <a:rPr b="0" lang="ar-SA" sz="2600" spc="-1" strike="noStrike">
                <a:solidFill>
                  <a:srgbClr val="000000"/>
                </a:solidFill>
                <a:latin typeface="Perpetua"/>
              </a:rPr>
              <a:t>3</a:t>
            </a:r>
            <a:r>
              <a:rPr b="0" lang="ar-SA" sz="2600" spc="-1" strike="noStrike">
                <a:solidFill>
                  <a:srgbClr val="000000"/>
                </a:solidFill>
                <a:latin typeface="Perpetua"/>
              </a:rPr>
              <a:t>-</a:t>
            </a:r>
            <a:r>
              <a:rPr b="0" lang="ar-SA" sz="2600" spc="-1" strike="noStrike">
                <a:solidFill>
                  <a:srgbClr val="000000"/>
                </a:solidFill>
                <a:latin typeface="Perpetua"/>
              </a:rPr>
              <a:t>4</a:t>
            </a:r>
            <a:r>
              <a:rPr b="0" lang="ar-SA" sz="2600" spc="-1" strike="noStrike">
                <a:solidFill>
                  <a:srgbClr val="000000"/>
                </a:solidFill>
                <a:latin typeface="Perpetua"/>
              </a:rPr>
              <a:t>حوامل قائمة كل منها يحمل جرثومة كونيدية واحدة لونها بني فاتح مستطيلة او منحنية قليلا تحوي حواجز مستعرضة تقسمها الى عدد من الخلايا </a:t>
            </a:r>
            <a:r>
              <a:rPr b="0" lang="ar-SA" sz="2600" spc="-1" strike="noStrike">
                <a:solidFill>
                  <a:srgbClr val="000000"/>
                </a:solidFill>
                <a:latin typeface="Perpetua"/>
              </a:rPr>
              <a:t>2</a:t>
            </a:r>
            <a:r>
              <a:rPr b="0" lang="ar-SA" sz="2600" spc="-1" strike="noStrike">
                <a:solidFill>
                  <a:srgbClr val="000000"/>
                </a:solidFill>
                <a:latin typeface="Perpetua"/>
              </a:rPr>
              <a:t>-</a:t>
            </a:r>
            <a:r>
              <a:rPr b="0" lang="ar-SA" sz="2600" spc="-1" strike="noStrike">
                <a:solidFill>
                  <a:srgbClr val="000000"/>
                </a:solidFill>
                <a:latin typeface="Perpetua"/>
              </a:rPr>
              <a:t>7</a:t>
            </a:r>
            <a:r>
              <a:rPr b="0" lang="ar-SA" sz="2600" spc="-1" strike="noStrike">
                <a:solidFill>
                  <a:srgbClr val="000000"/>
                </a:solidFill>
                <a:latin typeface="Perpetua"/>
              </a:rPr>
              <a:t>خلايا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66" name="Picture 4" descr="9"/>
          <p:cNvPicPr/>
          <p:nvPr/>
        </p:nvPicPr>
        <p:blipFill>
          <a:blip r:embed="rId1"/>
          <a:stretch/>
        </p:blipFill>
        <p:spPr>
          <a:xfrm>
            <a:off x="1890720" y="1687680"/>
            <a:ext cx="5364000" cy="3484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Franklin Gothic Book"/>
              </a:rPr>
              <a:t>مميزات الفطريات الناقصة</a:t>
            </a:r>
            <a:endParaRPr b="0" lang="en-US" sz="4000" spc="-1" strike="noStrike">
              <a:solidFill>
                <a:srgbClr val="696464"/>
              </a:solidFill>
              <a:latin typeface="Franklin Gothic Book"/>
            </a:endParaRPr>
          </a:p>
        </p:txBody>
      </p:sp>
      <p:sp>
        <p:nvSpPr>
          <p:cNvPr id="23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ميسيليوم مقسم عرضيا الى خلايا.</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تعيش رمية في التربة او فوق البقايا النباتية او طفيلية عليها وبعضها يتطفل على الانسان والحيوان حيث تسبب لهم بعض الامراض الخطيرة .</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لم يكتشف فيها الطور الجنسي .</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تتكاثر لاجنسيا بتكوين الكونيدات وعدد قليل منها عرف بالخيوط الفطرية العقيمة التي تتكاثر لاجنسيا عن طريق انبات الاجسام الحجرية او تجزئة الخيط الفطري نفسة.</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404280"/>
            <a:ext cx="82296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696464"/>
              </a:solidFill>
              <a:latin typeface="Franklin Gothic Book"/>
            </a:endParaRPr>
          </a:p>
        </p:txBody>
      </p:sp>
      <p:sp>
        <p:nvSpPr>
          <p:cNvPr id="268" name="Rectangle 4">
            <a:hlinkClick r:id="rId1"/>
          </p:cNvPr>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5">
            <a:hlinkClick r:id="rId2"/>
          </p:cNvPr>
          <p:cNvSpPr/>
          <p:nvPr/>
        </p:nvSpPr>
        <p:spPr>
          <a:xfrm>
            <a:off x="0" y="3429000"/>
            <a:ext cx="9144000" cy="360"/>
          </a:xfrm>
          <a:prstGeom prst="rect">
            <a:avLst/>
          </a:prstGeom>
          <a:noFill/>
          <a:ln w="0">
            <a:noFill/>
          </a:ln>
        </p:spPr>
        <p:style>
          <a:lnRef idx="0"/>
          <a:fillRef idx="0"/>
          <a:effectRef idx="0"/>
          <a:fontRef idx="minor"/>
        </p:style>
        <p:txBody>
          <a:bodyPr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Picture 7" descr="pureaircontrols_e_a000257153">
            <a:hlinkClick r:id="rId3"/>
          </p:cNvPr>
          <p:cNvPicPr/>
          <p:nvPr/>
        </p:nvPicPr>
        <p:blipFill>
          <a:blip r:embed="rId4"/>
          <a:stretch/>
        </p:blipFill>
        <p:spPr>
          <a:xfrm>
            <a:off x="1619280" y="1268280"/>
            <a:ext cx="5786280" cy="399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272" name=""/>
          <p:cNvSpPr txBox="1"/>
          <p:nvPr/>
        </p:nvSpPr>
        <p:spPr>
          <a:xfrm>
            <a:off x="468360" y="836640"/>
            <a:ext cx="8229600" cy="452592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3</a:t>
            </a:r>
            <a:r>
              <a:rPr b="0" lang="en-US" sz="2600" spc="-1" strike="noStrike">
                <a:solidFill>
                  <a:srgbClr val="000000"/>
                </a:solidFill>
                <a:latin typeface="Perpetua"/>
              </a:rPr>
              <a:t>-</a:t>
            </a:r>
            <a:r>
              <a:rPr b="0" lang="en-US" sz="2600" spc="-1" strike="noStrike">
                <a:solidFill>
                  <a:srgbClr val="000000"/>
                </a:solidFill>
                <a:latin typeface="Perpetua"/>
              </a:rPr>
              <a:t>Form-genus:Curvularia.sp</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جراثيم الكونيدية منحنية ومقسمة بجدرمستعرضة بجدر عرضية فقط الى عدد من الخلايا.</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74" name="Picture 4" descr="12"/>
          <p:cNvPicPr/>
          <p:nvPr/>
        </p:nvPicPr>
        <p:blipFill>
          <a:blip r:embed="rId1"/>
          <a:stretch/>
        </p:blipFill>
        <p:spPr>
          <a:xfrm>
            <a:off x="3157560" y="1724040"/>
            <a:ext cx="2828880" cy="3409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76" name="Picture 5" descr="Curvularia-sp">
            <a:hlinkClick r:id="rId1"/>
          </p:cNvPr>
          <p:cNvPicPr/>
          <p:nvPr/>
        </p:nvPicPr>
        <p:blipFill>
          <a:blip r:embed="rId2"/>
          <a:stretch/>
        </p:blipFill>
        <p:spPr>
          <a:xfrm>
            <a:off x="0" y="2421000"/>
            <a:ext cx="3803760" cy="3803760"/>
          </a:xfrm>
          <a:prstGeom prst="rect">
            <a:avLst/>
          </a:prstGeom>
          <a:ln w="0">
            <a:noFill/>
          </a:ln>
        </p:spPr>
      </p:pic>
      <p:pic>
        <p:nvPicPr>
          <p:cNvPr id="277" name="Picture 7" descr="Curvularia"/>
          <p:cNvPicPr/>
          <p:nvPr/>
        </p:nvPicPr>
        <p:blipFill>
          <a:blip r:embed="rId3"/>
          <a:stretch/>
        </p:blipFill>
        <p:spPr>
          <a:xfrm>
            <a:off x="4140360" y="1484280"/>
            <a:ext cx="4728960" cy="3556080"/>
          </a:xfrm>
          <a:prstGeom prst="rect">
            <a:avLst/>
          </a:prstGeom>
          <a:ln w="0">
            <a:noFill/>
          </a:ln>
        </p:spPr>
      </p:pic>
      <p:pic>
        <p:nvPicPr>
          <p:cNvPr id="278" name="Picture 9" descr="Curvularia%2520in%2520air-2">
            <a:hlinkClick r:id="rId4"/>
          </p:cNvPr>
          <p:cNvPicPr/>
          <p:nvPr/>
        </p:nvPicPr>
        <p:blipFill>
          <a:blip r:embed="rId5"/>
          <a:stretch/>
        </p:blipFill>
        <p:spPr>
          <a:xfrm>
            <a:off x="1042920" y="404640"/>
            <a:ext cx="2162160" cy="1435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28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4</a:t>
            </a:r>
            <a:r>
              <a:rPr b="0" lang="en-US" sz="2600" spc="-1" strike="noStrike">
                <a:solidFill>
                  <a:srgbClr val="000000"/>
                </a:solidFill>
                <a:latin typeface="Perpetua"/>
              </a:rPr>
              <a:t>-</a:t>
            </a:r>
            <a:r>
              <a:rPr b="0" lang="en-US" sz="2600" spc="-1" strike="noStrike">
                <a:solidFill>
                  <a:srgbClr val="000000"/>
                </a:solidFill>
                <a:latin typeface="Perpetua"/>
              </a:rPr>
              <a:t>Form-genus:Stemphylium.sp</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الحامل الكونيدي طويل ومتفرع ومقسم وتحمل التفرعات جراثيم كونيدية مستطيلة او مربعة الشكل ,بعضها لها جدار متدرن ,ومقسمة الى عدة خلايا بجدر مستعرضة وطولية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82" name="Picture 4" descr="10"/>
          <p:cNvPicPr/>
          <p:nvPr/>
        </p:nvPicPr>
        <p:blipFill>
          <a:blip r:embed="rId1"/>
          <a:stretch/>
        </p:blipFill>
        <p:spPr>
          <a:xfrm>
            <a:off x="2411280" y="1484280"/>
            <a:ext cx="4794480" cy="3857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84" name="Picture 5" descr="stemphylium">
            <a:hlinkClick r:id="rId1"/>
          </p:cNvPr>
          <p:cNvPicPr/>
          <p:nvPr/>
        </p:nvPicPr>
        <p:blipFill>
          <a:blip r:embed="rId2"/>
          <a:stretch/>
        </p:blipFill>
        <p:spPr>
          <a:xfrm>
            <a:off x="1908000" y="260280"/>
            <a:ext cx="4613400" cy="3332160"/>
          </a:xfrm>
          <a:prstGeom prst="rect">
            <a:avLst/>
          </a:prstGeom>
          <a:ln w="0">
            <a:noFill/>
          </a:ln>
        </p:spPr>
      </p:pic>
      <p:pic>
        <p:nvPicPr>
          <p:cNvPr id="285" name="Picture 7" descr="stem1">
            <a:hlinkClick r:id="rId3"/>
          </p:cNvPr>
          <p:cNvPicPr/>
          <p:nvPr/>
        </p:nvPicPr>
        <p:blipFill>
          <a:blip r:embed="rId4"/>
          <a:stretch/>
        </p:blipFill>
        <p:spPr>
          <a:xfrm>
            <a:off x="2124000" y="3645000"/>
            <a:ext cx="4337280" cy="3009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287" name=""/>
          <p:cNvSpPr txBox="1"/>
          <p:nvPr/>
        </p:nvSpPr>
        <p:spPr>
          <a:xfrm>
            <a:off x="468360" y="981000"/>
            <a:ext cx="8229600" cy="452592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family:Tuberculariaceae</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genus:Fusarium.sp</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ar-SA" sz="2600" spc="-1" strike="noStrike">
                <a:solidFill>
                  <a:srgbClr val="000000"/>
                </a:solidFill>
                <a:latin typeface="Perpetua"/>
              </a:rPr>
              <a:t> يضم عدد من اشباة الانواع التي يصعب تمييز الرمي فيها عن المتطفل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تسبب انواعة المتطفلة امراض للنبات تسمى امراض الذبول الفيوزارمي ويمتاز بتكوين </a:t>
            </a:r>
            <a:r>
              <a:rPr b="0" lang="ar-SA" sz="2600" spc="-1" strike="noStrike">
                <a:solidFill>
                  <a:srgbClr val="000000"/>
                </a:solidFill>
                <a:latin typeface="Perpetua"/>
              </a:rPr>
              <a:t>3</a:t>
            </a:r>
            <a:r>
              <a:rPr b="0" lang="ar-SA" sz="2600" spc="-1" strike="noStrike">
                <a:solidFill>
                  <a:srgbClr val="000000"/>
                </a:solidFill>
                <a:latin typeface="Perpetua"/>
              </a:rPr>
              <a:t>انواع من الجراثيم تبعا للظروف المناخية.</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1</a:t>
            </a:r>
            <a:r>
              <a:rPr b="0" lang="ar-SA" sz="2600" spc="-1" strike="noStrike">
                <a:solidFill>
                  <a:srgbClr val="000000"/>
                </a:solidFill>
                <a:latin typeface="Perpetua"/>
              </a:rPr>
              <a:t>-ابواغ كونيدية صغيرة :كروية او بيضاوية واحيانا هلالية من خلية او خليتين على حوامل كونيدية مفردة بسيطة او متفرعة .من اكثر انواع جراثيم الفيوزاريم تكوينا.وتتكون داخل الاوعية الناقلة للعائل.</a:t>
            </a:r>
            <a:endParaRPr b="0" lang="en-US" sz="2600" spc="-1" strike="noStrike">
              <a:solidFill>
                <a:srgbClr val="000000"/>
              </a:solidFill>
              <a:latin typeface="Perpetua"/>
            </a:endParaRPr>
          </a:p>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2</a:t>
            </a:r>
            <a:r>
              <a:rPr b="0" lang="ar-SA" sz="2600" spc="-1" strike="noStrike">
                <a:solidFill>
                  <a:srgbClr val="000000"/>
                </a:solidFill>
                <a:latin typeface="Perpetua"/>
              </a:rPr>
              <a:t>-ابواغ كونيدية كبيرة:هلالية الشكل منحنية في طرفها تحوي </a:t>
            </a:r>
            <a:r>
              <a:rPr b="0" lang="ar-SA" sz="2600" spc="-1" strike="noStrike">
                <a:solidFill>
                  <a:srgbClr val="000000"/>
                </a:solidFill>
                <a:latin typeface="Perpetua"/>
              </a:rPr>
              <a:t>3</a:t>
            </a:r>
            <a:r>
              <a:rPr b="0" lang="ar-SA" sz="2600" spc="-1" strike="noStrike">
                <a:solidFill>
                  <a:srgbClr val="000000"/>
                </a:solidFill>
                <a:latin typeface="Perpetua"/>
              </a:rPr>
              <a:t>-</a:t>
            </a:r>
            <a:r>
              <a:rPr b="0" lang="ar-SA" sz="2600" spc="-1" strike="noStrike">
                <a:solidFill>
                  <a:srgbClr val="000000"/>
                </a:solidFill>
                <a:latin typeface="Perpetua"/>
              </a:rPr>
              <a:t>4</a:t>
            </a:r>
            <a:r>
              <a:rPr b="0" lang="ar-SA" sz="2600" spc="-1" strike="noStrike">
                <a:solidFill>
                  <a:srgbClr val="000000"/>
                </a:solidFill>
                <a:latin typeface="Perpetua"/>
              </a:rPr>
              <a:t>حواجز عرضية وتوجد على سطح النبات المصاب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29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بواغ كلاميدية:تتألف من خلية او خليتين ذات جدران سميكة وهي وسطية او طرفية او في سلاسل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80"/>
                </a:solidFill>
                <a:latin typeface="Franklin Gothic Book"/>
              </a:rPr>
              <a:t>تصنيف الفطريات الناقصة</a:t>
            </a:r>
            <a:endParaRPr b="0" lang="en-US" sz="4000" spc="-1" strike="noStrike">
              <a:solidFill>
                <a:srgbClr val="696464"/>
              </a:solidFill>
              <a:latin typeface="Franklin Gothic Book"/>
            </a:endParaRPr>
          </a:p>
        </p:txBody>
      </p:sp>
      <p:sp>
        <p:nvSpPr>
          <p:cNvPr id="232" name=""/>
          <p:cNvSpPr txBox="1"/>
          <p:nvPr/>
        </p:nvSpPr>
        <p:spPr>
          <a:xfrm>
            <a:off x="914400" y="1447920"/>
            <a:ext cx="7772400" cy="4572000"/>
          </a:xfrm>
          <a:prstGeom prst="rect">
            <a:avLst/>
          </a:prstGeom>
          <a:noFill/>
          <a:ln w="0">
            <a:noFill/>
          </a:ln>
        </p:spPr>
        <p:txBody>
          <a:bodyPr lIns="90000" rIns="90000" tIns="46800" bIns="46800" anchor="t">
            <a:normAutofit fontScale="96000"/>
          </a:bodyPr>
          <a:p>
            <a:pPr marL="261720" indent="-261720" algn="r"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تصنف استنادا الى :-</a:t>
            </a:r>
            <a:endParaRPr b="0" lang="en-US" sz="2800" spc="-1" strike="noStrike">
              <a:solidFill>
                <a:srgbClr val="000000"/>
              </a:solidFill>
              <a:latin typeface="Perpetua"/>
            </a:endParaRPr>
          </a:p>
          <a:p>
            <a:pPr marL="261720" indent="-26172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1</a:t>
            </a:r>
            <a:r>
              <a:rPr b="0" lang="ar-SA" sz="2800" spc="-1" strike="noStrike">
                <a:solidFill>
                  <a:srgbClr val="000000"/>
                </a:solidFill>
                <a:latin typeface="Perpetua"/>
              </a:rPr>
              <a:t>-شكل ولون الاوعية البكنيدية والكويمات الكونيدية.</a:t>
            </a:r>
            <a:endParaRPr b="0" lang="en-US" sz="2800" spc="-1" strike="noStrike">
              <a:solidFill>
                <a:srgbClr val="000000"/>
              </a:solidFill>
              <a:latin typeface="Perpetua"/>
            </a:endParaRPr>
          </a:p>
          <a:p>
            <a:pPr marL="261720" indent="-26172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2</a:t>
            </a:r>
            <a:r>
              <a:rPr b="0" lang="ar-SA" sz="2800" spc="-1" strike="noStrike">
                <a:solidFill>
                  <a:srgbClr val="000000"/>
                </a:solidFill>
                <a:latin typeface="Perpetua"/>
              </a:rPr>
              <a:t>-شكل الحوامل الكونيدية</a:t>
            </a:r>
            <a:endParaRPr b="0" lang="en-US" sz="2800" spc="-1" strike="noStrike">
              <a:solidFill>
                <a:srgbClr val="000000"/>
              </a:solidFill>
              <a:latin typeface="Perpetua"/>
            </a:endParaRPr>
          </a:p>
          <a:p>
            <a:pPr marL="261720" indent="-26172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3</a:t>
            </a:r>
            <a:r>
              <a:rPr b="0" lang="ar-SA" sz="2800" spc="-1" strike="noStrike">
                <a:solidFill>
                  <a:srgbClr val="000000"/>
                </a:solidFill>
                <a:latin typeface="Perpetua"/>
              </a:rPr>
              <a:t>-طريقة حمل الجراثيم الكونيدية وشكلها ,ولونها ,تركيبها,عدد الخلايا في كل جرثومة,مقسمة بجدرمستعرضة اومستعرضة وطولية.</a:t>
            </a:r>
            <a:endParaRPr b="0" lang="en-US" sz="2800" spc="-1" strike="noStrike">
              <a:solidFill>
                <a:srgbClr val="000000"/>
              </a:solidFill>
              <a:latin typeface="Perpetua"/>
            </a:endParaRPr>
          </a:p>
          <a:p>
            <a:pPr marL="261720" indent="-26172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ويعتبر تصنيف الفطريات الناقصة تصنيف اصطناعي لانة مجرد تجميع للاجناس الشكلية التي تتماثل في الصفات الكونيدية من ناحية الشكل واللون .</a:t>
            </a:r>
            <a:endParaRPr b="0" lang="en-US" sz="2800" spc="-1" strike="noStrike">
              <a:solidFill>
                <a:srgbClr val="000000"/>
              </a:solidFill>
              <a:latin typeface="Perpetua"/>
            </a:endParaRPr>
          </a:p>
          <a:p>
            <a:pPr marL="261720" indent="-26172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Perpetua"/>
              </a:rPr>
              <a:t>والتقسيم لايعكس صلات القربى التطورية بين هذة الفطريات ويطلق صفة شبة </a:t>
            </a:r>
            <a:r>
              <a:rPr b="0" lang="en-US" sz="2800" spc="-1" strike="noStrike">
                <a:solidFill>
                  <a:srgbClr val="000000"/>
                </a:solidFill>
                <a:latin typeface="Perpetua"/>
              </a:rPr>
              <a:t>form</a:t>
            </a:r>
            <a:r>
              <a:rPr b="0" lang="ar-SA" sz="2800" spc="-1" strike="noStrike">
                <a:solidFill>
                  <a:srgbClr val="000000"/>
                </a:solidFill>
                <a:latin typeface="Perpetua"/>
              </a:rPr>
              <a:t>على درجات التصنيف لهذة الفطريات.</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93" name="Picture 4" descr="7"/>
          <p:cNvPicPr/>
          <p:nvPr/>
        </p:nvPicPr>
        <p:blipFill>
          <a:blip r:embed="rId1"/>
          <a:stretch/>
        </p:blipFill>
        <p:spPr>
          <a:xfrm>
            <a:off x="1036800" y="1577880"/>
            <a:ext cx="7070400" cy="3703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295" name="Picture 5" descr="Fusarium">
            <a:hlinkClick r:id="rId1"/>
          </p:cNvPr>
          <p:cNvPicPr/>
          <p:nvPr/>
        </p:nvPicPr>
        <p:blipFill>
          <a:blip r:embed="rId2"/>
          <a:stretch/>
        </p:blipFill>
        <p:spPr>
          <a:xfrm>
            <a:off x="4610160" y="0"/>
            <a:ext cx="4533840" cy="3416400"/>
          </a:xfrm>
          <a:prstGeom prst="rect">
            <a:avLst/>
          </a:prstGeom>
          <a:ln w="0">
            <a:noFill/>
          </a:ln>
        </p:spPr>
      </p:pic>
      <p:pic>
        <p:nvPicPr>
          <p:cNvPr id="296" name="Picture 7" descr="Fusarium_verticillioides_01">
            <a:hlinkClick r:id="rId3"/>
          </p:cNvPr>
          <p:cNvPicPr/>
          <p:nvPr/>
        </p:nvPicPr>
        <p:blipFill>
          <a:blip r:embed="rId4"/>
          <a:stretch/>
        </p:blipFill>
        <p:spPr>
          <a:xfrm>
            <a:off x="250920" y="3500280"/>
            <a:ext cx="4686120" cy="3157560"/>
          </a:xfrm>
          <a:prstGeom prst="rect">
            <a:avLst/>
          </a:prstGeom>
          <a:ln w="0">
            <a:noFill/>
          </a:ln>
        </p:spPr>
      </p:pic>
      <p:pic>
        <p:nvPicPr>
          <p:cNvPr id="297" name="Picture 9" descr="mas_fusariosi">
            <a:hlinkClick r:id="rId5"/>
          </p:cNvPr>
          <p:cNvPicPr/>
          <p:nvPr/>
        </p:nvPicPr>
        <p:blipFill>
          <a:blip r:embed="rId6"/>
          <a:stretch/>
        </p:blipFill>
        <p:spPr>
          <a:xfrm>
            <a:off x="5435640" y="3692520"/>
            <a:ext cx="3454200" cy="3165480"/>
          </a:xfrm>
          <a:prstGeom prst="rect">
            <a:avLst/>
          </a:prstGeom>
          <a:ln w="0">
            <a:noFill/>
          </a:ln>
        </p:spPr>
      </p:pic>
      <p:pic>
        <p:nvPicPr>
          <p:cNvPr id="298" name="Picture 10" descr="08_008"/>
          <p:cNvPicPr/>
          <p:nvPr/>
        </p:nvPicPr>
        <p:blipFill>
          <a:blip r:embed="rId7"/>
          <a:stretch/>
        </p:blipFill>
        <p:spPr>
          <a:xfrm>
            <a:off x="0" y="260280"/>
            <a:ext cx="4390920" cy="2924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300" name=""/>
          <p:cNvSpPr txBox="1"/>
          <p:nvPr/>
        </p:nvSpPr>
        <p:spPr>
          <a:xfrm>
            <a:off x="914400" y="1447920"/>
            <a:ext cx="7772400" cy="4572000"/>
          </a:xfrm>
          <a:prstGeom prst="rect">
            <a:avLst/>
          </a:prstGeom>
          <a:noFill/>
          <a:ln w="0">
            <a:noFill/>
          </a:ln>
        </p:spPr>
        <p:txBody>
          <a:bodyPr lIns="90000" rIns="90000" tIns="46800" bIns="46800" anchor="t">
            <a:normAutofit fontScale="94000"/>
          </a:bodyPr>
          <a:p>
            <a:pPr marL="256320" indent="-256320" algn="r"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orm-order:Agonomycetales</a:t>
            </a:r>
            <a:r>
              <a:rPr b="0" lang="en-US" sz="2400" spc="-1" strike="noStrike">
                <a:solidFill>
                  <a:srgbClr val="000000"/>
                </a:solidFill>
                <a:latin typeface="Perpetua"/>
              </a:rPr>
              <a:t>       </a:t>
            </a:r>
            <a:endParaRPr b="0" lang="en-US" sz="2400" spc="-1" strike="noStrike">
              <a:solidFill>
                <a:srgbClr val="000000"/>
              </a:solidFill>
              <a:latin typeface="Perpetua"/>
            </a:endParaRPr>
          </a:p>
          <a:p>
            <a:pPr marL="256320" indent="-256320" algn="r"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Perpetua"/>
              </a:rPr>
              <a:t>ويطلق عليها شبة رتبة الخيوط العقيمة وهي مجموعة فطريات غير متجانسة تتكون من خيوط ذات ميسيليوم مقسم تتكاثر عادة بتجزؤ الخيط او تكو ين الاجسام الحجرية .</a:t>
            </a:r>
            <a:endParaRPr b="0" lang="en-US" sz="2400" spc="-1" strike="noStrike">
              <a:solidFill>
                <a:srgbClr val="000000"/>
              </a:solidFill>
              <a:latin typeface="Perpetua"/>
            </a:endParaRPr>
          </a:p>
          <a:p>
            <a:pPr marL="256320" indent="-256320" algn="r"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lgn="r" rtl="1">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1</a:t>
            </a:r>
            <a:r>
              <a:rPr b="0" lang="en-US" sz="2400" spc="-1" strike="noStrike">
                <a:solidFill>
                  <a:srgbClr val="000000"/>
                </a:solidFill>
                <a:latin typeface="Perpetua"/>
              </a:rPr>
              <a:t>-</a:t>
            </a:r>
            <a:r>
              <a:rPr b="0" lang="en-US" sz="2400" spc="-1" strike="noStrike">
                <a:solidFill>
                  <a:srgbClr val="000000"/>
                </a:solidFill>
                <a:latin typeface="Perpetua"/>
              </a:rPr>
              <a:t>Forum- genus:Sclerotium</a:t>
            </a:r>
            <a:r>
              <a:rPr b="0" lang="en-US" sz="2400" spc="-1" strike="noStrike">
                <a:solidFill>
                  <a:srgbClr val="000000"/>
                </a:solidFill>
                <a:latin typeface="Perpetua"/>
              </a:rPr>
              <a:t>    </a:t>
            </a:r>
            <a:endParaRPr b="0" lang="en-US" sz="2400" spc="-1" strike="noStrike">
              <a:solidFill>
                <a:srgbClr val="000000"/>
              </a:solidFill>
              <a:latin typeface="Perpetua"/>
            </a:endParaRPr>
          </a:p>
          <a:p>
            <a:pPr marL="256320" indent="-25632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Perpetua"/>
              </a:rPr>
              <a:t>   واسع التخصص على العوائل النباتية مثل البطاطس ,الطماطم ,الفول البصل ,الكرنب وغيرها وتحدث الاصابة عادة من التربة قرب مستوى سطح الارض.وتصاب الانسجة الحية بسهولة بالفطر.</a:t>
            </a:r>
            <a:endParaRPr b="0" lang="en-US" sz="2400" spc="-1" strike="noStrike">
              <a:solidFill>
                <a:srgbClr val="000000"/>
              </a:solidFill>
              <a:latin typeface="Perpetua"/>
            </a:endParaRPr>
          </a:p>
          <a:p>
            <a:pPr marL="256320" indent="-25632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Perpetua"/>
              </a:rPr>
              <a:t> الغزل الفطري من خيوط سميكة بيضاء قطني المظهر مقسمة وتحوي اتصالات كلابية بين خلاياة .والطريقة الوحيدة لتكاثرة تكوين اجسام حجرية على سطح الميسيليوم او مطمورة فية,وهي صغيرة كروية ,سوداءاللون ذات قدرة على تحمل الظروف غير المناسبة.</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302" name="Picture 4" descr="13"/>
          <p:cNvPicPr/>
          <p:nvPr/>
        </p:nvPicPr>
        <p:blipFill>
          <a:blip r:embed="rId1"/>
          <a:stretch/>
        </p:blipFill>
        <p:spPr>
          <a:xfrm>
            <a:off x="2700360" y="1773360"/>
            <a:ext cx="4167000" cy="331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304" name="Picture 5" descr="2006-36-3">
            <a:hlinkClick r:id="rId1"/>
          </p:cNvPr>
          <p:cNvPicPr/>
          <p:nvPr/>
        </p:nvPicPr>
        <p:blipFill>
          <a:blip r:embed="rId2"/>
          <a:stretch/>
        </p:blipFill>
        <p:spPr>
          <a:xfrm>
            <a:off x="2700360" y="404640"/>
            <a:ext cx="3300480" cy="2475000"/>
          </a:xfrm>
          <a:prstGeom prst="rect">
            <a:avLst/>
          </a:prstGeom>
          <a:ln w="0">
            <a:noFill/>
          </a:ln>
        </p:spPr>
      </p:pic>
      <p:pic>
        <p:nvPicPr>
          <p:cNvPr id="305" name="Picture 7" descr="Sclerotium_rolfsii1">
            <a:hlinkClick r:id="rId3"/>
          </p:cNvPr>
          <p:cNvPicPr/>
          <p:nvPr/>
        </p:nvPicPr>
        <p:blipFill>
          <a:blip r:embed="rId4"/>
          <a:stretch/>
        </p:blipFill>
        <p:spPr>
          <a:xfrm>
            <a:off x="5219640" y="3357720"/>
            <a:ext cx="2973600" cy="2224080"/>
          </a:xfrm>
          <a:prstGeom prst="rect">
            <a:avLst/>
          </a:prstGeom>
          <a:ln w="0">
            <a:noFill/>
          </a:ln>
        </p:spPr>
      </p:pic>
      <p:pic>
        <p:nvPicPr>
          <p:cNvPr id="306" name="Picture 9" descr="sterilefungus">
            <a:hlinkClick r:id="rId5"/>
          </p:cNvPr>
          <p:cNvPicPr/>
          <p:nvPr/>
        </p:nvPicPr>
        <p:blipFill>
          <a:blip r:embed="rId6"/>
          <a:stretch/>
        </p:blipFill>
        <p:spPr>
          <a:xfrm>
            <a:off x="971640" y="3284640"/>
            <a:ext cx="3512880" cy="2922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sp>
        <p:nvSpPr>
          <p:cNvPr id="30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gn="r" rtl="1">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um-genus:Rhizoctonia</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ar-SA" sz="2600" spc="-1" strike="noStrike">
                <a:solidFill>
                  <a:srgbClr val="000000"/>
                </a:solidFill>
                <a:latin typeface="Perpetua"/>
              </a:rPr>
              <a:t>يوجد في التربة في جميع مناطق العالم ويصيب الخضروات مثل الطماطم والبطاطس وبعض الاشجار مثل القطن ويسبب مرض سقوط البادرات وتعفن الجذور والثمار.</a:t>
            </a:r>
            <a:endParaRPr b="0" lang="en-US" sz="2600" spc="-1" strike="noStrike">
              <a:solidFill>
                <a:srgbClr val="000000"/>
              </a:solidFill>
              <a:latin typeface="Perpetua"/>
            </a:endParaRPr>
          </a:p>
          <a:p>
            <a:pPr marL="272880" indent="-27288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  وميسيليوم مقسم الى اعداد كبيرة من الخلايا الصغيرة ومتفرع بكثرة وعديم اللون عندما يكون حيث السن ,ولكنة يتحول الى اللون الاسود او البني بتقدم العمر ثم يصبح سميكا , وتحوي الفروع الفطرية على تخصر عندمنطقة تفرعها من الاصل وتشكل مع الفرع الرئيسي زاوية قائمة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696464"/>
              </a:solidFill>
              <a:latin typeface="Franklin Gothic Book"/>
            </a:endParaRPr>
          </a:p>
        </p:txBody>
      </p:sp>
      <p:pic>
        <p:nvPicPr>
          <p:cNvPr id="310" name="Picture 4" descr="14"/>
          <p:cNvPicPr/>
          <p:nvPr/>
        </p:nvPicPr>
        <p:blipFill>
          <a:blip r:embed="rId1"/>
          <a:stretch/>
        </p:blipFill>
        <p:spPr>
          <a:xfrm>
            <a:off x="2646360" y="1709640"/>
            <a:ext cx="3852720" cy="3438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pic>
        <p:nvPicPr>
          <p:cNvPr id="312" name="Picture 6" descr="Rhizoctonia_solani">
            <a:hlinkClick r:id="rId1"/>
          </p:cNvPr>
          <p:cNvPicPr/>
          <p:nvPr/>
        </p:nvPicPr>
        <p:blipFill>
          <a:blip r:embed="rId2"/>
          <a:stretch/>
        </p:blipFill>
        <p:spPr>
          <a:xfrm>
            <a:off x="2771640" y="765000"/>
            <a:ext cx="3627720" cy="2721240"/>
          </a:xfrm>
          <a:prstGeom prst="rect">
            <a:avLst/>
          </a:prstGeom>
          <a:ln w="0">
            <a:noFill/>
          </a:ln>
        </p:spPr>
      </p:pic>
      <p:pic>
        <p:nvPicPr>
          <p:cNvPr id="313" name="Picture 8" descr="fig20"/>
          <p:cNvPicPr/>
          <p:nvPr/>
        </p:nvPicPr>
        <p:blipFill>
          <a:blip r:embed="rId3"/>
          <a:stretch/>
        </p:blipFill>
        <p:spPr>
          <a:xfrm>
            <a:off x="3348000" y="4005360"/>
            <a:ext cx="2062080" cy="191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sp>
        <p:nvSpPr>
          <p:cNvPr id="234" name=""/>
          <p:cNvSpPr txBox="1"/>
          <p:nvPr/>
        </p:nvSpPr>
        <p:spPr>
          <a:xfrm>
            <a:off x="468360" y="836640"/>
            <a:ext cx="8229600" cy="452592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ub division:Deuteromycotina</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class:Deuteromycetes</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subclass:Coelomycetidae</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order:sphaeropsidales</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family:sphaeropsidaceae</a:t>
            </a:r>
            <a:r>
              <a:rPr b="0" lang="en-US" sz="2600" spc="-1" strike="noStrike">
                <a:solidFill>
                  <a:srgbClr val="000000"/>
                </a:solidFill>
                <a:latin typeface="Perpetua"/>
              </a:rPr>
              <a:t>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rm-genus:Phoma.sp            </a:t>
            </a:r>
            <a:r>
              <a:rPr b="0" lang="ar-SA" sz="2600" spc="-1" strike="noStrike">
                <a:solidFill>
                  <a:srgbClr val="000000"/>
                </a:solidFill>
                <a:latin typeface="Perpetua"/>
              </a:rPr>
              <a:t>   </a:t>
            </a:r>
            <a:r>
              <a:rPr b="0" lang="en-US" sz="2600" spc="-1" strike="noStrike">
                <a:solidFill>
                  <a:srgbClr val="000000"/>
                </a:solidFill>
                <a:latin typeface="Perpetua"/>
              </a:rPr>
              <a:t>1</a:t>
            </a:r>
            <a:r>
              <a:rPr b="0" lang="en-US" sz="2600" spc="-1" strike="noStrike">
                <a:solidFill>
                  <a:srgbClr val="000000"/>
                </a:solidFill>
                <a:latin typeface="Perpetua"/>
              </a:rPr>
              <a:t>-</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a:t>
            </a:r>
            <a:r>
              <a:rPr b="0" lang="en-US" sz="2600" spc="-1" strike="noStrike">
                <a:solidFill>
                  <a:srgbClr val="000000"/>
                </a:solidFill>
                <a:latin typeface="Perpetua"/>
              </a:rPr>
              <a:t>-</a:t>
            </a:r>
            <a:r>
              <a:rPr b="0" lang="en-US" sz="2600" spc="-1" strike="noStrike">
                <a:solidFill>
                  <a:srgbClr val="000000"/>
                </a:solidFill>
                <a:latin typeface="Perpetua"/>
              </a:rPr>
              <a:t>Form-genus:Diplodia.sp</a:t>
            </a:r>
            <a:r>
              <a:rPr b="0" lang="en-U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sp>
        <p:nvSpPr>
          <p:cNvPr id="236" name=""/>
          <p:cNvSpPr txBox="1"/>
          <p:nvPr/>
        </p:nvSpPr>
        <p:spPr>
          <a:xfrm>
            <a:off x="468360" y="1197000"/>
            <a:ext cx="8229600" cy="452592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1</a:t>
            </a:r>
            <a:r>
              <a:rPr b="0" lang="ar-SA" sz="2600" spc="-1" strike="noStrike">
                <a:solidFill>
                  <a:srgbClr val="000000"/>
                </a:solidFill>
                <a:latin typeface="Perpetua"/>
              </a:rPr>
              <a:t>-</a:t>
            </a:r>
            <a:r>
              <a:rPr b="0" lang="en-US" sz="2600" spc="-1" strike="noStrike">
                <a:solidFill>
                  <a:srgbClr val="000000"/>
                </a:solidFill>
                <a:latin typeface="Perpetua"/>
              </a:rPr>
              <a:t>Phoma</a:t>
            </a:r>
            <a:r>
              <a:rPr b="0" lang="ar-SA" sz="2600" spc="-1" strike="noStrike">
                <a:solidFill>
                  <a:srgbClr val="000000"/>
                </a:solidFill>
                <a:latin typeface="Perpetua"/>
              </a:rPr>
              <a:t>الجراثيم الكونيدية داخل الاوعية البكنيدية التى تكون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قاسية ,جلدية او هشة صغيرة سوداء ,مزودة بفتحة دائرية اعلاها .</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الكونيدات صغيرة ,وحيدة الخلية ,شفافة ,كروية او بيضاوية.</a:t>
            </a: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Perpetua"/>
              </a:rPr>
              <a:t>2</a:t>
            </a:r>
            <a:r>
              <a:rPr b="0" lang="ar-SA" sz="2600" spc="-1" strike="noStrike">
                <a:solidFill>
                  <a:srgbClr val="000000"/>
                </a:solidFill>
                <a:latin typeface="Perpetua"/>
              </a:rPr>
              <a:t>-</a:t>
            </a:r>
            <a:r>
              <a:rPr b="0" lang="en-US" sz="2600" spc="-1" strike="noStrike">
                <a:solidFill>
                  <a:srgbClr val="000000"/>
                </a:solidFill>
                <a:latin typeface="Perpetua"/>
              </a:rPr>
              <a:t>Diplodia</a:t>
            </a:r>
            <a:r>
              <a:rPr b="0" lang="ar-SA" sz="2600" spc="-1" strike="noStrike">
                <a:solidFill>
                  <a:srgbClr val="000000"/>
                </a:solidFill>
                <a:latin typeface="Perpetua"/>
              </a:rPr>
              <a:t>الكونيدات فيها منقسمة الى قسمين.</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pic>
        <p:nvPicPr>
          <p:cNvPr id="238" name="Picture 5" descr="fnp13-3">
            <a:hlinkClick r:id="rId1"/>
          </p:cNvPr>
          <p:cNvPicPr/>
          <p:nvPr/>
        </p:nvPicPr>
        <p:blipFill>
          <a:blip r:embed="rId2"/>
          <a:stretch/>
        </p:blipFill>
        <p:spPr>
          <a:xfrm>
            <a:off x="2916360" y="549360"/>
            <a:ext cx="3249360" cy="2262240"/>
          </a:xfrm>
          <a:prstGeom prst="rect">
            <a:avLst/>
          </a:prstGeom>
          <a:ln w="0">
            <a:noFill/>
          </a:ln>
        </p:spPr>
      </p:pic>
      <p:pic>
        <p:nvPicPr>
          <p:cNvPr id="239" name="Picture 7" descr="مشاهدة الصورة بالحجم الكامل">
            <a:hlinkClick r:id="rId3"/>
          </p:cNvPr>
          <p:cNvPicPr/>
          <p:nvPr/>
        </p:nvPicPr>
        <p:blipFill>
          <a:blip r:embed="rId4"/>
          <a:stretch/>
        </p:blipFill>
        <p:spPr>
          <a:xfrm>
            <a:off x="3203640" y="3500280"/>
            <a:ext cx="2774880" cy="209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pic>
        <p:nvPicPr>
          <p:cNvPr id="241" name="Picture 5" descr="phoma"/>
          <p:cNvPicPr/>
          <p:nvPr/>
        </p:nvPicPr>
        <p:blipFill>
          <a:blip r:embed="rId1"/>
          <a:stretch/>
        </p:blipFill>
        <p:spPr>
          <a:xfrm>
            <a:off x="2243160" y="1643040"/>
            <a:ext cx="4657680" cy="3571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pic>
        <p:nvPicPr>
          <p:cNvPr id="243" name="Picture 6" descr="5368308">
            <a:hlinkClick r:id="rId1"/>
          </p:cNvPr>
          <p:cNvPicPr/>
          <p:nvPr/>
        </p:nvPicPr>
        <p:blipFill>
          <a:blip r:embed="rId2"/>
          <a:stretch/>
        </p:blipFill>
        <p:spPr>
          <a:xfrm>
            <a:off x="2484360" y="1989000"/>
            <a:ext cx="4294440" cy="3235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696464"/>
              </a:solidFill>
              <a:latin typeface="Franklin Gothic Book"/>
            </a:endParaRPr>
          </a:p>
        </p:txBody>
      </p:sp>
      <p:pic>
        <p:nvPicPr>
          <p:cNvPr id="245" name="Picture 5" descr="image03_small">
            <a:hlinkClick r:id="rId1"/>
          </p:cNvPr>
          <p:cNvPicPr/>
          <p:nvPr/>
        </p:nvPicPr>
        <p:blipFill>
          <a:blip r:embed="rId2"/>
          <a:stretch/>
        </p:blipFill>
        <p:spPr>
          <a:xfrm>
            <a:off x="3132000" y="1773360"/>
            <a:ext cx="3138480" cy="284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7:03:32Z</dcterms:created>
  <dc:creator>User</dc:creator>
  <dc:description/>
  <dc:language>en-US</dc:language>
  <cp:lastModifiedBy>user</cp:lastModifiedBy>
  <dcterms:modified xsi:type="dcterms:W3CDTF">2015-04-19T04:25:35Z</dcterms:modified>
  <cp:revision>7</cp:revision>
  <dc:subject/>
  <dc:title>الفطريات الناقصة</dc:title>
</cp:coreProperties>
</file>