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jpeg" ContentType="image/jpeg"/>
  <Override PartName="/ppt/media/image29.jpeg" ContentType="image/jpeg"/>
  <Override PartName="/ppt/media/image30.png" ContentType="image/png"/>
  <Override PartName="/ppt/media/image9.jpeg" ContentType="image/jpeg"/>
  <Override PartName="/ppt/media/image11.jpeg" ContentType="image/jpeg"/>
  <Override PartName="/ppt/media/image3.png" ContentType="image/png"/>
  <Override PartName="/ppt/media/image17.jpeg" ContentType="image/jpeg"/>
  <Override PartName="/ppt/media/image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2.jpeg" ContentType="image/jpeg"/>
  <Override PartName="/ppt/media/image23.jpeg" ContentType="image/jpeg"/>
  <Override PartName="/ppt/media/image24.jpeg" ContentType="image/jpeg"/>
  <Override PartName="/ppt/media/image2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4A201-A3EB-41C0-AC7D-823E41B7F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AE132-EA18-470D-B451-D3F0EDE43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45FCB-E3B0-498E-8E84-251F4520D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7838B-107E-49C0-9984-0EF5BBC10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81E3E-32C7-415B-B41F-B116ABA2D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9E1E0-93CB-46AB-965C-389934CF6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C636B-7FEA-423C-8908-6351BD6B1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E18E3-00E9-4C06-9EC8-DDF51BFD2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CFBDD-8BA1-4284-9DD9-ACD41D5AF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7EBD2-EEC4-4C0E-8A26-AC72EDF13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E8521-BEDB-4A68-87C9-B9DFDE6CE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0EC39-2313-4E85-B89E-8A7B06FD2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7A078-FB51-4508-9838-BB12F2E69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CDFBE-26BE-4C9B-9B96-2509464E0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806AC-D636-4DB1-BB48-AFF57A4D2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2C63F-C430-4A4D-94FA-1B3BCB75B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BC8A8-FF83-4F7B-A6DB-FC0ECE256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264333D-F3D5-4F63-A5D1-768A66DE1B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59997A3-2793-4FA8-ACA5-DA37CB5D5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86F3415-6909-4DA9-A70C-EEFEC4BA31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B51452-3395-4CF5-BB1F-6D440287D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AA6008-8597-4B94-BDDC-9A4DD2CF1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330CE-B4AE-48B6-AEB5-2584F111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D15A534-11F9-4F66-A76D-1295515D3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5BC7E0-9E7A-4752-84EE-84C5FB74B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D0DDA4-8D9B-4827-A45B-5F5D78408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6C43A6-F1C5-40A9-B835-66A3F57CC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2E8CDA-35A8-46BA-8914-6506AAB98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7358EFC-B4BA-4ED1-8435-94157E1C7C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442E4FD-DC82-4497-B860-E415AA93AC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BC2F42-F701-45EA-8FA1-E4478A18DF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591172-6617-4900-83D9-A5A0034B89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7E1BA2-2B40-485F-9E2F-1092582D0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801C4-0334-4A20-B4DA-DA83D7D6F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6F8BC-1B23-4F31-A1E1-4612A17CF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D1A683-A2E7-4BA3-946B-A7ECEB7D74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84332E-2828-413E-B274-37858F34D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E2EE1-227C-44B4-ABA7-2D394FDC7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4B7CF-8E9F-4E78-841F-BB0743858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93695-5206-449F-8407-EAECEADC9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F94132-95AA-4C8F-8E5F-E0A93FE61B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6AE93F-2E3E-47D4-9135-A3A7825867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AB6DCC-EE47-4E12-9CFA-15BCB28D95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A91138-D437-4560-87BE-1BF89B0BD7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131D9-D3D6-4C63-8E86-FF75DA0EA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FCD94D-9350-4F9A-9342-A32E3F790C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17430F-6B23-4DE4-8BA7-6CFFA8ADCE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872B7C-B93E-49EE-82D5-27F015728D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85DAE4-6112-4675-AB24-A0E41D7E6D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54972FC-EDBE-4707-A7AE-515E8FD8C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49481C-2B12-4B23-A54C-BAEE7E84B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7E8CE0-33E5-4525-BD02-AB6464F6BE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0249BE-9EA1-498A-AA76-51730F800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1C16F4E-275F-42E7-ABED-D82E9DF50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F7AAADC-9447-43C9-953D-DF4F7A4D54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A6B74-99E2-40A9-8CEB-C495E8FA6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EE387F7-0143-4D6B-BDA9-E25E7F8E23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A347EAD-7083-48FB-97EE-7B5880CF25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317BB73-DA49-4307-A867-05447F42DA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F246043-7CC9-40EB-B33A-9EF26BA954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D780E30-B33D-4FF8-A972-582DF2897E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772EB4B-C32E-44C2-A520-98AD184310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585F3F1-07CA-49CF-B029-9574A58891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AEC6B85-C827-4D78-9E18-95075979F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555F84-EDD4-4BA5-B1E5-4265D81EC7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44B918F-194F-41CF-B7B5-C26A28AB4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2BC3B-7B75-41FD-B6E7-219AEAF55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3E42265-0006-4C60-A8EB-D0A128AD7E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01825C0-B1BE-4BCA-8206-082CDF9DCE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CAD6DD8-BCF3-42E9-A331-2403B77C69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209590E-806C-4E58-B409-16D8974411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29597B8-052B-42D2-98FD-98C708304B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ADEE88-1FB5-4C41-AFDA-73CF859C38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CC80449-1BF4-47FF-8E83-9CA53D4372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60C4BC5-44C3-490E-AD6B-9C9D4E537D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AA8C3F-08A1-47C9-9C1D-9D691DC9B7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725332-0636-4B14-A7D7-AAC1268BA2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50128-8C8C-4614-BBEC-535D01CB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0AB214-6D2B-4368-A215-DD0AC1E35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136B001-79DF-46D1-9B52-5C51FAC19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17D2828-A449-46D8-BF93-19552CD406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B7A6101-66DD-4AE2-92E6-9182D80B6F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BA7563D-092B-42D7-8F76-622F40F344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C4E2F-A2F6-4708-A618-AEDF4E271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3AE9-CBBF-44C7-95D1-55360F642EB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B836-7C6C-4D0A-9D78-ECB82486E09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8D3B-1C32-46D6-AEC9-05F35A6CDAF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858C-D341-4815-8F5A-8C6AD02374F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7D46-E208-40E3-A28C-004A54E3248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83EA-2C48-4896-A434-5FA1B7DEAF2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51A5-A8A1-4EA7-B849-9E8A3990B7A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flickr.com/photos/14667151@N00/3690025577/" TargetMode="External"/><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images.google.com.sa/imgres?imgurl=http://atlas.arabslab.com/data/8/aspergillus12.gif&amp;imgrefurl=http://atlas.arabslab.com/showphoto.php%3Fphoto%3D86%26nojs%3D1&amp;usg=__54mhSAiP7T6l3xrVwAVYxE_AO98=&amp;h=392&amp;w=389&amp;sz=109&amp;hl=ar&amp;start=8&amp;um=1&amp;itbs=1&amp;tbnid=PHpaY-m7ecX3ZM:&amp;tbnh=123&amp;tbnw=122&amp;prev=/images%3Fq%3DASPERGILLUS%26um%3D1%26hl%3Dar%26safe%3Dactive%26sa%3DX%26rlz%3D1R2RNTN_enSA355%26tbs%3Disch:1"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botany.hawaii.edu/faculty/wong/Bot201/Ascomycota/yeast.jpg" TargetMode="External"/><Relationship Id="rId2" Type="http://schemas.openxmlformats.org/officeDocument/2006/relationships/image" Target="../media/image7.jpeg"/><Relationship Id="rId3" Type="http://schemas.openxmlformats.org/officeDocument/2006/relationships/hyperlink" Target="http://www.botany.hawaii.edu/faculty/wong/Bot201/Ascomycota/Fission.jpg" TargetMode="External"/><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sciencedaily.com/images/2008/05/080523200910-large.jpg" TargetMode="External"/><Relationship Id="rId3" Type="http://schemas.openxmlformats.org/officeDocument/2006/relationships/image" Target="../media/image10.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75f6d"/>
                </a:solidFill>
                <a:latin typeface="Century Schoolbook"/>
              </a:rPr>
              <a:t>الفطريات الاسكية</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0" lang="en-US" sz="3600" spc="-1" strike="noStrike">
              <a:solidFill>
                <a:srgbClr val="575f6d"/>
              </a:solidFill>
              <a:latin typeface="Century Schoolbook"/>
            </a:endParaRPr>
          </a:p>
        </p:txBody>
      </p:sp>
      <p:pic>
        <p:nvPicPr>
          <p:cNvPr id="374" name="Picture 5" descr="ZP591ascusa"/>
          <p:cNvPicPr/>
          <p:nvPr/>
        </p:nvPicPr>
        <p:blipFill>
          <a:blip r:embed="rId1"/>
          <a:stretch/>
        </p:blipFill>
        <p:spPr>
          <a:xfrm>
            <a:off x="826920" y="2997360"/>
            <a:ext cx="2638440" cy="1923840"/>
          </a:xfrm>
          <a:prstGeom prst="rect">
            <a:avLst/>
          </a:prstGeom>
          <a:ln w="0">
            <a:noFill/>
          </a:ln>
        </p:spPr>
      </p:pic>
      <p:pic>
        <p:nvPicPr>
          <p:cNvPr id="375" name="Picture 5" descr="Sexual Reproduction by Roger.Esteban">
            <a:hlinkClick r:id="rId2"/>
          </p:cNvPr>
          <p:cNvPicPr/>
          <p:nvPr/>
        </p:nvPicPr>
        <p:blipFill>
          <a:blip r:embed="rId3"/>
          <a:stretch/>
        </p:blipFill>
        <p:spPr>
          <a:xfrm>
            <a:off x="3924360" y="3068640"/>
            <a:ext cx="4132080" cy="2587680"/>
          </a:xfrm>
          <a:prstGeom prst="rect">
            <a:avLst/>
          </a:prstGeom>
          <a:ln w="0">
            <a:noFill/>
          </a:ln>
        </p:spPr>
      </p:pic>
      <p:sp>
        <p:nvSpPr>
          <p:cNvPr id="376" name="Rectangle 6"/>
          <p:cNvSpPr/>
          <p:nvPr/>
        </p:nvSpPr>
        <p:spPr>
          <a:xfrm>
            <a:off x="2286000" y="765000"/>
            <a:ext cx="4572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تكاثر الجنسي </a:t>
            </a:r>
            <a:r>
              <a:rPr b="0" lang="ar-SA" sz="2400" spc="-1" strike="noStrike">
                <a:solidFill>
                  <a:srgbClr val="000000"/>
                </a:solidFill>
                <a:latin typeface="Arial"/>
              </a:rPr>
              <a:t>يحدث عندما يكون الغذاء قليلا في البيئة او البيئة جافة وهو غير شائع في الخمير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يث تتكون </a:t>
            </a:r>
            <a:r>
              <a:rPr b="0" lang="ar-SA" sz="2400" spc="-1" strike="noStrike">
                <a:solidFill>
                  <a:srgbClr val="000000"/>
                </a:solidFill>
                <a:latin typeface="Arial"/>
              </a:rPr>
              <a:t>4</a:t>
            </a:r>
            <a:r>
              <a:rPr b="0" lang="ar-SA" sz="2400" spc="-1" strike="noStrike">
                <a:solidFill>
                  <a:srgbClr val="000000"/>
                </a:solidFill>
                <a:latin typeface="Arial"/>
              </a:rPr>
              <a:t>او </a:t>
            </a:r>
            <a:r>
              <a:rPr b="0" lang="ar-SA" sz="2400" spc="-1" strike="noStrike">
                <a:solidFill>
                  <a:srgbClr val="000000"/>
                </a:solidFill>
                <a:latin typeface="Arial"/>
              </a:rPr>
              <a:t>8</a:t>
            </a:r>
            <a:r>
              <a:rPr b="0" lang="ar-SA" sz="2400" spc="-1" strike="noStrike">
                <a:solidFill>
                  <a:srgbClr val="000000"/>
                </a:solidFill>
                <a:latin typeface="Arial"/>
              </a:rPr>
              <a:t> جراثيم اسكية داخل اكياس اسكية بيضية الشك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78" name=""/>
          <p:cNvSpPr txBox="1"/>
          <p:nvPr/>
        </p:nvSpPr>
        <p:spPr>
          <a:xfrm>
            <a:off x="468360" y="1628640"/>
            <a:ext cx="8229600" cy="45259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Endomycetales</a:t>
            </a:r>
            <a:r>
              <a:rPr b="0" lang="en-US" sz="2400" spc="-1" strike="noStrike">
                <a:solidFill>
                  <a:srgbClr val="ff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9" name="Rectangle 4"/>
          <p:cNvSpPr/>
          <p:nvPr/>
        </p:nvSpPr>
        <p:spPr>
          <a:xfrm>
            <a:off x="3164040" y="3614040"/>
            <a:ext cx="4262040" cy="1312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Arial"/>
              </a:rPr>
              <a:t>Family: Endomycetaceae</a:t>
            </a:r>
            <a:r>
              <a:rPr b="0"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eotrichum </a:t>
            </a:r>
            <a:r>
              <a:rPr b="1" lang="ar-SA" sz="2800" spc="-1" strike="noStrike">
                <a:solidFill>
                  <a:srgbClr val="000000"/>
                </a:solidFill>
                <a:latin typeface="Arial"/>
              </a:rPr>
              <a:t>: </a:t>
            </a:r>
            <a:r>
              <a:rPr b="1" lang="en-US" sz="2800" spc="-1" strike="noStrike">
                <a:solidFill>
                  <a:srgbClr val="000000"/>
                </a:solidFill>
                <a:latin typeface="Arial"/>
              </a:rPr>
              <a:t>Gen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تكون من خيوط مقسمة شفافة تتكاثر لاجنسيا بتكوين جراثيم مفصلية .</a:t>
            </a:r>
            <a:endParaRPr b="0" lang="en-US" sz="2400" spc="-1" strike="noStrike">
              <a:solidFill>
                <a:srgbClr val="000000"/>
              </a:solidFill>
              <a:latin typeface="Century Schoolbook"/>
            </a:endParaRPr>
          </a:p>
        </p:txBody>
      </p:sp>
      <p:pic>
        <p:nvPicPr>
          <p:cNvPr id="382" name="Picture 4" descr="Geotrichum_candidum_colony"/>
          <p:cNvPicPr/>
          <p:nvPr/>
        </p:nvPicPr>
        <p:blipFill>
          <a:blip r:embed="rId1"/>
          <a:stretch/>
        </p:blipFill>
        <p:spPr>
          <a:xfrm>
            <a:off x="4788000" y="2781360"/>
            <a:ext cx="2973240" cy="2911320"/>
          </a:xfrm>
          <a:prstGeom prst="rect">
            <a:avLst/>
          </a:prstGeom>
          <a:ln w="0">
            <a:noFill/>
          </a:ln>
        </p:spPr>
      </p:pic>
      <p:pic>
        <p:nvPicPr>
          <p:cNvPr id="383" name="Picture 7" descr="geotrichum"/>
          <p:cNvPicPr/>
          <p:nvPr/>
        </p:nvPicPr>
        <p:blipFill>
          <a:blip r:embed="rId2"/>
          <a:stretch/>
        </p:blipFill>
        <p:spPr>
          <a:xfrm>
            <a:off x="611280" y="2708280"/>
            <a:ext cx="3600360" cy="26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85" name="Picture 6" descr="4444329_image002"/>
          <p:cNvPicPr/>
          <p:nvPr/>
        </p:nvPicPr>
        <p:blipFill>
          <a:blip r:embed="rId1"/>
          <a:stretch/>
        </p:blipFill>
        <p:spPr>
          <a:xfrm>
            <a:off x="5003640" y="1484280"/>
            <a:ext cx="3311640" cy="2608200"/>
          </a:xfrm>
          <a:prstGeom prst="rect">
            <a:avLst/>
          </a:prstGeom>
          <a:ln w="0">
            <a:noFill/>
          </a:ln>
        </p:spPr>
      </p:pic>
      <p:pic>
        <p:nvPicPr>
          <p:cNvPr id="386" name="Picture 5" descr="geo1_l"/>
          <p:cNvPicPr/>
          <p:nvPr/>
        </p:nvPicPr>
        <p:blipFill>
          <a:blip r:embed="rId2"/>
          <a:stretch/>
        </p:blipFill>
        <p:spPr>
          <a:xfrm>
            <a:off x="395280" y="1268280"/>
            <a:ext cx="4381560" cy="330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575f6d"/>
              </a:solidFill>
              <a:latin typeface="Century Schoolbook"/>
            </a:endParaRPr>
          </a:p>
        </p:txBody>
      </p:sp>
      <p:sp>
        <p:nvSpPr>
          <p:cNvPr id="388" name=""/>
          <p:cNvSpPr txBox="1"/>
          <p:nvPr/>
        </p:nvSpPr>
        <p:spPr>
          <a:xfrm>
            <a:off x="684000" y="155736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Taphrinales</a:t>
            </a:r>
            <a:r>
              <a:rPr b="0" lang="en-US" sz="2400" spc="-1" strike="noStrike">
                <a:solidFill>
                  <a:srgbClr val="ff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mily:Taphrinac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Taphrin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0" name=""/>
          <p:cNvSpPr txBox="1"/>
          <p:nvPr/>
        </p:nvSpPr>
        <p:spPr>
          <a:xfrm>
            <a:off x="456840" y="692280"/>
            <a:ext cx="7467480" cy="5781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800" spc="-1" strike="noStrike">
                <a:solidFill>
                  <a:srgbClr val="000000"/>
                </a:solidFill>
                <a:latin typeface="Century Schoolbook"/>
              </a:rPr>
              <a:t>فطر متطفل على النبتات الزهرية مسببة لها امراض مثل مرض تجعد اوراق الخوخ المتسبب عن تافرينا ديفورمانز.</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rPr>
              <a:t>التكاثر اللاجنسي بتبرعم الجراثيم الاسكية اما وهي داخل الاكياس الاسكية او بعد تحريرها منها منتجة جراثيم برعمية صغيرة بيضية او مستديرة الشكل .</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2" name=""/>
          <p:cNvSpPr txBox="1"/>
          <p:nvPr/>
        </p:nvSpPr>
        <p:spPr>
          <a:xfrm>
            <a:off x="456840" y="836280"/>
            <a:ext cx="7467480" cy="56372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rPr>
              <a:t>التكاثر الجنسي بتكوين </a:t>
            </a:r>
            <a:r>
              <a:rPr b="0" lang="ar-SA" sz="2800" spc="-1" strike="noStrike">
                <a:solidFill>
                  <a:srgbClr val="000000"/>
                </a:solidFill>
                <a:latin typeface="Century Schoolbook"/>
              </a:rPr>
              <a:t>8</a:t>
            </a:r>
            <a:r>
              <a:rPr b="0" lang="ar-SA" sz="2800" spc="-1" strike="noStrike">
                <a:solidFill>
                  <a:srgbClr val="000000"/>
                </a:solidFill>
                <a:latin typeface="Century Schoolbook"/>
              </a:rPr>
              <a:t> جراثيم اسكية داخل اكياس اسكية عارية حيث ان الفطريات الاسكية الاولية لاتكون اجسام ثمرية. </a:t>
            </a:r>
            <a:endParaRPr b="0" lang="en-US" sz="2800" spc="-1" strike="noStrike">
              <a:solidFill>
                <a:srgbClr val="000000"/>
              </a:solidFill>
              <a:latin typeface="Century Schoolbook"/>
            </a:endParaRPr>
          </a:p>
        </p:txBody>
      </p:sp>
      <p:pic>
        <p:nvPicPr>
          <p:cNvPr id="393" name="Picture 5" descr="TAPHRINA"/>
          <p:cNvPicPr/>
          <p:nvPr/>
        </p:nvPicPr>
        <p:blipFill>
          <a:blip r:embed="rId1"/>
          <a:stretch/>
        </p:blipFill>
        <p:spPr>
          <a:xfrm>
            <a:off x="5364000" y="3141720"/>
            <a:ext cx="2714760" cy="1800000"/>
          </a:xfrm>
          <a:prstGeom prst="rect">
            <a:avLst/>
          </a:prstGeom>
          <a:ln w="0">
            <a:noFill/>
          </a:ln>
        </p:spPr>
      </p:pic>
      <p:pic>
        <p:nvPicPr>
          <p:cNvPr id="394" name="Picture 9" descr="taph1a"/>
          <p:cNvPicPr/>
          <p:nvPr/>
        </p:nvPicPr>
        <p:blipFill>
          <a:blip r:embed="rId2"/>
          <a:stretch/>
        </p:blipFill>
        <p:spPr>
          <a:xfrm>
            <a:off x="324000" y="2400480"/>
            <a:ext cx="512424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96" name="Picture 5" descr="4_Taphrina_deformans2"/>
          <p:cNvPicPr/>
          <p:nvPr/>
        </p:nvPicPr>
        <p:blipFill>
          <a:blip r:embed="rId1"/>
          <a:stretch/>
        </p:blipFill>
        <p:spPr>
          <a:xfrm>
            <a:off x="2987640" y="1341360"/>
            <a:ext cx="2857680" cy="41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Plect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Aspergillal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mily:Aspergillac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Aspergillus               </a:t>
            </a:r>
            <a:r>
              <a:rPr b="0" lang="ar-SA" sz="2400" spc="-1" strike="noStrike">
                <a:solidFill>
                  <a:srgbClr val="000000"/>
                </a:solidFill>
                <a:latin typeface="Century Schoolbook"/>
              </a:rPr>
              <a:t>1</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يعد الطور الكونيدي للاسبرجلس من اوسع الفطريات انتشارا في الطبيعة حيث توجد في التربة والهواء وينمو على اي وسط غذائي غير حي .وعلى جميع البقايا النباتية والحيوانية الرطبة وعلى الفواكة والخضروات واللحوم مسببة تعفنها.</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غزل الفطري متفرع ومقسم الى خلايا ويختلف لون الغزل الفطري باختلاف الانواع فمنة الابيض والاخضر والاسود والاصفر.</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tretch/>
        </p:blipFill>
        <p:spPr>
          <a:xfrm>
            <a:off x="539640" y="549360"/>
            <a:ext cx="7632720" cy="583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02" name="Picture 5" descr="aspergillus12">
            <a:hlinkClick r:id="rId1"/>
          </p:cNvPr>
          <p:cNvPicPr/>
          <p:nvPr/>
        </p:nvPicPr>
        <p:blipFill>
          <a:blip r:embed="rId2"/>
          <a:stretch/>
        </p:blipFill>
        <p:spPr>
          <a:xfrm>
            <a:off x="5292720" y="1052640"/>
            <a:ext cx="2414520" cy="2433600"/>
          </a:xfrm>
          <a:prstGeom prst="rect">
            <a:avLst/>
          </a:prstGeom>
          <a:ln w="0">
            <a:noFill/>
          </a:ln>
        </p:spPr>
      </p:pic>
      <p:pic>
        <p:nvPicPr>
          <p:cNvPr id="403" name="Picture 7" descr="Aspergillus_fumigatus"/>
          <p:cNvPicPr/>
          <p:nvPr/>
        </p:nvPicPr>
        <p:blipFill>
          <a:blip r:embed="rId3"/>
          <a:stretch/>
        </p:blipFill>
        <p:spPr>
          <a:xfrm>
            <a:off x="1763640" y="1052640"/>
            <a:ext cx="2292480" cy="2168280"/>
          </a:xfrm>
          <a:prstGeom prst="rect">
            <a:avLst/>
          </a:prstGeom>
          <a:ln w="0">
            <a:noFill/>
          </a:ln>
        </p:spPr>
      </p:pic>
      <p:pic>
        <p:nvPicPr>
          <p:cNvPr id="404" name="Picture 9" descr="مشاهدة الصورة بالحجم الكامل"/>
          <p:cNvPicPr/>
          <p:nvPr/>
        </p:nvPicPr>
        <p:blipFill>
          <a:blip r:embed="rId4"/>
          <a:stretch/>
        </p:blipFill>
        <p:spPr>
          <a:xfrm>
            <a:off x="5435640" y="4005360"/>
            <a:ext cx="2195640" cy="2168280"/>
          </a:xfrm>
          <a:prstGeom prst="rect">
            <a:avLst/>
          </a:prstGeom>
          <a:ln w="0">
            <a:noFill/>
          </a:ln>
        </p:spPr>
      </p:pic>
      <p:pic>
        <p:nvPicPr>
          <p:cNvPr id="405" name="Picture 11" descr="Aspergillus%20niger%20culture"/>
          <p:cNvPicPr/>
          <p:nvPr/>
        </p:nvPicPr>
        <p:blipFill>
          <a:blip r:embed="rId5"/>
          <a:stretch/>
        </p:blipFill>
        <p:spPr>
          <a:xfrm>
            <a:off x="1619280" y="4076640"/>
            <a:ext cx="2381400" cy="21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07" name=""/>
          <p:cNvSpPr txBox="1"/>
          <p:nvPr/>
        </p:nvSpPr>
        <p:spPr>
          <a:xfrm>
            <a:off x="456840" y="476280"/>
            <a:ext cx="7467480" cy="5997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 </a:t>
            </a:r>
            <a:r>
              <a:rPr b="0" lang="ar-SA" sz="2400" spc="-1" strike="noStrike">
                <a:solidFill>
                  <a:srgbClr val="000000"/>
                </a:solidFill>
                <a:latin typeface="Century Schoolbook"/>
              </a:rPr>
              <a:t>:يخرج من الخيوط الفطرية فروع مستقيمة غير متفرعة وغير مقسمة تسمى الحوامل الكونيدية تنتفخ نهاية كل حامل على شكل رأس مستديرة تسمى الحوصلة الكونيدية ينبثق منها ذنيبات في طبقة او طبقتان حسب نوع الفطر.كل ذنيب يحمل سلسة من الابواغ الكونيدية تنتظم في تعاقب قمي اي ان اللجراثيم المسنة تكون بعيدة عن الذنيب والحديثة قريبة منة.والكونيدات كروية وحيدة الخلية متخشنة الجدارمن الخارج.</a:t>
            </a:r>
            <a:endParaRPr b="0" lang="en-US" sz="2400" spc="-1" strike="noStrike">
              <a:solidFill>
                <a:srgbClr val="000000"/>
              </a:solidFill>
              <a:latin typeface="Century Schoolbook"/>
            </a:endParaRPr>
          </a:p>
        </p:txBody>
      </p:sp>
      <p:pic>
        <p:nvPicPr>
          <p:cNvPr id="408" name="Picture 7" descr="aspergillus_1"/>
          <p:cNvPicPr/>
          <p:nvPr/>
        </p:nvPicPr>
        <p:blipFill>
          <a:blip r:embed="rId1"/>
          <a:stretch/>
        </p:blipFill>
        <p:spPr>
          <a:xfrm>
            <a:off x="5076720" y="3429000"/>
            <a:ext cx="2857680" cy="2857680"/>
          </a:xfrm>
          <a:prstGeom prst="rect">
            <a:avLst/>
          </a:prstGeom>
          <a:ln w="0">
            <a:noFill/>
          </a:ln>
        </p:spPr>
      </p:pic>
      <p:pic>
        <p:nvPicPr>
          <p:cNvPr id="409" name="Picture 5" descr="Aspergillus"/>
          <p:cNvPicPr/>
          <p:nvPr/>
        </p:nvPicPr>
        <p:blipFill>
          <a:blip r:embed="rId2"/>
          <a:stretch/>
        </p:blipFill>
        <p:spPr>
          <a:xfrm>
            <a:off x="2050920" y="3789360"/>
            <a:ext cx="2171880" cy="218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11" name="Picture 5" descr="64440237"/>
          <p:cNvPicPr/>
          <p:nvPr/>
        </p:nvPicPr>
        <p:blipFill>
          <a:blip r:embed="rId1"/>
          <a:stretch/>
        </p:blipFill>
        <p:spPr>
          <a:xfrm>
            <a:off x="2771640" y="1197000"/>
            <a:ext cx="3533760" cy="4535640"/>
          </a:xfrm>
          <a:prstGeom prst="rect">
            <a:avLst/>
          </a:prstGeom>
          <a:ln w="0">
            <a:noFill/>
          </a:ln>
        </p:spPr>
      </p:pic>
      <p:sp>
        <p:nvSpPr>
          <p:cNvPr id="412" name="Rectangle 7"/>
          <p:cNvSpPr/>
          <p:nvPr/>
        </p:nvSpPr>
        <p:spPr>
          <a:xfrm>
            <a:off x="5088240" y="1772640"/>
            <a:ext cx="1055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راثيم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ونيدية</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14" name=""/>
          <p:cNvSpPr txBox="1"/>
          <p:nvPr/>
        </p:nvSpPr>
        <p:spPr>
          <a:xfrm>
            <a:off x="456840" y="333000"/>
            <a:ext cx="7467480" cy="61405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جنسي</a:t>
            </a:r>
            <a:r>
              <a:rPr b="0" lang="ar-SA" sz="2400" spc="-1" strike="noStrike">
                <a:solidFill>
                  <a:srgbClr val="000000"/>
                </a:solidFill>
                <a:latin typeface="Century Schoolbook"/>
              </a:rPr>
              <a:t>:توجد الاكياس الاسكية(كروية اوبيضية الشكل) بشكل مبعثر داخل الثمرة الاسكية الكروية المغلقة وكل كيس اسكي يحوي </a:t>
            </a:r>
            <a:r>
              <a:rPr b="0" lang="ar-SA" sz="2400" spc="-1" strike="noStrike">
                <a:solidFill>
                  <a:srgbClr val="000000"/>
                </a:solidFill>
                <a:latin typeface="Century Schoolbook"/>
              </a:rPr>
              <a:t>8</a:t>
            </a:r>
            <a:r>
              <a:rPr b="0" lang="ar-SA" sz="2400" spc="-1" strike="noStrike">
                <a:solidFill>
                  <a:srgbClr val="000000"/>
                </a:solidFill>
                <a:latin typeface="Century Schoolbook"/>
              </a:rPr>
              <a:t> جراثيم اسكية تبدو في المنظر الجانبي على شكل عجلة وفي المنظر الامامي مستديرة او نجمية.</a:t>
            </a:r>
            <a:endParaRPr b="0" lang="en-US" sz="2400" spc="-1" strike="noStrike">
              <a:solidFill>
                <a:srgbClr val="000000"/>
              </a:solidFill>
              <a:latin typeface="Century Schoolbook"/>
            </a:endParaRPr>
          </a:p>
        </p:txBody>
      </p:sp>
      <p:pic>
        <p:nvPicPr>
          <p:cNvPr id="415" name="Picture 6" descr="nature07528-f2"/>
          <p:cNvPicPr/>
          <p:nvPr/>
        </p:nvPicPr>
        <p:blipFill>
          <a:blip r:embed="rId1"/>
          <a:stretch/>
        </p:blipFill>
        <p:spPr>
          <a:xfrm>
            <a:off x="1116000" y="1746360"/>
            <a:ext cx="3386160" cy="51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17" name="Picture 5" descr="m140-5 Eurodium Sexual phase of Aspergillus spp. Asci and ascospores.jpg"/>
          <p:cNvPicPr/>
          <p:nvPr/>
        </p:nvPicPr>
        <p:blipFill>
          <a:blip r:embed="rId1"/>
          <a:stretch/>
        </p:blipFill>
        <p:spPr>
          <a:xfrm>
            <a:off x="2050920" y="2060640"/>
            <a:ext cx="4762800" cy="310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Penicillium</a:t>
            </a:r>
            <a:r>
              <a:rPr b="0" lang="ar-SA" sz="2400" spc="-1" strike="noStrike">
                <a:solidFill>
                  <a:srgbClr val="000000"/>
                </a:solidFill>
                <a:latin typeface="Century Schoolbook"/>
              </a:rPr>
              <a:t>2</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د الطور الكونيدي من اكثر الفطريات انتشارا في الطبيعة فهو مترمم في كل مكان ينمو على كثير من المواد الغذائية مثل الخبر الجبن والليمون  والفواكة والخضرووات وغيرها.مسببة عفنا اخضر او ازرق</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خيوط الفطرية متفرعو ومتشابكة ومقسمة ملونة او غير ملونة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21" name=""/>
          <p:cNvSpPr txBox="1"/>
          <p:nvPr/>
        </p:nvSpPr>
        <p:spPr>
          <a:xfrm>
            <a:off x="456840" y="476280"/>
            <a:ext cx="7467480" cy="27367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a:t>
            </a:r>
            <a:r>
              <a:rPr b="0" lang="ar-SA" sz="2400" spc="-1" strike="noStrike">
                <a:solidFill>
                  <a:srgbClr val="000000"/>
                </a:solidFill>
                <a:latin typeface="Century Schoolbook"/>
              </a:rPr>
              <a:t>الحوامل الكونيدية مقسمة بجدر مستعرضة ومتفرعة الى عدة افرع تسمى ميتيولات وكل ميتيولا الى عدة افرع قصيرة دورقية تسمى فياليدات او ذنيبات كل ذنيب ينتهي بسلسة من الكونيدات( كروية او بيضية الشكل وتشبة حبات الزجاج تحت المجهر ) التي تترتب في تعاقب قمي ويشبة الحامل الكونيدي المكنسة.</a:t>
            </a:r>
            <a:endParaRPr b="0" lang="en-US" sz="2400" spc="-1" strike="noStrike">
              <a:solidFill>
                <a:srgbClr val="000000"/>
              </a:solidFill>
              <a:latin typeface="Century Schoolbook"/>
            </a:endParaRPr>
          </a:p>
        </p:txBody>
      </p:sp>
      <p:pic>
        <p:nvPicPr>
          <p:cNvPr id="422" name="Picture 5" descr="60059835"/>
          <p:cNvPicPr/>
          <p:nvPr/>
        </p:nvPicPr>
        <p:blipFill>
          <a:blip r:embed="rId1"/>
          <a:stretch/>
        </p:blipFill>
        <p:spPr>
          <a:xfrm>
            <a:off x="539640" y="1989000"/>
            <a:ext cx="3246480" cy="4395960"/>
          </a:xfrm>
          <a:prstGeom prst="rect">
            <a:avLst/>
          </a:prstGeom>
          <a:ln w="0">
            <a:noFill/>
          </a:ln>
        </p:spPr>
      </p:pic>
      <p:pic>
        <p:nvPicPr>
          <p:cNvPr id="423" name="Picture 5" descr="Penicillium conrdiophores tjv"/>
          <p:cNvPicPr/>
          <p:nvPr/>
        </p:nvPicPr>
        <p:blipFill>
          <a:blip r:embed="rId2"/>
          <a:stretch/>
        </p:blipFill>
        <p:spPr>
          <a:xfrm>
            <a:off x="3995640" y="2924280"/>
            <a:ext cx="4032360" cy="306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25"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جنسي </a:t>
            </a:r>
            <a:r>
              <a:rPr b="0" lang="ar-SA" sz="2400" spc="-1" strike="noStrike">
                <a:solidFill>
                  <a:srgbClr val="000000"/>
                </a:solidFill>
                <a:latin typeface="Century Schoolbook"/>
              </a:rPr>
              <a:t>:شبية بالاسبرجلس</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457200" y="836640"/>
            <a:ext cx="7467480" cy="50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igdom:Mycet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vision:Amastigomycot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56" name="Rectangle 4"/>
          <p:cNvSpPr/>
          <p:nvPr/>
        </p:nvSpPr>
        <p:spPr>
          <a:xfrm>
            <a:off x="3204720" y="2924280"/>
            <a:ext cx="4091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division:Ascomycot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755640" y="907920"/>
            <a:ext cx="7488360" cy="50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620640"/>
            <a:ext cx="47880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وتقسم الأجسام الثمرية إلى ثلاثة أنواع</a:t>
            </a:r>
            <a:r>
              <a:rPr b="1"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أجسام ثمرية مغلقة </a:t>
            </a:r>
            <a:r>
              <a:rPr b="0" lang="en-US" sz="2400" spc="-1" strike="noStrike">
                <a:solidFill>
                  <a:srgbClr val="000000"/>
                </a:solidFill>
                <a:latin typeface="Arial"/>
              </a:rPr>
              <a:t>Cleistothecia</a:t>
            </a:r>
            <a:r>
              <a:rPr b="0" lang="ar-SA" sz="2400" spc="-1" strike="noStrike">
                <a:solidFill>
                  <a:srgbClr val="000000"/>
                </a:solidFill>
                <a:latin typeface="Arial"/>
              </a:rPr>
              <a:t> : وهى كروية الشكل عادة وتحتوى على أكياس أسكية مبعثرة بدون انتظام فيما عدا فطريات البياض الدقيقي حيث تكون الأكياس متواز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9" name="Picture 12" descr="Diagram of a cleistothecium."/>
          <p:cNvPicPr/>
          <p:nvPr/>
        </p:nvPicPr>
        <p:blipFill>
          <a:blip r:embed="rId1"/>
          <a:stretch/>
        </p:blipFill>
        <p:spPr>
          <a:xfrm>
            <a:off x="4788000" y="333360"/>
            <a:ext cx="4800600" cy="2057400"/>
          </a:xfrm>
          <a:prstGeom prst="rect">
            <a:avLst/>
          </a:prstGeom>
          <a:ln w="0">
            <a:noFill/>
          </a:ln>
        </p:spPr>
      </p:pic>
      <p:sp>
        <p:nvSpPr>
          <p:cNvPr id="360" name="Rectangle 5"/>
          <p:cNvSpPr/>
          <p:nvPr/>
        </p:nvSpPr>
        <p:spPr>
          <a:xfrm>
            <a:off x="0" y="2852640"/>
            <a:ext cx="48592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r>
              <a:rPr b="0" lang="ar-SA" sz="1800" spc="-1" strike="noStrike">
                <a:solidFill>
                  <a:srgbClr val="000000"/>
                </a:solidFill>
                <a:latin typeface="Arial"/>
              </a:rPr>
              <a:t>- أجسام ثمرية دورقيه  </a:t>
            </a:r>
            <a:r>
              <a:rPr b="0" lang="en-US" sz="1800" spc="-1" strike="noStrike">
                <a:solidFill>
                  <a:srgbClr val="000000"/>
                </a:solidFill>
                <a:latin typeface="Arial"/>
              </a:rPr>
              <a:t>Perithecia</a:t>
            </a:r>
            <a:r>
              <a:rPr b="0" lang="ar-SA" sz="1800" spc="-1" strike="noStrike">
                <a:solidFill>
                  <a:srgbClr val="000000"/>
                </a:solidFill>
                <a:latin typeface="Arial"/>
              </a:rPr>
              <a:t> : وهى دورقيه أو كمثرية الشكل وتفتح عند النضج بفتحة علوية ضيقة ، وتحتوى على أكياس أسكية مرتبة بانتظام ومتوازية</a:t>
            </a:r>
            <a:endParaRPr b="0" lang="en-US" sz="1800" spc="-1" strike="noStrike">
              <a:solidFill>
                <a:srgbClr val="000000"/>
              </a:solidFill>
              <a:latin typeface="Arial"/>
            </a:endParaRPr>
          </a:p>
        </p:txBody>
      </p:sp>
      <p:pic>
        <p:nvPicPr>
          <p:cNvPr id="361" name="Picture 4" descr="Diagram illustrating a perithecium."/>
          <p:cNvPicPr/>
          <p:nvPr/>
        </p:nvPicPr>
        <p:blipFill>
          <a:blip r:embed="rId2"/>
          <a:stretch/>
        </p:blipFill>
        <p:spPr>
          <a:xfrm>
            <a:off x="4716360" y="2133720"/>
            <a:ext cx="4800600" cy="2857320"/>
          </a:xfrm>
          <a:prstGeom prst="rect">
            <a:avLst/>
          </a:prstGeom>
          <a:ln w="0">
            <a:noFill/>
          </a:ln>
        </p:spPr>
      </p:pic>
      <p:sp>
        <p:nvSpPr>
          <p:cNvPr id="362" name="Rectangle 7"/>
          <p:cNvSpPr/>
          <p:nvPr/>
        </p:nvSpPr>
        <p:spPr>
          <a:xfrm flipV="1" rot="10800000">
            <a:off x="-360" y="4167000"/>
            <a:ext cx="4716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a:t>
            </a:r>
            <a:r>
              <a:rPr b="0" lang="ar-SA" sz="1800" spc="-1" strike="noStrike">
                <a:solidFill>
                  <a:srgbClr val="000000"/>
                </a:solidFill>
                <a:latin typeface="Arial"/>
              </a:rPr>
              <a:t>- أجسام ثمرية طبقية </a:t>
            </a:r>
            <a:r>
              <a:rPr b="0" i="1" lang="ar-SA" sz="1800" spc="-1" strike="noStrike">
                <a:solidFill>
                  <a:srgbClr val="000000"/>
                </a:solidFill>
                <a:latin typeface="Arial"/>
              </a:rPr>
              <a:t> </a:t>
            </a:r>
            <a:r>
              <a:rPr b="0" lang="en-US" sz="1800" spc="-1" strike="noStrike">
                <a:solidFill>
                  <a:srgbClr val="000000"/>
                </a:solidFill>
                <a:latin typeface="Arial"/>
              </a:rPr>
              <a:t>Apothecia</a:t>
            </a:r>
            <a:r>
              <a:rPr b="0" lang="ar-SA" sz="1800" spc="-1" strike="noStrike">
                <a:solidFill>
                  <a:srgbClr val="000000"/>
                </a:solidFill>
                <a:latin typeface="Arial"/>
              </a:rPr>
              <a:t> : وهى ذات شكل طبقي أو فنجالي وتحتوى على أكيـاس أسكية مرتبة بانتظام وموازية لبعضها على سطح الثمرة الأسكية ويختلط بها هيفات عقيمة</a:t>
            </a:r>
            <a:endParaRPr b="0" lang="en-US" sz="1800" spc="-1" strike="noStrike">
              <a:solidFill>
                <a:srgbClr val="000000"/>
              </a:solidFill>
              <a:latin typeface="Arial"/>
            </a:endParaRPr>
          </a:p>
        </p:txBody>
      </p:sp>
      <p:pic>
        <p:nvPicPr>
          <p:cNvPr id="363" name="Picture 6" descr="Diagram illustrating an apothecium."/>
          <p:cNvPicPr/>
          <p:nvPr/>
        </p:nvPicPr>
        <p:blipFill>
          <a:blip r:embed="rId3"/>
          <a:stretch/>
        </p:blipFill>
        <p:spPr>
          <a:xfrm>
            <a:off x="4716360" y="4365720"/>
            <a:ext cx="480060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65" name=""/>
          <p:cNvSpPr txBox="1"/>
          <p:nvPr/>
        </p:nvSpPr>
        <p:spPr>
          <a:xfrm>
            <a:off x="324000" y="1052640"/>
            <a:ext cx="8229600" cy="45259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Endomycetal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Family:Sacaromycetace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Genus:Saccharomyc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575f6d"/>
              </a:solidFill>
              <a:latin typeface="Century Schoolbook"/>
            </a:endParaRPr>
          </a:p>
        </p:txBody>
      </p:sp>
      <p:sp>
        <p:nvSpPr>
          <p:cNvPr id="367" name=""/>
          <p:cNvSpPr txBox="1"/>
          <p:nvPr/>
        </p:nvSpPr>
        <p:spPr>
          <a:xfrm>
            <a:off x="456840" y="836280"/>
            <a:ext cx="7467480" cy="56372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يش مترمم على الاطعمة ورحيق الازهار والاوراق والثمار ويوجد متكافل او متطفل على الحيوانات والحشرات.</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فطر يتكون من خلايا فردية مستديرة او بيضية الشكل.واحيانا تتصل خلايا الخميرة ببعضها وتكون سلاسل تسمى بالغزل الفطري الكاذب.</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 </a:t>
            </a:r>
            <a:r>
              <a:rPr b="0" lang="ar-SA" sz="2400" spc="-1" strike="noStrike">
                <a:solidFill>
                  <a:srgbClr val="000000"/>
                </a:solidFill>
                <a:latin typeface="Century Schoolbook"/>
              </a:rPr>
              <a:t>بالتبرعم وتكوين ابواغ داخلية والانقسام المستعرض .</a:t>
            </a:r>
            <a:endParaRPr b="0" lang="en-US" sz="2400" spc="-1" strike="noStrike">
              <a:solidFill>
                <a:srgbClr val="000000"/>
              </a:solidFill>
              <a:latin typeface="Century Schoolbook"/>
            </a:endParaRPr>
          </a:p>
        </p:txBody>
      </p:sp>
      <p:pic>
        <p:nvPicPr>
          <p:cNvPr id="368" name="Picture 5" descr="yeast-t.JPG (11510 bytes)">
            <a:hlinkClick r:id="rId1"/>
          </p:cNvPr>
          <p:cNvPicPr/>
          <p:nvPr/>
        </p:nvPicPr>
        <p:blipFill>
          <a:blip r:embed="rId2"/>
          <a:stretch/>
        </p:blipFill>
        <p:spPr>
          <a:xfrm>
            <a:off x="5580000" y="3357720"/>
            <a:ext cx="2724120" cy="2201760"/>
          </a:xfrm>
          <a:prstGeom prst="rect">
            <a:avLst/>
          </a:prstGeom>
          <a:ln w="0">
            <a:noFill/>
          </a:ln>
        </p:spPr>
      </p:pic>
      <p:pic>
        <p:nvPicPr>
          <p:cNvPr id="369" name="Picture 7" descr="Fission-t.jpg (11293 bytes)">
            <a:hlinkClick r:id="rId3"/>
          </p:cNvPr>
          <p:cNvPicPr/>
          <p:nvPr/>
        </p:nvPicPr>
        <p:blipFill>
          <a:blip r:embed="rId4"/>
          <a:stretch/>
        </p:blipFill>
        <p:spPr>
          <a:xfrm>
            <a:off x="1619280" y="3429000"/>
            <a:ext cx="2576520" cy="210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71" name="Picture 5" descr="yeast_cells"/>
          <p:cNvPicPr/>
          <p:nvPr/>
        </p:nvPicPr>
        <p:blipFill>
          <a:blip r:embed="rId1"/>
          <a:stretch/>
        </p:blipFill>
        <p:spPr>
          <a:xfrm>
            <a:off x="4211640" y="549360"/>
            <a:ext cx="4249800" cy="3187440"/>
          </a:xfrm>
          <a:prstGeom prst="rect">
            <a:avLst/>
          </a:prstGeom>
          <a:ln w="0">
            <a:noFill/>
          </a:ln>
        </p:spPr>
      </p:pic>
      <p:pic>
        <p:nvPicPr>
          <p:cNvPr id="372" name="Picture 7" descr="080523200910">
            <a:hlinkClick r:id="rId2"/>
          </p:cNvPr>
          <p:cNvPicPr/>
          <p:nvPr/>
        </p:nvPicPr>
        <p:blipFill>
          <a:blip r:embed="rId3"/>
          <a:stretch/>
        </p:blipFill>
        <p:spPr>
          <a:xfrm>
            <a:off x="1187280" y="692280"/>
            <a:ext cx="2857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3:29:16Z</dcterms:created>
  <dc:creator>User</dc:creator>
  <dc:description/>
  <dc:language>en-US</dc:language>
  <cp:lastModifiedBy>user</cp:lastModifiedBy>
  <dcterms:modified xsi:type="dcterms:W3CDTF">2015-03-15T04:30:57Z</dcterms:modified>
  <cp:revision>13</cp:revision>
  <dc:subject/>
  <dc:title>الفطريات الاسكية</dc:title>
</cp:coreProperties>
</file>