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71D09-F50C-4B5A-8F1A-5D1DF30FC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B2D6D-2382-472D-AC93-0F06CAB00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2C72B-2BE4-4CB9-B94F-D93CA7C2D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CEB41-FA53-4220-8A5E-C1DB0D8A2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12498-1D8C-4A8D-8458-F8D3E45A0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4385B-AB96-4469-A6F3-B3BBCBB0C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50C73-8C51-45DC-9ADB-70338B6BB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CE0B1-A9A4-4C2B-B308-08A52E876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6E651-4883-493B-91B4-3A8898A32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0BE76-474E-4702-AD3D-E08C4A37E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C74DE-4AB7-4A21-951F-41289AB75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8DE13-94D8-4866-80FC-CFC706524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1292B-35FC-4AAC-80B0-1EDE7DC56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74002-7F51-4688-8A72-0A52F0A60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CA93F-D61C-4282-8A47-7992095FB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C4E7D-AF25-471D-9ED6-90B43F7A22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8DB109-5A28-422B-B531-DF4E55D37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CC36CB-5FDA-42A9-B2B2-5553C9D9FD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323BE3-136B-4EF3-A0A0-84F2A631EC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43A578-F1AB-425C-B300-7AC34B033C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648673-F7E4-4C42-BBBC-F415717AB1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584A37-B1C0-4B77-824C-54D7F43A73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0A195-F983-4FFE-8A9E-B74B833E4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0537EB-8E0A-4911-A9A5-25FFD6F25B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917933-BB98-4721-A081-499E698A2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90A0F1-4F44-4EAF-B107-4F1CDC2DF6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5D7B5-76E5-4B92-ADBD-20A4CC127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817A61-05A3-4661-91FC-2283AE30F3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4AFEF9-7A67-4A2F-9F4A-C85397FEEC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133ADC-20E4-4679-896D-8CEA99B833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3A75C5-C172-4FCB-93BF-BCF14C4A72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769090-AE6B-48B6-8971-418DD1B036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1C253C-0C8E-4499-BF7C-0ADC41FF8D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F3FE0-3A55-4B1F-AE32-8EDB2F0BB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C2C8C9-E402-43FC-8106-767CA6087F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6C3DFB-251D-4A01-8D5E-2C0A4E5CEC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31A61A-F9F1-4C73-B782-733BE961C4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60B2DB-0873-43A7-BAAD-8BAB63CEA8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50D9C-267F-45F5-90AC-4FFD1F2207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F7B1F-8B87-42C2-9093-112535248B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20FF95-5155-4568-B701-D6A495F9ED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E09813-204E-4C39-A8F8-FB31F06304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23828E-AF45-4ACF-9E90-A33F8F0A06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6E7DED-0F6C-4CE4-A962-CA1B25434D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D5BF2-19EB-4828-813A-F809A3DBA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DBE0B9-51A0-4123-8EE4-146D8B9B44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665FD1-8290-4A5C-B5E8-8D1820E0B3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887277-5F5D-41CE-B6EB-F04395CE9A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548EDA-7F5D-4049-8A87-1F76AA9204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65D85E-7A81-4F00-9A9C-08E0D34DCB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9F1FF4-6152-411A-AFA6-358F939F7E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57319C-68B3-4A0B-8687-11C63BB91F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C79883-3702-4D22-A69F-6281D9BA05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8EA42D-7A86-448E-96F0-B453517445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9D063D-D6D9-4C11-9224-4378FA02E6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35826-9413-4A52-BA28-B9A73E5C9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5EC2B5-C4E9-42F3-9DE1-C5B1C64200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AD5FE-0CCB-455B-A7F7-4CD518838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37FA6-C9B3-4298-9A98-577BCB8AC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B0581-A58E-430F-9337-ACCABCA07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20840" y="433440"/>
            <a:ext cx="8302320" cy="5486400"/>
            <a:chOff x="420840" y="433440"/>
            <a:chExt cx="8302320" cy="5486400"/>
          </a:xfrm>
        </p:grpSpPr>
        <p:pic>
          <p:nvPicPr>
            <p:cNvPr id="2" name="Rounded Rectangle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Verdan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a7a399"/>
                </a:solidFill>
                <a:latin typeface="Verdana"/>
                <a:ea typeface="Tahom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Verdan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52C0-4A3F-4EC5-96DA-95B636723D2A}" type="slidenum">
              <a:rPr b="0" lang="ar-SA" sz="1000" spc="-1" strike="noStrike">
                <a:solidFill>
                  <a:srgbClr val="a7a399"/>
                </a:solidFill>
                <a:latin typeface="Verdan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20840" y="433440"/>
            <a:ext cx="8302320" cy="3108240"/>
            <a:chOff x="420840" y="433440"/>
            <a:chExt cx="8302320" cy="3108240"/>
          </a:xfrm>
        </p:grpSpPr>
        <p:pic>
          <p:nvPicPr>
            <p:cNvPr id="47" name="Rounded Rectangle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Verdan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a7a399"/>
                </a:solidFill>
                <a:latin typeface="Verdana"/>
                <a:ea typeface="Tahom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Verdan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3720-FEE3-41EC-BD13-848AD8351F0E}" type="slidenum">
              <a:rPr b="0" lang="ar-SA" sz="1000" spc="-1" strike="noStrike">
                <a:solidFill>
                  <a:srgbClr val="a7a399"/>
                </a:solidFill>
                <a:latin typeface="Verdan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20840" y="433440"/>
            <a:ext cx="8302320" cy="4340160"/>
            <a:chOff x="420840" y="433440"/>
            <a:chExt cx="8302320" cy="4340160"/>
          </a:xfrm>
        </p:grpSpPr>
        <p:pic>
          <p:nvPicPr>
            <p:cNvPr id="92" name="Rounded Rectangle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Verdan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a7a399"/>
                </a:solidFill>
                <a:latin typeface="Verdana"/>
                <a:ea typeface="Tahom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Verdan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13F1-3B72-4F57-98D1-D2AFD1914A84}" type="slidenum">
              <a:rPr b="0" lang="ar-SA" sz="1000" spc="-1" strike="noStrike">
                <a:solidFill>
                  <a:srgbClr val="a7a399"/>
                </a:solidFill>
                <a:latin typeface="Verdan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Verdan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a7a399"/>
                </a:solidFill>
                <a:latin typeface="Verdana"/>
                <a:ea typeface="Tahom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Verdan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C8AC-69B0-4E54-8773-0BE20385B12D}" type="slidenum">
              <a:rPr b="0" lang="ar-SA" sz="1000" spc="-1" strike="noStrike">
                <a:solidFill>
                  <a:srgbClr val="a7a399"/>
                </a:solidFill>
                <a:latin typeface="Verdan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Verdan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a7a399"/>
                </a:solidFill>
                <a:latin typeface="Verdana"/>
                <a:ea typeface="Tahom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Verdan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70AF2-760C-4B12-8E13-047A4FB92777}" type="slidenum">
              <a:rPr b="0" lang="ar-SA" sz="1000" spc="-1" strike="noStrike">
                <a:solidFill>
                  <a:srgbClr val="a7a399"/>
                </a:solidFill>
                <a:latin typeface="Verdan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ff8d3e"/>
                </a:solidFill>
                <a:latin typeface="Verdana"/>
              </a:rPr>
              <a:t>الأهداف التعليمية </a:t>
            </a:r>
            <a:endParaRPr b="1" lang="en-US" sz="45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30280"/>
            <a:ext cx="8183520" cy="564192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2</a:t>
            </a:r>
            <a:r>
              <a:rPr b="0" lang="ar-SA" sz="2800" spc="-1" strike="noStrike">
                <a:solidFill>
                  <a:srgbClr val="000000"/>
                </a:solidFill>
                <a:latin typeface="Verdana"/>
              </a:rPr>
              <a:t>- الاستيعاب والفهم:</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يقصد به القدرة على فهم معنى المادة، أي عندما تعرض على التلميذ معلومات فإنه من المتوقع معرفة ما تعنيه، بالتالي يستطيع استخدام الأفكار المتضمنة بها.</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فهم الحقائق والقوانين.</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فسير المصطلحات اللفظي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حويل مواد كلامية إلى أشكال رياضي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	</a:t>
            </a:r>
            <a:r>
              <a:rPr b="0" lang="ar-SA" sz="2800" spc="-1" strike="noStrike">
                <a:solidFill>
                  <a:srgbClr val="b45f07"/>
                </a:solidFill>
                <a:latin typeface="Verdana"/>
              </a:rPr>
              <a:t>يحول، يفسر، يميز، يعطي أمثلة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3280" y="529920"/>
            <a:ext cx="8183520" cy="533700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3</a:t>
            </a:r>
            <a:r>
              <a:rPr b="0" lang="ar-SA" sz="2800" spc="-1" strike="noStrike">
                <a:solidFill>
                  <a:srgbClr val="000000"/>
                </a:solidFill>
                <a:latin typeface="Verdana"/>
              </a:rPr>
              <a:t>- التطبيق:</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ويقصد به القدرة على استعمال المادة التي تعملها التلميذ في مواقف جديدة، وهذا يتطلب مستوى أعلى من المعرفة والفهم.</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تطبيق مفاهيم ومبادئ في مواقف جديد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طبيق قوانين ونظريات في مواقف عملي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حل مشكلات رياضي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كوين خرائط وأشكال.</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	</a:t>
            </a:r>
            <a:r>
              <a:rPr b="0" lang="ar-SA" sz="2800" spc="-1" strike="noStrike">
                <a:solidFill>
                  <a:srgbClr val="b45f07"/>
                </a:solidFill>
                <a:latin typeface="Verdana"/>
              </a:rPr>
              <a:t>يستعمل، يتنبأ، يكتشف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03280" y="990360"/>
            <a:ext cx="8183520" cy="42670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4</a:t>
            </a:r>
            <a:r>
              <a:rPr b="0" lang="ar-SA" sz="2800" spc="-1" strike="noStrike">
                <a:solidFill>
                  <a:srgbClr val="000000"/>
                </a:solidFill>
                <a:latin typeface="Verdana"/>
              </a:rPr>
              <a:t>- التحليل:</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ويقصد به تجزئة المحتوى إلى عناصره التي تؤلفه بحيث يظهر الترتيب للأفكار والعلاقة بينها ويشمل هذا البعد تحليل العناصر وتحليل العلاقات وتحليل المبادئ.</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	</a:t>
            </a:r>
            <a:r>
              <a:rPr b="0" lang="ar-SA" sz="2800" spc="-1" strike="noStrike">
                <a:solidFill>
                  <a:srgbClr val="b45f07"/>
                </a:solidFill>
                <a:latin typeface="Verdana"/>
              </a:rPr>
              <a:t>يفرق، يميز، يقرن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503280" y="529920"/>
            <a:ext cx="8183520" cy="548964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5</a:t>
            </a:r>
            <a:r>
              <a:rPr b="0" lang="ar-SA" sz="2800" spc="-1" strike="noStrike">
                <a:solidFill>
                  <a:srgbClr val="000000"/>
                </a:solidFill>
                <a:latin typeface="Verdana"/>
              </a:rPr>
              <a:t>- التركيب:</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ويقصد به القدرة على تشكيل كل جديد من مجموعة أجزاء ولهذا نراه يركز على دور الإبداع.</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	</a:t>
            </a:r>
            <a:r>
              <a:rPr b="0" lang="ar-SA" sz="2800" spc="-1" strike="noStrike">
                <a:solidFill>
                  <a:srgbClr val="b45f07"/>
                </a:solidFill>
                <a:latin typeface="Verdana"/>
              </a:rPr>
              <a:t>يبدع، يؤلف، يعيد كتاب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6</a:t>
            </a:r>
            <a:r>
              <a:rPr b="0" lang="ar-SA" sz="2800" spc="-1" strike="noStrike">
                <a:solidFill>
                  <a:srgbClr val="000000"/>
                </a:solidFill>
                <a:latin typeface="Verdana"/>
              </a:rPr>
              <a:t>- التقويم:</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ويقصد به القدرة على إصدار الأحكام وهذا يعني أن هناك معايير معينة ثابتة تصدر بموجبها الأحكام على المادة المعرفية المتعلم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	</a:t>
            </a:r>
            <a:r>
              <a:rPr b="0" lang="ar-SA" sz="2800" spc="-1" strike="noStrike">
                <a:solidFill>
                  <a:srgbClr val="b45f07"/>
                </a:solidFill>
                <a:latin typeface="Verdana"/>
              </a:rPr>
              <a:t>ينتقد، يعلل، يشرح</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03280" y="914400"/>
            <a:ext cx="8183520" cy="510552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مكن أن نصل بالتلميذ إلى جميع مستويات المجال المعرفي في درس ما لأن محتوى الدرس يسمح لنا بذلك فنتدرج من مستوى التذكر إلى الفهم من ثم إلى التطبيق والتحليل والتركيب والتقويم. </a:t>
            </a:r>
            <a:endParaRPr b="0" lang="en-US" sz="24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ونظراً لارتباط محتوى الدرس بطبيعة الأهداف وصياغتها فإننا أحياناً يمكننا أن نصل بالتلميذ في بعض الدروس إلى مستويين أو ثلاثة أو أربعة أو جميع مستويات السلم المعرفي وذلك حسب طبيعة محتوى الدرس.</a:t>
            </a:r>
            <a:br>
              <a:rPr sz="2400"/>
            </a:br>
            <a:r>
              <a:rPr b="0" lang="ar-SA"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503280" y="529920"/>
            <a:ext cx="8183520" cy="487980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ثانياً: البعد الوجدان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هذا البعد يمثل الميول والاتجاهات والقيم وصور التذوق والتوافق.</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1</a:t>
            </a:r>
            <a:r>
              <a:rPr b="0" lang="ar-SA" sz="2800" spc="-1" strike="noStrike">
                <a:solidFill>
                  <a:srgbClr val="000000"/>
                </a:solidFill>
                <a:latin typeface="Verdana"/>
              </a:rPr>
              <a:t>- الاستقبال (الانتباه)</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2</a:t>
            </a:r>
            <a:r>
              <a:rPr b="0" lang="ar-SA" sz="2800" spc="-1" strike="noStrike">
                <a:solidFill>
                  <a:srgbClr val="000000"/>
                </a:solidFill>
                <a:latin typeface="Verdana"/>
              </a:rPr>
              <a:t>- الاستجاب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3</a:t>
            </a:r>
            <a:r>
              <a:rPr b="0" lang="ar-SA" sz="2800" spc="-1" strike="noStrike">
                <a:solidFill>
                  <a:srgbClr val="000000"/>
                </a:solidFill>
                <a:latin typeface="Verdana"/>
              </a:rPr>
              <a:t>- التقدير (التثمين، التقييم)</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4</a:t>
            </a:r>
            <a:r>
              <a:rPr b="0" lang="ar-SA" sz="2800" spc="-1" strike="noStrike">
                <a:solidFill>
                  <a:srgbClr val="000000"/>
                </a:solidFill>
                <a:latin typeface="Verdana"/>
              </a:rPr>
              <a:t>- التنظيم</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5</a:t>
            </a:r>
            <a:r>
              <a:rPr b="0" lang="ar-SA" sz="2800" spc="-1" strike="noStrike">
                <a:solidFill>
                  <a:srgbClr val="000000"/>
                </a:solidFill>
                <a:latin typeface="Verdana"/>
              </a:rPr>
              <a:t>- التمييز</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03280" y="838080"/>
            <a:ext cx="8183520" cy="472464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1</a:t>
            </a:r>
            <a:r>
              <a:rPr b="0" lang="ar-SA" sz="2800" spc="-1" strike="noStrike">
                <a:solidFill>
                  <a:srgbClr val="000000"/>
                </a:solidFill>
                <a:latin typeface="Verdana"/>
              </a:rPr>
              <a:t>- الاستقبال (الانتباه):</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وهو يشير إلى  رغبة الطلاب الذاتية للانتباه أو استقبال ظواهر أو مثيرات معينة، أي يكون راغباً في استقبال أو الانتباه له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ستمع بانتباه</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تقبل الفروق العرقية بين الناس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503280" y="838080"/>
            <a:ext cx="8183520" cy="38800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2</a:t>
            </a:r>
            <a:r>
              <a:rPr b="0" lang="ar-SA" sz="2800" spc="-1" strike="noStrike">
                <a:solidFill>
                  <a:srgbClr val="000000"/>
                </a:solidFill>
                <a:latin typeface="Verdana"/>
              </a:rPr>
              <a:t>- الاستجاب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وهنا يتجاوز المتعلم مستوى الانتباه إلى الاندماج مع المثير، بحيث يشعر بالارتياح والسرور عند القيام بهذا العمل.</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ساعد الآخرين.</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تطوع لمهمات خيري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سهم في التفاعل الصفي.</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3</a:t>
            </a:r>
            <a:r>
              <a:rPr b="0" lang="ar-SA" sz="2800" spc="-1" strike="noStrike">
                <a:solidFill>
                  <a:srgbClr val="000000"/>
                </a:solidFill>
                <a:latin typeface="Verdana"/>
              </a:rPr>
              <a:t>- التقدير (التثمين، التقييم):</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أي إعطاء قيمة أو تقدير للأشياء أو الأفكار أو السلوكيات.</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ظهر اتجاهاً إيجابياً نحو الوطن.</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قدر دور أطفال الحجارة في تحرير الوطن.</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4</a:t>
            </a:r>
            <a:r>
              <a:rPr b="0" lang="ar-SA" sz="2800" spc="-1" strike="noStrike">
                <a:solidFill>
                  <a:srgbClr val="000000"/>
                </a:solidFill>
                <a:latin typeface="Verdana"/>
              </a:rPr>
              <a:t>- التنظيم: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التركيز هنا على المقارنة بين القيم، والأفكار، والعادات، والتقاليد. ثم التركيب أي تأكيد الأفكار أو السلوكيات الأكثر قبولاً لديه.</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تفهم حاجته للحري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ضع خطة لنفسه تتناسب مع قدراته.</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تقبل المسؤولية اتجاه ما يتصرفه.</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Verdana"/>
              </a:rPr>
              <a:t>أولاً: الصور المبسطة:</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	</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	</a:t>
            </a:r>
            <a:r>
              <a:rPr b="0" lang="ar-SA" sz="3200" spc="-1" strike="noStrike">
                <a:solidFill>
                  <a:srgbClr val="000000"/>
                </a:solidFill>
                <a:latin typeface="Verdana"/>
              </a:rPr>
              <a:t>أن + فعل سلوكي + القائم بأداء السلوك + محتوى السلوك.</a:t>
            </a:r>
            <a:endParaRPr b="0" lang="en-US" sz="3200" spc="-1" strike="noStrike">
              <a:solidFill>
                <a:srgbClr val="000000"/>
              </a:solidFill>
              <a:latin typeface="Verdana"/>
            </a:endParaRPr>
          </a:p>
          <a:p>
            <a:pPr lvl="3" marL="1023840" indent="-182520" algn="r" rtl="1">
              <a:spcBef>
                <a:spcPts val="224"/>
              </a:spcBef>
              <a:buClr>
                <a:srgbClr val="ed3742"/>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3" marL="1023840" indent="-182520" algn="r" rtl="1">
              <a:spcBef>
                <a:spcPts val="224"/>
              </a:spcBef>
              <a:buClr>
                <a:srgbClr val="ed3742"/>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b45f07"/>
                </a:solidFill>
                <a:latin typeface="Verdana"/>
              </a:rPr>
              <a:t>أن يعد الطالب أركان الإسلام.</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503280" y="914040"/>
            <a:ext cx="8183520" cy="434340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5</a:t>
            </a:r>
            <a:r>
              <a:rPr b="0" lang="ar-SA" sz="2800" spc="-1" strike="noStrike">
                <a:solidFill>
                  <a:srgbClr val="000000"/>
                </a:solidFill>
                <a:latin typeface="Verdana"/>
              </a:rPr>
              <a:t>- التمييز:</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في هذا المجال يتم إصدار السلوك من المتعلم دون التأثر بالانفعالات، لأن المتعلم هنا قد كون نظاماً معيناً يحكم سلوكه فترة كافية، لذلك فإن سلوكه يتصف بالثبات والتصميم.</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قوم بعمل خيري.</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ميز بين الخير والشر.</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03280" y="529920"/>
            <a:ext cx="8183520" cy="541332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ثالثاً: البعد الحرك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تسعى الأهداف في هذا المجال إلى زيادة التآزر بين النشاط النفسي للمتعلم، ونشاطه الحرك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ويتصل بهذا المجال المهارات الآلية واليدوية كالسباحة والطباعة والكتابة والرسم وغيره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قذف الكر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سبح.</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نطق أحرف العلة بشكل سليم.</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طبع ثلاثين كلمة في الدقيقة على الآلة الطابع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03280" y="529920"/>
            <a:ext cx="8183520" cy="5489640"/>
          </a:xfrm>
          <a:prstGeom prst="rect">
            <a:avLst/>
          </a:prstGeom>
          <a:noFill/>
          <a:ln w="0">
            <a:noFill/>
          </a:ln>
        </p:spPr>
        <p:txBody>
          <a:bodyPr lIns="182880" tIns="91440" anchor="t">
            <a:normAutofit fontScale="96000"/>
          </a:bodyPr>
          <a:p>
            <a:pPr marL="254160" indent="-254160"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شروط صياغة الهدف السلوكي: -</a:t>
            </a:r>
            <a:br>
              <a:rPr sz="2400"/>
            </a:br>
            <a:br>
              <a:rPr sz="2400"/>
            </a:br>
            <a:r>
              <a:rPr b="0" lang="ar-SA" sz="2400" spc="-1" strike="noStrike">
                <a:solidFill>
                  <a:srgbClr val="000000"/>
                </a:solidFill>
                <a:latin typeface="Arial"/>
              </a:rPr>
              <a:t>1</a:t>
            </a:r>
            <a:r>
              <a:rPr b="0" lang="ar-SA" sz="2400" spc="-1" strike="noStrike">
                <a:solidFill>
                  <a:srgbClr val="000000"/>
                </a:solidFill>
                <a:latin typeface="Arial"/>
              </a:rPr>
              <a:t>- أن يكون الهدف محدداً وواضحاً وقابل للقياس.</a:t>
            </a:r>
            <a:br>
              <a:rPr sz="2400"/>
            </a:br>
            <a:br>
              <a:rPr sz="2400"/>
            </a:br>
            <a:r>
              <a:rPr b="0" lang="ar-SA" sz="2400" spc="-1" strike="noStrike">
                <a:solidFill>
                  <a:srgbClr val="000000"/>
                </a:solidFill>
                <a:latin typeface="Arial"/>
              </a:rPr>
              <a:t>2</a:t>
            </a:r>
            <a:r>
              <a:rPr b="0" lang="ar-SA" sz="2400" spc="-1" strike="noStrike">
                <a:solidFill>
                  <a:srgbClr val="000000"/>
                </a:solidFill>
                <a:latin typeface="Arial"/>
              </a:rPr>
              <a:t>- أن يركز الهدف على سلوك التلميذ وليس سلوك المعلم لأن التلميذ هو محور العملية التعليمية.</a:t>
            </a:r>
            <a:br>
              <a:rPr sz="2400"/>
            </a:br>
            <a:br>
              <a:rPr sz="2400"/>
            </a:br>
            <a:r>
              <a:rPr b="0" lang="ar-SA" sz="2400" spc="-1" strike="noStrike">
                <a:solidFill>
                  <a:srgbClr val="000000"/>
                </a:solidFill>
                <a:latin typeface="Arial"/>
              </a:rPr>
              <a:t>3</a:t>
            </a:r>
            <a:r>
              <a:rPr b="0" lang="ar-SA" sz="2400" spc="-1" strike="noStrike">
                <a:solidFill>
                  <a:srgbClr val="000000"/>
                </a:solidFill>
                <a:latin typeface="Arial"/>
              </a:rPr>
              <a:t>- أن تحتوي عبارة الهدف على فعل سلوكي يشير إلى نوع الأداء.</a:t>
            </a:r>
            <a:endParaRPr b="0" lang="en-US" sz="2400" spc="-1" strike="noStrike">
              <a:solidFill>
                <a:srgbClr val="000000"/>
              </a:solidFill>
              <a:latin typeface="Verdana"/>
            </a:endParaRPr>
          </a:p>
          <a:p>
            <a:pPr marL="254160" indent="-254160"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4160" indent="-254160"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4</a:t>
            </a:r>
            <a:r>
              <a:rPr b="0" lang="ar-SA" sz="2400" spc="-1" strike="noStrike">
                <a:solidFill>
                  <a:srgbClr val="000000"/>
                </a:solidFill>
                <a:latin typeface="Arial"/>
              </a:rPr>
              <a:t>- أن يحتوي الهدف على ناتج التعلم لا أنشطته.</a:t>
            </a:r>
            <a:br>
              <a:rPr sz="2400"/>
            </a:br>
            <a:br>
              <a:rPr sz="2400"/>
            </a:br>
            <a:r>
              <a:rPr b="0" lang="ar-SA" sz="2400" spc="-1" strike="noStrike">
                <a:solidFill>
                  <a:srgbClr val="000000"/>
                </a:solidFill>
                <a:latin typeface="Arial"/>
              </a:rPr>
              <a:t>5</a:t>
            </a:r>
            <a:r>
              <a:rPr b="0" lang="ar-SA" sz="2400" spc="-1" strike="noStrike">
                <a:solidFill>
                  <a:srgbClr val="000000"/>
                </a:solidFill>
                <a:latin typeface="Arial"/>
              </a:rPr>
              <a:t>- أن يحتوي الهدف على الحد الأدنى المتوقع لمستوى أداء التلميذ.</a:t>
            </a:r>
            <a:br>
              <a:rPr sz="2400"/>
            </a:b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533520" y="457200"/>
            <a:ext cx="8107200" cy="556272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Verdana"/>
              </a:rPr>
              <a:t>ثانياً: الصور المركبة:</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	</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	</a:t>
            </a:r>
            <a:r>
              <a:rPr b="0" lang="ar-SA" sz="3200" spc="-1" strike="noStrike">
                <a:solidFill>
                  <a:srgbClr val="000000"/>
                </a:solidFill>
                <a:latin typeface="Verdana"/>
              </a:rPr>
              <a:t>أن + فعل سلوكي + القائم بأداء السلوك + محتوى السلوك (مفردة محتوى) + ا</a:t>
            </a:r>
            <a:r>
              <a:rPr b="0" lang="ar-SA" sz="3200" spc="-1" strike="noStrike" u="sng">
                <a:solidFill>
                  <a:srgbClr val="000000"/>
                </a:solidFill>
                <a:uFillTx/>
                <a:latin typeface="Verdana"/>
              </a:rPr>
              <a:t>لمعيار</a:t>
            </a:r>
            <a:r>
              <a:rPr b="0" lang="ar-SA" sz="3200" spc="-1" strike="noStrike">
                <a:solidFill>
                  <a:srgbClr val="000000"/>
                </a:solidFill>
                <a:latin typeface="Verdana"/>
              </a:rPr>
              <a:t> + </a:t>
            </a:r>
            <a:r>
              <a:rPr b="0" lang="ar-SA" sz="3200" spc="-1" strike="noStrike" u="sng">
                <a:solidFill>
                  <a:srgbClr val="000000"/>
                </a:solidFill>
                <a:uFillTx/>
                <a:latin typeface="Verdana"/>
              </a:rPr>
              <a:t>الشروط</a:t>
            </a:r>
            <a:r>
              <a:rPr b="0" lang="ar-SA" sz="3200" spc="-1" strike="noStrike">
                <a:solidFill>
                  <a:srgbClr val="000000"/>
                </a:solidFill>
                <a:latin typeface="Verdana"/>
              </a:rPr>
              <a:t>.</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	</a:t>
            </a:r>
            <a:r>
              <a:rPr b="0" lang="ar-SA" sz="3200" spc="-1" strike="noStrike">
                <a:solidFill>
                  <a:srgbClr val="000000"/>
                </a:solidFill>
                <a:latin typeface="Verdana"/>
              </a:rPr>
              <a:t>	</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b45f07"/>
                </a:solidFill>
                <a:latin typeface="Verdana"/>
              </a:rPr>
              <a:t>	</a:t>
            </a:r>
            <a:r>
              <a:rPr b="0" lang="ar-SA" sz="3200" spc="-1" strike="noStrike">
                <a:solidFill>
                  <a:srgbClr val="b45f07"/>
                </a:solidFill>
                <a:latin typeface="Verdana"/>
              </a:rPr>
              <a:t>أن يثبت الطالب عملياً القانون العام للمغناطيسية في مدة نصف ساعة بالتعاون مع ثلاثة من زملائه.</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b45f07"/>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03280" y="530280"/>
            <a:ext cx="8183520" cy="571824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1" lang="ar-SA" sz="2800" spc="-1" strike="noStrike">
                <a:solidFill>
                  <a:srgbClr val="000000"/>
                </a:solidFill>
                <a:latin typeface="Verdana"/>
              </a:rPr>
              <a:t> المعيار: </a:t>
            </a:r>
            <a:r>
              <a:rPr b="0" lang="ar-SA" sz="2800" spc="-1" strike="noStrike">
                <a:solidFill>
                  <a:srgbClr val="000000"/>
                </a:solidFill>
                <a:latin typeface="Verdana"/>
              </a:rPr>
              <a:t>مستوى الإجادة التي ينبغي أن يصل إليها المتعلم في سلوكه لكي يكون هذا السلوك مقبولا.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1</a:t>
            </a:r>
            <a:r>
              <a:rPr b="0" lang="ar-SA" sz="2800" spc="-1" strike="noStrike">
                <a:solidFill>
                  <a:srgbClr val="000000"/>
                </a:solidFill>
                <a:latin typeface="Verdana"/>
              </a:rPr>
              <a:t>- </a:t>
            </a:r>
            <a:r>
              <a:rPr b="0" lang="ar-SA" sz="2800" spc="-1" strike="noStrike" u="sng">
                <a:solidFill>
                  <a:srgbClr val="000000"/>
                </a:solidFill>
                <a:uFillTx/>
                <a:latin typeface="Verdana"/>
              </a:rPr>
              <a:t>كمي:</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عداد مثل: </a:t>
            </a:r>
            <a:r>
              <a:rPr b="0" lang="ar-SA" sz="2800" spc="-1" strike="noStrike">
                <a:solidFill>
                  <a:srgbClr val="b45f07"/>
                </a:solidFill>
                <a:latin typeface="Verdana"/>
              </a:rPr>
              <a:t>أن يذكر الطالب أربعة أسباب على الأقل لثقب الأوزون.</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نسبة مثل: </a:t>
            </a:r>
            <a:r>
              <a:rPr b="0" lang="ar-SA" sz="2800" spc="-1" strike="noStrike">
                <a:solidFill>
                  <a:srgbClr val="b45f07"/>
                </a:solidFill>
                <a:latin typeface="Verdana"/>
              </a:rPr>
              <a:t>أن يعين الطالب كثافة النحاس بدرجة دقة لا تقل عن </a:t>
            </a:r>
            <a:r>
              <a:rPr b="0" lang="ar-SA" sz="2800" spc="-1" strike="noStrike">
                <a:solidFill>
                  <a:srgbClr val="b45f07"/>
                </a:solidFill>
                <a:latin typeface="Verdana"/>
              </a:rPr>
              <a:t>95</a:t>
            </a:r>
            <a:r>
              <a:rPr b="0" lang="ar-SA" sz="2800" spc="-1" strike="noStrike">
                <a:solidFill>
                  <a:srgbClr val="b45f07"/>
                </a:solidFill>
                <a:latin typeface="Verdana"/>
              </a:rPr>
              <a:t>%.</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زمن مثل: </a:t>
            </a:r>
            <a:r>
              <a:rPr b="0" lang="ar-SA" sz="2800" spc="-1" strike="noStrike">
                <a:solidFill>
                  <a:srgbClr val="b45f07"/>
                </a:solidFill>
                <a:latin typeface="Verdana"/>
              </a:rPr>
              <a:t>أن يبرهن الطالب بالتجربة عن الجاذبية في زمن لا يتجاوز دقيق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2</a:t>
            </a:r>
            <a:r>
              <a:rPr b="0" lang="ar-SA" sz="2800" spc="-1" strike="noStrike">
                <a:solidFill>
                  <a:srgbClr val="000000"/>
                </a:solidFill>
                <a:latin typeface="Verdana"/>
              </a:rPr>
              <a:t>- </a:t>
            </a:r>
            <a:r>
              <a:rPr b="0" lang="ar-SA" sz="2800" spc="-1" strike="noStrike" u="sng">
                <a:solidFill>
                  <a:srgbClr val="000000"/>
                </a:solidFill>
                <a:uFillTx/>
                <a:latin typeface="Verdana"/>
              </a:rPr>
              <a:t>وصفي:</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أخذ شكل ألفاظ وصفية مثل: بدقة، دون خطأ، كما ورد في الكتاب المدرسي، طبقاً لما ورد في المرجع.</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03280" y="529920"/>
            <a:ext cx="8183520" cy="541332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Verdana"/>
              </a:rPr>
              <a:t>الشروط:</a:t>
            </a:r>
            <a:r>
              <a:rPr b="0" lang="ar-SA" sz="3200" spc="-1" strike="noStrike">
                <a:solidFill>
                  <a:srgbClr val="000000"/>
                </a:solidFill>
                <a:latin typeface="Verdana"/>
              </a:rPr>
              <a:t> ويعبر عن الظروف المحددة للموقف الذي سيظهر فيه الطالب أو يمارس من خلاله السلوك المرغوب فيه..</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تضمين التسهيلات المعطاة للطالب (أدوات ـ كتب ـ مراجع...).</a:t>
            </a:r>
            <a:endParaRPr b="0" lang="en-US" sz="32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التسهيلات التي يمنع استخدامها...</a:t>
            </a:r>
            <a:endParaRPr b="0" lang="en-US" sz="32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تضمين عوامل أو شروط اجتماعية أو بيئية...</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Verdana"/>
              </a:rPr>
              <a:t>ثالثاً: الصورة الوسطية:</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	</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	</a:t>
            </a:r>
            <a:r>
              <a:rPr b="0" lang="ar-SA" sz="3200" spc="-1" strike="noStrike">
                <a:solidFill>
                  <a:srgbClr val="000000"/>
                </a:solidFill>
                <a:latin typeface="Verdana"/>
              </a:rPr>
              <a:t>أن + فعل سلوكي + القائم بأداء السلوك + محتوى السلوك (مفردة محتوى) + المعيار.</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	</a:t>
            </a:r>
            <a:r>
              <a:rPr b="0" lang="ar-SA" sz="3200" spc="-1" strike="noStrike">
                <a:solidFill>
                  <a:srgbClr val="b45f07"/>
                </a:solidFill>
                <a:latin typeface="Verdana"/>
              </a:rPr>
              <a:t>أن يذكر الطالب ثلاث آيات قرآنية على الأقل في فضل الصلاة.</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تصنيف الأهداف السلوكية:</a:t>
            </a:r>
            <a:endParaRPr b="0" lang="en-US" sz="32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البعد المعرفي.</a:t>
            </a:r>
            <a:endParaRPr b="0" lang="en-US" sz="32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البعد الوجداني.</a:t>
            </a:r>
            <a:endParaRPr b="0" lang="en-US" sz="32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البعد الحركي.</a:t>
            </a:r>
            <a:endParaRPr b="0" lang="en-US" sz="32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03280" y="457200"/>
            <a:ext cx="8183520" cy="548640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ولاً: البعد المعرف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يشمل هذا البعد الأهداف و النتاجات العقلية و الذكائية و الحفظ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1</a:t>
            </a:r>
            <a:r>
              <a:rPr b="0" lang="ar-SA" sz="2800" spc="-1" strike="noStrike">
                <a:solidFill>
                  <a:srgbClr val="000000"/>
                </a:solidFill>
                <a:latin typeface="Verdana"/>
              </a:rPr>
              <a:t>- المعرف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2</a:t>
            </a:r>
            <a:r>
              <a:rPr b="0" lang="ar-SA" sz="2800" spc="-1" strike="noStrike">
                <a:solidFill>
                  <a:srgbClr val="000000"/>
                </a:solidFill>
                <a:latin typeface="Verdana"/>
              </a:rPr>
              <a:t>- الاستيعاب والفهم</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3</a:t>
            </a:r>
            <a:r>
              <a:rPr b="0" lang="ar-SA" sz="2800" spc="-1" strike="noStrike">
                <a:solidFill>
                  <a:srgbClr val="000000"/>
                </a:solidFill>
                <a:latin typeface="Verdana"/>
              </a:rPr>
              <a:t>- التطبيق</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4</a:t>
            </a:r>
            <a:r>
              <a:rPr b="0" lang="ar-SA" sz="2800" spc="-1" strike="noStrike">
                <a:solidFill>
                  <a:srgbClr val="000000"/>
                </a:solidFill>
                <a:latin typeface="Verdana"/>
              </a:rPr>
              <a:t>- التحليل</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5</a:t>
            </a:r>
            <a:r>
              <a:rPr b="0" lang="ar-SA" sz="2800" spc="-1" strike="noStrike">
                <a:solidFill>
                  <a:srgbClr val="000000"/>
                </a:solidFill>
                <a:latin typeface="Verdana"/>
              </a:rPr>
              <a:t>- التركيب</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6</a:t>
            </a:r>
            <a:r>
              <a:rPr b="0" lang="ar-SA" sz="2800" spc="-1" strike="noStrike">
                <a:solidFill>
                  <a:srgbClr val="000000"/>
                </a:solidFill>
                <a:latin typeface="Verdana"/>
              </a:rPr>
              <a:t>- التقويم</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503280" y="530280"/>
            <a:ext cx="8183520" cy="571824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1</a:t>
            </a:r>
            <a:r>
              <a:rPr b="0" lang="ar-SA" sz="2800" spc="-1" strike="noStrike">
                <a:solidFill>
                  <a:srgbClr val="000000"/>
                </a:solidFill>
                <a:latin typeface="Verdana"/>
              </a:rPr>
              <a:t>- المعرف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وهي العمليات النفسية المعرفية الخاصة بالذاكرة أي تذكر المادة التي تعلمها سابقاً وهي تمثل أدنى مستويات النواتج التعليمية في البعد المعرف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معرفة الرموز والمصطلحات الخاصة بالمادة الدراسي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معرفة الحقائق التفصيلي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معرفة الطرق والأساليب لجميع المعلومات وتنظيمها.</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معرفة المبادئ والقوانين.</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	</a:t>
            </a:r>
            <a:r>
              <a:rPr b="0" lang="ar-SA" sz="2800" spc="-1" strike="noStrike">
                <a:solidFill>
                  <a:srgbClr val="b45f07"/>
                </a:solidFill>
                <a:latin typeface="Verdana"/>
              </a:rPr>
              <a:t>يعرف، يذكر، يحدد، يصف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1T21:37:22Z</dcterms:created>
  <dc:creator>Lulu Alsaab</dc:creator>
  <dc:description/>
  <dc:language>en-US</dc:language>
  <cp:lastModifiedBy>Lulua Alsaab</cp:lastModifiedBy>
  <dcterms:modified xsi:type="dcterms:W3CDTF">2015-10-08T09:39:22Z</dcterms:modified>
  <cp:revision>15</cp:revision>
  <dc:subject/>
  <dc:title>الأهداف التعليمية</dc:title>
</cp:coreProperties>
</file>