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8.jpeg" ContentType="image/jpeg"/>
  <Override PartName="/ppt/media/image11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76EA-0D3A-4DC0-9576-86BCB12DB1C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1FBC-69D9-457D-9AAA-42334870245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9C2B-11DD-43F7-A226-ABBE3C2D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A249-8636-4A51-97ED-079CFD3D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4786-CAE7-45A9-AFF9-F54B0693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9B52-4063-451A-AE25-CEBBADDB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61F4-A31F-45EA-BAE0-1D9DA504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5373-3024-4527-9C0F-4E0831AF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2136-646A-4255-A968-CFA88584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EAA2-751D-4B84-B6C3-D252B429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AF22-7E6F-4CB7-AD8C-2A290579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3C52-1709-41CD-93E0-B883D618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849B-43FB-42FC-B7B1-B6D6F142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A905C-9E93-414B-B720-D7687DD8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9DB7-33E4-4F17-A252-21DE6539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8E96-E5F1-43C8-829F-993ABE73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23C2-8BF4-4DA2-AA99-087422F5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61A7-167F-4322-BBAF-E8016DFD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5FD5-FBEF-44E8-8CF1-863AD125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1ED0-2191-4410-BCF1-61404063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08706-62CB-46BC-AF06-662BDA20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48B8-3939-48DA-B261-C772A04A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A0A0-2261-4AF5-A617-3E3D1963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34C6-20A8-4638-9192-2D5BA14D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5CC8-A6F6-4825-847D-A61A58AA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8CFA-4355-47A3-9A87-543B5AA7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9541-18F0-4CD7-A9E9-8791718F731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52F4-A749-4039-828A-C33E23ECA74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0"/>
          <p:cNvGrpSpPr/>
          <p:nvPr/>
        </p:nvGrpSpPr>
        <p:grpSpPr>
          <a:xfrm>
            <a:off x="287280" y="398520"/>
            <a:ext cx="8569440" cy="6270480"/>
            <a:chOff x="287280" y="398520"/>
            <a:chExt cx="8569440" cy="6270480"/>
          </a:xfrm>
        </p:grpSpPr>
        <p:pic>
          <p:nvPicPr>
            <p:cNvPr id="108" name="Picture 9" descr="صورة1"/>
            <p:cNvPicPr/>
            <p:nvPr/>
          </p:nvPicPr>
          <p:blipFill>
            <a:blip r:embed="rId1"/>
            <a:stretch/>
          </p:blipFill>
          <p:spPr>
            <a:xfrm>
              <a:off x="287280" y="398520"/>
              <a:ext cx="8569440" cy="62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WordArt 7"/>
            <p:cNvSpPr txBox="1"/>
            <p:nvPr/>
          </p:nvSpPr>
          <p:spPr>
            <a:xfrm>
              <a:off x="755640" y="1157400"/>
              <a:ext cx="7289640" cy="417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8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 </a:t>
              </a:r>
              <a:endParaRPr b="1" lang="en-US" sz="1800" spc="1" strike="noStrike">
                <a:ln w="1260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10" name="Picture 6" descr=""/>
          <p:cNvPicPr/>
          <p:nvPr/>
        </p:nvPicPr>
        <p:blipFill>
          <a:blip r:embed="rId4"/>
          <a:stretch/>
        </p:blipFill>
        <p:spPr>
          <a:xfrm>
            <a:off x="1214280" y="1285920"/>
            <a:ext cx="6392880" cy="480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95280" y="620640"/>
            <a:ext cx="8424720" cy="5832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134"/>
          <p:cNvPicPr/>
          <p:nvPr/>
        </p:nvPicPr>
        <p:blipFill>
          <a:blip r:embed="rId1"/>
          <a:stretch/>
        </p:blipFill>
        <p:spPr>
          <a:xfrm>
            <a:off x="1908000" y="1628640"/>
            <a:ext cx="5537520" cy="4152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2484360" y="260280"/>
            <a:ext cx="37940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واجد البعوض بشكل عام في المملك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7080" y="189000"/>
            <a:ext cx="489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أماكن تواجد الأمراض المنقولة بالبعوض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saudi_arabia"/>
          <p:cNvPicPr/>
          <p:nvPr/>
        </p:nvPicPr>
        <p:blipFill>
          <a:blip r:embed="rId1"/>
          <a:stretch/>
        </p:blipFill>
        <p:spPr>
          <a:xfrm>
            <a:off x="1547640" y="1052640"/>
            <a:ext cx="6409080" cy="561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755640" y="765000"/>
            <a:ext cx="7899480" cy="532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il_fi" descr="http://1.bp.blogspot.com/-bM6lOHG_LrM/ThYhTvdTN9I/AAAAAAAAHwE/CpmKrvDoZdk/s640/aedes-aegypti+life+cyle+2.png"/>
          <p:cNvPicPr/>
          <p:nvPr/>
        </p:nvPicPr>
        <p:blipFill>
          <a:blip r:embed="rId2"/>
          <a:stretch/>
        </p:blipFill>
        <p:spPr>
          <a:xfrm>
            <a:off x="1258920" y="476280"/>
            <a:ext cx="6858000" cy="6000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الوقاية والعلاج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ويُعد اللقاح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17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المضاد للحمى الصفراء لقاحاً مأموناً. ويُحدث هذا اللقاح مفعوله الوقائي (المناعة) خلال أسبوع واحد لدى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95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% من الأشخاص المُطعّمين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539640" y="765000"/>
            <a:ext cx="8186760" cy="5185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خطورة استخدام المبيدات الكيميائية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أصبح استخدام المبيدات الكيميائية جزءا من الماضي إلا في أضيق الحالات و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لمدة محدودة مع معرفة المواد الكيميائية المستخدمة مسبقا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تلوث المياة السطحية والجوفية وتدمر الحياة الطبيعية من نبات وحيوان وتؤثر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على صحة الإنسان حيث تسبب له أمراض الكبد والسرطان وغيرها من الأمراض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مقاومة المناعية التي تبديها البعوض بعد فترة من الزمن وظهور سلالة مقاوم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للمبيد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تقتل الحيوانات الضارة والنافعة بدون تمييز أو انتقاء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 flipH="1">
            <a:off x="683640" y="404640"/>
            <a:ext cx="7848360" cy="547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 flipH="1">
            <a:off x="683640" y="333360"/>
            <a:ext cx="7848360" cy="6264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 flipH="1">
            <a:off x="683640" y="620640"/>
            <a:ext cx="7848360" cy="5545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شعار جامعة الملك سعود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077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785880" y="2571840"/>
            <a:ext cx="6929280" cy="2071440"/>
          </a:xfrm>
          <a:prstGeom prst="rect">
            <a:avLst/>
          </a:prstGeom>
          <a:solidFill>
            <a:srgbClr val="00008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Garamond"/>
              </a:rPr>
              <a:t>Yellow fever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4643280"/>
            <a:ext cx="5429160" cy="1714680"/>
          </a:xfrm>
          <a:prstGeom prst="rect">
            <a:avLst/>
          </a:prstGeom>
          <a:solidFill>
            <a:srgbClr val="00008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عداد باحث دكتوراه / علي بن عبدالله بن مفلح ال مري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رقم الجامعي /         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4321083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79280" y="404640"/>
            <a:ext cx="864072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قدمة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رض فيروسي حاد ينتج عن الإصابة بفيروس من عائلة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avivirida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ينقل هذا الفيروس عدة أنواع من البعوض الحامل للمرض منها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edes aegypti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) و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edes african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ينتشر فيروس الحمى الصفراء في جسم الإنسان عن طريق الجهاز اللمفاوي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فيصيب القلب والكلية والغدة الكظرية والكبد والد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وتستغرق فترة حضانته حوالي ستة أيا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وكلمة "الصفراء" الواردة في اسم المرض هي نتيجة لإصابة بعض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المرضى بيرقان يتسبّب في اصفرار أعينهم وبشرته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صورة 1" descr="C:\Users\hp\Desktop\PhD in Animal Science\دراسة برنامج دكتوراه -الفصل الدراسي الاول 1433-1434\611حين الحشرات والطفيليات التطبيقية (1\viewerCALMEGD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79280" y="404640"/>
            <a:ext cx="864072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قدمة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يوجد حوالى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3000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نوع من البعوض – حوالى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نوع مسئول عن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نقل الأمراض للإنسان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بعوض من أشد الحشرات فتكا بصحة الإنسان والحيوان نظرا لاعتما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إناثها على دم عوائلها للحصول على غذائ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وجد أنواع عديدة من البعوض من أهمها كيولكس والأيديس والأنوفلي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دورة حياة البعوض تمر بأربعة مراحل من النمو وهي مرحلة البيضة 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يرقة والعذراء والطور البالغ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هو موضح بالشكل التالي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258920" y="1700280"/>
            <a:ext cx="74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Endemic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Epidemic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Garamond"/>
              </a:rPr>
              <a:t>LIFE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9" name="Group 16"/>
          <p:cNvGrpSpPr/>
          <p:nvPr/>
        </p:nvGrpSpPr>
        <p:grpSpPr>
          <a:xfrm>
            <a:off x="1476360" y="1341360"/>
            <a:ext cx="2374920" cy="2158920"/>
            <a:chOff x="1476360" y="1341360"/>
            <a:chExt cx="2374920" cy="2158920"/>
          </a:xfrm>
        </p:grpSpPr>
        <p:pic>
          <p:nvPicPr>
            <p:cNvPr id="120" name="Picture 8" descr="mosquito-egg2a"/>
            <p:cNvPicPr/>
            <p:nvPr/>
          </p:nvPicPr>
          <p:blipFill>
            <a:blip r:embed="rId1"/>
            <a:stretch/>
          </p:blipFill>
          <p:spPr>
            <a:xfrm>
              <a:off x="1476360" y="1341360"/>
              <a:ext cx="237492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12"/>
            <p:cNvSpPr/>
            <p:nvPr/>
          </p:nvSpPr>
          <p:spPr>
            <a:xfrm>
              <a:off x="1979640" y="3068640"/>
              <a:ext cx="129528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Egg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1763640" y="4221000"/>
            <a:ext cx="1905120" cy="2448000"/>
            <a:chOff x="1763640" y="4221000"/>
            <a:chExt cx="1905120" cy="2448000"/>
          </a:xfrm>
        </p:grpSpPr>
        <p:pic>
          <p:nvPicPr>
            <p:cNvPr id="123" name="Picture 9" descr="mosquito-larva2a"/>
            <p:cNvPicPr/>
            <p:nvPr/>
          </p:nvPicPr>
          <p:blipFill>
            <a:blip r:embed="rId2"/>
            <a:stretch/>
          </p:blipFill>
          <p:spPr>
            <a:xfrm>
              <a:off x="1763640" y="4221000"/>
              <a:ext cx="1905120" cy="22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13"/>
            <p:cNvSpPr/>
            <p:nvPr/>
          </p:nvSpPr>
          <p:spPr>
            <a:xfrm>
              <a:off x="2411280" y="6237360"/>
              <a:ext cx="115272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Larva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5" name="Group 19"/>
          <p:cNvGrpSpPr/>
          <p:nvPr/>
        </p:nvGrpSpPr>
        <p:grpSpPr>
          <a:xfrm>
            <a:off x="6227640" y="4221000"/>
            <a:ext cx="1905120" cy="2448000"/>
            <a:chOff x="6227640" y="4221000"/>
            <a:chExt cx="1905120" cy="2448000"/>
          </a:xfrm>
        </p:grpSpPr>
        <p:pic>
          <p:nvPicPr>
            <p:cNvPr id="126" name="Picture 10" descr="mosquito-pupa"/>
            <p:cNvPicPr/>
            <p:nvPr/>
          </p:nvPicPr>
          <p:blipFill>
            <a:blip r:embed="rId3"/>
            <a:stretch/>
          </p:blipFill>
          <p:spPr>
            <a:xfrm>
              <a:off x="6227640" y="4221000"/>
              <a:ext cx="1905120" cy="22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4"/>
            <p:cNvSpPr/>
            <p:nvPr/>
          </p:nvSpPr>
          <p:spPr>
            <a:xfrm>
              <a:off x="6516720" y="6237360"/>
              <a:ext cx="98568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upa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5867280" y="1125360"/>
            <a:ext cx="2665440" cy="2448000"/>
            <a:chOff x="5867280" y="1125360"/>
            <a:chExt cx="2665440" cy="2448000"/>
          </a:xfrm>
        </p:grpSpPr>
        <p:pic>
          <p:nvPicPr>
            <p:cNvPr id="129" name="Picture 11" descr="mosquito-parts"/>
            <p:cNvPicPr/>
            <p:nvPr/>
          </p:nvPicPr>
          <p:blipFill>
            <a:blip r:embed="rId4"/>
            <a:stretch/>
          </p:blipFill>
          <p:spPr>
            <a:xfrm>
              <a:off x="5867280" y="1125360"/>
              <a:ext cx="26654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15"/>
            <p:cNvSpPr/>
            <p:nvPr/>
          </p:nvSpPr>
          <p:spPr>
            <a:xfrm>
              <a:off x="6732720" y="3141720"/>
              <a:ext cx="100800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Adult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1" name="AutoShape 20"/>
          <p:cNvSpPr/>
          <p:nvPr/>
        </p:nvSpPr>
        <p:spPr>
          <a:xfrm>
            <a:off x="4140360" y="1700280"/>
            <a:ext cx="1439640" cy="792000"/>
          </a:xfrm>
          <a:prstGeom prst="leftArrow">
            <a:avLst>
              <a:gd name="adj1" fmla="val 50000"/>
              <a:gd name="adj2" fmla="val 4544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21"/>
          <p:cNvSpPr/>
          <p:nvPr/>
        </p:nvSpPr>
        <p:spPr>
          <a:xfrm rot="16200000">
            <a:off x="2421720" y="3464280"/>
            <a:ext cx="577800" cy="792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22"/>
          <p:cNvSpPr/>
          <p:nvPr/>
        </p:nvSpPr>
        <p:spPr>
          <a:xfrm flipH="1">
            <a:off x="4139640" y="5157720"/>
            <a:ext cx="1439640" cy="792360"/>
          </a:xfrm>
          <a:prstGeom prst="leftArrow">
            <a:avLst>
              <a:gd name="adj1" fmla="val 50000"/>
              <a:gd name="adj2" fmla="val 4542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23"/>
          <p:cNvSpPr/>
          <p:nvPr/>
        </p:nvSpPr>
        <p:spPr>
          <a:xfrm flipV="1" rot="5400000">
            <a:off x="7055640" y="3465000"/>
            <a:ext cx="577800" cy="792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755640" y="836640"/>
            <a:ext cx="7683480" cy="5184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  #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لعب البعوض دورا هاما في نقل العديد من الأمراض من أهمها 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الحمى الصفراء والملا ريا  والفيلاريا وحمى الدنج  وحمى الوادي المتصدع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تنقل بعوضة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edes aegypt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ايلي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حمى الصفراء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المسبب فيروس متوطن في جنوب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السودان وبعض مناطق افريقيا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حمى الدن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gue fever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مسبب فيروس متوطن في المناط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الاستوائية وشبه الاستوائية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نقل بعوضة إيدس الحمى المخية الشوكية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ephalit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539640" y="981000"/>
            <a:ext cx="7899480" cy="5184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توجد ثلاثة أجناس للبعوض الناقل للمرض وهي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pheles sp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lex sp 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es sp 3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il_fi" descr="http://arellevalla.com/wp-content/uploads/2010/08/aedes-aegypti-dengue.jpg"/>
          <p:cNvPicPr/>
          <p:nvPr/>
        </p:nvPicPr>
        <p:blipFill>
          <a:blip r:embed="rId3"/>
          <a:stretch/>
        </p:blipFill>
        <p:spPr>
          <a:xfrm>
            <a:off x="571680" y="2928960"/>
            <a:ext cx="821520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8:32:15Z</dcterms:created>
  <dc:creator>WinXp</dc:creator>
  <dc:description/>
  <dc:language>en-US</dc:language>
  <cp:lastModifiedBy>Ashraf Alii</cp:lastModifiedBy>
  <dcterms:modified xsi:type="dcterms:W3CDTF">2012-09-30T09:40:50Z</dcterms:modified>
  <cp:revision>184</cp:revision>
  <dc:subject/>
  <dc:title>الشريحة 1</dc:title>
</cp:coreProperties>
</file>