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8.jpeg" ContentType="image/jpeg"/>
  <Override PartName="/ppt/media/image11.png" ContentType="image/png"/>
  <Override PartName="/ppt/media/image17.gif" ContentType="image/gif"/>
  <Override PartName="/ppt/media/image3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10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CE66-3560-409A-855A-2B3A92764BB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AC93-1FDA-4286-BFDE-E5FE858DD6F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CAA81-002B-4790-BE53-CFC1AFC7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48204-EEC1-4444-A345-415B0103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62576-F5B9-4B08-9B15-5D2436459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393D8-403E-49D5-8935-AC80D69DA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FA61-C844-47E5-9979-28710D56F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E80C-8F3D-483B-9CC1-78ECDD42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635C-7929-48EF-B649-49CBD97B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FDBA-B498-481D-B891-8A9DA01F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E4E8-C311-42E1-B1BA-3F9EFA39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8102-287D-4FF7-9CEC-8B88C1F8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B14F-C9AA-4730-BCE2-4720EAB2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1D3F7-9F55-4F69-94C4-F2D2E945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CBC4-9317-4DCC-8216-50D72922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B0F1-CF13-48D2-8369-1CED02B3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6436-31E4-4CB6-B720-F9884B66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3BED-C158-4042-9442-0E7617C9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A1D8-60B2-4E95-BE77-D4634CAEC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5FB8F-9776-4222-B0FC-C75E9EE0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D3959-E58D-4474-A34B-0AE7BAA6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3B699-096B-41C7-8907-D8D03B25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3A998-EF71-463E-8B04-43A3DEE6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C55BF-BA78-4404-9CEB-7686EF28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D12DA-22C9-4BC8-8812-AB1D31EC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CDE9E-FC4F-41A1-B5F4-079104DC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F85C-F031-44AF-AA07-FD8099A468A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409B-5633-47FD-A2AA-B0EB7C8EEDF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10"/>
          <p:cNvGrpSpPr/>
          <p:nvPr/>
        </p:nvGrpSpPr>
        <p:grpSpPr>
          <a:xfrm>
            <a:off x="287280" y="398520"/>
            <a:ext cx="8569440" cy="6270480"/>
            <a:chOff x="287280" y="398520"/>
            <a:chExt cx="8569440" cy="6270480"/>
          </a:xfrm>
        </p:grpSpPr>
        <p:pic>
          <p:nvPicPr>
            <p:cNvPr id="108" name="Picture 9" descr="صورة1"/>
            <p:cNvPicPr/>
            <p:nvPr/>
          </p:nvPicPr>
          <p:blipFill>
            <a:blip r:embed="rId1"/>
            <a:stretch/>
          </p:blipFill>
          <p:spPr>
            <a:xfrm>
              <a:off x="287280" y="398520"/>
              <a:ext cx="8569440" cy="627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WordArt 7"/>
            <p:cNvSpPr txBox="1"/>
            <p:nvPr/>
          </p:nvSpPr>
          <p:spPr>
            <a:xfrm>
              <a:off x="755640" y="1157400"/>
              <a:ext cx="7289640" cy="417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8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 </a:t>
              </a:r>
              <a:endParaRPr b="1" lang="en-US" sz="1800" spc="1" strike="noStrike">
                <a:ln w="12600">
                  <a:solidFill>
                    <a:srgbClr val="8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pic>
        <p:nvPicPr>
          <p:cNvPr id="110" name="Picture 6" descr=""/>
          <p:cNvPicPr/>
          <p:nvPr/>
        </p:nvPicPr>
        <p:blipFill>
          <a:blip r:embed="rId4"/>
          <a:stretch/>
        </p:blipFill>
        <p:spPr>
          <a:xfrm>
            <a:off x="1214280" y="1285920"/>
            <a:ext cx="6392880" cy="4805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395280" y="620640"/>
            <a:ext cx="8424720" cy="5832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134"/>
          <p:cNvPicPr/>
          <p:nvPr/>
        </p:nvPicPr>
        <p:blipFill>
          <a:blip r:embed="rId1"/>
          <a:stretch/>
        </p:blipFill>
        <p:spPr>
          <a:xfrm>
            <a:off x="1908000" y="1628640"/>
            <a:ext cx="5537520" cy="41529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2484360" y="260280"/>
            <a:ext cx="379404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واجد البعوض بشكل عام في المملك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7080" y="189000"/>
            <a:ext cx="4896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أماكن تواجد الأمراض المنقولة بالبعوض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2" name="Picture 4" descr="saudi_arabia"/>
          <p:cNvPicPr/>
          <p:nvPr/>
        </p:nvPicPr>
        <p:blipFill>
          <a:blip r:embed="rId1"/>
          <a:stretch/>
        </p:blipFill>
        <p:spPr>
          <a:xfrm>
            <a:off x="1547640" y="1052640"/>
            <a:ext cx="6409080" cy="5616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random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755640" y="765000"/>
            <a:ext cx="7899480" cy="5328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886e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il_fi" descr="http://1.bp.blogspot.com/-bM6lOHG_LrM/ThYhTvdTN9I/AAAAAAAAHwE/CpmKrvDoZdk/s640/aedes-aegypti+life+cyle+2.png"/>
          <p:cNvPicPr/>
          <p:nvPr/>
        </p:nvPicPr>
        <p:blipFill>
          <a:blip r:embed="rId2"/>
          <a:stretch/>
        </p:blipFill>
        <p:spPr>
          <a:xfrm>
            <a:off x="1258920" y="476280"/>
            <a:ext cx="6858000" cy="6000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e5ff"/>
                </a:solidFill>
                <a:latin typeface="Garamond"/>
              </a:rPr>
              <a:t>الوقاية والعلاج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ويُعد اللقاح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17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المضاد للحمى الصفراء لقاحاً مأموناً. ويُحدث هذا اللقاح مفعوله الوقائي (المناعة) خلال أسبوع واحد لدى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95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% من الأشخاص المُطعّمين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539640" y="765000"/>
            <a:ext cx="8186760" cy="5185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خطورة استخدام المبيدات الكيميائية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أصبح استخدام المبيدات الكيميائية جزءا من الماضي إلا في أضيق الحالات و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لمدة محدودة مع معرفة المواد الكيميائية المستخدمة مسبقا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تلوث المياة السطحية والجوفية وتدمر الحياة الطبيعية من نبات وحيوان وتؤثر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على صحة الإنسان حيث تسبب له أمراض الكبد والسرطان وغيرها من الأمراض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المقاومة المناعية التي تبديها البعوض بعد فترة من الزمن وظهور سلالة مقاومة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للمبيد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تقتل الحيوانات الضارة والنافعة بدون تمييز أو انتقاء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 flipH="1">
            <a:off x="683640" y="404640"/>
            <a:ext cx="7848360" cy="5473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100000"/>
              </a:lnSpc>
              <a:buClr>
                <a:srgbClr val="a886e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886e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886e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886e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886e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886e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886e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886e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 flipH="1">
            <a:off x="683640" y="333360"/>
            <a:ext cx="7848360" cy="6264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886e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886e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 flipH="1">
            <a:off x="683640" y="620640"/>
            <a:ext cx="7848360" cy="5545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شعار جامعة الملك سعود"/>
          <p:cNvPicPr/>
          <p:nvPr/>
        </p:nvPicPr>
        <p:blipFill>
          <a:blip r:embed="rId2"/>
          <a:stretch/>
        </p:blipFill>
        <p:spPr>
          <a:xfrm>
            <a:off x="6372360" y="0"/>
            <a:ext cx="2771640" cy="20779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9"/>
          <p:cNvSpPr/>
          <p:nvPr/>
        </p:nvSpPr>
        <p:spPr>
          <a:xfrm>
            <a:off x="785880" y="2571840"/>
            <a:ext cx="6929280" cy="2071440"/>
          </a:xfrm>
          <a:prstGeom prst="rect">
            <a:avLst/>
          </a:prstGeom>
          <a:solidFill>
            <a:srgbClr val="000080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Garamond"/>
              </a:rPr>
              <a:t>Yellow fever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0" y="4643280"/>
            <a:ext cx="5429160" cy="1714680"/>
          </a:xfrm>
          <a:prstGeom prst="rect">
            <a:avLst/>
          </a:prstGeom>
          <a:solidFill>
            <a:srgbClr val="000080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عداد باحث دكتوراه / علي بن عبدالله بن مفلح ال مريد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رقم الجامعي /          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4321083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179280" y="404640"/>
            <a:ext cx="864072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قدمة 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buClr>
                <a:srgbClr val="a886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رض فيروسي حاد ينتج عن الإصابة بفيروس من عائلة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aviviridae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ينقل هذا الفيروس عدة أنواع من البعوض الحامل للمرض منها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(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edes aegypti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) و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edes africanu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buClr>
                <a:srgbClr val="a886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ينتشر فيروس الحمى الصفراء في جسم الإنسان عن طريق الجهاز اللمفاوي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فيصيب القلب والكلية والغدة الكظرية والكبد والدم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وتستغرق فترة حضانته حوالي ستة أيا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Garamond"/>
              </a:rPr>
              <a:t>وكلمة "الصفراء" الواردة في اسم المرض هي نتيجة لإصابة بعض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</a:rPr>
              <a:t>المرضى بيرقان يتسبّب في اصفرار أعينهم وبشرته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صورة 1" descr="C:\Users\hp\Desktop\PhD in Animal Science\دراسة برنامج دكتوراه -الفصل الدراسي الاول 1433-1434\611حين الحشرات والطفيليات التطبيقية (1\viewerCALMEGD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179280" y="404640"/>
            <a:ext cx="864072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قدمة 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buClr>
                <a:srgbClr val="a886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يوجد حوالى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3000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نوع من البعوض – حوالى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100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نوع مسئول عن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نقل الأمراض للإنسان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buClr>
                <a:srgbClr val="a886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بعوض من أشد الحشرات فتكا بصحة الإنسان والحيوان نظرا لاعتما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إناثها على دم عوائلها للحصول على غذائها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buClr>
                <a:srgbClr val="a886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وجد أنواع عديدة من البعوض من أهمها كيولكس والأيديس والأنوفلي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دورة حياة البعوض تمر بأربعة مراحل من النمو وهي مرحلة البيضة و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يرقة والعذراء والطور البالغ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كما هو موضح بالشكل التالي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1258920" y="1700280"/>
            <a:ext cx="74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Garamond"/>
              </a:rPr>
              <a:t>Endemic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Garamond"/>
              </a:rPr>
              <a:t>Epidemic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Garamond"/>
              </a:rPr>
              <a:t>LIFE CYC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19" name="Group 16"/>
          <p:cNvGrpSpPr/>
          <p:nvPr/>
        </p:nvGrpSpPr>
        <p:grpSpPr>
          <a:xfrm>
            <a:off x="1476360" y="1341360"/>
            <a:ext cx="2374920" cy="2158920"/>
            <a:chOff x="1476360" y="1341360"/>
            <a:chExt cx="2374920" cy="2158920"/>
          </a:xfrm>
        </p:grpSpPr>
        <p:pic>
          <p:nvPicPr>
            <p:cNvPr id="120" name="Picture 8" descr="mosquito-egg2a"/>
            <p:cNvPicPr/>
            <p:nvPr/>
          </p:nvPicPr>
          <p:blipFill>
            <a:blip r:embed="rId1"/>
            <a:stretch/>
          </p:blipFill>
          <p:spPr>
            <a:xfrm>
              <a:off x="1476360" y="1341360"/>
              <a:ext cx="237492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Rectangle 12"/>
            <p:cNvSpPr/>
            <p:nvPr/>
          </p:nvSpPr>
          <p:spPr>
            <a:xfrm>
              <a:off x="1979640" y="3068640"/>
              <a:ext cx="1295280" cy="431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Egg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22" name="Group 24"/>
          <p:cNvGrpSpPr/>
          <p:nvPr/>
        </p:nvGrpSpPr>
        <p:grpSpPr>
          <a:xfrm>
            <a:off x="1763640" y="4221000"/>
            <a:ext cx="1905120" cy="2448000"/>
            <a:chOff x="1763640" y="4221000"/>
            <a:chExt cx="1905120" cy="2448000"/>
          </a:xfrm>
        </p:grpSpPr>
        <p:pic>
          <p:nvPicPr>
            <p:cNvPr id="123" name="Picture 9" descr="mosquito-larva2a"/>
            <p:cNvPicPr/>
            <p:nvPr/>
          </p:nvPicPr>
          <p:blipFill>
            <a:blip r:embed="rId2"/>
            <a:stretch/>
          </p:blipFill>
          <p:spPr>
            <a:xfrm>
              <a:off x="1763640" y="4221000"/>
              <a:ext cx="1905120" cy="224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Rectangle 13"/>
            <p:cNvSpPr/>
            <p:nvPr/>
          </p:nvSpPr>
          <p:spPr>
            <a:xfrm>
              <a:off x="2411280" y="6237360"/>
              <a:ext cx="1152720" cy="431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Larva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25" name="Group 19"/>
          <p:cNvGrpSpPr/>
          <p:nvPr/>
        </p:nvGrpSpPr>
        <p:grpSpPr>
          <a:xfrm>
            <a:off x="6227640" y="4221000"/>
            <a:ext cx="1905120" cy="2448000"/>
            <a:chOff x="6227640" y="4221000"/>
            <a:chExt cx="1905120" cy="2448000"/>
          </a:xfrm>
        </p:grpSpPr>
        <p:pic>
          <p:nvPicPr>
            <p:cNvPr id="126" name="Picture 10" descr="mosquito-pupa"/>
            <p:cNvPicPr/>
            <p:nvPr/>
          </p:nvPicPr>
          <p:blipFill>
            <a:blip r:embed="rId3"/>
            <a:stretch/>
          </p:blipFill>
          <p:spPr>
            <a:xfrm>
              <a:off x="6227640" y="4221000"/>
              <a:ext cx="1905120" cy="224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ctangle 14"/>
            <p:cNvSpPr/>
            <p:nvPr/>
          </p:nvSpPr>
          <p:spPr>
            <a:xfrm>
              <a:off x="6516720" y="6237360"/>
              <a:ext cx="985680" cy="431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Pupa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28" name="Group 18"/>
          <p:cNvGrpSpPr/>
          <p:nvPr/>
        </p:nvGrpSpPr>
        <p:grpSpPr>
          <a:xfrm>
            <a:off x="5867280" y="1125360"/>
            <a:ext cx="2665440" cy="2448000"/>
            <a:chOff x="5867280" y="1125360"/>
            <a:chExt cx="2665440" cy="2448000"/>
          </a:xfrm>
        </p:grpSpPr>
        <p:pic>
          <p:nvPicPr>
            <p:cNvPr id="129" name="Picture 11" descr="mosquito-parts"/>
            <p:cNvPicPr/>
            <p:nvPr/>
          </p:nvPicPr>
          <p:blipFill>
            <a:blip r:embed="rId4"/>
            <a:stretch/>
          </p:blipFill>
          <p:spPr>
            <a:xfrm>
              <a:off x="5867280" y="1125360"/>
              <a:ext cx="266544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Rectangle 15"/>
            <p:cNvSpPr/>
            <p:nvPr/>
          </p:nvSpPr>
          <p:spPr>
            <a:xfrm>
              <a:off x="6732720" y="3141720"/>
              <a:ext cx="1008000" cy="431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Adult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31" name="AutoShape 20"/>
          <p:cNvSpPr/>
          <p:nvPr/>
        </p:nvSpPr>
        <p:spPr>
          <a:xfrm>
            <a:off x="4140360" y="1700280"/>
            <a:ext cx="1439640" cy="792000"/>
          </a:xfrm>
          <a:prstGeom prst="leftArrow">
            <a:avLst>
              <a:gd name="adj1" fmla="val 50000"/>
              <a:gd name="adj2" fmla="val 45443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AutoShape 21"/>
          <p:cNvSpPr/>
          <p:nvPr/>
        </p:nvSpPr>
        <p:spPr>
          <a:xfrm rot="16200000">
            <a:off x="2421720" y="3464280"/>
            <a:ext cx="577800" cy="792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AutoShape 22"/>
          <p:cNvSpPr/>
          <p:nvPr/>
        </p:nvSpPr>
        <p:spPr>
          <a:xfrm flipH="1">
            <a:off x="4139640" y="5157720"/>
            <a:ext cx="1439640" cy="792360"/>
          </a:xfrm>
          <a:prstGeom prst="leftArrow">
            <a:avLst>
              <a:gd name="adj1" fmla="val 50000"/>
              <a:gd name="adj2" fmla="val 45423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AutoShape 23"/>
          <p:cNvSpPr/>
          <p:nvPr/>
        </p:nvSpPr>
        <p:spPr>
          <a:xfrm flipV="1" rot="5400000">
            <a:off x="7055640" y="3465000"/>
            <a:ext cx="577800" cy="792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755640" y="836640"/>
            <a:ext cx="7683480" cy="5184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  #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لعب البعوض دورا هاما في نقل العديد من الأمراض من أهمها 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الحمى الصفراء والملا ريا  والفيلاريا وحمى الدنج  وحمى الوادي المتصدع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تنقل بعوضة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edes aegypt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مايلي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الحمى الصفراء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llow fever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المسبب فيروس متوطن في جنوب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السودان وبعض مناطق افريقيا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حمى الدنج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gue fever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المسبب فيروس متوطن في المناط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الاستوائية وشبه الاستوائية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تنقل بعوضة إيدس الحمى المخية الشوكية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ephalit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539640" y="981000"/>
            <a:ext cx="7899480" cy="5184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886e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توجد ثلاثة أجناس للبعوض الناقل للمرض وهي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opheles sp 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ulex sp 2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des sp 3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ar-SA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il_fi" descr="http://arellevalla.com/wp-content/uploads/2010/08/aedes-aegypti-dengue.jpg"/>
          <p:cNvPicPr/>
          <p:nvPr/>
        </p:nvPicPr>
        <p:blipFill>
          <a:blip r:embed="rId3"/>
          <a:stretch/>
        </p:blipFill>
        <p:spPr>
          <a:xfrm>
            <a:off x="571680" y="2928960"/>
            <a:ext cx="8215200" cy="3000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08:32:15Z</dcterms:created>
  <dc:creator>WinXp</dc:creator>
  <dc:description/>
  <dc:language>en-US</dc:language>
  <cp:lastModifiedBy>Ashraf Alii</cp:lastModifiedBy>
  <dcterms:modified xsi:type="dcterms:W3CDTF">2012-09-30T09:40:50Z</dcterms:modified>
  <cp:revision>184</cp:revision>
  <dc:subject/>
  <dc:title>الشريحة 1</dc:title>
</cp:coreProperties>
</file>