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E204-D9F2-4236-AD68-6EB3C6378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5E58-322A-4D34-B1F4-76345ED3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2B72-309F-4E9A-9F51-CC241B13D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125F-CFE4-416F-BC38-47A61C79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3763-F62E-4536-888B-E59F9CE0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4B7D-CB96-4CD5-B609-1544061C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90DB-03E2-45DD-879F-5315A287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F575-A3FC-4228-8CC9-9A61683A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3491-C689-4128-9A16-1404C333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7B61-58F9-458A-9CFD-B242A2AC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00CF-4626-411B-9B7C-AA7EDD00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5599-3904-49AC-A37D-B61B18A1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E26F-79EF-4C5F-876E-5758AFA7980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Plasmid_(english).svg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en.wikipedia.org/wiki/File:Plasmid_replication_(english).svg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Calibri"/>
              </a:rPr>
              <a:t>الهندسة الوراث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تهدف إلي التلاعب بالجينات بطريقة تسمح بظهور صفات جديدة مفضلة أو إزالة صفة غير مرغوب فيها موجو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تتم عملية الهندسة الوراثية بخطوات متتالية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 algn="r" rtl="1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استخلاص الحمض النووي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أو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NA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لعزل جين معين لازم لعملية الهندس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 algn="r" rtl="1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استخدام الإنزيمات القاطعة والفصل بالهجرة الكهربية عبر هلام  لعزل الجين المطلوب أو قطع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المحتوية علي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 algn="r" rtl="1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استخدام ناقل مناسب لربط الجين المطلوب معه وادخالة إلي مضيف مناسب لتضخيمة وزيادة عدد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 algn="r" rtl="1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إدخال النواقل الهجينة إلي المضائف المطلوب تعديلها وراثي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 algn="r" rtl="1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الكشف عن عمل الجين الجدي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Calibri"/>
              </a:rPr>
              <a:t>أماكن القطع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876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ct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Eco R I</a:t>
            </a: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 algn="r" rtl="1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المستخلص من بكتريا القولون  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Escherichia coli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يكسر الحمض النووي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إلي قطع مختلف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 algn="r" rtl="1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الطول (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100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و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200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و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300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و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400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) قاعدة نيتروجين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 algn="r" rtl="1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يتعرف علي التتابع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G*AATTC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ويقطع بين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و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 algn="r" rtl="1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يولد نهايات لاصقة أو لزجة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ohesive e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Hind I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 algn="r" rtl="1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المستخلص من بكتريا 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Haemophilus influenza 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 algn="r" rtl="1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يكسر الحمض النووي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إلي قطع مختلفة الطول (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150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و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250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و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600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) قاعدة نيتروجين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طريقة عمل إنزيم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co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صورة 1" descr=""/>
          <p:cNvPicPr/>
          <p:nvPr/>
        </p:nvPicPr>
        <p:blipFill>
          <a:blip r:embed="rId1"/>
          <a:stretch/>
        </p:blipFill>
        <p:spPr>
          <a:xfrm>
            <a:off x="1285920" y="1500120"/>
            <a:ext cx="63579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500040" y="50004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ينتج عن عملية القط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أ. </a:t>
            </a: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نهايات لزج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- </a:t>
            </a: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مناسبة لدمج قطع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مع جزيء أخر يمتلك تلك النهايات حيث يمكن أن تزدوج التتابعات البارزة مع تتابعات مكملة تتولد بنفس الإنزي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- عند قطع عينتين مختلفتين من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بنفس الإنزيم ثم تخلط هاتين القطعتين معا فانه يمكن إنتاج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معاود الارتبا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مثال: إنزيمات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st-1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Eco R1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240120" indent="-2401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ب. نهايات مستوية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: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Blunt ends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لا 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يمكنها الالتحام إلا أذا أجريت لها بعض التحورات لجعلها لزج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240120" indent="-2401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مثال : إنزيمات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aeIII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و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am I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و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ap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240120" indent="-2401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85840" y="42876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3" marL="322200" indent="-32220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طريقة عمل الإنزيمات القاطع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322200" indent="-3222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- تعمل معظم إنزيمات القطع وفق نظام يعرف بالسلاسل المتتابعة التطابق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alindromic sequences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أي تقرءا من الاتجاهين  (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-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أزواج من القواعد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22200" indent="-3222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مثال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22200" indent="-3222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GGATC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22200" indent="-3222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CTAG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22200" indent="-3222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22200" indent="-3222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GAAT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22200" indent="-3222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TTAA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22200" indent="-3222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GCGGCCG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22200" indent="-3222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GCCGGC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22200" indent="-3222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22200" indent="-3222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428840" y="357120"/>
            <a:ext cx="671508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2</a:t>
            </a: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. إنزيمات البلمرة 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DNA polymera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1374840"/>
            <a:ext cx="8472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52520" indent="-4525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- تبني جزيئات الحامض النووي (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NA or RNA Dependent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) في الاتجاه 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إلي 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 algn="r" rtl="1">
              <a:spcBef>
                <a:spcPts val="700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إنزيمات بلمره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 في يكتريا القولون تمتلك خواص قطع خارجي في الاتجاهين 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إلي 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و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إلي 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لانها تتكون من وحداتين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أ. قطعة كلينو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Klenow fragment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تقوم بالبناء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ب.  والنيكليز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uclease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تقوم بالقط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 algn="r" rtl="1">
              <a:spcBef>
                <a:spcPts val="700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في حقيقيات النواة لا تمتلك أنزيمات بلمرة الحمض النووي  نشاط الهدم بل توجد إنزيمات مستقلة تقوم بذلك (إنزيم هدم داخلي وخارجي التي تزيل النيكليوتيدات من داخل أو خارج أشرطة الحمض النووي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3</a:t>
            </a: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 .إنزيمات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DNA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 المحورة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DNA modifying enzy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0040" y="1285920"/>
            <a:ext cx="8400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أ. أنزيمات اللحام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ligase enzy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8000" indent="-468000" algn="r" rtl="1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إعادة روابط الفوسفات ثنائية الاستر بين النيكليوتيدات (عكس إنزيمات القط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8000" indent="-468000" algn="r" rtl="1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NA ligase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الإنزيم المعزول من أنواع مختلفة من الكائنات الحية: يربط قطع الحامض النووي ذات النهايات اللزجة – يحتاج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NAD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8000" indent="-468000" algn="r" rtl="1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4 ligase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: المعزول من العاثي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4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بعد أصابته لبكتريا القولون 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E. Coli</a:t>
            </a:r>
            <a:r>
              <a:rPr b="1" i="1" lang="ar-SA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– له القدرة علي إعادة التحام قطع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ذات النهايات اللزجة أو العمياء – يحتاج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8000" indent="-468000" algn="r" rtl="1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لا تعمل علي تكوين الروابط الهيدروجين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28760" y="108864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4</a:t>
            </a: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. الإنزيمات المحورة لنهايات جزيئات 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D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أ. الفوسفاتيز القلوي: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Alkaline phosphat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يضيف أو يزيل مجموعة الفوسف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. ناقل الأطراف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erminal transfer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يضيف ذيول البوليمر المتماثل إلي جزيئات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قبل بناء معاودات الارتبا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استخلاص الحامض النووي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14200" y="135720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طريقة الفينول: كلوروفورم: ايزوبروبانول ويتم في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00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تحطيم الجدر الخلوية باستخدام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DS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00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فصل البروتينات عن الحامض النوو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00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التخلص من إنزيمات هدم الحامض النوو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00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تنقية الحامض النووي وتجميعه في صورة نقية خالية من البروت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00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يرسب الحامض بواسطة الكحول المثلج ويظهر علي شكل خيوط بيضاء تجمع بواسطة الطرد المركز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(برجاء الرجوع للخطوات العملية لاستخلاص الحامض النووي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استخلاص الحامض النووي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mR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571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r" rtl="1">
              <a:spcBef>
                <a:spcPts val="700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يتم بناء حامض نووي متمم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DNA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من قالب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700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RNA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يمثل المورثات النشطة القادرة علي التعبير عن نفسها فق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700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يعزل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otal RNA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باستخدام طريقة الطرد المركزي الفائق في وجود ملح كلوريد السيزيز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700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يفصل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. RNA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ويجفف ويذاب في عدة مللميترات من الماء المقطر وينقل إلي عمود الفصل من نوع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oligo dT cellulose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لفصل الحامض النووي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RNA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عن بقية الأنواع الاخر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700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تصنع نسخ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DNA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من قالب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RNA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اعتمادا علي قدرة أنزيم النسخ العكسي الذي يتمكن من بناء بوجود بادئة ملتصقة مع قالب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Calibri"/>
              </a:rPr>
              <a:t>إنزيمات الهندسة الوراث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287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أنزيمات هدم الأحماض النووي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Nucl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إنزيمات بلمرة الحمض النووي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olymer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إنزيمات التحوير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Modifying enzy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إنزيمات إزالة الانطباق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opisomers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نواقل الهندسة الوراثية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vectors or vehic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جزيئات بيولوجية كبيرة مؤلفة من حامض النووي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دائري أو مستقي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صفات النواقل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- مستقرة وغير قابلة للتحل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- تتضاعف داخل الخلية بصورة شبه مستقلة أو مستقل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- لها القدرة علي استيعاب قطع من الحامض النووي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من أهم النواقل  : البلازميدات – العاثيات – الكوزميدا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البلازميدا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البلازميد: هو جزيء صغير حلقي مزدوج من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مسئول عن إكساب الخلية البكتيرية صفة المقاومة الضد حيوية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يوجد العديد من البلازميدات في البكتريا وبعض الخمائ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صفات البلازميدا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6840" y="11430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اصغر من كرموسوم الخلية المضيفة مما يجعل من السهل عزلة حيث (يتراوح حجم البلازميد بين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200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كليو قاعدة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غير ضرورية لنمو وتكاثر الخل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تتضاعف باستخدام الإنزيمات الخلوية ولكنها تسيطر علي تأسيس عملية التضاع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تمتلك موقع للتضاعف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Ori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)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يسمح لها بتناسخ  بشكل مستقل عن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الخلية البكتري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يستوعب قطع من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بطول 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10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كيلو قاع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تتابع القواعد النيتروجينية في البلازميد معروف بالكامل مما يتيح المكان المحدد لنشاط القطع الإنزيمي والذي يتم فيه إدخال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المراد إضافت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6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قابلة للاتحاد مع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الخلية لاحتواها علي تتابعات تسمي بالعناصر الانتقالية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ransposable elements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لها تتابعات متممة في الحامض النووي الخلوي(تفتح نفسها ذاتيا أو بواسطة الإنزيمات من هذه التتابعات وتلتحم مع نظائرها  المتممة علي الحامض النووي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بعض البلازميدات تتحد مع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الخلية وتتضاعف عند تضاعف الخلية وتدعي بالايبوسومات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تمتلك نوعا ما من علامات انتخابية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electable marker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تسهل من عملية فصلها وتميز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ذو استقرارية عالية بعد الغرس وبقاءه في الخلية المضيفة دون تحل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upload.wikimedia.org/wikipedia/commons/thumb/c/cf/Plasmid_%28english%29.svg/300px-Plasmid_%28english%29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0280" y="142920"/>
            <a:ext cx="2857680" cy="1343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://upload.wikimedia.org/wikipedia/commons/thumb/4/42/Plasmid_replication_%28english%29.svg/400px-Plasmid_replication_%28english%29.svg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2960" y="1714680"/>
            <a:ext cx="75722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أنزيمات هدم الأحماض النووي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DNAases and Rnases Nuclea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903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أ. انزيمات الهدم الداخلي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Endonuclease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- تكسر روابط الفوسفات ثنائية الاستر من داخل سلاسل الحمض النوو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- تنتج قطع  مختلفة الحجم من الحمض النوو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ب. أنزيمات الهدم الخارجي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Exonucl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- تفصل النيكليوتيدات من نهايات سلاسل الحامض النوو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لتنتج وحدات مفردة علي الأغل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500040" y="214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Calibri"/>
              </a:rPr>
              <a:t>أنواع الإنزيمات النوو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Type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غير قادرة علي قطع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عند مواقع ثابتة – تقطع بطريقة عشوائية – تحتاج مساعدة مثل أيونات الماغنسيوم و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ATP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و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- adenosyl – methionine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- غير هامة في الهندسة الوراث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Type 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قادرة علي قطع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عند مواقع ثابتة (أكثر من 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200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إنزيم نووي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Type I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وسط بين النوع الاول والثاني – تقطع الحمض النووي في اماكن محددة – تحتاج الي عوامل مساعد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3358440" y="-1266120"/>
            <a:ext cx="242712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riction Enzy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users.rcn.com/jkimball.ma.ultranet/BiologyPages/R/RestrictionDigest.jpg"/>
          <p:cNvPicPr/>
          <p:nvPr/>
        </p:nvPicPr>
        <p:blipFill>
          <a:blip r:embed="rId1"/>
          <a:stretch/>
        </p:blipFill>
        <p:spPr>
          <a:xfrm>
            <a:off x="428760" y="852480"/>
            <a:ext cx="8072280" cy="5862600"/>
          </a:xfrm>
          <a:prstGeom prst="rect">
            <a:avLst/>
          </a:prstGeom>
          <a:ln w="0">
            <a:noFill/>
          </a:ln>
        </p:spPr>
      </p:pic>
      <p:sp>
        <p:nvSpPr>
          <p:cNvPr id="50" name="مربع نص 5"/>
          <p:cNvSpPr/>
          <p:nvPr/>
        </p:nvSpPr>
        <p:spPr>
          <a:xfrm>
            <a:off x="1928880" y="214200"/>
            <a:ext cx="55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هضم الحمض النووي المنزوع الأكسج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. إنزيمات القطع التحديدية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Restriction Endonuclease Enzy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42560" y="1642680"/>
            <a:ext cx="9001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- إنزيمات نووية (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striction Endonuclease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متخصصة لديها القدرة علي هضم وتكسير جزيء الحمض النووي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إلي قطع محددة الطول عند أماكن محدد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- توجد في الخلايا البكترية وتعمل كجزء من آلية يطلق عليها عملية التحوير حيث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700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يحلل الإنزيم التحديدي مائيا أي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خارجيا يظهر في الخلية (تستطيع بعض الفيروسات إصابة البكتريا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usceptible bacteria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بينما يفشل البعض بسبب هضم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الفيروسي في البكتريا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on- susceptible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700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يمنع الإنزيم التحديدي تحليل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الخلية عن طريق تحويره بواسط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إضافة المثيل لقواعد معينة في تتابع التعرف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cognition self Sequence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تسمية إنزيمات القطع</a:t>
            </a:r>
            <a:br>
              <a:rPr sz="3600"/>
            </a:b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 (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Smith and Nathans 1973</a:t>
            </a:r>
            <a:r>
              <a:rPr b="0" lang="ar-SA" sz="3600" spc="-1" strike="noStrike">
                <a:solidFill>
                  <a:srgbClr val="ffff00"/>
                </a:solidFill>
                <a:latin typeface="Calibri"/>
              </a:rPr>
              <a:t>)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8912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يعطي الإنزيم اسم حرفيا يتكون من 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حروف . يرمز الحرف الأول إلي اسم الجنس الكائن المستخلص منة الإنزيم ويكون كبير بينما يرمز الحرفان الآخران إلي اسم النوع ويكتبان بحروف صغي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نوع السلالة (نمط التميز) يرمز له بحرف يكتب بعد ألاسم المشتق من الجنس والنو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عندما تحتوي السلالة علي أكثر من أنزيم تحديدي تعطي الإنزيمات أرقاما تصاعدية وتكتب الأرقام بحروف رمان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Calibri"/>
              </a:rPr>
              <a:t>النظام المتبع في تسمية الإنزيمات المحدد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14200" y="1600200"/>
          <a:ext cx="8686800" cy="4900680"/>
        </p:xfrm>
        <a:graphic>
          <a:graphicData uri="http://schemas.openxmlformats.org/drawingml/2006/table">
            <a:tbl>
              <a:tblPr/>
              <a:tblGrid>
                <a:gridCol w="2895840"/>
                <a:gridCol w="2895480"/>
                <a:gridCol w="2895480"/>
              </a:tblGrid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Helvetica-Oblique"/>
                          <a:cs typeface="Calibri"/>
                        </a:rPr>
                        <a:t>تتابع القواعد النيتروجينب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Helvetica-Oblique"/>
                          <a:cs typeface="Calibri"/>
                        </a:rPr>
                        <a:t>الاسم الرمزي للإنزي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Helvetica-Oblique"/>
                          <a:cs typeface="Calibri"/>
                        </a:rPr>
                        <a:t>أسم الكائ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12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GGC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CCGG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Helvetica-Oblique"/>
                          <a:ea typeface="Helvetica-Oblique"/>
                        </a:rPr>
                        <a:t>A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Helvetica-Oblique"/>
                          <a:ea typeface="Helvetica-Oblique"/>
                        </a:rPr>
                        <a:t>Acetobacter pasteurian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2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G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CG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Helvetica-Oblique"/>
                          <a:ea typeface="Helvetica-Oblique"/>
                        </a:rPr>
                        <a:t>H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Helvetica-Oblique"/>
                          <a:ea typeface="Helvetica-Oblique"/>
                        </a:rPr>
                        <a:t>Haemophilus aegyp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12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A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T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Helvetica-Oblique"/>
                          <a:ea typeface="Helvetica-Oblique"/>
                        </a:rPr>
                        <a:t>Dp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Helvetica-Oblique"/>
                          <a:ea typeface="Helvetica-Oblique"/>
                        </a:rPr>
                        <a:t>Diplococcus pneumoni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2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Helvetica-Oblique"/>
                          <a:ea typeface="Helvetica-Oblique"/>
                        </a:rPr>
                        <a:t>GAAT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Helvetica-Oblique"/>
                          <a:ea typeface="Helvetica-Oblique"/>
                        </a:rPr>
                        <a:t>CTTA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Helvetica-Oblique"/>
                          <a:ea typeface="Helvetica-Oblique"/>
                        </a:rPr>
                        <a:t>Eco R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Helvetica-Oblique"/>
                          <a:ea typeface="Helvetica-Oblique"/>
                        </a:rPr>
                        <a:t>Escherichia co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10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Helvetica-Oblique"/>
                          <a:ea typeface="Helvetica-Oblique"/>
                        </a:rPr>
                        <a:t>AAGC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Helvetica-Oblique"/>
                          <a:ea typeface="Helvetica-Oblique"/>
                        </a:rPr>
                        <a:t>TTCGA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Helvetica-Oblique"/>
                          <a:ea typeface="Helvetica-Oblique"/>
                        </a:rPr>
                        <a:t>Hind 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Helvetica-Oblique"/>
                          <a:ea typeface="Helvetica-Oblique"/>
                        </a:rPr>
                        <a:t>Haemophilus influenza 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Calibri"/>
              </a:rPr>
              <a:t>الانزيمات النووية الداخلية التحديد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Type II restriction endonucle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0012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يضاف الإنزيم إلي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المستهدف في محلول منظم ويحضن عند 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37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درجة 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يتعرف كل إنزيم علي تتابع نوعي في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يقطع الإنزيم داخل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بكسر رابطة الفوسفات ثنائي الاستر التي تربط النيكليوتيدات مع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يعبر عن النشاط الإنزيمي بالوحد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وحده = كمية الإنزيم التي يمكنها شطر بيكوجرام واحد من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في ساعة واحدة عند 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37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م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21:55:56Z</dcterms:created>
  <dc:creator>user</dc:creator>
  <dc:description/>
  <dc:language>en-US</dc:language>
  <cp:lastModifiedBy>user</cp:lastModifiedBy>
  <dcterms:modified xsi:type="dcterms:W3CDTF">2010-05-09T18:36:51Z</dcterms:modified>
  <cp:revision>126</cp:revision>
  <dc:subject/>
  <dc:title>الشريحة 1</dc:title>
</cp:coreProperties>
</file>