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582-4A31-4BEA-83EF-2A3B0054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45B-2D9F-4DF8-92D9-C12A441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D6F-4899-46A8-B428-2CAFDB6B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94A-E378-41F9-9BF0-BEA55A7D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738-9DC4-420F-9B8D-2CBCC0E1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29E-E055-4048-ABDE-D598508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233-58BE-4AA6-BC0E-82522989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AC4-4250-4B50-8518-B21B559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CD9-DC1F-44B7-B994-61785C5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9B9-D0B1-41C9-85C0-AB17BC49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758-4E15-4870-8769-5DD22C0D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691-82A9-4536-A088-98B0D0F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A48-1C59-4F89-9112-DFA00530A4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lasmid_(english).sv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Plasmid_replication_(english)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الهندسة الوراث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هدف إلي التلاعب بالجينات بطريقة تسمح بظهور صفات جديدة مفضلة أو إزالة صفة غير مرغوب فيها موجو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تم عملية الهندسة الوراثية بخطوات متتال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ستخلاص الح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و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لعزل جين معين لازم لعملية الهندس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ستخدام الإنزيمات القاطعة والفصل بالهجرة الكهربية عبر هلام  لعزل الجين المطلوب أو قط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محتوية ع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ستخدام ناقل مناسب لربط الجين المطلوب معه وادخالة إلي مضيف مناسب لتضخيمة وزيادة عد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إدخال النواقل الهجينة إلي المضائف المطلوب تعديلها وراث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r" rtl="1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كشف عن عمل الجين الجد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أماكن القطع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Eco R I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ستخلص من بكتريا القولون 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Escherichia coli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يكسر الح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إلي قطع مختل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طول (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1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4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) قاعدة نيتروجي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تعرف علي التتاب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*AATTC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يقطع بي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ولد نهايات لاصقة أو لزجة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hesive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nd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ستخلص من بكتريا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Haemophilus influenza 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كسر الح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إلي قطع مختلفة الطول (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15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5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6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) قاعدة نيتروجي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طريقة عمل إنزيم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صورة 1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6357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50004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ينتج عن عملية القط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.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نهايات لزج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-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ناسبة لدمج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ع جزيء أخر يمتلك تلك النهايات حيث يمكن أن تزدوج التتابعات البارزة مع تتابعات مكملة تتولد بنفس الإنز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عند قطع عينتين مختلفتين م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بنفس الإنزيم ثم تخلط هاتين القطعتين معا فانه يمكن إنتاج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عاود الارتبا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ثال: إنزيمات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st-1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co R1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ب. نهايات مستوية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Blunt ends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لا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مكنها الالتحام إلا أذا أجريت لها بعض التحورات لجعلها لز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ثال : إنزيمات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aeIII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am I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ap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84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طريقة عمل الإنزيمات القاط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تعمل معظم إنزيمات القطع وفق نظام يعرف بالسلاسل المتتابعة التطابق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lindromic sequences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ي تقرءا من الاتجاهين  (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-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أزواج من القواع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مثال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GATC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CTA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AAT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TTA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CGGCCG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GCCGGC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22200" indent="-322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28840" y="357120"/>
            <a:ext cx="67150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. إنزيمات البلمرة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DNA polyme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374840"/>
            <a:ext cx="8472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تبني جزيئات الحامض النووي 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 or RNA Dependent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) في الاتجاه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إنزيمات بلمره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 في يكتريا القولون تمتلك خواص قطع خارجي في الاتجاهين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لانها تتكون من وحدات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أ. قطعة كلينو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Klenow fragment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تقوم بالبنا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ب.  والنيكليز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ucleas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تقوم بالقط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في حقيقيات النواة لا تمتلك أنزيمات بلمرة الحمض النووي  نشاط الهدم بل توجد إنزيمات مستقلة تقوم بذلك (إنزيم هدم داخلي وخارجي التي تزيل النيكليوتيدات من داخل أو خارج أشرطة الحمض النووي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.إنزيمات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NA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 المحورة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NA modifying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285920"/>
            <a:ext cx="8400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. أنزيمات اللحام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igase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عادة روابط الفوسفات ثنائية الاستر بين النيكليوتيدات (عكس إنزيمات القط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 ligas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الإنزيم المعزول من أنواع مختلفة من الكائنات الحية: يربط قطع الحامض النووي ذات النهايات اللزجة – يحتاج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A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4 ligase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: المعزول من العاث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4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بعد أصابته لبكتريا القولون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E. Coli</a:t>
            </a:r>
            <a:r>
              <a:rPr b="1" i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– له القدرة علي إعادة التحام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ذات النهايات اللزجة أو العمياء – يحتاج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8000" indent="-46800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ا تعمل علي تكوين الروابط الهيدروجي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10886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. الإنزيمات المحورة لنهايات جزيئات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. الفوسفاتيز القلوي: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lkaline phospha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ضيف أو يزيل مجموعة الفوسف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. ناقل الأطراف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rminal transf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ضيف ذيول البوليمر المتماثل إلي جزيئات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قبل بناء معاودات الارتبا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استخلاص الحامض النوو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357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طريقة الفينول: كلوروفورم: ايزوبروبانول ويتم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حطيم الجدر الخلوية باستخدام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DS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فصل البروتينات عن الحامض النوو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تخلص من إنزيمات هدم الحامض النوو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نقية الحامض النووي وتجميعه في صورة نقية خالية من البروت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رسب الحامض بواسطة الكحول المثلج ويظهر علي شكل خيوط بيضاء تجمع بواسطة الطرد المركز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(برجاء الرجوع للخطوات العملية لاستخلاص الحا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استخلاص الحامض النوو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تم بناء حامض نووي متمم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ن قالب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يمثل المورثات النشطة القادرة علي التعبير عن نفسها فق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عز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otal 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باستخدام طريقة الطرد المركزي الفائق في وجود ملح كلوريد السيزيز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فص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. 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ويجفف ويذاب في عدة مللميترات من الماء المقطر وينقل إلي عمود الفصل من نو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ligo dT cellulos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لفصل الحا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عن بقية الأنواع الاخ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صنع نسخ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ن قالب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عتمادا علي قدرة أنزيم النسخ العكسي الذي يتمكن من بناء بوجود بادئة ملتصقة مع قالب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إنزيمات الهندسة الوراث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أنزيمات هدم الأحما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uc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نزيمات بلمرة الح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olyme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نزيمات التحوير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odifying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إنزيمات إزالة الانطباق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pisomers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نواقل الهندسة الوراثية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vectors or veh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جزيئات بيولوجية كبيرة مؤلفة من حا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دائري أو مستق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صفات النواق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مستقرة وغير قابلة للتحل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تضاعف داخل الخلية بصورة شبه مستقلة أو مستق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لها القدرة علي استيعاب قطع من الحامض النوو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ن أهم النواقل  : البلازميدات – العاثيات – الكوزميد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البلازميد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بلازميد: هو جزيء صغير حلقي مزدوج م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سئول عن إكساب الخلية البكتيرية صفة المقاومة الضد حيو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وجد العديد من البلازميدات في البكتريا وبعض الخمائ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صفات البلازميد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1430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صغر من كرموسوم الخلية المضيفة مما يجعل من السهل عزلة حيث (يتراوح حجم البلازميد بين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كليو قاعد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غير ضرورية لنمو وتكاثر الخ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تضاعف باستخدام الإنزيمات الخلوية ولكنها تسيطر علي تأسيس عملية التضاع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متلك موقع للتضاعف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i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يسمح لها بتناسخ  بشكل مستقل عن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خلية البكتر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ستوعب قطع من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بطول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كيلو قاع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تابع القواعد النيتروجينية في البلازميد معروف بالكامل مما يتيح المكان المحدد لنشاط القطع الإنزيمي والذي يتم فيه إدخا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مراد إضاف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قابلة للاتحاد م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خلية لاحتواها علي تتابعات تسمي بالعناصر الانتقالية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ransposable elements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لها تتابعات متممة في الحامض النووي الخلوي(تفتح نفسها ذاتيا أو بواسطة الإنزيمات من هذه التتابعات وتلتحم مع نظائرها  المتممة علي الحامض النووي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بعض البلازميدات تتحد مع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خلية وتتضاعف عند تضاعف الخلية وتدعي بالايبوسوم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متلك نوعا ما من علامات انتخابية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lectable marker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تسهل من عملية فصلها وتميز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ذو استقرارية عالية بعد الغرس وبقاءه في الخلية المضيفة دون تحل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upload.wikimedia.org/wikipedia/commons/thumb/c/cf/Plasmid_%28english%29.svg/300px-Plasmid_%28english%29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142920"/>
            <a:ext cx="2857680" cy="134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upload.wikimedia.org/wikipedia/commons/thumb/4/42/Plasmid_replication_%28english%29.svg/400px-Plasmid_replication_%28english%29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1714680"/>
            <a:ext cx="7572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أنزيمات هدم الأحماض النووي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DNAases and Rnases Nucl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أ. انزيمات الهدم الداخل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Endonuclease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كسر روابط الفوسفات ثنائية الاستر من داخل سلاسل الحمض النو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نتج قطع  مختلفة الحجم من الحمض النو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ب. أنزيمات الهدم الخارجي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Exonuc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- تفصل النيكليوتيدات من نهايات سلاسل الحامض النو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تنتج وحدات مفردة علي الأغل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</a:rPr>
              <a:t>أنواع الإنزيمات النوو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yp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غير قادرة علي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عند مواقع ثابتة – تقطع بطريقة عشوائية – تحتاج مساعدة مثل أيونات الماغنسيوم 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TP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- adenosyl – methionin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- غير هامة في الهندسة الوراث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ype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قادرة علي قطع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عند مواقع ثابتة (أكثر من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إنزيم نووي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ype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سط بين النوع الاول والثاني – تقطع الحمض النووي في اماكن محددة – تحتاج الي عوامل مساعد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358440" y="-1266120"/>
            <a:ext cx="24271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users.rcn.com/jkimball.ma.ultranet/BiologyPages/R/RestrictionDigest.jpg"/>
          <p:cNvPicPr/>
          <p:nvPr/>
        </p:nvPicPr>
        <p:blipFill>
          <a:blip r:embed="rId1"/>
          <a:stretch/>
        </p:blipFill>
        <p:spPr>
          <a:xfrm>
            <a:off x="428760" y="852480"/>
            <a:ext cx="8072280" cy="586260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5"/>
          <p:cNvSpPr/>
          <p:nvPr/>
        </p:nvSpPr>
        <p:spPr>
          <a:xfrm>
            <a:off x="1928880" y="21420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ضم الحمض النووي المنزوع الأكسج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. إنزيمات القطع التحديدية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striction Endonuclease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560" y="16426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إنزيمات نووية 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striction Endonucleas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متخصصة لديها القدرة علي هضم وتكسير جزيء الحمض النوو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إلي قطع محددة الطول عند أماكن محدد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- توجد في الخلايا البكترية وتعمل كجزء من آلية يطلق عليها عملية التحوير حيث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حلل الإنزيم التحديدي مائيا أي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خارجيا يظهر في الخلية (تستطيع بعض الفيروسات إصابة البكتريا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usceptible bacteri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بينما يفشل البعض بسبب هضم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فيروسي في البكتريا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on- susceptibl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يمنع الإنزيم التحديدي تحليل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الخلية عن طريق تحويره بواسط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إضافة المثيل لقواعد معينة في تتابع التعرف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cognition self Sequence</a:t>
            </a: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تسمية إنزيمات القطع</a:t>
            </a:r>
            <a:br>
              <a:rPr sz="3600"/>
            </a:br>
            <a:r>
              <a:rPr b="1" lang="ar-SA" sz="3600" spc="-1" strike="noStrike">
                <a:solidFill>
                  <a:srgbClr val="ffff00"/>
                </a:solidFill>
                <a:latin typeface="Calibri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Smith and Nathans 1973</a:t>
            </a:r>
            <a:r>
              <a:rPr b="0" lang="ar-SA" sz="3600" spc="-1" strike="noStrike">
                <a:solidFill>
                  <a:srgbClr val="ffff00"/>
                </a:solidFill>
                <a:latin typeface="Calibri"/>
              </a:rPr>
              <a:t>)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8912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عطي الإنزيم اسم حرفيا يتكون من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حروف . يرمز الحرف الأول إلي اسم الجنس الكائن المستخلص منة الإنزيم ويكون كبير بينما يرمز الحرفان الآخران إلي اسم النوع ويكتبان بحروف صغ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نوع السلالة (نمط التميز) يرمز له بحرف يكتب بعد ألاسم المشتق من الجنس والنو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عندما تحتوي السلالة علي أكثر من أنزيم تحديدي تعطي الإنزيمات أرقاما تصاعدية وتكتب الأرقام بحروف رما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النظام المتبع في تسمية الإنزيمات المحدد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4200" y="1600200"/>
          <a:ext cx="8686800" cy="490068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Helvetica-Oblique"/>
                          <a:cs typeface="Calibri"/>
                        </a:rPr>
                        <a:t>تتابع القواعد النيتروجين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Helvetica-Oblique"/>
                          <a:cs typeface="Calibri"/>
                        </a:rPr>
                        <a:t>الاسم الرمزي للإنز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Helvetica-Oblique"/>
                          <a:cs typeface="Calibri"/>
                        </a:rPr>
                        <a:t>أسم الكائ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GGC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CCG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Acetobacter pasteuria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G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C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aemophilus aegyp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Dp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Diplococcus pneumoni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GAAT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CTTA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Eco R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Escherichia 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AAGC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TTCGA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ind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Helvetica-Oblique"/>
                          <a:ea typeface="Helvetica-Oblique"/>
                        </a:rPr>
                        <a:t>Haemophilus influenza 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Calibri"/>
              </a:rPr>
              <a:t>الانزيمات النووية الداخلية التحديد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ype II restriction endonucle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001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ضاف الإنزيم إل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المستهدف في محلول منظم ويحضن عند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7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درجة 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تعرف كل إنزيم علي تتابع نوعي في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قطع الإنزيم داخل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بكسر رابطة الفوسفات ثنائي الاستر التي تربط النيكليوتيدات مع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يعبر عن النشاط الإنزيمي بالوحد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وحده = كمية الإنزيم التي يمكنها شطر بيكوجرام واحد من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NA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في ساعة واحدة عند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37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55:56Z</dcterms:created>
  <dc:creator>user</dc:creator>
  <dc:description/>
  <dc:language>en-US</dc:language>
  <cp:lastModifiedBy>user</cp:lastModifiedBy>
  <dcterms:modified xsi:type="dcterms:W3CDTF">2010-05-09T18:36:51Z</dcterms:modified>
  <cp:revision>126</cp:revision>
  <dc:subject/>
  <dc:title>الشريحة 1</dc:title>
</cp:coreProperties>
</file>