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F157-740E-4A44-BF48-66CD6E6C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C732-9232-4733-9990-413B2DA5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ACB1-FD28-47C4-AF25-4872C9CF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1C6D-2AAA-41A8-AD4C-0CB885C7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CF5D-00A4-4F7C-9335-57884074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E6A1-A234-421C-BE61-23E9DB77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FFE3-DF01-4965-A792-4D02517F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1504-9320-4F6B-9A42-43C8BAE0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94BD-06A3-4AB9-BEC7-FE8AD933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1B53-4C38-4A28-AE4C-F378BD55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03E3-8588-4A2C-BA79-02ACFC69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D489-0AA3-4846-B16D-9F4B9306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BBA5-A600-4CBD-8541-30E74FE2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9098-280F-4BF6-96DE-D9AE7C46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70C0-F550-4E2D-943C-A54A7255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4922-7EA2-48B8-89F8-6C24D393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7E44-C65B-4784-8414-6E102260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70050-8F41-4A0E-84DC-60F49660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EE1E-84B0-42E3-B930-8CF71D0C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77F2-1C80-487C-A846-C9B61731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60DF-2AE1-4E0E-95D4-92C71952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BFCA-BCA0-4C8A-B31C-083BA97E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FBCE-6489-427B-9231-088744E9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4CCE-DA87-45C3-BA1C-A40E1FB2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A025-1386-4AA1-AB79-33759A063689}" type="slidenum">
              <a:rPr b="0" lang="he-I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C32F-F1EB-4045-9F36-0CD362D59EBC}" type="slidenum">
              <a:rPr b="0" lang="he-I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chamel.info/Lyceens/cours.php?id=575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istockphoto_2941016_global_warming"/>
          <p:cNvPicPr/>
          <p:nvPr/>
        </p:nvPicPr>
        <p:blipFill>
          <a:blip r:embed="rId1"/>
          <a:stretch/>
        </p:blipFill>
        <p:spPr>
          <a:xfrm>
            <a:off x="7093080" y="404640"/>
            <a:ext cx="1946160" cy="203688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2286000" y="950760"/>
            <a:ext cx="4175280" cy="1238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2124000" y="278136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نورة عمر باعامر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إلهام عبدالله باجعيفر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2736720" y="4724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د / وداد العنزي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pollution"/>
          <p:cNvPicPr/>
          <p:nvPr/>
        </p:nvPicPr>
        <p:blipFill>
          <a:blip r:embed="rId1"/>
          <a:stretch/>
        </p:blipFill>
        <p:spPr>
          <a:xfrm>
            <a:off x="395280" y="404640"/>
            <a:ext cx="4390920" cy="340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Global_Warming"/>
          <p:cNvPicPr/>
          <p:nvPr/>
        </p:nvPicPr>
        <p:blipFill>
          <a:blip r:embed="rId2"/>
          <a:stretch/>
        </p:blipFill>
        <p:spPr>
          <a:xfrm>
            <a:off x="1857240" y="4692600"/>
            <a:ext cx="2735280" cy="1832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b050"/>
                </a:solidFill>
                <a:latin typeface="Arial"/>
              </a:rPr>
              <a:t>الأهداف</a:t>
            </a:r>
            <a:r>
              <a:rPr b="1" lang="ar-SA" sz="4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science_global_warming"/>
          <p:cNvPicPr/>
          <p:nvPr/>
        </p:nvPicPr>
        <p:blipFill>
          <a:blip r:embed="rId3"/>
          <a:stretch/>
        </p:blipFill>
        <p:spPr>
          <a:xfrm>
            <a:off x="4932360" y="4881600"/>
            <a:ext cx="3149640" cy="194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Hot_Earth"/>
          <p:cNvPicPr/>
          <p:nvPr/>
        </p:nvPicPr>
        <p:blipFill>
          <a:blip r:embed="rId4"/>
          <a:stretch/>
        </p:blipFill>
        <p:spPr>
          <a:xfrm>
            <a:off x="179280" y="5084640"/>
            <a:ext cx="1677960" cy="177336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1" descr=""/>
          <p:cNvPicPr/>
          <p:nvPr/>
        </p:nvPicPr>
        <p:blipFill>
          <a:blip r:embed="rId5"/>
          <a:stretch/>
        </p:blipFill>
        <p:spPr>
          <a:xfrm>
            <a:off x="4200480" y="1719360"/>
            <a:ext cx="517536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istockphoto_2941016_global_warming"/>
          <p:cNvPicPr/>
          <p:nvPr/>
        </p:nvPicPr>
        <p:blipFill>
          <a:blip r:embed="rId1"/>
          <a:stretch/>
        </p:blipFill>
        <p:spPr>
          <a:xfrm>
            <a:off x="6804000" y="549360"/>
            <a:ext cx="1946160" cy="20365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39640" y="1125360"/>
            <a:ext cx="68407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MA" sz="3600" spc="-1" strike="noStrike">
                <a:solidFill>
                  <a:srgbClr val="ff0000"/>
                </a:solidFill>
                <a:latin typeface="Arial"/>
              </a:rPr>
              <a:t>تعريف الاحتباس الحرار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الاحتباس الحراري كارثة بيئية ناتجة عن تزايد نسبة الغازات التي لها قدرة على امتصاص أشعة الشمس المنعكسة على سطح الأرض</a:t>
            </a: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( </a:t>
            </a: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الغازات الحابسة للحرارة أو الغازات الدفيئة</a:t>
            </a: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ar-MA" sz="2400" spc="-1" strike="noStrike">
                <a:solidFill>
                  <a:srgbClr val="002060"/>
                </a:solidFill>
                <a:latin typeface="Arial"/>
              </a:rPr>
              <a:t>)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j0156815"/>
          <p:cNvPicPr/>
          <p:nvPr/>
        </p:nvPicPr>
        <p:blipFill>
          <a:blip r:embed="rId1"/>
          <a:stretch/>
        </p:blipFill>
        <p:spPr>
          <a:xfrm>
            <a:off x="1979640" y="3213000"/>
            <a:ext cx="4897440" cy="3211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0" y="47628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الغازات الدفيئة هي مجموعة من الغازات التي تتراكم في الغلاف الجوي. وتتكون تلك الغازات م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560" y="1306440"/>
            <a:ext cx="8928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 بخار الماء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 ثاني أكسيد الكربون(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) 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 أكسيد النيتروز (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الميثان (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002060"/>
                </a:solidFill>
                <a:latin typeface="Arial"/>
              </a:rPr>
              <a:t>4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)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 الأوزون (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2060"/>
                </a:solidFill>
                <a:latin typeface="Arial"/>
              </a:rPr>
              <a:t>3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)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6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- الكلوروفلوركربون (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FCs</a:t>
            </a:r>
            <a:r>
              <a:rPr b="1" lang="ar-JO" sz="20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آلية الإحتباس الحراري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Content Placeholder 7" descr="C:\Users\hp\Desktop\greenhouse.jpg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Diagram 3" descr=""/>
          <p:cNvPicPr/>
          <p:nvPr/>
        </p:nvPicPr>
        <p:blipFill>
          <a:blip r:embed="rId1"/>
          <a:stretch/>
        </p:blipFill>
        <p:spPr>
          <a:xfrm>
            <a:off x="6480" y="401760"/>
            <a:ext cx="9186840" cy="6340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istockphoto_2941016_global_warming"/>
          <p:cNvPicPr/>
          <p:nvPr/>
        </p:nvPicPr>
        <p:blipFill>
          <a:blip r:embed="rId2"/>
          <a:stretch/>
        </p:blipFill>
        <p:spPr>
          <a:xfrm>
            <a:off x="7305840" y="549360"/>
            <a:ext cx="144432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-233280" y="836640"/>
            <a:ext cx="841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Arial"/>
              </a:rPr>
              <a:t>آثار ارتفاع درجة حرارة الأ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</a:t>
            </a:r>
            <a:r>
              <a:rPr b="1" lang="ar-MA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ذوبان الجليد في القطبين الشمالي والجنوبي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تغير المناخ الطبيعي في العالم . </a:t>
            </a:r>
            <a:r>
              <a:rPr b="0" i="1" lang="ar-SA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 تصحر مساحات كبيرة من الأرض 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 حرائق الغابا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 انتشار الأوبئة والأمراض المعدي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2060"/>
                </a:solidFill>
                <a:latin typeface="Arial"/>
              </a:rPr>
              <a:t>_ انتشار المجاعات 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istockphoto_2941016_global_warming"/>
          <p:cNvPicPr/>
          <p:nvPr/>
        </p:nvPicPr>
        <p:blipFill>
          <a:blip r:embed="rId1"/>
          <a:stretch/>
        </p:blipFill>
        <p:spPr>
          <a:xfrm>
            <a:off x="6804000" y="549360"/>
            <a:ext cx="1946160" cy="2036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79280" y="907920"/>
            <a:ext cx="7174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الخطط والبرامج العالمية السائدة لعلاج ظاهرة الاحتباس الحر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_  خفض نسبة غازات التلوث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المتصلة بالاحتباس الحراري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في الغلاف الجوي للأرض 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_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خفض كثافة الطاقة المستهلكة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في الصناعة والنقل ومحطات توليد الكهرباء وتكرير البترول وغيرها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</a:rPr>
              <a:t> .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</a:rPr>
              <a:t>_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 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إنشاء صندوق لمكافحة التصحر</a:t>
            </a:r>
            <a:r>
              <a:rPr b="0" i="1" lang="ar-MA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ar-SA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_ كما تتناول البرامج المقترحة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: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التنمية المتوازنة والفقر والطاقة والمياه والتنوع الإحيائي ونقل التقنيات إلى الدول النامية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ar-MA" sz="2800" spc="-1" strike="noStrike">
                <a:solidFill>
                  <a:srgbClr val="00206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istockphoto_2941016_global_warming"/>
          <p:cNvPicPr/>
          <p:nvPr/>
        </p:nvPicPr>
        <p:blipFill>
          <a:blip r:embed="rId1"/>
          <a:stretch/>
        </p:blipFill>
        <p:spPr>
          <a:xfrm>
            <a:off x="7093080" y="404640"/>
            <a:ext cx="1946160" cy="2036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istockphoto_2941016_global_warming"/>
          <p:cNvPicPr/>
          <p:nvPr/>
        </p:nvPicPr>
        <p:blipFill>
          <a:blip r:embed="rId1"/>
          <a:stretch/>
        </p:blipFill>
        <p:spPr>
          <a:xfrm>
            <a:off x="7093080" y="404640"/>
            <a:ext cx="1946160" cy="20368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2992680" y="633240"/>
            <a:ext cx="243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لمراجع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195640" y="1509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achamel.info/Lyceens/cours.php?id=5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286000" y="2513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tp://ar.wikipedia.org/wiki/%D8%A7%D8%AD%D8%AA%D8%A8%D8%A7%D8%B3_%D8%AD%D8%B1%D8%A7%D8%B1%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9%8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11280" y="386064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bee2ah.com/%D8%A7%D9%84%D8%A7%D8%AD%D8%AA%D8%A8%D8%A7%D8%B3-%D8%A7%D9%84%D8%AD%D8%B1%D8%A7%D8%B1%D9%8A-%D8%A7%D8%B3%D8%A8%D8%A7%D8%A8%D9%87-%D9%88-%D9%86%D8%AA%D8%A7%D8%A6%D8%AC%D9%87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286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1greenlife4you.blogspot.com/p/blog-page_7546.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1:05:33Z</dcterms:created>
  <dc:creator>tech</dc:creator>
  <dc:description/>
  <dc:language>en-US</dc:language>
  <cp:lastModifiedBy>Free</cp:lastModifiedBy>
  <dcterms:modified xsi:type="dcterms:W3CDTF">2015-02-09T18:59:00Z</dcterms:modified>
  <cp:revision>42</cp:revision>
  <dc:subject/>
  <dc:title>שקופית 1</dc:title>
</cp:coreProperties>
</file>