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92AED-A4F6-41A3-9014-3C1126E3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93B2C-7598-425B-B14F-AA455E2A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A557F-F35D-4CBF-984B-659B9E40C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C20D2-CC2A-4D57-A895-11C63C60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9D98-D693-4B25-8C82-5611B14D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BA55-9E62-4A90-9E47-52BD8BAB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664B-96F8-40A0-B421-7E68026F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0179-FFDD-4368-9A04-B1A40395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092D-6905-4C9C-A4B6-346B9EF2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5891-3604-4F34-A918-2553D5B8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258D-D6D1-47D9-9667-443D2B76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61EFD-0C0B-4319-8E88-C98A419D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0655-EB65-4373-A934-3690B9A2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9D7D-3E9D-4F40-8745-9F3D7518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A3C5-F65F-4EB8-BE8D-18331D2A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81FF-E781-457A-A9F2-C3B8DF363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A37A-8FC9-4418-844D-12CB3393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AE93B-0A7F-4F79-B165-1F1E9E83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5A803-EC33-4C64-8E5D-521D8F4A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5E77F-4B4F-4D16-82FC-C76BFB0F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F202F-6CF5-424B-ABC3-19AA10F6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C4226-9259-48BB-9B4F-F41228EC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41275-E5D6-4DC8-ADD1-69DF6E82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1B0D4-9EEE-4903-8303-74109B11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7CAE-E1F9-4B79-A2EC-522C44920D3D}" type="slidenum">
              <a:rPr b="0" lang="he-I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03F8-B27A-481E-8777-F5B3B25E64C1}" type="slidenum">
              <a:rPr b="0" lang="he-I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chamel.info/Lyceens/cours.php?id=575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istockphoto_2941016_global_warming"/>
          <p:cNvPicPr/>
          <p:nvPr/>
        </p:nvPicPr>
        <p:blipFill>
          <a:blip r:embed="rId1"/>
          <a:stretch/>
        </p:blipFill>
        <p:spPr>
          <a:xfrm>
            <a:off x="7093080" y="404640"/>
            <a:ext cx="1946160" cy="2036880"/>
          </a:xfrm>
          <a:prstGeom prst="rect">
            <a:avLst/>
          </a:prstGeom>
          <a:ln w="0">
            <a:noFill/>
          </a:ln>
        </p:spPr>
      </p:pic>
      <p:pic>
        <p:nvPicPr>
          <p:cNvPr id="107" name="Rectangle 3" descr=""/>
          <p:cNvPicPr/>
          <p:nvPr/>
        </p:nvPicPr>
        <p:blipFill>
          <a:blip r:embed="rId2"/>
          <a:stretch/>
        </p:blipFill>
        <p:spPr>
          <a:xfrm>
            <a:off x="2286000" y="950760"/>
            <a:ext cx="4175280" cy="12384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2124000" y="2781360"/>
            <a:ext cx="49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</a:rPr>
              <a:t>نورة عمر باعامر</a:t>
            </a:r>
            <a:r>
              <a:rPr b="0" lang="ar-SA" sz="36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</a:rPr>
              <a:t>إلهام عبدالله باجعيفر</a:t>
            </a:r>
            <a:r>
              <a:rPr b="0" lang="ar-SA" sz="36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2736720" y="47242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</a:rPr>
              <a:t>د / وداد العنزي</a:t>
            </a:r>
            <a:r>
              <a:rPr b="0" lang="ar-SA" sz="36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pollution"/>
          <p:cNvPicPr/>
          <p:nvPr/>
        </p:nvPicPr>
        <p:blipFill>
          <a:blip r:embed="rId1"/>
          <a:stretch/>
        </p:blipFill>
        <p:spPr>
          <a:xfrm>
            <a:off x="395280" y="404640"/>
            <a:ext cx="4390920" cy="3402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Global_Warming"/>
          <p:cNvPicPr/>
          <p:nvPr/>
        </p:nvPicPr>
        <p:blipFill>
          <a:blip r:embed="rId2"/>
          <a:stretch/>
        </p:blipFill>
        <p:spPr>
          <a:xfrm>
            <a:off x="1857240" y="4692600"/>
            <a:ext cx="2735280" cy="18320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b050"/>
                </a:solidFill>
                <a:latin typeface="Arial"/>
              </a:rPr>
              <a:t>الأهداف</a:t>
            </a:r>
            <a:r>
              <a:rPr b="1" lang="ar-SA" sz="48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5" descr="science_global_warming"/>
          <p:cNvPicPr/>
          <p:nvPr/>
        </p:nvPicPr>
        <p:blipFill>
          <a:blip r:embed="rId3"/>
          <a:stretch/>
        </p:blipFill>
        <p:spPr>
          <a:xfrm>
            <a:off x="4932360" y="4881600"/>
            <a:ext cx="3149640" cy="1942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7" descr="Hot_Earth"/>
          <p:cNvPicPr/>
          <p:nvPr/>
        </p:nvPicPr>
        <p:blipFill>
          <a:blip r:embed="rId4"/>
          <a:stretch/>
        </p:blipFill>
        <p:spPr>
          <a:xfrm>
            <a:off x="179280" y="5084640"/>
            <a:ext cx="1677960" cy="1773360"/>
          </a:xfrm>
          <a:prstGeom prst="rect">
            <a:avLst/>
          </a:prstGeom>
          <a:ln w="0">
            <a:noFill/>
          </a:ln>
        </p:spPr>
      </p:pic>
      <p:pic>
        <p:nvPicPr>
          <p:cNvPr id="115" name="Rectangle 1" descr=""/>
          <p:cNvPicPr/>
          <p:nvPr/>
        </p:nvPicPr>
        <p:blipFill>
          <a:blip r:embed="rId5"/>
          <a:stretch/>
        </p:blipFill>
        <p:spPr>
          <a:xfrm>
            <a:off x="4200480" y="1719360"/>
            <a:ext cx="5175360" cy="3101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istockphoto_2941016_global_warming"/>
          <p:cNvPicPr/>
          <p:nvPr/>
        </p:nvPicPr>
        <p:blipFill>
          <a:blip r:embed="rId1"/>
          <a:stretch/>
        </p:blipFill>
        <p:spPr>
          <a:xfrm>
            <a:off x="6804000" y="549360"/>
            <a:ext cx="1946160" cy="20365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"/>
          <p:cNvSpPr/>
          <p:nvPr/>
        </p:nvSpPr>
        <p:spPr>
          <a:xfrm>
            <a:off x="539640" y="1125360"/>
            <a:ext cx="684072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ar-MA" sz="3600" spc="-1" strike="noStrike">
                <a:solidFill>
                  <a:srgbClr val="ff0000"/>
                </a:solidFill>
                <a:latin typeface="Arial"/>
              </a:rPr>
              <a:t>تعريف الاحتباس الحرار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400" spc="-1" strike="noStrike">
                <a:solidFill>
                  <a:srgbClr val="002060"/>
                </a:solidFill>
                <a:latin typeface="Arial"/>
              </a:rPr>
              <a:t>الاحتباس الحراري كارثة بيئية ناتجة عن تزايد نسبة الغازات التي لها قدرة على امتصاص أشعة الشمس المنعكسة على سطح الأرض</a:t>
            </a:r>
            <a:r>
              <a:rPr b="1" lang="ar-MA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400" spc="-1" strike="noStrike">
                <a:solidFill>
                  <a:srgbClr val="002060"/>
                </a:solidFill>
                <a:latin typeface="Arial"/>
              </a:rPr>
              <a:t>( </a:t>
            </a:r>
            <a:r>
              <a:rPr b="1" lang="ar-MA" sz="2400" spc="-1" strike="noStrike">
                <a:solidFill>
                  <a:srgbClr val="002060"/>
                </a:solidFill>
                <a:latin typeface="Arial"/>
              </a:rPr>
              <a:t>الغازات الحابسة للحرارة أو الغازات الدفيئة</a:t>
            </a:r>
            <a:r>
              <a:rPr b="1" lang="ar-MA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ar-MA" sz="2400" spc="-1" strike="noStrike">
                <a:solidFill>
                  <a:srgbClr val="002060"/>
                </a:solidFill>
                <a:latin typeface="Arial"/>
              </a:rPr>
              <a:t>)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j0156815"/>
          <p:cNvPicPr/>
          <p:nvPr/>
        </p:nvPicPr>
        <p:blipFill>
          <a:blip r:embed="rId1"/>
          <a:stretch/>
        </p:blipFill>
        <p:spPr>
          <a:xfrm>
            <a:off x="1979640" y="3213000"/>
            <a:ext cx="4897440" cy="32115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0" y="47628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الغازات الدفيئة هي مجموعة من الغازات التي تتراكم في الغلاف الجوي. وتتكون تلك الغازات من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5560" y="1306440"/>
            <a:ext cx="89280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1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- بخار الماء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2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- ثاني أكسيد الكربون(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CO</a:t>
            </a:r>
            <a:r>
              <a:rPr b="1" lang="en-US" sz="20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) 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3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- أكسيد النيتروز (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N</a:t>
            </a:r>
            <a:r>
              <a:rPr b="1" lang="en-US" sz="20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O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4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-الميثان (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CH</a:t>
            </a:r>
            <a:r>
              <a:rPr b="1" lang="en-US" sz="2000" spc="-1" strike="noStrike" baseline="-25000">
                <a:solidFill>
                  <a:srgbClr val="002060"/>
                </a:solidFill>
                <a:latin typeface="Arial"/>
              </a:rPr>
              <a:t>4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)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5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- الأوزون (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002060"/>
                </a:solidFill>
                <a:latin typeface="Arial"/>
              </a:rPr>
              <a:t>3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)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6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- الكلوروفلوركربون (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CFCs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آلية الإحتباس الحراري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Content Placeholder 7" descr="C:\Users\hp\Desktop\greenhouse.jpg"/>
          <p:cNvPicPr/>
          <p:nvPr/>
        </p:nvPicPr>
        <p:blipFill>
          <a:blip r:embed="rId1"/>
          <a:stretch/>
        </p:blipFill>
        <p:spPr>
          <a:xfrm>
            <a:off x="1981080" y="1981080"/>
            <a:ext cx="518184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Diagram 3" descr=""/>
          <p:cNvPicPr/>
          <p:nvPr/>
        </p:nvPicPr>
        <p:blipFill>
          <a:blip r:embed="rId1"/>
          <a:stretch/>
        </p:blipFill>
        <p:spPr>
          <a:xfrm>
            <a:off x="6480" y="401760"/>
            <a:ext cx="9186840" cy="6340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istockphoto_2941016_global_warming"/>
          <p:cNvPicPr/>
          <p:nvPr/>
        </p:nvPicPr>
        <p:blipFill>
          <a:blip r:embed="rId2"/>
          <a:stretch/>
        </p:blipFill>
        <p:spPr>
          <a:xfrm>
            <a:off x="7305840" y="549360"/>
            <a:ext cx="1444320" cy="1511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-233280" y="836640"/>
            <a:ext cx="8416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0000"/>
                </a:solidFill>
                <a:latin typeface="Arial"/>
              </a:rPr>
              <a:t>آثار ارتفاع درجة حرارة الأر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3200" spc="-1" strike="noStrike">
                <a:solidFill>
                  <a:srgbClr val="002060"/>
                </a:solidFill>
                <a:latin typeface="Arial"/>
              </a:rPr>
              <a:t>_</a:t>
            </a:r>
            <a:r>
              <a:rPr b="1" lang="ar-MA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MA" sz="3200" spc="-1" strike="noStrike">
                <a:solidFill>
                  <a:srgbClr val="002060"/>
                </a:solidFill>
                <a:latin typeface="Arial"/>
              </a:rPr>
              <a:t>ذوبان الجليد في القطبين الشمالي والجنوبي</a:t>
            </a:r>
            <a:r>
              <a:rPr b="0" lang="ar-SA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3200" spc="-1" strike="noStrike">
                <a:solidFill>
                  <a:srgbClr val="002060"/>
                </a:solidFill>
                <a:latin typeface="Arial"/>
              </a:rPr>
              <a:t>_تغير المناخ الطبيعي في العالم . </a:t>
            </a:r>
            <a:r>
              <a:rPr b="0" i="1" lang="ar-SA" sz="32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3200" spc="-1" strike="noStrike">
                <a:solidFill>
                  <a:srgbClr val="002060"/>
                </a:solidFill>
                <a:latin typeface="Arial"/>
              </a:rPr>
              <a:t>_ تصحر مساحات كبيرة من الأرض .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3200" spc="-1" strike="noStrike">
                <a:solidFill>
                  <a:srgbClr val="002060"/>
                </a:solidFill>
                <a:latin typeface="Arial"/>
              </a:rPr>
              <a:t>_ حرائق الغابات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3200" spc="-1" strike="noStrike">
                <a:solidFill>
                  <a:srgbClr val="002060"/>
                </a:solidFill>
                <a:latin typeface="Arial"/>
              </a:rPr>
              <a:t>_ انتشار الأوبئة والأمراض المعدية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3200" spc="-1" strike="noStrike">
                <a:solidFill>
                  <a:srgbClr val="002060"/>
                </a:solidFill>
                <a:latin typeface="Arial"/>
              </a:rPr>
              <a:t>_ انتشار المجاعات </a:t>
            </a:r>
            <a:r>
              <a:rPr b="0" lang="ar-SA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istockphoto_2941016_global_warming"/>
          <p:cNvPicPr/>
          <p:nvPr/>
        </p:nvPicPr>
        <p:blipFill>
          <a:blip r:embed="rId1"/>
          <a:stretch/>
        </p:blipFill>
        <p:spPr>
          <a:xfrm>
            <a:off x="6804000" y="549360"/>
            <a:ext cx="1946160" cy="20365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179280" y="907920"/>
            <a:ext cx="7174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ff0000"/>
                </a:solidFill>
                <a:latin typeface="Arial"/>
              </a:rPr>
              <a:t>الخطط والبرامج العالمية السائدة لعلاج ظاهرة الاحتباس الحرار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800" spc="-1" strike="noStrike">
                <a:solidFill>
                  <a:srgbClr val="002060"/>
                </a:solidFill>
                <a:latin typeface="Arial"/>
              </a:rPr>
              <a:t>_  خفض نسبة غازات التلوث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0" lang="ar-MA" sz="2800" spc="-1" strike="noStrike">
                <a:solidFill>
                  <a:srgbClr val="002060"/>
                </a:solidFill>
                <a:latin typeface="Arial"/>
              </a:rPr>
              <a:t>المتصلة بالاحتباس الحراري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0" lang="ar-MA" sz="2800" spc="-1" strike="noStrike">
                <a:solidFill>
                  <a:srgbClr val="002060"/>
                </a:solidFill>
                <a:latin typeface="Arial"/>
              </a:rPr>
              <a:t>في الغلاف الجوي للأرض </a:t>
            </a:r>
            <a:r>
              <a:rPr b="0" lang="ar-SA" sz="2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800" spc="-1" strike="noStrike">
                <a:solidFill>
                  <a:srgbClr val="002060"/>
                </a:solidFill>
                <a:latin typeface="Arial"/>
              </a:rPr>
              <a:t>_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  </a:t>
            </a:r>
            <a:r>
              <a:rPr b="0" lang="ar-MA" sz="2800" spc="-1" strike="noStrike">
                <a:solidFill>
                  <a:srgbClr val="002060"/>
                </a:solidFill>
                <a:latin typeface="Arial"/>
              </a:rPr>
              <a:t>خفض كثافة الطاقة المستهلكة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0" lang="ar-MA" sz="2800" spc="-1" strike="noStrike">
                <a:solidFill>
                  <a:srgbClr val="002060"/>
                </a:solidFill>
                <a:latin typeface="Arial"/>
              </a:rPr>
              <a:t>في الصناعة والنقل ومحطات توليد الكهرباء وتكرير البترول وغيرها</a:t>
            </a:r>
            <a:r>
              <a:rPr b="0" lang="ar-SA" sz="2800" spc="-1" strike="noStrike">
                <a:solidFill>
                  <a:srgbClr val="002060"/>
                </a:solidFill>
                <a:latin typeface="Arial"/>
              </a:rPr>
              <a:t> .</a:t>
            </a:r>
            <a:r>
              <a:rPr b="0" lang="ar-MA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</a:rPr>
              <a:t>_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   </a:t>
            </a:r>
            <a:r>
              <a:rPr b="0" lang="ar-MA" sz="2800" spc="-1" strike="noStrike">
                <a:solidFill>
                  <a:srgbClr val="002060"/>
                </a:solidFill>
                <a:latin typeface="Arial"/>
              </a:rPr>
              <a:t>إنشاء صندوق لمكافحة التصحر</a:t>
            </a:r>
            <a:r>
              <a:rPr b="0" i="1" lang="ar-MA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ar-SA" sz="2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800" spc="-1" strike="noStrike">
                <a:solidFill>
                  <a:srgbClr val="002060"/>
                </a:solidFill>
                <a:latin typeface="Arial"/>
              </a:rPr>
              <a:t>_ كما تتناول البرامج المقترحة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: </a:t>
            </a:r>
            <a:r>
              <a:rPr b="0" lang="ar-MA" sz="2800" spc="-1" strike="noStrike">
                <a:solidFill>
                  <a:srgbClr val="002060"/>
                </a:solidFill>
                <a:latin typeface="Arial"/>
              </a:rPr>
              <a:t>التنمية المتوازنة والفقر والطاقة والمياه والتنوع الإحيائي ونقل التقنيات إلى الدول النامية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0" lang="ar-MA" sz="2800" spc="-1" strike="noStrike">
                <a:solidFill>
                  <a:srgbClr val="002060"/>
                </a:solidFill>
                <a:latin typeface="Arial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istockphoto_2941016_global_warming"/>
          <p:cNvPicPr/>
          <p:nvPr/>
        </p:nvPicPr>
        <p:blipFill>
          <a:blip r:embed="rId1"/>
          <a:stretch/>
        </p:blipFill>
        <p:spPr>
          <a:xfrm>
            <a:off x="7093080" y="404640"/>
            <a:ext cx="1946160" cy="20368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istockphoto_2941016_global_warming"/>
          <p:cNvPicPr/>
          <p:nvPr/>
        </p:nvPicPr>
        <p:blipFill>
          <a:blip r:embed="rId1"/>
          <a:stretch/>
        </p:blipFill>
        <p:spPr>
          <a:xfrm>
            <a:off x="7093080" y="404640"/>
            <a:ext cx="1946160" cy="203688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2992680" y="633240"/>
            <a:ext cx="243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المراجع</a:t>
            </a: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2195640" y="1509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www.achamel.info/Lyceens/cours.php?id=5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2286000" y="25131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tp://ar.wikipedia.org/wiki/%D8%A7%D8%AD%D8%AA%D8%A8%D8%A7%D8%B3_%D8%AD%D8%B1%D8%A7%D8%B1%D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9%8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611280" y="3860640"/>
            <a:ext cx="82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www.bee2ah.com/%D8%A7%D9%84%D8%A7%D8%AD%D8%AA%D8%A8%D8%A7%D8%B3-%D8%A7%D9%84%D8%AD%D8%B1%D8%A7%D8%B1%D9%8A-%D8%A7%D8%B3%D8%A8%D8%A7%D8%A8%D9%87-%D9%88-%D9%86%D8%AA%D8%A7%D8%A6%D8%AC%D9%87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2286000" y="5516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1greenlife4you.blogspot.com/p/blog-page_7546.htm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11:05:33Z</dcterms:created>
  <dc:creator>tech</dc:creator>
  <dc:description/>
  <dc:language>en-US</dc:language>
  <cp:lastModifiedBy>Free</cp:lastModifiedBy>
  <dcterms:modified xsi:type="dcterms:W3CDTF">2015-02-09T18:59:00Z</dcterms:modified>
  <cp:revision>42</cp:revision>
  <dc:subject/>
  <dc:title>שקופית 1</dc:title>
</cp:coreProperties>
</file>