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BBEC-AF3D-4EE1-8C67-0C75D7DF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BEAE-0ECE-40EA-99A2-8DDACBD7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B7AA-1C9C-40AA-A8E2-3F123F3B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2A2-7633-40F6-876E-32BED2DE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B032-48B1-4303-A39A-7DF4DBEE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212F-22CF-483D-8831-61F75B51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30F2-0A29-4181-B6E3-99170E7D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0702-038D-4717-8FD3-416D3992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84D7-4DCD-4D22-B1A5-5FF6C151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47DA-7389-494F-AD7B-C4D7833C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19D7-9976-4DF8-94A3-90F5097E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9F5-872B-4334-8CFC-ABCFA1F9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7107-750D-459D-8906-D7BDE32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AB57-6B05-4D34-A8FB-D93585DB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C0A5-CCBF-437B-BBFA-411A6504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1537-E12D-45D7-A330-7B97B83B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2D7B-9D20-4ECD-9A67-59295100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5C5C-4236-4B0D-A18A-E796E115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A5F-1299-4C6F-A4B1-666D9188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19A9-EBB1-486A-8C58-9F3B463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ECD-8C1C-4365-9C9A-C9319D7D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D2F-69ED-43BD-9185-B5EC4879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B81-9B49-42E0-9C4C-0981492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7FDC-3F09-46E2-BFB0-4F56DB19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3944-1AD9-4895-B8CB-EE8F9086A52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4021-35EF-4A42-B92B-42C274B35C18}" type="slidenum">
              <a:rPr b="0" lang="ar-SA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الهاي سكوب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التعلم النشط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هو ذلك التعلم الذي يبني فيه الطفل فهماً جديداً عن طريق العمل بالأشياء والتفاعل مع الناس والأفكار والأحداث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لا يمكن لأي شخص آخر أن يمر بخبرات نيابة عن الطفل أو يبني المعارف عوضاً عنه، إذ لا بد للأطفال أن يقوموا بذلك بأنفس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ahoma"/>
              </a:rPr>
              <a:t>يتأثر المنهج بشكل كبير بالأعمال المعرفية/ النمائية التي أجراها بياجيه وزملاؤه، وبالفلسفة التربوية لجون ديوي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600" y="380880"/>
            <a:ext cx="64008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دور الأطفال في هذا المنهج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1430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1</a:t>
            </a: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-</a:t>
            </a: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يبادر الأطفال بالقيام بالأنشطة التي تنبثق من اهتماماتهم ومبادراتهم الشخصي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- يختار الأطفال المواد ويقررون ما الذي سيتعلمونه بها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3</a:t>
            </a: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- يستكشف الأطفال بنشاط مستخدمين جميع حواسه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- يكتشف الأطفال العلاقات من خلال الخبرة المباشرة مع الأشياء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5</a:t>
            </a:r>
            <a:r>
              <a:rPr b="0" lang="ar-SA" sz="2600" spc="-1" strike="noStrike">
                <a:solidFill>
                  <a:srgbClr val="ffff66"/>
                </a:solidFill>
                <a:latin typeface="Tahoma"/>
              </a:rPr>
              <a:t>- يتحدث الأطفال عما يفعلون مستخدمين كلماتهم الخاصة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ar-SA" sz="2600" spc="-1" strike="noStrike">
                <a:solidFill>
                  <a:srgbClr val="ffffff"/>
                </a:solidFill>
                <a:latin typeface="Tahoma"/>
              </a:rPr>
              <a:t>- يستخدم الأطفال أدوات وأجهزة تناسب أعمارهم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64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دور المعلمة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 تنظيم البيئات والأمور الروتينية المتعلقة بالتعلم النشط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Tahoma"/>
              </a:rPr>
              <a:t>توفير المناخ المواتي للتفاعلات الاجتماعية الإيجابية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 تخطيط الخبرات التي تستند على أعمال الأطفال واهتماماتهم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Tahoma"/>
              </a:rPr>
              <a:t>الوعي بأهمية تقديم المناخ الآمن نفسياً للمتعلمين الصغار</a:t>
            </a:r>
            <a:r>
              <a:rPr b="0" lang="ar-SA" sz="2700" spc="-1" strike="noStrike">
                <a:solidFill>
                  <a:srgbClr val="4a8ac4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تقديم الدعم للأطفال عندما يتحدثون وعندما يلعبون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ff"/>
                </a:solidFill>
                <a:latin typeface="Tahoma"/>
              </a:rPr>
              <a:t>ملاحظة وتفسير أعمال كل طفل</a:t>
            </a: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ffff66"/>
                </a:solidFill>
                <a:latin typeface="Tahoma"/>
              </a:rPr>
              <a:t>توفير المكان والزمان للأطفال كي يستخدموا المواد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675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82310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الخبرات الأساسية في منهج الهاي سكوب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تمثيل الإبداعي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لغة وتعلم القراءة والكتابة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حركة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موسيقى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تصنيف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تسلسل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عدد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فراغ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ar-SA" sz="3000" spc="-1" strike="noStrike">
                <a:solidFill>
                  <a:srgbClr val="ffffff"/>
                </a:solidFill>
                <a:latin typeface="Tahoma"/>
              </a:rPr>
              <a:t>- الوقت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8" descr="3177742"/>
          <p:cNvPicPr/>
          <p:nvPr/>
        </p:nvPicPr>
        <p:blipFill>
          <a:blip r:embed="rId1"/>
          <a:srcRect l="0" t="2087" r="3221" b="0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7cc17"/>
                </a:solidFill>
                <a:latin typeface="Arial"/>
              </a:rPr>
              <a:t>البرنامج اليومي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96" name="عنصر نائب للمحتوى 3" descr=""/>
          <p:cNvPicPr/>
          <p:nvPr/>
        </p:nvPicPr>
        <p:blipFill>
          <a:blip r:embed="rId1"/>
          <a:stretch/>
        </p:blipFill>
        <p:spPr>
          <a:xfrm>
            <a:off x="1139760" y="1596960"/>
            <a:ext cx="77850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تكون عناصر الروتين اليومى من ثلاث خطوات رئيسية : خطط – افعل – راج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17:14:43Z</dcterms:created>
  <dc:creator>areej</dc:creator>
  <dc:description/>
  <dc:language>en-US</dc:language>
  <cp:lastModifiedBy>aroma.faiz@yahoo.com</cp:lastModifiedBy>
  <dcterms:modified xsi:type="dcterms:W3CDTF">2014-03-09T17:58:05Z</dcterms:modified>
  <cp:revision>35</cp:revision>
  <dc:subject/>
  <dc:title>الشريحة 1</dc:title>
</cp:coreProperties>
</file>