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94DF-7503-4194-ABA1-042F5AF50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8D0C-2738-4127-B9D7-6D46BAB0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BE51-9082-44AB-869D-97EB5A32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83BF-C319-4C43-B526-BE35E1011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6C07-E264-45EA-804F-B0689493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55A7-AFE3-4A48-8719-19339019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9075-4EED-4ED6-B04C-7F63D00E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8DCC-FB4F-4C22-95D9-AF83386D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DDC0-4589-4091-B9E4-E61855FD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DC13-7244-4B82-BA37-6488B4C5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FB6C-53AF-4A17-9CD2-CA9E96EC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4AC7-7C90-4299-930E-847D4B49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F746-1F3E-439B-9BD3-BD4B6541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65CD-3682-425F-AD84-9F00F272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372F-DF65-4DD7-B98D-00B003AE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2339-ABF9-41C4-94B2-33FB820B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2508-14E6-44E8-8310-D8177445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9A8B-802E-45DA-B30B-70286EC0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080C-1F13-4AD4-B487-EA68BD2A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1AAB-6058-440B-BC8A-CCD1D747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7568-9F4A-44E5-8B0F-CFE5B078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2C13-5EBD-4770-A0D9-A8DF6315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3747-2E1B-4B19-8F3E-F870A09B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9005-FE2F-49DE-9CF9-9EF70F4C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educatcarhou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A40D-0A7D-412B-8D43-4B44AFF3004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educatcarhou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8F34-51CE-4399-9040-179F837793FC}" type="slidenum">
              <a:rPr b="0" lang="ar-SA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7cc17"/>
                </a:solidFill>
                <a:latin typeface="Arial"/>
              </a:rPr>
              <a:t>الهاي سكوب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2971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7cc17"/>
                </a:solidFill>
                <a:latin typeface="Arial"/>
              </a:rPr>
              <a:t>التعلم النشط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هو ذلك التعلم الذي يبني فيه الطفل فهماً جديداً عن طريق العمل بالأشياء والتفاعل مع الناس والأفكار والأحداث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لا يمكن لأي شخص آخر أن يمر بخبرات نيابة عن الطفل أو يبني المعارف عوضاً عنه، إذ لا بد للأطفال أن يقوموا بذلك بأنفسه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Tahoma"/>
              </a:rPr>
              <a:t>يتأثر المنهج بشكل كبير بالأعمال المعرفية/ النمائية التي أجراها بياجيه وزملاؤه، وبالفلسفة التربوية لجون ديوي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600" y="380880"/>
            <a:ext cx="640080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7cc17"/>
                </a:solidFill>
                <a:latin typeface="Arial"/>
              </a:rPr>
              <a:t>دور الأطفال في هذا المنهج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1430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4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66"/>
                </a:solidFill>
                <a:latin typeface="Tahoma"/>
              </a:rPr>
              <a:t>1</a:t>
            </a:r>
            <a:r>
              <a:rPr b="0" lang="ar-SA" sz="2600" spc="-1" strike="noStrike">
                <a:solidFill>
                  <a:srgbClr val="ffff66"/>
                </a:solidFill>
                <a:latin typeface="Tahoma"/>
              </a:rPr>
              <a:t>-</a:t>
            </a:r>
            <a:r>
              <a:rPr b="0" lang="ar-SA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600" spc="-1" strike="noStrike">
                <a:solidFill>
                  <a:srgbClr val="ffff66"/>
                </a:solidFill>
                <a:latin typeface="Tahoma"/>
              </a:rPr>
              <a:t>يبادر الأطفال بالقيام بالأنشطة التي تنبثق من اهتماماتهم ومبادراتهم الشخصية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4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SA" sz="2600" spc="-1" strike="noStrike">
                <a:solidFill>
                  <a:srgbClr val="ffffff"/>
                </a:solidFill>
                <a:latin typeface="Tahoma"/>
              </a:rPr>
              <a:t>- يختار الأطفال المواد ويقررون ما الذي سيتعلمونه بها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4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66"/>
                </a:solidFill>
                <a:latin typeface="Tahoma"/>
              </a:rPr>
              <a:t>3</a:t>
            </a:r>
            <a:r>
              <a:rPr b="0" lang="ar-SA" sz="2600" spc="-1" strike="noStrike">
                <a:solidFill>
                  <a:srgbClr val="ffff66"/>
                </a:solidFill>
                <a:latin typeface="Tahoma"/>
              </a:rPr>
              <a:t>- يستكشف الأطفال بنشاط مستخدمين جميع حواسهم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4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ar-SA" sz="2600" spc="-1" strike="noStrike">
                <a:solidFill>
                  <a:srgbClr val="ffffff"/>
                </a:solidFill>
                <a:latin typeface="Tahoma"/>
              </a:rPr>
              <a:t>- يكتشف الأطفال العلاقات من خلال الخبرة المباشرة مع الأشياء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4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66"/>
                </a:solidFill>
                <a:latin typeface="Tahoma"/>
              </a:rPr>
              <a:t>5</a:t>
            </a:r>
            <a:r>
              <a:rPr b="0" lang="ar-SA" sz="2600" spc="-1" strike="noStrike">
                <a:solidFill>
                  <a:srgbClr val="ffff66"/>
                </a:solidFill>
                <a:latin typeface="Tahoma"/>
              </a:rPr>
              <a:t>- يتحدث الأطفال عما يفعلون مستخدمين كلماتهم الخاصة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4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ar-SA" sz="2600" spc="-1" strike="noStrike">
                <a:solidFill>
                  <a:srgbClr val="ffffff"/>
                </a:solidFill>
                <a:latin typeface="Tahoma"/>
              </a:rPr>
              <a:t>- يستخدم الأطفال أدوات وأجهزة تناسب أعمارهم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4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7cc17"/>
                </a:solidFill>
                <a:latin typeface="Arial"/>
              </a:rPr>
              <a:t>دور المعلمة 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66"/>
                </a:solidFill>
                <a:latin typeface="Tahoma"/>
              </a:rPr>
              <a:t> تنظيم البيئات والأمور الروتينية المتعلقة بالتعلم النشط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ff"/>
                </a:solidFill>
                <a:latin typeface="Tahoma"/>
              </a:rPr>
              <a:t>توفير المناخ المواتي للتفاعلات الاجتماعية الإيجابية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66"/>
                </a:solidFill>
                <a:latin typeface="Tahoma"/>
              </a:rPr>
              <a:t> تخطيط الخبرات التي تستند على أعمال الأطفال واهتماماتهم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ff"/>
                </a:solidFill>
                <a:latin typeface="Tahoma"/>
              </a:rPr>
              <a:t>الوعي بأهمية تقديم المناخ الآمن نفسياً للمتعلمين الصغار</a:t>
            </a:r>
            <a:r>
              <a:rPr b="0" lang="ar-SA" sz="2700" spc="-1" strike="noStrike">
                <a:solidFill>
                  <a:srgbClr val="4a8ac4"/>
                </a:solidFill>
                <a:latin typeface="Tahoma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66"/>
                </a:solidFill>
                <a:latin typeface="Tahoma"/>
              </a:rPr>
              <a:t>تقديم الدعم للأطفال عندما يتحدثون وعندما يلعبون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ff"/>
                </a:solidFill>
                <a:latin typeface="Tahoma"/>
              </a:rPr>
              <a:t>ملاحظة وتفسير أعمال كل طفل</a:t>
            </a:r>
            <a:r>
              <a:rPr b="0" lang="ar-SA" sz="27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66"/>
                </a:solidFill>
                <a:latin typeface="Tahoma"/>
              </a:rPr>
              <a:t>توفير المكان والزمان للأطفال كي يستخدموا المواد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380520"/>
            <a:ext cx="82310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7cc17"/>
                </a:solidFill>
                <a:latin typeface="Arial"/>
              </a:rPr>
              <a:t>الخبرات الأساسية في منهج الهاي سكوب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SA" sz="3000" spc="-1" strike="noStrike">
                <a:solidFill>
                  <a:srgbClr val="ffffff"/>
                </a:solidFill>
                <a:latin typeface="Tahoma"/>
              </a:rPr>
              <a:t>- التمثيل الإبداعي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SA" sz="3000" spc="-1" strike="noStrike">
                <a:solidFill>
                  <a:srgbClr val="ffffff"/>
                </a:solidFill>
                <a:latin typeface="Tahoma"/>
              </a:rPr>
              <a:t>- اللغة وتعلم القراءة والكتابة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ar-SA" sz="3000" spc="-1" strike="noStrike">
                <a:solidFill>
                  <a:srgbClr val="ffffff"/>
                </a:solidFill>
                <a:latin typeface="Tahoma"/>
              </a:rPr>
              <a:t>- الحركة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ar-SA" sz="3000" spc="-1" strike="noStrike">
                <a:solidFill>
                  <a:srgbClr val="ffffff"/>
                </a:solidFill>
                <a:latin typeface="Tahoma"/>
              </a:rPr>
              <a:t>- الموسيقى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ar-SA" sz="3000" spc="-1" strike="noStrike">
                <a:solidFill>
                  <a:srgbClr val="ffffff"/>
                </a:solidFill>
                <a:latin typeface="Tahoma"/>
              </a:rPr>
              <a:t>- التصنيف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ar-SA" sz="3000" spc="-1" strike="noStrike">
                <a:solidFill>
                  <a:srgbClr val="ffffff"/>
                </a:solidFill>
                <a:latin typeface="Tahoma"/>
              </a:rPr>
              <a:t>- التسلسل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0" lang="ar-SA" sz="3000" spc="-1" strike="noStrike">
                <a:solidFill>
                  <a:srgbClr val="ffffff"/>
                </a:solidFill>
                <a:latin typeface="Tahoma"/>
              </a:rPr>
              <a:t>- العدد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ar-SA" sz="3000" spc="-1" strike="noStrike">
                <a:solidFill>
                  <a:srgbClr val="ffffff"/>
                </a:solidFill>
                <a:latin typeface="Tahoma"/>
              </a:rPr>
              <a:t>- الفراغ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ar-SA" sz="3000" spc="-1" strike="noStrike">
                <a:solidFill>
                  <a:srgbClr val="ffffff"/>
                </a:solidFill>
                <a:latin typeface="Tahoma"/>
              </a:rPr>
              <a:t>- الوقت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8" descr="3177742"/>
          <p:cNvPicPr/>
          <p:nvPr/>
        </p:nvPicPr>
        <p:blipFill>
          <a:blip r:embed="rId1"/>
          <a:srcRect l="0" t="2087" r="3221" b="0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7cc17"/>
                </a:solidFill>
                <a:latin typeface="Arial"/>
              </a:rPr>
              <a:t>البرنامج اليومي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pic>
        <p:nvPicPr>
          <p:cNvPr id="96" name="عنصر نائب للمحتوى 3" descr=""/>
          <p:cNvPicPr/>
          <p:nvPr/>
        </p:nvPicPr>
        <p:blipFill>
          <a:blip r:embed="rId1"/>
          <a:stretch/>
        </p:blipFill>
        <p:spPr>
          <a:xfrm>
            <a:off x="1139760" y="1596960"/>
            <a:ext cx="77850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تكون عناصر الروتين اليومى من ثلاث خطوات رئيسية : خطط – افعل – راج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0T17:14:43Z</dcterms:created>
  <dc:creator>areej</dc:creator>
  <dc:description/>
  <dc:language>en-US</dc:language>
  <cp:lastModifiedBy>aroma.faiz@yahoo.com</cp:lastModifiedBy>
  <dcterms:modified xsi:type="dcterms:W3CDTF">2014-03-09T17:58:05Z</dcterms:modified>
  <cp:revision>35</cp:revision>
  <dc:subject/>
  <dc:title>الشريحة 1</dc:title>
</cp:coreProperties>
</file>