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0DA0-1B63-42DA-8E3A-4B446C50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6C19-E3DB-4B1F-A41C-7E3CF0A7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22F7-0FD5-40B1-AE31-4A9598E3C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013D-269B-4A12-82E8-68DF7B2C9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BEB4-1EDC-4443-A1F2-B8040273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0ECA-A425-4983-AE3E-27D5EE079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448E-62F7-4C11-8A8C-52E53FA0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237F-0165-489D-B8FB-674D0389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F586-D807-438C-994A-48330176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34B5-880C-4D24-8FFF-5154536D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22C1-58D5-4275-ADD6-44CB92A0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D9B9-84CE-47CB-9561-7599C0E0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FD3B-778A-4390-B439-B60C3A80ADB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قياس أثر الضوء في مناسل الطيو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في أحد الفصول الدراسية السابق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68360" y="200340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وفصا دراسي آخــر ...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25800" y="1557360"/>
            <a:ext cx="3657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1T07:16:39Z</dcterms:created>
  <dc:creator>خالد</dc:creator>
  <dc:description/>
  <dc:language>en-US</dc:language>
  <cp:lastModifiedBy>خالد</cp:lastModifiedBy>
  <dcterms:modified xsi:type="dcterms:W3CDTF">2014-12-11T07:19:54Z</dcterms:modified>
  <cp:revision>1</cp:revision>
  <dc:subject/>
  <dc:title>قياس أثر الضوء في مناسل الطيور</dc:title>
</cp:coreProperties>
</file>