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618-AA4B-4CF0-A9FE-CE733C45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8D0-927E-41CB-A165-8371578E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29B-7A0E-4395-BC54-49DF1733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178-8967-4B41-85A4-B805DB5D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24B-F658-4619-81C2-0CAF4B3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FEA-3500-47E2-A96B-70091BA9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636-64FC-4038-B349-69F7F107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F29-9455-4950-8EC1-F0CF7FF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566-39CD-4151-A6AD-0EB906E4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753-8AD5-4E51-9702-3E6F25D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35F-8DD7-4110-AD3E-EF7D170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91F-5D95-4AFA-A392-7DBDEA5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22F-D6A0-41B1-B6B6-9EBA852809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ياس أثر الضوء في مناسل الطي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أحد الفصول الدراسية السابق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2003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فصا دراسي آخــر ...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5800" y="155736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07:16:39Z</dcterms:created>
  <dc:creator>خالد</dc:creator>
  <dc:description/>
  <dc:language>en-US</dc:language>
  <cp:lastModifiedBy>خالد</cp:lastModifiedBy>
  <dcterms:modified xsi:type="dcterms:W3CDTF">2014-12-11T07:19:54Z</dcterms:modified>
  <cp:revision>1</cp:revision>
  <dc:subject/>
  <dc:title>قياس أثر الضوء في مناسل الطيور</dc:title>
</cp:coreProperties>
</file>