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DE09-C8C6-4E42-9E3F-B98DB5462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2302-5D1E-400E-B2D7-B98AC1284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truction can occur in obstructive jaundice and also in hepatic jaundice due to obstruction of microbiliary channels caused by 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5E2C-0B6D-44CD-80E6-5563BFBDC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38C0-84B7-4ACD-BD5A-F04AE2147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DB67-9936-445B-84B1-E5B562D5E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1BFB-0926-475D-A71E-876C2E86D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7DB-A97D-4504-968D-EF009AD9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5BE-FD10-4AC6-B190-D095E74B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603-6978-48CA-9B47-6CCB62B1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8B9-4DB9-451D-8212-E888C9E3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4E95-C266-4BA1-B11B-09DF93C7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C8D4-0282-4BA4-86A2-589785FC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5531-7F1A-4057-B71B-3630D187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7134-3FCF-4883-A294-F9041233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9C60-6C2D-41FF-9EDA-C053E48A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9F62-D56E-4A66-B9A8-BFD0A17C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FE80-46BD-4000-AEAE-173E062D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9A7-BF67-4ECF-9530-70B53112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B216-A2F3-4090-877E-F4F2094D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2BF1-A102-442A-B0E0-38B36BC8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862A-11FA-4574-80B0-B00C2270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E0AA-060D-4FF8-9067-4C28864B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8242-F193-4A54-B46C-8CAB0BEB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00BF1-D352-414C-A7D3-F052070B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EEC92-11A3-42C8-9F1A-465FDAF6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D49AE-C628-4A5E-A954-8E57B6C5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A9894-E133-42E7-9F11-4DFE0AE6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7F4EE-EA64-417B-A49C-15346326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855-6BC8-4F7E-A1B5-1641D408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CA538-C839-491E-B851-4F0AE3F0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FCAD1-4C2C-4207-A767-8880487D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F9051-415A-484D-A71A-B93FB895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BDAD0-CEA1-4CEC-97F0-77DB98F0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F2C6D-50B1-4F1E-8816-89815931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4BB1C-E3B8-4FEC-961A-159B903A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DB2AF-D4B8-4C57-97E8-8C292704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6C9C-F42B-4278-84A6-DD7B5C96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98068-244E-4071-ABB9-3DD3A61E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77313-A15A-483D-9441-A4A0BC0A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2AD-0C49-481F-ABA0-8C3F86CC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598F6-503A-4BC6-B46B-DE5C7C89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46954-6B77-416C-93FD-626A8C3B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68C05-E724-4632-964D-3B74717E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B5B2B-0471-48F6-B817-1E039A98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BA75A-2DDF-4ACF-8B5F-FE929731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7979-2491-456E-89FE-4569511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1BE88-3168-44FA-942F-A904CCBE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C28BC-9603-43F2-B121-2D5CF613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105D-445B-4F41-A5B5-01B6DE3F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FA3-1FB5-4E1E-9075-4348E0F8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CEA-6029-4A5B-B8C2-1B043164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511-3E7C-4812-A50D-7C139C35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D96-50B0-4A47-AA7B-7C8B9452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E51-E8CA-42B1-AB36-67066500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1A56-DBA3-467C-93AF-CCCA9E1E9810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7BC5-D69B-4540-9A5F-7B94D22028F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0134-D328-4A38-99A8-77B2C28B4801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AB99-1502-4B52-A060-B4650E4B59E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9C8D-BC36-4319-A58D-301A116B1089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83DF-4668-4C32-971F-E23332CC481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17E0-1CBF-4572-AE2D-375B34B52FEC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1381-43E6-4158-B10C-1442CF07950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Liver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unction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Tests (LFTs)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2885400" y="555768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Trebuchet MS"/>
              </a:rPr>
              <a:t>GIT/Hematology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mitations of LF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LFT values do not always indicate absence of liver dis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ver a has very large reserve capa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ymptomatic people may have abnormal LFT resul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agnosis should be based on clinical examin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ommon serum liver chemistry test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>
            <a:lum contrast="-20000"/>
          </a:blip>
          <a:srcRect l="0" t="0" r="0" b="20661"/>
          <a:stretch/>
        </p:blipFill>
        <p:spPr>
          <a:xfrm>
            <a:off x="457200" y="2133720"/>
            <a:ext cx="82296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Bilirubi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byproduct of red blood cell breakdow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the yellowish pigment observed in jaundi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bilirubin levels are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allstones, acute and chronic hepatit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Catabolism of Heme.tiff"/>
          <p:cNvPicPr/>
          <p:nvPr/>
        </p:nvPicPr>
        <p:blipFill>
          <a:blip r:embed="rId1"/>
          <a:stretch/>
        </p:blipFill>
        <p:spPr>
          <a:xfrm>
            <a:off x="660240" y="0"/>
            <a:ext cx="782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rcRect l="0" t="0" r="3661" b="0"/>
          <a:stretch/>
        </p:blipFill>
        <p:spPr>
          <a:xfrm>
            <a:off x="1676520" y="295200"/>
            <a:ext cx="54864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rum bilirubin level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42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0.2 – 0.8 mg/d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conjugated (indirect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0.2 – 0.7 mg/d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jugated (direct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0.1 – 0.4 mg/d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tent jaundic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bove 1 mg/d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undic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bove 2 mg/d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ilirubin levels and jaundic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828800"/>
          <a:ext cx="8229600" cy="4479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lass of Jaund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a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73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e-hepatic or hemoly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bnormal red cells; antibodies; drugs and toxins; thaless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emoglobinopathies, Gilbert’s, Crigler-Najjar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epatic or Hepatocell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iral hepatitis, toxic hepatitis, intrahepatic choles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st-hep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xtrahepatic cholestasis; gallstones; tumors of the bile duct, carcinoma of panc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sp>
        <p:nvSpPr>
          <p:cNvPr id="251" name="TextBox 1"/>
          <p:cNvSpPr/>
          <p:nvPr/>
        </p:nvSpPr>
        <p:spPr>
          <a:xfrm>
            <a:off x="-969840" y="20509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Urobilinogen (UBG) and bile sal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133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st UBG is metabolized in the large intestine but a fraction is excreted in urine (less than 4 mg/da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ly bile salts are NOT present in ur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bstruction in the biliary passages caus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eakage of bile salts into circul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cretion in uri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rum Albumi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90680"/>
            <a:ext cx="8229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ost abundant protein synthesized by the li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serum levels: 3.5 – 5 g/d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ynthesis depends on the extent of functioning liver cell ma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nger half-life: 20 day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s levels decrease in all chronic liver disea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rum Globuli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serum levels: 2.5 – 3.5g/d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globulins mainly synthesized by the li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constitute immunoglobulins (antibodi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seru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globulins are observed in chronic hepatitis and cirrhosi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G in autoimmune hepatit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A in alcoholic liver disea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24456"/>
                </a:solidFill>
                <a:latin typeface="Trebuchet MS"/>
              </a:rPr>
              <a:t>Objectives</a:t>
            </a:r>
            <a:endParaRPr b="0" lang="en-US" sz="3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Upon completion of this lecture, the students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derstand the major metabolic functions of the liver and causes of liver dysfunc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scuss markers of liver function tests such as liver enzymes, bilirubin, albumin and prothrombin time that can diagnose hepatic injury and assess hepatic func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bumin to globulin (A/G) rati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A/G ratio: 1.2/1 – 1.5/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lobulin levels increase in hypoalbuminemia as a compens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thrombin Time (PT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thrombin: synthesized by the liver, a marker of liver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lf-life: 6 hrs. (indicates the present function of the live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T is prolonged only when liver loses more than 80% of its reserve capac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tamin K deficiency also causes prolonged P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ake of vitamin K does not affect PT in liver dis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partate aminotransferase (AST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076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range: 8 – 20 U/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marker of hepatocellular dam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serum levels are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ronic hepatitis, cirrhosis and liver canc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anine aminotransferase (ALT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liver-specific than A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range (U/L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Male: 13-35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Female: 10-30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serum levels in acute hepatitis (300-1000U/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rate elevation in alcoholic hepatitis (100-300U/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or elevation in cirrhosis, hepatitis C and non-alcoholic steatohepatitis (NASH) (50-100U/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anine aminotransferase (ALT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715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ears in plasma many days before clinical signs app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ormal value does not always indicate absence of liver dam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bese but otherwise normal individuals may have elevated ALT lev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aline phosphatase (ALP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on-specific marker of liver dis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ed by bone osteoblasts (for bone calcificati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ent on hepatocyte membra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range: 40 – 125 U/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arte elevation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fective hepatitis, alcoholic hepatitis and hepatocellular carcinom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aline phosphatase (ALP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23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levels are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trahepatic obstruction (obstructive jaundice) and intrahepatic cholestas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y high levels are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ne diseas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glutamyltransferase (GGT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d for glutathione synthe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range: 10 – 30U/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rate elevation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fective hepatitis and prostate canc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35480" indent="-282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GT is increased in alcoholics despite normal liver function tes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ighly sensitive to detecting alcohol abu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ake Home Messag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FTs help detect liver injury and func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FTs do have some limit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feren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ppincott’s Illustrated Reviews Biochemistry: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edition, Unit IV, Chapter 21, Pages 282 - 28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cture notes: Clinical Biochemistry: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edition, Chapter 13, Pages 174 - 187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nical Chemistry - Techniques, Principales and Correlations: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edition, Chapter 24, Pages 520 -521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24456"/>
                </a:solidFill>
                <a:latin typeface="Trebuchet MS"/>
              </a:rPr>
              <a:t>Major Metabolic Functions of the Liver</a:t>
            </a:r>
            <a:endParaRPr b="0" lang="en-US" sz="3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ynthetic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lasma proteins (albumin, globulins), cholesterol, triglycerides and lipoprotei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etoxification and excre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monia to urea (urea cycle), bilirubin, cholesterol, drug metabolit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torage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itamins A, D, E, K and B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12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Production of bile sal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ps in diges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ome example of liver dysfun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8288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patocellular dis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olestasis (obstruction of bile flow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irrh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patit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undi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ver canc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eatosis (fatty liv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enetic Disord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mochromatosis (iron storage)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ver Function Tests (LFTs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invasive methods for screening of liver dys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lp in identifying general types of disord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sess severity and allow prediction of outco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ease and treatment follow 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ver Function Tests (LFTs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90360" y="190476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adly classified a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sts to detect hepatic injur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ild or severe; acute or chr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ture of liver injury (hepatocellular or cholestasi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sts to assess hepatic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assification of LF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Group I: Markers of liver dys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102888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erum bilirubin: total and conjugat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102888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rine: bile salts and urobilinoge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102888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otal protein, serum albumin and albumin/globulin rati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102888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thrombin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assification of LF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Group II: Markers of hepatocellular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anine aminotransferase (AL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7164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spartate aminotransferase (AS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assification of LF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Group III: Markers of cholest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kaline phosphatase (ALP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71640" indent="-571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glutamyltransferase (GG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man Ghani</dc:creator>
  <dc:description/>
  <dc:language>en-US</dc:language>
  <cp:lastModifiedBy>Khalid Akkour</cp:lastModifiedBy>
  <dcterms:modified xsi:type="dcterms:W3CDTF">2016-12-24T13:57:20Z</dcterms:modified>
  <cp:revision>27</cp:revision>
  <dc:subject/>
  <dc:title>Liver Function Test</dc:title>
</cp:coreProperties>
</file>