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4BA86-E5F6-4AB4-8FE6-1540E83FDE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0D30D-1BF3-4985-AD6D-41535BB2A0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truction can occur in obstructive jaundice and also in hepatic jaundice due to obstruction of microbiliary channels caused by inflam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9243B-462B-495B-9816-664E9612EA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C177B-B880-45C0-8B66-7179DE6B55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BF1A9-51A2-4635-A72E-183475F398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FD4AF-183C-4D0B-A74B-957E74EB75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C3B9-2380-4305-BBA3-612EC573A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6CDB-6CBC-483D-873A-9603FDA12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DD2E-A038-43CD-A656-C318A32F2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DC61-6E39-4339-BD5B-F0EB3C4F1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FC3CB-8E37-4505-8FD9-79E361CF6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91BE9-2052-4087-B28A-2B2FB9012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821C5-F799-47F7-87CC-E6A1F75AF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C0AD2-90AD-4470-A8FE-C1965427E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7DE92-4EAD-4FC8-93C0-BA5664239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3EDEA-CA92-4E68-AD75-53864633F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15A59-1E6C-4A8B-ADA0-519F247B3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0117-0803-484B-BAC0-F26B275C8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74C8E-ED12-4107-9A77-D9AE238C3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A5013-8624-4435-9484-54DB60F8C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4150E-FAF5-4D6A-838C-AC41A16DD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DB99F-32A4-4CC8-809B-A74FDA2EC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0852D-B7FA-4EF8-ABA7-1711E7CE8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E547AC-C6FB-4BD6-A3B1-973865411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F9BBD0-CD24-4C68-8955-06C4EFBB2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D3F554-AAAC-48E3-A6F3-1DFEE5ECF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F81E8F-8D5F-44DE-B07D-BCDE02275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F88A67-7ABD-4EB5-842D-7D4E33749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E4C7-301B-4971-A978-7945D342C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6E69EF-6C38-49C3-A10F-FCB3852A8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97FACC-EFBC-48CA-87FF-F35F9C730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EBF220-EC32-42F8-86D0-0D8D76DBD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5BB2A1-E06C-4814-91A7-6E4FC6264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337867-EBCD-4EFF-B140-3811E9FA1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525BED-590C-44CF-869F-F23207560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400CE1-6F19-4F1A-963C-05FA73BBC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D7D26-7D10-4BB5-B533-AC986115C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491A9-4146-4782-97FF-6584484E2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F0B82-36C9-48AC-AB80-7E8AA013D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8CBB-46D5-4B43-9EA7-E9BB45CF9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69E18-BEC9-4FBE-9AF7-BB1EDE63A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31CC4-28DA-4B17-AECE-85A7AE99E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38DE9-F834-4E56-857C-2FECACF6C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3B1AF-F849-4927-B4FC-04808F2E9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EB22A-CA4D-4DD1-9303-5BFA94482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349A26-B3C7-47AB-8B64-BF42B7B1B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A09C7-03AB-4D14-ABF4-E9BC297BF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C6BCF-C5D1-4F8B-AFE8-A0F96629A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10153-6964-4C94-BF01-E16A359CC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5C29-9345-47CF-8AC6-F7E4056B5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B409-C461-4CEC-BDD9-22EC56E48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FDE8-D25E-4A35-ADAC-175B02730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B337-FAD5-4493-87C0-0BB298DFF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F910-DFAA-4523-B779-0BBE5D8F2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6A094-8FD3-4CC4-B6B8-E2EED967F216}" type="datetime">
              <a:rPr b="0" lang="en-US" sz="800" spc="-1" strike="noStrike">
                <a:solidFill>
                  <a:srgbClr val="438086"/>
                </a:solidFill>
                <a:latin typeface="Georgia"/>
              </a:rPr>
              <a:t>07/29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8A3D6-BC2C-4B29-9072-74AF0AB36A08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A5526-3CF4-444A-8086-2A50CACC9496}" type="datetime">
              <a:rPr b="0" lang="en-US" sz="800" spc="-1" strike="noStrike">
                <a:solidFill>
                  <a:srgbClr val="438086"/>
                </a:solidFill>
                <a:latin typeface="Georgia"/>
              </a:rPr>
              <a:t>07/29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74BD9-681E-4373-B74B-BD7EE8B69C47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00DD6-DAD1-4534-8BBC-524D2AC10AF5}" type="datetime">
              <a:rPr b="0" lang="en-US" sz="800" spc="-1" strike="noStrike">
                <a:solidFill>
                  <a:srgbClr val="438086"/>
                </a:solidFill>
                <a:latin typeface="Georgia"/>
              </a:rPr>
              <a:t>07/29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3DD0F-815F-4DFD-8351-74E097B87FA5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35FB3-F297-4183-9EA4-D7BBAD35759B}" type="datetime">
              <a:rPr b="0" lang="en-US" sz="800" spc="-1" strike="noStrike">
                <a:solidFill>
                  <a:srgbClr val="438086"/>
                </a:solidFill>
                <a:latin typeface="Georgia"/>
              </a:rPr>
              <a:t>07/29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EF04B-498C-4DC7-9F15-ED0628F74C6A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297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rebuchet MS"/>
              </a:rPr>
              <a:t>Liver</a:t>
            </a:r>
            <a:br>
              <a:rPr sz="6600"/>
            </a:br>
            <a:r>
              <a:rPr b="0" lang="en-US" sz="6600" spc="-1" strike="noStrike">
                <a:solidFill>
                  <a:srgbClr val="ffffff"/>
                </a:solidFill>
                <a:latin typeface="Trebuchet MS"/>
              </a:rPr>
              <a:t>Function</a:t>
            </a:r>
            <a:br>
              <a:rPr sz="6600"/>
            </a:br>
            <a:r>
              <a:rPr b="0" lang="en-US" sz="6600" spc="-1" strike="noStrike">
                <a:solidFill>
                  <a:srgbClr val="ffffff"/>
                </a:solidFill>
                <a:latin typeface="Trebuchet MS"/>
              </a:rPr>
              <a:t>Tests (LFTs)</a:t>
            </a:r>
            <a:endParaRPr b="0" lang="en-US" sz="6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TextBox 1"/>
          <p:cNvSpPr/>
          <p:nvPr/>
        </p:nvSpPr>
        <p:spPr>
          <a:xfrm>
            <a:off x="2885400" y="5557680"/>
            <a:ext cx="360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Trebuchet MS"/>
              </a:rPr>
              <a:t>GIT/Hematology 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Limitations of LFT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ormal LFT values do not always indicate absence of liver diseas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Liver a has very large reserve capacity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743040" indent="-2858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symptomatic people may have abnormal LFT result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Diagnosis should be based on clinical examination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Common serum liver chemistry tests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42" name="Picture 4" descr=""/>
          <p:cNvPicPr/>
          <p:nvPr/>
        </p:nvPicPr>
        <p:blipFill>
          <a:blip r:embed="rId1">
            <a:lum contrast="-20000"/>
          </a:blip>
          <a:srcRect l="0" t="0" r="0" b="20661"/>
          <a:stretch/>
        </p:blipFill>
        <p:spPr>
          <a:xfrm>
            <a:off x="457200" y="2133720"/>
            <a:ext cx="822960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4456"/>
                </a:solidFill>
                <a:latin typeface="Trebuchet MS"/>
              </a:rPr>
              <a:t>Bilirubin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7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 byproduct of red blood cell breakdow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7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7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t is the yellowish pigment observed in jaundic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7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igh bilirubin levels are observed in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7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Gallstones, acute and chronic hepatiti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1" descr="Catabolism of Heme.tiff"/>
          <p:cNvPicPr/>
          <p:nvPr/>
        </p:nvPicPr>
        <p:blipFill>
          <a:blip r:embed="rId1"/>
          <a:stretch/>
        </p:blipFill>
        <p:spPr>
          <a:xfrm>
            <a:off x="660240" y="0"/>
            <a:ext cx="7820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"/>
          <p:cNvPicPr/>
          <p:nvPr/>
        </p:nvPicPr>
        <p:blipFill>
          <a:blip r:embed="rId1"/>
          <a:srcRect l="0" t="0" r="3661" b="0"/>
          <a:stretch/>
        </p:blipFill>
        <p:spPr>
          <a:xfrm>
            <a:off x="1676520" y="295200"/>
            <a:ext cx="5486400" cy="618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Serum bilirubin level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542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orma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0.2 – 0.8 mg/dL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Unconjugated (indirect)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0.2 – 0.7 mg/dL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njugated (direct)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0.1 – 0.4 mg/dL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atent jaundice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bove 1 mg/dL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Jaundice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bove 2 mg/dL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Bilirubin levels and jaundic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457200" y="1828800"/>
          <a:ext cx="8229600" cy="44798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3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Class of Jaund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Cau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1736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Pre-hepatic or hemolyt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Abnormal red cells; antibodies; drugs and toxins; thalessem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Hemoglobinopathies, Gilbert’s, Crigler-Najjar syndr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914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Hepatic or Hepatocellu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Viral hepatitis, toxic hepatitis, intrahepatic cholesta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Post-hepat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Extrahepatic cholestasis; gallstones; tumors of the bile duct, carcinoma of pancre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</a:tbl>
          </a:graphicData>
        </a:graphic>
      </p:graphicFrame>
      <p:sp>
        <p:nvSpPr>
          <p:cNvPr id="251" name="TextBox 1"/>
          <p:cNvSpPr/>
          <p:nvPr/>
        </p:nvSpPr>
        <p:spPr>
          <a:xfrm>
            <a:off x="-969840" y="205092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Urobilinogen (UBG) and bile salt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213372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ost UBG is metabolized in the large intestine but a fraction is excreted in urine (less than 4 mg/day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ormally bile salts are NOT present in urin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bstruction in the biliary passages causes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Leakage of bile salts into circulation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743040" indent="-2858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Excretion in urine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Serum Albumin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390680"/>
            <a:ext cx="8229600" cy="51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most abundant protein synthesized by the live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ormal serum levels: 3.5 – 5 g/d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ynthesis depends on the extent of functioning liver cell mas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onger half-life: 20 day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ts levels decrease in all chronic liver diseas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Serum Globulin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37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ormal serum levels: 2.5 – 3.5g/d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-globulins mainly synthesized by the live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y constitute immunoglobulins (antibodies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igh serum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-globulins are observed in chronic hepatitis and cirrhosis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11280" indent="-22896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IgG in autoimmune hepatiti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11280" indent="-22896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IgA in alcoholic liver disease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424456"/>
                </a:solidFill>
                <a:latin typeface="Trebuchet MS"/>
              </a:rPr>
              <a:t>Objectives</a:t>
            </a:r>
            <a:endParaRPr b="0" lang="en-US" sz="35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6840" y="16761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eorgia"/>
              </a:rPr>
              <a:t>Upon completion of this lecture, the students should be able to: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Understand the major metabolic functions of the liver and causes of liver dysfunction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Discuss markers of liver function tests such as liver enzymes, bilirubin, albumin and prothrombin time that can diagnose hepatic injury and assess hepatic function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Albumin to globulin (A/G) ratio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ormal A/G ratio: 1.2/1 – 1.5/1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Globulin levels increase in hypoalbuminemia as a compensa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Prothrombin Time (PT)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rothrombin: synthesized by the liver, a marker of liver func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alf-life: 6 hrs. (indicates the present function of the liver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T is prolonged only when liver loses more than 80% of its reserve capacit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Vitamin K deficiency also causes prolonged P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take of vitamin K does not affect PT in liver diseas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Aspartate aminotransferase (AST)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207648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ormal range: 8 – 20 U/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 marker of hepatocellular damag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igh serum levels are observed in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Chronic hepatitis, cirrhosis and liver cancer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Alanine aminotransferase (ALT)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ore liver-specific than AS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ormal range (U/L)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086"/>
                </a:solidFill>
                <a:latin typeface="Georgia"/>
              </a:rPr>
              <a:t>Male: 13-35</a:t>
            </a:r>
            <a:endParaRPr b="0" lang="en-US" sz="28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086"/>
                </a:solidFill>
                <a:latin typeface="Georgia"/>
              </a:rPr>
              <a:t>Female: 10-30</a:t>
            </a:r>
            <a:endParaRPr b="0" lang="en-US" sz="28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igh serum levels in acute hepatitis (300-1000U/L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oderate elevation in alcoholic hepatitis (100-300U/L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inor elevation in cirrhosis, hepatitis C and non-alcoholic steatohepatitis (NASH) (50-100U/L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Alanine aminotransferase (ALT)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7715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ppears in plasma many days before clinical signs appea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 normal value does not always indicate absence of liver damag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bese but otherwise normal individuals may have elevated ALT level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Alkaline phosphatase (ALP)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350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 non-specific marker of liver diseas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5520" indent="-2350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5520" indent="-2350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roduced by bone osteoblasts (for bone calcification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5520" indent="-2350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resent on hepatocyte membran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5520" indent="-2350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5520" indent="-2350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ormal range: 40 – 125 U/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5520" indent="-2350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5520" indent="-2350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odearte elevation observed in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83280" indent="-26280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Infective hepatitis, alcoholic hepatitis and hepatocellular carcinoma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Alkaline phosphatase (ALP)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52388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igh levels are observed in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Extrahepatic obstruction (obstructive jaundice) and intrahepatic cholestasi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Very high levels are observed in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Bone disease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Symbol"/>
                <a:ea typeface="Symbol"/>
              </a:rPr>
              <a:t>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-glutamyltransferase (GGT)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7524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Used for glutathione synthesi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ormal range: 10 – 30U/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oderate elevation observed in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35480" indent="-28296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Infective hepatitis and prostate cancer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735480" indent="-28296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GGT is increased in alcoholics despite normal liver function test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35480" indent="-28296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Highly sensitive to detecting alcohol abuse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Take Home Message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7524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2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FTs help detect liver injury and function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2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FTs do have some limitations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Reference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17524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Lippincott’s Illustrated Reviews Biochemistry: 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eorgia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edition, Unit IV, Chapter 21, Pages 282 - 285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Lecture notes: Clinical Biochemistry: 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eorgia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edition, Chapter 13, Pages 174 - 187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linical Chemistry - Techniques, Principales and Correlations: 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eorgia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edition, Chapter 24, Pages 520 -521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424456"/>
                </a:solidFill>
                <a:latin typeface="Trebuchet MS"/>
              </a:rPr>
              <a:t>Major Metabolic Functions of the Liver</a:t>
            </a:r>
            <a:endParaRPr b="0" lang="en-US" sz="35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6840" y="16761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Synthetic Func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Plasma proteins (albumin, globulins), cholesterol, triglycerides and lipoprotein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Detoxification and excre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mmonia to urea (urea cycle), bilirubin, cholesterol, drug metabolite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Storage Func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Vitamins A, D, E, K and B</a:t>
            </a:r>
            <a:r>
              <a:rPr b="0" lang="en-US" sz="2600" spc="-1" strike="noStrike" baseline="-25000">
                <a:solidFill>
                  <a:srgbClr val="438086"/>
                </a:solidFill>
                <a:latin typeface="Georgia"/>
              </a:rPr>
              <a:t>12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Production of bile salt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Helps in digestion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Some example of liver dysfunction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82880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epatocellular diseas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holestasis (obstruction of bile flow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irrhosi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epatiti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Jaundic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iver cance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teatosis (fatty liver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G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enetic Disorder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Hemochromatosis (iron storage)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Liver Function Tests (LFTs)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oninvasive methods for screening of liver dysfunc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elp in identifying general types of disorde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ssess severity and allow prediction of outcom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isease and treatment follow up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Liver Function Tests (LFTs)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990360" y="1904760"/>
            <a:ext cx="7391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roadly classified as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ests to detect hepatic injury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14400" indent="-514440">
              <a:spcBef>
                <a:spcPts val="300"/>
              </a:spcBef>
              <a:buClr>
                <a:srgbClr val="438086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Mild or severe; acute or chronic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4400" indent="-514440">
              <a:spcBef>
                <a:spcPts val="300"/>
              </a:spcBef>
              <a:buClr>
                <a:srgbClr val="438086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Nature of liver injury (hepatocellular or cholestasis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4400" indent="-514440">
              <a:spcBef>
                <a:spcPts val="300"/>
              </a:spcBef>
              <a:buClr>
                <a:srgbClr val="438086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ests to assess hepatic func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assification of LFT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Group I: Markers of liver dysfunc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1028880" indent="-571680">
              <a:spcBef>
                <a:spcPts val="300"/>
              </a:spcBef>
              <a:buClr>
                <a:srgbClr val="438086"/>
              </a:buClr>
              <a:buFont typeface="Trebuchet MS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Serum bilirubin: total and conjugated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1028880" indent="-571680">
              <a:spcBef>
                <a:spcPts val="300"/>
              </a:spcBef>
              <a:buClr>
                <a:srgbClr val="438086"/>
              </a:buClr>
              <a:buFont typeface="Trebuchet MS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Urine: bile salts and urobilinogen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1028880" indent="-571680">
              <a:spcBef>
                <a:spcPts val="300"/>
              </a:spcBef>
              <a:buClr>
                <a:srgbClr val="438086"/>
              </a:buClr>
              <a:buFont typeface="Trebuchet MS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Total protein, serum albumin and albumin/globulin ratio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1028880" indent="-571680">
              <a:spcBef>
                <a:spcPts val="300"/>
              </a:spcBef>
              <a:buClr>
                <a:srgbClr val="438086"/>
              </a:buClr>
              <a:buFont typeface="Trebuchet MS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Prothrombin Time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assification of LFT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Group II: Markers of hepatocellular injur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71640" indent="-571680">
              <a:spcBef>
                <a:spcPts val="300"/>
              </a:spcBef>
              <a:buClr>
                <a:srgbClr val="438086"/>
              </a:buClr>
              <a:buFont typeface="Trebuchet MS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lanine aminotransferase (ALT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71640" indent="-571680">
              <a:spcBef>
                <a:spcPts val="300"/>
              </a:spcBef>
              <a:buClr>
                <a:srgbClr val="438086"/>
              </a:buClr>
              <a:buFont typeface="Trebuchet MS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spartate aminotransferase (AST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assification of LFT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Group III: Markers of cholestasi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71640" indent="-571680">
              <a:spcBef>
                <a:spcPts val="300"/>
              </a:spcBef>
              <a:buClr>
                <a:srgbClr val="438086"/>
              </a:buClr>
              <a:buFont typeface="Trebuchet MS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lkaline phosphatase (ALP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71640" indent="-57168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Trebuchet MS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Symbol"/>
                <a:ea typeface="Symbol"/>
              </a:rPr>
              <a:t>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-glutamyltransferase (GGT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Usman Ghani</dc:creator>
  <dc:description/>
  <dc:language>en-US</dc:language>
  <cp:lastModifiedBy>Khalid Akkour</cp:lastModifiedBy>
  <dcterms:modified xsi:type="dcterms:W3CDTF">2016-12-24T13:57:20Z</dcterms:modified>
  <cp:revision>27</cp:revision>
  <dc:subject/>
  <dc:title>Liver Function Test</dc:title>
</cp:coreProperties>
</file>