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B21C-9390-40FF-A543-24916E93D79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65FD-29EA-4685-AE18-32E9DDF7865E}"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14E6-B591-408C-BD55-4DDC9CBA64C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10B3-6F43-44A9-B0FD-E353CC0FE4D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D9E7-2800-43F4-9ABD-97FF6476A8E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AFCE-76B7-46EC-A6D7-3442D008C28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B91D-6065-410A-81F2-35E82C480B1A}"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1F8C-3AB0-4BC7-AE9B-485B3139F5BA}"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8E51-3B2B-4A38-B5C7-496AB747429B}"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916F-0C47-46C7-8128-7A7D4A6A064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3856-0EA5-4D32-BBB6-C842546FE8F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E1D2-92D5-4CB1-8284-3291B794919A}"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95A0-CF3C-447C-B2C2-C501761AA1D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A759-BD07-4C6A-BEA8-A5F3E6A80B7E}"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5750-0796-4229-8F50-A35C5536CF8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2840-5C91-4D1C-A2CA-791BFA3A9B1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063C-07BB-4875-87E5-6DEFBB2F5D8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E49B-6C56-4CF3-99B8-F2D7B34F6D1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EC62E-F305-4910-A9CA-CD441FD97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6257-4D4E-4BD4-8B30-FDF15880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D3962-12D5-4084-86E0-F0806038F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FF537-BDDD-4274-BD2A-6CC112491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DFB75-A4E6-41DC-861F-60E6730CC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6DAB2-58A7-4266-B3BE-285F189EC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AC90B-ECF7-48D6-A8DE-B30B8CB8D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A5605-9927-4DF7-8E31-E8AE5574B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89A92-0356-498F-965C-F4306BCD1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C9AB2-49F7-4BCD-B812-F448A689C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04D2C-A73C-4CB2-9746-49021CE00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74C6-7339-4B9F-9982-FFDE27CE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DD7BE-EC91-40D5-A84C-0218954DB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FA536-8BF7-489F-82DB-6F54FB24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A0E4D-D035-4E75-8C08-CDBB3F057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A8540-28E6-4F84-8A9B-C6D2FE403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8DAF6-0E27-45CF-9D23-131C5D8CC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EE26-EE0B-4179-A361-57F8336A0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C238C-2FFA-4A34-B933-A5C7461B1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1D158-628D-449B-B6AB-EC0D783F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CDA61-AEC8-43C4-94B9-37680E8F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5C2E-22AB-483F-BEE5-24A6BA62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BEC2-4C07-4233-982E-6F2ACAEA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F977-F090-44DD-8FBF-8A7DF21E6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B187-4544-4B29-92A9-A1491E85A795}" type="slidenum">
              <a:rPr b="0" lang="ar-SA"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BD39-8C2F-4370-977F-615DA4748169}" type="slidenum">
              <a:rPr b="0" lang="ar-SA"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عملية العلاج النفسي</a:t>
            </a:r>
            <a:endParaRPr b="0" lang="en-US" sz="4400" spc="-1" strike="noStrike">
              <a:solidFill>
                <a:srgbClr val="ffffcc"/>
              </a:solidFill>
              <a:latin typeface="Tahoma"/>
            </a:endParaRPr>
          </a:p>
        </p:txBody>
      </p:sp>
      <p:sp>
        <p:nvSpPr>
          <p:cNvPr id="392" name=""/>
          <p:cNvSpPr txBox="1"/>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23479371thc"/>
          <p:cNvPicPr/>
          <p:nvPr/>
        </p:nvPicPr>
        <p:blipFill>
          <a:blip r:embed="rId1"/>
          <a:stretch/>
        </p:blipFill>
        <p:spPr>
          <a:xfrm>
            <a:off x="0" y="1260360"/>
            <a:ext cx="8991720" cy="559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هدف التداعي الحر إلى الكشف عن المواد المكبوتة في اللاشعور واستدراجها إلى حيز الشعور.</a:t>
            </a:r>
            <a:endParaRPr b="0" lang="en-US" sz="2800" spc="-1" strike="noStrike">
              <a:solidFill>
                <a:srgbClr val="ffffff"/>
              </a:solidFill>
              <a:latin typeface="Tahoma"/>
            </a:endParaRPr>
          </a:p>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تداعي الحر يكون المعالج يقظا لملاحظة انفعالات المريض وحركاته العصبية ،ولما يتورط فيه فلتات اللسان (كلمات الحق التي ترد على اللسان دون قصد اثناء الكلام ومثلها زلات القلم، او لما يعتريه تلعثم وتردد ،وقد يتدخل احيانا المعالج بتشجيعه وتوجيهه او يفسر او يطلب المزيد في ناحية خاصة.</a:t>
            </a:r>
            <a:endParaRPr b="0" lang="en-US" sz="2800" spc="-1" strike="noStrike">
              <a:solidFill>
                <a:srgbClr val="ffffff"/>
              </a:solidFill>
              <a:latin typeface="Tahoma"/>
            </a:endParaRPr>
          </a:p>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اعد المعالج المريض في الاستبصار بهذه المواد التي لم يكن يعيها.</a:t>
            </a:r>
            <a:endParaRPr b="0" lang="en-US" sz="2800" spc="-1" strike="noStrike">
              <a:solidFill>
                <a:srgbClr val="ffffff"/>
              </a:solidFill>
              <a:latin typeface="Tahoma"/>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نفيس الانفعالي</a:t>
            </a:r>
            <a:endParaRPr b="0" lang="en-US" sz="4400" spc="-1" strike="noStrike">
              <a:solidFill>
                <a:srgbClr val="ffffcc"/>
              </a:solidFill>
              <a:latin typeface="Tahoma"/>
            </a:endParaRPr>
          </a:p>
        </p:txBody>
      </p:sp>
      <p:sp>
        <p:nvSpPr>
          <p:cNvPr id="417" name="PlaceHolder 2"/>
          <p:cNvSpPr>
            <a:spLocks noGrp="1"/>
          </p:cNvSpPr>
          <p:nvPr>
            <p:ph/>
          </p:nvPr>
        </p:nvSpPr>
        <p:spPr>
          <a:xfrm>
            <a:off x="914400" y="914040"/>
            <a:ext cx="8229600" cy="4530600"/>
          </a:xfrm>
          <a:prstGeom prst="rect">
            <a:avLst/>
          </a:prstGeom>
          <a:noFill/>
          <a:ln w="0">
            <a:noFill/>
          </a:ln>
        </p:spPr>
        <p:txBody>
          <a:bodyPr anchor="t">
            <a:normAutofit/>
          </a:bodyPr>
          <a:p>
            <a:pPr marL="343080" indent="-343080" algn="r" rtl="1">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ريغ او التنفيس الانفعالي بمثابة تطهير للشحنات النفسية الانفعالية وخطوه هامة في العلاج النفسي.</a:t>
            </a:r>
            <a:endParaRPr b="0" lang="en-US" sz="2800" spc="-1" strike="noStrike">
              <a:solidFill>
                <a:srgbClr val="ffffff"/>
              </a:solidFill>
              <a:latin typeface="Tahoma"/>
            </a:endParaRPr>
          </a:p>
          <a:p>
            <a:pPr marL="343080" indent="-343080" algn="r" rtl="1">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تنفيس إجراء ضروري لتخفيف ضغط</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كبت حتى لايحدث الانفجار  وحتى</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يتصدع وينهار بناء الشخصية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علاج تتاح الفرصة ليفرغ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يض مابنفسه من انفعالات ويتخلص</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ن التوتر الانفعالي.</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صل الحال إلى ان ينفعل المريض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بكي.</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8" name="Picture 5" descr="dghwcy"/>
          <p:cNvPicPr/>
          <p:nvPr/>
        </p:nvPicPr>
        <p:blipFill>
          <a:blip r:embed="rId1"/>
          <a:stretch/>
        </p:blipFill>
        <p:spPr>
          <a:xfrm>
            <a:off x="0" y="2133720"/>
            <a:ext cx="43290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ما هي الوسائل التي يستخدمها المعالج لمساعدة المريض في إجراء التنفيس الانفعالي ؟؟؟؟؟</a:t>
            </a: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داعي الحر او الترابط الطليق.</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ستخدم المعالج طريقة الشرح والتفسير وتوضيح الحلات الانفعالية بما يتيح الفرصة للمريض لكي يرى نفسه وما في سلوكه وانفعالاته من تناقض يسبب شقائه النفسي.</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مكن تشبيه عملية التنفيس الانفعالي بعملية التحنيط:أي سحب الروح الانفعالية  من الخبرة المخفية فتصبح رغم ظهورها في حيز الشعور غير مخفية.</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لاحظ انه قد يعوق عملية التنفيس الانفعالي تدخل انفعالات مؤلمة مثل الاشمئزاز والخزي والشعور بالذنب والقلق مما يضطر الأنا إلى اللجوء إلى حيل الدفاع النفسي ضد هذه الانفعالات  المؤلمة مثل الإنكار والتكوين العكسي والإلغاء ...الخ ولذلك فإن المعالج أن يهيئ مناخا خاليا من الرقابة يستطيع المريض فيه أن يعبر عن نفسه بحرية وانطلاق مما يهيئ له نقطة البداية للتبصر بنفس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فسير </a:t>
            </a:r>
            <a:r>
              <a:rPr b="0" lang="en-US" sz="4400" spc="-1" strike="noStrike">
                <a:solidFill>
                  <a:srgbClr val="ffffcc"/>
                </a:solidFill>
                <a:latin typeface="Tahoma"/>
              </a:rPr>
              <a:t>Interpretation</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حدث أثناء جلسات العلاج النفسي أن تظهر خبرات تحتاج إلى تفسير.</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ضمن التفسير إيضاح ما ليس واضحا وإفهام ما ليس مفهوما واستنتاج  المعاني الكامنة وراء التوريات  ، واستدراك ما نسيه المريض من بين ما يقوله ،وقراءة مابين السطور ، وإعادة بناء خبرات المريض الغير واضحة.</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ب ان يكون التفسير واضحا كاملا صحيحا ومنطقيا حتى يقبله المريض.</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كون التفسير صامتا ،أي انه قد يحدث في عقل المعالج ولا ينقله الى المريض .وهذا التفسير الصامت هاما في فهم حاجات المريض وأساسي في خطة العلاج.</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يتناول التفسير </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العلاقة العلاجية بين المريض والمعالج.</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المواد التي تنكشف اثناء إجراء التداعي الحر.</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3</a:t>
            </a:r>
            <a:r>
              <a:rPr b="0" lang="ar-SA" sz="3200" spc="-1" strike="noStrike">
                <a:solidFill>
                  <a:srgbClr val="ffffff"/>
                </a:solidFill>
                <a:latin typeface="Tahoma"/>
              </a:rPr>
              <a:t>- الأعراض المرضي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4</a:t>
            </a:r>
            <a:r>
              <a:rPr b="0" lang="ar-SA" sz="3200" spc="-1" strike="noStrike">
                <a:solidFill>
                  <a:srgbClr val="ffffff"/>
                </a:solidFill>
                <a:latin typeface="Tahoma"/>
              </a:rPr>
              <a:t>-والسلوك الحالي والماضي للمريض.</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5</a:t>
            </a:r>
            <a:r>
              <a:rPr b="0" lang="ar-SA" sz="3200" spc="-1" strike="noStrike">
                <a:solidFill>
                  <a:srgbClr val="ffffff"/>
                </a:solidFill>
                <a:latin typeface="Tahoma"/>
              </a:rPr>
              <a:t>-والسلوك أثناء وخارج جلسات العلاج.</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6</a:t>
            </a:r>
            <a:r>
              <a:rPr b="0" lang="ar-SA" sz="3200" spc="-1" strike="noStrike">
                <a:solidFill>
                  <a:srgbClr val="ffffff"/>
                </a:solidFill>
                <a:latin typeface="Tahoma"/>
              </a:rPr>
              <a:t>- والعلاقات الشخصية والاجتماعية في الحاضر والماضي</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7</a:t>
            </a:r>
            <a:r>
              <a:rPr b="0" lang="ar-SA" sz="3200" spc="-1" strike="noStrike">
                <a:solidFill>
                  <a:srgbClr val="ffffff"/>
                </a:solidFill>
                <a:latin typeface="Tahoma"/>
              </a:rPr>
              <a:t>-اهداف الحيا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8</a:t>
            </a:r>
            <a:r>
              <a:rPr b="0" lang="ar-SA" sz="3200" spc="-1" strike="noStrike">
                <a:solidFill>
                  <a:srgbClr val="ffffff"/>
                </a:solidFill>
                <a:latin typeface="Tahoma"/>
              </a:rPr>
              <a:t>-وأسلوب الحيا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يلجأ المعالج الى التفسير لأسباب عدة:</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داث تغير في ادراك المريض للخبرات.</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حداث تغير في معرفته ومشاعره اتجاه نفس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حداث تغير في سلوك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نمية بصيرت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مساعدته في حل المشكلات.</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كشف الصراعات والمساعدة في حلها.</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بعاد القلق وغيرها....الخ.</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اهم معاير التفسير الصحيح انه يحدث اثار إيجابية في سلوك المريض منها:</a:t>
            </a:r>
            <a:endParaRPr b="0" lang="en-US" sz="40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خفيف القلق.</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قليل اللجوء الى حيل الدفاع النفسي.</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ناول المشكلات بوضوح اكثر.</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ظهور المعطيات .</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بعاد جديدة.</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ahoma"/>
              </a:rPr>
              <a:t>ان التفسير الخاطئ له اثار ضارة</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قد تتوقف درجة الوثوق بالتفسير على تجميع أكبر قد من المادة والمعطيات المتنوعة ذات اهمية خاصة التي يدركها المعالج بخبرته ومهارته والتي ترتبط بشخصية المريض وحالته.</a:t>
            </a:r>
            <a:endParaRPr b="0" lang="en-US" sz="3200" spc="-1" strike="noStrike">
              <a:solidFill>
                <a:srgbClr val="ffffff"/>
              </a:solidFill>
              <a:latin typeface="Tahoma"/>
            </a:endParaRPr>
          </a:p>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د يتطلب الأمر الاستمرار في تفسيرات خاصة رغم فشل المريض في تقبل واستيعاب بعض التفسيرات.</a:t>
            </a:r>
            <a:endParaRPr b="0" lang="en-US" sz="3200" spc="-1" strike="noStrike">
              <a:solidFill>
                <a:srgbClr val="ffffff"/>
              </a:solidFill>
              <a:latin typeface="Tahoma"/>
            </a:endParaRPr>
          </a:p>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من الواجب مراعاة ضرورة أن يتناسب عمق التفسير مع مستوى استيعاب المري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جراءات المشتركة في طرق العلاج النفسي</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كن من عرض الإجراءات  المشتركة في طرق العلاج النفسي من خلال استعراض عملية العلاج النفسي ذاتها ، هذه العملية التي يجب أن تكون متينة الأساس منظمة البناء مخططة الإجراءات في إطار النظريات القائمة على فهم طبيعة الإنسا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إجراءات العلاج النفسي المشتركة بين كافة طرقه</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مناخ العلاجي</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علاقة العلاجية</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داعي الحر </a:t>
            </a:r>
            <a:r>
              <a:rPr b="1" lang="en-US" sz="2700" spc="-1" strike="noStrike">
                <a:solidFill>
                  <a:srgbClr val="ffffff"/>
                </a:solidFill>
                <a:latin typeface="Tahoma"/>
              </a:rPr>
              <a:t>free-association</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نفيس الانفعالي </a:t>
            </a:r>
            <a:r>
              <a:rPr b="1" lang="en-US" sz="2700" spc="-1" strike="noStrike">
                <a:solidFill>
                  <a:srgbClr val="ffffff"/>
                </a:solidFill>
                <a:latin typeface="Tahoma"/>
              </a:rPr>
              <a:t>Emotional Catharsis</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فسير</a:t>
            </a:r>
            <a:r>
              <a:rPr b="1" lang="en-US" sz="2700" spc="-1" strike="noStrike">
                <a:solidFill>
                  <a:srgbClr val="ffffff"/>
                </a:solidFill>
                <a:latin typeface="Tahoma"/>
              </a:rPr>
              <a:t>Interpretation</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استبصار</a:t>
            </a:r>
            <a:r>
              <a:rPr b="1" lang="en-US" sz="2700" spc="-1" strike="noStrike">
                <a:solidFill>
                  <a:srgbClr val="ffffff"/>
                </a:solidFill>
                <a:latin typeface="Tahoma"/>
              </a:rPr>
              <a:t>Insight</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علم وإعادة التعليم </a:t>
            </a:r>
            <a:r>
              <a:rPr b="1" lang="en-US" sz="2700" spc="-1" strike="noStrike">
                <a:solidFill>
                  <a:srgbClr val="ffffff"/>
                </a:solidFill>
                <a:latin typeface="Tahoma"/>
              </a:rPr>
              <a:t>Learning and Relearning</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تعديل وتغير السلوك </a:t>
            </a:r>
            <a:r>
              <a:rPr b="1" lang="en-US" sz="2700" spc="-1" strike="noStrike">
                <a:solidFill>
                  <a:srgbClr val="ffffff"/>
                </a:solidFill>
                <a:latin typeface="Tahoma"/>
              </a:rPr>
              <a:t>Behavior Modification and</a:t>
            </a:r>
            <a:r>
              <a:rPr b="0" lang="en-US" sz="2700" spc="-1" strike="noStrike">
                <a:solidFill>
                  <a:srgbClr val="ffffff"/>
                </a:solidFill>
                <a:latin typeface="Tahoma"/>
              </a:rPr>
              <a:t> </a:t>
            </a:r>
            <a:r>
              <a:rPr b="1" lang="en-US" sz="2700" spc="-1" strike="noStrike">
                <a:solidFill>
                  <a:srgbClr val="ffffff"/>
                </a:solidFill>
                <a:latin typeface="Tahoma"/>
              </a:rPr>
              <a:t>Change</a:t>
            </a:r>
            <a:r>
              <a:rPr b="1" lang="en-US" sz="2700" spc="-1" strike="noStrike">
                <a:solidFill>
                  <a:srgbClr val="ffffff"/>
                </a:solidFill>
                <a:latin typeface="Tahoma"/>
              </a:rPr>
              <a:t> </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تغير الشخصية.</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نهاء العلاج.</a:t>
            </a:r>
            <a:endParaRPr b="0" lang="en-US" sz="2700" spc="-1" strike="noStrike">
              <a:solidFill>
                <a:srgbClr val="ffffff"/>
              </a:solidFill>
              <a:latin typeface="Tahoma"/>
            </a:endParaRPr>
          </a:p>
          <a:p>
            <a:pPr marL="34308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50532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مناخ العلاجي:</a:t>
            </a:r>
            <a:endParaRPr b="0" lang="en-US" sz="4400" spc="-1" strike="noStrike">
              <a:solidFill>
                <a:srgbClr val="ffffcc"/>
              </a:solidFill>
              <a:latin typeface="Tahoma"/>
            </a:endParaRPr>
          </a:p>
        </p:txBody>
      </p:sp>
      <p:sp>
        <p:nvSpPr>
          <p:cNvPr id="399" name="PlaceHolder 2"/>
          <p:cNvSpPr>
            <a:spLocks noGrp="1"/>
          </p:cNvSpPr>
          <p:nvPr>
            <p:ph/>
          </p:nvPr>
        </p:nvSpPr>
        <p:spPr>
          <a:xfrm>
            <a:off x="914400" y="20574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العلاج النفسي بتهيئة المناخ أو الجو العلاجي المناسب.ويضمن ذلك أعداد مكان هادئ ومناسب لعملية العلاج ،والاتفاق مع المريض على مواعيد العلاج ونفقاته وتبصيره بالدور الذي سيقوم به.</a:t>
            </a:r>
            <a:endParaRPr b="0" lang="en-US" sz="3200" spc="-1" strike="noStrike">
              <a:solidFill>
                <a:srgbClr val="ffffff"/>
              </a:solidFill>
              <a:latin typeface="Tahoma"/>
            </a:endParaRPr>
          </a:p>
          <a:p>
            <a:pPr marL="329040" indent="-32904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يتطلب العلاج النفسي جو يتيح فهم سلوك المريض كما يفهمه هو ومن الواقع إطاره المرجعي.ويضمن ذلك فهم أراء المريض وأفكاره وانفعالا ته ومشاعره ودوافعه وحاجاته واتجاهاته وردود فعله نحو مشكلاته وطرق حلها ومعنى اعراضه وأهدافها.</a:t>
            </a:r>
            <a:endParaRPr b="0" lang="en-US" sz="3200" spc="-1" strike="noStrike">
              <a:solidFill>
                <a:srgbClr val="ffffff"/>
              </a:solidFill>
              <a:latin typeface="Tahoma"/>
            </a:endParaRPr>
          </a:p>
        </p:txBody>
      </p:sp>
      <p:pic>
        <p:nvPicPr>
          <p:cNvPr id="400" name="Picture 5" descr="psychologue32-saidaonline"/>
          <p:cNvPicPr/>
          <p:nvPr/>
        </p:nvPicPr>
        <p:blipFill>
          <a:blip r:embed="rId1"/>
          <a:stretch/>
        </p:blipFill>
        <p:spPr>
          <a:xfrm>
            <a:off x="0" y="0"/>
            <a:ext cx="251460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أن الجو العلاجي </a:t>
            </a:r>
            <a:r>
              <a:rPr b="1" i="1" lang="ar-SA" sz="4000" spc="-1" strike="noStrike" u="sng">
                <a:solidFill>
                  <a:srgbClr val="ffffcc"/>
                </a:solidFill>
                <a:uFillTx/>
                <a:latin typeface="Tahoma"/>
              </a:rPr>
              <a:t>المشبع بالأمن النفسي</a:t>
            </a:r>
            <a:br>
              <a:rPr sz="4000"/>
            </a:br>
            <a:endParaRPr b="0" lang="en-US" sz="4000" spc="-1" strike="noStrike">
              <a:solidFill>
                <a:srgbClr val="ffffcc"/>
              </a:solidFill>
              <a:latin typeface="Tahoma"/>
            </a:endParaRPr>
          </a:p>
        </p:txBody>
      </p:sp>
      <p:sp>
        <p:nvSpPr>
          <p:cNvPr id="402"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بر مثيرا لانفعالات سارة ومريحة</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يبعث في المريض الطمأنينة والأمل</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ن استرجاع المريض للمواقف </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ثيرة للقلق مرة ثانية بطريقة رمزية</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جو نفسي مريح سار يساعد</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لى الربط بين هذه  المثيرات وبين</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عور بالراحة الذي يشبع الجو</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علاجي. </a:t>
            </a:r>
            <a:endParaRPr b="0" lang="en-US" sz="3200" spc="-1" strike="noStrike">
              <a:solidFill>
                <a:srgbClr val="ffffff"/>
              </a:solidFill>
              <a:latin typeface="Tahoma"/>
            </a:endParaRPr>
          </a:p>
        </p:txBody>
      </p:sp>
      <p:pic>
        <p:nvPicPr>
          <p:cNvPr id="403" name="Picture 9" descr="capture"/>
          <p:cNvPicPr/>
          <p:nvPr/>
        </p:nvPicPr>
        <p:blipFill>
          <a:blip r:embed="rId1"/>
          <a:stretch/>
        </p:blipFill>
        <p:spPr>
          <a:xfrm>
            <a:off x="0" y="914400"/>
            <a:ext cx="419112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علاقة العلاجية</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6" name="Picture 5" descr="Image8"/>
          <p:cNvPicPr/>
          <p:nvPr/>
        </p:nvPicPr>
        <p:blipFill>
          <a:blip r:embed="rId1"/>
          <a:stretch/>
        </p:blipFill>
        <p:spPr>
          <a:xfrm>
            <a:off x="380880" y="1406520"/>
            <a:ext cx="8305920" cy="54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علاقة العلاجية</a:t>
            </a:r>
            <a:endParaRPr b="0" lang="en-US" sz="4400" spc="-1" strike="noStrike">
              <a:solidFill>
                <a:srgbClr val="ffffcc"/>
              </a:solidFill>
              <a:latin typeface="Tahoma"/>
            </a:endParaRPr>
          </a:p>
        </p:txBody>
      </p:sp>
      <p:sp>
        <p:nvSpPr>
          <p:cNvPr id="408" name="PlaceHolder 2"/>
          <p:cNvSpPr>
            <a:spLocks noGrp="1"/>
          </p:cNvSpPr>
          <p:nvPr>
            <p:ph/>
          </p:nvPr>
        </p:nvSpPr>
        <p:spPr>
          <a:xfrm>
            <a:off x="0" y="1143000"/>
            <a:ext cx="9144000" cy="5486400"/>
          </a:xfrm>
          <a:prstGeom prst="rect">
            <a:avLst/>
          </a:prstGeom>
          <a:noFill/>
          <a:ln w="0">
            <a:noFill/>
          </a:ln>
        </p:spPr>
        <p:txBody>
          <a:bodyPr anchor="t">
            <a:normAutofit fontScale="92000"/>
          </a:bodyPr>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مناخ علاجي مناسب تقوم العلاقة العلاجية . وأول شيء يحدث في الجلسة العلاج هو </a:t>
            </a:r>
            <a:r>
              <a:rPr b="0" lang="ar-SA" sz="2800" spc="-1" strike="noStrike" u="sng">
                <a:solidFill>
                  <a:srgbClr val="ffffff"/>
                </a:solidFill>
                <a:uFillTx/>
                <a:latin typeface="Tahoma"/>
              </a:rPr>
              <a:t>ان يرحب المعالج المريض</a:t>
            </a:r>
            <a:r>
              <a:rPr b="0" lang="ar-SA" sz="2800" spc="-1" strike="noStrike">
                <a:solidFill>
                  <a:srgbClr val="ffffff"/>
                </a:solidFill>
                <a:latin typeface="Tahoma"/>
              </a:rPr>
              <a:t> ،ويتحدث المريض إلى المعالج عن مشكلته ومرضه ،ويستجيب المعالج للمريض في بشاشة وتسامح وصداقة وتقبل وتقدير وفهم واحترام ورغبة صادقة في مساعدته .وسرعان ما يستجيب المريض استجابات تلونها الثقة المتبادلة والشعور بالأمن والراحة والأمل والسعادة والتعاون.</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تحدد في العلاقة العلاجية المسؤوليات الملقاة على عاتق كل من المعالج والمريض.</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تتضمن العلاقة العلاجية التفاعل والاتصال بين المريض والمعالج.والاتصال هو الوسيلة التي تعزز أو تقوض العلاقة العلاجية.</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كون الاتصال بلغات عديدة تشمل الاتصال اللفظي وبالإشارات واللمحات والوضع واللبس ،ويوجه المعالج انتباهه الى مجرى الاتصال بينه وبين المريض .</a:t>
            </a:r>
            <a:endParaRPr b="0" lang="en-US" sz="2800" spc="-1" strike="noStrike">
              <a:solidFill>
                <a:srgbClr val="ffffff"/>
              </a:solidFill>
              <a:latin typeface="Tahoma"/>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 يؤكد المعالج للمريض أن سرية المعلومات أمر مفروغ منه.فأبسط قواعد العلاج النفسي السرية المطلقة ، وأن كل ما يقال يلقى من المعالج كل عناية واهتمام .</a:t>
            </a:r>
            <a:endParaRPr b="0" lang="en-US" sz="3200" spc="-1" strike="noStrike">
              <a:solidFill>
                <a:srgbClr val="ffffff"/>
              </a:solidFill>
              <a:latin typeface="Tahoma"/>
            </a:endParaRPr>
          </a:p>
          <a:p>
            <a:pPr marL="312120" indent="-31212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طالما استمر الاتصال بين المريض والمعالج فأن العلاقة العلاجية تزداد ثراء وتصبح اكثر فعالية وإنتاجا،ويزداد جهاد كل منهما ونضاله يستغرقان طول الوقت في سبيل نجاح العلاج ، وتملك العملية العلاجية تفكير كل منهما ، وتسيطر على السلوك المريض في عمله وفي اوقات فراغه وأثناء  نشاطه الاجتماعي.</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600200" y="-228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داعي الحر </a:t>
            </a:r>
            <a:r>
              <a:rPr b="0" lang="en-US" sz="4400" spc="-1" strike="noStrike">
                <a:solidFill>
                  <a:srgbClr val="ffffcc"/>
                </a:solidFill>
                <a:latin typeface="Tahoma"/>
              </a:rPr>
              <a:t>free-association</a:t>
            </a:r>
            <a:endParaRPr b="0" lang="en-US" sz="4400" spc="-1" strike="noStrike">
              <a:solidFill>
                <a:srgbClr val="ffffcc"/>
              </a:solidFill>
              <a:latin typeface="Tahoma"/>
            </a:endParaRPr>
          </a:p>
        </p:txBody>
      </p:sp>
      <p:sp>
        <p:nvSpPr>
          <p:cNvPr id="412" name="PlaceHolder 2"/>
          <p:cNvSpPr>
            <a:spLocks noGrp="1"/>
          </p:cNvSpPr>
          <p:nvPr>
            <p:ph/>
          </p:nvPr>
        </p:nvSpPr>
        <p:spPr>
          <a:xfrm>
            <a:off x="1447920" y="609120"/>
            <a:ext cx="7696080" cy="4038840"/>
          </a:xfrm>
          <a:prstGeom prst="rect">
            <a:avLst/>
          </a:prstGeom>
          <a:noFill/>
          <a:ln w="0">
            <a:noFill/>
          </a:ln>
        </p:spPr>
        <p:txBody>
          <a:bodyPr anchor="t">
            <a:normAutofit fontScale="89000"/>
          </a:bodyPr>
          <a:p>
            <a:pPr marL="305280" indent="-30528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داعي الحر او الترابط الطليق هو اطلاق العنان لأفكار المريض وخواطره واتجاهاته وصراعاته ورغباته وإحساساته تتداعي وتسترسل حرة مترابطة تلقائيا دون تخطيط او اختيار او تحفظ او قيد او شرط ودون تقيد بمعناها او تماسكها او تسلسلها وحتى دون التقيد بالمنطق ، ومهما بدت تافهة أو معيبة او مخجلة او محرجة او بغيضة او مؤلمة او مستهجنة او سخيفة او غريبة او عديمة الصلة بالموضوع .إن المريض يذكر كل شيء وأي شيء .</a:t>
            </a:r>
            <a:endParaRPr b="0" lang="en-US" sz="3200" spc="-1" strike="noStrike">
              <a:solidFill>
                <a:srgbClr val="ffffff"/>
              </a:solidFill>
              <a:latin typeface="Tahoma"/>
            </a:endParaRPr>
          </a:p>
        </p:txBody>
      </p:sp>
      <p:pic>
        <p:nvPicPr>
          <p:cNvPr id="413" name="Picture 5" descr="ato0071l"/>
          <p:cNvPicPr/>
          <p:nvPr/>
        </p:nvPicPr>
        <p:blipFill>
          <a:blip r:embed="rId1"/>
          <a:stretch/>
        </p:blipFill>
        <p:spPr>
          <a:xfrm>
            <a:off x="228600" y="4191120"/>
            <a:ext cx="70102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8:52:21Z</dcterms:created>
  <dc:creator>be cool</dc:creator>
  <dc:description/>
  <dc:language>en-US</dc:language>
  <cp:lastModifiedBy>ksu</cp:lastModifiedBy>
  <dcterms:modified xsi:type="dcterms:W3CDTF">2016-10-10T06:15:02Z</dcterms:modified>
  <cp:revision>11</cp:revision>
  <dc:subject/>
  <dc:title>الشريحة 1</dc:title>
</cp:coreProperties>
</file>