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1440" y="0"/>
            <a:ext cx="29656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1440" y="8685360"/>
            <a:ext cx="29656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FE3FE-E6AB-46EB-BF8F-25F073841F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5FC11-4A27-43DA-AC23-09BF80E192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5862D-4F7B-42B4-BF25-BEC4A01E25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B810F-CE3E-4E93-9403-3976FA8411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0D987-AABC-4B1E-AF00-267DEE0C59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86C55-8273-4208-ADEB-7ED753F7BB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237B-B837-42B2-8680-AF0EB508A0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CCC82-E25D-4F66-9A04-1A35D53DD5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D0E8C-AF8A-4716-9EE5-32E31D5FF6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F8FDA-2B03-4879-8850-4BB1C680EB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258E-4C6E-4568-90BD-E5F888159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38A22-E5AA-473D-994E-915A7BE00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7961-A66B-466A-BF08-1FD479242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8CB1-8DD6-4690-A3E4-F67A87752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04A5-0309-4DE6-8DA3-C1EE04CA4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A285-4902-4829-8EF6-0140B5C3A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D05B-5191-4EBC-AE34-1AA6A3EB6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45F9-9E02-45BF-8AA1-B52C59AE3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8CD5-CE07-4A10-BB57-49B174439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0883-5F13-4178-941E-7BEF365AA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7328-A752-43B8-8539-9BD32A74D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2216-110D-4E15-9F21-9B69AA3BD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D18AC-F674-4D18-9003-50FF38F9A50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99cc00"/>
                </a:solidFill>
                <a:latin typeface="Arial"/>
                <a:cs typeface="PT Simple Bold Ruled"/>
              </a:rPr>
              <a:t>اللعبة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5530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b050"/>
                </a:solidFill>
                <a:uFillTx/>
                <a:latin typeface="Arial"/>
                <a:cs typeface="PT Bold Heading"/>
              </a:rPr>
              <a:t>اللعبة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6600" algn="ct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 u="sng">
                <a:solidFill>
                  <a:srgbClr val="00b0f0"/>
                </a:solidFill>
                <a:uFillTx/>
                <a:latin typeface="Arial"/>
              </a:rPr>
              <a:t>نقاط هامة لابد من مراعاتها في اللعبة المنظم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جهيز المسبق للع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ذكر اسمها (اسم اللعبة) وتمثيل اللعبة أولا للا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في اللعبة (رسمت لكم دائرة في الوسط راح نتخيل أنها بحر)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من استمتاع الطفل (مهارة استماع،تآزر سمعي حركي،العضلات الكبرى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685800"/>
            <a:ext cx="8229600" cy="81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هو استمتاع الطفل (عندما يستمتع سينخرط باللعب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 جدا الامن والسلامة ب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تكون مناسبة لعمر الاطفال (فلاتكون اقل من مستواهم فتكون سخيفة لهم ولاتكون اعلى من مستواهم فتحبطه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تكون لعبة جماعية يلعب جميع الاطفال بنفس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لاتكون تناف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م جدا أن لايكون هناك فائز وخاس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شجيع والتحفيز للاطفال أثناء 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اعل المعلمة مع الأطفال في الل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6600" algn="r" rtl="1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99ff"/>
                </a:solidFill>
                <a:latin typeface="Arial"/>
                <a:cs typeface="PT Simple Bold Ruled"/>
              </a:rPr>
              <a:t>طرح أفكار وأمثلة لألعابالملع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PT Bold Heading"/>
              </a:rPr>
              <a:t>لعبة الالو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b0f0"/>
                </a:solidFill>
                <a:uFillTx/>
                <a:latin typeface="Arial"/>
                <a:cs typeface="PT Bold Heading"/>
              </a:rPr>
              <a:t>لعبة الكور الملون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33520" y="1447920"/>
            <a:ext cx="8223120" cy="5099040"/>
            <a:chOff x="533520" y="1447920"/>
            <a:chExt cx="8223120" cy="509904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8223120" cy="5099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8" name=""/>
            <p:cNvSpPr/>
            <p:nvPr/>
          </p:nvSpPr>
          <p:spPr>
            <a:xfrm>
              <a:off x="533520" y="1447920"/>
              <a:ext cx="8223120" cy="50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غسيل:الملاب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1600200"/>
            <a:ext cx="8070840" cy="4794120"/>
            <a:chOff x="533520" y="1600200"/>
            <a:chExt cx="8070840" cy="47941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33520" y="1600200"/>
              <a:ext cx="8070840" cy="47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3520" y="1600200"/>
              <a:ext cx="8070840" cy="47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cc3399"/>
                </a:solidFill>
                <a:uFillTx/>
                <a:latin typeface="Arial"/>
                <a:cs typeface="PT Bold Heading"/>
              </a:rPr>
              <a:t>لعبة الاشكال الهند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54120" y="1600200"/>
            <a:ext cx="6029280" cy="4519440"/>
            <a:chOff x="1554120" y="1600200"/>
            <a:chExt cx="6029280" cy="451944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1554120" y="1600200"/>
              <a:ext cx="6029280" cy="45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554120" y="1600200"/>
              <a:ext cx="6029280" cy="45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00400" y="130320"/>
            <a:ext cx="5486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  <a:cs typeface="PT Simple Bold Ruled"/>
              </a:rPr>
              <a:t>التحضير الكتابي للعبة المنظمة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  <a:ea typeface="PT Simple Bold Ruled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تابة اسم اللع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هدف (هدف سلوك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ور الأدوات والمواد (صورة اللعبة وأدوات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طوات سير النشاط (كيف ستقدمها للاطفال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ئلة المفتوح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قييم الذاتي للعبة (بعد تقديم اللعبة يكتب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مهم جدا تسليم التحضير الكتابي قبل تقديم اللعبة للمشرفة وللمعلمة لتصحيح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33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19:37Z</dcterms:created>
  <dc:creator>STC</dc:creator>
  <dc:description/>
  <dc:language>en-US</dc:language>
  <cp:lastModifiedBy>cat</cp:lastModifiedBy>
  <dcterms:modified xsi:type="dcterms:W3CDTF">2012-02-14T04:51:23Z</dcterms:modified>
  <cp:revision>13</cp:revision>
  <dc:subject/>
  <dc:title>ورشة الملعب الخارجي</dc:title>
</cp:coreProperties>
</file>