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1440" y="0"/>
            <a:ext cx="29656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1440" y="8685360"/>
            <a:ext cx="29656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877B2-0FCC-498D-952A-D4FD7E65B3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E07AA-F74C-40BB-82B2-8B633785DE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FE4AD-E570-4AA8-B11A-492E93166F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5051E-EB42-40C8-92CA-A7E50F3F16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89048-AAC9-4A4E-8245-CB819FA2BE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360C6-E0C4-4BBD-AC94-63A67648A1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20402-505E-4593-9CE5-89DF8EAE57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8F3AF-A06F-4E00-AE7A-3749679F35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CE62B-1735-4E9B-A571-CF52DD3C73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C57B7-CA97-41A3-BBF9-42F3F03D7B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7BB1-D6CB-4F7A-AB56-810FC2FA5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87CA-57E6-46E8-B699-314668426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688B-535F-448E-AC55-5925B95D4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CE89-8A79-44F6-B1AD-915F9A48D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3774-90DA-4EE4-9673-17E6286F5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DFB2-6682-4FB9-AF05-46BE32A33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6B66-02B7-4B8A-A4F8-4B91250E2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F4AA-3570-480D-B516-5D7E82D5E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E985-D00B-4D85-86A1-55020DD18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05E9-DDC2-4316-A45B-6576F5654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86C0-7E28-4166-AB6D-2FD1AE35D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DE93-FAA2-4CE9-8010-B946917A3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3A6BA-180B-4F6F-8DED-11B55B18AC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99cc00"/>
                </a:solidFill>
                <a:latin typeface="Arial"/>
                <a:cs typeface="PT Simple Bold Ruled"/>
              </a:rPr>
              <a:t>اللعبة المنظ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55308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00b050"/>
                </a:solidFill>
                <a:uFillTx/>
                <a:latin typeface="Arial"/>
                <a:cs typeface="PT Bold Heading"/>
              </a:rPr>
              <a:t>اللعبة المنظ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 u="sng">
                <a:solidFill>
                  <a:srgbClr val="00b0f0"/>
                </a:solidFill>
                <a:uFillTx/>
                <a:latin typeface="Arial"/>
              </a:rPr>
              <a:t>نقاط هامة لابد من مراعاتها في اللعبة المنظم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جهيز المسبق للع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ذكر اسمها (اسم اللعبة) وتمثيل اللعبة أولا للاطف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في اللعبة (رسمت لكم دائرة في الوسط راح نتخيل أنها بحر)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من استمتاع الطفل (مهارة استماع،تآزر سمعي حركي،العضلات الكب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685800"/>
            <a:ext cx="8229600" cy="81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هو استمتاع الطفل (عندما يستمتع سينخرط باللعب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م جدا الامن والسلامة باللع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تكون مناسبة لعمر الاطفال (فلاتكون اقل من مستواهم فتكون سخيفة لهم ولاتكون اعلى من مستواهم فتحبطه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تكون لعبة جماعية يلعب جميع الاطفال بنفس الو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لاتكون تناف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م جدا أن لايكون هناك فائز وخاس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شجيع والتحفيز للاطفال أثناء اللع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فاعل المعلمة مع الأطفال في اللع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0099ff"/>
                </a:solidFill>
                <a:latin typeface="Arial"/>
                <a:cs typeface="PT Simple Bold Ruled"/>
              </a:rPr>
              <a:t>طرح أفكار وأمثلة لألعابالملع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rial"/>
                <a:cs typeface="PT Bold Heading"/>
              </a:rPr>
              <a:t>لعبة الالو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00b0f0"/>
                </a:solidFill>
                <a:uFillTx/>
                <a:latin typeface="Arial"/>
                <a:cs typeface="PT Bold Heading"/>
              </a:rPr>
              <a:t>لعبة الكور الملو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1447920"/>
            <a:ext cx="8223120" cy="5099040"/>
            <a:chOff x="533520" y="1447920"/>
            <a:chExt cx="8223120" cy="509904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8223120" cy="50990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68" name=""/>
            <p:cNvSpPr/>
            <p:nvPr/>
          </p:nvSpPr>
          <p:spPr>
            <a:xfrm>
              <a:off x="533520" y="1447920"/>
              <a:ext cx="8223120" cy="50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غسيل:الملاب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520" y="1600200"/>
            <a:ext cx="8070840" cy="4794120"/>
            <a:chOff x="533520" y="1600200"/>
            <a:chExt cx="8070840" cy="47941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33520" y="1600200"/>
              <a:ext cx="8070840" cy="47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3520" y="1600200"/>
              <a:ext cx="8070840" cy="47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cc3399"/>
                </a:solidFill>
                <a:uFillTx/>
                <a:latin typeface="Arial"/>
                <a:cs typeface="PT Bold Heading"/>
              </a:rPr>
              <a:t>لعبة الاشكال الهند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554120" y="1600200"/>
            <a:ext cx="6029280" cy="4519440"/>
            <a:chOff x="1554120" y="1600200"/>
            <a:chExt cx="6029280" cy="451944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554120" y="1600200"/>
              <a:ext cx="6029280" cy="45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554120" y="1600200"/>
              <a:ext cx="6029280" cy="45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00400" y="130320"/>
            <a:ext cx="5486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PT Simple Bold Ruled"/>
              </a:rPr>
              <a:t>التحضير الكتابي للعبة المنظمة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PT Simple Bold Ruled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تابة اسم اللع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(هدف سلوك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ور الأدوات والمواد (صورة اللعبة وأدواتها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وات سير النشاط (كيف ستقدمها للاطفال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سئلة المفتوح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قييم الذاتي للعبة (بعد تقديم اللعبة يكتب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مهم جدا تسليم التحضير الكتابي قبل تقديم اللعبة للمشرفة وللمعلمة لتصحيح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33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5:19:37Z</dcterms:created>
  <dc:creator>STC</dc:creator>
  <dc:description/>
  <dc:language>en-US</dc:language>
  <cp:lastModifiedBy>cat</cp:lastModifiedBy>
  <dcterms:modified xsi:type="dcterms:W3CDTF">2012-02-14T04:51:23Z</dcterms:modified>
  <cp:revision>13</cp:revision>
  <dc:subject/>
  <dc:title>ورشة الملعب الخارجي</dc:title>
</cp:coreProperties>
</file>