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16C-6766-4E8C-B8FA-7FFCBA52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0D3-37A7-4635-9F83-A7E38586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DDE-7144-4626-932F-FD47E059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9BC-924D-48F8-92C0-D62978F8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D77-AD4F-4AE6-B614-52B106F3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E64-BD50-4870-97EF-AD829DEA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B16-40CE-4042-A1C4-0751D3A4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DC7-4A61-4B29-8B5C-0663414E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817-E0F0-4595-95E8-35B38587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2A4-978F-4C7E-B662-8A43E626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FAE-575B-4744-B3EC-73BB299D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A95-364B-4204-A943-2F618CB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7F68-0617-4E0D-A973-5EC2C6BC7F6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مربع نص 2"/>
          <p:cNvSpPr/>
          <p:nvPr/>
        </p:nvSpPr>
        <p:spPr>
          <a:xfrm>
            <a:off x="1571760" y="1785960"/>
            <a:ext cx="640872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900" spc="-1" strike="noStrike">
                <a:solidFill>
                  <a:srgbClr val="77933c"/>
                </a:solidFill>
                <a:latin typeface="Andalus"/>
                <a:ea typeface="Andalus"/>
              </a:rPr>
              <a:t>(</a:t>
            </a:r>
            <a:r>
              <a:rPr b="0" lang="ar-SA" sz="19900" spc="-1" strike="noStrike">
                <a:solidFill>
                  <a:srgbClr val="000000"/>
                </a:solidFill>
                <a:latin typeface="Andalus"/>
                <a:cs typeface="Andalus"/>
              </a:rPr>
              <a:t>العام</a:t>
            </a:r>
            <a:r>
              <a:rPr b="0" lang="ar-SA" sz="19900" spc="-1" strike="noStrike">
                <a:solidFill>
                  <a:srgbClr val="77933c"/>
                </a:solidFill>
                <a:latin typeface="Andalus"/>
                <a:ea typeface="Andalus"/>
              </a:rPr>
              <a:t>)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ل قوله تعالى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</a:t>
            </a:r>
            <a:r>
              <a:rPr b="0" lang="ar-SA" sz="3600" spc="-1" strike="noStrike">
                <a:solidFill>
                  <a:srgbClr val="4f6228"/>
                </a:solidFill>
                <a:latin typeface="ae_AlArabiya"/>
                <a:cs typeface="ae_AlArabiya"/>
              </a:rPr>
              <a:t>مَنْ عَمِلَ صَالِحاً فَلِنَفْسِهِ وَمَنْ أَسَاء فَعَلَيْهَا ثُمَّ إِلَى رَبِّكُمْ تُرْجَعُونَ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جاثـية: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15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 ) </a:t>
            </a:r>
            <a:r>
              <a:rPr b="0" lang="ar-SA" sz="36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لِلَّهِ الْمَشْرِقُ وَالْمَغْرِبُ فَأَيْنَمَا تُوَلُّوا فَثَمَّ وَجْهُ اللَّهِ إِنَّ اللَّهَ وَاسِعٌ عَلِيمٌ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بقرة: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115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</a:t>
            </a:r>
            <a:r>
              <a:rPr b="0" lang="ar-SA" sz="3600" spc="-1" strike="noStrike">
                <a:solidFill>
                  <a:srgbClr val="4f6228"/>
                </a:solidFill>
                <a:latin typeface="ae_AlArabiya"/>
                <a:cs typeface="ae_AlArabiya"/>
              </a:rPr>
              <a:t>فَأَيْنَمَا تُوَلُّوا فَثَمَّ وَجْهُ اللَّهِ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بقرة: ا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115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(</a:t>
            </a:r>
            <a:r>
              <a:rPr b="0" lang="ar-SA" sz="36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مَا تَفْعَلُوا مِنْ خَيْرٍ يَعْلَمْهُ الله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 البقرة: 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197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76092"/>
                </a:solidFill>
                <a:latin typeface="ae_AlArabiya"/>
                <a:cs typeface="ae_AlArabiya"/>
              </a:rPr>
              <a:t>وأدوات الشرط هي 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: من , وما , وأين , ومتى , وأ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نصف إطار 4"/>
          <p:cNvSpPr/>
          <p:nvPr/>
        </p:nvSpPr>
        <p:spPr>
          <a:xfrm>
            <a:off x="1071720" y="642960"/>
            <a:ext cx="92844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رسم تخطيطي 3" descr=""/>
          <p:cNvPicPr/>
          <p:nvPr/>
        </p:nvPicPr>
        <p:blipFill>
          <a:blip r:embed="rId1"/>
          <a:stretch/>
        </p:blipFill>
        <p:spPr>
          <a:xfrm>
            <a:off x="981000" y="841320"/>
            <a:ext cx="7255080" cy="5108760"/>
          </a:xfrm>
          <a:prstGeom prst="rect">
            <a:avLst/>
          </a:prstGeom>
          <a:ln w="0">
            <a:noFill/>
          </a:ln>
        </p:spPr>
      </p:pic>
      <p:sp>
        <p:nvSpPr>
          <p:cNvPr id="71" name="مستطيل ذو زوايا قطرية مخدوشة 4"/>
          <p:cNvSpPr/>
          <p:nvPr/>
        </p:nvSpPr>
        <p:spPr>
          <a:xfrm>
            <a:off x="2428920" y="714240"/>
            <a:ext cx="4429080" cy="92880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رسم تخطيطي 3" descr=""/>
          <p:cNvPicPr/>
          <p:nvPr/>
        </p:nvPicPr>
        <p:blipFill>
          <a:blip r:embed="rId1"/>
          <a:stretch/>
        </p:blipFill>
        <p:spPr>
          <a:xfrm>
            <a:off x="1407960" y="2054160"/>
            <a:ext cx="6328080" cy="2610000"/>
          </a:xfrm>
          <a:prstGeom prst="rect">
            <a:avLst/>
          </a:prstGeom>
          <a:ln w="0">
            <a:noFill/>
          </a:ln>
        </p:spPr>
      </p:pic>
      <p:sp>
        <p:nvSpPr>
          <p:cNvPr id="74" name="مستطيل ذو زوايا قطرية مخدوشة 4"/>
          <p:cNvSpPr/>
          <p:nvPr/>
        </p:nvSpPr>
        <p:spPr>
          <a:xfrm>
            <a:off x="2286000" y="1643040"/>
            <a:ext cx="4429080" cy="92880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كقوله تعالى 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ae_AlArabiya"/>
                <a:ea typeface="ae_AlArabiya"/>
              </a:rPr>
              <a:t>)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لَّذِي جَاءَ بِالصِّدْقِ وَصَدَّقَ بِهِ أُولَئِكَ هُمُ الْمُتَّقُونَ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زمر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33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 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لَّذِينَ يَرْمُونَ الْمُحْصَنَاتِ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نور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( 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للَّائِي يَئِسْنَ مِنَ الْمَحِيضِ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طلاق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أُولَاتُ الْأَحْمَالِ أَجَلُهُنَّ أَنْ يَضَعْنَ حَمْلَهُنَّ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طلاق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والأسماء الموصولة هي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ذي , والتي , والذَيْن , واللتين , والذِيْن , واللائي , وأولات , ونحو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نصف إطار 4"/>
          <p:cNvSpPr/>
          <p:nvPr/>
        </p:nvSpPr>
        <p:spPr>
          <a:xfrm>
            <a:off x="1071720" y="642960"/>
            <a:ext cx="92844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رسم تخطيطي 3" descr=""/>
          <p:cNvPicPr/>
          <p:nvPr/>
        </p:nvPicPr>
        <p:blipFill>
          <a:blip r:embed="rId1"/>
          <a:stretch/>
        </p:blipFill>
        <p:spPr>
          <a:xfrm>
            <a:off x="1146240" y="2054160"/>
            <a:ext cx="6699240" cy="2603520"/>
          </a:xfrm>
          <a:prstGeom prst="rect">
            <a:avLst/>
          </a:prstGeom>
          <a:ln w="0">
            <a:noFill/>
          </a:ln>
        </p:spPr>
      </p:pic>
      <p:sp>
        <p:nvSpPr>
          <p:cNvPr id="79" name="مستطيل ذو زوايا قطرية مخدوشة 4"/>
          <p:cNvSpPr/>
          <p:nvPr/>
        </p:nvSpPr>
        <p:spPr>
          <a:xfrm>
            <a:off x="2286000" y="1571760"/>
            <a:ext cx="4429080" cy="92844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ها في سياق النفي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قوله تعالى : 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مَامِنْ إِلَـهٍ إِلَّا اللَّـهُ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آل عمران: 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62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. وحديث :" </a:t>
            </a:r>
            <a:r>
              <a:rPr b="0" lang="ar-SA" sz="3200" spc="-1" strike="noStrike">
                <a:solidFill>
                  <a:srgbClr val="1f497d"/>
                </a:solidFill>
                <a:latin typeface="ae_AlArabiya"/>
                <a:cs typeface="ae_AlArabiya"/>
              </a:rPr>
              <a:t>لاضرر ولا ضرار 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"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f497d"/>
                </a:solidFill>
                <a:latin typeface="ae_AlArabiya"/>
                <a:cs typeface="ae_AlArabiya"/>
              </a:rPr>
              <a:t>مثالها في سياق النه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 قوله تعالى : </a:t>
            </a:r>
            <a:r>
              <a:rPr b="0" lang="en-US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عْبُدُوا اللَّهَ وَلا تُشْرِكُوا بِهِ شَيْئاً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نساء: الآية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36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لا تُطِعْ مِنْهُمْ ءَاثِمًا أَوكَفُورًا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إنسان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24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ومثالها في سياق الاستفهام 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: قوله تعالى : </a:t>
            </a:r>
            <a:r>
              <a:rPr b="0" lang="en-US" sz="3200" spc="-1" strike="noStrike">
                <a:solidFill>
                  <a:srgbClr val="4f6228"/>
                </a:solidFill>
                <a:latin typeface="ae_AlArabiya"/>
                <a:ea typeface="ae_AlArabiya"/>
              </a:rPr>
              <a:t>) 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مَنْ إِلَهٌ غَيْرُ اللَّهِ يَأْتِيكُمْ بِضِيَاءٍ أَفَلا تَسْمَعُونَ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قصص: الآية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71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ومثالها في سياق الشرط 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: قوله تعالى : </a:t>
            </a:r>
            <a:r>
              <a:rPr b="0" lang="en-US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إِنْ تُبْدُوا شَيْئاً أَوْ تُخْفُوهُ فَإِنَّ اللَّهَ كَانَ بِكُلِّ شَيْءٍ عَلِيماً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أحزاب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54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نصف إطار 4"/>
          <p:cNvSpPr/>
          <p:nvPr/>
        </p:nvSpPr>
        <p:spPr>
          <a:xfrm>
            <a:off x="1000080" y="571680"/>
            <a:ext cx="92880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رسم تخطيطي 3" descr=""/>
          <p:cNvPicPr/>
          <p:nvPr/>
        </p:nvPicPr>
        <p:blipFill>
          <a:blip r:embed="rId1"/>
          <a:stretch/>
        </p:blipFill>
        <p:spPr>
          <a:xfrm>
            <a:off x="1328760" y="2054160"/>
            <a:ext cx="6407280" cy="3108240"/>
          </a:xfrm>
          <a:prstGeom prst="rect">
            <a:avLst/>
          </a:prstGeom>
          <a:ln w="0">
            <a:noFill/>
          </a:ln>
        </p:spPr>
      </p:pic>
      <p:sp>
        <p:nvSpPr>
          <p:cNvPr id="84" name="مستطيل ذو زوايا قطرية مخدوشة 4"/>
          <p:cNvSpPr/>
          <p:nvPr/>
        </p:nvSpPr>
        <p:spPr>
          <a:xfrm>
            <a:off x="2286000" y="1571760"/>
            <a:ext cx="4429080" cy="92844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المفرد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قوله تعالى : 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ذْكُرُوا نِعْمَةَ اللَّهِ عَلَيْكُمْ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(المائدة: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إِن تَعُدُّواْ نِعْمَةَ اللَّهِ لاَ تُحْصُوهَا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براهيم: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34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الجمع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قوله تعالى : 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فَاذْكُرُوا آلاءَ اللَّهِ لَعَلَّكُمْ تُفْلِحُونَ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أعراف: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69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ea typeface="ae_AlArabiya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نصف إطار 4"/>
          <p:cNvSpPr/>
          <p:nvPr/>
        </p:nvSpPr>
        <p:spPr>
          <a:xfrm>
            <a:off x="1000080" y="571680"/>
            <a:ext cx="92880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رسم تخطيطي 3" descr=""/>
          <p:cNvPicPr/>
          <p:nvPr/>
        </p:nvPicPr>
        <p:blipFill>
          <a:blip r:embed="rId1"/>
          <a:stretch/>
        </p:blipFill>
        <p:spPr>
          <a:xfrm>
            <a:off x="1122480" y="2054160"/>
            <a:ext cx="6729120" cy="3621240"/>
          </a:xfrm>
          <a:prstGeom prst="rect">
            <a:avLst/>
          </a:prstGeom>
          <a:ln w="0">
            <a:noFill/>
          </a:ln>
        </p:spPr>
      </p:pic>
      <p:sp>
        <p:nvSpPr>
          <p:cNvPr id="89" name="مستطيل ذو زوايا قطرية مخدوشة 4"/>
          <p:cNvSpPr/>
          <p:nvPr/>
        </p:nvSpPr>
        <p:spPr>
          <a:xfrm>
            <a:off x="2286000" y="1571760"/>
            <a:ext cx="4429080" cy="92844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المفرد : قوله تعالى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خُلِقَ الْإِنْسَانُ ضَعِيفاً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(النساء: الآية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28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, 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إِنَّ الإِنْسَانَ لَفِي خُسْرٍ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(العصر: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2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الجمع : قوله تعالى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إِذَا بَلَغَ الْأَطْفَالُ مِنْكُمُ الْحُلُمَ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(النور: الآية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59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, (</a:t>
            </a:r>
            <a:r>
              <a:rPr b="0" lang="ar-SA" sz="40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لْمُطَلَّقَاتُ يَتَرَبَّصْنَ بِأَنفُسِهِنَّ ثَلاَثَةَ قُرُوَءٍ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(البقرة: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228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المثنى : 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cs typeface="ae_AlArabiya"/>
              </a:rPr>
              <a:t>حديث " </a:t>
            </a:r>
            <a:r>
              <a:rPr b="0" lang="ar-SA" sz="4000" spc="-1" strike="noStrike">
                <a:solidFill>
                  <a:srgbClr val="17375e"/>
                </a:solidFill>
                <a:latin typeface="ae_AlArabiya"/>
                <a:cs typeface="ae_AlArabiya"/>
              </a:rPr>
              <a:t>إذا التقى المسلمان بسيفيهما فالقاتل والمقتول في النار </a:t>
            </a:r>
            <a:r>
              <a:rPr b="0" lang="ar-SA" sz="4000" spc="-1" strike="noStrike">
                <a:solidFill>
                  <a:srgbClr val="0d0d0d"/>
                </a:solidFill>
                <a:latin typeface="ae_AlArabiya"/>
                <a:ea typeface="ae_AlArabiya"/>
              </a:rPr>
              <a:t>"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نصف إطار 4"/>
          <p:cNvSpPr/>
          <p:nvPr/>
        </p:nvSpPr>
        <p:spPr>
          <a:xfrm>
            <a:off x="1000080" y="571680"/>
            <a:ext cx="92880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رسم تخطيطي 3" descr=""/>
          <p:cNvPicPr/>
          <p:nvPr/>
        </p:nvPicPr>
        <p:blipFill>
          <a:blip r:embed="rId1"/>
          <a:stretch/>
        </p:blipFill>
        <p:spPr>
          <a:xfrm>
            <a:off x="407880" y="341280"/>
            <a:ext cx="8132760" cy="589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رسم تخطيطي 4" descr=""/>
          <p:cNvPicPr/>
          <p:nvPr/>
        </p:nvPicPr>
        <p:blipFill>
          <a:blip r:embed="rId1"/>
          <a:stretch/>
        </p:blipFill>
        <p:spPr>
          <a:xfrm>
            <a:off x="585720" y="390600"/>
            <a:ext cx="8393040" cy="561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رسم تخطيطي 4" descr=""/>
          <p:cNvPicPr/>
          <p:nvPr/>
        </p:nvPicPr>
        <p:blipFill>
          <a:blip r:embed="rId1"/>
          <a:stretch/>
        </p:blipFill>
        <p:spPr>
          <a:xfrm>
            <a:off x="585720" y="390600"/>
            <a:ext cx="8393040" cy="561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رسم تخطيطي 4" descr=""/>
          <p:cNvPicPr/>
          <p:nvPr/>
        </p:nvPicPr>
        <p:blipFill>
          <a:blip r:embed="rId1"/>
          <a:stretch/>
        </p:blipFill>
        <p:spPr>
          <a:xfrm>
            <a:off x="-42840" y="390600"/>
            <a:ext cx="9309240" cy="561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رسم تخطيطي 4" descr=""/>
          <p:cNvPicPr/>
          <p:nvPr/>
        </p:nvPicPr>
        <p:blipFill>
          <a:blip r:embed="rId1"/>
          <a:stretch/>
        </p:blipFill>
        <p:spPr>
          <a:xfrm>
            <a:off x="-23760" y="317520"/>
            <a:ext cx="9290160" cy="605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رسم تخطيطي 4" descr=""/>
          <p:cNvPicPr/>
          <p:nvPr/>
        </p:nvPicPr>
        <p:blipFill>
          <a:blip r:embed="rId1"/>
          <a:stretch/>
        </p:blipFill>
        <p:spPr>
          <a:xfrm>
            <a:off x="-23760" y="317520"/>
            <a:ext cx="9290160" cy="605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مالا دليل على تخصيصه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e_AlArabiya"/>
                <a:cs typeface="ae_AlArabiya"/>
              </a:rPr>
              <a:t>قوله تعالى : (</a:t>
            </a:r>
            <a:r>
              <a:rPr b="0" lang="ar-SA" sz="3600" spc="-1" strike="noStrike">
                <a:solidFill>
                  <a:srgbClr val="4f6228"/>
                </a:solidFill>
                <a:latin typeface="ae_AlArabiya"/>
                <a:cs typeface="ae_AlArabiya"/>
              </a:rPr>
              <a:t>فَمَن كَانَ مِنكُم مّرِيضاً أَوْ بِهِ أَذًى مّن رّأْسِهِ فَفِدْيَةٌ مّن صِيَامٍ أَوْ صَدَقَةٍ أَوْ نُسُكٍ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بقرة: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196</a:t>
            </a: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e_AlArabiya"/>
                <a:ea typeface="ae_AlArabiya"/>
              </a:rPr>
              <a:t> فاللفظ عام , وسبب وروده خصوص سؤال كعب بن عجرة –رضي الله عنه- عن هوام رأسه التي تؤذيه وهو محر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e_AlArabiya"/>
                <a:cs typeface="ae_AlArabiya"/>
              </a:rPr>
              <a:t>آيات الظهار . فإنها عامة , وسبب نزولها ظهار أوس بن الصامت –رضي الله عنه-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نصف إطار 4"/>
          <p:cNvSpPr/>
          <p:nvPr/>
        </p:nvSpPr>
        <p:spPr>
          <a:xfrm>
            <a:off x="1000080" y="571680"/>
            <a:ext cx="92880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مستطيل مستدير الزوايا 1"/>
          <p:cNvSpPr/>
          <p:nvPr/>
        </p:nvSpPr>
        <p:spPr>
          <a:xfrm>
            <a:off x="357120" y="404640"/>
            <a:ext cx="8501040" cy="616752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ال ما دل الدليل على تخصيصه </a:t>
            </a:r>
            <a:r>
              <a:rPr b="0" lang="ar-SA" sz="3200" spc="-1" strike="noStrike">
                <a:solidFill>
                  <a:srgbClr val="376092"/>
                </a:solidFill>
                <a:latin typeface="ae_AlArabiya"/>
                <a:ea typeface="ae_AlArabiy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حديث "</a:t>
            </a:r>
            <a:r>
              <a:rPr b="0" lang="ar-SA" sz="3200" spc="-1" strike="noStrike">
                <a:solidFill>
                  <a:srgbClr val="ffffff"/>
                </a:solidFill>
                <a:latin typeface="ae_AlArabiya"/>
                <a:ea typeface="ae_AlArabiya"/>
              </a:rPr>
              <a:t> </a:t>
            </a:r>
            <a:r>
              <a:rPr b="0" lang="ar-SA" sz="3200" spc="-1" strike="noStrike">
                <a:solidFill>
                  <a:srgbClr val="17375e"/>
                </a:solidFill>
                <a:latin typeface="ae_AlArabiya"/>
                <a:cs typeface="ae_AlArabiya"/>
              </a:rPr>
              <a:t>هو الطهور ماؤه ... 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ea typeface="ae_AlArabiya"/>
              </a:rPr>
              <a:t>" فقد ورد على سبب خاص وهو سؤال المدلجي أنتوضأ بماء البحر ؟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قوله</a:t>
            </a:r>
            <a:r>
              <a:rPr b="0" lang="en-US" sz="3200" spc="-1" strike="noStrike">
                <a:solidFill>
                  <a:srgbClr val="0d0d0d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ea typeface="ae_AlArabiya"/>
              </a:rPr>
              <a:t>:(</a:t>
            </a:r>
            <a:r>
              <a:rPr b="0" lang="ar-SA" sz="3200" spc="-1" strike="noStrike">
                <a:solidFill>
                  <a:srgbClr val="17375e"/>
                </a:solidFill>
                <a:latin typeface="ae_AlArabiya"/>
                <a:cs typeface="ae_AlArabiya"/>
              </a:rPr>
              <a:t>ليس من البر الصيام في السفر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ea typeface="ae_AlArabiy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فإن سببه أن النبي</a:t>
            </a:r>
            <a:r>
              <a:rPr b="0" lang="en-US" sz="3200" spc="-1" strike="noStrike">
                <a:solidFill>
                  <a:srgbClr val="0d0d0d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ea typeface="ae_AlArabiya"/>
              </a:rPr>
              <a:t> </a:t>
            </a:r>
            <a:r>
              <a:rPr b="0" lang="ar-SA" sz="3200" spc="-1" strike="noStrike">
                <a:solidFill>
                  <a:srgbClr val="17375e"/>
                </a:solidFill>
                <a:latin typeface="ae_AlArabiya"/>
                <a:cs typeface="ae_AlArabiya"/>
              </a:rPr>
              <a:t>كان في سفر ،فرأى زحاما ،ورجل قد ضلل عليه ،فقال : (ما هذا ؟) قالوا :صائم.فقال: (ليس من البر الصيام في السف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فهذا العموم خاص بمن يشبه حال هذا الرجل –وهو من شق عليه الصيام في السفر – بدليل أن النبي </a:t>
            </a:r>
            <a:r>
              <a:rPr b="0" lang="en-US" sz="3200" spc="-1" strike="noStrike">
                <a:solidFill>
                  <a:srgbClr val="0d0d0d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كان يصوم في السفر ,حيث كان لايشق عليه .وهو </a:t>
            </a:r>
            <a:r>
              <a:rPr b="0" lang="en-US" sz="3200" spc="-1" strike="noStrike">
                <a:solidFill>
                  <a:srgbClr val="0d0d0d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cs typeface="ae_AlArabiya"/>
              </a:rPr>
              <a:t>لايفعل ماليس ببر .مع قوله في الحديث الآخر :(</a:t>
            </a:r>
            <a:r>
              <a:rPr b="0" lang="ar-SA" sz="3200" spc="-1" strike="noStrike">
                <a:solidFill>
                  <a:srgbClr val="17375e"/>
                </a:solidFill>
                <a:latin typeface="ae_AlArabiya"/>
                <a:cs typeface="ae_AlArabiya"/>
              </a:rPr>
              <a:t>ذهب المفطرون اليوم بالأجر</a:t>
            </a:r>
            <a:r>
              <a:rPr b="0" lang="ar-SA" sz="3200" spc="-1" strike="noStrike">
                <a:solidFill>
                  <a:srgbClr val="ffffff"/>
                </a:solidFill>
                <a:latin typeface="ae_AlArabiya"/>
                <a:ea typeface="ae_AlArabiya"/>
              </a:rPr>
              <a:t> </a:t>
            </a:r>
            <a:r>
              <a:rPr b="0" lang="ar-SA" sz="3200" spc="-1" strike="noStrike">
                <a:solidFill>
                  <a:srgbClr val="0d0d0d"/>
                </a:solidFill>
                <a:latin typeface="ae_AlArabiya"/>
                <a:ea typeface="ae_AlArabiya"/>
              </a:rPr>
              <a:t>)ولم يعب على من صام مع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نصف إطار 4"/>
          <p:cNvSpPr/>
          <p:nvPr/>
        </p:nvSpPr>
        <p:spPr>
          <a:xfrm>
            <a:off x="571680" y="571680"/>
            <a:ext cx="92844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رسم تخطيطي 3" descr=""/>
          <p:cNvPicPr/>
          <p:nvPr/>
        </p:nvPicPr>
        <p:blipFill>
          <a:blip r:embed="rId1"/>
          <a:stretch/>
        </p:blipFill>
        <p:spPr>
          <a:xfrm>
            <a:off x="450720" y="676440"/>
            <a:ext cx="8255160" cy="4975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رسم تخطيطي 3" descr=""/>
          <p:cNvPicPr/>
          <p:nvPr/>
        </p:nvPicPr>
        <p:blipFill>
          <a:blip r:embed="rId1"/>
          <a:stretch/>
        </p:blipFill>
        <p:spPr>
          <a:xfrm>
            <a:off x="512640" y="536400"/>
            <a:ext cx="8271000" cy="561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رسم تخطيطي 3" descr=""/>
          <p:cNvPicPr/>
          <p:nvPr/>
        </p:nvPicPr>
        <p:blipFill>
          <a:blip r:embed="rId1"/>
          <a:stretch/>
        </p:blipFill>
        <p:spPr>
          <a:xfrm>
            <a:off x="512640" y="536400"/>
            <a:ext cx="8271000" cy="561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رسم تخطيطي 3" descr=""/>
          <p:cNvPicPr/>
          <p:nvPr/>
        </p:nvPicPr>
        <p:blipFill>
          <a:blip r:embed="rId1"/>
          <a:stretch/>
        </p:blipFill>
        <p:spPr>
          <a:xfrm>
            <a:off x="396720" y="1341360"/>
            <a:ext cx="8509320" cy="4164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رسم تخطيطي 3" descr=""/>
          <p:cNvPicPr/>
          <p:nvPr/>
        </p:nvPicPr>
        <p:blipFill>
          <a:blip r:embed="rId1"/>
          <a:stretch/>
        </p:blipFill>
        <p:spPr>
          <a:xfrm>
            <a:off x="512640" y="536400"/>
            <a:ext cx="8271000" cy="561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رسم تخطيطي 3" descr=""/>
          <p:cNvPicPr/>
          <p:nvPr/>
        </p:nvPicPr>
        <p:blipFill>
          <a:blip r:embed="rId1"/>
          <a:stretch/>
        </p:blipFill>
        <p:spPr>
          <a:xfrm>
            <a:off x="262080" y="493560"/>
            <a:ext cx="8577000" cy="479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رسم تخطيطي 3" descr=""/>
          <p:cNvPicPr/>
          <p:nvPr/>
        </p:nvPicPr>
        <p:blipFill>
          <a:blip r:embed="rId1"/>
          <a:stretch/>
        </p:blipFill>
        <p:spPr>
          <a:xfrm>
            <a:off x="298440" y="457200"/>
            <a:ext cx="8540640" cy="540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مستطيل مستدير الزوايا 1"/>
          <p:cNvSpPr/>
          <p:nvPr/>
        </p:nvSpPr>
        <p:spPr>
          <a:xfrm>
            <a:off x="285840" y="404640"/>
            <a:ext cx="864396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رسم تخطيطي 3" descr=""/>
          <p:cNvPicPr/>
          <p:nvPr/>
        </p:nvPicPr>
        <p:blipFill>
          <a:blip r:embed="rId1"/>
          <a:stretch/>
        </p:blipFill>
        <p:spPr>
          <a:xfrm>
            <a:off x="219240" y="463680"/>
            <a:ext cx="861984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مستطيل مستدير الزوايا 6"/>
          <p:cNvSpPr/>
          <p:nvPr/>
        </p:nvSpPr>
        <p:spPr>
          <a:xfrm>
            <a:off x="2643120" y="571680"/>
            <a:ext cx="36435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ألفاظ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عموم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خمسة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مستطيل ذو زوايا قطرية مخدوشة 7"/>
          <p:cNvSpPr/>
          <p:nvPr/>
        </p:nvSpPr>
        <p:spPr>
          <a:xfrm>
            <a:off x="857160" y="1643040"/>
            <a:ext cx="7358040" cy="457200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6c0a"/>
                </a:solidFill>
                <a:latin typeface="ae_AlArabiya"/>
                <a:cs typeface="ae_AlArabiya"/>
              </a:rPr>
              <a:t>القسم الأول </a:t>
            </a: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 كل اسم عرف بالألف واللام لغير المعهود وهو </a:t>
            </a:r>
            <a:r>
              <a:rPr b="0" lang="ar-SA" sz="2800" spc="-1" strike="noStrike">
                <a:solidFill>
                  <a:srgbClr val="e46c0a"/>
                </a:solidFill>
                <a:latin typeface="ae_AlArabiya"/>
                <a:cs typeface="ae_AlArabiya"/>
              </a:rPr>
              <a:t>ثلاثة أنواع </a:t>
            </a:r>
            <a:br>
              <a:rPr sz="2800"/>
            </a:b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1</a:t>
            </a: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-  ألفاظ الجموع كالمسلمين والمشركين والذين </a:t>
            </a:r>
            <a:br>
              <a:rPr sz="2800"/>
            </a:b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2</a:t>
            </a: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- أسماء الأجناس وهو ما لا واحد له من لفظه كالناس والحيوان والماء والتراب </a:t>
            </a:r>
            <a:br>
              <a:rPr sz="2800"/>
            </a:b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3</a:t>
            </a: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- لفظ الواحد كالسارق والسارقة والزاني والزانية و { إن الإنسان لفي خسر } </a:t>
            </a:r>
            <a:br>
              <a:rPr sz="2800"/>
            </a:br>
            <a:r>
              <a:rPr b="0" lang="ar-SA" sz="2800" spc="-1" strike="noStrike">
                <a:solidFill>
                  <a:srgbClr val="e46c0a"/>
                </a:solidFill>
                <a:latin typeface="ae_AlArabiya"/>
                <a:cs typeface="ae_AlArabiya"/>
              </a:rPr>
              <a:t>القسم الثاني : </a:t>
            </a:r>
            <a:r>
              <a:rPr b="0" lang="ar-SA" sz="28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ن ألفاظ العموم ما أضيف من هذه الأنواع إلى معرفة كعبيد زيد ومال عمرو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مستطيل ذو زوايا قطرية مستديرة 8" descr=""/>
          <p:cNvPicPr/>
          <p:nvPr/>
        </p:nvPicPr>
        <p:blipFill>
          <a:blip r:embed="rId1"/>
          <a:stretch/>
        </p:blipFill>
        <p:spPr>
          <a:xfrm>
            <a:off x="7296120" y="-19080"/>
            <a:ext cx="20131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مستطيل مستدير الزوايا 6"/>
          <p:cNvSpPr/>
          <p:nvPr/>
        </p:nvSpPr>
        <p:spPr>
          <a:xfrm>
            <a:off x="2643120" y="571680"/>
            <a:ext cx="36435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ألفاظ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عموم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خمسة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مستطيل ذو زوايا قطرية مخدوشة 7"/>
          <p:cNvSpPr/>
          <p:nvPr/>
        </p:nvSpPr>
        <p:spPr>
          <a:xfrm>
            <a:off x="857160" y="1785960"/>
            <a:ext cx="7358040" cy="44290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6c0a"/>
                </a:solidFill>
                <a:latin typeface="ae_AlArabiya"/>
                <a:cs typeface="ae_AlArabiya"/>
              </a:rPr>
              <a:t>القسم الثالث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Arabiya"/>
                <a:cs typeface="ae_AlArabiya"/>
              </a:rPr>
              <a:t>أدوات الشرط كمن فيمن يعقل وما فيما لا يعقل وأي في الجميع وأين وأيان في المكان ومتى في الزمان ونحوه كقوله تعالى ” ومن يتوكل على الله فهو حسبه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Arabiya"/>
                <a:ea typeface="ae_AlArabiya"/>
              </a:rPr>
              <a:t>{ ما عندكم ينفد وما عند الله باق } { أينما تكونوا يدرككم الموت } وقوله عليه السلام أيما امرأة أنكحت نفسها بغير إذن وليها 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مستطيل ذو زوايا قطرية مستديرة 4" descr=""/>
          <p:cNvPicPr/>
          <p:nvPr/>
        </p:nvPicPr>
        <p:blipFill>
          <a:blip r:embed="rId1"/>
          <a:stretch/>
        </p:blipFill>
        <p:spPr>
          <a:xfrm>
            <a:off x="7296120" y="-19080"/>
            <a:ext cx="20131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مستدير الزوايا 6"/>
          <p:cNvSpPr/>
          <p:nvPr/>
        </p:nvSpPr>
        <p:spPr>
          <a:xfrm>
            <a:off x="2643120" y="571680"/>
            <a:ext cx="36435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ألفاظ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عموم</a:t>
            </a:r>
            <a:r>
              <a:rPr b="0" lang="ar-SA" sz="2000" spc="-1" strike="noStrike">
                <a:solidFill>
                  <a:srgbClr val="000000"/>
                </a:solidFill>
                <a:latin typeface="ae_AlArabiya"/>
                <a:ea typeface="ae_AlArabiy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خمسة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مستطيل ذو زوايا قطرية مخدوشة 7"/>
          <p:cNvSpPr/>
          <p:nvPr/>
        </p:nvSpPr>
        <p:spPr>
          <a:xfrm>
            <a:off x="857160" y="1785960"/>
            <a:ext cx="7358040" cy="442908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ae_AlArabiya"/>
                <a:cs typeface="ae_AlArabiya"/>
              </a:rPr>
              <a:t>القسم الرابع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كل وجميع كقوله تعالى { كل نفس ذائقة الموت } { ولكل أمة أجل } { الله خالق كل شيء }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ae_AlArabiya"/>
                <a:cs typeface="ae_AlArabiya"/>
              </a:rPr>
              <a:t>القسم الخامس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ae_AlArabiya"/>
                <a:ea typeface="ae_AlArabiya"/>
              </a:rPr>
              <a:t> </a:t>
            </a: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النكرة في سياق النفي كقوله تعالى { ولم تكن له صاحبة } { ولا يحيطون بشيء من علمه } قال البستي الكا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مستطيل ذو زوايا قطرية مستديرة 4" descr=""/>
          <p:cNvPicPr/>
          <p:nvPr/>
        </p:nvPicPr>
        <p:blipFill>
          <a:blip r:embed="rId1"/>
          <a:stretch/>
        </p:blipFill>
        <p:spPr>
          <a:xfrm>
            <a:off x="7296120" y="-19080"/>
            <a:ext cx="20131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رسم تخطيطي 3" descr=""/>
          <p:cNvPicPr/>
          <p:nvPr/>
        </p:nvPicPr>
        <p:blipFill>
          <a:blip r:embed="rId1"/>
          <a:stretch/>
        </p:blipFill>
        <p:spPr>
          <a:xfrm>
            <a:off x="981000" y="1481040"/>
            <a:ext cx="7255080" cy="3395880"/>
          </a:xfrm>
          <a:prstGeom prst="rect">
            <a:avLst/>
          </a:prstGeom>
          <a:ln w="0">
            <a:noFill/>
          </a:ln>
        </p:spPr>
      </p:pic>
      <p:sp>
        <p:nvSpPr>
          <p:cNvPr id="61" name="مستطيل ذو زوايا قطرية مخدوشة 4"/>
          <p:cNvSpPr/>
          <p:nvPr/>
        </p:nvSpPr>
        <p:spPr>
          <a:xfrm>
            <a:off x="2500200" y="1214280"/>
            <a:ext cx="4429080" cy="92880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مستطيل مستدير الزوايا 1"/>
          <p:cNvSpPr/>
          <p:nvPr/>
        </p:nvSpPr>
        <p:spPr>
          <a:xfrm>
            <a:off x="539640" y="40464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مثل الكلمات التالية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كل , وجميع , وكافة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وقاطبة , وعام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Arabiya"/>
                <a:cs typeface="ae_AlArabiya"/>
              </a:rPr>
              <a:t>ومن ذلك قوله تعالى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e_AlArabiya"/>
                <a:ea typeface="ae_AlArabiy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إِنَّا كُلَّ شَيْءٍ خَلَقْنَاهُ بِقَدَرٍ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قمر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49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 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وَالْأَرْضُ جَمِيعًا قَبْضَتُهُ يَوْمَ الْقِيَامَةِ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 الزمر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76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(</a:t>
            </a:r>
            <a:r>
              <a:rPr b="0" lang="ar-SA" sz="3200" spc="-1" strike="noStrike">
                <a:solidFill>
                  <a:srgbClr val="4f6228"/>
                </a:solidFill>
                <a:latin typeface="ae_AlArabiya"/>
                <a:cs typeface="ae_AlArabiya"/>
              </a:rPr>
              <a:t>هُوَ الَّذِي خَلَقَ لَكُمْ مَا فِي الأَرْضِ جَمِيعًا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 (البقرة: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29</a:t>
            </a:r>
            <a:r>
              <a:rPr b="0" lang="ar-SA" sz="3200" spc="-1" strike="noStrike">
                <a:solidFill>
                  <a:srgbClr val="000000"/>
                </a:solidFill>
                <a:latin typeface="ae_AlArabiya"/>
                <a:ea typeface="ae_AlArabiy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وهذه الصيغة هي أقوى الصيغ في الدلالة على العموم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e_AlArabiya"/>
                <a:cs typeface="ae_AlArabiya"/>
              </a:rPr>
              <a:t>وذلك لأنها تشمل العاقل وغير العاقل , والمذكر والمؤنث , المفرد والمثنى والجمع </a:t>
            </a:r>
            <a:r>
              <a:rPr b="0" lang="ar-SA" sz="2000" spc="-1" strike="noStrike">
                <a:solidFill>
                  <a:srgbClr val="ffffff"/>
                </a:solidFill>
                <a:latin typeface="ae_AlArabiya"/>
                <a:ea typeface="ae_AlArabiy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نصف إطار 4"/>
          <p:cNvSpPr/>
          <p:nvPr/>
        </p:nvSpPr>
        <p:spPr>
          <a:xfrm>
            <a:off x="1071720" y="642960"/>
            <a:ext cx="928440" cy="1214280"/>
          </a:xfrm>
          <a:custGeom>
            <a:avLst/>
            <a:gdLst/>
            <a:ahLst/>
            <a:rect l="l" t="t" r="r" b="b"/>
            <a:pathLst>
              <a:path w="928694" h="1214446">
                <a:moveTo>
                  <a:pt x="0" y="0"/>
                </a:moveTo>
                <a:lnTo>
                  <a:pt x="928694" y="0"/>
                </a:lnTo>
                <a:lnTo>
                  <a:pt x="691970" y="309562"/>
                </a:lnTo>
                <a:lnTo>
                  <a:pt x="309562" y="309562"/>
                </a:lnTo>
                <a:lnTo>
                  <a:pt x="309562" y="809635"/>
                </a:lnTo>
                <a:lnTo>
                  <a:pt x="0" y="1214446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مستطيل مستدير الزوايا 1"/>
          <p:cNvSpPr/>
          <p:nvPr/>
        </p:nvSpPr>
        <p:spPr>
          <a:xfrm>
            <a:off x="539640" y="476280"/>
            <a:ext cx="8209080" cy="5977080"/>
          </a:xfrm>
          <a:prstGeom prst="roundRect">
            <a:avLst>
              <a:gd name="adj" fmla="val 16667"/>
            </a:avLst>
          </a:prstGeom>
          <a:solidFill>
            <a:srgbClr val="fac090">
              <a:alpha val="6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رسم تخطيطي 3" descr=""/>
          <p:cNvPicPr/>
          <p:nvPr/>
        </p:nvPicPr>
        <p:blipFill>
          <a:blip r:embed="rId1"/>
          <a:stretch/>
        </p:blipFill>
        <p:spPr>
          <a:xfrm>
            <a:off x="981000" y="1481040"/>
            <a:ext cx="7255080" cy="3395880"/>
          </a:xfrm>
          <a:prstGeom prst="rect">
            <a:avLst/>
          </a:prstGeom>
          <a:ln w="0">
            <a:noFill/>
          </a:ln>
        </p:spPr>
      </p:pic>
      <p:sp>
        <p:nvSpPr>
          <p:cNvPr id="66" name="مستطيل ذو زوايا قطرية مخدوشة 4"/>
          <p:cNvSpPr/>
          <p:nvPr/>
        </p:nvSpPr>
        <p:spPr>
          <a:xfrm>
            <a:off x="2428920" y="1214280"/>
            <a:ext cx="4429080" cy="92880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e_AlArabiya"/>
                <a:cs typeface="ae_AlArabiya"/>
              </a:rPr>
              <a:t>صيغ العموم 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ae_AlArabiya"/>
                <a:cs typeface="ae_AlArabiya"/>
              </a:rPr>
              <a:t>سبع</a:t>
            </a:r>
            <a:r>
              <a:rPr b="0" lang="ar-SA" sz="4400" spc="-1" strike="noStrike">
                <a:solidFill>
                  <a:srgbClr val="ffffff"/>
                </a:solidFill>
                <a:latin typeface="ae_AlArabiya"/>
                <a:ea typeface="ae_AlArabiya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9:50:32Z</dcterms:created>
  <dc:creator>asd</dc:creator>
  <dc:description/>
  <dc:language>en-US</dc:language>
  <cp:lastModifiedBy>seven</cp:lastModifiedBy>
  <dcterms:modified xsi:type="dcterms:W3CDTF">2013-10-22T03:31:59Z</dcterms:modified>
  <cp:revision>44</cp:revision>
  <dc:subject/>
  <dc:title>عرض تقديمي في PowerPoint</dc:title>
</cp:coreProperties>
</file>