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2D7-89BD-4BD0-956A-CA9393F8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942-0A42-461B-B40B-755271B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F3B-3F12-4C65-89B3-8EC32CAA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87-A455-4F7D-A7E4-6C3D7F85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567-533C-4E4A-B650-277DE51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1FB-CFF4-4F34-8B95-E46005D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A7F-64D3-4A03-8FD1-2F0D18A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40C-9C08-4951-8D94-1CDA05B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5CC-374B-4021-AF64-84E5562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2CC-3959-4EEA-BD4B-62854E7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6BE-FB11-4037-A4D8-BB9D4EA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A6E-C612-43D8-A5AA-BEF9F95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26E-4E64-46E5-8EFA-71E4A6AAEE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مربع نص 2"/>
          <p:cNvSpPr/>
          <p:nvPr/>
        </p:nvSpPr>
        <p:spPr>
          <a:xfrm>
            <a:off x="1571760" y="1785960"/>
            <a:ext cx="640872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900" spc="-1" strike="noStrike">
                <a:solidFill>
                  <a:srgbClr val="77933c"/>
                </a:solidFill>
                <a:latin typeface="Andalus"/>
                <a:ea typeface="Andalus"/>
              </a:rPr>
              <a:t>(</a:t>
            </a:r>
            <a:r>
              <a:rPr b="0" lang="ar-SA" sz="19900" spc="-1" strike="noStrike">
                <a:solidFill>
                  <a:srgbClr val="000000"/>
                </a:solidFill>
                <a:latin typeface="Andalus"/>
                <a:cs typeface="Andalus"/>
              </a:rPr>
              <a:t>العام</a:t>
            </a:r>
            <a:r>
              <a:rPr b="0" lang="ar-SA" sz="19900" spc="-1" strike="noStrike">
                <a:solidFill>
                  <a:srgbClr val="77933c"/>
                </a:solidFill>
                <a:latin typeface="Andalus"/>
                <a:ea typeface="Andalus"/>
              </a:rPr>
              <a:t>)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ل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مَنْ عَمِلَ صَالِحاً فَلِنَفْسِهِ وَمَنْ أَسَاء فَعَلَيْهَا ثُمَّ إِلَى رَبِّكُمْ تُرْجَعُونَ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جاثـي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 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لِلَّهِ الْمَشْرِقُ وَالْمَغْرِبُ فَأَيْنَمَا تُوَلُّوا فَثَمَّ وَجْهُ اللَّهِ إِنَّ اللَّهَ وَاسِعٌ عَلِيمٌ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بقر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أَيْنَمَا تُوَلُّوا فَثَمَّ وَجْهُ اللَّهِ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بقرة: ا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مَا تَفْعَلُوا مِنْ خَيْرٍ يَعْلَمْهُ الله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 البقرة: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97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أدوات الشرط هي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من , وما , وأين , ومتى , وأ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رسم تخطيطي 3" descr=""/>
          <p:cNvPicPr/>
          <p:nvPr/>
        </p:nvPicPr>
        <p:blipFill>
          <a:blip r:embed="rId1"/>
          <a:stretch/>
        </p:blipFill>
        <p:spPr>
          <a:xfrm>
            <a:off x="981000" y="841320"/>
            <a:ext cx="7255080" cy="5108760"/>
          </a:xfrm>
          <a:prstGeom prst="rect">
            <a:avLst/>
          </a:prstGeom>
          <a:ln w="0">
            <a:noFill/>
          </a:ln>
        </p:spPr>
      </p:pic>
      <p:sp>
        <p:nvSpPr>
          <p:cNvPr id="71" name="مستطيل ذو زوايا قطرية مخدوشة 4"/>
          <p:cNvSpPr/>
          <p:nvPr/>
        </p:nvSpPr>
        <p:spPr>
          <a:xfrm>
            <a:off x="2428920" y="71424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رسم تخطيطي 3" descr=""/>
          <p:cNvPicPr/>
          <p:nvPr/>
        </p:nvPicPr>
        <p:blipFill>
          <a:blip r:embed="rId1"/>
          <a:stretch/>
        </p:blipFill>
        <p:spPr>
          <a:xfrm>
            <a:off x="1407960" y="2054160"/>
            <a:ext cx="6328080" cy="2610000"/>
          </a:xfrm>
          <a:prstGeom prst="rect">
            <a:avLst/>
          </a:prstGeom>
          <a:ln w="0">
            <a:noFill/>
          </a:ln>
        </p:spPr>
      </p:pic>
      <p:sp>
        <p:nvSpPr>
          <p:cNvPr id="74" name="مستطيل ذو زوايا قطرية مخدوشة 4"/>
          <p:cNvSpPr/>
          <p:nvPr/>
        </p:nvSpPr>
        <p:spPr>
          <a:xfrm>
            <a:off x="2286000" y="164304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ك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َّذِي جَاءَ بِالصِّدْقِ وَصَدَّقَ بِهِ أُولَئِكَ هُمُ الْمُتَّقُون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ز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33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َّذِينَ يَرْمُونَ الْمُحْصَنَات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نو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لَّائِي يَئِسْنَ مِنَ الْمَحِيض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طلاق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أُولَاتُ الْأَحْمَالِ أَجَلُهُنَّ أَنْ يَضَعْنَ حَمْلَهُنّ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طلاق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الأسماء الموصولة ه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ذي , والتي , والذَيْن , واللتين , والذِيْن , واللائي , وأولات , ونحو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رسم تخطيطي 3" descr=""/>
          <p:cNvPicPr/>
          <p:nvPr/>
        </p:nvPicPr>
        <p:blipFill>
          <a:blip r:embed="rId1"/>
          <a:stretch/>
        </p:blipFill>
        <p:spPr>
          <a:xfrm>
            <a:off x="1146240" y="2054160"/>
            <a:ext cx="6699240" cy="260352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ها في سياق النف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مَامِنْ إِلَـهٍ إِلَّا اللَّـهُ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آل عمران: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62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 وحديث :" </a:t>
            </a:r>
            <a:r>
              <a:rPr b="0" lang="ar-SA" sz="3200" spc="-1" strike="noStrike">
                <a:solidFill>
                  <a:srgbClr val="1f497d"/>
                </a:solidFill>
                <a:latin typeface="ae_AlArabiya"/>
                <a:cs typeface="ae_AlArabiya"/>
              </a:rPr>
              <a:t>لاضرر ولا ضرار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"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ae_AlArabiya"/>
                <a:cs typeface="ae_AlArabiya"/>
              </a:rPr>
              <a:t>مثالها في سياق النه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قوله تعالى :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عْبُدُوا اللَّهَ وَلا تُشْرِكُوا بِهِ شَيْئاً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نساء: الآية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36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لا تُطِعْ مِنْهُمْ ءَاثِمًا أَوكَفُورًا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إنسان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2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ثالها في سياق الاستفهام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قوله تعالى : </a:t>
            </a:r>
            <a:r>
              <a:rPr b="0" lang="en-US" sz="3200" spc="-1" strike="noStrike">
                <a:solidFill>
                  <a:srgbClr val="4f6228"/>
                </a:solidFill>
                <a:latin typeface="ae_AlArabiya"/>
                <a:ea typeface="ae_AlArabiya"/>
              </a:rPr>
              <a:t>)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مَنْ إِلَهٌ غَيْرُ اللَّهِ يَأْتِيكُمْ بِضِيَاءٍ أَفَلا تَسْمَعُون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قصص: الآية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71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ثالها في سياق الشرط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قوله تعالى :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ْ تُبْدُوا شَيْئاً أَوْ تُخْفُوهُ فَإِنَّ اللَّهَ كَانَ بِكُلِّ شَيْءٍ عَلِيماً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أحزاب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5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رسم تخطيطي 3" descr=""/>
          <p:cNvPicPr/>
          <p:nvPr/>
        </p:nvPicPr>
        <p:blipFill>
          <a:blip r:embed="rId1"/>
          <a:stretch/>
        </p:blipFill>
        <p:spPr>
          <a:xfrm>
            <a:off x="1328760" y="2054160"/>
            <a:ext cx="6407280" cy="3108240"/>
          </a:xfrm>
          <a:prstGeom prst="rect">
            <a:avLst/>
          </a:prstGeom>
          <a:ln w="0">
            <a:noFill/>
          </a:ln>
        </p:spPr>
      </p:pic>
      <p:sp>
        <p:nvSpPr>
          <p:cNvPr id="84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فرد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ذْكُرُوا نِعْمَةَ اللَّهِ عَلَيْكُمْ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مائدة: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إِن تَعُدُّواْ نِعْمَةَ اللَّهِ لاَ تُحْصُوهَا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براهيم: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34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جمع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اذْكُرُوا آلاءَ اللَّهِ لَعَلَّكُمْ تُفْلِحُونَ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أعراف: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69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رسم تخطيطي 3" descr=""/>
          <p:cNvPicPr/>
          <p:nvPr/>
        </p:nvPicPr>
        <p:blipFill>
          <a:blip r:embed="rId1"/>
          <a:stretch/>
        </p:blipFill>
        <p:spPr>
          <a:xfrm>
            <a:off x="1122480" y="2054160"/>
            <a:ext cx="6729120" cy="362124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فرد :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خُلِقَ الْإِنْسَانُ ضَعِيفاً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(النساء: الآية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8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,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َّ الإِنْسَانَ لَفِي خُسْرٍ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(العصر: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جمع :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إِذَا بَلَغَ الْأَطْفَالُ مِنْكُمُ الْحُلُمَ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(النور: الآية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59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,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ْمُطَلَّقَاتُ يَتَرَبَّصْنَ بِأَنفُسِهِنَّ ثَلاَثَةَ قُرُوَءٍ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28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ثنى : 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cs typeface="ae_AlArabiya"/>
              </a:rPr>
              <a:t>حديث " </a:t>
            </a:r>
            <a:r>
              <a:rPr b="0" lang="ar-SA" sz="4000" spc="-1" strike="noStrike">
                <a:solidFill>
                  <a:srgbClr val="17375e"/>
                </a:solidFill>
                <a:latin typeface="ae_AlArabiya"/>
                <a:cs typeface="ae_AlArabiya"/>
              </a:rPr>
              <a:t>إذا التقى المسلمان بسيفيهما فالقاتل والمقتول في النار 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"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رسم تخطيطي 3" descr=""/>
          <p:cNvPicPr/>
          <p:nvPr/>
        </p:nvPicPr>
        <p:blipFill>
          <a:blip r:embed="rId1"/>
          <a:stretch/>
        </p:blipFill>
        <p:spPr>
          <a:xfrm>
            <a:off x="407880" y="341280"/>
            <a:ext cx="813276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رسم تخطيطي 4" descr=""/>
          <p:cNvPicPr/>
          <p:nvPr/>
        </p:nvPicPr>
        <p:blipFill>
          <a:blip r:embed="rId1"/>
          <a:stretch/>
        </p:blipFill>
        <p:spPr>
          <a:xfrm>
            <a:off x="585720" y="390600"/>
            <a:ext cx="83930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رسم تخطيطي 4" descr=""/>
          <p:cNvPicPr/>
          <p:nvPr/>
        </p:nvPicPr>
        <p:blipFill>
          <a:blip r:embed="rId1"/>
          <a:stretch/>
        </p:blipFill>
        <p:spPr>
          <a:xfrm>
            <a:off x="585720" y="390600"/>
            <a:ext cx="83930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رسم تخطيطي 4" descr=""/>
          <p:cNvPicPr/>
          <p:nvPr/>
        </p:nvPicPr>
        <p:blipFill>
          <a:blip r:embed="rId1"/>
          <a:stretch/>
        </p:blipFill>
        <p:spPr>
          <a:xfrm>
            <a:off x="-42840" y="390600"/>
            <a:ext cx="93092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رسم تخطيطي 4" descr=""/>
          <p:cNvPicPr/>
          <p:nvPr/>
        </p:nvPicPr>
        <p:blipFill>
          <a:blip r:embed="rId1"/>
          <a:stretch/>
        </p:blipFill>
        <p:spPr>
          <a:xfrm>
            <a:off x="-23760" y="317520"/>
            <a:ext cx="9290160" cy="605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رسم تخطيطي 4" descr=""/>
          <p:cNvPicPr/>
          <p:nvPr/>
        </p:nvPicPr>
        <p:blipFill>
          <a:blip r:embed="rId1"/>
          <a:stretch/>
        </p:blipFill>
        <p:spPr>
          <a:xfrm>
            <a:off x="-23760" y="317520"/>
            <a:ext cx="9290160" cy="605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مالا دليل على تخصيصه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مَن كَانَ مِنكُم مّرِيضاً أَوْ بِهِ أَذًى مّن رّأْسِهِ فَفِدْيَةٌ مّن صِيَامٍ أَوْ صَدَقَةٍ أَوْ نُسُكٍ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96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 فاللفظ عام , وسبب وروده خصوص سؤال كعب بن عجرة –رضي الله عنه- عن هوام رأسه التي تؤذيه وهو محر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cs typeface="ae_AlArabiya"/>
              </a:rPr>
              <a:t>آيات الظهار . فإنها عامة , وسبب نزولها ظهار أوس بن الصامت –رضي الله عنه-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مستدير الزوايا 1"/>
          <p:cNvSpPr/>
          <p:nvPr/>
        </p:nvSpPr>
        <p:spPr>
          <a:xfrm>
            <a:off x="357120" y="404640"/>
            <a:ext cx="8501040" cy="616752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ما دل الدليل على تخصيصه </a:t>
            </a:r>
            <a:r>
              <a:rPr b="0" lang="ar-SA" sz="3200" spc="-1" strike="noStrike">
                <a:solidFill>
                  <a:srgbClr val="376092"/>
                </a:solidFill>
                <a:latin typeface="ae_AlArabiya"/>
                <a:ea typeface="ae_AlArabiy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حديث "</a:t>
            </a: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هو الطهور ماؤه ... 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" فقد ورد على سبب خاص وهو سؤال المدلجي أنتوضأ بماء البحر ؟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قوله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:(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ليس من البر الصيام في السفر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فإن سببه أن النبي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كان في سفر ،فرأى زحاما ،ورجل قد ضلل عليه ،فقال : (ما هذا ؟) قالوا :صائم.فقال: (ليس من البر الصيام في السف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فهذا العموم خاص بمن يشبه حال هذا الرجل –وهو من شق عليه الصيام في السفر – بدليل أن النبي 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كان يصوم في السفر ,حيث كان لايشق عليه .وهو 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لايفعل ماليس ببر .مع قوله في الحديث الآخر :(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ذهب المفطرون اليوم بالأجر</a:t>
            </a: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)ولم يعب على من صام مع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نصف إطار 4"/>
          <p:cNvSpPr/>
          <p:nvPr/>
        </p:nvSpPr>
        <p:spPr>
          <a:xfrm>
            <a:off x="571680" y="57168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رسم تخطيطي 3" descr=""/>
          <p:cNvPicPr/>
          <p:nvPr/>
        </p:nvPicPr>
        <p:blipFill>
          <a:blip r:embed="rId1"/>
          <a:stretch/>
        </p:blipFill>
        <p:spPr>
          <a:xfrm>
            <a:off x="450720" y="676440"/>
            <a:ext cx="8255160" cy="4975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رسم تخطيطي 3" descr=""/>
          <p:cNvPicPr/>
          <p:nvPr/>
        </p:nvPicPr>
        <p:blipFill>
          <a:blip r:embed="rId1"/>
          <a:stretch/>
        </p:blipFill>
        <p:spPr>
          <a:xfrm>
            <a:off x="396720" y="1341360"/>
            <a:ext cx="850932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رسم تخطيطي 3" descr=""/>
          <p:cNvPicPr/>
          <p:nvPr/>
        </p:nvPicPr>
        <p:blipFill>
          <a:blip r:embed="rId1"/>
          <a:stretch/>
        </p:blipFill>
        <p:spPr>
          <a:xfrm>
            <a:off x="262080" y="493560"/>
            <a:ext cx="857700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رسم تخطيطي 3" descr=""/>
          <p:cNvPicPr/>
          <p:nvPr/>
        </p:nvPicPr>
        <p:blipFill>
          <a:blip r:embed="rId1"/>
          <a:stretch/>
        </p:blipFill>
        <p:spPr>
          <a:xfrm>
            <a:off x="298440" y="457200"/>
            <a:ext cx="854064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رسم تخطيطي 3" descr=""/>
          <p:cNvPicPr/>
          <p:nvPr/>
        </p:nvPicPr>
        <p:blipFill>
          <a:blip r:embed="rId1"/>
          <a:stretch/>
        </p:blipFill>
        <p:spPr>
          <a:xfrm>
            <a:off x="219240" y="463680"/>
            <a:ext cx="86198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ستطيل ذو زوايا قطرية مخدوشة 7"/>
          <p:cNvSpPr/>
          <p:nvPr/>
        </p:nvSpPr>
        <p:spPr>
          <a:xfrm>
            <a:off x="857160" y="1643040"/>
            <a:ext cx="7358040" cy="457200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أول 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 كل اسم عرف بالألف واللام لغير المعهود وهو </a:t>
            </a: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ثلاثة أنواع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1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 ألفاظ الجموع كالمسلمين والمشركين والذين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2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أسماء الأجناس وهو ما لا واحد له من لفظه كالناس والحيوان والماء والتراب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3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لفظ الواحد كالسارق والسارقة والزاني والزانية و { إن الإنسان لفي خسر } </a:t>
            </a:r>
            <a:br>
              <a:rPr sz="2800"/>
            </a:b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ثاني : 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ن ألفاظ العموم ما أضيف من هذه الأنواع إلى معرفة كعبيد زيد ومال عمرو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مستطيل ذو زوايا قطرية مستديرة 8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ذو زوايا قطرية مخدوشة 7"/>
          <p:cNvSpPr/>
          <p:nvPr/>
        </p:nvSpPr>
        <p:spPr>
          <a:xfrm>
            <a:off x="857160" y="1785960"/>
            <a:ext cx="7358040" cy="44290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ثالث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cs typeface="ae_AlArabiya"/>
              </a:rPr>
              <a:t>أدوات الشرط كمن فيمن يعقل وما فيما لا يعقل وأي في الجميع وأين وأيان في المكان ومتى في الزمان ونحوه كقوله تعالى ” ومن يتوكل على الله فهو حسبه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{ ما عندكم ينفد وما عند الله باق } { أينما تكونوا يدرككم الموت } وقوله عليه السلام أيما امرأة أنكحت نفسها بغير إذن وليها 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مستطيل ذو زوايا قطرية مستديرة 4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ستطيل ذو زوايا قطرية مخدوشة 7"/>
          <p:cNvSpPr/>
          <p:nvPr/>
        </p:nvSpPr>
        <p:spPr>
          <a:xfrm>
            <a:off x="857160" y="1785960"/>
            <a:ext cx="7358040" cy="44290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رابع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كل وجميع كقوله تعالى { كل نفس ذائقة الموت } { ولكل أمة أجل } { الله خالق كل شيء }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خامس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النكرة في سياق النفي كقوله تعالى { ولم تكن له صاحبة } { ولا يحيطون بشيء من علمه } قال البستي ال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مستطيل ذو زوايا قطرية مستديرة 4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رسم تخطيطي 3" descr=""/>
          <p:cNvPicPr/>
          <p:nvPr/>
        </p:nvPicPr>
        <p:blipFill>
          <a:blip r:embed="rId1"/>
          <a:stretch/>
        </p:blipFill>
        <p:spPr>
          <a:xfrm>
            <a:off x="981000" y="1481040"/>
            <a:ext cx="7255080" cy="3395880"/>
          </a:xfrm>
          <a:prstGeom prst="rect">
            <a:avLst/>
          </a:prstGeom>
          <a:ln w="0">
            <a:noFill/>
          </a:ln>
        </p:spPr>
      </p:pic>
      <p:sp>
        <p:nvSpPr>
          <p:cNvPr id="61" name="مستطيل ذو زوايا قطرية مخدوشة 4"/>
          <p:cNvSpPr/>
          <p:nvPr/>
        </p:nvSpPr>
        <p:spPr>
          <a:xfrm>
            <a:off x="2500200" y="121428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ل الكلمات التالية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كل , وجميع , وكافة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قاطبة , وع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ن ذلك قوله تعا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َّا كُلَّ شَيْءٍ خَلَقْنَاهُ بِقَدَرٍ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ق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9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ْأَرْضُ جَمِيعًا قَبْضَتُهُ يَوْمَ الْقِيَامَة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 الز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76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هُوَ الَّذِي خَلَقَ لَكُمْ مَا فِي الأَرْضِ جَمِيعًا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29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هذه الصيغة هي أقوى الصيغ في الدلالة على العموم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ذلك لأنها تشمل العاقل وغير العاقل , والمذكر والمؤنث , المفرد والمثنى والجمع </a:t>
            </a:r>
            <a:r>
              <a:rPr b="0" lang="ar-SA" sz="2000" spc="-1" strike="noStrike">
                <a:solidFill>
                  <a:srgbClr val="ffffff"/>
                </a:solidFill>
                <a:latin typeface="ae_AlArabiya"/>
                <a:ea typeface="ae_AlArabi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رسم تخطيطي 3" descr=""/>
          <p:cNvPicPr/>
          <p:nvPr/>
        </p:nvPicPr>
        <p:blipFill>
          <a:blip r:embed="rId1"/>
          <a:stretch/>
        </p:blipFill>
        <p:spPr>
          <a:xfrm>
            <a:off x="981000" y="1481040"/>
            <a:ext cx="7255080" cy="3395880"/>
          </a:xfrm>
          <a:prstGeom prst="rect">
            <a:avLst/>
          </a:prstGeom>
          <a:ln w="0">
            <a:noFill/>
          </a:ln>
        </p:spPr>
      </p:pic>
      <p:sp>
        <p:nvSpPr>
          <p:cNvPr id="66" name="مستطيل ذو زوايا قطرية مخدوشة 4"/>
          <p:cNvSpPr/>
          <p:nvPr/>
        </p:nvSpPr>
        <p:spPr>
          <a:xfrm>
            <a:off x="2428920" y="121428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9:50:32Z</dcterms:created>
  <dc:creator>asd</dc:creator>
  <dc:description/>
  <dc:language>en-US</dc:language>
  <cp:lastModifiedBy>seven</cp:lastModifiedBy>
  <dcterms:modified xsi:type="dcterms:W3CDTF">2013-10-22T03:31:59Z</dcterms:modified>
  <cp:revision>44</cp:revision>
  <dc:subject/>
  <dc:title>عرض تقديمي في PowerPoint</dc:title>
</cp:coreProperties>
</file>