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8AED-E92C-4BC6-8D66-E347EF0B86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50BE-F601-43BD-88C1-1F9646E5136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226B-3EAC-4EB8-8E54-06E594E5F7E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1990-067A-4145-9A1E-D65B031169E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545-F3C3-4188-BA55-6EC7EE2E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C27-EEBA-42B8-8114-9B32163B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A1B-1DC3-40F0-A10B-0BB1CF50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957-468F-4C12-B3DF-B2ACCDAE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CCF-345E-40D7-9D52-A2A1F906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F99-2844-49E2-91D4-C7EA5752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E73-7177-465A-AAE4-16C2C98C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F84-FEF0-47C5-822C-5FE71F36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32E-C6F4-4F59-8EDF-5BAFB323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6B8-D860-444A-BC85-DA130137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7A9-E7D2-4138-B573-CF73A809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799-2EB8-41C5-87F0-2D436114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087F-CD4D-43CF-9BCF-B8EEDF1FDD0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علم الاجتماع بين التواصل الاجتماعي والتفاعل الاجتماعي</a:t>
            </a:r>
            <a:br>
              <a:rPr sz="3200"/>
            </a:b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د. عمر عبد الجب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898989"/>
                </a:solidFill>
                <a:latin typeface="Calibri"/>
              </a:rPr>
              <a:t>محاضرة قدمت ضمن برنامج الندوات العلمية بقسم الدراسات الاجتماعية، كلية الآداب جامعة الملك سعو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898989"/>
                </a:solidFill>
                <a:latin typeface="Calibri"/>
              </a:rPr>
              <a:t>2016/4/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Arial"/>
              </a:rPr>
              <a:t>Micro lev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 على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مستوي الأصغر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اعتبار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إنترنت مكمّل لوسائل التفاعل الاجتماعي القائمة وليس بديلا له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 يجب النظر إلى الإنترنت بوصفه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جال اجتما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 إذا اعتبرنا الانترنت مجالا اجتماعيا يكون الاتصال عبر الانترنت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شبه بوجودنا في مكا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ا ويمكن فهم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فعال المتواصلين علي أنها سلوك اجتما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أشبه بأنماط السلوك الاجتماعي الأخر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ميزة علم  الاجتما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* ما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يميّز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نا عن غيره من العلوم التي تدرس شبكات التواصل الاجتماع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هو تطبيق نظريات ومناهج علم الاجتماع لدراسة أنماط التفاع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ي تحدث عبر شبكات التواصل الاجتماعي،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حفزات ومعوقات التفاعل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واضيع التفاعل، آثار التفاع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ما إلى ذلك من المواضيع التي تركز على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عضاء الشبكات بوصفهم كائنات اجتماعية فاع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استمرارية وأهمية التفاعل وجها لوج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 الرغم من انتشار وسائل التواصل الاجتماعي وتوسع العالم الافتراضي كل لحظة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يظل التفاعل وجها لوجه هو الأهم والأكثر تأثيرا علي الفرد والمجتم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 يرى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نتونى غدينز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"، أن الأبحاث وجدت أن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عظم الناس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 مواقع التواصل الاجتماع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يميلون للتفاعل بشكل رئيسي مع الأصدقاء والناس الذين يعرفونه من الاتصالات وجها لوجه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وعلى الرغم من انتشار التكنولوجيات الجديدة، فمعظم الناس لا يزالون  يرغبون ف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التقاء وجها لوجه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التخلص من النظرة السلبية </a:t>
            </a:r>
            <a:br>
              <a:rPr sz="4400"/>
            </a:b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نحو الإنترنت والمتفاعلين عبر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/ الإنترنت سلاح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”ذو عدة حدود“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ليس حدّين فقط ويمكن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ستخدامه سلبا وإيجابا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هذا يتوقف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علي الفاعلين وخصائصهم وخصائص مجتمعاتهم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وهذا ما يجب 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ن يركز عليه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دلا عن الاستمرار في 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إصدار الأحكام القيم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ا يجب التخلص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ن النظرة السلبية نحو الفاعل المتفاعل عبر الإنترنت والتي تعتبره ”كتلة“ تتأثر ولا تؤثر. فاعل  الإنترنت كما في التفاعلية الرمزية نشط، ناقد، يفاضل ويخت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خاتم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ا أسلفت في توضيح هدف هذه المحاضرة علي 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دراسين والباحثين  في مجال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ركيز علي الموضوع الأساسي لعلم الاجتماع“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تفاعل الاجتماعي“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طبيق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ناهج ونظريات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ند دراساتهم للانترنت ووسائل التواصل الاجتماع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والتخلص من النظرة السلبية نحو الانترنت والمتفاعلي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عبرها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هدف المحاض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هدف هذه المحاضر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و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دعوة إلى إعادة توجيه الدراسات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ي تتناول الإنترنت عامة ووسائل التواصل الاجتماعي خاصة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نحو الموضوع الأساسي ل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لا وهو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”التفاعل الاجتماعي“.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قد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لوحظ أن الكثير من  الأبحاث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الدراسات ف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جال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ي تناولت الإنترنت ووسائل التواصل الاجتماع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غفل موضوع علم الاجتماع الأساس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تفاعل الاجتما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“ وتركز علي مواضيع من اختصاص علوم أخر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كالإعلام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مثل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أولا/مفاهيم أساس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* التواصل الاجتماعي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ني الطريقة التي يتم بها تبادل المعلومات أو الأفكار بين شخصين أو أكثر. ويتطلب التواصل وجود صلة اجتماعية بين شخصين على الأقل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encyclopedia.the freedictionary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شبكات التواصل الاجتما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تعرّف شبكات التواصل الاجتماعي بأنها" خدمات على شبكة الإنترنت تسمح للفرد: (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 بناء ملفه الشخصي أو شبه العام في إطار نظام محدد (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 التواصل مع قائمة المستخدمين الآخرين الذين يشتركون في الاتصال (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 عرض قائمة اتصالاتهم وقائمة الاتصالات التي أنشأها آخرون والحركة داخلها في اطار النظام وطبيعة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وتسمية هذه الاتصالات قد تختلف من موقع إلى آخر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nah M. Boyd,Nicole B. Ellison(2008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التفاعل الاجتما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 علم الاجتماع يعتبر التفاعل الاجتماعي عملية ديناميكية ، وسلسلة متجددة من الافعال الاجتماعية بين أفراد (أو مجموعة) يعدّلون أفعالهم بناء على ردود فعل شركائهم في التفاعل. ويمكن التمييز بين عدد من أنواع  التفاعل الاجتماعي، مثل: التفاعل الاجتماعي العرضي، والمتكرر، والعادي، والمنتظم، والمنظم. هذا ويشكل التفاعل الاجتماعي أساس العلاقات الاجتماعية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encyclopedia.t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eedic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علم اجتماع الانترن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شير مصطل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م اجتماع الإنترن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لى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طبيق مبادئ النظرية والمنهج الاجتماع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إنترن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اعتباره مصدرًا للمعلومات والتواصل. اهتم علماء الاجتماع بدراسة الآثار الاجتماعية الناتجة عن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ستخدام وسائل التكنولوجي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؛ الشبكات الاجتماعية الحديثة والمجتمعات الافتراضية ووسائ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فاع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ي أصبحت منتشرة، فضلًا عن المسائل المتعلقة بـالجرائم الإلكترونية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s://ar.wikipedia.org/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8725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ثاني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/ أعتقد أن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دراسة الانترنت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امة وشبكات التواصل الاجتماعي خاصة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ن منظور علم الاجتماع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تتم على مستويي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acro and Micro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Arial"/>
              </a:rPr>
              <a:t>Macro Lev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مستوى الأكبر يكون الاهتمام بدراسة مجتمعات الشبكات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ي وصفها كاستيلس  " مجتمع الشبكات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يمثل بنية اجتماع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تقوم على أساس الشبكات التي تعمل بواسطة  تكنولوجيا المعلومات والاتصالات الموجودة في الإلكترونيات الدقيقة، وشبكات الحاسوب الرقمية التي تنتج المعلومات وتوزعها على أساس المعرفة المتراكمة في عقد الشبك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tells, Manuel: 2005, 7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 هناك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حاجة لتحليل وفهم تأثير  المجتمعات الافتراضية على مجتمعات العالم الحقيق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* ما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يميز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نا عن غيره من العلوم التي تدرس شبكات التواصل الاجتماع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هو تطبيق نظريات ومناهج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دراسة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بنية شبكات التواصل وخصائص المشتركي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ها وعلاقة ذلك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بأنماط التفاع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ي تحدث داخل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03:59:26Z</dcterms:created>
  <dc:creator>xyyz</dc:creator>
  <dc:description/>
  <dc:language>en-US</dc:language>
  <cp:lastModifiedBy>xyz</cp:lastModifiedBy>
  <dcterms:modified xsi:type="dcterms:W3CDTF">2016-04-18T07:49:40Z</dcterms:modified>
  <cp:revision>10</cp:revision>
  <dc:subject/>
  <dc:title>علم الاجتماع بين التواصل الاجتماعي والتفاعل الاجتماعي د. عمر عبد الجبار</dc:title>
</cp:coreProperties>
</file>