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CB77-AAA0-40A3-BB7B-0BE943F664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55CB-6CDF-4F3B-ABB0-7CF7FBA8F8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A79C-12A8-4216-90B9-C1FAF8BEB1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88C3-F8F4-400C-A325-F69B785143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44A-C64B-4274-AD4F-59AFA128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745-8B81-49D6-B010-B14A7DE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976-19BE-4B4A-ACC8-EF00DB5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9B8-C47D-4E29-8018-648E4A52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A83-F17C-4899-86B1-DB56934E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CE6-60EA-472D-BBDF-81558C46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B09-A608-4BFF-B98E-5BD9A98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126-9DB6-42B2-85AD-DAE4AC42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C5B-E02C-4B65-ADED-E4918BB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F54-73C1-4AE3-AF77-D4AF3ED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241-E34B-4498-9EA8-E66635B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B70-D68F-4924-8C99-A180890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E5D-6B8C-4825-946C-F88C17B95F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علم الاجتماع بين التواصل الاجتماعي والتفاعل الاجتماعي</a:t>
            </a:r>
            <a:br>
              <a:rPr sz="3200"/>
            </a:b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د. عمر عبد الجب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898989"/>
                </a:solidFill>
                <a:latin typeface="Calibri"/>
              </a:rPr>
              <a:t>محاضرة قدمت ضمن برنامج الندوات العلمية بقسم الدراسات الاجتماعية، كلية الآداب جامعة الملك سعو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898989"/>
                </a:solidFill>
                <a:latin typeface="Calibri"/>
              </a:rPr>
              <a:t>2016/4/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Arial"/>
              </a:rPr>
              <a:t>Micro le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ستوي الأصغر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عتبار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إنترنت مكمّل لوسائل التفاعل الاجتماعي القائمة وليس بديلا ل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يجب النظر إلى الإنترنت بوصفه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جال 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إذا اعتبرنا الانترنت مجالا اجتماعيا يكون الاتصال عبر الانترنت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شبه بوجودنا في مكا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ا ويمكن فهم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فعال المتواصلين علي أنها سلوك 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أشبه بأنماط السلوك الاجتماعي الأخر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ميزة علم  الاجتما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* ما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ّز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نا عن غيره من العلوم التي تدرس شبكات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و تطبيق نظريات ومناهج علم الاجتماع لدراسة أنماط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حدث عبر شبكات التواصل الاجتماعي،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حفزات ومعوقات التفاع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واضيع التفاعل، آثار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ا إلى ذلك من المواضيع التي تركز 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عضاء الشبكات بوصفهم كائنات اجتماعية فاع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استمرارية وأهمية التفاعل وجها لوج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رغم من انتشار وسائل التواصل الاجتماعي وتوسع العالم الافتراضي كل لحظ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ظل التفاعل وجها لوجه هو الأهم والأكثر تأثيرا علي الفرد والمجتم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ير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نتونى غدينز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"، أن الأبحاث وجدت أ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عظم الناس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مواقع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لون للتفاعل بشكل رئيسي مع الأصدقاء والناس الذين يعرفونه من الاتصالات وجها لوجه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وعلى الرغم من انتشار التكنولوجيات الجديدة، فمعظم الناس لا يزالون  يرغبون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التقاء وجها لوج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التخلص من النظرة السلبية </a:t>
            </a:r>
            <a:br>
              <a:rPr sz="4400"/>
            </a:b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نحو الإنترنت والمتفاعلين عب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الإنترنت سلاح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”ذو عدة حدود“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ليس حدّين فقط ويمك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ستخدامه سلبا وإيجاب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ذا يتوقف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لي الفاعلين وخصائصهم وخصائص مجتمعاته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وهذا ما يجب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ن يركز عليه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دلا عن الاستمرار في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صدار الأحكام القي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يجب التخل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 النظرة السلبية نحو الفاعل المتفاعل عبر الإنترنت والتي تعتبره ”كتلة“ تتأثر ولا تؤثر. فاعل  الإنترنت كما في التفاعلية الرمزية نشط، ناقد، يفاضل ويخت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خات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أسلفت في توضيح هدف هذه المحاضرة علي 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دراسين والباحثين  في مجال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ي الموضوع الأساسي لعلم الاجتماع“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فاعل الاجتماعي“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طبيق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اهج ونظريات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د دراساتهم للانترنت ووسائل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والتخلص من النظرة السلبية نحو الانترنت والمتفاعل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عبره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هدف المحاض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دف هذه المحاضر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دعوة إلى إعادة توجيه الدراسا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تناول الإنترنت عامة ووسائل التواصل الاجتماعي خاص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نحو الموضوع الأساسي ل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لا وهو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”التفاعل الاجتماعي“.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قد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لوحظ أن الكثير من  الأبحاث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دراسات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جال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ناولت الإنترنت ووسائل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غفل موضوع علم الاجتماع الأساس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فاعل الاجت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“ وتركز علي مواضيع من اختصاص علوم أخر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كالإعل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ث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أولا/مفاهيم أساس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* التواصل الاجتماع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ني الطريقة التي يتم بها تبادل المعلومات أو الأفكار بين شخصين أو أكثر. ويتطلب التواصل وجود صلة اجتماعية بين شخصين على الأق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encyclopedia.the freedictionary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شبكات التواصل الاجت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عرّف شبكات التواصل الاجتماعي بأنها" خدمات على شبكة الإنترنت تسمح للفرد: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بناء ملفه الشخصي أو شبه العام في إطار نظام محدد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التواصل مع قائمة المستخدمين الآخرين الذين يشتركون في الاتصال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عرض قائمة اتصالاتهم وقائمة الاتصالات التي أنشأها آخرون والحركة داخلها في اطار النظام وطبيع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تسمية هذه الاتصالات قد تختلف من موقع إلى آخر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ah M. Boyd,Nicole B. Ellison(200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التفاعل الاجتم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علم الاجتماع يعتبر التفاعل الاجتماعي عملية ديناميكية ، وسلسلة متجددة من الافعال الاجتماعية بين أفراد (أو مجموعة) يعدّلون أفعالهم بناء على ردود فعل شركائهم في التفاعل. ويمكن التمييز بين عدد من أنواع  التفاعل الاجتماعي، مثل: التفاعل الاجتماعي العرضي، والمتكرر، والعادي، والمنتظم، والمنظم. هذا ويشكل التفاعل الاجتماعي أساس العلاقات الاجتماعية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encyclopedia.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eedic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علم اجتماع الانترن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شير مصطل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م اجتماع الإنترن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طبيق مبادئ النظرية والمنهج الاجتماع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نترن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عتباره مصدرًا للمعلومات والتواصل. اهتم علماء الاجتماع بدراسة الآثار الاجتماعية الناتجة ع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ستخدام وسائل التكنولوجي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؛ الشبكات الاجتماعية الحديثة والمجتمعات الافتراضية ووسائ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أصبحت منتشرة، فضلًا عن المسائل المتعلقة بـالجرائم الإلكترونية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s://ar.wikipedia.org/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872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ثاني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أعتقد أ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دراسة الانترن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امة وشبكات التواصل الاجتماعي خاص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من منظور علم الاجتماع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تم على مستوي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cro and Micro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Arial"/>
              </a:rPr>
              <a:t>Macro Le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ستوى الأكبر يكون الاهتمام بدراسة مجتمعات الشبكات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وصفها كاستيلس  " مجتمع الشبكات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ثل بنية اجتما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قوم على أساس الشبكات التي تعمل بواسطة  تكنولوجيا المعلومات والاتصالات الموجودة في الإلكترونيات الدقيقة، وشبكات الحاسوب الرقمية التي تنتج المعلومات وتوزعها على أساس المعرفة المتراكمة في عقد الشبك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ells, Manuel: 2005, 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 هناك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حاجة لتحليل وفهم تأثير  المجتمعات الافتراضية على مجتمعات العالم الحقيق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** ما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يميز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نا عن غيره من العلوم التي تدرس شبكات التواصل الاجتماع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هو تطبيق نظريات ومناهج علم الاجتما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دراسة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بنية شبكات التواصل وخصائص المشترك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ها وعلاقة ذلك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بأنماط التفاع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ي تحدث داخ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03:59:26Z</dcterms:created>
  <dc:creator>xyyz</dc:creator>
  <dc:description/>
  <dc:language>en-US</dc:language>
  <cp:lastModifiedBy>xyz</cp:lastModifiedBy>
  <dcterms:modified xsi:type="dcterms:W3CDTF">2016-04-18T07:49:40Z</dcterms:modified>
  <cp:revision>10</cp:revision>
  <dc:subject/>
  <dc:title>علم الاجتماع بين التواصل الاجتماعي والتفاعل الاجتماعي د. عمر عبد الجبار</dc:title>
</cp:coreProperties>
</file>