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9BF-506E-400A-8C47-DF240B4F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325-7745-42DD-AC1B-D9A72121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83A-1F4B-4ED4-8216-9B723BF4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8A4-6427-493D-A0DE-67D39642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2D8A-B647-4BD5-83DE-0F163354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C6BA-FCAD-454E-8851-597AFBC6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4753-A009-433A-8899-81109D8D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7997-DE31-4CED-87A9-455420D5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40A9-885E-4250-BE78-DEAB034A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AB19-6D43-4755-AC3D-DD0A1BA9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7EEA-5670-49A9-BD2B-8E111EBC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6DE-854B-4A7A-AA1B-F8B54139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70A5-5490-4FED-9384-B8BCAB6C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CB4F-E4B9-4554-862C-9024F550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67C2-C170-45CB-BBBD-15E9C219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BCFA-3609-4807-9030-3EA0FE9F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3830-A43B-400E-B667-EF4E4840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451-68CD-4BA5-93EB-08AEF973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6F4-8DA9-4E45-AB52-EB1E33B6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96E-1200-4946-90E4-7DE76937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BED-AD00-4940-98A5-59E93D73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7BB-4DE6-48F0-99F0-AEEAB432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106-1B3D-4C89-9183-1F950727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C30-5A5E-4A1E-971A-9833941E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EDEC-434F-4C60-A61F-ED96C7171E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87F0-6E4E-490E-ABEF-B2CA35300E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10199"/>
                </a:solidFill>
                <a:latin typeface="Arial"/>
              </a:rPr>
              <a:t>علم الأنسجة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199"/>
                </a:solidFill>
                <a:latin typeface="Arial"/>
              </a:rPr>
              <a:t>النسيج العضلي و النسيج العصب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cc0066"/>
                </a:solidFill>
                <a:latin typeface="Arial"/>
              </a:rPr>
              <a:t>. العضلات القلبية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Cardiac Musc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وجد هذه العضلات </a:t>
            </a:r>
            <a:r>
              <a:rPr b="0" lang="ar-SA" sz="3200" spc="-1" strike="noStrike">
                <a:solidFill>
                  <a:srgbClr val="cc0066"/>
                </a:solidFill>
                <a:latin typeface="Arial"/>
              </a:rPr>
              <a:t>في القلب فقط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تتميز بإنقباضاتها المنتظمة التي تحدث دقات القل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ظهر هذه الألياف في القطاع الطولي متفرعة ومتصلة بعضها ببعض لتكون تركيباً شبكياً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تركب الألياف من مدمج خلوي ، والأنوية في هذه الألياف تقع في وسط الليفة ، كما تبدو مخططة مستعرضة داكنة هي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قراص البينية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ntercalated disc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تي تمثل مكان إتصال كل ليفة بالليفة المجاورة له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6002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رابعاً : الأنسجة العصبية  </a:t>
            </a:r>
            <a:br>
              <a:rPr sz="3200"/>
            </a:b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굴림"/>
              </a:rPr>
              <a:t>NERVOUS TISSUE</a:t>
            </a:r>
            <a:br>
              <a:rPr sz="40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تركب هذه الأنسجة من خـلايا تخصصت في إستقبال المؤثرات الخارجية والداخلي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 نقل هذه المؤثرات بين أجزاء الجسم المختلفة 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لذا فهي تعد مسئولة عن تنظيم الأنشطة المختلفة لأعضاء الجسم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نشأ الأنسجة العصبية من </a:t>
            </a:r>
            <a:r>
              <a:rPr b="0" lang="ar-SA" sz="3200" spc="-1" strike="noStrike">
                <a:solidFill>
                  <a:srgbClr val="669900"/>
                </a:solidFill>
                <a:latin typeface="Arial"/>
              </a:rPr>
              <a:t>طبقة الإكتودر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66"/>
                </a:solidFill>
                <a:latin typeface="Arial"/>
              </a:rPr>
              <a:t>تتميز خلايا الأنسجة العصبية إلى نوعين</a:t>
            </a:r>
            <a:r>
              <a:rPr b="1" lang="ar-SA" sz="4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cc00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خلايا عصبية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كتملة التكوين لا تتكاثر بعد ذلك و لاتحتوي على أجسام مركز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خلايا الغراء العصبي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neurogli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تي تربط الخلايا العصبية بعضها ببعض وتحميها وتمدها بالغذاء والأيونات اللازمة لاداء وظيفته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60093"/>
                </a:solidFill>
                <a:latin typeface="Arial"/>
              </a:rPr>
              <a:t>بنيان الخلية العصبية</a:t>
            </a:r>
            <a:r>
              <a:rPr b="1" lang="ar-SA" sz="4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d60093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تكو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خلية العصبية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nerve cell or neur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جزأين رئيسيين هما جسم </a:t>
            </a:r>
            <a:r>
              <a:rPr b="0" lang="ar-SA" sz="3200" spc="-1" strike="noStrike">
                <a:solidFill>
                  <a:srgbClr val="d60093"/>
                </a:solidFill>
                <a:latin typeface="Arial"/>
              </a:rPr>
              <a:t>الخلية العصب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عدد من الزوائد السيتوبلازمة التي تتفرع منه ، وتشمل هذه الزوائد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عدد من الزوائد الصغيرة المتفرعة ، والتي 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زوائد الشجيرية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ndrit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هي التي تستقبل المؤثرات وتنقل السيالات العصبية إلى جسم الخلية العصب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تكملة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زائدة واحدة طويلة 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محور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  <a:ea typeface="굴림"/>
              </a:rPr>
              <a:t>axon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متد من جسم الخلية العصبية وتنتهي بعدد من التفرعات الصغيرة التي 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تفرعات الإنتهائ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굴림"/>
              </a:rPr>
              <a:t>terminal arborization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ينقل المحور السيالات العصبية من جسم الخلية العصبية إلى خلية أخرى أو إلى خلية أو نسيج لأداء وظيفة محددة . وتتجمع محاور الخلايا العصبية مع بعضها البعض لتكون حزماً تسمى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عصاب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ner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6699"/>
                </a:solidFill>
                <a:latin typeface="Arial"/>
              </a:rPr>
              <a:t>ثالثاً : الأنسجة العضلية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Arial"/>
                <a:ea typeface="굴림"/>
              </a:rPr>
              <a:t>THE MUSCULAR TISSUES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  <a:ea typeface="굴림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كونَ هذه الأنسجة عضلات الجسم وهي تتركب من وحدات بسيط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مى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خلايا أو الألياف التي تمتاز بقدرتها على الإنقباض والإرتخاء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ختلف الخلايا العضلية عن بقية خلايا الجسم في أن معظم السيتوبلازمة فيها متحررة إلى خيوط متقبضة ، و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لييفات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ي تجري موازية للمحور الطولي لليف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ا بقية السيتوبلازمة ف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ساركوبلاز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توجد ثلاثة أنواع من الأنسجة العضلية هي: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غير المخطط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SA" sz="3200" spc="-1" strike="noStrike">
                <a:solidFill>
                  <a:srgbClr val="ffccff"/>
                </a:solidFill>
                <a:latin typeface="Arial"/>
              </a:rPr>
              <a:t>المخطط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ff99"/>
                </a:solidFill>
                <a:latin typeface="Arial"/>
              </a:rPr>
              <a:t>القلب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60093"/>
                </a:solidFill>
                <a:latin typeface="Arial"/>
              </a:rPr>
              <a:t>الأعصاب </a:t>
            </a: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nerv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وجد أجسام الخلايا العصبية في الجهاز العصبي المركزي في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ادة السنجابية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grey matt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ي المخ والنخاع الشوكي ، كما توجد في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عقد العصبية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rve gangli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تخرج الأعصاب من هذه الأعضاء لتمتد إلى أنسجة وأعضاء الجسم المختلف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10199"/>
                </a:solidFill>
                <a:latin typeface="Arial"/>
              </a:rPr>
              <a:t>شكراً لحسن الإستماع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199"/>
                </a:solidFill>
                <a:latin typeface="Arial"/>
              </a:rPr>
              <a:t>هل هناك أي سؤال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10199"/>
                </a:solidFill>
                <a:latin typeface="Arial"/>
              </a:rPr>
              <a:t>1 . </a:t>
            </a:r>
            <a:r>
              <a:rPr b="1" lang="ar-SA" sz="4000" spc="-1" strike="noStrike">
                <a:solidFill>
                  <a:srgbClr val="010199"/>
                </a:solidFill>
                <a:latin typeface="Arial"/>
              </a:rPr>
              <a:t>العضلات غير المخططة أو المساء</a:t>
            </a:r>
            <a:r>
              <a:rPr b="1" lang="ar-SA" sz="40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10199"/>
                </a:solidFill>
                <a:latin typeface="Arial"/>
              </a:rPr>
              <a:t>Unstriated or Smooth Musc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العضلات غير الإرادية الموجودة في أجزاء الجسم التي لا تخضع في حركتها لإرادة الحيوان ، </a:t>
            </a:r>
            <a:r>
              <a:rPr b="0" lang="ar-SA" sz="3200" spc="-1" strike="noStrike">
                <a:solidFill>
                  <a:srgbClr val="ffccff"/>
                </a:solidFill>
                <a:latin typeface="Arial"/>
              </a:rPr>
              <a:t>كالقناة الهضم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ffcc"/>
                </a:solidFill>
                <a:latin typeface="Arial"/>
              </a:rPr>
              <a:t>والأوعية الدمو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والجهاز التناسلي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66ff"/>
                </a:solidFill>
                <a:latin typeface="Arial"/>
              </a:rPr>
              <a:t>والجهاز التنفسي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ليفة العضلية غير المخططة رفيعة ممدوة و مدببة الطرفين ، وتحتوي بداخلها على عدد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ليفات العضل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كمية قليلة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ساركوبلازم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نوا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بيضية في الوسط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10199"/>
                </a:solidFill>
                <a:latin typeface="Arial"/>
              </a:rPr>
              <a:t>أماكن تواجد العضلة الملسا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قد تكون الألياف غير المخططة منفردة كما في الجلد ، أو توجد موزعة بشكل شبكي كما في الأعضاء التنفس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في أعضاء أخرى </a:t>
            </a:r>
            <a:r>
              <a:rPr b="0" lang="ar-SA" sz="3200" spc="-1" strike="noStrike">
                <a:solidFill>
                  <a:srgbClr val="ff66ff"/>
                </a:solidFill>
                <a:latin typeface="Arial"/>
              </a:rPr>
              <a:t>كالقناة الهضم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كونَ هذه الألياف موازية للمحور الطولي للقناة الهضمية ، وطبقة دائرية للداخل تمتد أليافها موازية لمحيط لمحيط القناة الهضم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4000" cy="67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66"/>
                </a:solidFill>
                <a:latin typeface="Arial"/>
              </a:rPr>
              <a:t>العضلات المخططة أو الهيكلية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  <a:ea typeface="굴림"/>
              </a:rPr>
              <a:t>Striated or Skeletal Muscles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  <a:ea typeface="굴림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العضلات التي ترتبط بالهيكل العظمي ، وهي عضلات إرادية ، فهي المسئولة مثلا عن حركة الأطراف والرأس والفكوك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ي تكونَ الجزء الأكبر مما يسمى بلحم الحيوا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ليفة العضلية الإرادية أسطوانية الشكل ، ويغلف كل ليفة غشاء رقيق ي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صفيحة اللحمية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굴림"/>
              </a:rPr>
              <a:t>sarcolemm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يوجد بداخلها عدد كبير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نوي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nucle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حافيَة الموضع كما في حالة الثدييات ، أو منتشرة بغير نظام كما في البرمائيات ، ولذلك تعتبر الليف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مدمجاً خلوياً</a:t>
            </a:r>
            <a:r>
              <a:rPr b="1" lang="en-US" sz="3200" spc="-1" strike="noStrike">
                <a:solidFill>
                  <a:srgbClr val="cccc00"/>
                </a:solidFill>
                <a:latin typeface="Arial"/>
                <a:ea typeface="굴림"/>
              </a:rPr>
              <a:t>syncytin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66"/>
                </a:solidFill>
                <a:latin typeface="Arial"/>
              </a:rPr>
              <a:t>العضلات المخطط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حتوي الليفة العضلية المخططة على العديد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ليفات العضلية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myofibril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على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أشرطة معتمة وأشرطة مضيئة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dark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ght band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بالتبادل ، ولذلك تبدو مخطط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قد أظهر الميكروسكوب الإلكتروني أن الليفة العضلية تتركب من خيوط بروتينية سميكة من مادة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ايوسين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myosin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أخرى رفيعة من مادة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كتين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actin</a:t>
            </a:r>
            <a:r>
              <a:rPr b="0" lang="ar-SA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 أن هذه الخيوط مرتبة بنظام خا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رتبط الألياف العضلية المخططة بعضها  ببعض عادة بنسيج ضام لتكون حزماً ، و ترتبـط هذه الحزم بدورها بعضها ببعض بنسيج ضام لتكون عضلات الجسم المعروفة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6:09:04Z</dcterms:created>
  <dc:creator> Dr.Maha Daghestani</dc:creator>
  <dc:description/>
  <dc:language>en-US</dc:language>
  <cp:lastModifiedBy> Dr.Maha Daghestani</cp:lastModifiedBy>
  <dcterms:modified xsi:type="dcterms:W3CDTF">2007-03-04T18:03:48Z</dcterms:modified>
  <cp:revision>16</cp:revision>
  <dc:subject/>
  <dc:title>علم الأنسجة</dc:title>
</cp:coreProperties>
</file>