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F56-1F20-463E-BCD6-FD591D43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DDB-E605-4515-A340-818BAF2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427-8DA3-48B2-A8D1-B522CFA1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722-CA59-445C-A11F-E9C3A377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791-92AF-4029-A805-5C21022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D05-FB01-4D99-9155-7F87409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D5D6-4912-4039-AF35-06FAA6AF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0B4F-308A-414E-AB0F-EAAE7C8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843-FB5A-4F5E-B979-C9318B0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01D-C2A1-424B-BC30-BE1F1C8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5B2-2DB7-4B32-9394-3B428A97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9E7-FC45-4F57-A8BC-4FD11EED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6936-26A4-47D6-BA06-CF2493B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EC78-1B82-4030-9905-0BEF5BD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EC9-7DB8-4208-90D9-EE8F28D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8B63-A33B-486A-BE9D-6FEE0F5C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77B-5C50-4984-82DB-A36A0B4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086-A822-483D-814E-D17CCFF5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9E6-D833-4915-A1F2-F0FA0E22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4A4-6DDF-4D61-AF19-46A75D4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C6F-64A6-482A-9DE9-795B2830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771-FE7F-4DAF-AAFE-B062A33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D86-85B2-42D2-9DF2-1A12AFD4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58E-E3C7-4947-BD59-4426BDC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96E-5FDB-4327-AF85-65818C462E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C55-9F10-48D6-B8C8-C925395A6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10199"/>
                </a:solidFill>
                <a:latin typeface="Arial"/>
              </a:rPr>
              <a:t>علم الأنسجة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النسيج العضلي و النسيج العصب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. العضلات القلبية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diac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وجد هذه العضلات </a:t>
            </a:r>
            <a:r>
              <a:rPr b="0" lang="ar-SA" sz="3200" spc="-1" strike="noStrike">
                <a:solidFill>
                  <a:srgbClr val="cc0066"/>
                </a:solidFill>
                <a:latin typeface="Arial"/>
              </a:rPr>
              <a:t>في القلب فق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تتميز بإنقباضاتها المنتظمة التي تحدث دقات القل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ظهر هذه الألياف في القطاع الطولي متفرعة ومتصلة بعضها ببعض لتكون تركيباً شبكيا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تركب الألياف من مدمج خلوي ، والأنوية في هذه الألياف تقع في وسط الليفة ، كما تبدو مخططة مستعرضة داكنة ه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قراص البينية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ntercalated dis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مثل مكان إتصال كل ليفة بالليفة المجاورة ل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رابعاً : الأنسجة العصبية  </a:t>
            </a:r>
            <a:br>
              <a:rPr sz="3200"/>
            </a:b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굴림"/>
              </a:rPr>
              <a:t>NERVOUS TISSUE</a:t>
            </a:r>
            <a:br>
              <a:rPr sz="40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ركب هذه الأنسجة من خـلايا تخصصت في إستقبال المؤثرات الخارجية والداخلي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نقل هذه المؤثرات بين أجزاء الجسم المختلفة 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ذا فهي تعد مسئولة عن تنظيم الأنشطة المختلفة لأعضاء الجس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نشأ الأنسجة العصبية من </a:t>
            </a:r>
            <a:r>
              <a:rPr b="0" lang="ar-SA" sz="3200" spc="-1" strike="noStrike">
                <a:solidFill>
                  <a:srgbClr val="669900"/>
                </a:solidFill>
                <a:latin typeface="Arial"/>
              </a:rPr>
              <a:t>طبقة الإكتودر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تتميز خلايا الأنسجة العصبية إلى نوعين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خلايا عصب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كتملة التكوين لا تتكاثر بعد ذلك و لاتحتوي على أجسام مركز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خلايا الغراء العصبي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urogl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ربط الخلايا العصبية بعضها ببعض وتحميها وتمدها بالغذاء والأيونات اللازمة لاداء وظيفت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بنيان الخلية العصبية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ك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خلية العصبية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erve cell or neur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جزأين رئيسيين هما جسم 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الخلية العص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عدد من الزوائد السيتوبلازمة التي تتفرع منه ، وتشمل هذه الزوائ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دد من الزوائد الصغيرة المتفرعة ، و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زوائد الشجيري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drit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هي التي تستقبل المؤثرات وتنقل السيالات العصبية إلى جسم الخلية العصب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تكمل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زائدة واحدة طويلة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محور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굴림"/>
              </a:rPr>
              <a:t>axon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تد من جسم الخلية العصبية وتنتهي بعدد من التفرعات الصغيرة 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تفرعات الإنتهائ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굴림"/>
              </a:rPr>
              <a:t>terminal arborization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نقل المحور السيالات العصبية من جسم الخلية العصبية إلى خلية أخرى أو إلى خلية أو نسيج لأداء وظيفة محددة . وتتجمع محاور الخلايا العصبية مع بعضها البعض لتكون حزماً تسم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عصاب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6699"/>
                </a:solidFill>
                <a:latin typeface="Arial"/>
              </a:rPr>
              <a:t>ثالثاً : الأنسجة العضلية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  <a:ea typeface="굴림"/>
              </a:rPr>
              <a:t>THE MUSCULAR TISSU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ونَ هذه الأنسجة عضلات الجسم وهي تتركب من وحدات بسيط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مى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خلايا أو الألياف التي تمتاز بقدرتها على الإنقباض والإرتخاء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ختلف الخلايا العضلية عن بقية خلايا الجسم في أن معظم السيتوبلازمة فيها متحررة إلى خيوط متقبضة ، و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لييف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ي تجري موازية للمحور الطولي لليف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بقية السيتوبلازمة ف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ساركوبلاز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وجد ثلاثة أنواع من الأنسجة العضلية هي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غير 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SA" sz="3200" spc="-1" strike="noStrike">
                <a:solidFill>
                  <a:srgbClr val="ffccff"/>
                </a:solidFill>
                <a:latin typeface="Arial"/>
              </a:rPr>
              <a:t>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ff99"/>
                </a:solidFill>
                <a:latin typeface="Arial"/>
              </a:rPr>
              <a:t>القل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الأعصاب 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ner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د أجسام الخلايا العصبية في الجهاز العصبي المركزي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دة السنجابية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grey mat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مخ والنخاع الشوكي ، كما توجد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عقد العصبية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ve gangli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تخرج الأعصاب من هذه الأعضاء لتمتد إلى أنسجة وأعضاء الجسم المخت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10199"/>
                </a:solidFill>
                <a:latin typeface="Arial"/>
              </a:rPr>
              <a:t>شكراً لحسن الإستماع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هل هناك أي سؤال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1 . 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العضلات غير المخططة أو المساء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Unstriated or Smooth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غير الإرادية الموجودة في أجزاء الجسم التي لا تخضع في حركتها لإرادة الحيوان ، </a:t>
            </a:r>
            <a:r>
              <a:rPr b="0" lang="ar-SA" sz="3200" spc="-1" strike="noStrike">
                <a:solidFill>
                  <a:srgbClr val="ffcc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ffcc"/>
                </a:solidFill>
                <a:latin typeface="Arial"/>
              </a:rPr>
              <a:t>والأوعية الدمو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والجهاز التناسل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والجهاز التنفس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غير المخططة رفيعة ممدوة و مدببة الطرفين ، وتحتوي بداخلها على عد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كمية قليلة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ساركوبلاز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نوا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ضية في الوسط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10199"/>
                </a:solidFill>
                <a:latin typeface="Arial"/>
              </a:rPr>
              <a:t>أماكن تواجد العضلة الملسا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د تكون الألياف غير المخططة منفردة كما في الجلد ، أو توجد موزعة بشكل شبكي كما في الأعضاء التنف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في أعضاء أخرى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كونَ هذه الألياف موازية للمحور الطولي للقناة الهضمية ، وطبقة دائرية للداخل تمتد أليافها موازية لمحيط لمحيط القناة الهضم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Arial"/>
              </a:rPr>
              <a:t>العضلات المخططة أو الهيكلية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굴림"/>
              </a:rPr>
              <a:t>Striated or Skeletal Muscl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التي ترتبط بالهيكل العظمي ، وهي عضلات إرادية ، فهي المسئولة مثلا عن حركة الأطراف والرأس والفكوك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تكونَ الجزء الأكبر مما يسمى بلحم الحي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الإرادية أسطوانية الشكل ، ويغلف كل ليفة غشاء رقيق ي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صفيحة اللحمية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굴림"/>
              </a:rPr>
              <a:t>sarcolemm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يوجد بداخلها عدد كبير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نوي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ucle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افيَة الموضع كما في حالة الثدييات ، أو منتشرة بغير نظام كما في البرمائيات ، ولذلك تعتبر الليف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دمجاً خلوياً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syncytin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العضلات المخطط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وي الليفة العضلية المخططة على العدي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yofibril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عل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شرطة معتمة وأشرطة مضيئة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ar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ght ba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التبادل ، ولذلك تبدو مخطط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أظهر الميكروسكوب الإلكتروني أن الليفة العضلية تتركب من خيوط بروتينية سميك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يوسين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yosin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خرى رفيع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كتين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ctin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أن هذه الخيوط مرتبة بنظام خا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رتبط الألياف العضلية المخططة بعضها  ببعض عادة بنسيج ضام لتكون حزماً ، و ترتبـط هذه الحزم بدورها بعضها ببعض بنسيج ضام لتكون عضلات الجسم المعروف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6:09:04Z</dcterms:created>
  <dc:creator> Dr.Maha Daghestani</dc:creator>
  <dc:description/>
  <dc:language>en-US</dc:language>
  <cp:lastModifiedBy> Dr.Maha Daghestani</cp:lastModifiedBy>
  <dcterms:modified xsi:type="dcterms:W3CDTF">2007-11-30T17:40:53Z</dcterms:modified>
  <cp:revision>16</cp:revision>
  <dc:subject/>
  <dc:title>علم الأنسجة</dc:title>
</cp:coreProperties>
</file>