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3457-939E-4104-86F1-1567F39A0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B80D-010A-4AD1-9D30-8931BB3E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907A-0372-4416-A67E-79717AEF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2D5B-B010-48BA-92AE-547549761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99E0-621D-4F26-A64D-B6B80288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C622-7326-4F91-AA8E-7C5B80D9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C51C-F9EC-422A-9872-7D99FECB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690E-3A10-4C46-9A99-586C035D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962A-34CC-45B0-B000-CCC868C0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0BEF-616F-4C3F-AFEF-07744BD0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0A59-2A6A-4C83-8386-4DFF89EB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93CA-1774-4C4C-B531-808C3621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8776-7F9D-4BEF-9FAE-918BF324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8564-D916-4F4F-AA3A-48375AB3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D740-FC8C-46F0-9387-8F9E060E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4D9B-7438-4316-8C46-908D516F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52A5-F7AA-49ED-93EE-C3E00EA06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7CAF-5116-40CF-A1E9-F7D39D47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CB32-87BE-482C-8125-548FDC0F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546C-733B-41DE-BD52-8FE4C10D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8C2D-AE66-44E3-B12D-96AC63FE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12C4-4ADF-46E1-AE28-68D6C46B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4CB8-D1B8-4BE9-A5F0-DAA9E5D2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A9CE-D857-4152-8817-8D9E15E0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F89B-AB1C-4873-8BFC-7A26B715CB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54FA-ACFB-4D0C-9B96-FB3A71D222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10199"/>
                </a:solidFill>
                <a:latin typeface="Arial"/>
              </a:rPr>
              <a:t>علم الأنسجة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10199"/>
                </a:solidFill>
                <a:latin typeface="Arial"/>
              </a:rPr>
              <a:t>النسيج العضلي و النسيج العصب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124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3124080"/>
            <a:ext cx="9144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0066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cc0066"/>
                </a:solidFill>
                <a:latin typeface="Arial"/>
              </a:rPr>
              <a:t>. العضلات القلبية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Cardiac Muscl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توجد هذه العضلات </a:t>
            </a:r>
            <a:r>
              <a:rPr b="0" lang="ar-SA" sz="3200" spc="-1" strike="noStrike">
                <a:solidFill>
                  <a:srgbClr val="cc0066"/>
                </a:solidFill>
                <a:latin typeface="Arial"/>
              </a:rPr>
              <a:t>في القلب فقط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، وتتميز بإنقباضاتها المنتظمة التي تحدث دقات القل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تظهر هذه الألياف في القطاع الطولي متفرعة ومتصلة بعضها ببعض لتكون تركيباً شبكياً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تتركب الألياف من مدمج خلوي ، والأنوية في هذه الألياف تقع في وسط الليفة ، كما تبدو مخططة مستعرضة داكنة هي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أقراص البينية </a:t>
            </a: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intercalated disc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تي تمثل مكان إتصال كل ليفة بالليفة المجاورة لها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60020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66"/>
                </a:solidFill>
                <a:latin typeface="Arial"/>
              </a:rPr>
              <a:t>رابعاً : الأنسجة العصبية  </a:t>
            </a:r>
            <a:br>
              <a:rPr sz="3200"/>
            </a:br>
            <a:r>
              <a:rPr b="1" lang="ar-SA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굴림"/>
              </a:rPr>
              <a:t>NERVOUS TISSUE</a:t>
            </a:r>
            <a:br>
              <a:rPr sz="4000"/>
            </a:b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تركب هذه الأنسجة من خـلايا تخصصت في إستقبال المؤثرات الخارجية والداخلية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 نقل هذه المؤثرات بين أجزاء الجسم المختلفة 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لذا فهي تعد مسئولة عن تنظيم الأنشطة المختلفة لأعضاء الجسم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تنشأ الأنسجة العصبية من </a:t>
            </a:r>
            <a:r>
              <a:rPr b="0" lang="ar-SA" sz="3200" spc="-1" strike="noStrike">
                <a:solidFill>
                  <a:srgbClr val="669900"/>
                </a:solidFill>
                <a:latin typeface="Arial"/>
              </a:rPr>
              <a:t>طبقة الإكتودرم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0066"/>
                </a:solidFill>
                <a:latin typeface="Arial"/>
              </a:rPr>
              <a:t>تتميز خلايا الأنسجة العصبية إلى نوعين</a:t>
            </a:r>
            <a:r>
              <a:rPr b="1" lang="ar-SA" sz="4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cc0066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خلايا عصبية 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neurons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كتملة التكوين لا تتكاثر بعد ذلك و لاتحتوي على أجسام مركزي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خلايا الغراء العصبي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neurogli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تي تربط الخلايا العصبية بعضها ببعض وتحميها وتمدها بالغذاء والأيونات اللازمة لاداء وظيفتها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d60093"/>
                </a:solidFill>
                <a:latin typeface="Arial"/>
              </a:rPr>
              <a:t>بنيان الخلية العصبية</a:t>
            </a:r>
            <a:r>
              <a:rPr b="1" lang="ar-SA" sz="4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d60093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تكون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خلية العصبية </a:t>
            </a: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nerve cell or neur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جزأين رئيسيين هما جسم </a:t>
            </a:r>
            <a:r>
              <a:rPr b="0" lang="ar-SA" sz="3200" spc="-1" strike="noStrike">
                <a:solidFill>
                  <a:srgbClr val="d60093"/>
                </a:solidFill>
                <a:latin typeface="Arial"/>
              </a:rPr>
              <a:t>الخلية العصبي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، وعدد من الزوائد السيتوبلازمة التي تتفرع منه ، وتشمل هذه الزوائد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عدد من الزوائد الصغيرة المتفرعة ، والتي تعرف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الزوائد الشجيرية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ndrite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، وهي التي تستقبل المؤثرات وتنقل السيالات العصبية إلى جسم الخلية العصبي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تكملة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زائدة واحدة طويلة تعرف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المحور 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  <a:ea typeface="굴림"/>
              </a:rPr>
              <a:t>axon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متد من جسم الخلية العصبية وتنتهي بعدد من التفرعات الصغيرة التي تعرف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التفرعات الإنتهائي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굴림"/>
              </a:rPr>
              <a:t>terminal arborization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ينقل المحور السيالات العصبية من جسم الخلية العصبية إلى خلية أخرى أو إلى خلية أو نسيج لأداء وظيفة محددة . وتتجمع محاور الخلايا العصبية مع بعضها البعض لتكون حزماً تسمى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أعصاب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nerv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6699"/>
                </a:solidFill>
                <a:latin typeface="Arial"/>
              </a:rPr>
              <a:t>ثالثاً : الأنسجة العضلية</a:t>
            </a:r>
            <a:br>
              <a:rPr sz="4000"/>
            </a:br>
            <a:r>
              <a:rPr b="1" lang="en-US" sz="4000" spc="-1" strike="noStrike">
                <a:solidFill>
                  <a:srgbClr val="666699"/>
                </a:solidFill>
                <a:latin typeface="Arial"/>
                <a:ea typeface="굴림"/>
              </a:rPr>
              <a:t>THE MUSCULAR TISSUES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  <a:ea typeface="굴림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كونَ هذه الأنسجة عضلات الجسم وهي تتركب من وحدات بسيط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سمى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الخلايا أو الألياف التي تمتاز بقدرتها على الإنقباض والإرتخاء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ختلف الخلايا العضلية عن بقية خلايا الجسم في أن معظم السيتوبلازمة فيها متحررة إلى خيوط متقبضة ، وتعرف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اللييفات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تي تجري موازية للمحور الطولي لليف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أما بقية السيتوبلازمة فتعرف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الساركوبلازم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توجد ثلاثة أنواع من الأنسجة العضلية هي: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3200" spc="-1" strike="noStrike">
                <a:solidFill>
                  <a:srgbClr val="ffff99"/>
                </a:solidFill>
                <a:latin typeface="Arial"/>
              </a:rPr>
              <a:t>غير المخططة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2-</a:t>
            </a:r>
            <a:r>
              <a:rPr b="1" lang="ar-SA" sz="3200" spc="-1" strike="noStrike">
                <a:solidFill>
                  <a:srgbClr val="ffccff"/>
                </a:solidFill>
                <a:latin typeface="Arial"/>
              </a:rPr>
              <a:t>المخططة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و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ar-SA" sz="3200" spc="-1" strike="noStrike">
                <a:solidFill>
                  <a:srgbClr val="00ff99"/>
                </a:solidFill>
                <a:latin typeface="Arial"/>
              </a:rPr>
              <a:t>القلبي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d60093"/>
                </a:solidFill>
                <a:latin typeface="Arial"/>
              </a:rPr>
              <a:t>الأعصاب </a:t>
            </a: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nerv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وجد أجسام الخلايا العصبية في الجهاز العصبي المركزي في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مادة السنجابية 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grey matt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ي المخ والنخاع الشوكي ، كما توجد في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عقد العصبية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erve ganglia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تخرج الأعصاب من هذه الأعضاء لتمتد إلى أنسجة وأعضاء الجسم المختلف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10199"/>
                </a:solidFill>
                <a:latin typeface="Arial"/>
              </a:rPr>
              <a:t>شكراً لحسن الإستماع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10199"/>
                </a:solidFill>
                <a:latin typeface="Arial"/>
              </a:rPr>
              <a:t>هل هناك أي سؤال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10199"/>
                </a:solidFill>
                <a:latin typeface="Arial"/>
              </a:rPr>
              <a:t>1 . </a:t>
            </a:r>
            <a:r>
              <a:rPr b="1" lang="ar-SA" sz="4000" spc="-1" strike="noStrike">
                <a:solidFill>
                  <a:srgbClr val="010199"/>
                </a:solidFill>
                <a:latin typeface="Arial"/>
              </a:rPr>
              <a:t>العضلات غير المخططة أو المساء</a:t>
            </a:r>
            <a:r>
              <a:rPr b="1" lang="ar-SA" sz="40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10199"/>
                </a:solidFill>
                <a:latin typeface="Arial"/>
              </a:rPr>
              <a:t>Unstriated or Smooth Muscl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هي العضلات غير الإرادية الموجودة في أجزاء الجسم التي لا تخضع في حركتها لإرادة الحيوان ، </a:t>
            </a:r>
            <a:r>
              <a:rPr b="0" lang="ar-SA" sz="3200" spc="-1" strike="noStrike">
                <a:solidFill>
                  <a:srgbClr val="ffccff"/>
                </a:solidFill>
                <a:latin typeface="Arial"/>
              </a:rPr>
              <a:t>كالقناة الهضمي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ffcc"/>
                </a:solidFill>
                <a:latin typeface="Arial"/>
              </a:rPr>
              <a:t>والأوعية الدموي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ccffff"/>
                </a:solidFill>
                <a:latin typeface="Arial"/>
              </a:rPr>
              <a:t>والجهاز التناسلي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66ff"/>
                </a:solidFill>
                <a:latin typeface="Arial"/>
              </a:rPr>
              <a:t>والجهاز التنفسي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ليفة العضلية غير المخططة رفيعة ممدوة و مدببة الطرفين ، وتحتوي بداخلها على عدد من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ليفات العضلي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كمية قليلة من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الساركوبلازم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نوا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بيضية في الوسط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10199"/>
                </a:solidFill>
                <a:latin typeface="Arial"/>
              </a:rPr>
              <a:t>أماكن تواجد العضلة الملساء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قد تكون الألياف غير المخططة منفردة كما في الجلد ، أو توجد موزعة بشكل شبكي كما في الأعضاء التنفسي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في أعضاء أخرى </a:t>
            </a:r>
            <a:r>
              <a:rPr b="0" lang="ar-SA" sz="3200" spc="-1" strike="noStrike">
                <a:solidFill>
                  <a:srgbClr val="ff66ff"/>
                </a:solidFill>
                <a:latin typeface="Arial"/>
              </a:rPr>
              <a:t>كالقناة الهضمي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تكونَ هذه الألياف موازية للمحور الطولي للقناة الهضمية ، وطبقة دائرية للداخل تمتد أليافها موازية لمحيط لمحيط القناة الهضمي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0" y="0"/>
          <a:ext cx="9144000" cy="679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7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66"/>
                </a:solidFill>
                <a:latin typeface="Arial"/>
              </a:rPr>
              <a:t>العضلات المخططة أو الهيكلية</a:t>
            </a:r>
            <a:br>
              <a:rPr sz="3600"/>
            </a:br>
            <a:r>
              <a:rPr b="1" lang="en-US" sz="3600" spc="-1" strike="noStrike">
                <a:solidFill>
                  <a:srgbClr val="cc0066"/>
                </a:solidFill>
                <a:latin typeface="Arial"/>
                <a:ea typeface="굴림"/>
              </a:rPr>
              <a:t>Striated or Skeletal Muscles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  <a:ea typeface="굴림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هي العضلات التي ترتبط بالهيكل العظمي ، وهي عضلات إرادية ، فهي المسئولة مثلا عن حركة الأطراف والرأس والفكوك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هي تكونَ الجزء الأكبر مما يسمى بلحم الحيوا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ليفة العضلية الإرادية أسطوانية الشكل ، ويغلف كل ليفة غشاء رقيق يعرف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الصفيحة اللحمية 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  <a:ea typeface="굴림"/>
              </a:rPr>
              <a:t>sarcolemma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، ويوجد بداخلها عدد كبير من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أنوية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nuclei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حافيَة الموضع كما في حالة الثدييات ، أو منتشرة بغير نظام كما في البرمائيات ، ولذلك تعتبر الليفة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مدمجاً خلوياً</a:t>
            </a:r>
            <a:r>
              <a:rPr b="1" lang="en-US" sz="3200" spc="-1" strike="noStrike">
                <a:solidFill>
                  <a:srgbClr val="cccc00"/>
                </a:solidFill>
                <a:latin typeface="Arial"/>
                <a:ea typeface="굴림"/>
              </a:rPr>
              <a:t>syncytin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0066"/>
                </a:solidFill>
                <a:latin typeface="Arial"/>
              </a:rPr>
              <a:t>العضلات المخطط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حتوي الليفة العضلية المخططة على العديد من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ليفات العضلية 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myofibril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على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أشرطة معتمة وأشرطة مضيئة 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dark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ight band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بالتبادل ، ولذلك تبدو مخطط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قد أظهر الميكروسكوب الإلكتروني أن الليفة العضلية تتركب من خيوط بروتينية سميكة من مادة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مايوسين 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myosin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أخرى رفيعة من مادة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أكتين 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actin</a:t>
            </a:r>
            <a:r>
              <a:rPr b="0" lang="ar-SA" sz="32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 أن هذه الخيوط مرتبة بنظام خا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ترتبط الألياف العضلية المخططة بعضها  ببعض عادة بنسيج ضام لتكون حزماً ، و ترتبـط هذه الحزم بدورها بعضها ببعض بنسيج ضام لتكون عضلات الجسم المعروفة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3T16:09:04Z</dcterms:created>
  <dc:creator> Dr.Maha Daghestani</dc:creator>
  <dc:description/>
  <dc:language>en-US</dc:language>
  <cp:lastModifiedBy> Dr.Maha Daghestani</cp:lastModifiedBy>
  <dcterms:modified xsi:type="dcterms:W3CDTF">2007-11-30T17:40:53Z</dcterms:modified>
  <cp:revision>16</cp:revision>
  <dc:subject/>
  <dc:title>علم الأنسجة</dc:title>
</cp:coreProperties>
</file>