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2477-564F-4530-8226-62FE138210BD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C4BF-66BC-418A-B788-BDDDD66C605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AB3D-E135-48B4-B0EB-A9455C7981EA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03B2-B761-4DE9-B069-FB3053C80E7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E5D3-8035-4248-BB8F-D75E9E37C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28F-5F0A-43C6-B623-94D9A160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7523-BDB0-439E-B3DD-16E52A0A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5788-B0CF-427B-81C6-25ABE13F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A4A6-4E37-4FBF-A856-F04EEB38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8FE9-182F-438D-8FEA-D966F3B62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27A0-D930-4FBB-95F4-F1FCACD9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0673-5D4E-45AF-9F75-2696DE9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EB8C-80A3-4348-8098-B6338F9D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42468-CF0F-4481-B842-1ACD8CD4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FB9F-7AD8-4525-B06B-359E23F0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83D-222E-4507-8D9A-A082C9F6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E57B-455C-4CAF-8100-B75C791B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0E749-4FD0-4EED-AC64-C1F8C81A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1FB0-C0B1-4E8F-9A6C-4F7AD164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A056-A67C-4D9D-8217-B55FA5CAF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41D07-C57C-4195-A402-2B70B9B22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FB9D4-A6D8-4478-91ED-A7120709F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6C53D-8B12-43BC-8A72-B91AC4EA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AFBC3-E939-4AA3-8A30-38869197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74EC3-EBB7-424D-AECB-BBE901A2B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F4E34-2592-4D47-AEF5-D07CD937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67B1-9C70-4758-83DA-A756B6E7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F096E-CE24-4D71-AA2A-D1B67594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9C060-4213-4B8B-B9BF-DB9D490A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E2135-F24D-48F4-AC9D-03B273B3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6741-4065-4011-BE40-59FD4FFC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E2010-0D44-4674-9953-BBB00CD31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CCC6-B81E-429C-B72B-337E3512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5FB56-8B5C-46DF-AA7A-21F1E2FE8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4CB7E-D662-46CF-AA74-9C5CF6FB8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F6ECC-E5CE-4464-A41A-AEE4C0A1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542A9-2BD6-4679-9A02-8F081591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494-ED1F-4A00-B0BB-C9E902E9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2A6F2-1D2E-4DFD-93A5-0790E4FE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5F61D-6A93-4640-A1B9-081E1382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32257-FEE9-43E5-8C10-9C344793B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3813E-7023-4560-9357-7DCA6CB9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B81B-EC62-4421-836F-1DA7D901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F67EE-C781-405D-8E27-DAEBF99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C299A-AF6A-4702-86AD-9852ADA8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9936B-E3AF-4673-98E3-102F853CC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E0AC2-9494-472C-A03D-7854AC15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6729-786C-49E1-8242-FB6FC441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96E9-ACF1-4737-832D-F473D28B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881A-0860-4830-AFD9-5033CFFF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88F2-9B31-4F11-A241-5380CD9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B7E1-9A1E-423C-AE41-8B10257E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7A56B-754E-49DC-B1FD-C2D0C7E0A13F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0BDD-3AD3-4CA4-B2BD-91CFE8F90DE1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شكل حر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شكل حر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مجموعة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شكل حر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شكل حر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شكل حر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شكل حر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B69A4-D4B8-4247-8692-296C3A40C8E4}" type="slidenum">
              <a:rPr b="0" lang="ar-S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مستطيل ذو زاوية واحدة مخدوشة ودائرية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مثلث قائم الزاوية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شكل حر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شكل حر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 algn="r" rtl="1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r" rtl="1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 algn="r" rtl="1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 algn="r" rtl="1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 algn="r" rtl="1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8FBE-5FBF-46C1-AEC2-F13B20D4A7CF}" type="slidenum">
              <a:rPr b="0" lang="ar-S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85920" y="2130120"/>
            <a:ext cx="614376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04617b"/>
                </a:solidFill>
                <a:latin typeface="Calibri"/>
              </a:rPr>
              <a:t>بسم الله الرَّحمن الرَّحيم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المفعول فيه</a:t>
            </a:r>
            <a:br>
              <a:rPr sz="5000"/>
            </a:br>
            <a:r>
              <a:rPr b="1" lang="ar-SA" sz="5000" spc="-1" strike="noStrike">
                <a:solidFill>
                  <a:srgbClr val="04617b"/>
                </a:solidFill>
                <a:latin typeface="Calibri"/>
              </a:rPr>
              <a:t>ظرفا الزمان والمكا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24000" y="2636640"/>
            <a:ext cx="83628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r" rtl="1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هو الظرف، وهو: اسم يذكر لبيان زمان الفعل أو مكانه على تقدير معنى (في). نحو: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سافر ليلًا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Constantia"/>
              </a:rPr>
              <a:t>مشى ميلًا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r" rtl="1">
              <a:lnSpc>
                <a:spcPct val="15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28760" y="928800"/>
            <a:ext cx="8143920" cy="53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الظرف نوعان: ظرف زمان، وظرف مكان، وكلّ منهما إما </a:t>
            </a:r>
            <a:r>
              <a:rPr b="1" lang="ar-SA" sz="2400" spc="-1" strike="noStrike">
                <a:solidFill>
                  <a:srgbClr val="00b050"/>
                </a:solidFill>
                <a:latin typeface="Constantia"/>
              </a:rPr>
              <a:t>مبهم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أو </a:t>
            </a:r>
            <a:r>
              <a:rPr b="1" lang="ar-SA" sz="2400" spc="-1" strike="noStrike">
                <a:solidFill>
                  <a:srgbClr val="00b050"/>
                </a:solidFill>
                <a:latin typeface="Constantia"/>
              </a:rPr>
              <a:t>مختص</a:t>
            </a: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 (محدود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فالمبهم من ظروف الزمان: ما دلّ على قدر من الزمان غير معيّ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نحو: حين، وقت، برهة، لحظة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والمختص من ظروف الزمان: ما دلّ على وقت مقدّر معيّ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نحو: يوم، ساعة، شهر، سنة..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وكلاهما منصوب على الظرفية، نحو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صمتُ حينًا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14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onstantia"/>
              </a:rPr>
              <a:t>سافرتُ يومَ الاثنين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0120" indent="-240120" algn="r" rtl="1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691920"/>
            <a:ext cx="828036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وأما اسم المكان فلا يقبل النصب منه على الظرفية إلا 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99"/>
                </a:solidFill>
                <a:latin typeface="Constantia"/>
              </a:rPr>
              <a:t>1</a:t>
            </a:r>
            <a:r>
              <a:rPr b="1" lang="ar-SA" sz="2800" spc="-1" strike="noStrike">
                <a:solidFill>
                  <a:srgbClr val="000099"/>
                </a:solidFill>
                <a:latin typeface="Constantia"/>
              </a:rPr>
              <a:t>- المبهم، وهو ما دلّ على مكان غير معيّن البقعة. أو هو ما ليس له صورة أو حدود محصورة ويشمل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لجهات الست، نحو: (فوق، وتحت، ويمين، وشمال، وأمام، وخلف)، نحو: جلست فوقَ الدار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مقادير المساحة، نحو(غَلْوَة، ومِيل، وفَرْسَخ، وبريد)، نحو:  (وسرت غلوةً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onstantia"/>
              </a:rPr>
              <a:t>اسم المكان المشتق من الفعل، نحو: حللتُ محلَّ الرئيس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28960" indent="-2289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94920" y="691920"/>
            <a:ext cx="8280360" cy="56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 algn="r" rtl="1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b050"/>
                </a:solidFill>
                <a:latin typeface="Constantia"/>
              </a:rPr>
              <a:t>2</a:t>
            </a:r>
            <a:r>
              <a:rPr b="1" lang="ar-SA" sz="2600" spc="-1" strike="noStrike">
                <a:solidFill>
                  <a:srgbClr val="00b050"/>
                </a:solidFill>
                <a:latin typeface="Constantia"/>
              </a:rPr>
              <a:t>- المختص وهو: ما دلّ على مكان محدّد البقعة، وله صورة وحدود محدودة ولا ينصب ظرفًا. كدار، ومدرسة، مسجد.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0000"/>
                </a:solidFill>
                <a:latin typeface="Constantia"/>
              </a:rPr>
              <a:t>دخلت في البيت، وسكنت في الدار، وذهبت إلى المدرسة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 algn="r" rtl="1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11:50:04Z</dcterms:created>
  <dc:creator>أمل عثمان العطا محمد</dc:creator>
  <dc:description/>
  <dc:language>en-US</dc:language>
  <cp:lastModifiedBy>ksu</cp:lastModifiedBy>
  <dcterms:modified xsi:type="dcterms:W3CDTF">2016-11-29T07:20:28Z</dcterms:modified>
  <cp:revision>37</cp:revision>
  <dc:subject/>
  <dc:title>بسم الله الرَّحمن الرَّحيم</dc:title>
</cp:coreProperties>
</file>