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C64C-B325-4D30-AE1A-0CB73140232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FE67-BDB1-4D05-8154-E64505D0251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334B-3CF2-41D0-BB4C-E162CFFAFEE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4B56-6EDC-472F-85D3-4ADBFB513DE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EA2-A774-4824-B8E6-093E0BC7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22D-FB2C-47CE-9B58-C4DDD612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9FD-A9AF-4519-9338-DC97EB6F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F9F-764E-4998-B41A-ACE5117F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3E7A-009F-4AE7-B6CA-436C63A8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2F99-D6E6-4A3D-B9CA-92677C21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B028-E537-4CE1-9EB6-82A1C532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74A3-5F0B-4030-B7C5-3169A2CF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7A39-51B2-4276-BE79-6B64BCE6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AB14-AAA6-40E4-89AD-CFA470F3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8FC-493B-4D50-B266-368C5FA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288-6D63-49FB-815A-9DBE9EA4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ABDE-6050-413B-B7BC-376A2474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580B-CBA8-45FA-A274-1B6A684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D79A-30F0-4BCB-9261-67B5D159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726C-848F-4FC6-BF09-7D0C6015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DE14-5CD2-4190-9AE0-8CD8F6FC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B003-6631-4630-994E-1C8FB88C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83CD-CFCC-403D-A38B-CD0727A6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F2FB-14A1-4513-A4D0-C2E258BF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F3D4-0A6A-4003-8952-B6DD2D07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AEDD-033A-46EE-B0F3-1C4C9105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4D5-3E42-4D36-9593-3DA10A5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9915-4178-4D1D-B9B6-2F1AD3B3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FBC3-827D-472B-9F0D-EEFB796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C39F-ED5E-4B91-BEB3-6E60E463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6A96-7741-4B46-8440-76F2030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5ACA-634D-4FF2-A465-2435A790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BDF6-0BDF-475F-9E0C-3C85CBA7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EA97-D961-4D0F-A50E-39368200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D4086-F161-4A8E-976C-2FE36CED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103FD-DA1C-4D96-8E39-3168E680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EC78A-A874-48F6-B6AE-004FD38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CE8-851F-45BA-A22A-D6D54D52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C1CC-A7FE-4ADA-AF38-588AF276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498E-72BC-4ACD-9026-4AE790E9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5F4B2-CCCF-4D31-A513-4FED8099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7419-84A7-4E7D-947E-E903F354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2A69-66F8-4283-803F-4193917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A6DDA-54DD-411C-9713-68651CFC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63EC-9C5C-4BE7-80E8-490BC4B9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A340-49CB-4C47-B14D-63CB8C4B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D4A3-F4BF-4267-BA79-8ADBB0A6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B58-7150-4DA1-BD0C-CC51CBFD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A66-FC56-48DC-9FE6-F48E415C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D25-63B6-4363-9833-C11B44A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477-7C11-48B9-BC5B-B197DA53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B49-D41B-42D9-860A-9CF9A4C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E663-F974-4C26-8D0E-D605322ACA12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5D86-44FA-4173-81EA-E048617EE449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1630-D1AB-419C-BC2E-FA5F0D071081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385-95CB-4361-B724-E03FA90E38C4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85920" y="2130120"/>
            <a:ext cx="61437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4617b"/>
                </a:solidFill>
                <a:latin typeface="Calibri"/>
              </a:rPr>
              <a:t>بسم الله الرَّحمن الرَّحيم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المفعول فيه</a:t>
            </a:r>
            <a:br>
              <a:rPr sz="5000"/>
            </a:b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ظرفا الزمان والمكا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4000" y="263664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r" rtl="1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هو الظرف، وهو: اسم يذكر لبيان زمان الفعل أو مكانه على تقدير معنى (في). نحو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سافر ليلًا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مشى ميلًا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28760" y="928800"/>
            <a:ext cx="814392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الظرف نوعان: ظرف زمان، وظرف مكان، وكلّ منهما إما </a:t>
            </a:r>
            <a:r>
              <a:rPr b="1" lang="ar-SA" sz="2400" spc="-1" strike="noStrike">
                <a:solidFill>
                  <a:srgbClr val="00b050"/>
                </a:solidFill>
                <a:latin typeface="Constantia"/>
              </a:rPr>
              <a:t>مبهم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أو </a:t>
            </a:r>
            <a:r>
              <a:rPr b="1" lang="ar-SA" sz="2400" spc="-1" strike="noStrike">
                <a:solidFill>
                  <a:srgbClr val="00b050"/>
                </a:solidFill>
                <a:latin typeface="Constantia"/>
              </a:rPr>
              <a:t>مختص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(محدود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فالمبهم من ظروف الزمان: ما دلّ على قدر من الزمان غير معيّ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نحو: حين، وقت، برهة، لحظة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والمختص من ظروف الزمان: ما دلّ على وقت مقدّر معيّ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نحو: يوم، ساعة، شهر، سنة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وكلاهما منصوب على الظرفية، نحو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صمتُ حينًا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سافرتُ يومَ الاثني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69192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وأما اسم المكان فلا يقبل النصب منه على الظرفية إلا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onstantia"/>
              </a:rPr>
              <a:t>1</a:t>
            </a:r>
            <a:r>
              <a:rPr b="1" lang="ar-SA" sz="2800" spc="-1" strike="noStrike">
                <a:solidFill>
                  <a:srgbClr val="000099"/>
                </a:solidFill>
                <a:latin typeface="Constantia"/>
              </a:rPr>
              <a:t>- المبهم، وهو ما دلّ على مكان غير معيّن البقعة. أو هو ما ليس له صورة أو حدود محصورة ويشمل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لجهات الست، نحو: (فوق، وتحت، ويمين، وشمال، وأمام، وخلف)، نحو: جلست فوقَ الدار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مقادير المساحة، نحو(غَلْوَة، ومِيل، وفَرْسَخ، وبريد)، نحو:  (وسرت غلوةً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سم المكان المشتق من الفعل، نحو: حللتُ محلَّ الرئي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4920" y="691920"/>
            <a:ext cx="828036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r" rtl="1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b050"/>
                </a:solidFill>
                <a:latin typeface="Constantia"/>
              </a:rPr>
              <a:t>2</a:t>
            </a:r>
            <a:r>
              <a:rPr b="1" lang="ar-SA" sz="2600" spc="-1" strike="noStrike">
                <a:solidFill>
                  <a:srgbClr val="00b050"/>
                </a:solidFill>
                <a:latin typeface="Constantia"/>
              </a:rPr>
              <a:t>- المختص وهو: ما دلّ على مكان محدّد البقعة، وله صورة وحدود محدودة ولا ينصب ظرفًا. كدار، ومدرسة، مسجد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دخلت في البيت، وسكنت في الدار، وذهبت إلى المدرس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1:50:04Z</dcterms:created>
  <dc:creator>أمل عثمان العطا محمد</dc:creator>
  <dc:description/>
  <dc:language>en-US</dc:language>
  <cp:lastModifiedBy>ksu</cp:lastModifiedBy>
  <dcterms:modified xsi:type="dcterms:W3CDTF">2016-11-29T07:20:28Z</dcterms:modified>
  <cp:revision>37</cp:revision>
  <dc:subject/>
  <dc:title>بسم الله الرَّحمن الرَّحيم</dc:title>
</cp:coreProperties>
</file>