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0B4A-F281-470E-B633-2AB135A2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A937-1F42-4376-B9E2-CA877E24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CF05-FFD1-4FBA-A79A-3B8BA2794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E2C9-F8F6-46AA-86CC-25471329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A5A8-74F4-4C6D-A4DF-EAD2110C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FF25-5A89-4C9A-A6BA-558D81DE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8C5E-BEBC-439A-B6AA-B054C8E7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B304-8F96-427D-9898-E4674AD2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4BA3-CF8F-4A7A-93AB-9B461C75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02F1-89A5-41B2-91BC-D6BC8C47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3F2D-A89F-4C25-AEFF-A18275C6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1876-0486-4C4C-9021-8EDB1B87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1687-25FE-47B2-8F2B-B7605E972838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B838-9805-434C-B092-A4E25E7512B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مربع نص 1"/>
          <p:cNvSpPr/>
          <p:nvPr/>
        </p:nvSpPr>
        <p:spPr>
          <a:xfrm>
            <a:off x="2857680" y="2071800"/>
            <a:ext cx="40003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محاضرة السابع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عنصر نائب للتذييل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ربع نص 2"/>
          <p:cNvSpPr/>
          <p:nvPr/>
        </p:nvSpPr>
        <p:spPr>
          <a:xfrm>
            <a:off x="3708360" y="1403280"/>
            <a:ext cx="2951280" cy="4359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تقييم الكلام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-التنبؤ بمستقبل الحال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ربع نص 2"/>
          <p:cNvSpPr/>
          <p:nvPr/>
        </p:nvSpPr>
        <p:spPr>
          <a:xfrm>
            <a:off x="2771640" y="1557360"/>
            <a:ext cx="4248360" cy="368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وضع وتطبيق البرنامج العلاج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ربع نص 3"/>
          <p:cNvSpPr/>
          <p:nvPr/>
        </p:nvSpPr>
        <p:spPr>
          <a:xfrm>
            <a:off x="2700360" y="2637000"/>
            <a:ext cx="41036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وضع الهدف العام للبرنام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تحديد الأهداف الفرعي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ختيار الأنشطة المناسبة للعلا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تحديدمكان وزمان تطبيق البرنام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مربع نص 4"/>
          <p:cNvSpPr/>
          <p:nvPr/>
        </p:nvSpPr>
        <p:spPr>
          <a:xfrm>
            <a:off x="3059280" y="5013360"/>
            <a:ext cx="4249440" cy="368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تقييم  البرنامج العلاج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مربع نص 2"/>
          <p:cNvSpPr/>
          <p:nvPr/>
        </p:nvSpPr>
        <p:spPr>
          <a:xfrm>
            <a:off x="3851280" y="1773360"/>
            <a:ext cx="2592360" cy="5205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نموذج للخط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مربع نص 2"/>
          <p:cNvSpPr/>
          <p:nvPr/>
        </p:nvSpPr>
        <p:spPr>
          <a:xfrm>
            <a:off x="3708360" y="981000"/>
            <a:ext cx="2303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كلمات المتقاطع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مربع نص 3"/>
          <p:cNvSpPr/>
          <p:nvPr/>
        </p:nvSpPr>
        <p:spPr>
          <a:xfrm>
            <a:off x="3780000" y="1916280"/>
            <a:ext cx="23047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صور المتماثل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ربع نص 5"/>
          <p:cNvSpPr/>
          <p:nvPr/>
        </p:nvSpPr>
        <p:spPr>
          <a:xfrm>
            <a:off x="3635280" y="2852640"/>
            <a:ext cx="2305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لعبة الهمس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مربع نص 6"/>
          <p:cNvSpPr/>
          <p:nvPr/>
        </p:nvSpPr>
        <p:spPr>
          <a:xfrm>
            <a:off x="3635280" y="3933720"/>
            <a:ext cx="2305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لعبة نعم ,لا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مربع نص 2"/>
          <p:cNvSpPr/>
          <p:nvPr/>
        </p:nvSpPr>
        <p:spPr>
          <a:xfrm>
            <a:off x="5003640" y="1700280"/>
            <a:ext cx="151308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ضطرابات النطق والكلام /عبدالعزيز الشخ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136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1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141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149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لاح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مستطيل 3"/>
          <p:cNvSpPr/>
          <p:nvPr/>
        </p:nvSpPr>
        <p:spPr>
          <a:xfrm>
            <a:off x="3059280" y="4724280"/>
            <a:ext cx="45720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translate.google.com.sa/translate?hl=ar&amp;langpair=en%7Car&amp;u=http://www.angelfire.com/nm2/speechtherapyidea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10:18:13Z</dcterms:created>
  <dc:creator>DELL</dc:creator>
  <dc:description/>
  <dc:language>en-US</dc:language>
  <cp:lastModifiedBy>DELL</cp:lastModifiedBy>
  <dcterms:modified xsi:type="dcterms:W3CDTF">2015-11-16T08:24:58Z</dcterms:modified>
  <cp:revision>43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2C0D32EB4C16B6409DA411DF93638C72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