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95E-44AD-46F3-851B-DE935F10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25F-F80B-45AC-A8E0-4FDB0A5D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93F-5935-4E48-B6CE-031903D8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D4C-92DD-4824-BA5F-F887A022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A64-4A88-42DB-8C48-4448D468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DA6-7CC3-4EF1-BC1A-29906DCF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78B-50A1-46EA-84C4-40F9D260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1D7-B92F-4C2B-9100-2E88DC97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597-2378-449C-9837-338FA387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AB4-6EC7-4268-9ABC-7AFB6498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F73-2E2E-45AC-971C-FF33A054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7159-E6FB-4D8D-909F-8098105D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D63F-77FA-4319-867D-9D07B1DE36C8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6DB2-8904-483C-A509-BC2EAFB1288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مربع نص 1"/>
          <p:cNvSpPr/>
          <p:nvPr/>
        </p:nvSpPr>
        <p:spPr>
          <a:xfrm>
            <a:off x="2857680" y="2071800"/>
            <a:ext cx="40003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محاضرة السا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ربع نص 2"/>
          <p:cNvSpPr/>
          <p:nvPr/>
        </p:nvSpPr>
        <p:spPr>
          <a:xfrm>
            <a:off x="3708360" y="1403280"/>
            <a:ext cx="2951280" cy="4359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تقييم الكلا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التنبؤ بمستقبل الحا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ربع نص 2"/>
          <p:cNvSpPr/>
          <p:nvPr/>
        </p:nvSpPr>
        <p:spPr>
          <a:xfrm>
            <a:off x="2771640" y="1557360"/>
            <a:ext cx="4248360" cy="368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وضع وتطبيق البرنامج العلاج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ربع نص 3"/>
          <p:cNvSpPr/>
          <p:nvPr/>
        </p:nvSpPr>
        <p:spPr>
          <a:xfrm>
            <a:off x="2700360" y="2637000"/>
            <a:ext cx="4103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وضع الهدف العام للبرنام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حديد الأهداف الفرع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ختيار الأنشطة المناسبة للعلا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حديدمكان وزمان تطبيق البرنام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ربع نص 4"/>
          <p:cNvSpPr/>
          <p:nvPr/>
        </p:nvSpPr>
        <p:spPr>
          <a:xfrm>
            <a:off x="3059280" y="5013360"/>
            <a:ext cx="4249440" cy="368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قييم  البرنامج العلاج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ربع نص 2"/>
          <p:cNvSpPr/>
          <p:nvPr/>
        </p:nvSpPr>
        <p:spPr>
          <a:xfrm>
            <a:off x="3851280" y="1773360"/>
            <a:ext cx="2592360" cy="520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نموذج للخط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مربع نص 2"/>
          <p:cNvSpPr/>
          <p:nvPr/>
        </p:nvSpPr>
        <p:spPr>
          <a:xfrm>
            <a:off x="3708360" y="98100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كلمات المتقاطع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ربع نص 3"/>
          <p:cNvSpPr/>
          <p:nvPr/>
        </p:nvSpPr>
        <p:spPr>
          <a:xfrm>
            <a:off x="3780000" y="1916280"/>
            <a:ext cx="2304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صور المتماثل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ربع نص 5"/>
          <p:cNvSpPr/>
          <p:nvPr/>
        </p:nvSpPr>
        <p:spPr>
          <a:xfrm>
            <a:off x="3635280" y="2852640"/>
            <a:ext cx="2305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لعبة الهمس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ربع نص 6"/>
          <p:cNvSpPr/>
          <p:nvPr/>
        </p:nvSpPr>
        <p:spPr>
          <a:xfrm>
            <a:off x="3635280" y="3933720"/>
            <a:ext cx="2305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لعبة نعم ,لا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ربع نص 2"/>
          <p:cNvSpPr/>
          <p:nvPr/>
        </p:nvSpPr>
        <p:spPr>
          <a:xfrm>
            <a:off x="5003640" y="1700280"/>
            <a:ext cx="15130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ضطرابات النطق والكلام /عبدالعزيز الشخ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36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41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49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لاح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3"/>
          <p:cNvSpPr/>
          <p:nvPr/>
        </p:nvSpPr>
        <p:spPr>
          <a:xfrm>
            <a:off x="3059280" y="4724280"/>
            <a:ext cx="45720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translate.google.com.sa/translate?hl=ar&amp;langpair=en%7Car&amp;u=http://www.angelfire.com/nm2/speechtherapyide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18:13Z</dcterms:created>
  <dc:creator>DELL</dc:creator>
  <dc:description/>
  <dc:language>en-US</dc:language>
  <cp:lastModifiedBy>DELL</cp:lastModifiedBy>
  <dcterms:modified xsi:type="dcterms:W3CDTF">2015-11-16T08:24:58Z</dcterms:modified>
  <cp:revision>43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C0D32EB4C16B6409DA411DF93638C72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