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18B-2ECB-4529-9FBB-94BD5FFF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BCE-ADDE-402D-9A58-BB1E0BF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23F-FC5C-4984-B508-3BF475E4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D25-178B-4860-A0F5-8230EE7F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F92E-D266-4A58-9676-54B32915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B9C3-519B-4D11-80D8-DCEF843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298B-4A2E-4C2F-9390-D5A1E39E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60DC-A980-4862-8310-46F01136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A25A-1009-495D-B7E0-10E7B276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0DF3-13F6-4FCF-A74E-7E526764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63CD-B069-4940-AABD-086D912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57E-8DC2-412D-BDAF-C5679D0B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C252-2385-48D6-8583-77D9C4C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745D-DD18-495C-9504-67DE43E0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04FF-828A-4737-8449-D841871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303D-BC9C-4780-BCCD-6B16BC51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E5FA-AEA8-4FAB-82D9-CF91E7CB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3694-5EAF-4509-A368-9F477214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11AD-5280-4130-8EB8-6464743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AD99-462B-4CBF-A236-1DA2334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38C2-B881-411A-8523-450E0D3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230C-5BFC-4AF3-A029-A2C917C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CCB-E31A-4136-B57D-3D5E0AA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80C1-7A87-47A1-9929-16E6F6E3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17A3-1E1C-4102-8729-9C2FD726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72E9-5E59-45FC-9D81-45CEF2B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A9AC-706B-4892-AA1A-701DC009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1C32-6483-449C-B420-B1ABBFFD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15D0-36D9-4BA4-8C87-C07870FA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25A3-8721-474C-ADA3-E72259AC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5AFC-7805-4EF6-97E1-DEAA5CD9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A471-6C53-4F73-B7A2-2787359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1B70-2B08-4BAD-9CB6-A9E7DD0B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DCB-88A0-4095-9028-E9F2BC6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DF0F-F03A-460A-B6FF-7CC06559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7C42-EC0E-4610-8280-029D350B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6C51-674D-4F55-96FF-BB2E453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6648-2FB8-4E9E-8A23-E1440F6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EB77-BBE8-4A12-BD93-5A6D185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9C50-B842-4862-9ED7-6192A8AB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D0FC-9392-488C-93E7-88BF1C3C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F2EE-07F7-4FDB-A284-D7392929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B7AB-F0EE-49EC-AB03-5BBFDA77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193-0560-487C-A34D-118FA993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E69-51A7-4833-A1D2-533E8CA8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103-094E-440A-82CA-2AA957EA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DD2-EF77-4516-9561-429CD8C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838-FEE5-49EF-BF65-A1B7C262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C463-EDB3-4113-ABEE-07E839218D8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E207-4EF8-4009-B846-59ED6384653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E90A-4D10-4BD6-99BA-A7081DD2A56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F5BD-774E-4612-A8A6-3E17A0875DE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غذية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Nutrition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C:\Users\hp\Desktop\صور إستزراع سمكي\HTB1xHZzIFXXXXccXVXXq6xXFXXXU.jpg"/>
          <p:cNvPicPr/>
          <p:nvPr/>
        </p:nvPicPr>
        <p:blipFill>
          <a:blip r:embed="rId1"/>
          <a:stretch/>
        </p:blipFill>
        <p:spPr>
          <a:xfrm>
            <a:off x="4500720" y="2060640"/>
            <a:ext cx="4319280" cy="432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Users\hp\Desktop\صور إستزراع سمكي\Catfish-tilapia-floating-fish-feed-pellet-machine.jpg"/>
          <p:cNvPicPr/>
          <p:nvPr/>
        </p:nvPicPr>
        <p:blipFill>
          <a:blip r:embed="rId2"/>
          <a:stretch/>
        </p:blipFill>
        <p:spPr>
          <a:xfrm>
            <a:off x="250920" y="206064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اج الأسماك إلى جميع الفيتامينات سواءً التي تذوب في الدهون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, D, E, K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تي تذوب في الماء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C, Thiamin, Riboflavin, Pantothenic, Niacin, Bioti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late, Choline, Myoinositol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ضاف مسحوق يحتوي على خليط من الفيتامينات المطلوبة إلى العليقة بنسب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وزناً تقريبا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لاح المعدن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تعتبر الأملاح المعدنية لازمة وضرورية لحياة الأسماك في مراحل نموها المختلفة ، وتقس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أملاح المعدنية إلى مجموعتين: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الأملاح الكبرى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crominera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شمل البوتاس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صود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كالس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الماغيس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g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فسـفور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كلـور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جموعة الأملاح الصغرى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cromineral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تضـم النحـاس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u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حـديد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e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زنك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Zn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منجنيـ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n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يـود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سـيلني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76464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ظـراً لمقدرة الأسـماك على امتصـاص بعض هذه الأمـلاح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, K, Ca, Mg, Cu, Fe, Zn, S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ن الوسط المائي مباشرة فقد أدى ذلك إلى نق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إحتياج الأسماك إلى وجود الأملاح فى العلائ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احتياجات الأسماك من هذه الأملاح من مكان إلى آخر تبعاً لما هو متوفر طبيعياً ف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مياه الأحو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رغم من ذلك فإنه من الضروري إضافة مخلوط الأملاح المعدنية بنسب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٪ تقريباً إل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يقة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Constantia"/>
                <a:cs typeface="Majalla UI"/>
              </a:rPr>
              <a:t>طريقة إعداد العليقة الجاف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يع المواد الخام ( مسحوق السمك – فول الصويا - الذرة الصـفراء والبيضاء - الشعير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قمح ونخالته الخشنة والناعمة ) الداخلة في تركيب العلائق يجب أن تكون جافة ومطحون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إن لم تكـن كذلك وجب تجفيفها إما بوضعها في أفران خاصة عند درجة حرارة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7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 ) حسب نوع المكون المستخدم أو تعريضها لأشعة الشمس مباش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د التجفيف يتم طحنها واجراء التحليل الكيميائي لها لمعرفة محتواها من البروتي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الدهون والألياف والرماد من العناصر المعدنية الكبرى والصغرى والفيتامين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وزن كل مكون غذائي على حدة وذلك حسب نسبته المطلوبة في الوجب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ط المكونات خلطاً جيداً وهي جافة بما في ذلك الفيتامينات والأملاح المعدنية والروابط ثم يضاف الماء المقطر الدافيء أو الماء العادي المغلي بعد أن يبرد قليلاً مع التقلي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ستمر حتى الحصـول على عجينة متماسكة القوا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ن لم تخلط الفيتامينات والأملاح المعدنية مع باقي المكونات وهي جافة فإنها تذاب ف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اء أو الزيت حسب نوع الفيتامينات ثم تضاف للخليط مع التقليب لتتجانس مع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وضع العجينة في المفرمة الكهربائية مع استعمال قرص ذو فتحات مناسبة فيتم الحصو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ى خيوط من العجين ، يتم تجميعها على ألواح خشبية أو مفارش من القماش أو البلاستي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جفف خيوط العجين إما باستخدام الأفران عند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 أو بتعريضها لأشعة الشمس أو تيا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هوائ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فتت الخيوط الجـافة إلى حبيبات صـغيرة لتناسب الأسماك وذلك إما يدوياً أو باستخد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خلاط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بأ العليقة في أكياس بلاستيكية ليتم تخزينها بعيداً عن الرطوب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836640"/>
            <a:ext cx="8496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إختيار نوع العليقة</a:t>
            </a:r>
            <a:r>
              <a:rPr b="0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اختيار نوع العليقة تبعاً لأنواع الأسماك وأعمارها فمثلاً أسماك البلطي من الأعمار والأحج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غيرة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) يجب أن لا يقل المحتوى البروتيني للعليقة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7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 في حي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اختيارعليقة ذات بروتين أقل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) للأ حجام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–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جم) وتنخفض هذه النسب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لى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بروتين في حالة العليقة المقدمة لأحواض التسمي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طريقة التغذية بالأعلا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غذية اليدوية 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من خلالها تقديم الأعلاف للأسماك بصورة يومية يدوياً عن طري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نثرها على سطح الميا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غذية الآلية 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في هـذه الطريقة توضع العليقة حسب الكمية المحسوبة لاحتياجات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في مغذيات صناعية أوتوماتيكية ( تعمل بالكهرباء) مثبتة تماماً على جوانب الأحو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بالقرب من سطح الماء حيث تقوم بتوزيع ونثر العليقة في المياه بصورة آلية في توقيت معي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50920" y="836640"/>
            <a:ext cx="864216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onstantia"/>
                <a:cs typeface="Majalla UI"/>
              </a:rPr>
              <a:t>معـدلات التغذية</a:t>
            </a:r>
            <a:r>
              <a:rPr b="0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حسب معدل التغذية اليومي كنسبة مئوية من وزن الأسماك ، وتتراوح هذه النسبة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بعاً لأعمار الأسـماك وأنواعها وقدرتها على استهلاك العليقة ، ففي الأسماك الصغيرة تتم التغذ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معد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% ويتم تخفيض المعدل تدريجياً حتى يصـل إلى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%  قـرب انتهاء مرحـل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ين تقسم الكمية اليومية لتقدم على عدد من المرات يتراوح بي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رات تبعاً للعوام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سالفة الذك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عادة ما تتم التغذية لمد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6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يام أسبوعياً ، أما اليوم السابع فيعطى فيه النظام البيئي راح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وفرصة للتخلص من البقايا الغذائية التى ربما لم تستهل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3" descr="Untitled-1d"/>
          <p:cNvPicPr/>
          <p:nvPr/>
        </p:nvPicPr>
        <p:blipFill>
          <a:blip r:embed="rId1"/>
          <a:stretch/>
        </p:blipFill>
        <p:spPr>
          <a:xfrm>
            <a:off x="1258920" y="1125360"/>
            <a:ext cx="6697800" cy="468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غذية الأسماك 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Fish Nutri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2060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ن توفير الغذاء المناسب للأسماك يحقق مايلي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 الحصول على معدلات نمو مرتفع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 حالة صحية ج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- مقاومة عالية للمسببات المرضية المختل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cs typeface="Majalla UI"/>
              </a:rPr>
              <a:t>تكاليف الغذاء وخاصة الأغذية المصنعة تشكل نسبة كبي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       من التكاليف الجارية لعملية الاستزراع السمكي تتراوح بين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40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ـ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60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%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؟؟؟؟؟؟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ماك تختلف في عاداتها الغذائية تماماً كما تختلف الحيوانات الأرضية ، كما نجد أن عاد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سماك البيئة المائية الواحدة تختلف باختلاف نوع الأسماك . بل أن العادات الغذائية لنفس النو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ن الأسماك قد تختلف باختلاف المراحل العمر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تقسيم الأسماك حسب طبيعة تغذيتها إلى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أسماك نباتية التغذية 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fishes Herbivorous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أسـماك التي تفضل الأغذية النباتية (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ائمات النباتية - الطحالب - الحشائش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نباتات المائية الأخرى) مثل مبروك الحشائش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87026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( في الإستزراع يجب إعداد علائق تعتمد على مكونات نباتية المصدر بما لايقل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7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 -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أسماك حيوانية التغذية 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fishes  Carnivo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هي الأسماك التي تفضل الأغذية الحيوانية (الهائمات الحيـوانية ـ يرقات الحشرات ـ الرخو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حيوانات القاعية أو قد تتغذى بعض أنواع الأسماك الكبيرة على الأسماك الصغيرة )  مث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دنيس والقاروص والهامور والقراميط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( في الإستزراع يجب إعداد علائق تعتمد على مكونات حيوانية المصدر بما لايقل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7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 - </a:t>
            </a:r>
            <a:r>
              <a:rPr b="1" lang="ar-SA" sz="2400" spc="-1" strike="noStrike">
                <a:solidFill>
                  <a:srgbClr val="0033cc"/>
                </a:solidFill>
                <a:latin typeface="Constantia"/>
                <a:cs typeface="Majalla UI"/>
              </a:rPr>
              <a:t>أسماك مختلطة التغذية 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Omnivorous fi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أسماك التي تجمع في تغذيتها بين الأغـذية النباتية والحيوانية حيث لها القدرة على هضـ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لا النوعين من الأغذية مثل بعض أنواع البلطي والمبروك وأسماك السيجان ( الصافي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620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نواع الأغذية المستخدمة في المزارع السمك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يمكن تقسيم الأغذية المستخدمة في المزارع السمكية إلى نوعين 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أ-</a:t>
            </a:r>
            <a:r>
              <a:rPr b="1" lang="ar-S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غذية الطبيعية</a:t>
            </a:r>
            <a:r>
              <a:rPr b="1" lang="ar-SA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ب ـ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غذية المصنعة (العلائ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                                  </a:t>
            </a: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أولاً :</a:t>
            </a:r>
            <a:r>
              <a:rPr b="0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الأغذية الطبيع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شمل مجموعة من المصادر الغذائية الطبيعية التى يمكن إنماؤها في برك أو أحواض الاستزرا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من ثم إستخدامها في تغذية الأسماك وأهمها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هائمات النباتية - الحشائش والنباتات المائ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طحالب (في جنوب شرق آسيا تنتشر مزارع لتربية الطحالب البحرية وتباع شتلاتها إلى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مزارع السمكية لتقوم بزراعتها إما مباشرة في أحـواض الأسماك أو في أحواض خاصة وم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ثم تقديمها للأسماك كغذاء طبيعي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بلانكتون الحيواني ( اللافقاريات الصغيرة – القشريات) حيث تقوم بعض المزارع بإنشاء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920" y="692280"/>
            <a:ext cx="864216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حواض خاصة لتربية البلانكتون الحيواني واستخدامها في تغذية ا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4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أسماك الصغيرة ذات القيمة الاقتصادية المنخفضة (تلجأ بعض المزارع السمكية إلى تربيت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تكون غذاءً طبيعياً لأسماك الاستزراع ذات القيمة التسويقية العا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حيوان الأرتيميا (من القشريات المائية الدقيقة) تعتبر من الأغذية المهمة  التى يمكن استخدام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لتغذية اليرقات السمكية اليرقات نظراً لاحتوائها على نسـبة عـالية من البروتين الحيوان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الإضافة الى احتوائها على كميات عالية ومتنوعه من الأحماض الدهنية غير المشبعة بشقي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قصيرة وطويلة السلسلة الكربونية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ثانياً :</a:t>
            </a:r>
            <a:r>
              <a:rPr b="0" lang="ar-SA" sz="2400" spc="-1" strike="noStrike">
                <a:solidFill>
                  <a:srgbClr val="0033cc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33cc"/>
                </a:solidFill>
                <a:latin typeface="Arial Unicode MS"/>
                <a:cs typeface="Arial Unicode MS"/>
              </a:rPr>
              <a:t>الأغذية المصنعة (العلائ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هي أغذية يتم إعدادها أو تصنيعها خصيصاً لهذا الغرض بهدف توفير الغذاء المناسب لمزار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وتعرف بالعلائق وتنقسم إلى قسمين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لائق الطر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ائق الجا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1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علائق الطرية: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م إعدادها بأكثر من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طريقة من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استخدام مفروم الأسماك الطازجة أو المجمدة بطريقة جيدة شرط أن تكون خالية م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مراض .على أن تقدم هذه الوجبة مباشرة إلى الأسماك أو يتم خلطها بكمية من مخلف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طاحن الحبوب لعمل كريات صغيرة متماسكة نوعاً ما. وهذه النوعية من العليقة يتم إعداد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تقديمها في الحال ولا يت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تخزينه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مكن استخدام الأسماك غير الصالحة للاستهلاك الأدمي أو مخلفات الأسماك في إعداد شكل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آخر من أشكال العليقة الطرية تعرف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سيلاج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، والذي يتم فيه فرم الأسماك أو مخلفاتها ث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ضاف إليها حمـض الخليـك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etic acid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حمض النمليك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ic acid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لزيا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موضيتها حتى لا تنمو عليها البكتيريا المسببة للتعفن أو تتغير خواصها الغذائية عن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حفظها لفترة طويلة ومن ثم يحفظ الخليط بعد ذلك في أواني بلاستيكية ويضاف على سطح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إناء مادة مانعة للأكسدة حتى لا تتأكسد الدهون على سطح الإناء ( يتزنخ الخليط ) وتغط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واني جيداً حيث يمكن حفظها لعدة شهور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شهور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764640"/>
            <a:ext cx="835344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2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-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لائق الجاف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وي هذه العلائق على العناصر الغذائية الأساسية والضرورية لتحقيق نمو جيد ل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تشمل هذه العناصر البروتينات والدهون والكربوهيدرات والفيتامينات والأملاح المعدنية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العلائق الجافة في تركيبها من حيث نسبة العناصـر المكونة لها تبعاً لاختلاف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نواع الأسماك وأعمـارها ومراحـل نمو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ختلف العلائق الجافة في شكلها ( كريات/ مكعبات/ مجروشة/ حبيبات دقيقة ) وخواص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( طافية/ غاطسة ) تبعاً لنفس الأسباب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 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عتبر البروتينات أهـم عناصـر العليقة لأنها أكثـر ما تحتاجـه الأسـماك فهـي العنصـ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ـاسي لبنــاء الجسـم ونمـوه ، وتمد الجسم باحتياجـاته من الأحـماض الأمينية الأسـاسـ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تي لا يستطيع الجسم تخليقها ذاتياً والتى تشتمل على عشرة أحماض تقريباً ه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ginine, Histidine, Isoleucine, Leucine, Lysine, Methionine, Phenylalanine, Threonine, Tryptophan, Valine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764640"/>
            <a:ext cx="8424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ما توفر البروتينات للجسم متطلباته من البروتين الوظـيفي كالأنزيمات والهرمونات ، وهى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يضاً مصدراً للطاق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سم البروتينات إلى نوعين حسب مصـدرها ، النوع الأول هو البروتين الحيـواني الذ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صدره مسحوق السـمك المجفف ومسحوق اللحم والدم المجففين ومسحوق مخلفات المجازر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ما النوع الثاني فهو البروتين النباتي والذي مصدره الأشهر فول الصويا وبشكل ع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نباتات مثل بذور المحاصيل الزيتية والبقوليات والطحال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توى البروتيني لعلائق الأسماك تحكمه أنواع الأسماك وأعمارها وكثافة الترب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 درجة حرارة المياه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عتبر الدهون مصدراً أساسياً للطاقة في عليقة الأسماك كما تعتبر مصدرا للأحماض الدهن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اسية اللازمة للنمو الطبيعي حيث لا تستطيع الأسـماك تخليق هذه الأحم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وجـود الدهـون في الوجبة الغذائية يساعد في امتصاص الفيتامينات الذائبة في الدهو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5280" y="691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يمكن إضافة الدهون مباشرة إلى العلائق عن طريق إضافة الزيوت أو إضافة بذو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حاصيل الزيتية إلى العليق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عتبر من أرخص مصادر الطاقة حيث تتوفر في الكثير من المواد رخيصة الثمن مث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مخلفات النباتية ومخلفات مطاحن الحبوب ، إلا أنها مهمة في علائق الأسماك نباتية التغذ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سماك المياه العذبة الدافئة تستطيع هضم الكربوهيدرات أفضل من أسماك المياه الباردة أو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مالح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ـــ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قدرة الأسماك على الأستفادة من الكربوهيدرات تختلف بإختلاف انواع ا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يتامين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تلعب الفيتامينات دوراً هاماً في عمليات التمثيل الغذائي ونمو الأسماك والتكاثر والحال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صحية بشكل عام ولذا فهي من العناصر الضرورية ، التي تقوم بدور مهم في حما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أسماك من كثير من الأمراض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2-09T22:49:38Z</dcterms:modified>
  <cp:revision>561</cp:revision>
  <dc:subject/>
  <dc:title>Principals of General Zoology (Zoo-103)</dc:title>
</cp:coreProperties>
</file>