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4BF-56FF-49E2-A5C5-9F0C0A43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5A6-1113-4494-91E7-75DF8506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E7D-3762-4BFC-A47F-222B2225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680-CB87-4FC4-95FE-566AE5BD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03B-13CC-473D-AC1E-92CFE07E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9F29-D652-47E6-9425-602FC0C0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862D-52CF-42D5-8DA4-4E2C9780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19CE-5B40-492E-B6F1-FDDB8DC3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B22-B266-4E20-8B31-C95F167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893-7B28-4CC9-A95C-EA17B74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1600-D395-41C6-9AA4-502106C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8F9-4C24-43B7-80FB-E2F08C1A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E8A0-5E5A-4077-BA1C-A77E3F4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CD6-AB0E-42C1-AFEB-982AB03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4CD7-AA2F-4E9F-B462-08F5D7F9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B231-DAE4-4EA9-BFDF-8A989328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7D9-30BB-42F9-A1A9-EA3488C0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C147-3E2F-4DA3-A01C-4CF9E00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9826-E49C-411F-A7A9-4E4CB87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F083-879A-4E7B-9246-5F296899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DDDA-C06B-4EC6-B157-250F202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A4A9-C604-44F0-B37F-57EF9E2B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3F6-2C1F-4BEC-B334-3FD44A2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1CDA-B33A-4D21-8FC2-944643F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B7D5-8815-4997-8C78-9233BE4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CA9D-0D1B-4BF8-8BB0-3B004EE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8F8D-10AF-4036-B874-D4F5938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E98C-5F84-44D3-B823-96DFEF13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9265-141C-494B-A48D-7D88628D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17F0-7D88-4D48-A550-97FD2D5D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43DC-5A08-4ED2-8806-11B15985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B630-242B-4C6D-B622-14B5D85A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B911-3BE2-44FE-B7C5-EDF0AE1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863-04D3-4534-A44E-A103E1C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F4E7-6EE4-45E8-9295-CF98F86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1841-F7BB-4F48-8B2F-7426B25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4627-DD96-48A4-8CD1-1CAECCE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40DD-46BA-437C-8BB4-FDE6434B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C26F-5B7B-47EE-BAEA-135F3CC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9881-950B-42AB-9B7C-4F6EA5C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02FC-CE65-47B2-8A1F-D9A0516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5E1F-C22D-4EF6-BCF4-E6CC49A0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C3C2-775C-400A-9187-001F8187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9EF-31FF-4AF0-81BA-00D68233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B2E-41F6-45E5-A92F-65DA431A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0FE-6D80-4BC7-9222-B875084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D8B-279F-4D4D-9B93-73097A4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DAD-CE2B-471E-BA83-F129A0D8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B475-9F67-4C4D-B1FF-CBE6E58F8CE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3E9-F9A4-40EA-A371-25855B49E4D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DED-DD22-454A-9485-8E6DA3E5E4D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889D-8660-4DA4-A96B-A125213C455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غذية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Nutrition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C:\Users\hp\Desktop\صور إستزراع سمكي\HTB1xHZzIFXXXXccXVXXq6xXFXXXU.jpg"/>
          <p:cNvPicPr/>
          <p:nvPr/>
        </p:nvPicPr>
        <p:blipFill>
          <a:blip r:embed="rId1"/>
          <a:stretch/>
        </p:blipFill>
        <p:spPr>
          <a:xfrm>
            <a:off x="4500720" y="2060640"/>
            <a:ext cx="4319280" cy="43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Users\hp\Desktop\صور إستزراع سمكي\Catfish-tilapia-floating-fish-feed-pellet-machine.jpg"/>
          <p:cNvPicPr/>
          <p:nvPr/>
        </p:nvPicPr>
        <p:blipFill>
          <a:blip r:embed="rId2"/>
          <a:stretch/>
        </p:blipFill>
        <p:spPr>
          <a:xfrm>
            <a:off x="250920" y="206064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اج الأسماك إلى جميع الفيتامينات سواءً التي تذوب في الدهون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, D, E, K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ي تذوب في الم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, Thiamin, Riboflavin, Pantothenic, Niacin, Bioti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late, Choline, Myoinosit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ضاف مسحوق يحتوي على خليط من الفيتامينات المطلوبة إلى العليقة ب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زناً تقريب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لاح المعد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تعتبر الأملاح المعدنية لازمة وضرورية لحياة الأسماك في مراحل نموها المختلفة ، وتقس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أملاح المعدنية إلى مجموعتين: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الأملاح الكبرى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crominera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شمل البوتا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صود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كال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ماغي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g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فسـفور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كلـور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الأملاح الصغرى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mineral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ضـم النحـاس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u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حـديد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e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زن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Z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منجنيـ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يـود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سـيلن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76464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ظـراً لمقدرة الأسـماك على امتصـاص بعض هذه الأمـلاح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, K, Ca, Mg, Cu, Fe, Zn, S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الوسط المائي مباشرة فقد أدى ذلك إلى نق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حتياج الأسماك إلى وجود الأملاح فى العلائ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حتياجات الأسماك من هذه الأملاح من مكان إلى آخر تبعاً لما هو متوفر طبيعياً ف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ياه ال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م من ذلك فإنه من الضروري إضافة مخلوط الأملاح المعدنية ب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٪ تقريباً إل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يقة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طريقة إعداد العليقة الجاف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يع المواد الخام ( مسحوق السمك – فول الصويا - الذرة الصـفراء والبيضاء - الشعير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قمح ونخالته الخشنة والناعمة ) الداخلة في تركيب العلائق يجب أن تكون جافة ومطحون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إن لم تكـن كذلك وجب تجفيفها إما بوضعها في أفران خاصة عند درجة حرارة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) حسب نوع المكون المستخدم أو تعريضها لأشعة الشمس مباش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التجفيف يتم طحنها واجراء التحليل الكيميائي لها لمعرفة محتواها من البروتي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دهون والألياف والرماد من العناصر المعدنية الكبرى والصغرى والفيتامين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وزن كل مكون غذائي على حدة وذلك حسب نسبته المطلوبة في الوجب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ط المكونات خلطاً جيداً وهي جافة بما في ذلك الفيتامينات والأملاح المعدنية والروابط ثم يضاف الماء المقطر الدافيء أو الماء العادي المغلي بعد أن يبرد قليلاً مع التقلي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ستمر حتى الحصـول على عجينة متماسكة القوا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ن لم تخلط الفيتامينات والأملاح المعدنية مع باقي المكونات وهي جافة فإنها تذاب ف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اء أو الزيت حسب نوع الفيتامينات ثم تضاف للخليط مع التقليب لتتجانس مع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ضع العجينة في المفرمة الكهربائية مع استعمال قرص ذو فتحات مناسبة فيتم الحصو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ى خيوط من العجين ، يتم تجميعها على ألواح خشبية أو مفارش من القماش أو البلاستي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جفف خيوط العجين إما باستخدام الأفران عند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أو بتعريضها لأشعة الشمس أو تيا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هوائ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فتت الخيوط الجـافة إلى حبيبات صـغيرة لتناسب الأسماك وذلك إما يدوياً أو باستخد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خلاط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بأ العليقة في أكياس بلاستيكية ليتم تخزينها بعيداً عن الرطو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836640"/>
            <a:ext cx="8496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إختيار نوع العليقة</a:t>
            </a: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اختيار نوع العليقة تبعاً لأنواع الأسماك وأعمارها فمثلاً أسماك البلطي من الأعمار والأحج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غيرة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) يجب أن لا يقل المحتوى البروتيني للعليقة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7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 في ح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ختيارعليقة ذات بروتين أقل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 للأ حجام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) وتنخفض هذه النسب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بروتين في حالة العليقة المقدمة لأحواض التسم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طريقة التغذية بالأعلا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غذية اليدوية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من خلالها تقديم الأعلاف للأسماك بصورة يومية يدوياً عن طري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نثرها على سطح الميا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غذية الآلية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هـذه الطريقة توضع العليقة حسب الكمية المحسوبة لاحتياجات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 مغذيات صناعية أوتوماتيكية ( تعمل بالكهرباء) مثبتة تماماً على جوانب ال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بالقرب من سطح الماء حيث تقوم بتوزيع ونثر العليقة في المياه بصورة آلية في توقيت مع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836640"/>
            <a:ext cx="86421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معـدلات التغذية</a:t>
            </a: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حسب معدل التغذية اليومي كنسبة مئوية من وزن الأسماك ، وتتراوح هذه النسبة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بعاً لأعمار الأسـماك وأنواعها وقدرتها على استهلاك العليقة ، ففي الأسماك الصغيرة تتم التغذ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معد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% ويتم تخفيض المعدل تدريجياً حتى يصـل إ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%  قـرب انتهاء مرحـل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ين تقسم الكمية اليومية لتقدم على عدد من المرات يتراوح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رات تبعاً للعوام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سالفة الذك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عادة ما تتم التغذية لمد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يام أسبوعياً ، أما اليوم السابع فيعطى فيه النظام البيئي راح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فرصة للتخلص من البقايا الغذائية التى ربما لم تستهل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3" descr="Untitled-1d"/>
          <p:cNvPicPr/>
          <p:nvPr/>
        </p:nvPicPr>
        <p:blipFill>
          <a:blip r:embed="rId1"/>
          <a:stretch/>
        </p:blipFill>
        <p:spPr>
          <a:xfrm>
            <a:off x="1258920" y="1125360"/>
            <a:ext cx="6697800" cy="468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غذية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Nutri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060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توفير الغذاء المناسب للأسماك يحقق مايلي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الحصول على معدلات نمو مرتفع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حالة صحية 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مقاومة عالية للمسببات المرضية المختل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تكاليف الغذاء وخاصة الأغذية المصنعة تشكل نسبة كبي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      من التكاليف الجارية لعملية الاستزراع السمكي تتراوح بين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40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ـ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60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%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؟؟؟؟؟؟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 تختلف في عاداتها الغذائية تماماً كما تختلف الحيوانات الأرضية ، كما نجد أن عاد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البيئة المائية الواحدة تختلف باختلاف نوع الأسماك . بل أن العادات الغذائية لنفس النو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أسماك قد تختلف باختلاف المراحل العم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الأسماك حسب طبيعة تغذيتها إلى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نباتي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fishes Herbivorous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أسـماك التي تفضل الأغذية النباتية (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- الطحالب - الحشائش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نباتات المائية الأخرى) مثل مبروك الحشائش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7026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( في الإستزراع يجب إعداد علائق تعتمد على مكونات نباتية المصدر بما لايقل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حيواني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fishes  Carnivo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هي الأسماك التي تفضل الأغذية الحيوانية (الهائمات الحيـوانية ـ يرقات الحشرات ـ الرخو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حيوانات القاعية أو قد تتغذى بعض أنواع الأسماك الكبيرة على الأسماك الصغيرة )  مث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دنيس والقاروص والهامور والقراميط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( في الإستزراع يجب إعداد علائق تعتمد على مكونات حيوانية المصدر بما لايقل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مختلط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Omnivorous fi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أسماك التي تجمع في تغذيتها بين الأغـذية النباتية والحيوانية حيث لها القدرة على هضـ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لا النوعين من الأغذية مثل بعض أنواع البلطي والمبروك وأسماك السيجان ( الصافي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620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نواع الأغذية المستخدمة في المزارع السمك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يمكن تقسيم الأغذية المستخدمة في المزارع السمكية إلى نوعي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أ-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غذية الطبيعية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ب ـ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غذية المصنعة (العلائ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                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أولاً :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الأغذية الطبيع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مجموعة من المصادر الغذائية الطبيعية التى يمكن إنماؤها في برك أو أحواض الاستزرا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من ثم إستخدامها في تغذية الأسماك وأهمها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هائمات النباتية - الحشائش والنباتات الم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حالب (في جنوب شرق آسيا تنتشر مزارع لتربية الطحالب البحرية وتباع شتلاتها إل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زارع السمكية لتقوم بزراعتها إما مباشرة في أحـواض الأسماك أو في أحواض خاصة وم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ثم تقديمها للأسماك كغذاء طبيعي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لانكتون الحيواني ( اللافقاريات الصغيرة – القشريات) حيث تقوم بعض المزارع بإنش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692280"/>
            <a:ext cx="864216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حواض خاصة لتربية البلانكتون الحيواني واستخدامها في تغذية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سماك الصغيرة ذات القيمة الاقتصادية المنخفضة (تلجأ بعض المزارع السمكية إلى تربيت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تكون غذاءً طبيعياً لأسماك الاستزراع ذات القيمة التسويقية العا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حيوان الأرتيميا (من القشريات المائية الدقيقة) تعتبر من الأغذية المهمة  التى يمكن استخدام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تغذية اليرقات السمكية اليرقات نظراً لاحتوائها على نسـبة عـالية من البروتين الحيوان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إضافة الى احتوائها على كميات عالية ومتنوعه من الأحماض الدهنية غير المشبعة بشقي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قصيرة وطويلة السلسلة الكربونية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ثانياً :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الأغذية المصنعة (العلائ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أغذية يتم إعدادها أو تصنيعها خصيصاً لهذا الغرض بهدف توفير الغذاء المناسب لمزار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وتعرف بالعلائق وتنقسم إلى قسمين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لائق الط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ائق الجا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لائق الطرية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إعدادها بأكثر من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طريقة من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ستخدام مفروم الأسماك الطازجة أو المجمدة بطريقة جيدة شرط أن تكون خالية م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مراض .على أن تقدم هذه الوجبة مباشرة إلى الأسماك أو يتم خلطها بكمية من مخلف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طاحن الحبوب لعمل كريات صغيرة متماسكة نوعاً ما. وهذه النوعية من العليقة يتم إعداد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قديمها في الحال ولا يت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خزين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ستخدام الأسماك غير الصالحة للاستهلاك الأدمي أو مخلفات الأسماك في إعداد شك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آخر من أشكال العليقة الطرية تعرف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سيلاج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والذي يتم فيه فرم الأسماك أو مخلفاتها ث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ضاف إليها حمـض الخليـ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etic acid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حمض النملي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ic acid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لزيا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موضيتها حتى لا تنمو عليها البكتيريا المسببة للتعفن أو تتغير خواصها الغذائية عن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فظها لفترة طويلة ومن ثم يحفظ الخليط بعد ذلك في أواني بلاستيكية ويضاف على سطح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إناء مادة مانعة للأكسدة حتى لا تتأكسد الدهون على سطح الإناء ( يتزنخ الخليط ) وتغط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واني جيداً حيث يمكن حفظها لعدة شهور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شهور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ائق الجا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هذه العلائق على العناصر الغذائية الأساسية والضرورية لتحقيق نمو جيد ل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شمل هذه العناصر البروتينات والدهون والكربوهيدرات والفيتامينات والأملاح المعدن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لعلائق الجافة في تركيبها من حيث نسبة العناصـر المكونة لها تبعاً لاختلاف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نواع الأسماك وأعمـارها ومراحـل نمو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لعلائق الجافة في شكلها ( كريات/ مكعبات/ مجروشة/ حبيبات دقيقة ) وخواص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( طافية/ غاطسة ) تبعاً لنفس الأسباب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البروتينات أهـم عناصـر العليقة لأنها أكثـر ما تحتاجـه الأسـماك فهـي العنصـ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ـاسي لبنــاء الجسـم ونمـوه ، وتمد الجسم باحتياجـاته من الأحـماض الأمينية الأسـاسـ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تي لا يستطيع الجسم تخليقها ذاتياً والتى تشتمل على عشرة أحماض تقريباً ه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ginine, Histidine, Isoleucine, Leucine, Lysine, Methionine, Phenylalanine, Threonine, Tryptophan, Valine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764640"/>
            <a:ext cx="8424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ا توفر البروتينات للجسم متطلباته من البروتين الوظـيفي كالأنزيمات والهرمونات ، وه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يضاً مصدراً للطاق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سم البروتينات إلى نوعين حسب مصـدرها ، النوع الأول هو البروتين الحيـواني الذ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صدره مسحوق السـمك المجفف ومسحوق اللحم والدم المجففين ومسحوق مخلفات المجاز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ما النوع الثاني فهو البروتين النباتي والذي مصدره الأشهر فول الصويا وبشكل ع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نباتات مثل بذور المحاصيل الزيتية والبقوليات والطحال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توى البروتيني لعلائق الأسماك تحكمه أنواع الأسماك وأعمارها وكثافة الترب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 درجة حرارة المياه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الدهون مصدراً أساسياً للطاقة في عليقة الأسماك كما تعتبر مصدرا للأحماض الدهن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اسية اللازمة للنمو الطبيعي حيث لا تستطيع الأسـماك تخليق هذه الأحم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جـود الدهـون في الوجبة الغذائية يساعد في امتصاص الفيتامينات الذائبة في الدهو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691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يمكن إضافة الدهون مباشرة إلى العلائق عن طريق إضافة الزيوت أو إضافة بذو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حاصيل الزيتية إلى العليق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من أرخص مصادر الطاقة حيث تتوفر في الكثير من المواد رخيصة الثمن مث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مخلفات النباتية ومخلفات مطاحن الحبوب ، إلا أنها مهمة في علائق الأسماك نباتية التغذ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سماك المياه العذبة الدافئة تستطيع هضم الكربوهيدرات أفضل من أسماك المياه الباردة أو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الح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قدرة الأسماك على الأستفادة من الكربوهيدرات تختلف بإختلاف انواع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يتامين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لعب الفيتامينات دوراً هاماً في عمليات التمثيل الغذائي ونمو الأسماك والتكاثر والحال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صحية بشكل عام ولذا فهي من العناصر الضرورية ، التي تقوم بدور مهم في حما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من كثير من الأمر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9T22:49:38Z</dcterms:modified>
  <cp:revision>561</cp:revision>
  <dc:subject/>
  <dc:title>Principals of General Zoology (Zoo-103)</dc:title>
</cp:coreProperties>
</file>