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49A-6257-4085-962F-BAE9AF67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189-7B7D-437A-8018-917AD9DD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464-0692-4B45-800E-FDFE74D7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69C-D976-45BD-AD34-B5B7A872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DC24-3C8D-43DD-9DA9-A3FD1CFD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14E6-D3FD-44B8-9A67-9704A80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A759-1228-4E8B-85CE-310BFBE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40F7-7956-4462-8B3E-FF34D8B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E04F-A269-4D43-9F40-D61C4A2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BEFD-A70E-4705-A30D-55298C93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C9AC-E8DC-4425-A557-7A9BE49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EDE-76AA-4644-8602-A8E0404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301A-782C-409C-A704-6D8E37F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3270-CEC1-4A62-8638-308C300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E462-C63A-48E1-BDD2-F02A16EA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16DD-8381-40E6-84D6-10876133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6959-6357-4542-AC76-4A81339B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F88A-C033-49B7-A0E9-C9BA5C9F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1D40-304A-438C-9878-0584311B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DF34-A323-49A7-8A02-CC289BA7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EF93-CB68-4B5C-B380-8CE52DDC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B44C-E494-44B7-BB1C-3D297B99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38C-EB20-48BD-8EA3-C672E7A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0F53-8E82-411A-9ADC-3D25B79A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9AAD-D01E-40B2-BF9D-C0257610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0AFD-C3D3-4648-BBDB-2400B4C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7550-5C84-40F1-BA00-DCC364A1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5862-9F66-4E2A-95F0-E1D6A05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11ED-92EC-4C42-B993-79B9B07D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1677-248C-419B-92F7-595F1986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A5FB-1DAB-4441-9E4F-8D23310D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9901-1238-4034-BF13-6575506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90D3-0C51-4597-A549-AF29EA3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218-F36E-4F94-8BE3-79C13EC4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7C4E4-B72A-4016-B8CF-779AFC9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0D91-228D-4744-8EB9-F7CE79E0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00C1-6ED1-4374-85A1-F2FCAA0D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1508-FF45-4369-8B38-D4D5FB9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15AD-D288-4950-A4F4-98DE105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8EBD-BDBB-4170-9D5E-DC25451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441C-08F5-4B32-A669-6B8399B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D714-037F-49DF-9CB4-19C8585C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B1C3-BD4E-4594-815A-E849F21B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420-DCCF-4B62-8A7C-4CDEC60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755-4C78-4861-B337-F2A7932E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499-5760-4FD6-A458-73712733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47B-1630-4F42-A716-D5F0C0F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BF0-6E93-446D-8FD8-A4C55E9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9CA-E45F-4D5D-8154-66550CC60A5A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B9C-B207-4741-98D6-31C6AB5FE952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D38-1327-4E49-8F86-DACA3FA7689A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BF28-B432-43F8-8218-4CD45FCDDD09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C:\Users\hp\Desktop\صور بيئات مائية\coral-reef-528x396.jpg"/>
          <p:cNvPicPr/>
          <p:nvPr/>
        </p:nvPicPr>
        <p:blipFill>
          <a:blip r:embed="rId1"/>
          <a:stretch/>
        </p:blipFill>
        <p:spPr>
          <a:xfrm>
            <a:off x="4643280" y="2060640"/>
            <a:ext cx="4105440" cy="352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C:\Users\hp\Desktop\صور بيئات مائية\Marine-Life-sea-life-7591165-500-375.jpg"/>
          <p:cNvPicPr/>
          <p:nvPr/>
        </p:nvPicPr>
        <p:blipFill>
          <a:blip r:embed="rId2"/>
          <a:stretch/>
        </p:blipFill>
        <p:spPr>
          <a:xfrm>
            <a:off x="395280" y="2060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الشعاب المرجانية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ral reef zone</a:t>
            </a:r>
            <a:r>
              <a:rPr b="1" lang="en-US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عاب المرجا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هي عبارة عن مستعمرات (تجمعات) من حيوانات المرجان ( ينتمي لشعبة اللاسع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أو الجوفمعوي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elentera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حيث تشترك مجموعة من البوليب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olyp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في تكوين المستعمرة (تسمي الحيوانات بانية الشعاب) والتي يختلف شكلها باختلاف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نوع المرجا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illar Coral                    Brain Coral                      Maze Coral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شريح البولي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C:\Users\hp\Desktop\صور بيئات مائية\220px-Coral_polyp.jpg"/>
          <p:cNvPicPr/>
          <p:nvPr/>
        </p:nvPicPr>
        <p:blipFill>
          <a:blip r:embed="rId1"/>
          <a:stretch/>
        </p:blipFill>
        <p:spPr>
          <a:xfrm>
            <a:off x="7093080" y="2708280"/>
            <a:ext cx="1726920" cy="316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hp\Desktop\صور بيئات مائية\119px-PillarCoral.jpg"/>
          <p:cNvPicPr/>
          <p:nvPr/>
        </p:nvPicPr>
        <p:blipFill>
          <a:blip r:embed="rId2"/>
          <a:stretch/>
        </p:blipFill>
        <p:spPr>
          <a:xfrm>
            <a:off x="324000" y="3500280"/>
            <a:ext cx="1896840" cy="259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C:\Users\hp\Desktop\صور بيئات مائية\240px-Meandrina_meandrites_(Maze_Coral).jpg"/>
          <p:cNvPicPr/>
          <p:nvPr/>
        </p:nvPicPr>
        <p:blipFill>
          <a:blip r:embed="rId3"/>
          <a:stretch/>
        </p:blipFill>
        <p:spPr>
          <a:xfrm>
            <a:off x="4427640" y="3500280"/>
            <a:ext cx="2520720" cy="259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C:\Users\hp\Desktop\صور بيئات مائية\169px-Brain_coral.jpg"/>
          <p:cNvPicPr/>
          <p:nvPr/>
        </p:nvPicPr>
        <p:blipFill>
          <a:blip r:embed="rId4"/>
          <a:stretch/>
        </p:blipFill>
        <p:spPr>
          <a:xfrm>
            <a:off x="2268360" y="3500280"/>
            <a:ext cx="20876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ushroom Coral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ed Co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Users\hp\Desktop\صور بيئات مائية\200px-Muchroom_coral.JPG"/>
          <p:cNvPicPr/>
          <p:nvPr/>
        </p:nvPicPr>
        <p:blipFill>
          <a:blip r:embed="rId1"/>
          <a:stretch/>
        </p:blipFill>
        <p:spPr>
          <a:xfrm>
            <a:off x="4932360" y="98100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hp\Desktop\صور بيئات مائية\المرجان.JPG"/>
          <p:cNvPicPr/>
          <p:nvPr/>
        </p:nvPicPr>
        <p:blipFill>
          <a:blip r:embed="rId2"/>
          <a:stretch/>
        </p:blipFill>
        <p:spPr>
          <a:xfrm>
            <a:off x="395280" y="765000"/>
            <a:ext cx="4464000" cy="2592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C:\Users\hp\Desktop\صور بيئات مائية\corail-2.jpg"/>
          <p:cNvPicPr/>
          <p:nvPr/>
        </p:nvPicPr>
        <p:blipFill>
          <a:blip r:embed="rId3"/>
          <a:stretch/>
        </p:blipFill>
        <p:spPr>
          <a:xfrm>
            <a:off x="395280" y="3860640"/>
            <a:ext cx="3313080" cy="266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C:\Users\hp\Desktop\صور بيئات مائية\nD3y5Ce.jpg"/>
          <p:cNvPicPr/>
          <p:nvPr/>
        </p:nvPicPr>
        <p:blipFill>
          <a:blip r:embed="rId4"/>
          <a:stretch/>
        </p:blipFill>
        <p:spPr>
          <a:xfrm>
            <a:off x="3851280" y="4292640"/>
            <a:ext cx="5041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ون جسم البوليب من ثلاثة أجزاء ( القرص القاعدي ـ الجذع ـ التاج 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غذى المرجان على الهائمات الحيوانية والكائنات الحية الدقيقة وذلك بمساعدة اللوامس المحيطة بالف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نوع من الطحالب المتعايشة تعرف بإ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anthellae</a:t>
            </a:r>
            <a:r>
              <a:rPr b="0" i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يش داخل أنسجة بعض الحيوان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نية الشعاب (داخل طبقة الأندوديرم) تقوم هذه الطحالب بعملية البناء الضوئي مكونة مادة غذائ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ضوية ومن ثم تنتقل هذه المادة العضوية الذائبة إلى أنسجة الحيوانات بانية الشعاب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عاب المرجانية في حالة نمو مستمر إلا أنه يتسم بالبطء الشديد (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في السنة ) ويكون النمو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رأسيا وأفقيا حيث يبدأ النمو رأسياً إلى أن يصل قرب سطح الماء ثم يتحول النمو أفقيا حيث يزداد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رضها وتحتل مساحة كبيرة من قاع البح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ستخدم الحيوانات بانية الشعاب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في إنتاج كربونات الصوديو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ازمة لبناء الهيك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صلب للشعاب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∴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عاب المرجانية :هي فصيلة من الحيوانات اللافقارية التي لها هيكل صلب (حجرية الهيكل) مغطا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طبقة واقية من كربونات الكالسيوم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ي هياكل تتكون من كائنات حية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171360" cy="409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171360" cy="409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                        منطقةالشعاب المرجانية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ral reef z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التي توجد بها مستعمرات الشعاب المرجانية وتضم إلى جانب الحيوانات بانية الشعاب تنوعا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بيراً من الكائنات الحية حيث تنتشر بصورة واسعة في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مياه الدافئة الضحلة من العال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درجة الحرارة المفضلة لبناء الشعاب المرجانية تتراوح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8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ن حيث عمق المياه فإن الشعاب المرجانية تتواجد إبتداء من أخفض نقطة تغطيها مياة البحر حت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بر منطقة الشعاب المرجانية من المناطق الأكثر إنتاجية وتنوعا للكائنات الحية في البيئة البح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ل تعتبر أغنى الأنظمة البيئية وأكثرها تنوعا على وجه الأر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منطقة الشعاب المرجانية مناظرة للغابات الإستوائية المطيرة في البيئة الأرضية من حيث وف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نواع وتعقيد التركيب وقد وصفها دارون بانها عبارة عن واحات في البح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أنواع من الكائنات لها القدرة على بناء شعاب مرجانية (تختلف عن الأنواع الإعتيادية) في المياه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ميقة المظلمة من حافة الجرف القاري حيث تتراوح درجة الحرارة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 وعلى عمق يتراوح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8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نوع ثالث من الكائنات المكونة للشعاب المرجانية تقضل درجات الحرارة المنخفضة 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) إلا أن هذه الكائنات ذات معيشة فردية ولا تكون مستعمر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عوامل البيئية التي تؤثر على نمو الشعاب المرجانية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عوامل غير الحية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A biotic factors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عوامل الحية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Biotic factors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cs typeface="Majalla UI"/>
              </a:rPr>
              <a:t>أولاً :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onstantia"/>
                <a:cs typeface="Majalla UI"/>
              </a:rPr>
              <a:t>العوامل غير الحية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  <a:ea typeface="Majalla UI"/>
              </a:rPr>
              <a:t>A biotic factors</a:t>
            </a: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ضوء                  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كارة (الكدرة)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درجة الحرا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لوحة                 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غذي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cs typeface="Majalla UI"/>
              </a:rPr>
              <a:t>ثانياً :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onstantia"/>
                <a:cs typeface="Majalla UI"/>
              </a:rPr>
              <a:t>العوامل الحية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  <a:ea typeface="Majalla UI"/>
              </a:rPr>
              <a:t>Biotic factors</a:t>
            </a: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وامل إيجابية التأثير (الطحالب المتعايشة تعرف بإ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anthella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كائنات تتغذي على الحيوانات بانية الشعاب ( بعض أنواع الأسماك وبعض اللافقاريات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نجم البحر المعروف با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lanci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canthas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يقوم  بالحفر في أجسام الحيوانات بانية الشعاب ويخرج أمعائها  ويذيب الأجزاء الدقيقة ويمتصها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كائنات تقوم  بالحفر في أجسام الحيوانات بانية الشعاب (بعض أنوع الأسفنج ـ بعض الديدان عديد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شواك ـ الرخويات من ذوات المصراعين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أنواع الشعاب المرجانية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الشعاب المرجانية إلى ثلاثة أنواع رئيسية هى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عاب الهدابية أو الطرفية أو الحافية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Fring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عاب الحاجزة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عاب الأتولية (شعاب الجزر المرجانية الأستوائية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Atol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Atolls Reef                                         Barrier Reef                               Fring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C:\Users\hp\Desktop\صور بيئات مائية\fringing reef image.png"/>
          <p:cNvPicPr/>
          <p:nvPr/>
        </p:nvPicPr>
        <p:blipFill>
          <a:blip r:embed="rId1"/>
          <a:stretch/>
        </p:blipFill>
        <p:spPr>
          <a:xfrm>
            <a:off x="6300720" y="3357720"/>
            <a:ext cx="2511360" cy="2735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hp\Desktop\صور بيئات مائية\las-islas-fiji-1-728.jpg"/>
          <p:cNvPicPr/>
          <p:nvPr/>
        </p:nvPicPr>
        <p:blipFill>
          <a:blip r:embed="rId2"/>
          <a:stretch/>
        </p:blipFill>
        <p:spPr>
          <a:xfrm>
            <a:off x="3276720" y="3357720"/>
            <a:ext cx="2950920" cy="273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hp\Desktop\صور بيئات مائية\1200px-Mvey0290.jpg"/>
          <p:cNvPicPr/>
          <p:nvPr/>
        </p:nvPicPr>
        <p:blipFill>
          <a:blip r:embed="rId3"/>
          <a:stretch/>
        </p:blipFill>
        <p:spPr>
          <a:xfrm>
            <a:off x="395280" y="3357720"/>
            <a:ext cx="2813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280" y="764640"/>
            <a:ext cx="82915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كائنات منطقة الشعاب المرجانية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وفر منطقة الشعاب المرجانية بيئة مناسبة للعديد من الكائات الحية (التي تعيش بين الشعاب) ومنها: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رخويات ذات الأصداف الملونة الجذابة مثل النوع المعروف بإ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haroma triton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ختلف من نجوم البحر أشهرها النوع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canthaster planc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ديد من الديدان البحر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قنافد البحر وأشهرها النوع المعروف باسم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eterocentrotus mammillat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ديد من القشريات أهمها الروبيان والسرطان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ماك تتواجد بكثرة و بأنواع عديدة وألوان زاهية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6T21:14:33Z</dcterms:modified>
  <cp:revision>293</cp:revision>
  <dc:subject/>
  <dc:title>Principals of General Zoology (Zoo-103)</dc:title>
</cp:coreProperties>
</file>