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546-ADA8-4A44-9335-CCB4CCAB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BAC-DF77-4B8D-AAF6-A5DB8F5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E33-6861-4DD2-8FEC-4E1CCAE4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A67-AA2A-47E0-8423-A9A6A194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1DC8-34C8-414F-B0AE-6E8446AD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F5A8-071C-4ADC-A3C6-4FD2DD35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39A6-00ED-44CA-9185-BC69DC4D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9CE4-A53A-47A2-BB13-7AB6AD57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5AB7-CBC4-4D55-9699-F9B4496C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B080-FF47-4AD2-A137-3E0F9B29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1011-8FE3-42BA-B3E0-D8D96C5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D03-7EB3-4B6A-A833-859A959D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D8E1-35E1-42F8-90D2-DB160C20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3093-BF31-4EDC-8686-8C276448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A065-4ACB-4CC8-BD15-C7CF0B7F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7C60-AF75-4702-B408-017705C7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AA43-2FCC-4622-B83A-5B9B9620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99947-F244-4A64-B343-00570D4E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6CE8-9E9D-49A0-8FFB-159FF86E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3E35-5A4C-4C40-9A84-F041C4EC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AE69-6287-4FD8-B1C3-E0A1022B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EFA1-83BB-4FE2-A2F2-859146C2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3EB-6FDD-4AAF-82DC-F336AB30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FB434-57AD-4426-A7EF-20CBCD3C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18FF-4EF3-4BF1-B433-70E446E0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6F75-63EB-4D95-B5B3-E289F2E7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E0F9-7787-4E33-9F82-12A014B5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2675-DD10-4005-9065-27A84D88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C507-7897-4ACE-9636-6A4EDB70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B7C8-0275-4435-8C64-01658EBA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E39E5-272A-40E5-B8D0-1B095D77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6B5F-6DA8-4638-94B1-A8C20DC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DEDB4-8238-467E-A733-88D83D3C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A13-B71F-4825-86E1-BDB672A7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4AACD-076E-4E93-9FC1-4A2FE0E6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CA74-CA5D-47AC-8CDA-FD995618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73C54-2F80-4E4C-B94D-D2EAA550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85CA-B6E0-403A-961A-C71FC56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0B772-B2EB-4DF6-A574-6BD6A9BD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5C88-BC44-4AC2-B235-4CC3DD1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56C14-C744-4CA3-82DC-D8DB971A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D7E1-8F92-4014-8FB0-124BBD06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424C8-A6F4-4C96-A9EE-76DC45EF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90B-7EEE-473C-9DCA-92B91BBF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C7B-9EB9-4CB1-B387-FBBFE5C4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285-1788-48A9-B280-A8927BA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98B-132C-4077-B19E-732CB887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ED8-9BF6-410C-ABB4-6829D7D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4D11-6705-4866-9A46-7B53DBD892B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3A2B-3673-42E0-ABDA-7C24235BA6B7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13A0-77CD-453D-BE31-D2CF1D284867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C0DB-3F1B-4EC0-B0A7-8B6922209128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16000" y="1052640"/>
            <a:ext cx="69850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C:\Users\hp\Desktop\صور بيئات مائية\coral-reef-528x396.jpg"/>
          <p:cNvPicPr/>
          <p:nvPr/>
        </p:nvPicPr>
        <p:blipFill>
          <a:blip r:embed="rId1"/>
          <a:stretch/>
        </p:blipFill>
        <p:spPr>
          <a:xfrm>
            <a:off x="4643280" y="2060640"/>
            <a:ext cx="4105440" cy="3529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C:\Users\hp\Desktop\صور بيئات مائية\Marine-Life-sea-life-7591165-500-375.jpg"/>
          <p:cNvPicPr/>
          <p:nvPr/>
        </p:nvPicPr>
        <p:blipFill>
          <a:blip r:embed="rId2"/>
          <a:stretch/>
        </p:blipFill>
        <p:spPr>
          <a:xfrm>
            <a:off x="395280" y="206064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rine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البيئة البحرية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الشعاب المرجانية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ral reef zone</a:t>
            </a:r>
            <a:r>
              <a:rPr b="1" lang="en-US" sz="2400" spc="-1" strike="noStrike">
                <a:solidFill>
                  <a:srgbClr val="c00000"/>
                </a:solidFill>
                <a:latin typeface="Stenci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عاب المرجا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هي عبارة عن مستعمرات (تجمعات) من حيوانات المرجان ( ينتمي لشعبة اللاسع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أو الجوفمعويات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elentera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 حيث تشترك مجموعة من البوليبات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olyp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في تكوين المستعمرة (تسمي الحيوانات بانية الشعاب) والتي يختلف شكلها باختلاف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نوع المرجا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Pillar Coral                    Brain Coral                      Maze Coral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تشريح البولي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C:\Users\hp\Desktop\صور بيئات مائية\220px-Coral_polyp.jpg"/>
          <p:cNvPicPr/>
          <p:nvPr/>
        </p:nvPicPr>
        <p:blipFill>
          <a:blip r:embed="rId1"/>
          <a:stretch/>
        </p:blipFill>
        <p:spPr>
          <a:xfrm>
            <a:off x="7093080" y="2708280"/>
            <a:ext cx="1726920" cy="3168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hp\Desktop\صور بيئات مائية\119px-PillarCoral.jpg"/>
          <p:cNvPicPr/>
          <p:nvPr/>
        </p:nvPicPr>
        <p:blipFill>
          <a:blip r:embed="rId2"/>
          <a:stretch/>
        </p:blipFill>
        <p:spPr>
          <a:xfrm>
            <a:off x="324000" y="3500280"/>
            <a:ext cx="1896840" cy="259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C:\Users\hp\Desktop\صور بيئات مائية\240px-Meandrina_meandrites_(Maze_Coral).jpg"/>
          <p:cNvPicPr/>
          <p:nvPr/>
        </p:nvPicPr>
        <p:blipFill>
          <a:blip r:embed="rId3"/>
          <a:stretch/>
        </p:blipFill>
        <p:spPr>
          <a:xfrm>
            <a:off x="4427640" y="3500280"/>
            <a:ext cx="2520720" cy="259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C:\Users\hp\Desktop\صور بيئات مائية\169px-Brain_coral.jpg"/>
          <p:cNvPicPr/>
          <p:nvPr/>
        </p:nvPicPr>
        <p:blipFill>
          <a:blip r:embed="rId4"/>
          <a:stretch/>
        </p:blipFill>
        <p:spPr>
          <a:xfrm>
            <a:off x="2268360" y="3500280"/>
            <a:ext cx="20876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ushroom Coral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Red Cor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C:\Users\hp\Desktop\صور بيئات مائية\200px-Muchroom_coral.JPG"/>
          <p:cNvPicPr/>
          <p:nvPr/>
        </p:nvPicPr>
        <p:blipFill>
          <a:blip r:embed="rId1"/>
          <a:stretch/>
        </p:blipFill>
        <p:spPr>
          <a:xfrm>
            <a:off x="4932360" y="981000"/>
            <a:ext cx="3960720" cy="32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hp\Desktop\صور بيئات مائية\المرجان.JPG"/>
          <p:cNvPicPr/>
          <p:nvPr/>
        </p:nvPicPr>
        <p:blipFill>
          <a:blip r:embed="rId2"/>
          <a:stretch/>
        </p:blipFill>
        <p:spPr>
          <a:xfrm>
            <a:off x="395280" y="765000"/>
            <a:ext cx="4464000" cy="2592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C:\Users\hp\Desktop\صور بيئات مائية\corail-2.jpg"/>
          <p:cNvPicPr/>
          <p:nvPr/>
        </p:nvPicPr>
        <p:blipFill>
          <a:blip r:embed="rId3"/>
          <a:stretch/>
        </p:blipFill>
        <p:spPr>
          <a:xfrm>
            <a:off x="395280" y="3860640"/>
            <a:ext cx="3313080" cy="266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C:\Users\hp\Desktop\صور بيئات مائية\nD3y5Ce.jpg"/>
          <p:cNvPicPr/>
          <p:nvPr/>
        </p:nvPicPr>
        <p:blipFill>
          <a:blip r:embed="rId4"/>
          <a:stretch/>
        </p:blipFill>
        <p:spPr>
          <a:xfrm>
            <a:off x="3851280" y="4292640"/>
            <a:ext cx="5041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ون جسم البوليب من ثلاثة أجزاء ( القرص القاعدي ـ الجذع ـ التاج 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غذى المرجان على الهائمات الحيوانية والكائنات الحية الدقيقة وذلك بمساعدة اللوامس المحيطة بالف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وجد نوع من الطحالب المتعايشة تعرف بإسم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Zooanthellae</a:t>
            </a:r>
            <a:r>
              <a:rPr b="0" i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يش داخل أنسجة بعض الحيوان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انية الشعاب (داخل طبقة الأندوديرم) تقوم هذه الطحالب بعملية البناء الضوئي مكونة مادة غذائ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ضوية ومن ثم تنتقل هذه المادة العضوية الذائبة إلى أنسجة الحيوانات بانية الشعاب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عاب المرجانية في حالة نمو مستمر إلا أنه يتسم بالبطء الشديد (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في السنة ) ويكون النمو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رأسيا وأفقيا حيث يبدأ النمو رأسياً إلى أن يصل قرب سطح الماء ثم يتحول النمو أفقيا حيث يزداد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رضها وتحتل مساحة كبيرة من قاع البح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ستخدم الحيوانات بانية الشعاب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في إنتاج كربونات الصوديوم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ar-SA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ازمة لبناء الهيك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صلب للشعاب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∴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عاب المرجانية :هي فصيلة من الحيوانات اللافقارية التي لها هيكل صلب (حجرية الهيكل) مغطا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طبقة واقية من كربونات الكالسيوم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ي هياكل تتكون من كائنات حية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171360" cy="4096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0" y="457200"/>
            <a:ext cx="171360" cy="409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8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                        منطقةالشعاب المرجانية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ral reef z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طقة التي توجد بها مستعمرات الشعاب المرجانية وتضم إلى جانب الحيوانات بانية الشعاب تنوعا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بيراً من الكائنات الحية حيث تنتشر بصورة واسعة في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مياه الدافئة الضحلة من العال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درجة الحرارة المفضلة لبناء الشعاب المرجانية تتراوح بي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8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°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ن حيث عمق المياه فإن الشعاب المرجانية تتواجد إبتداء من أخفض نقطة تغطيها مياة البحر حت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مق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تبر منطقة الشعاب المرجانية من المناطق الأكثر إنتاجية وتنوعا للكائنات الحية في البيئة البح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ل تعتبر أغنى الأنظمة البيئية وأكثرها تنوعا على وجه الأر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عد منطقة الشعاب المرجانية مناظرة للغابات الإستوائية المطيرة في البيئة الأرضية من حيث وفر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نواع وتعقيد التركيب وقد وصفها دارون بانها عبارة عن واحات في البحا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أنواع من الكائنات لها القدرة على بناء شعاب مرجانية (تختلف عن الأنواع الإعتيادية) في المياه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عميقة المظلمة من حافة الجرف القاري حيث تتراوح درجة الحرارة بي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°م وعلى عمق يتراوح بي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6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8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وجد نوع ثالث من الكائنات المكونة للشعاب المرجانية تقضل درجات الحرارة المنخفضة (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°م) إلا أن هذه الكائنات ذات معيشة فردية ولا تكون مستعمر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4000" y="836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عوامل البيئية التي تؤثر على نمو الشعاب المرجانية</a:t>
            </a: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أ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عوامل غير الحية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A biotic factors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    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ب-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cs typeface="Majalla UI"/>
              </a:rPr>
              <a:t>العوامل الحية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Biotic factors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ff"/>
                </a:solidFill>
                <a:uFillTx/>
                <a:latin typeface="Constantia"/>
                <a:cs typeface="Majalla UI"/>
              </a:rPr>
              <a:t>أولاً :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onstantia"/>
                <a:cs typeface="Majalla UI"/>
              </a:rPr>
              <a:t>العوامل غير الحية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  <a:ea typeface="Majalla UI"/>
              </a:rPr>
              <a:t>A biotic factors</a:t>
            </a:r>
            <a:r>
              <a:rPr b="1" lang="ar-SA" sz="2000" spc="-1" strike="noStrike" u="sng">
                <a:solidFill>
                  <a:srgbClr val="0000ff"/>
                </a:solidFill>
                <a:uFillTx/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ضوء                  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عكارة (الكدرة)        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درجة الحرار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لوحة                 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غذي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ff"/>
                </a:solidFill>
                <a:uFillTx/>
                <a:latin typeface="Constantia"/>
                <a:cs typeface="Majalla UI"/>
              </a:rPr>
              <a:t>ثانياً :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onstantia"/>
                <a:cs typeface="Majalla UI"/>
              </a:rPr>
              <a:t>العوامل الحية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  <a:ea typeface="Majalla UI"/>
              </a:rPr>
              <a:t>Biotic factors</a:t>
            </a:r>
            <a:r>
              <a:rPr b="1" lang="ar-SA" sz="2000" spc="-1" strike="noStrike" u="sng">
                <a:solidFill>
                  <a:srgbClr val="0000ff"/>
                </a:solidFill>
                <a:uFillTx/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عوامل إيجابية التأثير (الطحالب المتعايشة تعرف بإسم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Zooanthella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كائنات تتغذي على الحيوانات بانية الشعاب ( بعض أنواع الأسماك وبعض اللافقاريات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نجم البحر المعروف باسم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lanci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canthas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يقوم  بالحفر في أجسام الحيوانات بانية الشعاب ويخرج أمعائها  ويذيب الأجزاء الدقيقة ويمتصها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كائنات تقوم  بالحفر في أجسام الحيوانات بانية الشعاب (بعض أنوع الأسفنج ـ بعض الديدان عديد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شواك ـ الرخويات من ذوات المصراعين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50920" y="764640"/>
            <a:ext cx="864216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أنواع الشعاب المرجانية</a:t>
            </a: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الشعاب المرجانية إلى ثلاثة أنواع رئيسية هى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عاب الهدابية أو الطرفية أو الحافية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ef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Fring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عاب الحاجزة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ef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عاب الأتولية (شعاب الجزر المرجانية الأستوائية)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ef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Atol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Reef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Atolls Reef                                         Barrier Reef                               Fring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3" descr="C:\Users\hp\Desktop\صور بيئات مائية\fringing reef image.png"/>
          <p:cNvPicPr/>
          <p:nvPr/>
        </p:nvPicPr>
        <p:blipFill>
          <a:blip r:embed="rId1"/>
          <a:stretch/>
        </p:blipFill>
        <p:spPr>
          <a:xfrm>
            <a:off x="6300720" y="3357720"/>
            <a:ext cx="2511360" cy="2735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hp\Desktop\صور بيئات مائية\las-islas-fiji-1-728.jpg"/>
          <p:cNvPicPr/>
          <p:nvPr/>
        </p:nvPicPr>
        <p:blipFill>
          <a:blip r:embed="rId2"/>
          <a:stretch/>
        </p:blipFill>
        <p:spPr>
          <a:xfrm>
            <a:off x="3276720" y="3357720"/>
            <a:ext cx="2950920" cy="2735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Users\hp\Desktop\صور بيئات مائية\1200px-Mvey0290.jpg"/>
          <p:cNvPicPr/>
          <p:nvPr/>
        </p:nvPicPr>
        <p:blipFill>
          <a:blip r:embed="rId3"/>
          <a:stretch/>
        </p:blipFill>
        <p:spPr>
          <a:xfrm>
            <a:off x="395280" y="3357720"/>
            <a:ext cx="2813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95280" y="764640"/>
            <a:ext cx="82915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cs typeface="Arial Unicode MS"/>
              </a:rPr>
              <a:t>كائنات منطقة الشعاب المرجانية</a:t>
            </a:r>
            <a:r>
              <a:rPr b="0" lang="ar-SA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وفر منطقة الشعاب المرجانية بيئة مناسبة للعديد من الكائات الحية (التي تعيش بين الشعاب) ومنها: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رخويات ذات الأصداف الملونة الجذابة مثل النوع المعروف بإسم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haroma triton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ختلف من نجوم البحر أشهرها النوع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canthaster planc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ديد من الديدان البحري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قنافد البحر وأشهرها النوع المعروف باسم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eterocentrotus mammillat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ديد من القشريات أهمها الروبيان والسرطان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ماك تتواجد بكثرة و بأنواع عديدة وألوان زاهية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16T21:14:33Z</dcterms:modified>
  <cp:revision>293</cp:revision>
  <dc:subject/>
  <dc:title>Principals of General Zoology (Zoo-103)</dc:title>
</cp:coreProperties>
</file>