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DC03-15F4-4600-B7E3-D5A631996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8434-E8BB-417C-9CE9-421D1DDDF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C340-3CFC-41F8-82E7-793118A11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88A0-2287-4DFB-B380-3AE9DC6F3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80193-C47C-4D49-8493-D3D9F482F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CAD43-53ED-49CC-8A87-2C6F004DF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4F7AB-B633-4B1F-B838-3ED5503D5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4C363-9F23-4643-A888-50967183E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B7C48-95A4-470F-942F-E73C0C58D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D9E32-3D26-462F-8AE1-0BCAD965C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A8BD5-9AF4-4B5F-8945-3527836F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B5EE-BB78-4841-9623-257AAE312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35F63-9660-41DD-A32E-FB44E1AD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E377A-729D-4962-9707-2DF533B6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716FC-C864-4721-A8FE-BE566B4BE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B7F18-F39B-47EE-8507-1A3A603BD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7A621-D140-46BC-9A6B-6F65471BC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EECD5-C2D2-4C8E-B03A-14BD23D7E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12A9D-98E5-49ED-A273-350EC5645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30835-A991-4F50-BB37-6CDF80894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1E86B-93ED-4E06-A005-E560FDB9F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BB017-A919-41C7-A829-BEDBA8210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485B-6140-4A69-B6DE-DE131ECA5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E7836-B8BB-4A0D-B825-440773B58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4A2DA-9802-40D9-9ACD-D3326587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75CBB-D8D2-4BBE-B818-EDD57F23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0F5A6-A468-4254-BD0A-8F180ECA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0C3E9-A669-42E3-8D4B-FBCDFD834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D7241-43EC-4635-AC1C-679E2964A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0FF92-058B-413A-89BB-85CB9046B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50ED6-1113-4462-B899-E99FAB5C7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C268A-F313-47C1-AB17-A8DDB42A4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65AAF-75B2-48C1-A4B7-6C5356CBB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B19E-49D9-4979-9FAA-E0DEA865C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6CFF4-B798-41A7-9591-82803C773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EE1E3-646E-4BD1-B188-D6D0D131A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ED613-8211-4FAA-A30A-4EBF3F13A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0F26F-727E-4C1D-80CA-CF47DECD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86867-0002-4670-ABCE-3DA7CB7A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71445-E804-449C-93EC-5C8F657D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0193A-53C3-4108-BD92-6FDAFDD98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673FF-3E95-44E8-B736-7D228852E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60663-61C6-4D9A-9B36-37E8D527B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F3FB-20BA-413D-BB28-FE9135454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6297-DFB1-4BA3-AD34-C6E01D21D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9C2A-0619-4C3B-950B-F7734FE3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E17F-825A-4DA7-8787-B0760B8D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8103-8718-449A-8FA2-5A9F37EB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A212D-C0AA-4853-978F-AA5F9EFBA315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6DCCB-4712-4A4A-BC82-092ACE59BDE5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1179B-476C-4163-A692-E87C7AA0F7E6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AAE14-6A8F-4B79-8EFF-BEBA371F462B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07280" cy="1151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Calibri"/>
                <a:cs typeface="Traditional Arabic"/>
              </a:rPr>
              <a:t>أمراض الأسماك </a:t>
            </a:r>
            <a:br>
              <a:rPr sz="2800"/>
            </a:br>
            <a:r>
              <a:rPr b="1" lang="en-US" sz="3600" spc="-1" strike="noStrike">
                <a:solidFill>
                  <a:srgbClr val="04617b"/>
                </a:solidFill>
                <a:latin typeface="Calibri"/>
              </a:rPr>
              <a:t>Fish Diseases</a:t>
            </a:r>
            <a:r>
              <a:rPr b="1" lang="en-US" sz="36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6" name="Picture 5" descr="C:\Users\hp\Desktop\صور إستزراع سمكي\images (5).jpg"/>
          <p:cNvPicPr/>
          <p:nvPr/>
        </p:nvPicPr>
        <p:blipFill>
          <a:blip r:embed="rId1"/>
          <a:stretch/>
        </p:blipFill>
        <p:spPr>
          <a:xfrm>
            <a:off x="900000" y="2421000"/>
            <a:ext cx="3672000" cy="28796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C:\Users\hp\Desktop\صور إستزراع سمكي\images (6).jpg"/>
          <p:cNvPicPr/>
          <p:nvPr/>
        </p:nvPicPr>
        <p:blipFill>
          <a:blip r:embed="rId2"/>
          <a:stretch/>
        </p:blipFill>
        <p:spPr>
          <a:xfrm>
            <a:off x="4716360" y="2421000"/>
            <a:ext cx="4103640" cy="28954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Calibri"/>
                <a:cs typeface="Traditional Arabic"/>
              </a:rPr>
              <a:t>أمراض الأسماك </a:t>
            </a:r>
            <a:br>
              <a:rPr sz="2800"/>
            </a:br>
            <a:r>
              <a:rPr b="1" lang="en-US" sz="3600" spc="-1" strike="noStrike">
                <a:solidFill>
                  <a:srgbClr val="04617b"/>
                </a:solidFill>
                <a:latin typeface="Calibri"/>
              </a:rPr>
              <a:t>Fish Diseas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79280" y="2060640"/>
            <a:ext cx="8785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12760" indent="-2127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قد تتعرض الأسماك لمسببات الأمراض إلا أن ذلك قد لا يعني بالضرورة أن تصاب بها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نظراً لما تتمع به الأسماك من وسائل الحماية مثل:-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1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الطبقة المخاطية والحراشف اللتان تغطيان الجلد فتقلل من فرصة حدوث الأصابة بأيٍ من المسببات الخارجي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2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المناعة الطبيعية التي تتميز بها الأسماك وما تبديه من مقاومة لمسببات الأمراض قد تحول دون حدوث المرض تماماً كما هو الحال في الحيوانات الأرضية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ولمعرفة ما إذا كانت الأسماك مريضة أم لا يجب على المربي أن يلاحظ سلوكها من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حيث طريقة التغذية ، ومعدلات التنفس ومعدل سرعة السباحة والحركة ، وسلوك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الأسماك تجاه بعضها البعض بالحوض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r" rtl="1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4617b"/>
                </a:solidFill>
                <a:latin typeface="Arial Unicode MS"/>
                <a:ea typeface="Arial Unicode MS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24000" y="692280"/>
            <a:ext cx="842472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ملاحظة وجود أي شذوذ في سلوك الأسماك عن السلوك الطبيعي قد يكون دليلاً على إصابتها بمرض ما أو أن هناك اعتلال في البيئ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Constantia"/>
                <a:cs typeface="Majalla UI"/>
              </a:rPr>
              <a:t>الظواهر التالية تدل على أن الأسماك ليست في حالتها الطبيعية 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سباحة الأسماك وزعانفها ليست مفتوح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سباحة الأسماك ببطىء شديد وترنحها يميناً ويساراً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زيادة معدل التنفس بشكل ملحو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حركة السريعة والمتقطعة والدائرية للأسماك داخل الحوض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عدم محاولة الأسماك الهرب عند الاقتراب منها أو محاولة إثارتها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حك الأسماك لأجسامها على الأجسام الصلبة بالبركة ، أو على جوانب الحوض أوالشبكة بالقفص العائم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تغير ألوان الأسماك وخاصة أثناء النهار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24000" y="691920"/>
            <a:ext cx="864216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18160" indent="-21816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Constantia"/>
                <a:cs typeface="Majalla UI"/>
              </a:rPr>
              <a:t>أنواع أمراض الأسماك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nstantia"/>
                <a:cs typeface="Majalla UI"/>
              </a:rPr>
              <a:t>يمكن تقسيم أمراض الأسماك تبعاً لمسبباتها إلى الأنواع التالية </a:t>
            </a:r>
            <a:r>
              <a:rPr b="1" lang="ar-SA" sz="28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onstantia"/>
                <a:ea typeface="Majalla UI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Constantia"/>
                <a:ea typeface="Majalla UI"/>
              </a:rPr>
              <a:t>-</a:t>
            </a:r>
            <a:r>
              <a:rPr b="1" lang="ar-SA" sz="28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onstantia"/>
                <a:cs typeface="Majalla UI"/>
              </a:rPr>
              <a:t>الأمراض البكتيرية </a:t>
            </a:r>
            <a:r>
              <a:rPr b="1" lang="en-US" sz="2400" spc="-1" strike="noStrike">
                <a:solidFill>
                  <a:srgbClr val="c00000"/>
                </a:solidFill>
                <a:latin typeface="Constantia"/>
              </a:rPr>
              <a:t>   </a:t>
            </a:r>
            <a:r>
              <a:rPr b="1" lang="en-US" sz="2400" spc="-1" strike="noStrike">
                <a:solidFill>
                  <a:srgbClr val="c00000"/>
                </a:solidFill>
                <a:latin typeface="Constantia"/>
              </a:rPr>
              <a:t>Bacterial Diseases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ومن أمثلتها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- مرض التسمم الدموي                    - التقرح الجلدي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- حصبة الأسماك                           - تعفن الزعانف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- تعفن منطقة الفـم                         - كوليرا الأسماك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- ســل الأســماك                            - جنون الأسماك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onstantia"/>
                <a:ea typeface="Majalla UI"/>
              </a:rPr>
              <a:t>2</a:t>
            </a:r>
            <a:r>
              <a:rPr b="1" lang="ar-SA" sz="2800" spc="-1" strike="noStrike">
                <a:solidFill>
                  <a:srgbClr val="0000ff"/>
                </a:solidFill>
                <a:latin typeface="Constantia"/>
                <a:ea typeface="Majalla UI"/>
              </a:rPr>
              <a:t>-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onstantia"/>
                <a:cs typeface="Majalla UI"/>
              </a:rPr>
              <a:t>الأمراض الفطرية  </a:t>
            </a:r>
            <a:r>
              <a:rPr b="1" lang="en-US" sz="2400" spc="-1" strike="noStrike">
                <a:solidFill>
                  <a:srgbClr val="c00000"/>
                </a:solidFill>
                <a:latin typeface="Constantia"/>
              </a:rPr>
              <a:t>Fungal Diseases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ومن أهمها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- تعفن الخياشيم الفطري                    - مرض الغزل الفطري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3495c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250920" y="764640"/>
            <a:ext cx="864216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3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- </a:t>
            </a:r>
            <a:r>
              <a:rPr b="1" lang="ar-SA" sz="2400" spc="-1" strike="noStrike">
                <a:solidFill>
                  <a:srgbClr val="c00000"/>
                </a:solidFill>
                <a:latin typeface="Constantia"/>
                <a:cs typeface="Majalla UI"/>
              </a:rPr>
              <a:t>الأمراض الطفيلية </a:t>
            </a:r>
            <a:r>
              <a:rPr b="1" lang="en-US" sz="2400" spc="-1" strike="noStrike">
                <a:solidFill>
                  <a:srgbClr val="c00000"/>
                </a:solidFill>
                <a:latin typeface="Constantia"/>
              </a:rPr>
              <a:t>Parasitic Diseases</a:t>
            </a:r>
            <a:r>
              <a:rPr b="1" lang="ar-SA" sz="24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ومن أهمها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- مرض البقع البيضاء                     - مرض البقع الرمادية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4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- </a:t>
            </a:r>
            <a:r>
              <a:rPr b="1" lang="ar-SA" sz="2400" spc="-1" strike="noStrike">
                <a:solidFill>
                  <a:srgbClr val="c00000"/>
                </a:solidFill>
                <a:latin typeface="Constantia"/>
                <a:cs typeface="Majalla UI"/>
              </a:rPr>
              <a:t>الأمراض الفيروسية </a:t>
            </a:r>
            <a:r>
              <a:rPr b="1" lang="en-US" sz="2400" spc="-1" strike="noStrike">
                <a:solidFill>
                  <a:srgbClr val="c00000"/>
                </a:solidFill>
                <a:latin typeface="Constantia"/>
              </a:rPr>
              <a:t>Viral Disea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لسوء الحظ فإن المعروف عن فيروسات الأسماك حتى الآن قليل جداً إلا أن تعرض الأسماك للأمراض الفيروسية في البلاد الحارة وشبه الحارة نادراً ما يحدث ، خاصة إذا لم تتعرض أسماك هذه المناطق لظروف بيئية صعبة تضعف من جهازها المناعي . على العكس من أسماك المناطق الباردة وخصوصاً في أوروبا وكندا التى تزداد فبها فرص الإصابة بالأمراض الفيروسي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24000" y="764640"/>
            <a:ext cx="842472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onstantia"/>
                <a:cs typeface="Majalla UI"/>
              </a:rPr>
              <a:t>مميزات لحوم الأسماك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تتميز لحوم الأسماك بقيمة غذائية عالية كماً ونوعاً حيث تحتوي على:-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نسبة عالية من البروتين تقدر بحـوالي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60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ــ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90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٪ من الوزن الجاف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يحتوي البروتين السمكي على جميع الأحماض الأمينية الأساسية اللازمة للإنسان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يتميز بروتين الأسماك عن بقية البروتينات الحيوانية الأخرى بأن نسبة الأحماض الأمينية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 الحرة فيها عالية وهذا يعني أنه أسهل هضماً وذو جودة عالية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مما يميز البروتين السمكي أيضاً أنه مصدر للفيتامينات مثل فيتامين أ ، ب مركب ، ج ، د ، هـ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تحتوي لحوم الأسماك على الدهون وتحتوي دهون الأسماك على فيتامينات عدة مثل أ ، د ، هـ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تتميز دهون الأسماك كذلك باحتوائها على الأحماض الدهنية غير المشبعة التي لها تأثير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إيجابي مخفض لمستوى الكولسترول في الدم كما تقلل من نسب تجلط الدم الأمر الذي يؤدي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إلى خفض احتمالات الإصابة بأمراض القلب (</a:t>
            </a: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Harrison </a:t>
            </a:r>
            <a:r>
              <a:rPr b="0" i="1" lang="en-GB" sz="2200" spc="-1" strike="noStrike">
                <a:solidFill>
                  <a:srgbClr val="000000"/>
                </a:solidFill>
                <a:latin typeface="Constantia"/>
              </a:rPr>
              <a:t>et al.</a:t>
            </a: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, 2004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57200" y="836640"/>
            <a:ext cx="8229600" cy="54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تتميز دهون الأسماك كذلك باحتوائها على الأحماض الدهنية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Omega-3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والتي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تؤكد العديد من الدراسات أهميتها فيما يلي :-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     ــ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يؤدي تناولها إلى تقليل احتمالات الإصابة بأمراض الشريان التاجـي حيث تحول دون حدوث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 مرض اضطراب النظم (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Arrhythmias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بالإضافة إلى خفض ضغط الدم ومعدل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 ضربات القلب وتقليل تجمـع الصـفائح الدموية وكذلك خفض مستوى الدهـون الثلاثية عن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 طريق خفض إنتـاج الكـبد لها وزيـادة تخليص بلازمـا الدم منها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Harris </a:t>
            </a:r>
            <a:r>
              <a:rPr b="0" i="1" lang="en-GB" sz="2000" spc="-1" strike="noStrike">
                <a:solidFill>
                  <a:srgbClr val="000000"/>
                </a:solidFill>
                <a:latin typeface="Constantia"/>
              </a:rPr>
              <a:t>et al.,</a:t>
            </a: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 2008</a:t>
            </a: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بل إن هـناك دراسـة أخـرى  توصى بوجوب استخدام الأسماك ودهونها لعلاج مرضى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 الشريان التاجي أما الأصـحاء فعليهم تناول الأسـماك على الأقـل مرة أو مرتين أسبوعياً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Zatsick and Mayket, 2007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0" lang="ar-SA" sz="3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تتميز لحوم الأسماك أيضاً بغناها بالأمـلاح والمعـادن مثل الكالسيوم ، الصوديوم ،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البوتاسيوم ، المنجنيز ، اليود والفسفور وجـدير بالذكر أن الأسماك البحرية بصفة عامة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 تتفوق على أسماك المياه العذبة من حيث محتواها من الكالسيوم والحديد واليود وتكون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57200" y="764640"/>
            <a:ext cx="822960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نسبة التفوق عالية في حالة اليود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وربما لا يدرك الكثيرون خاصة من غير المتخصصين دور وأهمية الأمـلاح والمعادن لأجـل صحة الإنسـان وسلامته فمثلاً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</a:t>
            </a:r>
            <a:r>
              <a:rPr b="1" lang="ar-SA" sz="2800" spc="-1" strike="noStrike">
                <a:solidFill>
                  <a:srgbClr val="ff0000"/>
                </a:solidFill>
                <a:latin typeface="Constantia"/>
                <a:cs typeface="Majalla UI"/>
              </a:rPr>
              <a:t>ــ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يود ضروري جداً لنشاط الغدة الدرقية ويؤدي نقصه إلى تضخم في هذه الغدة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وبالتالي خلل في وظائفها وإفرازاتها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</a:t>
            </a:r>
            <a:r>
              <a:rPr b="1" lang="ar-SA" sz="2800" spc="-1" strike="noStrike">
                <a:solidFill>
                  <a:srgbClr val="ff0000"/>
                </a:solidFill>
                <a:latin typeface="Constantia"/>
                <a:cs typeface="Majalla UI"/>
              </a:rPr>
              <a:t>ــ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صوديوم فله أهمية في المحافظة على ضغط الدم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</a:t>
            </a:r>
            <a:r>
              <a:rPr b="1" lang="ar-SA" sz="2800" spc="-1" strike="noStrike">
                <a:solidFill>
                  <a:srgbClr val="ff0000"/>
                </a:solidFill>
                <a:latin typeface="Constantia"/>
                <a:cs typeface="Majalla UI"/>
              </a:rPr>
              <a:t>ــ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حفاظ على مستوى البوتاسيوم في الجسـم ضروري للمحافظة على أداء القلب لوظائفه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</a:t>
            </a:r>
            <a:r>
              <a:rPr b="1" lang="ar-SA" sz="2800" spc="-1" strike="noStrike">
                <a:solidFill>
                  <a:srgbClr val="ff0000"/>
                </a:solidFill>
                <a:latin typeface="Constantia"/>
                <a:cs typeface="Majalla UI"/>
              </a:rPr>
              <a:t>ــ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أما الكالسيوم فتكمن أهميته في أنه ضروري لصحة وسلامة العظام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8:13:50Z</dcterms:created>
  <dc:creator>Dr. A A</dc:creator>
  <dc:description/>
  <dc:language>en-US</dc:language>
  <cp:lastModifiedBy>hp</cp:lastModifiedBy>
  <dcterms:modified xsi:type="dcterms:W3CDTF">2017-12-16T22:53:17Z</dcterms:modified>
  <cp:revision>510</cp:revision>
  <dc:subject/>
  <dc:title>Principals of General Zoology (Zoo-103)</dc:title>
</cp:coreProperties>
</file>