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0AE-0789-47ED-A4EA-F7C52D0A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373-ACF0-467B-8239-63EDF50F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76B-8957-4CF4-A07A-E5266890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64B-A880-4BC2-801A-B2F8CCC0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74C1-29C2-41CC-8386-671AF714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FF6F-0720-4260-8AC3-378CE7EB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51A1-7667-4C17-A9DA-C557B03F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16EA-FB9A-4F59-A30A-9BE8687B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7648-C0A6-4153-8B78-28415A99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9891-02F9-43D6-8F9C-22D7F7D1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7A81-C04E-4FB4-9E11-49BFC1B6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314-DD3C-4E52-A20E-18747748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7AE7-755D-485A-9BE7-3DFC8E1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2162-8945-4840-BD4D-D8136E9D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8B6D-BAF6-4715-ABE5-75F77F3A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2BB3-964A-46D4-BF23-30B3570C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A0E2-66D6-4357-94E3-4B20ADCE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9439-F9FE-489C-AF6D-F535EDEA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E7A42-4F18-4B94-8114-FBE1EB9B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FE4A-AE14-4DF7-9662-B5F4BF2B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E4EC4-0A89-4BBC-BCAD-1A3DB605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CC67-9457-4A3F-8316-7309A9D0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AA2-3DD5-4E21-A521-87C04C30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DBB0-E866-4DCC-9611-8FFCEFE4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07C26-1153-493F-A540-21DBE4A7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5964-FDD4-40FC-858F-2AF11535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8C32-DBE2-4199-89D8-194096E8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C791-E538-481A-B1DC-BE473B49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BFF1-BC51-43B6-AEB1-9506732B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9665-27DA-42BD-A881-126C5636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A0CF-FEA8-45EE-B56F-9C61FEEA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FF530-3CF3-4F85-A1D7-0DF8F4D9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4A2CB-23FB-4ADD-B313-BED66C54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2BB-62E4-4E8B-8D41-061045D0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DF76C-F3C2-420B-A8DC-735CAF6A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DECCE-BADD-4C5E-A3AE-720A3B51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EDF5-0CCA-4FEE-A418-761AE9CA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B45FE-16A0-4DAD-A748-CF7914CE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79771-CFDE-47E9-AF62-B49D5636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71938-579D-4005-B55E-B36AC07F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D63B3-CF49-43FF-B435-AEF7FCF5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1376-D74B-40DC-953C-4F9EAABF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5CD74-09A4-40E2-96AE-7A563719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4B5-C05F-46E9-B7A7-015C494F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08D-8A79-4FE6-A5A7-91119303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DFB-D8B2-4D9A-AE5E-48170D20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D9E-E6BE-4276-84E9-9070E000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E7B-9F92-480C-A733-6B123966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669E-8102-41F8-8768-219DDC9C82E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D060-3747-48D2-AAE2-974BB23264CE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9D3E-B7D3-433D-B718-E94B2DDFD84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F926-77CF-4984-B1BE-E79D92096EC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07280" cy="115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أمراض الأسماك 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Fish Diseases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5" descr="C:\Users\hp\Desktop\صور إستزراع سمكي\images (5).jpg"/>
          <p:cNvPicPr/>
          <p:nvPr/>
        </p:nvPicPr>
        <p:blipFill>
          <a:blip r:embed="rId1"/>
          <a:stretch/>
        </p:blipFill>
        <p:spPr>
          <a:xfrm>
            <a:off x="900000" y="2421000"/>
            <a:ext cx="3672000" cy="2879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:\Users\hp\Desktop\صور إستزراع سمكي\images (6).jpg"/>
          <p:cNvPicPr/>
          <p:nvPr/>
        </p:nvPicPr>
        <p:blipFill>
          <a:blip r:embed="rId2"/>
          <a:stretch/>
        </p:blipFill>
        <p:spPr>
          <a:xfrm>
            <a:off x="4716360" y="2421000"/>
            <a:ext cx="4103640" cy="2895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أمراض الأسماك 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Fish Diseas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9280" y="206064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قد تتعرض الأسماك لمسببات الأمراض إلا أن ذلك قد لا يعني بالضرورة أن تصاب به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ظراً لما تتمع به الأسماك من وسائل الحماية مثل:-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طبقة المخاطية والحراشف اللتان تغطيان الجلد فتقلل من فرصة حدوث الأصابة بأيٍ من المسببات الخارج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مناعة الطبيعية التي تتميز بها الأسماك وما تبديه من مقاومة لمسببات الأمراض قد تحول دون حدوث المرض تماماً كما هو الحال في الحيوانات الأرضي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ولمعرفة ما إذا كانت الأسماك مريضة أم لا يجب على المربي أن يلاحظ سلوكها م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حيث طريقة التغذية ، ومعدلات التنفس ومعدل سرعة السباحة والحركة ، وسلو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سماك تجاه بعضها البعض بالحو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ملاحظة وجود أي شذوذ في سلوك الأسماك عن السلوك الطبيعي قد يكون دليلاً على إصابتها بمرض ما أو أن هناك اعتلال في البيئ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الظواهر التالية تدل على أن الأسماك ليست في حالتها الطبيعية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سباحة الأسماك وزعانفها ليست مفتوح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سباحة الأسماك ببطىء شديد وترنحها يميناً ويسارا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زيادة معدل التنفس بشكل ملحو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سريعة والمتقطعة والدائرية للأسماك داخل الحوض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دم محاولة الأسماك الهرب عند الاقتراب منها أو محاولة إثارته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حك الأسماك لأجسامها على الأجسام الصلبة بالبركة ، أو على جوانب الحوض أوالشبكة بالقفص العائ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ير ألوان الأسماك وخاصة أثناء النها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69192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onstantia"/>
                <a:cs typeface="Majalla UI"/>
              </a:rPr>
              <a:t>أنواع أمراض الأسما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تقسيم أمراض الأسماك تبعاً لمسبباتها إلى الأنواع التالية 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مراض البكتيرية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acterial Diseas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ومن أمثلته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مرض التسمم الدموي                    - التقرح الجلد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حصبة الأسماك                           - تعفن الزعان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تعفن منطقة الفـم                         - كوليرا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ســل الأســماك                            - جنون الأسماك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مراض الفطرية 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Fungal Diseases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من أهمه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تعفن الخياشيم الفطري                    - مرض الغزل الفطر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3495c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0920" y="764640"/>
            <a:ext cx="864216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مراض الطفيلية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Parasitic Diseases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من أهمه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مرض البقع البيضاء                     - مرض البقع الرماد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مراض الفيروسية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Viral Dis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لسوء الحظ فإن المعروف عن فيروسات الأسماك حتى الآن قليل جداً إلا أن تعرض الأسماك للأمراض الفيروسية في البلاد الحارة وشبه الحارة نادراً ما يحدث ، خاصة إذا لم تتعرض أسماك هذه المناطق لظروف بيئية صعبة تضعف من جهازها المناعي . على العكس من أسماك المناطق الباردة وخصوصاً في أوروبا وكندا التى تزداد فبها فرص الإصابة بالأمراض الفيروس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4000" y="764640"/>
            <a:ext cx="8424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مميزات لحوم الأسما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لحوم الأسماك بقيمة غذائية عالية كماً ونوعاً حيث تحتوي على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سبة عالية من البروتين تقدر بحـوالي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6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9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من الوزن الجاف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حتوي البروتين السمكي على جميع الأحماض الأمينية الأساسية اللازمة للإنسا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يز بروتين الأسماك عن بقية البروتينات الحيوانية الأخرى بأن نسبة الأحماض الأمين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حرة فيها عالية وهذا يعني أنه أسهل هضماً وذو جودة عال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ما يميز البروتين السمكي أيضاً أنه مصدر للفيتامينات مثل فيتامين أ ، ب مركب ، ج ، د ، هـ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وي لحوم الأسماك على الدهون وتحتوي دهون الأسماك على فيتامينات عدة مثل أ ، د ، هـ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ميز دهون الأسماك كذلك باحتوائها على الأحماض الدهنية غير المشبعة التي لها تأثي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إيجابي مخفض لمستوى الكولسترول في الدم كما تقلل من نسب تجلط الدم الأمر الذي يؤد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إلى خفض احتمالات الإصابة بأمراض القلب (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Harrison </a:t>
            </a:r>
            <a:r>
              <a:rPr b="0" i="1" lang="en-GB" sz="2200" spc="-1" strike="noStrike">
                <a:solidFill>
                  <a:srgbClr val="000000"/>
                </a:solidFill>
                <a:latin typeface="Constantia"/>
              </a:rPr>
              <a:t>et al.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, 2004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ميز دهون الأسماك كذلك باحتوائها على الأحماض الدهنية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mega-3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ت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ؤكد العديد من الدراسات أهميتها فيما يلي 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    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ؤدي تناولها إلى تقليل احتمالات الإصابة بأمراض الشريان التاجـي حيث تحول دون حدوث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مرض اضطراب النظم (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rrhythmia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لإضافة إلى خفض ضغط الدم ومعدل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ضربات القلب وتقليل تجمـع الصـفائح الدموية وكذلك خفض مستوى الدهـون الثلاثية عن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طريق خفض إنتـاج الكـبد لها وزيـادة تخليص بلازمـا الدم منها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Harris </a:t>
            </a:r>
            <a:r>
              <a:rPr b="0" i="1" lang="en-GB" sz="2000" spc="-1" strike="noStrike">
                <a:solidFill>
                  <a:srgbClr val="000000"/>
                </a:solidFill>
                <a:latin typeface="Constantia"/>
              </a:rPr>
              <a:t>et al.,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2008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ل إن هـناك دراسـة أخـرى  توصى بوجوب استخدام الأسماك ودهونها لعلاج مرضى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الشريان التاجي أما الأصـحاء فعليهم تناول الأسـماك على الأقـل مرة أو مرتين أسبوعيا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Zatsick and Mayket, 2007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ميز لحوم الأسماك أيضاً بغناها بالأمـلاح والمعـادن مثل الكالسيوم ، الصوديوم 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بوتاسيوم ، المنجنيز ، اليود والفسفور وجـدير بالذكر أن الأسماك البحرية بصفة عام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تتفوق على أسماك المياه العذبة من حيث محتواها من الكالسيوم والحديد واليود وتكو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سبة التفوق عالية في حالة اليود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ربما لا يدرك الكثيرون خاصة من غير المتخصصين دور وأهمية الأمـلاح والمعادن لأجـل صحة الإنسـان وسلامته فمثلاً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يود ضروري جداً لنشاط الغدة الدرقية ويؤدي نقصه إلى تضخم في هذه الغد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وبالتالي خلل في وظائفها وإفرازاتها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وديوم فله أهمية في المحافظة على ضغط الد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فاظ على مستوى البوتاسيوم في الجسـم ضروري للمحافظة على أداء القلب لوظائفه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 الكالسيوم فتكمن أهميته في أنه ضروري لصحة وسلامة العظا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16T22:53:17Z</dcterms:modified>
  <cp:revision>510</cp:revision>
  <dc:subject/>
  <dc:title>Principals of General Zoology (Zoo-103)</dc:title>
</cp:coreProperties>
</file>