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12C7D-CD0E-4949-BC38-F8D21321B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C48E4-F234-4184-868B-D3DF0F678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863E9-FD62-45FD-A337-CB75CA6F7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02C80-3791-4585-B12A-67F51DA3D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7909B-21CF-410D-A183-B2542F317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C8EFC-3E0C-4CF4-B872-8452EFCF4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A339A-9EE0-4AF8-AD8C-FB14C1B7E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925DD-8580-44CA-8A2F-5DCB72F9F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ABC2A-EAF1-499B-9958-48A14C12B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D7C96-DB08-4646-AF4A-1BFE4EF86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074CE-1A6A-4310-A9F4-251DD1EA5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9AF8-324C-4C0A-9E63-55F916A74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F43F5-2C31-4841-8863-06BD8202D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00756-9665-4B76-8682-F34A3419F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3D64D-D639-405E-8FD3-71C2E1529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D5688-0F1F-408B-98A3-58B2B7112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CC076-B791-4A90-BB28-D9448F832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DD60C0-25D3-4320-859C-44734187DC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B0734-86A2-4E4E-89A0-1E935BD3E8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AF5E52-DC8C-4B0C-AD3E-18D3825B3E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679FA0-380D-4935-AADD-A3A3EF52B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26D058-8C87-492D-86B6-A8596526F6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CC089-FF01-4839-9F0E-B95896AE9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D0102-CCCB-4857-AE3A-6AFDAC9D5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1EDBF-67A7-4F5A-A19F-63DFD7E2A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41C5D-EBB2-4548-AECF-152523429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2624B-FC5A-4F85-B926-16EBCA960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C3C8D-5CC1-451E-AEEE-59748F185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39354A-2A5C-4564-92FB-CEAC720D51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90E59C-1F2D-4CA5-8C1F-35FD124B3E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E5334-48E1-41FB-A334-F05114D46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360B5-9AF3-452F-A8E5-EF1455462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B77E6-73E1-4127-94FC-52B40663F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83CCF-124E-42E9-8B4A-0D10D5FB4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F329-A8DE-45D3-99B5-EA2D7F702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5400C-7654-4FCF-A0F8-6093A5E80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Arial Black"/>
              </a:rPr>
              <a:t>Click to edit the title text format</a:t>
            </a:r>
            <a:endParaRPr b="0" lang="en-US" sz="3600" spc="-1" strike="noStrike">
              <a:solidFill>
                <a:srgbClr val="242852"/>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2428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65F6-483D-4331-865D-B41B80A9D4FC}" type="slidenum">
              <a:rPr b="1" lang="ar-SA" sz="2400" spc="-1" strike="noStrike">
                <a:solidFill>
                  <a:srgbClr val="242852"/>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Arial Black"/>
              </a:rPr>
              <a:t>Click to edit the title text format</a:t>
            </a:r>
            <a:endParaRPr b="0" lang="en-US" sz="3600" spc="-1" strike="noStrike">
              <a:solidFill>
                <a:srgbClr val="242852"/>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5427-0250-46D5-98F8-42DA9A3895FF}"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Arial Black"/>
              </a:rPr>
              <a:t>Click to edit the title text format</a:t>
            </a:r>
            <a:endParaRPr b="0" lang="en-US" sz="3600" spc="-1" strike="noStrike">
              <a:solidFill>
                <a:srgbClr val="242852"/>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60DB-819D-40C9-B721-9C51D4659CE3}"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3640" y="1773000"/>
            <a:ext cx="8312040" cy="18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Black"/>
              </a:rPr>
              <a:t>النظام القانوني للتأمينات والضمان الاجتماعي في المملكة العربية السعودية</a:t>
            </a:r>
            <a:endParaRPr b="0" lang="en-US" sz="4000" spc="-1" strike="noStrike">
              <a:solidFill>
                <a:srgbClr val="242852"/>
              </a:solidFill>
              <a:latin typeface="Arial Black"/>
            </a:endParaRPr>
          </a:p>
        </p:txBody>
      </p:sp>
      <p:sp>
        <p:nvSpPr>
          <p:cNvPr id="130" name="PlaceHolder 2"/>
          <p:cNvSpPr>
            <a:spLocks noGrp="1"/>
          </p:cNvSpPr>
          <p:nvPr>
            <p:ph type="subTitle"/>
          </p:nvPr>
        </p:nvSpPr>
        <p:spPr>
          <a:xfrm>
            <a:off x="457200" y="3789000"/>
            <a:ext cx="8075520" cy="1925640"/>
          </a:xfrm>
          <a:prstGeom prst="rect">
            <a:avLst/>
          </a:prstGeom>
          <a:noFill/>
          <a:ln w="0">
            <a:noFill/>
          </a:ln>
        </p:spPr>
        <p:txBody>
          <a:bodyPr anchor="t">
            <a:noAutofit/>
          </a:bodyPr>
          <a:p>
            <a:pPr indent="0" algn="ctr" rtl="1">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rPr>
              <a:t>أ/ إيمان الشلول</a:t>
            </a:r>
            <a:endParaRPr b="1" lang="en-US" sz="2800" spc="-1" strike="noStrike">
              <a:solidFill>
                <a:srgbClr val="000000"/>
              </a:solidFill>
              <a:latin typeface="Arial"/>
            </a:endParaRPr>
          </a:p>
          <a:p>
            <a:pPr indent="0" algn="ctr" rtl="1">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rtl="1">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Black"/>
              </a:rPr>
              <a:t>إعداد الطالبة</a:t>
            </a:r>
            <a:endParaRPr b="1" lang="en-US" sz="2800" spc="-1" strike="noStrike">
              <a:solidFill>
                <a:srgbClr val="000000"/>
              </a:solidFill>
              <a:latin typeface="Arial"/>
            </a:endParaRPr>
          </a:p>
          <a:p>
            <a:pPr indent="0" algn="ctr" rtl="1">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Black"/>
              </a:rPr>
              <a:t>شهد القحطاني   </a:t>
            </a:r>
            <a:r>
              <a:rPr b="0" lang="ar-SA" sz="2800" spc="-1" strike="noStrike">
                <a:solidFill>
                  <a:srgbClr val="000000"/>
                </a:solidFill>
                <a:latin typeface="Arial Black"/>
              </a:rPr>
              <a:t>434200577</a:t>
            </a:r>
            <a:endParaRPr b="1" lang="en-US" sz="2800" spc="-1" strike="noStrike">
              <a:solidFill>
                <a:srgbClr val="000000"/>
              </a:solidFill>
              <a:latin typeface="Arial"/>
            </a:endParaRPr>
          </a:p>
        </p:txBody>
      </p:sp>
      <p:pic>
        <p:nvPicPr>
          <p:cNvPr id="131" name="صورة 3" descr=""/>
          <p:cNvPicPr/>
          <p:nvPr/>
        </p:nvPicPr>
        <p:blipFill>
          <a:blip r:embed="rId1"/>
          <a:stretch/>
        </p:blipFill>
        <p:spPr>
          <a:xfrm>
            <a:off x="6443640" y="549360"/>
            <a:ext cx="2192400" cy="846000"/>
          </a:xfrm>
          <a:prstGeom prst="rect">
            <a:avLst/>
          </a:prstGeom>
          <a:ln w="0">
            <a:noFill/>
          </a:ln>
        </p:spPr>
      </p:pic>
      <p:pic>
        <p:nvPicPr>
          <p:cNvPr id="132" name="صورة 4" descr=""/>
          <p:cNvPicPr/>
          <p:nvPr/>
        </p:nvPicPr>
        <p:blipFill>
          <a:blip r:embed="rId2"/>
          <a:stretch/>
        </p:blipFill>
        <p:spPr>
          <a:xfrm>
            <a:off x="468360" y="303120"/>
            <a:ext cx="1152360" cy="12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6840" y="476280"/>
            <a:ext cx="8147160" cy="5649840"/>
          </a:xfrm>
          <a:prstGeom prst="rect">
            <a:avLst/>
          </a:prstGeom>
          <a:noFill/>
          <a:ln w="0">
            <a:noFill/>
          </a:ln>
        </p:spPr>
        <p:txBody>
          <a:bodyPr anchor="t">
            <a:normAutofit fontScale="89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جاء الإعلان العالمي لحقوق الانسان وقرر الضمانة الاجتماعية لكل إنسان باعتباره عضوا في المجتمع. حيث صدر الإعلان العالمي لحقوق الإنسان عن الجمعية العامة للأمم المتحدة في عام </a:t>
            </a:r>
            <a:r>
              <a:rPr b="0" lang="ar-SA" sz="2400" spc="-1" strike="noStrike">
                <a:solidFill>
                  <a:srgbClr val="000000"/>
                </a:solidFill>
                <a:latin typeface="Arial"/>
              </a:rPr>
              <a:t>1948</a:t>
            </a:r>
            <a:r>
              <a:rPr b="0" lang="ar-SA" sz="2400" spc="-1" strike="noStrike">
                <a:solidFill>
                  <a:srgbClr val="000000"/>
                </a:solidFill>
                <a:latin typeface="Arial"/>
              </a:rPr>
              <a:t> ليؤكد في المادة (</a:t>
            </a:r>
            <a:r>
              <a:rPr b="0" lang="ar-SA" sz="2400" spc="-1" strike="noStrike">
                <a:solidFill>
                  <a:srgbClr val="000000"/>
                </a:solidFill>
                <a:latin typeface="Arial"/>
              </a:rPr>
              <a:t>22</a:t>
            </a:r>
            <a:r>
              <a:rPr b="0" lang="ar-SA" sz="2400" spc="-1" strike="noStrike">
                <a:solidFill>
                  <a:srgbClr val="000000"/>
                </a:solidFill>
                <a:latin typeface="Arial"/>
              </a:rPr>
              <a:t>) منه ( لكل شخص بوصفه عضوا في المجتمع حق في الامان الاجتماعي بحيث يثبت له الحق في إشباع حاجاته المادية والاجتماعية والثقافية اللازمة للحفاظ على كرامته الإنسانية وتنمية قدراته الشخصية بفضل الجهود الوطنية والتعاون الدولي  مع مراعاة ظروف كل دولة ومواردها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يتضح من ذلك أن الحق في الضمان الاجتماعي جاء في صدارة الحقوق الاجتماعية المقررة للإنسان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وتقرر المادة (</a:t>
            </a:r>
            <a:r>
              <a:rPr b="0" lang="ar-SA" sz="2400" spc="-1" strike="noStrike">
                <a:solidFill>
                  <a:srgbClr val="3477b2"/>
                </a:solidFill>
                <a:latin typeface="Arial"/>
              </a:rPr>
              <a:t>23</a:t>
            </a:r>
            <a:r>
              <a:rPr b="0" lang="ar-SA" sz="2400" spc="-1" strike="noStrike">
                <a:solidFill>
                  <a:srgbClr val="3477b2"/>
                </a:solidFill>
                <a:latin typeface="Arial"/>
              </a:rPr>
              <a:t>) أن ( كل شخص له الحق في العمل وفي الحماية ضد البطال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وحددت المادة (</a:t>
            </a:r>
            <a:r>
              <a:rPr b="0" lang="ar-SA" sz="2400" spc="-1" strike="noStrike">
                <a:solidFill>
                  <a:srgbClr val="3477b2"/>
                </a:solidFill>
                <a:latin typeface="Arial"/>
              </a:rPr>
              <a:t>25</a:t>
            </a:r>
            <a:r>
              <a:rPr b="0" lang="ar-SA" sz="2400" spc="-1" strike="noStrike">
                <a:solidFill>
                  <a:srgbClr val="3477b2"/>
                </a:solidFill>
                <a:latin typeface="Arial"/>
              </a:rPr>
              <a:t>) مضمون الحق في الأمان الاجتماعي حيث قررت حق كل إنسان في مستوى لائق من المعيشة لتأمين صحته وسعادته هو وأسرته.</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تعهد كل دولة عضو بتنفيذ ثلاثة فروع على الأقل من الفروع المذكورة.</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95280" y="404280"/>
            <a:ext cx="8220240" cy="5650200"/>
          </a:xfrm>
          <a:prstGeom prst="rect">
            <a:avLst/>
          </a:prstGeom>
          <a:noFill/>
          <a:ln w="0">
            <a:noFill/>
          </a:ln>
        </p:spPr>
        <p:txBody>
          <a:bodyPr anchor="t">
            <a:normAutofit/>
          </a:bodyPr>
          <a:p>
            <a:pPr algn="r" rtl="1">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77b2"/>
                </a:solidFill>
                <a:latin typeface="Arial"/>
              </a:rPr>
              <a:t>صور الضمان الاجتماعي الواردة بالاتفاقية:</a:t>
            </a:r>
            <a:endParaRPr b="1" lang="en-US" sz="2800" spc="-1" strike="noStrike">
              <a:solidFill>
                <a:srgbClr val="000000"/>
              </a:solidFill>
              <a:latin typeface="Arial"/>
            </a:endParaRPr>
          </a:p>
        </p:txBody>
      </p:sp>
      <p:pic>
        <p:nvPicPr>
          <p:cNvPr id="150" name="رسم تخطيطي 5" descr=""/>
          <p:cNvPicPr/>
          <p:nvPr/>
        </p:nvPicPr>
        <p:blipFill>
          <a:blip r:embed="rId1"/>
          <a:stretch/>
        </p:blipFill>
        <p:spPr>
          <a:xfrm>
            <a:off x="596880" y="1176480"/>
            <a:ext cx="8272440" cy="522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040" y="259920"/>
            <a:ext cx="8783640" cy="5721480"/>
          </a:xfrm>
          <a:prstGeom prst="rect">
            <a:avLst/>
          </a:prstGeom>
          <a:noFill/>
          <a:ln w="0">
            <a:noFill/>
          </a:ln>
        </p:spPr>
        <p:txBody>
          <a:bodyPr anchor="t">
            <a:normAutofit fontScale="85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زداد الضمان الاجتماعي اتساعا وشمولا في الدول الصناعية واتسع نطاق الحماية الاجتماعية بهدف تقديم الدعم على أساس الحاجة أكثر من الاعتماد على مبدأ الحقوق المكتسب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كن تباطؤ النمو الاقتصادي لاحقا أدى إلى محاولات لضبط نمو النفقات التأمينية الاجتماعية في الدول المتقدمة صناعيا.</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جدير بالذكر أن النظام التأمينات الاجتماعية أصبح نظام قومي عالمي يسري في مختلف الدول وإن اختلفت أحكامه من دولة لأخرى. باعتباره  نظام اقتصادي يضمن استمرار الدخل ويوفر أموالا طائلة للاستثمار.</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ظهرت اتجاهات دولية حديثة تدعو إلى تعميمه باعتباره الوسيلة الفعالة لكفالة الأمن الاقتصادي والاجتماعي للمواطن بصفة عامة وليس لفئة معينة من المواطنين.</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ذلك يمكن القول أن نظم التأمينات والضمان الاجتماعي الحديثة لا تهتم بفئة من فئات المجتمع دون غيرها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هدف  أنظمة التأمينات والضمان الاجتماعي إلى علاج انعدام المساواة بين الأفراد و الطبقات الاجتماعية , وأصبحت وسيلة فعالة لرفع مستوى معيشة الأفراد وتوفير الأمن الاجتماعي للطبقات الكادحة مما يؤدي إلى السلام الاجتماعي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152280"/>
            <a:ext cx="8893080" cy="126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477b2"/>
                </a:solidFill>
                <a:latin typeface="Arial Black"/>
              </a:rPr>
              <a:t>ظهور أنظمة التأمينات والضمان الاجتماعي في البلاد العربية:</a:t>
            </a:r>
            <a:endParaRPr b="0" lang="en-US" sz="3600" spc="-1" strike="noStrike">
              <a:solidFill>
                <a:srgbClr val="242852"/>
              </a:solidFill>
              <a:latin typeface="Arial Black"/>
            </a:endParaRPr>
          </a:p>
        </p:txBody>
      </p:sp>
      <p:pic>
        <p:nvPicPr>
          <p:cNvPr id="153" name="Picture 3" descr=""/>
          <p:cNvPicPr/>
          <p:nvPr/>
        </p:nvPicPr>
        <p:blipFill>
          <a:blip r:embed="rId1"/>
          <a:stretch/>
        </p:blipFill>
        <p:spPr>
          <a:xfrm>
            <a:off x="539640" y="981000"/>
            <a:ext cx="2448000" cy="1224000"/>
          </a:xfrm>
          <a:prstGeom prst="rect">
            <a:avLst/>
          </a:prstGeom>
          <a:ln w="0">
            <a:noFill/>
          </a:ln>
        </p:spPr>
      </p:pic>
      <p:sp>
        <p:nvSpPr>
          <p:cNvPr id="154" name="مربع نص 3"/>
          <p:cNvSpPr/>
          <p:nvPr/>
        </p:nvSpPr>
        <p:spPr>
          <a:xfrm>
            <a:off x="0" y="2349360"/>
            <a:ext cx="88930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ولت الدول العربية اهتماما بالغا للضمان الاجتماعي ، واهتمت التشريعات </a:t>
            </a:r>
            <a:endParaRPr b="0" lang="en-US" sz="2400" spc="-1" strike="noStrike">
              <a:solidFill>
                <a:srgbClr val="000000"/>
              </a:solidFill>
              <a:latin typeface="Arial"/>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عربية في هذا المجال بكافة فئات المجتمع دون تمييز.</a:t>
            </a:r>
            <a:endParaRPr b="0" lang="en-US" sz="24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قد أقر مجلس وزراء العدل في دورته </a:t>
            </a:r>
            <a:r>
              <a:rPr b="0" lang="ar-SA" sz="2400" spc="-1" strike="noStrike">
                <a:solidFill>
                  <a:srgbClr val="000000"/>
                </a:solidFill>
                <a:latin typeface="Arial"/>
              </a:rPr>
              <a:t>21</a:t>
            </a:r>
            <a:r>
              <a:rPr b="0" lang="ar-SA" sz="2400" spc="-1" strike="noStrike">
                <a:solidFill>
                  <a:srgbClr val="000000"/>
                </a:solidFill>
                <a:latin typeface="Arial"/>
              </a:rPr>
              <a:t> الوثيقة العربية الاسترشادية  </a:t>
            </a:r>
            <a:endParaRPr b="0" lang="en-US" sz="2400" spc="-1" strike="noStrike">
              <a:solidFill>
                <a:srgbClr val="000000"/>
              </a:solidFill>
              <a:latin typeface="Arial"/>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لضمان الاجتماعي حيث نصت المادة الأولى منها على أن ( الضمان الاجتماعي حق يكفله المجتمع وترعاه الدولة ويحميه القانون يقصد ممنه حماية المواطنين في حالات الشيخوخة والعجز والمرض وإصابات العمل ومرض المهنة وعند فقدان المعيل والبطالة وانقطاع سبل العيش وعند الحمل والولادة والإعانة على تحمل الأعباء العائلية وفي حالات الكوارث والطوارئ والوفاة.</a:t>
            </a:r>
            <a:endParaRPr b="0" lang="en-US" sz="24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280" y="980640"/>
            <a:ext cx="7620120" cy="4373640"/>
          </a:xfrm>
          <a:prstGeom prst="rect">
            <a:avLst/>
          </a:prstGeom>
          <a:noFill/>
          <a:ln w="0">
            <a:noFill/>
          </a:ln>
        </p:spPr>
        <p:txBody>
          <a:bodyPr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عد الاتفاقيات والتوصيات الصادرة عن منظمتي العمل الدولية والعمل العربية مرجعا أساسيا لتطوير أنظمة الضمان الاجتماعي مثل الاتفاقية الخاصة بالشروط الدنيا للضمان الاجتماعي.</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قد بدأت الحكومات العربية في إصدار أنظمة متعلقة بالتقاعد والمعاشات وضمان المرض وطوارئ العمل ويرجع ذلك إلى التعاون الفعال بين حكومات تلك الدول مع أصحاب الأعمال ومن تشملهم تلك الأنظمة وذلك من حيث التنسيق والتمويل</a:t>
            </a:r>
            <a:r>
              <a:rPr b="0" lang="ar-SA" sz="1800" spc="-1" strike="noStrike">
                <a:solidFill>
                  <a:srgbClr val="000000"/>
                </a:solidFill>
                <a:latin typeface="Arial"/>
              </a:rPr>
              <a:t>.</a:t>
            </a:r>
            <a:endParaRPr b="1" lang="en-US" sz="1800" spc="-1" strike="noStrike">
              <a:solidFill>
                <a:srgbClr val="000000"/>
              </a:solidFill>
              <a:latin typeface="Arial"/>
            </a:endParaRPr>
          </a:p>
          <a:p>
            <a:pPr algn="r" rtl="1">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6" name="Picture 2" descr=""/>
          <p:cNvPicPr/>
          <p:nvPr/>
        </p:nvPicPr>
        <p:blipFill>
          <a:blip r:embed="rId1"/>
          <a:stretch/>
        </p:blipFill>
        <p:spPr>
          <a:xfrm>
            <a:off x="611280" y="4005360"/>
            <a:ext cx="3052800" cy="2160360"/>
          </a:xfrm>
          <a:prstGeom prst="rect">
            <a:avLst/>
          </a:prstGeom>
          <a:ln w="0">
            <a:noFill/>
          </a:ln>
        </p:spPr>
      </p:pic>
      <p:pic>
        <p:nvPicPr>
          <p:cNvPr id="157" name="Picture 3" descr=""/>
          <p:cNvPicPr/>
          <p:nvPr/>
        </p:nvPicPr>
        <p:blipFill>
          <a:blip r:embed="rId2"/>
          <a:stretch/>
        </p:blipFill>
        <p:spPr>
          <a:xfrm>
            <a:off x="3851280" y="4005360"/>
            <a:ext cx="4286160" cy="238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0" y="201600"/>
            <a:ext cx="1871640" cy="1798560"/>
          </a:xfrm>
          <a:prstGeom prst="rect">
            <a:avLst/>
          </a:prstGeom>
          <a:ln w="0">
            <a:noFill/>
          </a:ln>
        </p:spPr>
      </p:pic>
      <p:sp>
        <p:nvSpPr>
          <p:cNvPr id="159" name="PlaceHolder 1"/>
          <p:cNvSpPr>
            <a:spLocks noGrp="1"/>
          </p:cNvSpPr>
          <p:nvPr>
            <p:ph type="title"/>
          </p:nvPr>
        </p:nvSpPr>
        <p:spPr>
          <a:xfrm>
            <a:off x="468360" y="0"/>
            <a:ext cx="8362800" cy="1123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77b2"/>
                </a:solidFill>
                <a:latin typeface="Arial Black"/>
              </a:rPr>
              <a:t>ظهور أنظمة التأمينات والضمان الاجتماعي في المملة العربية والسعودية:</a:t>
            </a:r>
            <a:endParaRPr b="0" lang="en-US" sz="3200" spc="-1" strike="noStrike">
              <a:solidFill>
                <a:srgbClr val="242852"/>
              </a:solidFill>
              <a:latin typeface="Arial Black"/>
            </a:endParaRPr>
          </a:p>
        </p:txBody>
      </p:sp>
      <p:sp>
        <p:nvSpPr>
          <p:cNvPr id="160" name=""/>
          <p:cNvSpPr txBox="1"/>
          <p:nvPr/>
        </p:nvSpPr>
        <p:spPr>
          <a:xfrm>
            <a:off x="0" y="1267920"/>
            <a:ext cx="8964720" cy="5256360"/>
          </a:xfrm>
          <a:prstGeom prst="rect">
            <a:avLst/>
          </a:prstGeom>
          <a:noFill/>
          <a:ln w="0">
            <a:noFill/>
          </a:ln>
        </p:spPr>
        <p:txBody>
          <a:bodyPr anchor="t">
            <a:normAutofit fontScale="88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شهدت السعودية نهضة ملموسة خاصة مع تطور صناعة البترول لكن هذه الطفر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يجابية كشفت أن استخدام الإنسان للآلات يتولد عنه جانبا سلبيا يتمثل هذا الجانب السلب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تزايد المخاطر التي يتعرض لها العمال وبصفة خاصة خطر الحوادث الجسدية والتي ازداد عددها بشكل كبير حتى أصبحت ظاهرة اجتماعي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كان تفادي وقوع هذه الحوادث أمرا يصعب تحقيقه فإنه يلزم توفير الضمانات الفعالة التي تكفل حصول المضرور في الحادث على حقه في التعويض.</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ذلك قام المنظم السعودي بإصدار نظام ( تعويض عمال المشاريع الصناعية والفنية) والذي أوجب عل صاحب العمل وحده تعويض العامل عن الإصابات التي تقع أثناء العمل دون الأمراض المهني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سري هذا النظام على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العاملين في المشاريع الصن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العاملين في شركات التنقيب واستخراج البترو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55280" y="549000"/>
            <a:ext cx="7777080" cy="5616360"/>
          </a:xfrm>
          <a:prstGeom prst="rect">
            <a:avLst/>
          </a:prstGeom>
          <a:noFill/>
          <a:ln w="0">
            <a:noFill/>
          </a:ln>
        </p:spPr>
        <p:txBody>
          <a:bodyPr anchor="t">
            <a:normAutofit fontScale="95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ناول هذا النظام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1</a:t>
            </a:r>
            <a:r>
              <a:rPr b="0" lang="ar-SA" sz="2400" spc="-1" strike="noStrike">
                <a:solidFill>
                  <a:srgbClr val="3477b2"/>
                </a:solidFill>
                <a:latin typeface="Arial"/>
              </a:rPr>
              <a:t>- مسألة التعويض عن الإصابات الناشئة عن العمل مستوفيا لتعريفها</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2</a:t>
            </a:r>
            <a:r>
              <a:rPr b="0" lang="ar-SA" sz="2400" spc="-1" strike="noStrike">
                <a:solidFill>
                  <a:srgbClr val="3477b2"/>
                </a:solidFill>
                <a:latin typeface="Arial"/>
              </a:rPr>
              <a:t>- تحديد مسؤولية صاحب العمل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3</a:t>
            </a:r>
            <a:r>
              <a:rPr b="0" lang="ar-SA" sz="2400" spc="-1" strike="noStrike">
                <a:solidFill>
                  <a:srgbClr val="3477b2"/>
                </a:solidFill>
                <a:latin typeface="Arial"/>
              </a:rPr>
              <a:t>- تحديد نوع الإصاب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رتب على هذا النظام أحكام أهمها</a:t>
            </a:r>
            <a:r>
              <a:rPr b="0" lang="ar-SA" sz="2400" spc="-1" strike="noStrike">
                <a:solidFill>
                  <a:srgbClr val="3477b2"/>
                </a:solidFill>
                <a:latin typeface="Arial"/>
              </a:rPr>
              <a:t>:</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1</a:t>
            </a:r>
            <a:r>
              <a:rPr b="0" lang="ar-SA" sz="2400" spc="-1" strike="noStrike">
                <a:solidFill>
                  <a:srgbClr val="3477b2"/>
                </a:solidFill>
                <a:latin typeface="Arial"/>
              </a:rPr>
              <a:t>- التعويض.   </a:t>
            </a:r>
            <a:r>
              <a:rPr b="0" lang="ar-SA" sz="2400" spc="-1" strike="noStrike">
                <a:solidFill>
                  <a:srgbClr val="3477b2"/>
                </a:solidFill>
                <a:latin typeface="Arial"/>
              </a:rPr>
              <a:t>2</a:t>
            </a:r>
            <a:r>
              <a:rPr b="0" lang="ar-SA" sz="2400" spc="-1" strike="noStrike">
                <a:solidFill>
                  <a:srgbClr val="3477b2"/>
                </a:solidFill>
                <a:latin typeface="Arial"/>
              </a:rPr>
              <a:t>- العناية الطبي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ما يؤخذ على هذا النظام:</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1</a:t>
            </a:r>
            <a:r>
              <a:rPr b="0" lang="ar-SA" sz="2400" spc="-1" strike="noStrike">
                <a:solidFill>
                  <a:srgbClr val="3477b2"/>
                </a:solidFill>
                <a:latin typeface="Arial"/>
              </a:rPr>
              <a:t>- لم يتناول أمراض المهنة بالتنظيم.</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2</a:t>
            </a:r>
            <a:r>
              <a:rPr b="0" lang="ar-SA" sz="2400" spc="-1" strike="noStrike">
                <a:solidFill>
                  <a:srgbClr val="3477b2"/>
                </a:solidFill>
                <a:latin typeface="Arial"/>
              </a:rPr>
              <a:t>- ترك أمر التعويض في ذلك على عاتق صاحب العمل.</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3</a:t>
            </a:r>
            <a:r>
              <a:rPr b="0" lang="ar-SA" sz="2400" spc="-1" strike="noStrike">
                <a:solidFill>
                  <a:srgbClr val="3477b2"/>
                </a:solidFill>
                <a:latin typeface="Arial"/>
              </a:rPr>
              <a:t>- كما أن هذا النظام في واقعه أقرب إلى نظام التأمينات الاجتماعية منه إلى نظام العم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333360"/>
            <a:ext cx="8291520" cy="6191280"/>
          </a:xfrm>
          <a:prstGeom prst="rect">
            <a:avLst/>
          </a:prstGeom>
          <a:noFill/>
          <a:ln w="0">
            <a:noFill/>
          </a:ln>
        </p:spPr>
        <p:txBody>
          <a:bodyPr anchor="t">
            <a:normAutofit fontScale="92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قد حرص المنظم السعودي أن يراعي مواكبة النهضة الحالية لذلك توالت الأنظمة التي تتناول هذا المجالـ والتي انتهت بصدور نظام التأمينات الاجتماعية </a:t>
            </a:r>
            <a:r>
              <a:rPr b="0" lang="ar-SA" sz="2400" spc="-1" strike="noStrike">
                <a:solidFill>
                  <a:srgbClr val="000000"/>
                </a:solidFill>
                <a:latin typeface="Arial"/>
              </a:rPr>
              <a:t>1421</a:t>
            </a:r>
            <a:r>
              <a:rPr b="0" lang="ar-SA" sz="2400" spc="-1" strike="noStrike">
                <a:solidFill>
                  <a:srgbClr val="000000"/>
                </a:solidFill>
                <a:latin typeface="Arial"/>
              </a:rPr>
              <a:t>هـ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والذي يعتبر صورة من صور التعاون والتكافل الاجتماعي، القائم على فكرة العدل التبادلي التي يقدمها المجتمع لمواطنيه ويقوم على رعاية العاملين في القطاع الخاص وكذلك العاملين على بند الاجور في القطاع الحكومي ليوفر لهم ولأسرهم حياة كريمة بعد تركهم العمل بسبب التقاعد أو العجز أو الوفاة فضلا عن العناية الطبية للمصابين بإصابات عمل أو أمراض مهنية والتعويضات اللازمة عند حدوث عجز مهني أو وفاة وأخيرا أصدر المنظم السعودي نظام التأمين ضد التعطل عن العمل الصادر عام </a:t>
            </a:r>
            <a:r>
              <a:rPr b="0" lang="ar-SA" sz="2400" spc="-1" strike="noStrike">
                <a:solidFill>
                  <a:srgbClr val="1f5fa0"/>
                </a:solidFill>
                <a:latin typeface="Arial"/>
              </a:rPr>
              <a:t>1435</a:t>
            </a:r>
            <a:r>
              <a:rPr b="0" lang="ar-SA" sz="2400" spc="-1" strike="noStrike">
                <a:solidFill>
                  <a:srgbClr val="1f5fa0"/>
                </a:solidFill>
                <a:latin typeface="Arial"/>
              </a:rPr>
              <a:t>هـ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 جانب آخر يمثل نظام الضمان الاجتماعي الصادر عام </a:t>
            </a:r>
            <a:r>
              <a:rPr b="0" lang="ar-SA" sz="2400" spc="-1" strike="noStrike">
                <a:solidFill>
                  <a:srgbClr val="000000"/>
                </a:solidFill>
                <a:latin typeface="Arial"/>
              </a:rPr>
              <a:t>1427</a:t>
            </a:r>
            <a:r>
              <a:rPr b="0" lang="ar-SA" sz="2400" spc="-1" strike="noStrike">
                <a:solidFill>
                  <a:srgbClr val="000000"/>
                </a:solidFill>
                <a:latin typeface="Arial"/>
              </a:rPr>
              <a:t>هـ صورة من صور الرعاية الاجتماعية. وتضم مظلة الضمان الاجتماعي في المملكة فئات المعوزين والمحتاجين والعجزة مثل الأيتام صغار السن والعاجزين من كبار السن والأرامل والمطلقات أو الأسر التي تفقد عائلها بالهجر أو السجن أو الإعاقة الدائمة والمصابين في الكوارث والنكبات وغيرها من فئات المجتمع المحتاج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23640" y="620640"/>
            <a:ext cx="8280360" cy="5904000"/>
          </a:xfrm>
          <a:prstGeom prst="rect">
            <a:avLst/>
          </a:prstGeom>
          <a:noFill/>
          <a:ln w="0">
            <a:noFill/>
          </a:ln>
        </p:spPr>
        <p:txBody>
          <a:bodyPr anchor="t">
            <a:norm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ا يوجد تداخل بين بين نظام الضمان الاجتماعي ونظام التأمينات الاجتماعية في المملكة حيث يختلف مجال تطبيق كل منها فيسري نظام الضمان الاجتماعي على فئات المواطنين السعوديين الذين لا يستفيدون من نظام التأمينات الاجتم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4" name="Picture 2" descr=""/>
          <p:cNvPicPr/>
          <p:nvPr/>
        </p:nvPicPr>
        <p:blipFill>
          <a:blip r:embed="rId1"/>
          <a:stretch/>
        </p:blipFill>
        <p:spPr>
          <a:xfrm>
            <a:off x="2124000" y="3357720"/>
            <a:ext cx="4032360" cy="295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51920"/>
            <a:ext cx="8435880" cy="973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5fa0"/>
                </a:solidFill>
                <a:latin typeface="Arial Black"/>
              </a:rPr>
              <a:t>الأساس الفلسفي لأنظمة النظام الاجتماعي:</a:t>
            </a:r>
            <a:endParaRPr b="0" lang="en-US" sz="3200" spc="-1" strike="noStrike">
              <a:solidFill>
                <a:srgbClr val="242852"/>
              </a:solidFill>
              <a:latin typeface="Arial Black"/>
            </a:endParaRPr>
          </a:p>
        </p:txBody>
      </p:sp>
      <p:sp>
        <p:nvSpPr>
          <p:cNvPr id="166" name=""/>
          <p:cNvSpPr txBox="1"/>
          <p:nvPr/>
        </p:nvSpPr>
        <p:spPr>
          <a:xfrm>
            <a:off x="457200" y="1557000"/>
            <a:ext cx="8291520" cy="4568760"/>
          </a:xfrm>
          <a:prstGeom prst="rect">
            <a:avLst/>
          </a:prstGeom>
          <a:noFill/>
          <a:ln w="0">
            <a:noFill/>
          </a:ln>
        </p:spPr>
        <p:txBody>
          <a:bodyPr anchor="t">
            <a:normAutofit fontScale="87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لخص الأساس الفلسفي لأنظمة الضمان الاجتماعي بصفة عامة في الغايات التالية والتي تهدف إلى تحقيقها:</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1</a:t>
            </a:r>
            <a:r>
              <a:rPr b="0" lang="ar-SA" sz="2400" spc="-1" strike="noStrike">
                <a:solidFill>
                  <a:srgbClr val="1f5fa0"/>
                </a:solidFill>
                <a:latin typeface="Arial"/>
              </a:rPr>
              <a:t>- حماية الطبقة العاملة من الاستغلال والحاج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ان لنشأة قانون العمل فضل السبق في تقديم الحماية إلى العامل خصوصا فيما يتعلق بضمان الاستقرار وحمايته من الاستغلال وتحديد ساعات العمل ... الخ وكان الالتزام بتطبيق بنود قانون العمل وتعويض العامل يقع على عاتق صاحب العمل ونتيجة للتقدم الحاصل في أنظمة النظام الاجتماعي استطاع أصحاب العمل الاشتراك بهذه المسؤولية في برامج الضمان الاجتماع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2</a:t>
            </a:r>
            <a:r>
              <a:rPr b="0" lang="ar-SA" sz="2400" spc="-1" strike="noStrike">
                <a:solidFill>
                  <a:srgbClr val="1f5fa0"/>
                </a:solidFill>
                <a:latin typeface="Arial"/>
              </a:rPr>
              <a:t>- الحفاظ على الكرامة الإنسانية وتنمية قدرات الأفراد على العمل:</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نمية روح العمل لديه وذلك عن طريق تحرير العنصر الإنساني من هاجس الخوف والقلق على نفسه ومن يعولهم في حالة فقدان مقدرته على العمل سواء نتيجة الشيخوخة أو العجز.</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404280"/>
            <a:ext cx="8497800" cy="863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5fa0"/>
                </a:solidFill>
                <a:latin typeface="Arial Black"/>
              </a:rPr>
              <a:t>الضمان الاجتماعي والتأمينات الاجتماعية</a:t>
            </a:r>
            <a:endParaRPr b="0" lang="en-US" sz="3600" spc="-1" strike="noStrike">
              <a:solidFill>
                <a:srgbClr val="242852"/>
              </a:solidFill>
              <a:latin typeface="Arial Black"/>
            </a:endParaRPr>
          </a:p>
        </p:txBody>
      </p:sp>
      <p:sp>
        <p:nvSpPr>
          <p:cNvPr id="134" name=""/>
          <p:cNvSpPr txBox="1"/>
          <p:nvPr/>
        </p:nvSpPr>
        <p:spPr>
          <a:xfrm>
            <a:off x="456840" y="1752120"/>
            <a:ext cx="8218440" cy="4373640"/>
          </a:xfrm>
          <a:prstGeom prst="rect">
            <a:avLst/>
          </a:prstGeom>
          <a:noFill/>
          <a:ln w="0">
            <a:noFill/>
          </a:ln>
        </p:spPr>
        <p:txBody>
          <a:bodyPr anchor="t">
            <a:norm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رعاية الدولة لمواطنيها من أهم واجباتها ولذلك حرصت الدول على أن تحقق تلك الرعاية وذلك التأمين، فقامت بسن الأنظمة التي ترتب تلك الخدمة وأقامت الهيئات وهكذا أصبحت الدولة ملتزمة بتقديم مساعدات ومعونات اجتماعية ويطلق على تلك النظم </a:t>
            </a:r>
            <a:r>
              <a:rPr b="0" lang="ar-SA" sz="2400" spc="-1" strike="noStrike">
                <a:solidFill>
                  <a:srgbClr val="3477b2"/>
                </a:solidFill>
                <a:latin typeface="Arial"/>
              </a:rPr>
              <a:t>الضمان الاجتماع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ظهرت كذلك نظم التأمينات الذي يساهم فيها المستفيد باشتراك يدفعه وتقوم الدولة أو غيرها بالمساهمة في دفع هذا الاشتراك، ومن هذه الأنظمة </a:t>
            </a:r>
            <a:r>
              <a:rPr b="0" lang="ar-SA" sz="2400" spc="-1" strike="noStrike">
                <a:solidFill>
                  <a:srgbClr val="3477b2"/>
                </a:solidFill>
                <a:latin typeface="Arial"/>
              </a:rPr>
              <a:t>التأمين الاجتماعي </a:t>
            </a:r>
            <a:r>
              <a:rPr b="0" lang="ar-SA" sz="2400" spc="-1" strike="noStrike">
                <a:solidFill>
                  <a:srgbClr val="000000"/>
                </a:solidFill>
                <a:latin typeface="Arial"/>
              </a:rPr>
              <a:t>وفيه يدفع المؤمن له اشتراكا يعتبر جزءا من قسط التأمين.</a:t>
            </a:r>
            <a:endParaRPr b="1" lang="en-US" sz="2400" spc="-1" strike="noStrike">
              <a:solidFill>
                <a:srgbClr val="000000"/>
              </a:solidFill>
              <a:latin typeface="Arial"/>
            </a:endParaRPr>
          </a:p>
        </p:txBody>
      </p:sp>
      <p:pic>
        <p:nvPicPr>
          <p:cNvPr id="135" name="Picture 2" descr=""/>
          <p:cNvPicPr/>
          <p:nvPr/>
        </p:nvPicPr>
        <p:blipFill>
          <a:blip r:embed="rId1"/>
          <a:stretch/>
        </p:blipFill>
        <p:spPr>
          <a:xfrm>
            <a:off x="250920" y="4581360"/>
            <a:ext cx="4083120" cy="201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333000"/>
            <a:ext cx="8362800" cy="5792760"/>
          </a:xfrm>
          <a:prstGeom prst="rect">
            <a:avLst/>
          </a:prstGeom>
          <a:noFill/>
          <a:ln w="0">
            <a:noFill/>
          </a:ln>
        </p:spPr>
        <p:txBody>
          <a:bodyPr anchor="t">
            <a:normAutofit fontScale="88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3</a:t>
            </a:r>
            <a:r>
              <a:rPr b="0" lang="ar-SA" sz="2400" spc="-1" strike="noStrike">
                <a:solidFill>
                  <a:srgbClr val="1f5fa0"/>
                </a:solidFill>
                <a:latin typeface="Arial"/>
              </a:rPr>
              <a:t>- التوزيع العادل للدخل بين الطبقات الاجتم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اعد الاشتراكات التي يؤديها أصحاب العمل للمساهمة في تمويل مؤسسات وهيئات الضمان الاجتماعي بصورة غير مباشرة في التوزيع العادل للأموال داخل المجتمع.</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4</a:t>
            </a:r>
            <a:r>
              <a:rPr b="0" lang="ar-SA" sz="2400" spc="-1" strike="noStrike">
                <a:solidFill>
                  <a:srgbClr val="1f5fa0"/>
                </a:solidFill>
                <a:latin typeface="Arial"/>
              </a:rPr>
              <a:t>- إيجاد فرص عمل جديدة وزيادة الانتاج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ؤدي تطبيق أنظمة الضمان الاجتماعي إلى زيادة الشعور بالأمان الوظيفي ويحسن من القدرة الشرائية للفرد مما ينعكس إيجابيا على الاقتصاد الوطن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 جهة أخرى يؤدي إلى الشعور بالاستقرار الوظيفي والطمأنينة على مصدر الرزق العامل في حالة تعرضه لإصابات العمل أ, الشيخوخة إلى بذل الجهد والإخلاص في العمل وهذا الأمر ينعكس إيجابيا على زيادة الإنتاج في المنشآت العمالية حيث تساهم الزيادة في الإنتاجية ي تحسين أجور العمال.</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5</a:t>
            </a:r>
            <a:r>
              <a:rPr b="0" lang="ar-SA" sz="2400" spc="-1" strike="noStrike">
                <a:solidFill>
                  <a:srgbClr val="1f5fa0"/>
                </a:solidFill>
                <a:latin typeface="Arial"/>
              </a:rPr>
              <a:t>- تنمية الشعور الوطن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هدف أنظمة الحماية الاجتماعية بصفة عامة إلى تنمية الشعور الوطني وروح الجماعة بدلا من الانعزالية والفردية مما يعود بالنفع العام على المجتمع حيث يساعد تطبيقها على تنمية وحدة المصير بين أبناء الوطن الواحد.</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404640"/>
            <a:ext cx="8075520" cy="5832720"/>
          </a:xfrm>
          <a:prstGeom prst="rect">
            <a:avLst/>
          </a:prstGeom>
          <a:noFill/>
          <a:ln w="0">
            <a:noFill/>
          </a:ln>
        </p:spPr>
        <p:txBody>
          <a:bodyPr anchor="t">
            <a:normAutofit/>
          </a:bodyPr>
          <a:p>
            <a:pPr algn="r" rtl="1">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5fa0"/>
                </a:solidFill>
                <a:latin typeface="Arial"/>
              </a:rPr>
              <a:t>خطة الدراسة:</a:t>
            </a:r>
            <a:endParaRPr b="1" lang="en-US" sz="3200" spc="-1" strike="noStrike">
              <a:solidFill>
                <a:srgbClr val="000000"/>
              </a:solidFill>
              <a:latin typeface="Arial"/>
            </a:endParaRPr>
          </a:p>
          <a:p>
            <a:pPr algn="r" rtl="1">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69" name="رسم تخطيطي 3" descr=""/>
          <p:cNvPicPr/>
          <p:nvPr/>
        </p:nvPicPr>
        <p:blipFill>
          <a:blip r:embed="rId1"/>
          <a:stretch/>
        </p:blipFill>
        <p:spPr>
          <a:xfrm>
            <a:off x="1427040" y="1384200"/>
            <a:ext cx="6553440" cy="501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6840" y="765000"/>
            <a:ext cx="8147160" cy="5361120"/>
          </a:xfrm>
          <a:prstGeom prst="rect">
            <a:avLst/>
          </a:prstGeom>
          <a:noFill/>
          <a:ln w="0">
            <a:noFill/>
          </a:ln>
        </p:spPr>
        <p:txBody>
          <a:bodyPr anchor="t">
            <a:normAutofit fontScale="96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ويفرق الفقه القانوني بين مفهومي الضمان الاجتماعي والتأمينات الاجتم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ونؤيد الرأي الذي يرى أن الضمان الاجتماعي يتمثل في جميع الخدمات والمساعدات  أو المزايا التي تقدم للمحتاجين والمستحقين لها في الحالات التي تستوجب ذلك. وهو حق مكتسب لكل مواطن.</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وتهدف هذه المساعدات إلى ضمان الحد الأدنى لمستوى المعيش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أما التأمينات الاجتماعية فهي إحدى عناصر المكونة لنظام الضمان الاجتماع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فرق بين الضمان الاجتماعي والتامينات الاجتم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أن نطاق الضمان الاجتماعي أوسع بكثير من نطاق التأمينات الاجتماعية وبالتالي فإن التأمينات الاجتماعية هي إحدى الوسائل المتعددة التي ينطوي عليها الضمان الاجتماعي.</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907920"/>
            <a:ext cx="8004240" cy="13716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477b2"/>
                </a:solidFill>
                <a:latin typeface="Arial Black"/>
              </a:rPr>
              <a:t>الشريعة الإسلامية والتكافل الاجتماعي</a:t>
            </a:r>
            <a:endParaRPr b="0" lang="en-US" sz="3600" spc="-1" strike="noStrike">
              <a:solidFill>
                <a:srgbClr val="242852"/>
              </a:solidFill>
              <a:latin typeface="Arial Black"/>
            </a:endParaRPr>
          </a:p>
        </p:txBody>
      </p:sp>
      <p:pic>
        <p:nvPicPr>
          <p:cNvPr id="138" name="Picture 2" descr=""/>
          <p:cNvPicPr/>
          <p:nvPr/>
        </p:nvPicPr>
        <p:blipFill>
          <a:blip r:embed="rId1"/>
          <a:stretch/>
        </p:blipFill>
        <p:spPr>
          <a:xfrm>
            <a:off x="395280" y="1989000"/>
            <a:ext cx="389556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1267920"/>
            <a:ext cx="8362800" cy="4753080"/>
          </a:xfrm>
          <a:prstGeom prst="rect">
            <a:avLst/>
          </a:prstGeom>
          <a:noFill/>
          <a:ln w="0">
            <a:noFill/>
          </a:ln>
        </p:spPr>
        <p:txBody>
          <a:bodyPr anchor="t">
            <a:normAutofit fontScale="88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 الضمان الاجتماعي من مظاهر الحضارة بل هو أحد مبادئ الدين الإسلامي عرفته الدولة الإسلامية منذ قيامها فقد قال الرسول – صلى الله عليه وسلم- : ( أنا عائل من لا عائل له ).فكان بذلك ولي أمر المسلمين هو عائل من لا عائل له من المسلمين.</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نرى أن الشريعة الإسلامية كانت سباقة في هذا المجال فالضمان الاجتماعي في الإسلام – رغم عدم استعمال الفقهاء لمصطلح الضمان أو التأمينات الاجتماعية – يقوم أساسا على مبدأ التكامل والتعاون، قال تعالى: ( وتعاونوا على البر والتقوى ولا تعاونوا على الإثم والعدوان).</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قد أقامت الشريعة الإسلامية نظاما متكاملا  في رعاية الفقراء والمساكين وغيرهم من ذوي الحاجة تحت اسم ( التكافل)، ويقوم هذا التكافل على أساس أن أبناء الإسلام داخل دار الإسلام مجتمع واحد.</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على ذلك يتضح أن فكرة الضمان الاجتماعي تستمد جذورها من مبادئ وتعاليم الإسلام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79280" y="333000"/>
            <a:ext cx="8640720" cy="6264360"/>
          </a:xfrm>
          <a:prstGeom prst="rect">
            <a:avLst/>
          </a:prstGeom>
          <a:noFill/>
          <a:ln w="0">
            <a:noFill/>
          </a:ln>
        </p:spPr>
        <p:txBody>
          <a:bodyPr anchor="t">
            <a:normAutofit fontScale="90000"/>
          </a:bodyPr>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أوجبت هذا الضمان الاجتماعي في بيت مال المسلمين لمن كان في حاجة إليه، قال صلى الله عليه وسلم: (كلكم راع وكلكم مسئول عن رعيته، الإمام راع ومسئول عن رعيته).</a:t>
            </a:r>
            <a:endParaRPr b="1" lang="en-US" sz="2400" spc="-1" strike="noStrike">
              <a:solidFill>
                <a:srgbClr val="000000"/>
              </a:solidFill>
              <a:latin typeface="Arial"/>
            </a:endParaRPr>
          </a:p>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أوردت الشريعة الإسلامية عدة أنظمة مساعدة من أجل إقامة نظام الضمان الاجتماعي ومن ذلك الوقف والكفارات بمختلف أنواعها  ككفارات الأيمان والصدقات وغيرها.</a:t>
            </a:r>
            <a:endParaRPr b="1" lang="en-US" sz="2400" spc="-1" strike="noStrike">
              <a:solidFill>
                <a:srgbClr val="000000"/>
              </a:solidFill>
              <a:latin typeface="Arial"/>
            </a:endParaRPr>
          </a:p>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عتبر الزكاة أول تشريع عرفته الإنسانية للضمان الاجتماعي لكل فئات المحتاجين، لأنها بمثابة التزام مالي من قبل القادرين الأغنياء حيال الفئات المحتاجة المحرومة.</a:t>
            </a:r>
            <a:endParaRPr b="1" lang="en-US" sz="2400" spc="-1" strike="noStrike">
              <a:solidFill>
                <a:srgbClr val="000000"/>
              </a:solidFill>
              <a:latin typeface="Arial"/>
            </a:endParaRPr>
          </a:p>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أن أنظمة التأمينات والضمان الاجتماعي الوضعية تتفق في غايتها مع ما يقرره التشريع الإسلامي من التكافل الاجتماعي بين القادرين والعاجزين.</a:t>
            </a:r>
            <a:endParaRPr b="1" lang="en-US" sz="2400" spc="-1" strike="noStrike">
              <a:solidFill>
                <a:srgbClr val="000000"/>
              </a:solidFill>
              <a:latin typeface="Arial"/>
            </a:endParaRPr>
          </a:p>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تميز الشريعة الإسلامية على قوانين الضمان والتأمينات الاجتماعية بأنها لا تقتصر على تأمين أخطار معينة كالإصابات المهنية في مجال العمل والأمراض المهنية أو غير المهنية والعجز والشيخوخة والبطالة والوفاة بل تزيد على ذلك بالعمل على تلبية الحاجات الأساسية لمستحق الرعاية الاجتماعية أيا كان نوع الخطر.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404640"/>
            <a:ext cx="8004240" cy="1044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77b2"/>
                </a:solidFill>
                <a:latin typeface="Arial Black"/>
              </a:rPr>
              <a:t>ظهور الضمان الاجتماعي كضمان قانوني على الصعيد الدولي:</a:t>
            </a:r>
            <a:endParaRPr b="0" lang="en-US" sz="3200" spc="-1" strike="noStrike">
              <a:solidFill>
                <a:srgbClr val="242852"/>
              </a:solidFill>
              <a:latin typeface="Arial Black"/>
            </a:endParaRPr>
          </a:p>
        </p:txBody>
      </p:sp>
      <p:sp>
        <p:nvSpPr>
          <p:cNvPr id="142" name=""/>
          <p:cNvSpPr txBox="1"/>
          <p:nvPr/>
        </p:nvSpPr>
        <p:spPr>
          <a:xfrm>
            <a:off x="457200" y="1752120"/>
            <a:ext cx="8237520" cy="4373640"/>
          </a:xfrm>
          <a:prstGeom prst="rect">
            <a:avLst/>
          </a:prstGeom>
          <a:noFill/>
          <a:ln w="0">
            <a:noFill/>
          </a:ln>
        </p:spPr>
        <p:txBody>
          <a:bodyPr anchor="t">
            <a:norm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ظهر الضمان الاجتماعي كنظام قانوني لأول مرة في القرن </a:t>
            </a:r>
            <a:r>
              <a:rPr b="0" lang="ar-SA" sz="2400" spc="-1" strike="noStrike">
                <a:solidFill>
                  <a:srgbClr val="000000"/>
                </a:solidFill>
                <a:latin typeface="Arial"/>
              </a:rPr>
              <a:t>17</a:t>
            </a:r>
            <a:r>
              <a:rPr b="0" lang="ar-SA" sz="2400" spc="-1" strike="noStrike">
                <a:solidFill>
                  <a:srgbClr val="000000"/>
                </a:solidFill>
                <a:latin typeface="Arial"/>
              </a:rPr>
              <a:t> في انجلترا.</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يث صدر نظام (إنجيل الفقراء) الذي ألزم الدولة بتقديم مساعدات اجتماعية للفقراء. لكن انتهى الأمر بإلغاء هذا القانون بعد انتقادات واسعة من أنصار المذهب الفردي.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عرفت الدنمارك ابتداء من عام </a:t>
            </a:r>
            <a:r>
              <a:rPr b="0" lang="ar-SA" sz="2400" spc="-1" strike="noStrike">
                <a:solidFill>
                  <a:srgbClr val="000000"/>
                </a:solidFill>
                <a:latin typeface="Arial"/>
              </a:rPr>
              <a:t>1891</a:t>
            </a:r>
            <a:r>
              <a:rPr b="0" lang="ar-SA" sz="2400" spc="-1" strike="noStrike">
                <a:solidFill>
                  <a:srgbClr val="000000"/>
                </a:solidFill>
                <a:latin typeface="Arial"/>
              </a:rPr>
              <a:t> نظام للمساعد الاجتماعي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في صورة معاش لكبار السن شمل بعد ذلك المصابين بعجز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عاطلين عن العمل ثم الورثة عند وفاء عائلهم الفقير.</a:t>
            </a:r>
            <a:endParaRPr b="1" lang="en-US" sz="2400" spc="-1" strike="noStrike">
              <a:solidFill>
                <a:srgbClr val="000000"/>
              </a:solidFill>
              <a:latin typeface="Arial"/>
            </a:endParaRPr>
          </a:p>
        </p:txBody>
      </p:sp>
      <p:pic>
        <p:nvPicPr>
          <p:cNvPr id="143" name="Picture 2" descr=""/>
          <p:cNvPicPr/>
          <p:nvPr/>
        </p:nvPicPr>
        <p:blipFill>
          <a:blip r:embed="rId1"/>
          <a:stretch/>
        </p:blipFill>
        <p:spPr>
          <a:xfrm>
            <a:off x="179280" y="4581360"/>
            <a:ext cx="2238480" cy="185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259920"/>
            <a:ext cx="8507160" cy="6481800"/>
          </a:xfrm>
          <a:prstGeom prst="rect">
            <a:avLst/>
          </a:prstGeom>
          <a:noFill/>
          <a:ln w="0">
            <a:noFill/>
          </a:ln>
        </p:spPr>
        <p:txBody>
          <a:bodyPr anchor="t">
            <a:normAutofit fontScale="94000"/>
          </a:bodyPr>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كان لألمانيا فضل السبق والريادة في ظهور نظام التأمينات الاجتماعية كنظام شبه متكامل، حيث قامت في عهد بسمارك بإصدار ثلاث قوانين، يتعلق الأول بالتأمين ضد المرض عام </a:t>
            </a:r>
            <a:r>
              <a:rPr b="0" lang="ar-SA" sz="2400" spc="-1" strike="noStrike">
                <a:solidFill>
                  <a:srgbClr val="000000"/>
                </a:solidFill>
                <a:latin typeface="Arial"/>
              </a:rPr>
              <a:t>1883</a:t>
            </a:r>
            <a:r>
              <a:rPr b="0" lang="ar-SA" sz="2400" spc="-1" strike="noStrike">
                <a:solidFill>
                  <a:srgbClr val="000000"/>
                </a:solidFill>
                <a:latin typeface="Arial"/>
              </a:rPr>
              <a:t> وتناول الثاني التأمين ضد حوادث العمل عام </a:t>
            </a:r>
            <a:r>
              <a:rPr b="0" lang="ar-SA" sz="2400" spc="-1" strike="noStrike">
                <a:solidFill>
                  <a:srgbClr val="000000"/>
                </a:solidFill>
                <a:latin typeface="Arial"/>
              </a:rPr>
              <a:t>1884</a:t>
            </a:r>
            <a:r>
              <a:rPr b="0" lang="ar-SA" sz="2400" spc="-1" strike="noStrike">
                <a:solidFill>
                  <a:srgbClr val="000000"/>
                </a:solidFill>
                <a:latin typeface="Arial"/>
              </a:rPr>
              <a:t> أما الثالث فكان قانون تأمين العجز والشيخوخة عام </a:t>
            </a:r>
            <a:r>
              <a:rPr b="0" lang="ar-SA" sz="2400" spc="-1" strike="noStrike">
                <a:solidFill>
                  <a:srgbClr val="000000"/>
                </a:solidFill>
                <a:latin typeface="Arial"/>
              </a:rPr>
              <a:t>1889</a:t>
            </a:r>
            <a:r>
              <a:rPr b="0" lang="ar-SA" sz="2400" spc="-1" strike="noStrike">
                <a:solidFill>
                  <a:srgbClr val="000000"/>
                </a:solidFill>
                <a:latin typeface="Arial"/>
              </a:rPr>
              <a:t>.</a:t>
            </a:r>
            <a:endParaRPr b="1" lang="en-US" sz="2400" spc="-1" strike="noStrike">
              <a:solidFill>
                <a:srgbClr val="000000"/>
              </a:solidFill>
              <a:latin typeface="Arial"/>
            </a:endParaRPr>
          </a:p>
          <a:p>
            <a:pPr algn="r" rtl="1">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4</a:t>
            </a:r>
            <a:r>
              <a:rPr b="0" lang="ar-SA" sz="2400" spc="-1" strike="noStrike">
                <a:solidFill>
                  <a:srgbClr val="3477b2"/>
                </a:solidFill>
                <a:latin typeface="Arial"/>
              </a:rPr>
              <a:t>- صدر بعد ذلك قانون  التأمينات الاجتماعية </a:t>
            </a:r>
            <a:r>
              <a:rPr b="0" lang="ar-SA" sz="2400" spc="-1" strike="noStrike">
                <a:solidFill>
                  <a:srgbClr val="3477b2"/>
                </a:solidFill>
                <a:latin typeface="Arial"/>
              </a:rPr>
              <a:t>1891</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والذي تضمن القوانين الثلاث السابقة وأرسى نظام تأمين</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إجباري عن طريق اشتراكات يدفعها العمال وأصحاب </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الأعمال والدولة. بهدف ضمان دخل للذين تقل أجورهم </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عن حد معين في حالات معينة.</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وانتشر نظام الضمان الاجتماعي وتنوعت المساعدات الاجتماعية في البلاد الأخرى التي حذت حذو المشرع الألماني فظهر في نيوزيلندا ثم في استراليا ثم في بريطانيا وفي فرنسا وأمريكا. وفي أعقاب الحرب العالمية الثانية أصبحت جميع الدول تطبق نظام التأمينات بشكل أو بآخر بحسب نظرة كل دولة إلى مفهوم العدل الاجتماعي.</a:t>
            </a:r>
            <a:endParaRPr b="1" lang="en-US" sz="2400" spc="-1" strike="noStrike">
              <a:solidFill>
                <a:srgbClr val="000000"/>
              </a:solidFill>
              <a:latin typeface="Arial"/>
            </a:endParaRPr>
          </a:p>
        </p:txBody>
      </p:sp>
      <p:pic>
        <p:nvPicPr>
          <p:cNvPr id="145" name="Picture 2" descr=""/>
          <p:cNvPicPr/>
          <p:nvPr/>
        </p:nvPicPr>
        <p:blipFill>
          <a:blip r:embed="rId1"/>
          <a:stretch/>
        </p:blipFill>
        <p:spPr>
          <a:xfrm>
            <a:off x="276120" y="1484280"/>
            <a:ext cx="3110040" cy="342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50560" y="692280"/>
            <a:ext cx="8497800" cy="5689440"/>
          </a:xfrm>
          <a:prstGeom prst="rect">
            <a:avLst/>
          </a:prstGeom>
          <a:noFill/>
          <a:ln w="0">
            <a:noFill/>
          </a:ln>
        </p:spPr>
        <p:txBody>
          <a:bodyPr anchor="t">
            <a:norm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وقد أطلق مصطلح الضمان الاجتماعي لأول مرة في قانون الضمان الاجتماعي الأمريكي. </a:t>
            </a:r>
            <a:r>
              <a:rPr b="0" lang="en-US" sz="2400" spc="-1" strike="noStrike">
                <a:solidFill>
                  <a:srgbClr val="3477b2"/>
                </a:solidFill>
                <a:latin typeface="Arial"/>
              </a:rPr>
              <a:t>The sociale security act</a:t>
            </a:r>
            <a:r>
              <a:rPr b="0" lang="en-US" sz="2400" spc="-1" strike="noStrike">
                <a:solidFill>
                  <a:srgbClr val="3477b2"/>
                </a:solidFill>
                <a:latin typeface="Arial"/>
              </a:rPr>
              <a:t>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الصادر في </a:t>
            </a:r>
            <a:r>
              <a:rPr b="0" lang="ar-SA" sz="2400" spc="-1" strike="noStrike">
                <a:solidFill>
                  <a:srgbClr val="3477b2"/>
                </a:solidFill>
                <a:latin typeface="Arial"/>
              </a:rPr>
              <a:t>1935</a:t>
            </a:r>
            <a:r>
              <a:rPr b="0" lang="ar-SA" sz="2400" spc="-1" strike="noStrike">
                <a:solidFill>
                  <a:srgbClr val="3477b2"/>
                </a:solidFill>
                <a:latin typeface="Arial"/>
              </a:rPr>
              <a:t> في عهد الرئيس الأمريكي (فرانكلين روزفلت )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بهدف مجابهة آثار الأزمة الاقتصادية التي ضربت الاقتصاد</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 الأمريكي ويجب الإشارة إلى إعلان فيلادلفيا الذي أكد على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ضرورة تحرير العامل من الخوف والفقر.</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7" name="Picture 3" descr=""/>
          <p:cNvPicPr/>
          <p:nvPr/>
        </p:nvPicPr>
        <p:blipFill>
          <a:blip r:embed="rId1"/>
          <a:stretch/>
        </p:blipFill>
        <p:spPr>
          <a:xfrm>
            <a:off x="611280" y="3141720"/>
            <a:ext cx="2520720" cy="33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16:58:16Z</dcterms:created>
  <dc:creator>عسثق</dc:creator>
  <dc:description/>
  <dc:language>en-US</dc:language>
  <cp:lastModifiedBy>eman</cp:lastModifiedBy>
  <dcterms:modified xsi:type="dcterms:W3CDTF">2016-09-28T17:27:19Z</dcterms:modified>
  <cp:revision>28</cp:revision>
  <dc:subject/>
  <dc:title>النظام القانوني للتأمينات والضمان الاجتماعي في المملكة العربية السعودية</dc:title>
</cp:coreProperties>
</file>