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0B6-AAAF-4D97-8A07-6871C0E9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ECB-B1CA-4A76-879E-D0815F92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09C7A-B881-42A8-92E7-DED1AC2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EA722-F0A9-4FBB-84EC-758B5F96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B1FE3-4F93-41C7-A599-D83E3A7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C3BE0-5931-4368-A1E3-2F53F3B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FD236-82B7-4301-8669-EF861B3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14B38-75DC-4A09-B6B3-7989EA9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980E2-F1BE-4EEE-BD6A-C0789E8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305C-F7D4-4EC4-A94F-799A77D8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FFA0F-6F3F-4F84-BFF0-6FE50928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497-BA85-43C8-952F-1501015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074-890F-489B-898B-915E49A6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7A1B-5E3D-4298-9360-18DF03D3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848-AC06-4CF9-B12B-034A9BE8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A74-04DD-4DE5-A60F-29B3B15D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852-A1B0-4D2D-ACBD-517BCDA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6BBA-A16D-4BC9-BD22-3CE045E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FBB8-8E94-4F73-A8F7-4AE513A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0288-B8CD-4032-A36B-0426319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25E-FCA1-4360-83E0-02249E37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23A6-1595-4B4F-8476-FDE9EB9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FCFB-47F7-4383-ADB3-EFD50CB0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6F7E-6175-4E2D-81E7-BA2D313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7AA5-CD55-42B3-8156-4694F7E2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2AA-2C5E-4327-9D59-6B1EA786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B2361-B37C-4CF1-A16E-DCF138F7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96EDF-258E-4B4D-B5DC-990891AC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9652B-4498-4E73-A698-9504278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E97BF-40A9-4AAA-AEF2-78DEA331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21030-C5BF-4283-B1D0-8E90397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E4E-73EE-46CA-971A-EBE0574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25468-1F7C-4D3E-B77C-094374DA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D930E-21E4-4FF7-B187-170C09B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C5861-6DDF-444C-B3AC-5EA5D87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55F67-39D4-4928-9AA6-05DCF05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47AB1-6FC7-46F5-A92C-9C90BD5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2BA9B-C799-4029-9560-901F4DD1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31EEF-97C2-433F-8CC3-E01185D1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BC9BB-12A4-4E3C-B188-ACACFFA6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0AE44-30C7-46E2-9A52-6ED04C9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8B97A-986F-456A-8AA6-8750B16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DCF-92BF-40DA-8904-A97F5B1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F0F7E-467B-4F18-AD8A-49D00E7C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D33DE-704D-4680-8425-597A23D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BA981-D1AC-4760-8E6C-E6CAD68B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95179-383F-4BE3-A1EC-897347D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BB5FA-B755-4F47-8C28-82A0FBB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6FFA4-6501-4A73-A4AD-928E98D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CBEE9-DCF4-46D8-825C-B146195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45989-68C1-4B83-8EA9-FB3E286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DE008-3C37-4684-800C-1C285752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2F373-91C6-4DB7-B5D0-77DB1BFB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A1D-AD15-4CD3-9F58-06452DAE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687DE-371D-4308-BF6F-0E4602EE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48E59-A19A-4481-BDFA-0F7884AC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92779-E202-421B-ACA9-7426B0E2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7D1FE-6A16-4698-A09E-B303B8BA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4B382-7BE9-4E85-8521-CCEC98CA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A45EC-CE0E-4EBA-BF6B-F4EC5A4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F7CA3-5E4C-4557-ABBD-B57B2EF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B3B6B-FE09-4F15-B5AF-323DF2E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0839C-DB87-4981-8097-F8F615AE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5DD7E-34BA-43B8-B69E-7AF83CAD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108-39C3-47DA-ABB4-266AE205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A8414-7814-4F68-B914-CB1E60B3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8EDB5-FCBB-4C2B-816C-8772747F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31FFA-4C1B-4991-8099-DD1E788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C4EE-5434-44F9-930F-DF32268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BDCF-DDCD-468E-90C0-B21F7CA1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09FB-4D87-45D6-81DA-C7E7A299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E54C6-E1B9-4CBB-A27B-D3F0109B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CDFDE-D32C-43BA-9D85-C2231FF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0E53-8DE9-4D54-94C8-7559DED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9A1C-B199-42C0-964D-327817B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F9A-4C7A-4D8C-BF7A-DF858C15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8E2F-F9AC-4461-B7B1-D9DAEE27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8F214-3F14-41BD-9D9D-948A6D30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8472-82D4-41EE-B6CB-702DFBD3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1953C-FC63-49D2-9966-7983F30B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659D0-AA03-421C-907F-8ABDB083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9D309-6BC6-437B-9D81-A7F0F3A9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0A5A5-C678-40BC-8B09-54B936AE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517BD-21B0-43F2-B478-046B25C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FDE02-735F-4108-9310-CC06E17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807B4-6F1C-4558-BC4D-68E9D65B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14E-3CCD-4958-8101-3CB9EA3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E7884-5C2C-403B-A768-AF66EA3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D2492-F1D0-4E4F-9AD3-9A1FD6EA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420DE-0F38-4576-BE39-3FEE564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44FD6-BBE7-47D4-BAE8-D06F6067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B8F19-E1CA-4A8A-B556-F0487A6F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3E91-6966-4DBE-AC4E-8405F722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85FF0-37BC-492A-B6B5-C80D78E0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47DF0-1952-4650-A102-6296789E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98E58-D418-4C90-8998-7E8A4EA7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E218-6448-4F9F-94F3-4046AF4C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311-359B-4F09-B7E8-48F14F5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91853-5102-4739-AED1-84D1352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5581-1D03-46A6-95E2-7417E7F6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DA78B-454E-46FD-A584-8A55B63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6A46-B87E-4961-81CF-6EB294A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53E1B-6A0D-41BC-AFC8-80535B5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97105-3CAF-4B14-9F49-8059B55A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95C83-E2BB-4BF2-BD41-2D80FF37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8F23F-6E8E-42C6-8E94-0AE12182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3ECE1-F82B-4DC9-8A90-1CD356B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51F5B-C875-4BCC-A409-CE3185E6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758-C483-4B1B-9617-FC025C2F2D6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61D-9C8E-434C-8240-A8AEE173FCE1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78CC-C50F-4B49-95ED-B085EE6BCA6D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FD11-5035-49F9-BA62-64EEB4DD147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891-24AE-40C7-B6E2-C9079FC590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BCD9-E673-42DF-A557-CB6B58185ECE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B16B-0C0A-40D2-B544-630AF93FA196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5BD-D88D-4464-851E-98904F496C9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93B-058A-4BB8-872D-CCD3528D7FB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الاتجاه النفسي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المحاضرة الثانية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w Cen MT"/>
              </a:rPr>
              <a:t>الطرق المدرسية التى إستخدمها بستالوتزي وأوصى بها </a:t>
            </a:r>
            <a:r>
              <a:rPr b="0" lang="ar-SA" sz="3200" spc="-1" strike="noStrike">
                <a:solidFill>
                  <a:srgbClr val="775f55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علم الكلام قبل القراء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استعانة بوسائل الايضاح في تعلم الحرو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راعاة النمو الطبيعي في دراسة اللغ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استعانة بالأشياء المادية المحسوسة لتعلم الحساب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قتران العمل العقلي بالعمل اليدو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75f55"/>
                </a:solidFill>
                <a:latin typeface="Tw Cen MT"/>
              </a:rPr>
              <a:t>أهمية أفكار بستالوتزي التربوية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7696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ركز على أهمية هدف التربية الجديدة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وضع طرق تدريس جديده مبنية على مبادىء جديدة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اعطى غرفة الدرس روح جديدة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وضح أن مشكلة التربية يجب ان تعالج من وجهه نظر الطفل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جعل التجريب قاعدة العمل التربوي بدل التقلي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لتوجيه الأنظار إلى أن مشكلة التربية يجب دراستها من ناحية علاقتها بنمو عقلية الطفل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0" algn="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وضرورة معرفة هذا النمو العقلي كم أنه يعتبر من أوائل من دعوا إلى الاهتمام بطريقة التدريس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يعتبر بستالوتزي واضع أسس التربية الحديثة بالمدرسة الأولي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92000" y="404280"/>
            <a:ext cx="5256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فريدرك فروب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4" descr="untitled"/>
          <p:cNvPicPr/>
          <p:nvPr/>
        </p:nvPicPr>
        <p:blipFill>
          <a:blip r:embed="rId1"/>
          <a:stretch/>
        </p:blipFill>
        <p:spPr>
          <a:xfrm>
            <a:off x="3851280" y="1773360"/>
            <a:ext cx="22129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المعهد التربوي الدولي الألمان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بسبب ذيوع صيتها ونجاحها طلبت منه الحكومة أن يضع خطة لإنشاء ملجأ برجدرو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8" name="Picture 4" descr="untitled5"/>
          <p:cNvPicPr/>
          <p:nvPr/>
        </p:nvPicPr>
        <p:blipFill>
          <a:blip r:embed="rId1"/>
          <a:stretch/>
        </p:blipFill>
        <p:spPr>
          <a:xfrm>
            <a:off x="3564000" y="1773360"/>
            <a:ext cx="4753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معهد فروبل للأطفال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أول روضة عرفتها التربية وكان شعارها (دعونا نوفر حياة جيدة لأطفالنا 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ألحق بها معهد لإعداد المعلمين والمعلمات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4" descr="493817874_5e27060559"/>
          <p:cNvPicPr/>
          <p:nvPr/>
        </p:nvPicPr>
        <p:blipFill>
          <a:blip r:embed="rId1"/>
          <a:stretch/>
        </p:blipFill>
        <p:spPr>
          <a:xfrm>
            <a:off x="3780000" y="1700280"/>
            <a:ext cx="424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808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مؤثرات التى تأثر بها فروب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050920" y="2331720"/>
            <a:ext cx="605016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ــشـأتـه الـريـفـيـة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أثـره ببستـالـوز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قـرآتـه الـمتـنـوعـ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هم مؤلفاته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ربية الانسان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همية تنمية الحواس بالتمرين الذي يراعي مستوى نمو الطفل، السمع اول حاسة تنمو يليها النظر. واكد على اهمية اللع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غاني للامهات وللحضان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جموعة من الاغاني تهدف لمساعدة الطفل على استخدام حواسة واعضاء جسمه، تهدف ايضا لتحقيق النمو الروحي والوجداني للطفل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ثالثا / آراء فروبل في التربية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5800" y="170028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ن التربية السليمة تكون بمراعاة مراحل نمو الطف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ايمانه بحاجة الصغار إلى الرعاية والحماية إلى جانب التعليم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عدم تدخل المعلم في عملية التعليم والتدريب مباشرة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كان يفضل المرأه في التعليم لرياض الأطفا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ن هدف التربية هو النمو المتكامل الذي يشمل الجسم والعقل والروح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وجوب دخول الطفل الروضة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ايمانه بأن خبرات الطفولة المبكرة ذات تأثير عميق في نمو شخصية الراشد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ضرورة الإشراف على الطفل والتأكد من أنه يوجد وسط ظروف ملائمة ومناسبة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آمن فروبل بحتمية استغلال قدرات الطفل الطبيعية وإمكاناته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شاد فروبل باللعب على أنه أكثر المهارات أهمية في تحقيق النمو الإمثل للطف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نادى ببناء المواد الدراسية على أساس فكرة الترابط والاستمرار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كد ضرورة معاملة كل طفل على حسب إمكانياته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8" name="Picture 4" descr="untitledb"/>
          <p:cNvPicPr/>
          <p:nvPr/>
        </p:nvPicPr>
        <p:blipFill>
          <a:blip r:embed="rId1"/>
          <a:stretch/>
        </p:blipFill>
        <p:spPr>
          <a:xfrm>
            <a:off x="34920" y="44280"/>
            <a:ext cx="16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رابعا / آراؤه في تربية طفل ما قبل المدرسة :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قترح منهج يسير على الرسم والتلوين وثني الورق وقصه ولصقه في أشكال , والعمل بالصلصال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عناية بتربية الحواس التي هي أبواب العق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ابتدع ألعاب لتشكل الوسائل والمنهج والكتاب ميزة طريقته في تربية الطف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أهمية الرسم بالنسبة لحياة الطف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أهمية ألعاب الحركة عند الطف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هدايا فروبل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2" name="عنصر نائب للمحتوى 3" descr="rewity-2a6cbc165e.jpg"/>
          <p:cNvPicPr/>
          <p:nvPr/>
        </p:nvPicPr>
        <p:blipFill>
          <a:blip r:embed="rId1"/>
          <a:stretch/>
        </p:blipFill>
        <p:spPr>
          <a:xfrm>
            <a:off x="1514520" y="1606680"/>
            <a:ext cx="63500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5"/>
          <p:cNvSpPr/>
          <p:nvPr/>
        </p:nvSpPr>
        <p:spPr>
          <a:xfrm>
            <a:off x="249120" y="1254240"/>
            <a:ext cx="79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c302a"/>
                </a:solidFill>
                <a:latin typeface="Tahoma"/>
              </a:rPr>
              <a:t>خصائص الاتجاه النفسي في الترب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95280" y="2575080"/>
            <a:ext cx="820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عناية بالطفل ودراسة ميوله واهتماماته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كشف عن القدرات الكامنة داخل الانسان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الاهتمام بالتربية الأولية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إصلاح التربية عن طريق تعديل وتطوير طرق التدريس والمناهج الدراسية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عنصر نائب للمحتوى 3" descr="rewity-03a64a677f.jpg"/>
          <p:cNvPicPr/>
          <p:nvPr/>
        </p:nvPicPr>
        <p:blipFill>
          <a:blip r:embed="rId1"/>
          <a:stretch/>
        </p:blipFill>
        <p:spPr>
          <a:xfrm>
            <a:off x="2340000" y="1197000"/>
            <a:ext cx="4578480" cy="3341520"/>
          </a:xfrm>
          <a:prstGeom prst="rect">
            <a:avLst/>
          </a:prstGeom>
          <a:ln w="0">
            <a:noFill/>
          </a:ln>
        </p:spPr>
      </p:pic>
      <p:pic>
        <p:nvPicPr>
          <p:cNvPr id="444" name="صورة 4" descr="gift1group.jpg"/>
          <p:cNvPicPr/>
          <p:nvPr/>
        </p:nvPicPr>
        <p:blipFill>
          <a:blip r:embed="rId2"/>
          <a:stretch/>
        </p:blipFill>
        <p:spPr>
          <a:xfrm>
            <a:off x="1042920" y="4797360"/>
            <a:ext cx="71438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صورة 7" descr="froebel_gift_2.jpg"/>
          <p:cNvPicPr/>
          <p:nvPr/>
        </p:nvPicPr>
        <p:blipFill>
          <a:blip r:embed="rId1"/>
          <a:stretch/>
        </p:blipFill>
        <p:spPr>
          <a:xfrm>
            <a:off x="5796000" y="54936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صورة 8" descr="froebel_gift_4.jpg"/>
          <p:cNvPicPr/>
          <p:nvPr/>
        </p:nvPicPr>
        <p:blipFill>
          <a:blip r:embed="rId2"/>
          <a:stretch/>
        </p:blipFill>
        <p:spPr>
          <a:xfrm>
            <a:off x="755640" y="692280"/>
            <a:ext cx="2190600" cy="2857320"/>
          </a:xfrm>
          <a:prstGeom prst="rect">
            <a:avLst/>
          </a:prstGeom>
          <a:ln w="0">
            <a:noFill/>
          </a:ln>
        </p:spPr>
      </p:pic>
      <p:pic>
        <p:nvPicPr>
          <p:cNvPr id="447" name="صورة 9" descr="froebel_gift_5.jpg"/>
          <p:cNvPicPr/>
          <p:nvPr/>
        </p:nvPicPr>
        <p:blipFill>
          <a:blip r:embed="rId3"/>
          <a:stretch/>
        </p:blipFill>
        <p:spPr>
          <a:xfrm>
            <a:off x="3348000" y="335772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صورة 1" descr="froebel_gift_9.jpg"/>
          <p:cNvPicPr/>
          <p:nvPr/>
        </p:nvPicPr>
        <p:blipFill>
          <a:blip r:embed="rId1"/>
          <a:stretch/>
        </p:blipFill>
        <p:spPr>
          <a:xfrm>
            <a:off x="5533920" y="1341360"/>
            <a:ext cx="3148200" cy="2303640"/>
          </a:xfrm>
          <a:prstGeom prst="rect">
            <a:avLst/>
          </a:prstGeom>
          <a:ln w="0">
            <a:noFill/>
          </a:ln>
        </p:spPr>
      </p:pic>
      <p:pic>
        <p:nvPicPr>
          <p:cNvPr id="449" name="صورة 2" descr="fiddlecu2.gif"/>
          <p:cNvPicPr/>
          <p:nvPr/>
        </p:nvPicPr>
        <p:blipFill>
          <a:blip r:embed="rId2"/>
          <a:stretch/>
        </p:blipFill>
        <p:spPr>
          <a:xfrm>
            <a:off x="1476360" y="1773360"/>
            <a:ext cx="2374920" cy="1954080"/>
          </a:xfrm>
          <a:prstGeom prst="rect">
            <a:avLst/>
          </a:prstGeom>
          <a:ln w="0">
            <a:noFill/>
          </a:ln>
        </p:spPr>
      </p:pic>
      <p:pic>
        <p:nvPicPr>
          <p:cNvPr id="450" name="صورة 3" descr="froebel_rings.jpg"/>
          <p:cNvPicPr/>
          <p:nvPr/>
        </p:nvPicPr>
        <p:blipFill>
          <a:blip r:embed="rId3"/>
          <a:stretch/>
        </p:blipFill>
        <p:spPr>
          <a:xfrm>
            <a:off x="2189160" y="3860640"/>
            <a:ext cx="504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أبرز ممثلي الاتجاه النفس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بستالوتز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1" name="Picture 9" descr="pestalozzi_schoner_pd"/>
          <p:cNvPicPr/>
          <p:nvPr/>
        </p:nvPicPr>
        <p:blipFill>
          <a:blip r:embed="rId1"/>
          <a:stretch/>
        </p:blipFill>
        <p:spPr>
          <a:xfrm>
            <a:off x="4324320" y="2171880"/>
            <a:ext cx="2476440" cy="3581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20178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1000"/>
          </a:bodyPr>
          <a:p>
            <a:pPr indent="0" algn="ct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ظهر في القرن التاسع عشر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واشتهر بتجاربه التربوية التي حاول تطبيق أفكاره ونظرياته فيها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تجربة نيوهوف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144144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6000"/>
          </a:bodyPr>
          <a:p>
            <a:pPr indent="0" algn="r" rt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نتيجة التجربة : أذا احس الطفل عطف ورعاية فلن يقترف السلوك الشائ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letztelebensjahre_05"/>
          <p:cNvPicPr/>
          <p:nvPr/>
        </p:nvPicPr>
        <p:blipFill>
          <a:blip r:embed="rId1"/>
          <a:stretch/>
        </p:blipFill>
        <p:spPr>
          <a:xfrm>
            <a:off x="3492360" y="1687680"/>
            <a:ext cx="46087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تجربة ستان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0000"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خرج بستالوتزي من هذة التجربة بفكرته الشهيرة 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 (لا يوجد انطباع دون التعبير عنه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Picture 4" descr="300px-Pestalozzi_with_the_orphans_in_Stans"/>
          <p:cNvPicPr/>
          <p:nvPr/>
        </p:nvPicPr>
        <p:blipFill>
          <a:blip r:embed="rId1"/>
          <a:stretch/>
        </p:blipFill>
        <p:spPr>
          <a:xfrm>
            <a:off x="3348000" y="1916280"/>
            <a:ext cx="4680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w Cen MT"/>
              </a:rPr>
              <a:t>تجربة برجدورف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عتراف المسئولون عن التعليم الأولى بطريقة بستالوتز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bergdorrf"/>
          <p:cNvPicPr/>
          <p:nvPr/>
        </p:nvPicPr>
        <p:blipFill>
          <a:blip r:embed="rId1"/>
          <a:stretch/>
        </p:blipFill>
        <p:spPr>
          <a:xfrm>
            <a:off x="3419640" y="1844640"/>
            <a:ext cx="4608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w Cen MT"/>
              </a:rPr>
              <a:t>تجربة إيفردون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Tw Cen MT"/>
              </a:rPr>
              <a:t>نتيجة التجربة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: قدرته على وضع آراءه في طريقة التدريس للصغار, ووضع معظم مبادئه التربوية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4" descr="schloss-yverdon_01"/>
          <p:cNvPicPr/>
          <p:nvPr/>
        </p:nvPicPr>
        <p:blipFill>
          <a:blip r:embed="rId1"/>
          <a:stretch/>
        </p:blipFill>
        <p:spPr>
          <a:xfrm>
            <a:off x="3851280" y="1773360"/>
            <a:ext cx="417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979280" y="549360"/>
            <a:ext cx="607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-19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Tw Cen MT"/>
                <a:ea typeface="Traditional Arabic"/>
              </a:rPr>
              <a:t> آراء بستالوزي في تربية الاطفال 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Rectangle 20"/>
          <p:cNvSpPr/>
          <p:nvPr/>
        </p:nvSpPr>
        <p:spPr>
          <a:xfrm>
            <a:off x="754200" y="1724040"/>
            <a:ext cx="770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أن الأسرة أهم مؤسسة تربوية للصغا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أن مبادئ التربية وأسسها يبحث عنها داخل الطفل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أن النمو المتناسق لكل قدرات الفرد جسمية وعقلية وخلقية هو هدف التربي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لملاحظة والخبرة الشخصية أساس التربية والتعلي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ربط الدراسة بالملاحظة واستعمال الحوا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لغرض من التربية إنماء القوى العقلية و إيقاظ المواهب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لعمل على زيادة القوة العقلية وتنميتها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حترام شخصية التلمي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جب أن يمكث الطفل طويلا عند كل جزء من أجزاء المعرفة حتى يسيطر عليها تماما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جب أن تكون المحبة أساس العلاقة بين المعلم والمتعلم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جب أن نحلل مادة التعليم إلى أبسط أشكالها ثم التدرج بالصعوب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بدأ النمو الذاتي عندما يتأثر العقل بالإحساسات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0:47Z</dcterms:created>
  <dc:creator>Customer</dc:creator>
  <dc:description/>
  <dc:language>en-US</dc:language>
  <cp:lastModifiedBy>aroma.faiz@yahoo.com</cp:lastModifiedBy>
  <dcterms:modified xsi:type="dcterms:W3CDTF">2014-02-19T04:40:02Z</dcterms:modified>
  <cp:revision>138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