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867-4C16-48CF-AED6-B52004C5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4049-CDA6-4A1C-86CA-D24E2E7F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47F3A-F81E-4C8D-A7CD-F499383F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400A3-7F21-4E11-8DEC-306A7F6E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EF5CC-9E25-4572-9CC4-32715C7C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26DB7-811C-4F68-8E78-5CCE99D8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6C611-4B85-440F-B29F-9B42F171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B7E8C-0BEB-4F5C-9F3A-4577A79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C8A7C-71E5-40E6-B771-27E5B91E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BF2C9-5AFD-4843-AA3E-83ABD4AF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D9B9A-C4F0-498D-9D78-4E636E0D0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038-5A88-4C95-8258-34D25173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FCF-00B0-4EBB-8AE6-7A2DE576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3696-2ECD-46B6-A8DE-E6C324F31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EF0E-E8CA-4664-BC85-F657322A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67DA-750D-4030-8A33-DF2BA4C4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11EE-8005-483F-9216-814292AC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571E-76E3-41A1-9700-C08A0F37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D40E-4549-4ACA-B95C-8562CE90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1405-5197-480A-928F-C8C2811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EFF-608E-46BC-981C-55264DC5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2347-F3AF-4A64-BF51-1C535914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6422-CDCE-4098-81C7-2CBCF575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6F52-50AE-4B5B-B6F4-7D081C45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D300-55AE-4BAC-A96C-3104C6F3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B258-7EEA-46C1-9704-97F1038C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E0BDE1-1F2F-471A-BD55-23187CDB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A9854-ACB1-4A4F-9AD5-56EB48C4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F967CC-0D80-4D40-837C-9D93C1F2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6787C-7E38-4A98-9342-5D0A9429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3115E-E6E8-47D9-9C3D-1C121750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F92-3B82-4346-AE88-DA1EA3E9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BE06B-C2F0-49A2-A8DF-3ECBE1CF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D7D26-2C54-4F40-86F3-2D28EB5E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04827-3CD0-4DE2-8AA9-9CF79E98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96DAE-F21D-4DF9-853B-B74CEFA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9AD4F-1CC4-4F8A-B377-57273ABD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2370E8-0445-4B33-8BC3-5213C6A2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B8A383-8164-4CC5-B485-D7015295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30741-1C37-4AF8-90BD-9F5A6EF4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2E382F-DBA3-4013-A1CF-69CAFF0D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565B37-802A-446D-A8AF-DCFFD2E2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D35-3B11-49AF-99CA-C0725819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806724-B60F-4937-BC40-0A0F3704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96E3E5-B6EA-44BD-B70B-00A3BF89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F84C1-0E13-46A8-95DA-83988233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D4B01-4CD0-4AFE-9D66-E3F29D4B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472723-2B1F-49FE-8357-63581B00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C054D2-3A7F-43DE-96F0-EE98CF33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4FE386-ECE4-44FF-8913-EF1DDADB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BE84C8-4E01-40B5-84A1-F6D3AD7F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44B45D-7BAF-42F4-949A-6D9F05CE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A6A3D-720B-47E4-B1B5-258C4863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1FD-48B7-443E-B3C0-A517EFE7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E0CC1-7256-4F91-95C3-C2261B6F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06E24-AC60-486C-996B-69519FD3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42D94-08C2-4BC5-A5CA-79F33B6E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616FC4-5AFB-4AFA-811C-2F61FE36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A57C35-A30D-4E4C-AC3E-00F3B47A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E79FF2-13E9-4AA6-B7D9-F4C582D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0757C3-B09C-441E-8139-873A255A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C70A0-7649-49A1-9BB5-104E4138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7D65B7-F1F1-4F35-A89A-AD9E9C39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13DB9-FE4C-4EE5-A026-F10529EF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766-3564-4DBC-BD04-54D2A3C2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C1B17-235F-4611-8789-82B906CD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07DF-1AFB-4A61-A0F3-E4AF057C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BC153-0961-498B-9156-75130C0F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FA07-7877-4E6B-8A9B-C42DF3A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3ABD9-778B-46B6-BB7B-EE8C3799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5E09-C937-4F22-B407-DAC82E0F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2AD84-9DBA-4698-92F7-1E01922C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09F89-7FBC-4674-91EA-B37F9217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3704E-4DE3-4CCC-ADCE-4D16A34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096F8-271E-4874-AF7D-5A352DE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A53-1A08-48BE-976C-73B49AE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E5B43-4B33-47A9-85B0-D8F8685E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16096-20D7-4B26-811B-ADA4F39F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2C8F7-2997-4669-8015-D74C898F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5BF32A-1085-483F-B879-DF9F6D7F6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5A7BD-0E1A-413C-93CA-85560186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2C7387-1123-44EE-A2EF-2B6F184F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BEC42-2F86-4322-8307-F1FBAA81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0D950-E89A-419E-9652-8290D5E8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F4A77-3CA0-4E05-B0E3-9C87DDD8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32950-49C5-456F-8A7B-8C5611A2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F26-64A2-43FD-B608-7064454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36FAC6-E3FA-40DD-A8E7-CC66356B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CB33D-AAC7-4287-A0E8-87772E64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555ACA-B9A8-4A09-A74E-1B7536E5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5EC32-5449-488F-8A11-20BD8F9D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1F70D-2471-46C9-86A6-60497B07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59CF0-9EA0-43BC-B6D8-C86053C3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C5946-ECF0-424F-B3C7-4EBD7D3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CFBE0-4CE7-426A-8D96-15E04CFC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81ABD-C21C-418D-93B7-F3F29413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9EDB3-D817-4763-A593-88A2FA2B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705-6110-4D49-963B-CF462D02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DC520-AFB2-42CC-A6A2-EBCB3706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3E23A-1EDA-4F13-865D-37D7C0D8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46BEF-45BA-45F3-901D-2182C97A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429B-2677-4BFE-B52D-5ED3682C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B96B5-231B-49C3-BB7C-F1575E85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59BFC-5ECC-4B77-8F11-AE9BB5E7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CFE4D-325D-4B9B-8BB4-E004F958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BDC49-EDD0-4820-B730-642CA4BCE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0DDE8-494A-4F70-A872-215223DB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AA0B9-E103-483E-A0B8-DFD2E6EE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7FA8-BDA1-4B94-BCA9-C64939E060B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B2BB-C9BD-4BDF-9A84-FBBE57BED4D1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87CB-E7AE-4821-9F4A-55325BC2F1E9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B166-1862-45EA-8C4C-B91DD3E0F47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8C74-97D1-4265-BA83-4B43587445F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1B67-06D0-427B-9946-32920BC46F22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1CC-A62E-42DD-83C2-07C708A8CFF8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14BC-3586-4784-929B-7030A493CF2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1748-8BA3-426C-B9D0-E926458AB00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bddc3"/>
                </a:solidFill>
                <a:latin typeface="Tw Cen MT"/>
              </a:rPr>
              <a:t>الاتجاه النفسي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المحاضرة الثانية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5f55"/>
                </a:solidFill>
                <a:latin typeface="Tw Cen MT"/>
              </a:rPr>
              <a:t>الطرق المدرسية التى إستخدمها بستالوتزي وأوصى بها </a:t>
            </a:r>
            <a:r>
              <a:rPr b="0" lang="ar-SA" sz="3200" spc="-1" strike="noStrike">
                <a:solidFill>
                  <a:srgbClr val="775f55"/>
                </a:solidFill>
                <a:latin typeface="Tw Cen MT"/>
              </a:rPr>
              <a:t>: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علم الكلام قبل القراء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استعانة بوسائل الايضاح في تعلم الحروف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راعاة النمو الطبيعي في دراسة اللغ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لاستعانة بالأشياء المادية المحسوسة لتعلم الحساب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قتران العمل العقلي بالعمل اليدو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75f55"/>
                </a:solidFill>
                <a:latin typeface="Tw Cen MT"/>
              </a:rPr>
              <a:t>أهمية أفكار بستالوتزي التربوية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55640" y="2276280"/>
            <a:ext cx="76960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ركز على أهمية هدف التربية الجديدة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وضع طرق تدريس جديده مبنية على مبادىء جديدة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اعطى غرفة الدرس روح جديدة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وضح أن مشكلة التربية يجب ان تعالج من وجهه نظر الطفل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w Cen MT"/>
              </a:rPr>
              <a:t>جعل التجريب قاعدة العمل التربوي بدل التقليد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لتوجيه الأنظار إلى أن مشكلة التربية يجب دراستها من ناحية علاقتها بنمو عقلية الطفل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0" algn="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 وضرورة معرفة هذا النمو العقلي كم أنه يعتبر من أوائل من دعوا إلى الاهتمام بطريقة التدريس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w Cen MT"/>
              </a:rPr>
              <a:t>يعتبر بستالوتزي واضع أسس التربية الحديثة بالمدرسة الأولية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492000" y="404280"/>
            <a:ext cx="52563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فريدرك فروبل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5" name="Picture 4" descr="untitled"/>
          <p:cNvPicPr/>
          <p:nvPr/>
        </p:nvPicPr>
        <p:blipFill>
          <a:blip r:embed="rId1"/>
          <a:stretch/>
        </p:blipFill>
        <p:spPr>
          <a:xfrm>
            <a:off x="3851280" y="1773360"/>
            <a:ext cx="22129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المعهد التربوي الدولي الألماني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w Cen MT"/>
              </a:rPr>
              <a:t>بسبب ذيوع صيتها ونجاحها طلبت منه الحكومة أن يضع خطة لإنشاء ملجأ برجدروف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8" name="Picture 4" descr="untitled5"/>
          <p:cNvPicPr/>
          <p:nvPr/>
        </p:nvPicPr>
        <p:blipFill>
          <a:blip r:embed="rId1"/>
          <a:stretch/>
        </p:blipFill>
        <p:spPr>
          <a:xfrm>
            <a:off x="3564000" y="1773360"/>
            <a:ext cx="4753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معهد فروبل للأطفال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أول روضة عرفتها التربية وكان شعارها (دعونا نوفر حياة جيدة لأطفالنا 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ألحق بها معهد لإعداد المعلمين والمعلمات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1" name="Picture 4" descr="493817874_5e27060559"/>
          <p:cNvPicPr/>
          <p:nvPr/>
        </p:nvPicPr>
        <p:blipFill>
          <a:blip r:embed="rId1"/>
          <a:stretch/>
        </p:blipFill>
        <p:spPr>
          <a:xfrm>
            <a:off x="3780000" y="1700280"/>
            <a:ext cx="4248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808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لمؤثرات التى تأثر بها فروبل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050920" y="2331720"/>
            <a:ext cx="605016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نــشـأتـه الـريـفـيـة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أثـره ببستـالـوزي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قـرآتـه الـمتـنـوعـة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اهم مؤلفاته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تربية الانسان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همية تنمية الحواس بالتمرين الذي يراعي مستوى نمو الطفل، السمع اول حاسة تنمو يليها النظر. واكد على اهمية اللعب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اغاني للامهات وللحضانة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مجموعة من الاغاني تهدف لمساعدة الطفل على استخدام حواسة واعضاء جسمه، تهدف ايضا لتحقيق النمو الروحي والوجداني للطفل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76000" y="152280"/>
            <a:ext cx="651348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ثالثا / آراء فروبل في التربية 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85800" y="1700280"/>
            <a:ext cx="7696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أن التربية السليمة تكون بمراعاة مراحل نمو الطفل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ايمانه بحاجة الصغار إلى الرعاية والحماية إلى جانب التعليم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عدم تدخل المعلم في عملية التعليم والتدريب مباشرة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كان يفضل المرأه في التعليم لرياض الأطفال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أن هدف التربية هو النمو المتكامل الذي يشمل الجسم والعقل والروح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وجوب دخول الطفل الروضة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ايمانه بأن خبرات الطفولة المبكرة ذات تأثير عميق في نمو شخصية الراشد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ضرورة الإشراف على الطفل والتأكد من أنه يوجد وسط ظروف ملائمة ومناسبة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آمن فروبل بحتمية استغلال قدرات الطفل الطبيعية وإمكاناته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أشاد فروبل باللعب على أنه أكثر المهارات أهمية في تحقيق النمو الإمثل للطفل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نادى ببناء المواد الدراسية على أساس فكرة الترابط والاستمرار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71080" indent="-271080" algn="r" rtl="1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Tw Cen MT"/>
              </a:rPr>
              <a:t>أكد ضرورة معاملة كل طفل على حسب إمكانياته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8" name="Picture 4" descr="untitledb"/>
          <p:cNvPicPr/>
          <p:nvPr/>
        </p:nvPicPr>
        <p:blipFill>
          <a:blip r:embed="rId1"/>
          <a:stretch/>
        </p:blipFill>
        <p:spPr>
          <a:xfrm>
            <a:off x="34920" y="44280"/>
            <a:ext cx="1623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4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75f55"/>
                </a:solidFill>
                <a:latin typeface="Tw Cen MT"/>
              </a:rPr>
              <a:t>رابعا / آراؤه في تربية طفل ما قبل المدرسة :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قترح منهج يسير على الرسم والتلوين وثني الورق وقصه ولصقه في أشكال , والعمل بالصلصال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العناية بتربية الحواس التي هي أبواب العقل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 ابتدع ألعاب لتشكل الوسائل والمنهج والكتاب ميزة طريقته في تربية الطفل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أهمية الرسم بالنسبة لحياة الطفل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w Cen MT"/>
              </a:rPr>
              <a:t>أهمية ألعاب الحركة عند الطفل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هدايا فروبل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2" name="عنصر نائب للمحتوى 3" descr="rewity-2a6cbc165e.jpg"/>
          <p:cNvPicPr/>
          <p:nvPr/>
        </p:nvPicPr>
        <p:blipFill>
          <a:blip r:embed="rId1"/>
          <a:stretch/>
        </p:blipFill>
        <p:spPr>
          <a:xfrm>
            <a:off x="1514520" y="1606680"/>
            <a:ext cx="63500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5"/>
          <p:cNvSpPr/>
          <p:nvPr/>
        </p:nvSpPr>
        <p:spPr>
          <a:xfrm>
            <a:off x="249120" y="1254240"/>
            <a:ext cx="79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c302a"/>
                </a:solidFill>
                <a:latin typeface="Tahoma"/>
              </a:rPr>
              <a:t>خصائص الاتجاه النفسي في التربية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395280" y="2575080"/>
            <a:ext cx="8209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عناية بالطفل ودراسة ميوله واهتماماته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لكشف عن القدرات الكامنة داخل الانسان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الاهتمام بالتربية الأولية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إصلاح التربية عن طريق تعديل وتطوير طرق التدريس والمناهج الدراسية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عنصر نائب للمحتوى 3" descr="rewity-03a64a677f.jpg"/>
          <p:cNvPicPr/>
          <p:nvPr/>
        </p:nvPicPr>
        <p:blipFill>
          <a:blip r:embed="rId1"/>
          <a:stretch/>
        </p:blipFill>
        <p:spPr>
          <a:xfrm>
            <a:off x="2340000" y="1197000"/>
            <a:ext cx="4578480" cy="3341520"/>
          </a:xfrm>
          <a:prstGeom prst="rect">
            <a:avLst/>
          </a:prstGeom>
          <a:ln w="0">
            <a:noFill/>
          </a:ln>
        </p:spPr>
      </p:pic>
      <p:pic>
        <p:nvPicPr>
          <p:cNvPr id="444" name="صورة 4" descr="gift1group.jpg"/>
          <p:cNvPicPr/>
          <p:nvPr/>
        </p:nvPicPr>
        <p:blipFill>
          <a:blip r:embed="rId2"/>
          <a:stretch/>
        </p:blipFill>
        <p:spPr>
          <a:xfrm>
            <a:off x="1042920" y="4797360"/>
            <a:ext cx="71438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صورة 7" descr="froebel_gift_2.jpg"/>
          <p:cNvPicPr/>
          <p:nvPr/>
        </p:nvPicPr>
        <p:blipFill>
          <a:blip r:embed="rId1"/>
          <a:stretch/>
        </p:blipFill>
        <p:spPr>
          <a:xfrm>
            <a:off x="5796000" y="549360"/>
            <a:ext cx="2857320" cy="2971800"/>
          </a:xfrm>
          <a:prstGeom prst="rect">
            <a:avLst/>
          </a:prstGeom>
          <a:ln w="0">
            <a:noFill/>
          </a:ln>
        </p:spPr>
      </p:pic>
      <p:pic>
        <p:nvPicPr>
          <p:cNvPr id="446" name="صورة 8" descr="froebel_gift_4.jpg"/>
          <p:cNvPicPr/>
          <p:nvPr/>
        </p:nvPicPr>
        <p:blipFill>
          <a:blip r:embed="rId2"/>
          <a:stretch/>
        </p:blipFill>
        <p:spPr>
          <a:xfrm>
            <a:off x="755640" y="692280"/>
            <a:ext cx="2190600" cy="2857320"/>
          </a:xfrm>
          <a:prstGeom prst="rect">
            <a:avLst/>
          </a:prstGeom>
          <a:ln w="0">
            <a:noFill/>
          </a:ln>
        </p:spPr>
      </p:pic>
      <p:pic>
        <p:nvPicPr>
          <p:cNvPr id="447" name="صورة 9" descr="froebel_gift_5.jpg"/>
          <p:cNvPicPr/>
          <p:nvPr/>
        </p:nvPicPr>
        <p:blipFill>
          <a:blip r:embed="rId3"/>
          <a:stretch/>
        </p:blipFill>
        <p:spPr>
          <a:xfrm>
            <a:off x="3348000" y="3357720"/>
            <a:ext cx="23814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صورة 1" descr="froebel_gift_9.jpg"/>
          <p:cNvPicPr/>
          <p:nvPr/>
        </p:nvPicPr>
        <p:blipFill>
          <a:blip r:embed="rId1"/>
          <a:stretch/>
        </p:blipFill>
        <p:spPr>
          <a:xfrm>
            <a:off x="5533920" y="1341360"/>
            <a:ext cx="3148200" cy="2303640"/>
          </a:xfrm>
          <a:prstGeom prst="rect">
            <a:avLst/>
          </a:prstGeom>
          <a:ln w="0">
            <a:noFill/>
          </a:ln>
        </p:spPr>
      </p:pic>
      <p:pic>
        <p:nvPicPr>
          <p:cNvPr id="449" name="صورة 2" descr="fiddlecu2.gif"/>
          <p:cNvPicPr/>
          <p:nvPr/>
        </p:nvPicPr>
        <p:blipFill>
          <a:blip r:embed="rId2"/>
          <a:stretch/>
        </p:blipFill>
        <p:spPr>
          <a:xfrm>
            <a:off x="1476360" y="1773360"/>
            <a:ext cx="2374920" cy="1954080"/>
          </a:xfrm>
          <a:prstGeom prst="rect">
            <a:avLst/>
          </a:prstGeom>
          <a:ln w="0">
            <a:noFill/>
          </a:ln>
        </p:spPr>
      </p:pic>
      <p:pic>
        <p:nvPicPr>
          <p:cNvPr id="450" name="صورة 3" descr="froebel_rings.jpg"/>
          <p:cNvPicPr/>
          <p:nvPr/>
        </p:nvPicPr>
        <p:blipFill>
          <a:blip r:embed="rId3"/>
          <a:stretch/>
        </p:blipFill>
        <p:spPr>
          <a:xfrm>
            <a:off x="2189160" y="3860640"/>
            <a:ext cx="5046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أبرز ممثلي الاتجاه النفسي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9" name="عنصر نائب للمحتوى 3" descr=""/>
          <p:cNvPicPr/>
          <p:nvPr/>
        </p:nvPicPr>
        <p:blipFill>
          <a:blip r:embed="rId1"/>
          <a:stretch/>
        </p:blipFill>
        <p:spPr>
          <a:xfrm>
            <a:off x="609480" y="1590840"/>
            <a:ext cx="8163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بستالوتزي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1" name="Picture 9" descr="pestalozzi_schoner_pd"/>
          <p:cNvPicPr/>
          <p:nvPr/>
        </p:nvPicPr>
        <p:blipFill>
          <a:blip r:embed="rId1"/>
          <a:stretch/>
        </p:blipFill>
        <p:spPr>
          <a:xfrm>
            <a:off x="4324320" y="2171880"/>
            <a:ext cx="2476440" cy="35812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20178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 fontScale="91000"/>
          </a:bodyPr>
          <a:p>
            <a:pPr indent="0" algn="ct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ظهر في القرن التاسع عشر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واشتهر بتجاربه التربوية التي حاول تطبيق أفكاره ونظرياته فيها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775f55"/>
                </a:solidFill>
                <a:uFillTx/>
                <a:latin typeface="Tw Cen MT"/>
              </a:rPr>
              <a:t>تجربة نيوهوف 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144144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 fontScale="96000"/>
          </a:bodyPr>
          <a:p>
            <a:pPr indent="0" algn="r" rt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نتيجة التجربة : أذا احس الطفل عطف ورعاية فلن يقترف السلوك الشائن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6" descr="letztelebensjahre_05"/>
          <p:cNvPicPr/>
          <p:nvPr/>
        </p:nvPicPr>
        <p:blipFill>
          <a:blip r:embed="rId1"/>
          <a:stretch/>
        </p:blipFill>
        <p:spPr>
          <a:xfrm>
            <a:off x="3492360" y="1687680"/>
            <a:ext cx="4608720" cy="41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775f55"/>
                </a:solidFill>
                <a:latin typeface="Tw Cen MT"/>
              </a:rPr>
              <a:t>تجربة ستانز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 fontScale="90000"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خرج بستالوتزي من هذة التجربة بفكرته الشهيرة 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 (لا يوجد انطباع دون التعبير عنه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Picture 4" descr="300px-Pestalozzi_with_the_orphans_in_Stans"/>
          <p:cNvPicPr/>
          <p:nvPr/>
        </p:nvPicPr>
        <p:blipFill>
          <a:blip r:embed="rId1"/>
          <a:stretch/>
        </p:blipFill>
        <p:spPr>
          <a:xfrm>
            <a:off x="3348000" y="1916280"/>
            <a:ext cx="4680000" cy="41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w Cen MT"/>
              </a:rPr>
              <a:t>تجربة برجدورف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w Cen MT"/>
              </a:rPr>
              <a:t>اعتراف المسئولون عن التعليم الأولى بطريقة بستالوتزي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bergdorrf"/>
          <p:cNvPicPr/>
          <p:nvPr/>
        </p:nvPicPr>
        <p:blipFill>
          <a:blip r:embed="rId1"/>
          <a:stretch/>
        </p:blipFill>
        <p:spPr>
          <a:xfrm>
            <a:off x="3419640" y="1844640"/>
            <a:ext cx="46083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775f55"/>
                </a:solidFill>
                <a:latin typeface="Tw Cen MT"/>
              </a:rPr>
              <a:t>تجربة إيفردون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ff"/>
                </a:solidFill>
                <a:uFillTx/>
                <a:latin typeface="Tw Cen MT"/>
              </a:rPr>
              <a:t>نتيجة التجربة</a:t>
            </a:r>
            <a:r>
              <a:rPr b="0" lang="ar-SA" sz="1800" spc="-1" strike="noStrike">
                <a:solidFill>
                  <a:srgbClr val="ffffff"/>
                </a:solidFill>
                <a:latin typeface="Tw Cen MT"/>
              </a:rPr>
              <a:t>: قدرته على وضع آراءه في طريقة التدريس للصغار, ووضع معظم مبادئه التربوية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 algn="r" rtl="1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6" name="Picture 4" descr="schloss-yverdon_01"/>
          <p:cNvPicPr/>
          <p:nvPr/>
        </p:nvPicPr>
        <p:blipFill>
          <a:blip r:embed="rId1"/>
          <a:stretch/>
        </p:blipFill>
        <p:spPr>
          <a:xfrm>
            <a:off x="3851280" y="1773360"/>
            <a:ext cx="4178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979280" y="549360"/>
            <a:ext cx="607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-19440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Tw Cen MT"/>
                <a:ea typeface="Traditional Arabic"/>
              </a:rPr>
              <a:t> آراء بستالوزي في تربية الاطفال :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Rectangle 20"/>
          <p:cNvSpPr/>
          <p:nvPr/>
        </p:nvSpPr>
        <p:spPr>
          <a:xfrm>
            <a:off x="754200" y="1724040"/>
            <a:ext cx="7705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أن الأسرة أهم مؤسسة تربوية للصغار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أن مبادئ التربية وأسسها يبحث عنها داخل الطفل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أن النمو المتناسق لكل قدرات الفرد جسمية وعقلية وخلقية هو هدف التربي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لملاحظة والخبرة الشخصية أساس التربية والتعلي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ربط الدراسة بالملاحظة واستعمال الحوا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لغرض من التربية إنماء القوى العقلية و إيقاظ المواهب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لعمل على زيادة القوة العقلية وتنميتها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احترام شخصية التلمي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يجب أن يمكث الطفل طويلا عند كل جزء من أجزاء المعرفة حتى يسيطر عليها تماما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يجب أن تكون المحبة أساس العلاقة بين المعلم والمتعلم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يجب أن نحلل مادة التعليم إلى أبسط أشكالها ثم التدرج بالصعوب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r" rtl="1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يبدأ النمو الذاتي عندما يتأثر العقل بالإحساسات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4:00:47Z</dcterms:created>
  <dc:creator>Customer</dc:creator>
  <dc:description/>
  <dc:language>en-US</dc:language>
  <cp:lastModifiedBy>aroma.faiz@yahoo.com</cp:lastModifiedBy>
  <dcterms:modified xsi:type="dcterms:W3CDTF">2014-02-19T04:40:02Z</dcterms:modified>
  <cp:revision>138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