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65E-C629-4979-A0CB-6BCA1F8D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7E9-5EC3-4446-9C46-0BD2C8E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F74-BE97-4DA0-80D4-34A62038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323-FB2B-4BCB-84EA-375B834C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83F-0D58-41AB-8740-46218C91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32F-7650-404F-B2F5-0F145140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2C8-D833-4874-BC43-42F6582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451-BF0A-4312-9987-F61C5FA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81D-406D-447B-A242-F4C5C30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6D8-8271-47B3-B617-DF7FC23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F24-EAD1-47EC-A399-0E6930C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8EB-3256-4E19-AA0A-FEC16D6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4B4-68C5-4838-B85E-CA389725B6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800" spc="-1" strike="noStrike">
                <a:solidFill>
                  <a:srgbClr val="3810e0"/>
                </a:solidFill>
                <a:latin typeface="Sylfaen"/>
                <a:cs typeface="Old Antic Bold"/>
              </a:rPr>
              <a:t>بسم الله الرحمن الرحيم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440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700" spc="-1" strike="noStrike">
                <a:solidFill>
                  <a:srgbClr val="9900cc"/>
                </a:solidFill>
                <a:latin typeface="Kunstler Script"/>
                <a:cs typeface="Monotype Koufi"/>
              </a:rPr>
              <a:t>المحاضرة الثانية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292640"/>
            <a:ext cx="4967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كاينمتيكا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571680" y="1530360"/>
                <a:ext cx="20714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3"/>
              <p:cNvSpPr txBox="1"/>
              <p:nvPr/>
            </p:nvSpPr>
            <p:spPr>
              <a:xfrm>
                <a:off x="468360" y="3075120"/>
                <a:ext cx="3346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68360" y="4683240"/>
                <a:ext cx="23684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سهم إلى اليمين 7"/>
          <p:cNvSpPr/>
          <p:nvPr/>
        </p:nvSpPr>
        <p:spPr>
          <a:xfrm>
            <a:off x="3429000" y="170496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سهم إلى اليمين 8"/>
          <p:cNvSpPr/>
          <p:nvPr/>
        </p:nvSpPr>
        <p:spPr>
          <a:xfrm>
            <a:off x="4111560" y="328788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سهم إلى اليمين 9"/>
          <p:cNvSpPr/>
          <p:nvPr/>
        </p:nvSpPr>
        <p:spPr>
          <a:xfrm>
            <a:off x="3468600" y="483084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32fa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10"/>
          <p:cNvSpPr/>
          <p:nvPr/>
        </p:nvSpPr>
        <p:spPr>
          <a:xfrm>
            <a:off x="5796000" y="162720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لاقة السرع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مربع نص 11"/>
          <p:cNvSpPr/>
          <p:nvPr/>
        </p:nvSpPr>
        <p:spPr>
          <a:xfrm>
            <a:off x="5897520" y="319716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لاقة الإزاح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مربع نص 12"/>
          <p:cNvSpPr/>
          <p:nvPr/>
        </p:nvSpPr>
        <p:spPr>
          <a:xfrm>
            <a:off x="5611680" y="481176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علاقة  السرعة مع الإز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ربع نص 13"/>
          <p:cNvSpPr/>
          <p:nvPr/>
        </p:nvSpPr>
        <p:spPr>
          <a:xfrm>
            <a:off x="0" y="5796000"/>
            <a:ext cx="9001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ث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زاحة الابتدائية والسرعة الابتدائية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إزاحة والسرعة بعد 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سار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462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ناك ثلاثة قوانين أساسية تستخدم في حالة الحركة الخطية بتسارع ثابت و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571680" y="1459080"/>
                <a:ext cx="20714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468360" y="4824360"/>
                <a:ext cx="2368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سهم إلى اليمين 7"/>
          <p:cNvSpPr/>
          <p:nvPr/>
        </p:nvSpPr>
        <p:spPr>
          <a:xfrm>
            <a:off x="3429000" y="163368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سهم إلى اليمين 8"/>
          <p:cNvSpPr/>
          <p:nvPr/>
        </p:nvSpPr>
        <p:spPr>
          <a:xfrm>
            <a:off x="4111560" y="3325680"/>
            <a:ext cx="178596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سهم إلى اليمين 9"/>
          <p:cNvSpPr/>
          <p:nvPr/>
        </p:nvSpPr>
        <p:spPr>
          <a:xfrm>
            <a:off x="3468600" y="4971960"/>
            <a:ext cx="178596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32fa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ربع نص 10"/>
          <p:cNvSpPr/>
          <p:nvPr/>
        </p:nvSpPr>
        <p:spPr>
          <a:xfrm>
            <a:off x="5796000" y="155592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لاقة السرع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ربع نص 11"/>
          <p:cNvSpPr/>
          <p:nvPr/>
        </p:nvSpPr>
        <p:spPr>
          <a:xfrm>
            <a:off x="5897520" y="323532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لاقة الإزاحة مع 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ربع نص 12"/>
          <p:cNvSpPr/>
          <p:nvPr/>
        </p:nvSpPr>
        <p:spPr>
          <a:xfrm>
            <a:off x="5611680" y="495288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علاقة  السرعة مع الإز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ربع نص 13"/>
          <p:cNvSpPr/>
          <p:nvPr/>
        </p:nvSpPr>
        <p:spPr>
          <a:xfrm>
            <a:off x="-181080" y="6005520"/>
            <a:ext cx="9253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ث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 الابتدائية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, 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إزاحة والسرعة بعد 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سار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246240"/>
            <a:ext cx="8512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ذا اعتبرنا أن نقطة الأصل هي نقطة بداية حركة الجسم، أي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فإن العلاقات السابقة تصبح علي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9640" y="3255840"/>
                <a:ext cx="219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35"/>
          <p:cNvSpPr/>
          <p:nvPr/>
        </p:nvSpPr>
        <p:spPr>
          <a:xfrm>
            <a:off x="214200" y="183528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ف السرعة اللحظية لجسم متحرك بتسارع بأنها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رعة هذا الجسم في لحظة معينة أو سرعته عند نقطة ما على مسار حرك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ربع نص 35"/>
          <p:cNvSpPr/>
          <p:nvPr/>
        </p:nvSpPr>
        <p:spPr>
          <a:xfrm>
            <a:off x="3203640" y="4865760"/>
            <a:ext cx="56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ويمكن التعبير 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السرعة اللحظية ب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ربع نص 35"/>
          <p:cNvSpPr/>
          <p:nvPr/>
        </p:nvSpPr>
        <p:spPr>
          <a:xfrm>
            <a:off x="108000" y="29145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كما يمكننا تعريف السرعة اللحظية بانها هي المشتقة الاولى للإزاحة بالنسبة ل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35"/>
          <p:cNvSpPr/>
          <p:nvPr/>
        </p:nvSpPr>
        <p:spPr>
          <a:xfrm>
            <a:off x="4968720" y="1265400"/>
            <a:ext cx="3780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اللحظية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inst</a:t>
            </a:r>
            <a:r>
              <a:rPr b="1" lang="ar-S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ربع نص 35"/>
          <p:cNvSpPr/>
          <p:nvPr/>
        </p:nvSpPr>
        <p:spPr>
          <a:xfrm>
            <a:off x="108000" y="11592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حظ أ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العلاقات السابقة تمثل السرعة اللحظية. ويجب أن نفرق بين السرعة اللحظية لجسم متحرك بتسارع ثابت وبين سرعته المتوس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مربع نص 35"/>
          <p:cNvSpPr/>
          <p:nvPr/>
        </p:nvSpPr>
        <p:spPr>
          <a:xfrm>
            <a:off x="2411280" y="40622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غالباً نكتفي بقول السرعة بدلا من السرعة اللحظ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3"/>
              <p:cNvSpPr txBox="1"/>
              <p:nvPr/>
            </p:nvSpPr>
            <p:spPr>
              <a:xfrm>
                <a:off x="2916360" y="5716440"/>
                <a:ext cx="2158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مربع نص 35"/>
          <p:cNvSpPr/>
          <p:nvPr/>
        </p:nvSpPr>
        <p:spPr>
          <a:xfrm>
            <a:off x="34920" y="191628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Times New Roman"/>
              </a:rPr>
              <a:t>كما يمكن ت</a:t>
            </a: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عريف متوسط السرعة    بأنه النسبة بين الإزاحة إلي التغير في الزمن الذي تمت فيه هذه الإزا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728640" y="3040200"/>
                <a:ext cx="1357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411360" y="3173400"/>
                <a:ext cx="170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6367320" y="2995560"/>
                <a:ext cx="222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مربع نص 35"/>
          <p:cNvSpPr/>
          <p:nvPr/>
        </p:nvSpPr>
        <p:spPr>
          <a:xfrm>
            <a:off x="0" y="4365720"/>
            <a:ext cx="8964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ذا كان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السرعة الإبتدائية لجسم متحرك بتسارع منتظ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كان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سرعته النهائية فإن السرعة المتوسطة 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18576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السرعة المتوسطة ”أو متوسط السرع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4859280" y="2082960"/>
                <a:ext cx="254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76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تعرف السرعة المتوسطة    لجسم متحرك بتسارع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بأنها تساوي السرعة المنتظمة التي لو تحرك بها الجسم لقطع نفس المسافة في نفس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33"/>
              <p:cNvSpPr txBox="1"/>
              <p:nvPr/>
            </p:nvSpPr>
            <p:spPr>
              <a:xfrm>
                <a:off x="3564000" y="5661000"/>
                <a:ext cx="1841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3"/>
              <p:cNvSpPr txBox="1"/>
              <p:nvPr/>
            </p:nvSpPr>
            <p:spPr>
              <a:xfrm>
                <a:off x="5902200" y="917640"/>
                <a:ext cx="254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جسم يتحرك ب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/ث عند لحظة معينة، وبعد مرو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 أصبحت سرعت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/ث. احسب المسافة التي قطعها إذا كانت سرعته تتزايد بانتظ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885080" y="1447920"/>
            <a:ext cx="11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021440" y="44280"/>
            <a:ext cx="194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20239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حل هذا المثال بطريقت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04000" y="2600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طريقة الأو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311148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763640" y="3476520"/>
                <a:ext cx="1762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861080" y="40528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تسار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65440" y="5172120"/>
                <a:ext cx="2466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581800" y="496728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6308640"/>
                <a:ext cx="17809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789440" y="57434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مسافة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35280" y="4295880"/>
                <a:ext cx="229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04000" y="1731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طريقة الثان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76500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8360" y="203040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سرعة المتوسطة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347184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التعويض في العلا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486900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ي قيمة المسافة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979640" y="973080"/>
                <a:ext cx="19144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4016520" y="2158920"/>
                <a:ext cx="253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79640" y="2781360"/>
                <a:ext cx="217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0920" y="4056120"/>
                <a:ext cx="1057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070000" y="5530680"/>
                <a:ext cx="1781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مربع نص 6"/>
          <p:cNvSpPr/>
          <p:nvPr/>
        </p:nvSpPr>
        <p:spPr>
          <a:xfrm>
            <a:off x="250920" y="333360"/>
            <a:ext cx="889308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قيقة مادية تتحرك حسب العلاقة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3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t -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حيث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ي المسافة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الزمن. احس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مسافة التي تقطعها في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.    ب) سرعتها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سرعتها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د) متوسط سرعتها بين الزم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ـ) تسارعها.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مربع نص 6"/>
          <p:cNvSpPr/>
          <p:nvPr/>
        </p:nvSpPr>
        <p:spPr>
          <a:xfrm>
            <a:off x="7377120" y="-100080"/>
            <a:ext cx="165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848720" y="2489040"/>
            <a:ext cx="11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مربع نص 4"/>
          <p:cNvSpPr/>
          <p:nvPr/>
        </p:nvSpPr>
        <p:spPr>
          <a:xfrm>
            <a:off x="214200" y="306396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للحصول على المسافة بعد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ى نعوض عن هذا الزمن فى معادلة الإزاحة المعطاة لنحصل ع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= 75 + 10 – 5 = 8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مربع نص 4"/>
          <p:cNvSpPr/>
          <p:nvPr/>
        </p:nvSpPr>
        <p:spPr>
          <a:xfrm>
            <a:off x="214200" y="45766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يمكننا الحصول على السرعة عند أي لحظة زمنية بتفاضل معادلة الإزاحة فنحصل ع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6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                        *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ربع نص 4"/>
          <p:cNvSpPr/>
          <p:nvPr/>
        </p:nvSpPr>
        <p:spPr>
          <a:xfrm>
            <a:off x="430200" y="5867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6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= 14 m/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مربع نص 4"/>
          <p:cNvSpPr/>
          <p:nvPr/>
        </p:nvSpPr>
        <p:spPr>
          <a:xfrm>
            <a:off x="214200" y="152280"/>
            <a:ext cx="8715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السرعة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4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6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= 26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مربع نص 4"/>
          <p:cNvSpPr/>
          <p:nvPr/>
        </p:nvSpPr>
        <p:spPr>
          <a:xfrm>
            <a:off x="177840" y="1066680"/>
            <a:ext cx="8715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) متوسط السرعة بين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95280" y="1600200"/>
                <a:ext cx="543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مربع نص 4"/>
          <p:cNvSpPr/>
          <p:nvPr/>
        </p:nvSpPr>
        <p:spPr>
          <a:xfrm>
            <a:off x="214200" y="5397480"/>
            <a:ext cx="8715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ـ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بتفاضل معادلة السرعة (*)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ى التسار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6 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62625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حظ أن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قدار ثابت لا يتوقف عل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895480"/>
            <a:ext cx="86868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لاحظة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مكن حساب السرعة المتوسطة بطريقة أخري، بأن نعين المسافة المقطوعة بين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م نقسمها علي الزمن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2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أي أ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" y="4038480"/>
                <a:ext cx="6257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مربع نص 4"/>
          <p:cNvSpPr/>
          <p:nvPr/>
        </p:nvSpPr>
        <p:spPr>
          <a:xfrm>
            <a:off x="-228600" y="380988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ما أن السرعة اللحظية هي مشتقة الإزاحة بالنسبة للزمن، فان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تسارع اللحظي هو مشتقة السرعة بالنسبة ل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كتب على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ربع نص 7"/>
          <p:cNvSpPr/>
          <p:nvPr/>
        </p:nvSpPr>
        <p:spPr>
          <a:xfrm>
            <a:off x="0" y="5486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غالباً نكتفي بقول التسارع بدلا من التسارع اللحظي. والتسارع مثل السرعة كمية متجهة. ووحدة قياسه هي وحدة سرعة علي وحدة زمن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/se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c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مربع نص 6"/>
          <p:cNvSpPr/>
          <p:nvPr/>
        </p:nvSpPr>
        <p:spPr>
          <a:xfrm>
            <a:off x="380880" y="21477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و نسبة التغير في سرعة الدقيقة المادية إلى الزمن الذي تم فيه التغ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عطى على الصور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27480" y="-7632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ب): الحركة الخطية بتسارع متغ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1295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الإزاح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ربع نص 15"/>
          <p:cNvSpPr/>
          <p:nvPr/>
        </p:nvSpPr>
        <p:spPr>
          <a:xfrm>
            <a:off x="3276720" y="380880"/>
            <a:ext cx="53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تلك الحالة يكون التسارع دالة ف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8380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ال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16765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توسط التسارع 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32767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تسارع اللحظي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6338880" y="1866960"/>
                <a:ext cx="2286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1447920" y="2730600"/>
                <a:ext cx="2438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3"/>
              <p:cNvSpPr txBox="1"/>
              <p:nvPr/>
            </p:nvSpPr>
            <p:spPr>
              <a:xfrm>
                <a:off x="1523880" y="4572000"/>
                <a:ext cx="965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مربع نص 8"/>
          <p:cNvSpPr/>
          <p:nvPr/>
        </p:nvSpPr>
        <p:spPr>
          <a:xfrm>
            <a:off x="34920" y="533520"/>
            <a:ext cx="8929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طى سرعة جسم بالعلاقة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10 + 2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س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تغير في السرعة في الفترة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متوسط التسارع في نفس الفترة الزمنية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ـ) التسارع عند 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مربع نص 9"/>
          <p:cNvSpPr/>
          <p:nvPr/>
        </p:nvSpPr>
        <p:spPr>
          <a:xfrm>
            <a:off x="4572000" y="298620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التغير في السرعة يعطى من العلا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826920" y="3429000"/>
                <a:ext cx="2751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785880" y="4224240"/>
                <a:ext cx="4214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752400" y="5029200"/>
                <a:ext cx="442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28600" y="5805360"/>
                <a:ext cx="5149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مربع نص 6"/>
          <p:cNvSpPr/>
          <p:nvPr/>
        </p:nvSpPr>
        <p:spPr>
          <a:xfrm>
            <a:off x="7315200" y="0"/>
            <a:ext cx="165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772400" y="2362320"/>
            <a:ext cx="11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3"/>
          <p:cNvSpPr/>
          <p:nvPr/>
        </p:nvSpPr>
        <p:spPr>
          <a:xfrm>
            <a:off x="1295280" y="4096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كاينمتيك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”علم الحركة المجردة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ربع نص 4"/>
          <p:cNvSpPr/>
          <p:nvPr/>
        </p:nvSpPr>
        <p:spPr>
          <a:xfrm>
            <a:off x="380880" y="1920960"/>
            <a:ext cx="83869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ف الحركة بأنها التغير المستمر في موضع الجس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دائما ما يتكون الجسم من دقائق مادية صغيرة وتكون حركة الجسم هي حركة هذه الدقائ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جه الذي يحدد بعد واتجاه الدقيقة المادية عن نقطة الإسناد يسم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تجه الموقع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تجه الموض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يمكن تحليل هذا المتجه في اتجاهات محاور الإسن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مربع نص 8"/>
          <p:cNvSpPr/>
          <p:nvPr/>
        </p:nvSpPr>
        <p:spPr>
          <a:xfrm>
            <a:off x="4800600" y="333360"/>
            <a:ext cx="41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متوسط التسارع يعطى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1258920" y="990720"/>
                <a:ext cx="39290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مربع نص 10"/>
          <p:cNvSpPr/>
          <p:nvPr/>
        </p:nvSpPr>
        <p:spPr>
          <a:xfrm>
            <a:off x="3637080" y="4281480"/>
            <a:ext cx="48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سارع عند الزمن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عطى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مربع نص 4"/>
          <p:cNvSpPr/>
          <p:nvPr/>
        </p:nvSpPr>
        <p:spPr>
          <a:xfrm>
            <a:off x="838080" y="2133720"/>
            <a:ext cx="8091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ـ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بتفاضل معادلة السرعة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حصل على التسارع ”التسارع اللحظي“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مربع نص 4"/>
          <p:cNvSpPr/>
          <p:nvPr/>
        </p:nvSpPr>
        <p:spPr>
          <a:xfrm>
            <a:off x="1600200" y="2502000"/>
            <a:ext cx="25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t 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19200" y="2590920"/>
                <a:ext cx="90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35193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حظ أن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غير فهو يعتمد علي 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4967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مربع نص 14"/>
          <p:cNvSpPr/>
          <p:nvPr/>
        </p:nvSpPr>
        <p:spPr>
          <a:xfrm>
            <a:off x="1905120" y="0"/>
            <a:ext cx="70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طبيق علي الحركة الخطية بتسارع ثاب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مربع نص 14"/>
          <p:cNvSpPr/>
          <p:nvPr/>
        </p:nvSpPr>
        <p:spPr>
          <a:xfrm>
            <a:off x="76320" y="990720"/>
            <a:ext cx="89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هم التطبيقات على الحركة في خط مستقيم هي الحركة الراسية للأجسام في مجال الجاذبية الأرضية وبخاصة السقوط الحر حيث يكون التسارع ثابتاً ومساويا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9.8 m/s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في هذا النوع من الحركة نستخدم معادلات الحركة الخطية بتسارع ثابت مع الإشارة للتسارع بالرم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دلاً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يلخص الجدول التالي هذه القوان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95280" y="3402000"/>
          <a:ext cx="6929280" cy="3303360"/>
        </p:xfrm>
        <a:graphic>
          <a:graphicData uri="http://schemas.openxmlformats.org/drawingml/2006/table">
            <a:tbl>
              <a:tblPr/>
              <a:tblGrid>
                <a:gridCol w="3465360"/>
                <a:gridCol w="346392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3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حركة رأسيا إلي أعلى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9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سقوط الحر (الحركة إلى أسفل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2057400" y="4457880"/>
                <a:ext cx="1620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5629320" y="4529160"/>
                <a:ext cx="1000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2057400" y="5129280"/>
                <a:ext cx="2000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5616720" y="5200560"/>
                <a:ext cx="1293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5630760" y="6043680"/>
                <a:ext cx="1498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مربع نص 14"/>
          <p:cNvSpPr/>
          <p:nvPr/>
        </p:nvSpPr>
        <p:spPr>
          <a:xfrm>
            <a:off x="1900080" y="533520"/>
            <a:ext cx="70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حركة الراسية في مجال الجاذبية الأرض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057400" y="6019920"/>
                <a:ext cx="2006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مربع نص 12"/>
          <p:cNvSpPr/>
          <p:nvPr/>
        </p:nvSpPr>
        <p:spPr>
          <a:xfrm>
            <a:off x="7067520" y="-460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مثال 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</a:t>
            </a: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مستطيل مستدير الزوايا 27"/>
          <p:cNvSpPr/>
          <p:nvPr/>
        </p:nvSpPr>
        <p:spPr>
          <a:xfrm>
            <a:off x="204840" y="1825560"/>
            <a:ext cx="857160" cy="164304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643040"/>
              <a:gd name="textAreaBottom" fmla="*/ 1601280 h 1643040"/>
            </a:gdLst>
            <a:ahLst/>
            <a:rect l="textAreaLeft" t="textAreaTop" r="textAreaRight" b="textAreaBottom"/>
            <a:pathLst>
              <a:path w="21600" h="41395">
                <a:moveTo>
                  <a:pt x="3600" y="0"/>
                </a:moveTo>
                <a:arcTo wR="3600" hR="3600" stAng="16200000" swAng="-5400000"/>
                <a:lnTo>
                  <a:pt x="0" y="37795"/>
                </a:lnTo>
                <a:arcTo wR="3600" hR="3600" stAng="10800000" swAng="-5400000"/>
                <a:lnTo>
                  <a:pt x="18000" y="41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جموعة 31"/>
          <p:cNvGrpSpPr/>
          <p:nvPr/>
        </p:nvGrpSpPr>
        <p:grpSpPr>
          <a:xfrm>
            <a:off x="990720" y="990000"/>
            <a:ext cx="142920" cy="856440"/>
            <a:chOff x="990720" y="990000"/>
            <a:chExt cx="142920" cy="856440"/>
          </a:xfrm>
        </p:grpSpPr>
        <p:cxnSp>
          <p:nvCxnSpPr>
            <p:cNvPr id="351" name="رابط كسهم مستقيم 29"/>
            <p:cNvCxnSpPr/>
            <p:nvPr/>
          </p:nvCxnSpPr>
          <p:spPr>
            <a:xfrm flipV="1">
              <a:off x="1060560" y="990000"/>
              <a:ext cx="3600" cy="715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52" name="مخطط انسيابي: رابط 30"/>
            <p:cNvSpPr/>
            <p:nvPr/>
          </p:nvSpPr>
          <p:spPr>
            <a:xfrm>
              <a:off x="990720" y="1703520"/>
              <a:ext cx="142920" cy="142920"/>
            </a:xfrm>
            <a:prstGeom prst="flowChartConnector">
              <a:avLst/>
            </a:prstGeom>
            <a:solidFill>
              <a:srgbClr val="ff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مجموعة 54"/>
          <p:cNvGrpSpPr/>
          <p:nvPr/>
        </p:nvGrpSpPr>
        <p:grpSpPr>
          <a:xfrm>
            <a:off x="1060560" y="228600"/>
            <a:ext cx="358560" cy="3214800"/>
            <a:chOff x="1060560" y="228600"/>
            <a:chExt cx="358560" cy="3214800"/>
          </a:xfrm>
        </p:grpSpPr>
        <p:grpSp>
          <p:nvGrpSpPr>
            <p:cNvPr id="354" name="مجموعة 36"/>
            <p:cNvGrpSpPr/>
            <p:nvPr/>
          </p:nvGrpSpPr>
          <p:grpSpPr>
            <a:xfrm>
              <a:off x="1060560" y="228600"/>
              <a:ext cx="357840" cy="811800"/>
              <a:chOff x="1060560" y="228600"/>
              <a:chExt cx="357840" cy="811800"/>
            </a:xfrm>
          </p:grpSpPr>
          <p:sp>
            <p:nvSpPr>
              <p:cNvPr id="355" name="رابط مستقيم 33"/>
              <p:cNvSpPr/>
              <p:nvPr/>
            </p:nvSpPr>
            <p:spPr>
              <a:xfrm flipV="1">
                <a:off x="1060560" y="397800"/>
                <a:ext cx="1440" cy="64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قوس 35"/>
              <p:cNvSpPr/>
              <p:nvPr/>
            </p:nvSpPr>
            <p:spPr>
              <a:xfrm>
                <a:off x="1060560" y="228600"/>
                <a:ext cx="357840" cy="4284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مجموعة 41"/>
            <p:cNvGrpSpPr/>
            <p:nvPr/>
          </p:nvGrpSpPr>
          <p:grpSpPr>
            <a:xfrm>
              <a:off x="1417320" y="443160"/>
              <a:ext cx="1800" cy="3000240"/>
              <a:chOff x="1417320" y="443160"/>
              <a:chExt cx="1800" cy="3000240"/>
            </a:xfrm>
          </p:grpSpPr>
          <p:cxnSp>
            <p:nvCxnSpPr>
              <p:cNvPr id="358" name="رابط كسهم مستقيم 38"/>
              <p:cNvCxnSpPr>
                <a:stCxn id="356" idx="3"/>
              </p:cNvCxnSpPr>
              <p:nvPr/>
            </p:nvCxnSpPr>
            <p:spPr>
              <a:xfrm flipH="1">
                <a:off x="1417320" y="443160"/>
                <a:ext cx="2160" cy="11689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59" name="رابط مستقيم 40"/>
              <p:cNvSpPr/>
              <p:nvPr/>
            </p:nvSpPr>
            <p:spPr>
              <a:xfrm flipH="1">
                <a:off x="1417680" y="1586160"/>
                <a:ext cx="1440" cy="18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مجموعة 45"/>
          <p:cNvGrpSpPr/>
          <p:nvPr/>
        </p:nvGrpSpPr>
        <p:grpSpPr>
          <a:xfrm>
            <a:off x="1704600" y="253800"/>
            <a:ext cx="357480" cy="1571760"/>
            <a:chOff x="1704600" y="253800"/>
            <a:chExt cx="357480" cy="1571760"/>
          </a:xfrm>
        </p:grpSpPr>
        <p:cxnSp>
          <p:nvCxnSpPr>
            <p:cNvPr id="361" name="رابط كسهم مستقيم 43"/>
            <p:cNvCxnSpPr/>
            <p:nvPr/>
          </p:nvCxnSpPr>
          <p:spPr>
            <a:xfrm flipH="1">
              <a:off x="1704600" y="253800"/>
              <a:ext cx="2160" cy="1572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2" name="مربع نص 44"/>
            <p:cNvSpPr/>
            <p:nvPr/>
          </p:nvSpPr>
          <p:spPr>
            <a:xfrm>
              <a:off x="1704960" y="82548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مجموعة 49"/>
          <p:cNvGrpSpPr/>
          <p:nvPr/>
        </p:nvGrpSpPr>
        <p:grpSpPr>
          <a:xfrm>
            <a:off x="2125440" y="261720"/>
            <a:ext cx="508320" cy="3214800"/>
            <a:chOff x="2125440" y="261720"/>
            <a:chExt cx="508320" cy="3214800"/>
          </a:xfrm>
        </p:grpSpPr>
        <p:cxnSp>
          <p:nvCxnSpPr>
            <p:cNvPr id="364" name="رابط كسهم مستقيم 47"/>
            <p:cNvCxnSpPr/>
            <p:nvPr/>
          </p:nvCxnSpPr>
          <p:spPr>
            <a:xfrm flipH="1">
              <a:off x="2125440" y="261720"/>
              <a:ext cx="2160" cy="3215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5" name="مربع نص 48"/>
            <p:cNvSpPr/>
            <p:nvPr/>
          </p:nvSpPr>
          <p:spPr>
            <a:xfrm>
              <a:off x="2133720" y="17208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مجموعة 53"/>
          <p:cNvGrpSpPr/>
          <p:nvPr/>
        </p:nvGrpSpPr>
        <p:grpSpPr>
          <a:xfrm>
            <a:off x="276120" y="1827360"/>
            <a:ext cx="428760" cy="1643400"/>
            <a:chOff x="276120" y="1827360"/>
            <a:chExt cx="428760" cy="1643400"/>
          </a:xfrm>
        </p:grpSpPr>
        <p:cxnSp>
          <p:nvCxnSpPr>
            <p:cNvPr id="367" name="رابط كسهم مستقيم 51"/>
            <p:cNvCxnSpPr>
              <a:stCxn id="349" idx="0"/>
              <a:endCxn id="349" idx="2"/>
            </p:cNvCxnSpPr>
            <p:nvPr/>
          </p:nvCxnSpPr>
          <p:spPr>
            <a:xfrm>
              <a:off x="631800" y="1827360"/>
              <a:ext cx="3600" cy="16437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68" name="مربع نص 52"/>
            <p:cNvSpPr/>
            <p:nvPr/>
          </p:nvSpPr>
          <p:spPr>
            <a:xfrm>
              <a:off x="276120" y="229392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مربع نص 12"/>
          <p:cNvSpPr/>
          <p:nvPr/>
        </p:nvSpPr>
        <p:spPr>
          <a:xfrm>
            <a:off x="2362320" y="380880"/>
            <a:ext cx="6476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طلق جسم من عند سطح عمارة وباتجاه رأسي إلى أعلى بسرعة ابتدائية قدره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ec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كانت حركته كما بالشكل. احس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) مكان الجسم عن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1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) أقصي ارتفاع للجسم فوق سطح العم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) سرعة الجسم على ارتفا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m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وق سطح العم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) ارتفاع العمارة إذا كان زمن سقوط الجس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و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-76320" y="3441600"/>
            <a:ext cx="2514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ستطيل مستدير الزوايا 5"/>
          <p:cNvSpPr/>
          <p:nvPr/>
        </p:nvSpPr>
        <p:spPr>
          <a:xfrm>
            <a:off x="3492360" y="380880"/>
            <a:ext cx="2143440" cy="642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واع الح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12"/>
          <p:cNvSpPr/>
          <p:nvPr/>
        </p:nvSpPr>
        <p:spPr>
          <a:xfrm>
            <a:off x="4495680" y="4037040"/>
            <a:ext cx="438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في هذه الحالة يكون لمتجه موضع الدقيقة المادية مركبة واحدة في اتجاه محور من المحاور الأسا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مجموعة 21"/>
          <p:cNvGrpSpPr/>
          <p:nvPr/>
        </p:nvGrpSpPr>
        <p:grpSpPr>
          <a:xfrm>
            <a:off x="1123920" y="5029200"/>
            <a:ext cx="500040" cy="590400"/>
            <a:chOff x="1123920" y="5029200"/>
            <a:chExt cx="500040" cy="590400"/>
          </a:xfrm>
        </p:grpSpPr>
        <p:sp>
          <p:nvSpPr>
            <p:cNvPr id="49" name="مخطط انسيابي: رابط 18"/>
            <p:cNvSpPr/>
            <p:nvPr/>
          </p:nvSpPr>
          <p:spPr>
            <a:xfrm>
              <a:off x="1171440" y="540540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مربع نص 20"/>
            <p:cNvSpPr/>
            <p:nvPr/>
          </p:nvSpPr>
          <p:spPr>
            <a:xfrm>
              <a:off x="1123920" y="50292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مجموعة 23"/>
          <p:cNvGrpSpPr/>
          <p:nvPr/>
        </p:nvGrpSpPr>
        <p:grpSpPr>
          <a:xfrm>
            <a:off x="2928960" y="5105520"/>
            <a:ext cx="285840" cy="519120"/>
            <a:chOff x="2928960" y="5105520"/>
            <a:chExt cx="285840" cy="519120"/>
          </a:xfrm>
        </p:grpSpPr>
        <p:sp>
          <p:nvSpPr>
            <p:cNvPr id="52" name="مخطط انسيابي: رابط 19"/>
            <p:cNvSpPr/>
            <p:nvPr/>
          </p:nvSpPr>
          <p:spPr>
            <a:xfrm>
              <a:off x="2984400" y="541044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مربع نص 22"/>
            <p:cNvSpPr/>
            <p:nvPr/>
          </p:nvSpPr>
          <p:spPr>
            <a:xfrm>
              <a:off x="2928960" y="51055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مجموعة 31"/>
          <p:cNvGrpSpPr/>
          <p:nvPr/>
        </p:nvGrpSpPr>
        <p:grpSpPr>
          <a:xfrm>
            <a:off x="213840" y="5394240"/>
            <a:ext cx="1072080" cy="440640"/>
            <a:chOff x="213840" y="5394240"/>
            <a:chExt cx="1072080" cy="440640"/>
          </a:xfrm>
        </p:grpSpPr>
        <p:cxnSp>
          <p:nvCxnSpPr>
            <p:cNvPr id="55" name="رابط كسهم مستقيم 25"/>
            <p:cNvCxnSpPr/>
            <p:nvPr/>
          </p:nvCxnSpPr>
          <p:spPr>
            <a:xfrm>
              <a:off x="213840" y="5643720"/>
              <a:ext cx="10724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6" name="مربع نص 30"/>
            <p:cNvSpPr/>
            <p:nvPr/>
          </p:nvSpPr>
          <p:spPr>
            <a:xfrm>
              <a:off x="571320" y="539424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nstantia"/>
                  <a:ea typeface="Majalla U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مجموعة 33"/>
          <p:cNvGrpSpPr/>
          <p:nvPr/>
        </p:nvGrpSpPr>
        <p:grpSpPr>
          <a:xfrm>
            <a:off x="228600" y="5486400"/>
            <a:ext cx="2929320" cy="440640"/>
            <a:chOff x="228600" y="5486400"/>
            <a:chExt cx="2929320" cy="440640"/>
          </a:xfrm>
        </p:grpSpPr>
        <p:cxnSp>
          <p:nvCxnSpPr>
            <p:cNvPr id="58" name="رابط كسهم مستقيم 27"/>
            <p:cNvCxnSpPr/>
            <p:nvPr/>
          </p:nvCxnSpPr>
          <p:spPr>
            <a:xfrm>
              <a:off x="228600" y="5753160"/>
              <a:ext cx="29296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9" name="مربع نص 32"/>
            <p:cNvSpPr/>
            <p:nvPr/>
          </p:nvSpPr>
          <p:spPr>
            <a:xfrm>
              <a:off x="1590840" y="548640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nstantia"/>
                  <a:ea typeface="Majalla U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" name="رابط كسهم مستقيم 35"/>
          <p:cNvCxnSpPr/>
          <p:nvPr/>
        </p:nvCxnSpPr>
        <p:spPr>
          <a:xfrm>
            <a:off x="1312560" y="5424480"/>
            <a:ext cx="1672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grpSp>
        <p:nvGrpSpPr>
          <p:cNvPr id="61" name="مجموعة 37"/>
          <p:cNvGrpSpPr/>
          <p:nvPr/>
        </p:nvGrpSpPr>
        <p:grpSpPr>
          <a:xfrm>
            <a:off x="284040" y="3111120"/>
            <a:ext cx="4716720" cy="2530080"/>
            <a:chOff x="284040" y="3111120"/>
            <a:chExt cx="4716720" cy="2530080"/>
          </a:xfrm>
        </p:grpSpPr>
        <p:grpSp>
          <p:nvGrpSpPr>
            <p:cNvPr id="62" name="مجموعة 17"/>
            <p:cNvGrpSpPr/>
            <p:nvPr/>
          </p:nvGrpSpPr>
          <p:grpSpPr>
            <a:xfrm>
              <a:off x="284040" y="3111120"/>
              <a:ext cx="3930840" cy="2358720"/>
              <a:chOff x="284040" y="3111120"/>
              <a:chExt cx="3930840" cy="2358720"/>
            </a:xfrm>
          </p:grpSpPr>
          <p:cxnSp>
            <p:nvCxnSpPr>
              <p:cNvPr id="63" name="رابط كسهم مستقيم 14"/>
              <p:cNvCxnSpPr/>
              <p:nvPr/>
            </p:nvCxnSpPr>
            <p:spPr>
              <a:xfrm>
                <a:off x="285120" y="5468040"/>
                <a:ext cx="3930120" cy="216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64" name="رابط كسهم مستقيم 16"/>
              <p:cNvCxnSpPr/>
              <p:nvPr/>
            </p:nvCxnSpPr>
            <p:spPr>
              <a:xfrm flipV="1">
                <a:off x="284040" y="3111120"/>
                <a:ext cx="2160" cy="2358720"/>
              </a:xfrm>
              <a:prstGeom prst="straightConnector1">
                <a:avLst/>
              </a:prstGeom>
              <a:ln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65" name="مربع نص 36"/>
            <p:cNvSpPr/>
            <p:nvPr/>
          </p:nvSpPr>
          <p:spPr>
            <a:xfrm>
              <a:off x="4286520" y="51814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  <a:ea typeface="Majalla UI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572000" y="1047600"/>
            <a:ext cx="3456000" cy="9352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187280" y="1052640"/>
            <a:ext cx="3384720" cy="7920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9640" y="20574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بعد و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052640"/>
            <a:ext cx="0" cy="86364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981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بعدين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19810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ثلاثة ابع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ربع نص 12"/>
          <p:cNvSpPr/>
          <p:nvPr/>
        </p:nvSpPr>
        <p:spPr>
          <a:xfrm>
            <a:off x="3352680" y="3382920"/>
            <a:ext cx="567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خط مستقيم ”بعد واحد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000160" y="5056200"/>
                <a:ext cx="4413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مستطيل 3"/>
          <p:cNvSpPr/>
          <p:nvPr/>
        </p:nvSpPr>
        <p:spPr>
          <a:xfrm>
            <a:off x="4858560" y="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حركة في بعد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5"/>
          <p:cNvSpPr/>
          <p:nvPr/>
        </p:nvSpPr>
        <p:spPr>
          <a:xfrm>
            <a:off x="4788000" y="571680"/>
            <a:ext cx="39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ه الحالة يكون لمتجه الموضع مركبتان. مثل حركة المقذوفات والحركة الدائ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قوس 13"/>
          <p:cNvSpPr/>
          <p:nvPr/>
        </p:nvSpPr>
        <p:spPr>
          <a:xfrm>
            <a:off x="804960" y="409680"/>
            <a:ext cx="2973240" cy="233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مجموعة 19"/>
          <p:cNvGrpSpPr/>
          <p:nvPr/>
        </p:nvGrpSpPr>
        <p:grpSpPr>
          <a:xfrm>
            <a:off x="900000" y="304920"/>
            <a:ext cx="790560" cy="1025640"/>
            <a:chOff x="900000" y="304920"/>
            <a:chExt cx="790560" cy="1025640"/>
          </a:xfrm>
        </p:grpSpPr>
        <p:grpSp>
          <p:nvGrpSpPr>
            <p:cNvPr id="78" name="مجموعة 17"/>
            <p:cNvGrpSpPr/>
            <p:nvPr/>
          </p:nvGrpSpPr>
          <p:grpSpPr>
            <a:xfrm>
              <a:off x="900000" y="582120"/>
              <a:ext cx="538560" cy="748440"/>
              <a:chOff x="900000" y="582120"/>
              <a:chExt cx="538560" cy="748440"/>
            </a:xfrm>
          </p:grpSpPr>
          <p:cxnSp>
            <p:nvCxnSpPr>
              <p:cNvPr id="79" name="رابط كسهم مستقيم 15"/>
              <p:cNvCxnSpPr/>
              <p:nvPr/>
            </p:nvCxnSpPr>
            <p:spPr>
              <a:xfrm flipV="1">
                <a:off x="937800" y="582120"/>
                <a:ext cx="501120" cy="5011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80" name="مربع نص 16"/>
              <p:cNvSpPr/>
              <p:nvPr/>
            </p:nvSpPr>
            <p:spPr>
              <a:xfrm>
                <a:off x="900000" y="931680"/>
                <a:ext cx="50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مربع نص 18"/>
            <p:cNvSpPr/>
            <p:nvPr/>
          </p:nvSpPr>
          <p:spPr>
            <a:xfrm>
              <a:off x="1190520" y="30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رابط مستقيم 25"/>
          <p:cNvSpPr/>
          <p:nvPr/>
        </p:nvSpPr>
        <p:spPr>
          <a:xfrm flipH="1">
            <a:off x="941400" y="1147680"/>
            <a:ext cx="14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رابط مستقيم 27"/>
          <p:cNvSpPr/>
          <p:nvPr/>
        </p:nvSpPr>
        <p:spPr>
          <a:xfrm flipH="1">
            <a:off x="741240" y="1100160"/>
            <a:ext cx="2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رابط مستقيم 39"/>
          <p:cNvSpPr/>
          <p:nvPr/>
        </p:nvSpPr>
        <p:spPr>
          <a:xfrm flipH="1" flipV="1">
            <a:off x="755640" y="609120"/>
            <a:ext cx="642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40"/>
          <p:cNvSpPr/>
          <p:nvPr/>
        </p:nvSpPr>
        <p:spPr>
          <a:xfrm>
            <a:off x="4253400" y="2057400"/>
            <a:ext cx="55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حركة في ثلاث أبعا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مربع نص 41"/>
          <p:cNvSpPr/>
          <p:nvPr/>
        </p:nvSpPr>
        <p:spPr>
          <a:xfrm>
            <a:off x="4724280" y="2590920"/>
            <a:ext cx="387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فيها يتغير موضع الجسم بالنسبة لمحاور الإسناد الثلاثة. ومن أمثلتها حركة إلكترون داخل سلك ملفوف حول اسطوا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لبة 42"/>
          <p:cNvSpPr/>
          <p:nvPr/>
        </p:nvSpPr>
        <p:spPr>
          <a:xfrm rot="5400000">
            <a:off x="1792440" y="1745280"/>
            <a:ext cx="928800" cy="3143160"/>
          </a:xfrm>
          <a:prstGeom prst="can">
            <a:avLst>
              <a:gd name="adj" fmla="val 7384"/>
            </a:avLst>
          </a:pr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مجموعة 57"/>
          <p:cNvGrpSpPr/>
          <p:nvPr/>
        </p:nvGrpSpPr>
        <p:grpSpPr>
          <a:xfrm>
            <a:off x="1980720" y="1981080"/>
            <a:ext cx="2571840" cy="2756520"/>
            <a:chOff x="1980720" y="1981080"/>
            <a:chExt cx="2571840" cy="2756520"/>
          </a:xfrm>
        </p:grpSpPr>
        <p:grpSp>
          <p:nvGrpSpPr>
            <p:cNvPr id="89" name="مجموعة 47"/>
            <p:cNvGrpSpPr/>
            <p:nvPr/>
          </p:nvGrpSpPr>
          <p:grpSpPr>
            <a:xfrm>
              <a:off x="3695400" y="3301560"/>
              <a:ext cx="857160" cy="464760"/>
              <a:chOff x="3695400" y="3301560"/>
              <a:chExt cx="857160" cy="464760"/>
            </a:xfrm>
          </p:grpSpPr>
          <p:cxnSp>
            <p:nvCxnSpPr>
              <p:cNvPr id="90" name="رابط كسهم مستقيم 44"/>
              <p:cNvCxnSpPr>
                <a:stCxn id="87" idx="1"/>
              </p:cNvCxnSpPr>
              <p:nvPr/>
            </p:nvCxnSpPr>
            <p:spPr>
              <a:xfrm>
                <a:off x="3695400" y="3301560"/>
                <a:ext cx="786600" cy="370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1" name="مربع نص 46"/>
              <p:cNvSpPr/>
              <p:nvPr/>
            </p:nvSpPr>
            <p:spPr>
              <a:xfrm>
                <a:off x="4267080" y="3367440"/>
                <a:ext cx="28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مجموعة 51"/>
            <p:cNvGrpSpPr/>
            <p:nvPr/>
          </p:nvGrpSpPr>
          <p:grpSpPr>
            <a:xfrm>
              <a:off x="1981080" y="1981080"/>
              <a:ext cx="358920" cy="857160"/>
              <a:chOff x="1981080" y="1981080"/>
              <a:chExt cx="358920" cy="857160"/>
            </a:xfrm>
          </p:grpSpPr>
          <p:cxnSp>
            <p:nvCxnSpPr>
              <p:cNvPr id="93" name="رابط كسهم مستقيم 49"/>
              <p:cNvCxnSpPr/>
              <p:nvPr/>
            </p:nvCxnSpPr>
            <p:spPr>
              <a:xfrm flipV="1">
                <a:off x="2338200" y="2123640"/>
                <a:ext cx="2160" cy="7149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4" name="مربع نص 50"/>
              <p:cNvSpPr/>
              <p:nvPr/>
            </p:nvSpPr>
            <p:spPr>
              <a:xfrm>
                <a:off x="1981080" y="1981080"/>
                <a:ext cx="35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مجموعة 56"/>
            <p:cNvGrpSpPr/>
            <p:nvPr/>
          </p:nvGrpSpPr>
          <p:grpSpPr>
            <a:xfrm>
              <a:off x="1980720" y="3766680"/>
              <a:ext cx="714600" cy="970920"/>
              <a:chOff x="1980720" y="3766680"/>
              <a:chExt cx="714600" cy="970920"/>
            </a:xfrm>
          </p:grpSpPr>
          <p:cxnSp>
            <p:nvCxnSpPr>
              <p:cNvPr id="96" name="رابط كسهم مستقيم 53"/>
              <p:cNvCxnSpPr/>
              <p:nvPr/>
            </p:nvCxnSpPr>
            <p:spPr>
              <a:xfrm flipH="1">
                <a:off x="1980720" y="3766680"/>
                <a:ext cx="357840" cy="7866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97" name="مربع نص 55"/>
              <p:cNvSpPr/>
              <p:nvPr/>
            </p:nvSpPr>
            <p:spPr>
              <a:xfrm>
                <a:off x="2124000" y="433872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مجموعة 64"/>
          <p:cNvGrpSpPr/>
          <p:nvPr/>
        </p:nvGrpSpPr>
        <p:grpSpPr>
          <a:xfrm>
            <a:off x="1447560" y="2743200"/>
            <a:ext cx="500040" cy="1143000"/>
            <a:chOff x="1447560" y="2743200"/>
            <a:chExt cx="500040" cy="1143000"/>
          </a:xfrm>
        </p:grpSpPr>
        <p:sp>
          <p:nvSpPr>
            <p:cNvPr id="99" name="قوس 65"/>
            <p:cNvSpPr/>
            <p:nvPr/>
          </p:nvSpPr>
          <p:spPr>
            <a:xfrm flipH="1">
              <a:off x="144720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رابط كسهم مستقيم 66"/>
            <p:cNvCxnSpPr/>
            <p:nvPr/>
          </p:nvCxnSpPr>
          <p:spPr>
            <a:xfrm flipV="1">
              <a:off x="144792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1" name="مجموعة 67"/>
          <p:cNvGrpSpPr/>
          <p:nvPr/>
        </p:nvGrpSpPr>
        <p:grpSpPr>
          <a:xfrm>
            <a:off x="1828440" y="2743200"/>
            <a:ext cx="500040" cy="1143000"/>
            <a:chOff x="1828440" y="2743200"/>
            <a:chExt cx="500040" cy="1143000"/>
          </a:xfrm>
        </p:grpSpPr>
        <p:sp>
          <p:nvSpPr>
            <p:cNvPr id="102" name="قوس 68"/>
            <p:cNvSpPr/>
            <p:nvPr/>
          </p:nvSpPr>
          <p:spPr>
            <a:xfrm flipH="1">
              <a:off x="182808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رابط كسهم مستقيم 69"/>
            <p:cNvCxnSpPr/>
            <p:nvPr/>
          </p:nvCxnSpPr>
          <p:spPr>
            <a:xfrm flipV="1">
              <a:off x="182880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4" name="مجموعة 70"/>
          <p:cNvGrpSpPr/>
          <p:nvPr/>
        </p:nvGrpSpPr>
        <p:grpSpPr>
          <a:xfrm>
            <a:off x="2133360" y="2743200"/>
            <a:ext cx="500040" cy="1143000"/>
            <a:chOff x="2133360" y="2743200"/>
            <a:chExt cx="500040" cy="1143000"/>
          </a:xfrm>
        </p:grpSpPr>
        <p:sp>
          <p:nvSpPr>
            <p:cNvPr id="105" name="قوس 71"/>
            <p:cNvSpPr/>
            <p:nvPr/>
          </p:nvSpPr>
          <p:spPr>
            <a:xfrm flipH="1">
              <a:off x="213300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رابط كسهم مستقيم 72"/>
            <p:cNvCxnSpPr/>
            <p:nvPr/>
          </p:nvCxnSpPr>
          <p:spPr>
            <a:xfrm flipV="1">
              <a:off x="213372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07" name="مجموعة 73"/>
          <p:cNvGrpSpPr/>
          <p:nvPr/>
        </p:nvGrpSpPr>
        <p:grpSpPr>
          <a:xfrm>
            <a:off x="2514240" y="2743200"/>
            <a:ext cx="500040" cy="1143000"/>
            <a:chOff x="2514240" y="2743200"/>
            <a:chExt cx="500040" cy="1143000"/>
          </a:xfrm>
        </p:grpSpPr>
        <p:sp>
          <p:nvSpPr>
            <p:cNvPr id="108" name="قوس 74"/>
            <p:cNvSpPr/>
            <p:nvPr/>
          </p:nvSpPr>
          <p:spPr>
            <a:xfrm flipH="1">
              <a:off x="2513880" y="2743200"/>
              <a:ext cx="500040" cy="1143000"/>
            </a:xfrm>
            <a:prstGeom prst="pie">
              <a:avLst/>
            </a:prstGeom>
            <a:noFill/>
            <a:ln w="38160">
              <a:solidFill>
                <a:srgbClr val="ffff00"/>
              </a:solidFill>
              <a:miter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رابط كسهم مستقيم 75"/>
            <p:cNvCxnSpPr/>
            <p:nvPr/>
          </p:nvCxnSpPr>
          <p:spPr>
            <a:xfrm flipV="1">
              <a:off x="2514600" y="3099960"/>
              <a:ext cx="2160" cy="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10" name="مجموعة 91"/>
          <p:cNvGrpSpPr/>
          <p:nvPr/>
        </p:nvGrpSpPr>
        <p:grpSpPr>
          <a:xfrm>
            <a:off x="2895120" y="2711520"/>
            <a:ext cx="613440" cy="1326960"/>
            <a:chOff x="2895120" y="2711520"/>
            <a:chExt cx="613440" cy="1326960"/>
          </a:xfrm>
        </p:grpSpPr>
        <p:grpSp>
          <p:nvGrpSpPr>
            <p:cNvPr id="111" name="مجموعة 76"/>
            <p:cNvGrpSpPr/>
            <p:nvPr/>
          </p:nvGrpSpPr>
          <p:grpSpPr>
            <a:xfrm>
              <a:off x="2895120" y="2711520"/>
              <a:ext cx="500040" cy="1142640"/>
              <a:chOff x="2895120" y="2711520"/>
              <a:chExt cx="500040" cy="1142640"/>
            </a:xfrm>
          </p:grpSpPr>
          <p:sp>
            <p:nvSpPr>
              <p:cNvPr id="112" name="قوس 77"/>
              <p:cNvSpPr/>
              <p:nvPr/>
            </p:nvSpPr>
            <p:spPr>
              <a:xfrm flipH="1">
                <a:off x="2894760" y="2711520"/>
                <a:ext cx="500040" cy="1142640"/>
              </a:xfrm>
              <a:prstGeom prst="pi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" name="رابط كسهم مستقيم 78"/>
              <p:cNvCxnSpPr/>
              <p:nvPr/>
            </p:nvCxnSpPr>
            <p:spPr>
              <a:xfrm flipV="1">
                <a:off x="2895480" y="3068280"/>
                <a:ext cx="2160" cy="72000"/>
              </a:xfrm>
              <a:prstGeom prst="straightConnector1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cxnSp>
          <p:nvCxnSpPr>
            <p:cNvPr id="114" name="رابط كسهم مستقيم 83"/>
            <p:cNvCxnSpPr/>
            <p:nvPr/>
          </p:nvCxnSpPr>
          <p:spPr>
            <a:xfrm>
              <a:off x="3398760" y="3752640"/>
              <a:ext cx="110160" cy="2862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grpSp>
        <p:nvGrpSpPr>
          <p:cNvPr id="115" name="مجموعة 90"/>
          <p:cNvGrpSpPr/>
          <p:nvPr/>
        </p:nvGrpSpPr>
        <p:grpSpPr>
          <a:xfrm>
            <a:off x="1066320" y="2666880"/>
            <a:ext cx="500040" cy="1442880"/>
            <a:chOff x="1066320" y="2666880"/>
            <a:chExt cx="500040" cy="1442880"/>
          </a:xfrm>
        </p:grpSpPr>
        <p:grpSp>
          <p:nvGrpSpPr>
            <p:cNvPr id="116" name="مجموعة 63"/>
            <p:cNvGrpSpPr/>
            <p:nvPr/>
          </p:nvGrpSpPr>
          <p:grpSpPr>
            <a:xfrm>
              <a:off x="1066320" y="2666880"/>
              <a:ext cx="500040" cy="1142640"/>
              <a:chOff x="1066320" y="2666880"/>
              <a:chExt cx="500040" cy="1142640"/>
            </a:xfrm>
          </p:grpSpPr>
          <p:sp>
            <p:nvSpPr>
              <p:cNvPr id="117" name="قوس 58"/>
              <p:cNvSpPr/>
              <p:nvPr/>
            </p:nvSpPr>
            <p:spPr>
              <a:xfrm flipH="1">
                <a:off x="1065960" y="2666880"/>
                <a:ext cx="500040" cy="1142640"/>
              </a:xfrm>
              <a:prstGeom prst="pi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رابط كسهم مستقيم 61"/>
              <p:cNvCxnSpPr/>
              <p:nvPr/>
            </p:nvCxnSpPr>
            <p:spPr>
              <a:xfrm flipV="1">
                <a:off x="1066680" y="3023640"/>
                <a:ext cx="2160" cy="72000"/>
              </a:xfrm>
              <a:prstGeom prst="straightConnector1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cxnSp>
          <p:nvCxnSpPr>
            <p:cNvPr id="119" name="رابط كسهم مستقيم 86"/>
            <p:cNvCxnSpPr/>
            <p:nvPr/>
          </p:nvCxnSpPr>
          <p:spPr>
            <a:xfrm flipV="1">
              <a:off x="1209600" y="3764880"/>
              <a:ext cx="73440" cy="34524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</p:grpSp>
      <p:sp>
        <p:nvSpPr>
          <p:cNvPr id="120" name=""/>
          <p:cNvSpPr/>
          <p:nvPr/>
        </p:nvSpPr>
        <p:spPr>
          <a:xfrm>
            <a:off x="1406520" y="6094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02920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سوف نهتم بمشيئة الله بدراسة الحركة في بعد واحد ”الحركة في خط مستقيم“. كما سنتعرض للحركة الدائرية كتطبيق للحركة في بعدين. ولن نتعرض في دراستنا هذه للحركة في ثلاثة أبع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0"/>
            <a:ext cx="4190400" cy="1841400"/>
            <a:chOff x="304920" y="0"/>
            <a:chExt cx="4190400" cy="1841400"/>
          </a:xfrm>
        </p:grpSpPr>
        <p:sp>
          <p:nvSpPr>
            <p:cNvPr id="123" name=""/>
            <p:cNvSpPr/>
            <p:nvPr/>
          </p:nvSpPr>
          <p:spPr>
            <a:xfrm flipV="1">
              <a:off x="767160" y="164520"/>
              <a:ext cx="0" cy="148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ربع نص 11"/>
            <p:cNvSpPr/>
            <p:nvPr/>
          </p:nvSpPr>
          <p:spPr>
            <a:xfrm>
              <a:off x="304920" y="0"/>
              <a:ext cx="50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8480" y="1498680"/>
              <a:ext cx="456840" cy="342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760" y="1625400"/>
              <a:ext cx="3428640" cy="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مستطيل مستدير الزوايا 3"/>
          <p:cNvSpPr/>
          <p:nvPr/>
        </p:nvSpPr>
        <p:spPr>
          <a:xfrm>
            <a:off x="5857920" y="71280"/>
            <a:ext cx="3214800" cy="642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حركة في خط مستق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مجموعة 11"/>
          <p:cNvGrpSpPr/>
          <p:nvPr/>
        </p:nvGrpSpPr>
        <p:grpSpPr>
          <a:xfrm>
            <a:off x="1123920" y="3448080"/>
            <a:ext cx="500040" cy="590400"/>
            <a:chOff x="1123920" y="3448080"/>
            <a:chExt cx="500040" cy="590400"/>
          </a:xfrm>
        </p:grpSpPr>
        <p:sp>
          <p:nvSpPr>
            <p:cNvPr id="129" name="مخطط انسيابي: رابط 12"/>
            <p:cNvSpPr/>
            <p:nvPr/>
          </p:nvSpPr>
          <p:spPr>
            <a:xfrm>
              <a:off x="1171440" y="382428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13"/>
            <p:cNvSpPr/>
            <p:nvPr/>
          </p:nvSpPr>
          <p:spPr>
            <a:xfrm>
              <a:off x="1123920" y="34480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مجموعة 14"/>
          <p:cNvGrpSpPr/>
          <p:nvPr/>
        </p:nvGrpSpPr>
        <p:grpSpPr>
          <a:xfrm>
            <a:off x="2928960" y="3519360"/>
            <a:ext cx="285840" cy="519120"/>
            <a:chOff x="2928960" y="3519360"/>
            <a:chExt cx="285840" cy="519120"/>
          </a:xfrm>
        </p:grpSpPr>
        <p:sp>
          <p:nvSpPr>
            <p:cNvPr id="132" name="مخطط انسيابي: رابط 15"/>
            <p:cNvSpPr/>
            <p:nvPr/>
          </p:nvSpPr>
          <p:spPr>
            <a:xfrm>
              <a:off x="2984400" y="3824280"/>
              <a:ext cx="142920" cy="21420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مربع نص 16"/>
            <p:cNvSpPr/>
            <p:nvPr/>
          </p:nvSpPr>
          <p:spPr>
            <a:xfrm>
              <a:off x="2928960" y="351936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مجموعة 17"/>
          <p:cNvGrpSpPr/>
          <p:nvPr/>
        </p:nvGrpSpPr>
        <p:grpSpPr>
          <a:xfrm>
            <a:off x="213840" y="3870360"/>
            <a:ext cx="1072080" cy="440640"/>
            <a:chOff x="213840" y="3870360"/>
            <a:chExt cx="1072080" cy="440640"/>
          </a:xfrm>
        </p:grpSpPr>
        <p:cxnSp>
          <p:nvCxnSpPr>
            <p:cNvPr id="135" name="رابط كسهم مستقيم 18"/>
            <p:cNvCxnSpPr/>
            <p:nvPr/>
          </p:nvCxnSpPr>
          <p:spPr>
            <a:xfrm>
              <a:off x="213840" y="4119480"/>
              <a:ext cx="10724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36" name="مربع نص 19"/>
            <p:cNvSpPr/>
            <p:nvPr/>
          </p:nvSpPr>
          <p:spPr>
            <a:xfrm>
              <a:off x="571320" y="387036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  <a:ea typeface="Majalla U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رابط كسهم مستقيم 20"/>
          <p:cNvCxnSpPr/>
          <p:nvPr/>
        </p:nvCxnSpPr>
        <p:spPr>
          <a:xfrm>
            <a:off x="1312560" y="3894120"/>
            <a:ext cx="1672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grpSp>
        <p:nvGrpSpPr>
          <p:cNvPr id="138" name="مجموعة 26"/>
          <p:cNvGrpSpPr/>
          <p:nvPr/>
        </p:nvGrpSpPr>
        <p:grpSpPr>
          <a:xfrm>
            <a:off x="241200" y="4022640"/>
            <a:ext cx="2929320" cy="440640"/>
            <a:chOff x="241200" y="4022640"/>
            <a:chExt cx="2929320" cy="440640"/>
          </a:xfrm>
        </p:grpSpPr>
        <p:cxnSp>
          <p:nvCxnSpPr>
            <p:cNvPr id="139" name="رابط كسهم مستقيم 27"/>
            <p:cNvCxnSpPr/>
            <p:nvPr/>
          </p:nvCxnSpPr>
          <p:spPr>
            <a:xfrm>
              <a:off x="241200" y="4289400"/>
              <a:ext cx="29296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40" name="مربع نص 28"/>
            <p:cNvSpPr/>
            <p:nvPr/>
          </p:nvSpPr>
          <p:spPr>
            <a:xfrm>
              <a:off x="1603440" y="4022640"/>
              <a:ext cx="500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nstantia"/>
                  <a:ea typeface="Majalla U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مجموعة 30"/>
          <p:cNvGrpSpPr/>
          <p:nvPr/>
        </p:nvGrpSpPr>
        <p:grpSpPr>
          <a:xfrm>
            <a:off x="284040" y="1515960"/>
            <a:ext cx="4716720" cy="2601360"/>
            <a:chOff x="284040" y="1515960"/>
            <a:chExt cx="4716720" cy="2601360"/>
          </a:xfrm>
        </p:grpSpPr>
        <p:grpSp>
          <p:nvGrpSpPr>
            <p:cNvPr id="142" name="مجموعة 21"/>
            <p:cNvGrpSpPr/>
            <p:nvPr/>
          </p:nvGrpSpPr>
          <p:grpSpPr>
            <a:xfrm>
              <a:off x="284040" y="1586880"/>
              <a:ext cx="4716720" cy="2530440"/>
              <a:chOff x="284040" y="1586880"/>
              <a:chExt cx="4716720" cy="2530440"/>
            </a:xfrm>
          </p:grpSpPr>
          <p:grpSp>
            <p:nvGrpSpPr>
              <p:cNvPr id="143" name="مجموعة 17"/>
              <p:cNvGrpSpPr/>
              <p:nvPr/>
            </p:nvGrpSpPr>
            <p:grpSpPr>
              <a:xfrm>
                <a:off x="284040" y="1586880"/>
                <a:ext cx="3930840" cy="2358720"/>
                <a:chOff x="284040" y="1586880"/>
                <a:chExt cx="3930840" cy="2358720"/>
              </a:xfrm>
            </p:grpSpPr>
            <p:cxnSp>
              <p:nvCxnSpPr>
                <p:cNvPr id="144" name="رابط كسهم مستقيم 24"/>
                <p:cNvCxnSpPr/>
                <p:nvPr/>
              </p:nvCxnSpPr>
              <p:spPr>
                <a:xfrm>
                  <a:off x="285120" y="3943800"/>
                  <a:ext cx="3930120" cy="21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45" name="رابط كسهم مستقيم 25"/>
                <p:cNvCxnSpPr/>
                <p:nvPr/>
              </p:nvCxnSpPr>
              <p:spPr>
                <a:xfrm flipV="1">
                  <a:off x="284040" y="1586880"/>
                  <a:ext cx="2160" cy="235872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46" name="مربع نص 23"/>
              <p:cNvSpPr/>
              <p:nvPr/>
            </p:nvSpPr>
            <p:spPr>
              <a:xfrm>
                <a:off x="4286520" y="365760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nstantia"/>
                    <a:ea typeface="Majalla UI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مربع نص 29"/>
            <p:cNvSpPr/>
            <p:nvPr/>
          </p:nvSpPr>
          <p:spPr>
            <a:xfrm>
              <a:off x="356760" y="1515960"/>
              <a:ext cx="4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000160" y="3475080"/>
                <a:ext cx="4413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مربع نص 32"/>
          <p:cNvSpPr/>
          <p:nvPr/>
        </p:nvSpPr>
        <p:spPr>
          <a:xfrm>
            <a:off x="2666880" y="838080"/>
            <a:ext cx="631980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بق أن أوضحنا أنه في هذه الحال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كون لمتجه إزاحة الدقيقة المادية مركبة واحدة في اتجاه محور من المحاور الأساسية.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ذا تحركت دقيقة مادية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سا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نقط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النقط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لال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بذلك يتغير موقعها 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يعطى متجه الإزاحة من العلاق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334120" y="415296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5800" y="5486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مكن تقسيم الحركة الخطية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ستطيل مستدير الزوايا 3"/>
          <p:cNvSpPr/>
          <p:nvPr/>
        </p:nvSpPr>
        <p:spPr>
          <a:xfrm>
            <a:off x="3059280" y="189000"/>
            <a:ext cx="321444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حركة في خط مستق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الحركة الخطي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3440" y="2349360"/>
            <a:ext cx="4211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سرعة منتظمة ”ثابتة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حركة بدون تسار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78200" y="4500720"/>
            <a:ext cx="288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تسارع منتظ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”تسارع ثاب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08000" y="4500720"/>
            <a:ext cx="309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تسارع غير منتظ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”تسارع متغير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384280"/>
            <a:ext cx="464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ة بسرعة غير منتظمة ”متغير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حركة بتسار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14400" y="1484280"/>
            <a:ext cx="3873600" cy="914400"/>
            <a:chOff x="2714400" y="1484280"/>
            <a:chExt cx="3873600" cy="914400"/>
          </a:xfrm>
        </p:grpSpPr>
        <p:sp>
          <p:nvSpPr>
            <p:cNvPr id="158" name=""/>
            <p:cNvSpPr/>
            <p:nvPr/>
          </p:nvSpPr>
          <p:spPr>
            <a:xfrm>
              <a:off x="4645080" y="148428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714400" y="148428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971280" y="3571920"/>
            <a:ext cx="3873600" cy="914400"/>
            <a:chOff x="971280" y="3571920"/>
            <a:chExt cx="3873600" cy="914400"/>
          </a:xfrm>
        </p:grpSpPr>
        <p:sp>
          <p:nvSpPr>
            <p:cNvPr id="161" name=""/>
            <p:cNvSpPr/>
            <p:nvPr/>
          </p:nvSpPr>
          <p:spPr>
            <a:xfrm>
              <a:off x="2901960" y="357192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971280" y="3571920"/>
              <a:ext cx="19429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09800" y="-4608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أولاً: الحركة الخطية بسرعة ثابتة ”منتظمة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هذا النوع من الحركة من ابسط أنواع الحركة، حيث التسارع يكون مساوياً للصفر. وفي تلك الحالة يقطع الجسم مسافات متساوية في أزمنة متسا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454032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إزاحة وا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03880" y="3048120"/>
            <a:ext cx="33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بين الشكل المجاور علاقة السرعة ب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69840" y="571824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كون العلاقة بين كل من السرعة والإزاحة والزمن علي الصو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3635280" y="6361200"/>
                <a:ext cx="105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542880" y="990720"/>
            <a:ext cx="2047680" cy="1854000"/>
            <a:chOff x="542880" y="990720"/>
            <a:chExt cx="2047680" cy="1854000"/>
          </a:xfrm>
        </p:grpSpPr>
        <p:sp>
          <p:nvSpPr>
            <p:cNvPr id="170" name=""/>
            <p:cNvSpPr/>
            <p:nvPr/>
          </p:nvSpPr>
          <p:spPr>
            <a:xfrm>
              <a:off x="2019960" y="2387520"/>
              <a:ext cx="57060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880" y="990720"/>
              <a:ext cx="342360" cy="6480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2240" y="251460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840" y="2513880"/>
              <a:ext cx="10288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34840" y="1270080"/>
              <a:ext cx="72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62400" y="2590920"/>
            <a:ext cx="1971360" cy="1828800"/>
            <a:chOff x="3362400" y="2590920"/>
            <a:chExt cx="1971360" cy="1828800"/>
          </a:xfrm>
        </p:grpSpPr>
        <p:sp>
          <p:nvSpPr>
            <p:cNvPr id="176" name=""/>
            <p:cNvSpPr/>
            <p:nvPr/>
          </p:nvSpPr>
          <p:spPr>
            <a:xfrm>
              <a:off x="4763160" y="3962520"/>
              <a:ext cx="57060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0920" y="408924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0920" y="3517920"/>
              <a:ext cx="1028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659040" y="2844360"/>
              <a:ext cx="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2400" y="2590920"/>
              <a:ext cx="3427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3520" y="3886200"/>
            <a:ext cx="1976400" cy="1816200"/>
            <a:chOff x="533520" y="3886200"/>
            <a:chExt cx="1976400" cy="1816200"/>
          </a:xfrm>
        </p:grpSpPr>
        <p:sp>
          <p:nvSpPr>
            <p:cNvPr id="182" name=""/>
            <p:cNvSpPr/>
            <p:nvPr/>
          </p:nvSpPr>
          <p:spPr>
            <a:xfrm>
              <a:off x="1938960" y="5245200"/>
              <a:ext cx="57096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6360" y="5372280"/>
              <a:ext cx="1486080" cy="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34480" y="4127040"/>
              <a:ext cx="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3886200"/>
              <a:ext cx="34272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25480" y="4419000"/>
              <a:ext cx="91440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14600" y="141588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تسارع والز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36000" y="187200"/>
            <a:ext cx="15220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مثال (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480" y="568080"/>
            <a:ext cx="8975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جسم يتحرك بسرعة منتظمة مقدار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/الثانية، احسب الزمن اللازم ليقطع مسافة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1698480"/>
            <a:ext cx="1522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900080" y="2332080"/>
                <a:ext cx="80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908000" y="3916440"/>
                <a:ext cx="1181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913040" y="5518080"/>
                <a:ext cx="2730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ثاني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مربع نص 15"/>
          <p:cNvSpPr/>
          <p:nvPr/>
        </p:nvSpPr>
        <p:spPr>
          <a:xfrm>
            <a:off x="179280" y="110952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تلك الحالة تتزايد السرعة أو تتناقص بمقادير ثابتة في أزمان متسا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11480" y="4428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ثانياً: الحركة الخطية بتسار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9080" y="212868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ين الشكل المجاور العلاقة بين التسارع والز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23880" y="1676520"/>
            <a:ext cx="1984320" cy="1866960"/>
            <a:chOff x="1523880" y="1676520"/>
            <a:chExt cx="1984320" cy="1866960"/>
          </a:xfrm>
        </p:grpSpPr>
        <p:sp>
          <p:nvSpPr>
            <p:cNvPr id="198" name=""/>
            <p:cNvSpPr/>
            <p:nvPr/>
          </p:nvSpPr>
          <p:spPr>
            <a:xfrm>
              <a:off x="2936880" y="308628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1676520"/>
              <a:ext cx="342720" cy="6476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a</a:t>
              </a: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45000" y="3213360"/>
              <a:ext cx="1485360" cy="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45000" y="2641680"/>
              <a:ext cx="1028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832040" y="1968480"/>
              <a:ext cx="36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635280" y="3922560"/>
            <a:ext cx="47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علاقة بين السرع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اقة خط مستقيم ميله يساوي التسار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62000" y="3375000"/>
            <a:ext cx="2286000" cy="1854360"/>
            <a:chOff x="1062000" y="3375000"/>
            <a:chExt cx="2286000" cy="1854360"/>
          </a:xfrm>
        </p:grpSpPr>
        <p:sp>
          <p:nvSpPr>
            <p:cNvPr id="205" name=""/>
            <p:cNvSpPr/>
            <p:nvPr/>
          </p:nvSpPr>
          <p:spPr>
            <a:xfrm>
              <a:off x="2776680" y="477216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4400" y="3375000"/>
              <a:ext cx="342720" cy="6476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2000" y="4213080"/>
              <a:ext cx="80028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Majalla UI"/>
                </a:rPr>
                <a:t>v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Majalla U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811160" y="3984120"/>
              <a:ext cx="102852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11160" y="4898880"/>
              <a:ext cx="1371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824120" y="3654000"/>
              <a:ext cx="720" cy="125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924360" y="54198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 العلاقة بين الإزاح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زم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هي علاقة غير خطي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2000" y="4825440"/>
            <a:ext cx="2285640" cy="2045160"/>
            <a:chOff x="1062000" y="4825440"/>
            <a:chExt cx="2285640" cy="2045160"/>
          </a:xfrm>
        </p:grpSpPr>
        <p:sp>
          <p:nvSpPr>
            <p:cNvPr id="213" name=""/>
            <p:cNvSpPr/>
            <p:nvPr/>
          </p:nvSpPr>
          <p:spPr>
            <a:xfrm>
              <a:off x="2776320" y="6413400"/>
              <a:ext cx="571320" cy="4572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Majalla UI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4400" y="5016600"/>
              <a:ext cx="342720" cy="64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Majalla UI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2000" y="5854680"/>
              <a:ext cx="799920" cy="5713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Majalla UI"/>
                </a:rPr>
                <a:t>x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imes New Roman"/>
                  <a:ea typeface="Majalla U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11160" y="6540480"/>
              <a:ext cx="1371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23760" y="5295960"/>
              <a:ext cx="720" cy="125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52800" y="4825080"/>
              <a:ext cx="11419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59280" y="61740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أ): الحركة الخطية بتسارع ثاب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0:33Z</dcterms:created>
  <dc:creator>khaled</dc:creator>
  <dc:description/>
  <dc:language>en-US</dc:language>
  <cp:lastModifiedBy>user</cp:lastModifiedBy>
  <dcterms:modified xsi:type="dcterms:W3CDTF">2010-03-05T18:18:27Z</dcterms:modified>
  <cp:revision>34</cp:revision>
  <dc:subject/>
  <dc:title>المحاضرة الثالثة</dc:title>
</cp:coreProperties>
</file>