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1B6F-6D5C-4815-B7FA-07696D3D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92DA-5CE3-4E84-BE64-A92C7E1E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40E0-8701-4CD6-8068-688C65F6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DBD5-4DCB-4135-AD9F-7E90DD17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DC41-0F08-4186-802A-156AD02F3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5380-8F70-4A05-B8DA-3F910BE9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D6B9-4D67-40EC-8320-44D04ABA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FB8A-D218-4C3F-88DC-D92E0583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652F-FEBA-40A2-A22D-2AF81C86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7F09-4906-4799-A07C-8E064D75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F16C-46C8-488D-9020-7A5999E7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C494-497A-4720-92F0-0DA95B29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56CB-4742-43CC-9862-69C2A17F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45A1-78FB-4C4F-98B1-BDB65418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EC71-A0F4-4C69-8A50-5896A390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16A1-6A6B-403B-B502-450E79D84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B96F-8E9A-4BFA-9150-BB85F247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F4160-6FC6-4E25-8CF8-60F1DFCA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F5377-DC6B-4A20-9ED7-88825BEB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BA4ED-CEF4-4DAE-A54C-19D7AB17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6B581-3719-46EB-B1AF-458D0773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3D141-7195-494B-AE3B-5E5189D7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72E9-E0E1-4DC0-BC99-9DA10669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97779-C9E9-46C5-B5C4-DD8532A9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970FC-7D1F-4815-84C0-4172B1AA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F3E50-F447-415F-AEE6-7ACCF2A2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2D40A-F5AC-4180-962E-3C0304F5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D4E8E-0E98-41DA-B4C7-A5BB41FE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5CE22-4B7B-423A-A89C-DE142890A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9C3F6-6B3B-4233-A8EB-5610237A0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8060C-B883-4B4C-90C4-A7A22D7C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011E6-16F7-4EDC-95B1-0C8CF129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2A426-B669-45A5-9BE5-7D249DCE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B3E4-9B68-4B36-8ACD-E6979011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AF941-F387-4EAC-9332-EC50D58B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4E1F2-DC8E-4A1F-9375-34ABD060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F9091-BA31-48E7-B5CA-9306AD57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503A2-DF11-416C-AFB3-0322BEEA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A3569-3DA3-42C6-B662-EEB2584C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25584-800F-4CA0-8539-517053C1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5F836-94C6-4814-857B-BAE0DACE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D4000-6481-4B4F-AB87-94B831353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7D7C2-8766-4616-A90B-A3A4483F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48A4-25C9-4D32-9E89-2875F2FA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5A92-DDF4-43CE-8898-66B45774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CADA-B76A-4102-855F-F5D7B254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9B7E-2C0D-483B-AAD7-2CBA5FA2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81D6-A40E-46E1-9725-692C897E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80BE-3C5F-409F-A382-F42E060F7201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DA2B-1B1A-4C05-B3C0-B5D390F5663C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CF7A-5FA6-4A07-A3F3-A038C2C03A0D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6EFC-ADE5-4D33-AE76-EF62B94D9AA9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12"/>
          <p:cNvSpPr/>
          <p:nvPr/>
        </p:nvSpPr>
        <p:spPr>
          <a:xfrm>
            <a:off x="1116000" y="5661000"/>
            <a:ext cx="698508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690560" y="5950080"/>
            <a:ext cx="5834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ology Department         1438-1439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2"/>
          <p:cNvSpPr/>
          <p:nvPr/>
        </p:nvSpPr>
        <p:spPr>
          <a:xfrm>
            <a:off x="1116000" y="1052640"/>
            <a:ext cx="6985080" cy="93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quatic Ecology – Zoo 374     2(1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1" descr="C:\Users\hp\Desktop\صور بيئات مائية\huka-falls-lake-taupo-new-zealand-oc-3264x1758.jpg"/>
          <p:cNvPicPr/>
          <p:nvPr/>
        </p:nvPicPr>
        <p:blipFill>
          <a:blip r:embed="rId1"/>
          <a:stretch/>
        </p:blipFill>
        <p:spPr>
          <a:xfrm>
            <a:off x="1187280" y="2133720"/>
            <a:ext cx="69138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2303e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02303e"/>
                </a:solidFill>
                <a:latin typeface="Tahoma"/>
                <a:cs typeface="Tahoma"/>
              </a:rPr>
              <a:t>الماء في الكرة الأرضية</a:t>
            </a:r>
            <a:r>
              <a:rPr b="0" lang="ar-SA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6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 الماء في الكرة الأرضية </a:t>
            </a:r>
            <a:r>
              <a:rPr b="0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ff0000"/>
                </a:solidFill>
                <a:latin typeface="Constantia"/>
                <a:cs typeface="Majalla UI"/>
              </a:rPr>
              <a:t>حوالي ثلاثة أرباع الكرة الأرضية</a:t>
            </a:r>
            <a:r>
              <a:rPr b="0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يعتبر الماء عنصر هام للحياة على سطح الأرض، فالنبات والحيوان والإنسان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يعتمدون عليه اعتمادا كبيرا للاستمرار في الحياة. والماء إما أن يكون على صورة بخار في الهواء أو ماء سائل في الأنهار والبحيرات والبحار والمحيطات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أو متجمد على هيئة جليد في القطبين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1" lang="ar-SA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كمن أهمية البيئة المائية من خلال ما تغطية من مساحة تقدر بحوالي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71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%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من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سطح الكرة الأرضية (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360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مليون كم</a:t>
            </a:r>
            <a:r>
              <a:rPr b="0" lang="ar-SA" sz="2400" spc="-1" strike="noStrike" baseline="30000">
                <a:solidFill>
                  <a:srgbClr val="ff0000"/>
                </a:solidFill>
                <a:latin typeface="Constantia"/>
                <a:ea typeface="Majalla UI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 حيث توصف الكرة الأرضية باللؤلؤة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الزرقاء كما تبدو لم يراها من الفضاء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94920" y="1125360"/>
            <a:ext cx="837396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1" lang="ar-SA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شكل مياه البحار والمحيطات الحجم الأكبر من ماء الأرض حيث يقدر بحوالي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 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.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5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10</a:t>
            </a:r>
            <a:r>
              <a:rPr b="0" lang="ar-SA" sz="2400" spc="-1" strike="noStrike" baseline="30000">
                <a:solidFill>
                  <a:srgbClr val="ff0000"/>
                </a:solidFill>
                <a:latin typeface="Constantia"/>
                <a:ea typeface="Majalla UI"/>
              </a:rPr>
              <a:t>5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K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nstantia"/>
              </a:rPr>
              <a:t>3</a:t>
            </a:r>
            <a:r>
              <a:rPr b="0" lang="ar-SA" sz="2400" spc="-1" strike="noStrike" baseline="30000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بينما يقدر حجم المياه العذبة بحوالي (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1.4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nstantia"/>
              </a:rPr>
              <a:t>9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K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nstantia"/>
              </a:rPr>
              <a:t>3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(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1" lang="ar-SA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عد الأمطار(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105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ألف كم</a:t>
            </a:r>
            <a:r>
              <a:rPr b="0" lang="ar-SA" sz="2400" spc="-1" strike="noStrike" baseline="30000">
                <a:solidFill>
                  <a:srgbClr val="ff0000"/>
                </a:solidFill>
                <a:latin typeface="Constantia"/>
                <a:ea typeface="Majalla UI"/>
              </a:rPr>
              <a:t>3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سنويا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 المصدر الأساسي للمياه العذبة إلا أن حوالي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ثلث هذه الكمية (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37.5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ألف كم</a:t>
            </a:r>
            <a:r>
              <a:rPr b="0" lang="ar-SA" sz="2400" spc="-1" strike="noStrike" baseline="30000">
                <a:solidFill>
                  <a:srgbClr val="ff0000"/>
                </a:solidFill>
                <a:latin typeface="Constantia"/>
                <a:ea typeface="Majalla UI"/>
              </a:rPr>
              <a:t>3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سنويا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 يصل إلى البحار والمحيطات من خلال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مصبات الأنهار بينما يعود الثلثان الآخران إلى الجو عن طريق عمليتي البخر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Evaporation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من سطح الأرض بفعل الحرارة وبعملية النتح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Transpiration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من النباتات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r>
              <a:rPr b="1" lang="ar-SA" sz="2600" spc="-1" strike="noStrike">
                <a:solidFill>
                  <a:srgbClr val="02303e"/>
                </a:solidFill>
                <a:latin typeface="Tahoma"/>
                <a:cs typeface="Tahoma"/>
              </a:rPr>
              <a:t>خصائص المياه وتأثيراتها على الكائنات الحية</a:t>
            </a:r>
            <a:r>
              <a:rPr b="0" lang="ar-SA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5280" y="1341360"/>
            <a:ext cx="8406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2303e"/>
                </a:solidFill>
                <a:latin typeface="Tahoma"/>
                <a:cs typeface="Tahoma"/>
              </a:rPr>
              <a:t>الخصائص الفيزيائية</a:t>
            </a:r>
            <a:r>
              <a:rPr b="1" lang="ar-SA" sz="2400" spc="-1" strike="noStrike">
                <a:solidFill>
                  <a:srgbClr val="02303e"/>
                </a:solidFill>
                <a:latin typeface="Tahoma"/>
                <a:ea typeface="Tahoma"/>
              </a:rPr>
              <a:t> </a:t>
            </a:r>
            <a:r>
              <a:rPr b="0" lang="ar-SA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◄</a:t>
            </a:r>
            <a:r>
              <a:rPr b="1" lang="ar-SA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درجة الحرارة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ater thermal properties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خواص الماء الحرارية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cs typeface="Majalla UI"/>
              </a:rPr>
              <a:t>أو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متاز الماء بدرجات انصهار وغليان وحرارة نوعية وحرارة تبخر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وسعة حرارية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أعلى      من السوائل الآخرى ولذا فإن للماء قابلية للإحتفاظ بدرجة حرارته رغم حرارة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حيط الجوي حوله </a:t>
            </a:r>
            <a:r>
              <a:rPr b="1" lang="ar-SA" sz="2200" spc="-1" strike="noStrike">
                <a:solidFill>
                  <a:srgbClr val="0000ff"/>
                </a:solidFill>
                <a:latin typeface="Constantia"/>
                <a:cs typeface="Majalla UI"/>
              </a:rPr>
              <a:t>ولهذه الخواص أهمية كبيرة في حياة الأحياء المائية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لماذا ؟؟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المدى الحراري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rmal rang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الدرجة المفضلة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eferred temperatu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الدرجة الحرجة العليا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ximum critical temperatur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الدرجة الحرجة الدنيا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inimum critical temperatur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الدرجة المميتة العليا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ximum lethal temperatur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الدرجة المميتة الدنيا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inimum lethal temperatu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826560" y="907920"/>
            <a:ext cx="7982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◄</a:t>
            </a:r>
            <a:r>
              <a:rPr b="1" lang="ar-SA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7030a0"/>
                </a:solidFill>
                <a:latin typeface="Times New Roman"/>
                <a:cs typeface="Times New Roman"/>
              </a:rPr>
              <a:t>الملوحة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alinity</a:t>
            </a:r>
            <a:r>
              <a:rPr b="1" lang="ar-S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و</a:t>
            </a:r>
            <a:r>
              <a:rPr b="1" lang="ar-S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الأملاح الكلية المذاب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S</a:t>
            </a:r>
            <a:r>
              <a:rPr b="1" lang="ar-S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alinity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t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ssolv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lts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‰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t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usand)</a:t>
            </a:r>
            <a:r>
              <a:rPr b="1" lang="ar-SA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r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/L</a:t>
            </a:r>
            <a:r>
              <a:rPr b="1" lang="ar-SA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ar-SA" sz="2200" spc="-1" strike="noStrike">
                <a:solidFill>
                  <a:srgbClr val="0000ff"/>
                </a:solidFill>
                <a:latin typeface="Constantia"/>
                <a:ea typeface="Majalla UI"/>
              </a:rPr>
              <a:t>35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-</a:t>
            </a:r>
            <a:r>
              <a:rPr b="0" lang="ar-SA" sz="2200" spc="-1" strike="noStrike">
                <a:solidFill>
                  <a:srgbClr val="0000ff"/>
                </a:solidFill>
                <a:latin typeface="Constantia"/>
                <a:ea typeface="Majalla UI"/>
              </a:rPr>
              <a:t>40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 ppt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 Sea water or Marine water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</a:t>
            </a:r>
            <a:r>
              <a:rPr b="1" lang="ar-S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اء المالح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1-3 ppt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reshwater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</a:t>
            </a:r>
            <a:r>
              <a:rPr b="1" lang="ar-S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اء العذب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7-20 ppt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rackish water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</a:t>
            </a:r>
            <a:r>
              <a:rPr b="1" lang="ar-S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اء المويلح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◄</a:t>
            </a:r>
            <a:r>
              <a:rPr b="1" lang="ar-SA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7030a0"/>
                </a:solidFill>
                <a:latin typeface="Times New Roman"/>
                <a:cs typeface="Times New Roman"/>
              </a:rPr>
              <a:t>الشفافية       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ransparency</a:t>
            </a:r>
            <a:r>
              <a:rPr b="1" lang="ar-S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</a:t>
            </a:r>
            <a:r>
              <a:rPr b="1" lang="ar-SA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TU)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urbidity</a:t>
            </a:r>
            <a:r>
              <a:rPr b="1" lang="ar-SA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◄</a:t>
            </a:r>
            <a:r>
              <a:rPr b="1" lang="ar-SA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ar-SA" sz="26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لعكاره</a:t>
            </a:r>
            <a:r>
              <a:rPr b="1" lang="ar-SA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phelometric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rbidit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its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68360" y="764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680" indent="19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680" indent="19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680" indent="19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680" indent="19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680" indent="19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680" indent="19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680" indent="19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680" indent="1908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ar-SA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قرص (مقياس) سيكي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4680" indent="19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680" indent="190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◄</a:t>
            </a:r>
            <a:r>
              <a:rPr b="1" lang="ar-S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التوصيل الكهربي 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lectrical Conductiv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3" descr="Untitled-17"/>
          <p:cNvPicPr/>
          <p:nvPr/>
        </p:nvPicPr>
        <p:blipFill>
          <a:blip r:embed="rId1"/>
          <a:stretch/>
        </p:blipFill>
        <p:spPr>
          <a:xfrm>
            <a:off x="4140360" y="981000"/>
            <a:ext cx="3530520" cy="2448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209" name="Picture 4" descr="شكل 3ـ2"/>
          <p:cNvPicPr/>
          <p:nvPr/>
        </p:nvPicPr>
        <p:blipFill>
          <a:blip r:embed="rId2"/>
          <a:stretch/>
        </p:blipFill>
        <p:spPr>
          <a:xfrm>
            <a:off x="1403280" y="692280"/>
            <a:ext cx="22100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hp</cp:lastModifiedBy>
  <dcterms:modified xsi:type="dcterms:W3CDTF">2017-10-25T17:50:21Z</dcterms:modified>
  <cp:revision>143</cp:revision>
  <dc:subject/>
  <dc:title>Principals of General Zoology (Zoo-103)</dc:title>
</cp:coreProperties>
</file>