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510-90A4-4660-A884-37B053CB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377-892B-4110-9E86-F934E67E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B40-3AE0-4050-8CFF-C9820EDE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1FE-3CC8-4553-9F66-66D13E05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2A9A-B383-42E5-8C34-96AF9941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04B8-8DDF-44FC-8A42-D5047B26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0922-16DD-4376-B4BB-50DA1BA4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9310-0D6B-448A-880B-B4133FD3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0F24-E712-4790-A34B-A1D4D1DF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8D72-CB24-45BA-B2E8-ED16CE03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FE8D-2608-4856-A118-529E6FE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C18-2E13-4079-BF8F-9F59960C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1B61-50E5-47E9-8C51-B702D28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275D-27B4-4A31-B446-639FECF7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FA30-DCC8-4FD0-B4F4-41A4CE7C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1658-5CF1-460C-B38C-4E194B76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320F-3227-4C3C-A9A5-C2F34685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8053-0E6F-4473-A05E-04BA30FB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23920-4AB2-43CA-9E8C-C6DF33A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5D98-96AB-462F-9BEF-EDB7E1FB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A7D3-3D09-46BE-8A6D-B370C3D3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4E35-A94D-45FD-A505-812A44B4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603-6F10-4154-BCC0-894582CB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C382-5A21-4578-B694-DABE9C93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AA13-65E4-47CA-97FD-96D6F567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1044-1DBA-4DB2-9960-627FE3CF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FFD1-9DAF-48A9-ABC9-4385BCB9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B741-73E1-42D8-A926-0B46866A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0C796-8A93-4117-B645-39CBF457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28DB-0980-46E2-8047-F306D179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46E3C-6413-4FD1-B411-B8BD1DCF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3A17-B54D-4E3E-B54D-16C16A5B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33F9A-0DDF-4C83-A9C7-E17838BF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F97-2A1B-4D02-81BD-EEE0F3B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5044-F211-4D3F-AC2C-DCF7CF8C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D139D-E6F0-4A72-B693-0F11CD4F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2554-D4AC-4E55-9CD5-16BFBC34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9736B-A340-4ACF-9B96-AEF42A0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FAFAA-AB7F-4198-BD82-E847ADCF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946AD-D22E-4D66-9028-3F19BBD2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A9FD9-D146-42A1-BE0E-5FCAAA8C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8DAA-7824-481A-BE9C-4E7CB1FB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76FE-6056-4C40-85F7-17777172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50F-CCA7-48C9-A31A-C0F597B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C74-7C12-4BB2-8F5B-6D6FE16F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2FE-917B-4E72-A6A3-CB4A130B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D61-BB2B-45FE-8FA9-B7829E34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5E1-DEB9-49DC-A1B8-54514C6E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F0F3-5109-43F2-B3AE-6C0726B68174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AD33-3B46-4E78-9B10-D3E9BB6E69FD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74DA-89C5-4AA3-9A3D-66802187ECAE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9079-1505-4142-81BF-181A7DF7705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C:\Users\hp\Desktop\صور بيئات مائية\huka-falls-lake-taupo-new-zealand-oc-3264x1758.jpg"/>
          <p:cNvPicPr/>
          <p:nvPr/>
        </p:nvPicPr>
        <p:blipFill>
          <a:blip r:embed="rId1"/>
          <a:stretch/>
        </p:blipFill>
        <p:spPr>
          <a:xfrm>
            <a:off x="1187280" y="2133720"/>
            <a:ext cx="691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2303e"/>
                </a:solidFill>
                <a:latin typeface="Tahoma"/>
                <a:cs typeface="Tahoma"/>
              </a:rPr>
              <a:t>الماء في الكرة الأرضية</a:t>
            </a:r>
            <a:r>
              <a:rPr b="0" lang="ar-SA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 الماء في الكرة الأرضية </a:t>
            </a:r>
            <a:r>
              <a:rPr b="0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حوالي ثلاثة أرباع الكرة الأرضية</a:t>
            </a:r>
            <a:r>
              <a:rPr b="0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يعتبر الماء عنصر هام للحياة على سطح الأرض، فالنبات والحيوان والإنسا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يعتمدون عليه اعتمادا كبيرا للاستمرار في الحياة. والماء إما أن يكون على صورة بخار في الهواء أو ماء سائل في الأنهار والبحيرات والبحار والمحيطات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أو متجمد على هيئة جليد في القطبي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كمن أهمية البيئة المائية من خلال ما تغطية من مساحة تقدر بحوالي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7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%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سطح الكرة الأرضية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360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مليون كم</a:t>
            </a:r>
            <a:r>
              <a:rPr b="0" lang="ar-SA" sz="2400" spc="-1" strike="noStrike" baseline="30000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حيث توصف الكرة الأرضية باللؤلؤة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زرقاء كما تبدو لم يراها من الفضا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4920" y="1125360"/>
            <a:ext cx="83739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شكل مياه البحار والمحيطات الحجم الأكبر من ماء الأرض حيث يقدر بحوالي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.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10</a:t>
            </a:r>
            <a:r>
              <a:rPr b="0" lang="ar-SA" sz="2400" spc="-1" strike="noStrike" baseline="30000">
                <a:solidFill>
                  <a:srgbClr val="ff0000"/>
                </a:solidFill>
                <a:latin typeface="Constantia"/>
                <a:ea typeface="Majalla UI"/>
              </a:rPr>
              <a:t>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K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nstantia"/>
              </a:rPr>
              <a:t>3</a:t>
            </a:r>
            <a:r>
              <a:rPr b="0" lang="ar-SA" sz="2400" spc="-1" strike="noStrike" baseline="30000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ينما يقدر حجم المياه العذبة بحوالي (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.4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nstantia"/>
              </a:rPr>
              <a:t>9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K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nstantia"/>
              </a:rPr>
              <a:t>3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(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د الأمطار(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105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ألف كم</a:t>
            </a:r>
            <a:r>
              <a:rPr b="0" lang="ar-SA" sz="2400" spc="-1" strike="noStrike" baseline="30000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سنو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المصدر الأساسي للمياه العذبة إلا أن حوال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ثلث هذه الكمية (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37.5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ألف كم</a:t>
            </a:r>
            <a:r>
              <a:rPr b="0" lang="ar-SA" sz="2400" spc="-1" strike="noStrike" baseline="30000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سنو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يصل إلى البحار والمحيطات من خلال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مصبات الأنهار بينما يعود الثلثان الآخران إلى الجو عن طريق عمليتي البخر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Evapora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ن سطح الأرض بفعل الحرارة وبعملية النتح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Transpira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من النبات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1" lang="ar-SA" sz="2600" spc="-1" strike="noStrike">
                <a:solidFill>
                  <a:srgbClr val="02303e"/>
                </a:solidFill>
                <a:latin typeface="Tahoma"/>
                <a:cs typeface="Tahoma"/>
              </a:rPr>
              <a:t>خصائص المياه وتأثيراتها على الكائنات الحية</a:t>
            </a: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1341360"/>
            <a:ext cx="840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2303e"/>
                </a:solidFill>
                <a:latin typeface="Tahoma"/>
                <a:cs typeface="Tahoma"/>
              </a:rPr>
              <a:t>الخصائص الفيزيائية</a:t>
            </a:r>
            <a:r>
              <a:rPr b="1" lang="ar-SA" sz="24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رجة الحرارة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ater thermal properties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خواص الماء الحرارية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أو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متاز الماء بدرجات انصهار وغليان وحرارة نوعية وحرارة تبخر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وسعة حرارية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على      من السوائل الآخرى ولذا فإن للماء قابلية للإحتفاظ بدرجة حرارته رغم حرار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حيط الجوي حوله </a:t>
            </a:r>
            <a:r>
              <a:rPr b="1" lang="ar-SA" sz="2200" spc="-1" strike="noStrike">
                <a:solidFill>
                  <a:srgbClr val="0000ff"/>
                </a:solidFill>
                <a:latin typeface="Constantia"/>
                <a:cs typeface="Majalla UI"/>
              </a:rPr>
              <a:t>ولهذه الخواص أهمية كبيرة في حياة الأحياء المائية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لماذا ؟؟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مدى الحراري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mal ran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مفضلة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ferred tempera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حرجة العليا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ximum critic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حرجة الدنيا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imum critic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مميتة العليا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ximum leth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مميتة الدنيا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imum lethal tempera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26560" y="907920"/>
            <a:ext cx="7982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ملوحة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alinity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الأملاح الكلية المذاب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inity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t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solv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ts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usand)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L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35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-</a:t>
            </a:r>
            <a:r>
              <a:rPr b="0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40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pp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Sea water or Marine water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مال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-3 ppt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eshwater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عذب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7-20 ppt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ackish water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مويلح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شفافية    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ransparency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ar-SA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TU)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urbidity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عكاره</a:t>
            </a:r>
            <a:r>
              <a:rPr b="1" lang="ar-SA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helometr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bid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its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36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قرص (مقياس) سيكي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التوصيل الكهربي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lectrical Condu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Untitled-17"/>
          <p:cNvPicPr/>
          <p:nvPr/>
        </p:nvPicPr>
        <p:blipFill>
          <a:blip r:embed="rId1"/>
          <a:stretch/>
        </p:blipFill>
        <p:spPr>
          <a:xfrm>
            <a:off x="4140360" y="981000"/>
            <a:ext cx="3530520" cy="244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09" name="Picture 4" descr="شكل 3ـ2"/>
          <p:cNvPicPr/>
          <p:nvPr/>
        </p:nvPicPr>
        <p:blipFill>
          <a:blip r:embed="rId2"/>
          <a:stretch/>
        </p:blipFill>
        <p:spPr>
          <a:xfrm>
            <a:off x="1403280" y="692280"/>
            <a:ext cx="2210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0-25T17:50:21Z</dcterms:modified>
  <cp:revision>143</cp:revision>
  <dc:subject/>
  <dc:title>Principals of General Zoology (Zoo-103)</dc:title>
</cp:coreProperties>
</file>