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60B-EA97-4B66-BDB8-5F2ED20B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5D4-BF05-4650-B129-54665879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D77-4C21-4F84-99BB-565493C6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C00-ABC9-4C26-BDE6-F44D6FD0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D5BE-39A5-46E0-9BE7-131617BB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B214-1542-4909-A440-68A0768B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EA1D-B4CB-4705-B04C-E26BB489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C377-4353-451C-BD3B-4B603A90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78C8-E5F0-44C3-89C0-530F5A6A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686C-8930-4239-B07A-8065F343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6EA7-16A8-4A86-8E90-9A0CFC75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88E-5EB9-4514-894B-95BF22B8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8AB0-7035-4095-BAFB-B2D55A9C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87E3-B01F-4CEF-8F4B-B1DF8A00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6851-AA83-4FDB-8B72-E2F824E2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4D7B-70C9-4B57-BA52-63C6639E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60BF-12F5-485B-8622-BCA1DA2D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696CB-7B90-40E0-B559-8B2B56DA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D5D1-91A8-4269-B3A9-25EF0FD4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F9B10-8FF4-4D54-A86E-7A11553C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E48D3-8756-4918-8CA2-18CFE665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264F3-5941-4407-982D-1C83040B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783-FC5C-4845-B205-647C6F56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7F1B-C610-4B70-9580-9E857614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64098-5AAF-4505-B693-53F8E1F3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893B0-E812-41C9-9539-FAFE5BE0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81A2E-A810-4AB1-8122-97A62C58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AC3C6-B4F7-48F4-A1C1-4B0CB5B2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438FD-E673-4C82-849A-2D38C078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4E05-5011-47EE-978B-27E364CA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10F25-A2E5-454C-995F-0D4C7AFE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96B27-D13A-417E-8351-86727C3B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9E396-AC9F-47B1-A476-F3128262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0B9-07B8-4E22-A64C-D8BECFA9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494D7-4DA6-4503-9EFF-CF2AC388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578BB-9EF3-4DC1-8164-EB5F8946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3ED7E-57D5-4A7F-93B7-2998BCAA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44DA-01FF-4117-8DE4-755A334A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25F62-1778-41DF-B306-0EE05821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459F1-1A10-4495-915A-7E63DB78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34257-3D3E-4308-80C0-886642FB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1F991-E433-4BF5-A9CF-DB02F1D9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A17E5-64BA-4F2B-8D55-4451D653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FA36-293A-4D65-BD0E-D06DC46E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BAD-C2CA-4419-80E1-03D6AE91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106-0D13-48FE-ACA5-078F4CC8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F28-68DC-4CE7-9E76-D303FDF5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64B-04E4-44A5-99F6-96AE404E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7CE1-DF21-418D-9EDC-02D8BF3B0ED7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68B9-BC0C-4F72-A1EC-1F8D2EB999C6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E6C3-A6E0-4644-ADEC-D72C118603FE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0030-157E-40E1-83B6-0E7924C93B5A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مربع نص 1"/>
          <p:cNvGrpSpPr/>
          <p:nvPr/>
        </p:nvGrpSpPr>
        <p:grpSpPr>
          <a:xfrm>
            <a:off x="4218120" y="1504800"/>
            <a:ext cx="1933560" cy="695160"/>
            <a:chOff x="4218120" y="1504800"/>
            <a:chExt cx="1933560" cy="695160"/>
          </a:xfrm>
        </p:grpSpPr>
        <p:pic>
          <p:nvPicPr>
            <p:cNvPr id="196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4218120" y="1504800"/>
              <a:ext cx="19335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4284720" y="15573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أسئلة أولياء الأمور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مربع نص 2"/>
          <p:cNvGrpSpPr/>
          <p:nvPr/>
        </p:nvGrpSpPr>
        <p:grpSpPr>
          <a:xfrm>
            <a:off x="2846520" y="2517840"/>
            <a:ext cx="4456080" cy="1152360"/>
            <a:chOff x="2846520" y="2517840"/>
            <a:chExt cx="4456080" cy="1152360"/>
          </a:xfrm>
        </p:grpSpPr>
        <p:pic>
          <p:nvPicPr>
            <p:cNvPr id="199" name="مربع نص 2" descr=""/>
            <p:cNvPicPr/>
            <p:nvPr/>
          </p:nvPicPr>
          <p:blipFill>
            <a:blip r:embed="rId2"/>
            <a:stretch/>
          </p:blipFill>
          <p:spPr>
            <a:xfrm>
              <a:off x="2846520" y="2517840"/>
              <a:ext cx="44560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916360" y="2565360"/>
              <a:ext cx="431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ماهي طريقة التواصل الأكثر ملائمة لطفلي ؟ ومدى توفرها 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وماهو المكان المناسب ؟ ومدى توفره 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مربع نص 4"/>
          <p:cNvGrpSpPr/>
          <p:nvPr/>
        </p:nvGrpSpPr>
        <p:grpSpPr>
          <a:xfrm>
            <a:off x="3565440" y="1639800"/>
            <a:ext cx="3164040" cy="901800"/>
            <a:chOff x="3565440" y="1639800"/>
            <a:chExt cx="3164040" cy="901800"/>
          </a:xfrm>
        </p:grpSpPr>
        <p:pic>
          <p:nvPicPr>
            <p:cNvPr id="202" name="مربع نص 4" descr=""/>
            <p:cNvPicPr/>
            <p:nvPr/>
          </p:nvPicPr>
          <p:blipFill>
            <a:blip r:embed="rId1"/>
            <a:stretch/>
          </p:blipFill>
          <p:spPr>
            <a:xfrm>
              <a:off x="3565440" y="1639800"/>
              <a:ext cx="3164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35280" y="1700280"/>
              <a:ext cx="30243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البقايا السمعية </a:t>
              </a: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مربع نص 5"/>
          <p:cNvGrpSpPr/>
          <p:nvPr/>
        </p:nvGrpSpPr>
        <p:grpSpPr>
          <a:xfrm>
            <a:off x="3498840" y="2803680"/>
            <a:ext cx="3157560" cy="798480"/>
            <a:chOff x="3498840" y="2803680"/>
            <a:chExt cx="3157560" cy="798480"/>
          </a:xfrm>
        </p:grpSpPr>
        <p:pic>
          <p:nvPicPr>
            <p:cNvPr id="205" name="مربع نص 5" descr=""/>
            <p:cNvPicPr/>
            <p:nvPr/>
          </p:nvPicPr>
          <p:blipFill>
            <a:blip r:embed="rId2"/>
            <a:stretch/>
          </p:blipFill>
          <p:spPr>
            <a:xfrm>
              <a:off x="3498840" y="2803680"/>
              <a:ext cx="3157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564000" y="2852640"/>
              <a:ext cx="30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نتائج استقبال الكلا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2050920" y="1989000"/>
          <a:ext cx="4756320" cy="2498760"/>
        </p:xfrm>
        <a:graphic>
          <a:graphicData uri="http://schemas.openxmlformats.org/drawingml/2006/table">
            <a:tbl>
              <a:tblPr/>
              <a:tblGrid>
                <a:gridCol w="1805040"/>
                <a:gridCol w="1803600"/>
                <a:gridCol w="1147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طالبة ر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درجة الفقدان   السمع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بقايا السمع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عتبة السم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صطلح المستخد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659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تقلصت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بقيت كما هي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درجة السمعية بعد استخدام كلاً من المصطلح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لغة المنطو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لغة الإشا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طريقة التواص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فصل العادي مع الخدمات المسان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عهد أو- فصل خاص ملح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كان التربو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476360" y="1413000"/>
          <a:ext cx="6095880" cy="4398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الإجراء المناسب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نمط فهم الكلا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الحال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 لايوجد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لطفل غير قادرسمعيا على التمييز بين العبارات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يوجد بشكل بسي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لطفل لديه قدرة بسيطة على فهم العبارات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0120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يوجد قدره بسيطة على تمييز الكلمات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يستطيع الطفل إدراك وتمييز الكلمات سمعيا ,ومن ثم لديه قدره على استخدام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cs typeface="Majalla UI"/>
                        </a:rPr>
                        <a:t>بعض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لكلمات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ستقبال وإدراك الكلمات ومن ثم استخدامها بشكل صحي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دراك الكلمات بشكل كامل ومتناغم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مربع نص 1"/>
          <p:cNvGrpSpPr/>
          <p:nvPr/>
        </p:nvGrpSpPr>
        <p:grpSpPr>
          <a:xfrm>
            <a:off x="3565440" y="1652760"/>
            <a:ext cx="3200400" cy="609480"/>
            <a:chOff x="3565440" y="1652760"/>
            <a:chExt cx="3200400" cy="609480"/>
          </a:xfrm>
        </p:grpSpPr>
        <p:pic>
          <p:nvPicPr>
            <p:cNvPr id="210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3565440" y="1652760"/>
              <a:ext cx="32004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635280" y="170028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الكفاءة اللغوية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مربع نص 2"/>
          <p:cNvGrpSpPr/>
          <p:nvPr/>
        </p:nvGrpSpPr>
        <p:grpSpPr>
          <a:xfrm>
            <a:off x="3498840" y="2584440"/>
            <a:ext cx="3200400" cy="609480"/>
            <a:chOff x="3498840" y="2584440"/>
            <a:chExt cx="3200400" cy="609480"/>
          </a:xfrm>
        </p:grpSpPr>
        <p:pic>
          <p:nvPicPr>
            <p:cNvPr id="213" name="مربع نص 2" descr=""/>
            <p:cNvPicPr/>
            <p:nvPr/>
          </p:nvPicPr>
          <p:blipFill>
            <a:blip r:embed="rId2"/>
            <a:stretch/>
          </p:blipFill>
          <p:spPr>
            <a:xfrm>
              <a:off x="3498840" y="2584440"/>
              <a:ext cx="32004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564000" y="2637000"/>
              <a:ext cx="30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القدرات العقلية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مربع نص 1"/>
          <p:cNvGrpSpPr/>
          <p:nvPr/>
        </p:nvGrpSpPr>
        <p:grpSpPr>
          <a:xfrm>
            <a:off x="3565440" y="1504800"/>
            <a:ext cx="3200400" cy="609840"/>
            <a:chOff x="3565440" y="1504800"/>
            <a:chExt cx="3200400" cy="609840"/>
          </a:xfrm>
        </p:grpSpPr>
        <p:pic>
          <p:nvPicPr>
            <p:cNvPr id="216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3565440" y="1504800"/>
              <a:ext cx="32004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635280" y="155736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دعم الأسري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مربع نص 2"/>
          <p:cNvGrpSpPr/>
          <p:nvPr/>
        </p:nvGrpSpPr>
        <p:grpSpPr>
          <a:xfrm>
            <a:off x="4651200" y="2444760"/>
            <a:ext cx="1932120" cy="609480"/>
            <a:chOff x="4651200" y="2444760"/>
            <a:chExt cx="1932120" cy="609480"/>
          </a:xfrm>
        </p:grpSpPr>
        <p:pic>
          <p:nvPicPr>
            <p:cNvPr id="219" name="مربع نص 2" descr=""/>
            <p:cNvPicPr/>
            <p:nvPr/>
          </p:nvPicPr>
          <p:blipFill>
            <a:blip r:embed="rId2"/>
            <a:stretch/>
          </p:blipFill>
          <p:spPr>
            <a:xfrm>
              <a:off x="4651200" y="2444760"/>
              <a:ext cx="193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716360" y="249228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لايوجد دع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مربع نص 3"/>
          <p:cNvGrpSpPr/>
          <p:nvPr/>
        </p:nvGrpSpPr>
        <p:grpSpPr>
          <a:xfrm>
            <a:off x="3638520" y="2876400"/>
            <a:ext cx="1940040" cy="690480"/>
            <a:chOff x="3638520" y="2876400"/>
            <a:chExt cx="1940040" cy="690480"/>
          </a:xfrm>
        </p:grpSpPr>
        <p:pic>
          <p:nvPicPr>
            <p:cNvPr id="222" name="مربع نص 3" descr=""/>
            <p:cNvPicPr/>
            <p:nvPr/>
          </p:nvPicPr>
          <p:blipFill>
            <a:blip r:embed="rId3"/>
            <a:stretch/>
          </p:blipFill>
          <p:spPr>
            <a:xfrm>
              <a:off x="3638520" y="2876400"/>
              <a:ext cx="1940040" cy="6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708360" y="2924280"/>
              <a:ext cx="18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حد أدنى من الدع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مربع نص 4"/>
          <p:cNvGrpSpPr/>
          <p:nvPr/>
        </p:nvGrpSpPr>
        <p:grpSpPr>
          <a:xfrm>
            <a:off x="3139920" y="3376440"/>
            <a:ext cx="1932120" cy="609840"/>
            <a:chOff x="3139920" y="3376440"/>
            <a:chExt cx="1932120" cy="609840"/>
          </a:xfrm>
        </p:grpSpPr>
        <p:pic>
          <p:nvPicPr>
            <p:cNvPr id="225" name="مربع نص 4" descr=""/>
            <p:cNvPicPr/>
            <p:nvPr/>
          </p:nvPicPr>
          <p:blipFill>
            <a:blip r:embed="rId4"/>
            <a:stretch/>
          </p:blipFill>
          <p:spPr>
            <a:xfrm>
              <a:off x="3139920" y="3376440"/>
              <a:ext cx="1932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203640" y="342900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 دعم كافي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مربع نص 5"/>
          <p:cNvGrpSpPr/>
          <p:nvPr/>
        </p:nvGrpSpPr>
        <p:grpSpPr>
          <a:xfrm>
            <a:off x="2414520" y="3882960"/>
            <a:ext cx="1938240" cy="609840"/>
            <a:chOff x="2414520" y="3882960"/>
            <a:chExt cx="1938240" cy="609840"/>
          </a:xfrm>
        </p:grpSpPr>
        <p:pic>
          <p:nvPicPr>
            <p:cNvPr id="228" name="مربع نص 5" descr=""/>
            <p:cNvPicPr/>
            <p:nvPr/>
          </p:nvPicPr>
          <p:blipFill>
            <a:blip r:embed="rId5"/>
            <a:stretch/>
          </p:blipFill>
          <p:spPr>
            <a:xfrm>
              <a:off x="2414520" y="3882960"/>
              <a:ext cx="19382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484360" y="39337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 دعم كافي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مربع نص 1"/>
          <p:cNvGrpSpPr/>
          <p:nvPr/>
        </p:nvGrpSpPr>
        <p:grpSpPr>
          <a:xfrm>
            <a:off x="3498840" y="1365120"/>
            <a:ext cx="3200400" cy="690480"/>
            <a:chOff x="3498840" y="1365120"/>
            <a:chExt cx="3200400" cy="690480"/>
          </a:xfrm>
        </p:grpSpPr>
        <p:pic>
          <p:nvPicPr>
            <p:cNvPr id="231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3498840" y="1365120"/>
              <a:ext cx="32004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3564000" y="1413000"/>
              <a:ext cx="30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اتجاهات نحو التواصل الشفهي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قوس كبير أيسر 2"/>
          <p:cNvSpPr/>
          <p:nvPr/>
        </p:nvSpPr>
        <p:spPr>
          <a:xfrm rot="5400000">
            <a:off x="4529520" y="662400"/>
            <a:ext cx="1163520" cy="3527640"/>
          </a:xfrm>
          <a:custGeom>
            <a:avLst/>
            <a:gdLst>
              <a:gd name="textAreaLeft" fmla="*/ 743400 w 1163520"/>
              <a:gd name="textAreaRight" fmla="*/ 1163880 w 1163520"/>
              <a:gd name="textAreaTop" fmla="*/ 30240 h 3527640"/>
              <a:gd name="textAreaBottom" fmla="*/ 3497400 h 352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7"/>
                  <a:pt x="10800" y="594"/>
                </a:cubicBezTo>
                <a:lnTo>
                  <a:pt x="10800" y="10206"/>
                </a:lnTo>
                <a:cubicBezTo>
                  <a:pt x="10800" y="10503"/>
                  <a:pt x="5400" y="10800"/>
                  <a:pt x="0" y="10800"/>
                </a:cubicBezTo>
                <a:cubicBezTo>
                  <a:pt x="5400" y="10800"/>
                  <a:pt x="10800" y="11097"/>
                  <a:pt x="10800" y="11394"/>
                </a:cubicBezTo>
                <a:lnTo>
                  <a:pt x="10800" y="21006"/>
                </a:lnTo>
                <a:cubicBezTo>
                  <a:pt x="10800" y="213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مربع نص 3"/>
          <p:cNvGrpSpPr/>
          <p:nvPr/>
        </p:nvGrpSpPr>
        <p:grpSpPr>
          <a:xfrm>
            <a:off x="6089760" y="3090960"/>
            <a:ext cx="1931760" cy="609480"/>
            <a:chOff x="6089760" y="3090960"/>
            <a:chExt cx="1931760" cy="609480"/>
          </a:xfrm>
        </p:grpSpPr>
        <p:pic>
          <p:nvPicPr>
            <p:cNvPr id="235" name="مربع نص 3" descr=""/>
            <p:cNvPicPr/>
            <p:nvPr/>
          </p:nvPicPr>
          <p:blipFill>
            <a:blip r:embed="rId2"/>
            <a:stretch/>
          </p:blipFill>
          <p:spPr>
            <a:xfrm>
              <a:off x="6089760" y="3090960"/>
              <a:ext cx="1931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156360" y="31417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ضعيف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مربع نص 4"/>
          <p:cNvGrpSpPr/>
          <p:nvPr/>
        </p:nvGrpSpPr>
        <p:grpSpPr>
          <a:xfrm>
            <a:off x="4071960" y="3524400"/>
            <a:ext cx="1932120" cy="609480"/>
            <a:chOff x="4071960" y="3524400"/>
            <a:chExt cx="1932120" cy="609480"/>
          </a:xfrm>
        </p:grpSpPr>
        <p:pic>
          <p:nvPicPr>
            <p:cNvPr id="238" name="مربع نص 4" descr=""/>
            <p:cNvPicPr/>
            <p:nvPr/>
          </p:nvPicPr>
          <p:blipFill>
            <a:blip r:embed="rId3"/>
            <a:stretch/>
          </p:blipFill>
          <p:spPr>
            <a:xfrm>
              <a:off x="4071960" y="3524400"/>
              <a:ext cx="193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4140360" y="357336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مقبو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مربع نص 5"/>
          <p:cNvGrpSpPr/>
          <p:nvPr/>
        </p:nvGrpSpPr>
        <p:grpSpPr>
          <a:xfrm>
            <a:off x="1987560" y="3090960"/>
            <a:ext cx="1932120" cy="609480"/>
            <a:chOff x="1987560" y="3090960"/>
            <a:chExt cx="1932120" cy="609480"/>
          </a:xfrm>
        </p:grpSpPr>
        <p:pic>
          <p:nvPicPr>
            <p:cNvPr id="241" name="مربع نص 5" descr=""/>
            <p:cNvPicPr/>
            <p:nvPr/>
          </p:nvPicPr>
          <p:blipFill>
            <a:blip r:embed="rId4"/>
            <a:stretch/>
          </p:blipFill>
          <p:spPr>
            <a:xfrm>
              <a:off x="1987560" y="3090960"/>
              <a:ext cx="193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050920" y="31417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جيد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مربع نص 1"/>
          <p:cNvGrpSpPr/>
          <p:nvPr/>
        </p:nvGrpSpPr>
        <p:grpSpPr>
          <a:xfrm>
            <a:off x="3638520" y="2584440"/>
            <a:ext cx="3200400" cy="1433520"/>
            <a:chOff x="3638520" y="2584440"/>
            <a:chExt cx="3200400" cy="1433520"/>
          </a:xfrm>
        </p:grpSpPr>
        <p:pic>
          <p:nvPicPr>
            <p:cNvPr id="244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3638520" y="2584440"/>
              <a:ext cx="32004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708360" y="2637000"/>
              <a:ext cx="30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التركيز على الكلا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التركيز على الكلام بوجود خدمات مساند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التركيز على لغة الإشارة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مربع نص 2"/>
          <p:cNvGrpSpPr/>
          <p:nvPr/>
        </p:nvGrpSpPr>
        <p:grpSpPr>
          <a:xfrm>
            <a:off x="4432320" y="1725480"/>
            <a:ext cx="1932120" cy="603360"/>
            <a:chOff x="4432320" y="1725480"/>
            <a:chExt cx="1932120" cy="603360"/>
          </a:xfrm>
        </p:grpSpPr>
        <p:pic>
          <p:nvPicPr>
            <p:cNvPr id="247" name="مربع نص 2" descr=""/>
            <p:cNvPicPr/>
            <p:nvPr/>
          </p:nvPicPr>
          <p:blipFill>
            <a:blip r:embed="rId2"/>
            <a:stretch/>
          </p:blipFill>
          <p:spPr>
            <a:xfrm>
              <a:off x="4432320" y="1725480"/>
              <a:ext cx="19321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500720" y="177336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توصيا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9:14:57Z</dcterms:created>
  <dc:creator>MAHA</dc:creator>
  <dc:description/>
  <dc:language>en-US</dc:language>
  <cp:lastModifiedBy>Maha Alhajri</cp:lastModifiedBy>
  <dcterms:modified xsi:type="dcterms:W3CDTF">2016-10-12T07:17:08Z</dcterms:modified>
  <cp:revision>15</cp:revision>
  <dc:subject/>
  <dc:title>الشريحة 1</dc:title>
</cp:coreProperties>
</file>