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ACB-6ABD-4970-9916-EF83EB66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6E7-3ACF-4CC7-A160-C3663EA2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C4E-8668-4D47-B794-0A25F979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AFD-FDD0-414C-99D8-F0D749DB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40DC-515E-47DC-B1A7-2777B1C3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DC79-D992-4706-89D4-79EEFA1F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1919-72CC-43DB-BCB1-9EA15438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8D15-E7A5-4913-9548-834EAAD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C280-48B2-4549-88D2-992D73F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C1EE-4818-4BD1-AFD5-98733206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50C0-97FD-44B1-A7D4-F92F5719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438-9F9C-42BB-A2C9-A257000B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088B-C9EB-4DE0-8F36-B23E3FA4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3A51-216F-477A-B465-023D71C6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5A88-C17C-40F7-B598-C3CE276D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020E-6312-42B8-8A32-00E57149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4064-CEC6-4351-B95C-9732D573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9BAC-4FCF-4851-B725-FFBE993E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3AFA-3211-4AB2-B499-C7987419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96F6-4463-453D-9F62-54D0CAAE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64A5-9EB2-489A-9A19-EB45EF7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39B3-6A4A-4505-A0A4-CB016E2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661-1585-4127-BADD-F711C60A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DDBD-2136-4109-ADF3-08A63C7C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645E-9C86-4409-A86A-7A60A8E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43E1-9E0A-426B-98C2-622C842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A6FA-DEBF-4A18-ABBF-1F8A9B4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7276-F890-4551-9BF2-85C14422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A309-AE60-4808-8990-F1BBAD75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A66E-3346-482F-8B01-5363C738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53105-2EFA-4268-A8C4-F36C55DE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6D6A-D8AC-4D17-980F-3DEF3920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291B-981A-48D4-8B24-A43A707F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C4F-78F3-40DC-9EC6-AC5B599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1ED6-B2AF-4CF6-A5DF-BADCEA9B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7AB8-F08C-4592-BE75-FB7C1DC6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992D-31B5-4738-B0FC-B2A2F5B4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806A-4C3E-4404-9E48-25C6E4A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E77A-AF56-4E46-AF65-BAEE4FD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4705-1338-47E9-A8C8-553E744E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17FD-43A7-402C-B97D-BAD9CAB0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F35D-F88C-4122-937D-ACB828AB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0D31D-E5F9-47E0-AAFA-D5B01BC6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25C-55A8-44FC-9F83-14058E6E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B7A-B7E7-4A4B-AA24-13A784E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4D6-DBEB-46F4-9646-2183639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754-F961-4224-A5B6-0A636E4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854-8E29-4CB5-8045-5EEC1B3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0ECD-B78B-4854-A89F-FF69745A4E8A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DE73-59AF-492B-B687-0334784F6AB1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6806-4D01-4B3B-886A-62F8AF2653EE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0118-0241-4645-8B9E-B94D5E969FCA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مربع نص 1"/>
          <p:cNvGrpSpPr/>
          <p:nvPr/>
        </p:nvGrpSpPr>
        <p:grpSpPr>
          <a:xfrm>
            <a:off x="4218120" y="1504800"/>
            <a:ext cx="1933560" cy="695160"/>
            <a:chOff x="4218120" y="1504800"/>
            <a:chExt cx="1933560" cy="695160"/>
          </a:xfrm>
        </p:grpSpPr>
        <p:pic>
          <p:nvPicPr>
            <p:cNvPr id="196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4218120" y="1504800"/>
              <a:ext cx="19335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284720" y="1557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سئلة أولياء الأمو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مربع نص 2"/>
          <p:cNvGrpSpPr/>
          <p:nvPr/>
        </p:nvGrpSpPr>
        <p:grpSpPr>
          <a:xfrm>
            <a:off x="2846520" y="2517840"/>
            <a:ext cx="4456080" cy="1152360"/>
            <a:chOff x="2846520" y="2517840"/>
            <a:chExt cx="4456080" cy="1152360"/>
          </a:xfrm>
        </p:grpSpPr>
        <p:pic>
          <p:nvPicPr>
            <p:cNvPr id="199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2846520" y="2517840"/>
              <a:ext cx="4456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916360" y="2565360"/>
              <a:ext cx="431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ماهي طريقة التواصل الأكثر ملائمة لطفلي ؟ ومدى توفرها 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وماهو المكان المناسب ؟ ومدى توفره 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مربع نص 4"/>
          <p:cNvGrpSpPr/>
          <p:nvPr/>
        </p:nvGrpSpPr>
        <p:grpSpPr>
          <a:xfrm>
            <a:off x="3565440" y="1639800"/>
            <a:ext cx="3164040" cy="901800"/>
            <a:chOff x="3565440" y="1639800"/>
            <a:chExt cx="3164040" cy="901800"/>
          </a:xfrm>
        </p:grpSpPr>
        <p:pic>
          <p:nvPicPr>
            <p:cNvPr id="202" name="مربع نص 4" descr=""/>
            <p:cNvPicPr/>
            <p:nvPr/>
          </p:nvPicPr>
          <p:blipFill>
            <a:blip r:embed="rId1"/>
            <a:stretch/>
          </p:blipFill>
          <p:spPr>
            <a:xfrm>
              <a:off x="3565440" y="1639800"/>
              <a:ext cx="316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35280" y="1700280"/>
              <a:ext cx="3024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بقايا السمعية </a:t>
              </a: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مربع نص 5"/>
          <p:cNvGrpSpPr/>
          <p:nvPr/>
        </p:nvGrpSpPr>
        <p:grpSpPr>
          <a:xfrm>
            <a:off x="3498840" y="2803680"/>
            <a:ext cx="3157560" cy="798480"/>
            <a:chOff x="3498840" y="2803680"/>
            <a:chExt cx="3157560" cy="798480"/>
          </a:xfrm>
        </p:grpSpPr>
        <p:pic>
          <p:nvPicPr>
            <p:cNvPr id="205" name="مربع نص 5" descr=""/>
            <p:cNvPicPr/>
            <p:nvPr/>
          </p:nvPicPr>
          <p:blipFill>
            <a:blip r:embed="rId2"/>
            <a:stretch/>
          </p:blipFill>
          <p:spPr>
            <a:xfrm>
              <a:off x="3498840" y="2803680"/>
              <a:ext cx="3157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564000" y="285264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نتائج استقبال الكلا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050920" y="1989000"/>
          <a:ext cx="4756320" cy="2498760"/>
        </p:xfrm>
        <a:graphic>
          <a:graphicData uri="http://schemas.openxmlformats.org/drawingml/2006/table">
            <a:tbl>
              <a:tblPr/>
              <a:tblGrid>
                <a:gridCol w="1805040"/>
                <a:gridCol w="1803600"/>
                <a:gridCol w="1147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طالبة ر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درجة الفقدان   السم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بقايا السم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تبة السم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صطلح المستخد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تقلصت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بقيت كما هي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رجة السمعية بعد استخدام كلاً من المصطلح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لغة المنطو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لغة الإشا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يقة التواص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فصل العادي مع الخدمات المسان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عهد أو- فصل خاص ملح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كان التربو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476360" y="1413000"/>
          <a:ext cx="6095880" cy="439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الإجراء المناسب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نمط فهم الكلا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الحال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 لايوجد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طفل غير قادرسمعيا على التمييز بين العبار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يوجد بشكل بسي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طفل لديه قدرة بسيطة على فهم العبار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يوجد قدره بسيطة على تمييز الكلم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يستطيع الطفل إدراك وتمييز الكلمات سمعيا ,ومن ثم لديه قدره على استخدام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بعض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كلم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ستقبال وإدراك الكلمات ومن ثم استخدامها بشكل صحي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دراك الكلمات بشكل كامل ومتناغم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مربع نص 1"/>
          <p:cNvGrpSpPr/>
          <p:nvPr/>
        </p:nvGrpSpPr>
        <p:grpSpPr>
          <a:xfrm>
            <a:off x="3565440" y="1652760"/>
            <a:ext cx="3200400" cy="609480"/>
            <a:chOff x="3565440" y="1652760"/>
            <a:chExt cx="3200400" cy="609480"/>
          </a:xfrm>
        </p:grpSpPr>
        <p:pic>
          <p:nvPicPr>
            <p:cNvPr id="210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565440" y="1652760"/>
              <a:ext cx="3200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635280" y="170028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كفاءة اللغوي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مربع نص 2"/>
          <p:cNvGrpSpPr/>
          <p:nvPr/>
        </p:nvGrpSpPr>
        <p:grpSpPr>
          <a:xfrm>
            <a:off x="3498840" y="2584440"/>
            <a:ext cx="3200400" cy="609480"/>
            <a:chOff x="3498840" y="2584440"/>
            <a:chExt cx="3200400" cy="609480"/>
          </a:xfrm>
        </p:grpSpPr>
        <p:pic>
          <p:nvPicPr>
            <p:cNvPr id="213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3498840" y="2584440"/>
              <a:ext cx="3200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564000" y="263700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قدرات العقلي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مربع نص 1"/>
          <p:cNvGrpSpPr/>
          <p:nvPr/>
        </p:nvGrpSpPr>
        <p:grpSpPr>
          <a:xfrm>
            <a:off x="3565440" y="1504800"/>
            <a:ext cx="3200400" cy="609840"/>
            <a:chOff x="3565440" y="1504800"/>
            <a:chExt cx="3200400" cy="609840"/>
          </a:xfrm>
        </p:grpSpPr>
        <p:pic>
          <p:nvPicPr>
            <p:cNvPr id="216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565440" y="1504800"/>
              <a:ext cx="32004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63528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دعم الأسر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مربع نص 2"/>
          <p:cNvGrpSpPr/>
          <p:nvPr/>
        </p:nvGrpSpPr>
        <p:grpSpPr>
          <a:xfrm>
            <a:off x="4651200" y="2444760"/>
            <a:ext cx="1932120" cy="609480"/>
            <a:chOff x="4651200" y="2444760"/>
            <a:chExt cx="1932120" cy="609480"/>
          </a:xfrm>
        </p:grpSpPr>
        <p:pic>
          <p:nvPicPr>
            <p:cNvPr id="219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4651200" y="2444760"/>
              <a:ext cx="193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716360" y="249228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لايوجد دع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مربع نص 3"/>
          <p:cNvGrpSpPr/>
          <p:nvPr/>
        </p:nvGrpSpPr>
        <p:grpSpPr>
          <a:xfrm>
            <a:off x="3638520" y="2876400"/>
            <a:ext cx="1940040" cy="690480"/>
            <a:chOff x="3638520" y="2876400"/>
            <a:chExt cx="1940040" cy="690480"/>
          </a:xfrm>
        </p:grpSpPr>
        <p:pic>
          <p:nvPicPr>
            <p:cNvPr id="222" name="مربع نص 3" descr=""/>
            <p:cNvPicPr/>
            <p:nvPr/>
          </p:nvPicPr>
          <p:blipFill>
            <a:blip r:embed="rId3"/>
            <a:stretch/>
          </p:blipFill>
          <p:spPr>
            <a:xfrm>
              <a:off x="3638520" y="2876400"/>
              <a:ext cx="194004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08360" y="292428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حد أدنى من الدع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مربع نص 4"/>
          <p:cNvGrpSpPr/>
          <p:nvPr/>
        </p:nvGrpSpPr>
        <p:grpSpPr>
          <a:xfrm>
            <a:off x="3139920" y="3376440"/>
            <a:ext cx="1932120" cy="609840"/>
            <a:chOff x="3139920" y="3376440"/>
            <a:chExt cx="1932120" cy="609840"/>
          </a:xfrm>
        </p:grpSpPr>
        <p:pic>
          <p:nvPicPr>
            <p:cNvPr id="225" name="مربع نص 4" descr=""/>
            <p:cNvPicPr/>
            <p:nvPr/>
          </p:nvPicPr>
          <p:blipFill>
            <a:blip r:embed="rId4"/>
            <a:stretch/>
          </p:blipFill>
          <p:spPr>
            <a:xfrm>
              <a:off x="3139920" y="3376440"/>
              <a:ext cx="1932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203640" y="342900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 دعم كاف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مربع نص 5"/>
          <p:cNvGrpSpPr/>
          <p:nvPr/>
        </p:nvGrpSpPr>
        <p:grpSpPr>
          <a:xfrm>
            <a:off x="2414520" y="3882960"/>
            <a:ext cx="1938240" cy="609840"/>
            <a:chOff x="2414520" y="3882960"/>
            <a:chExt cx="1938240" cy="609840"/>
          </a:xfrm>
        </p:grpSpPr>
        <p:pic>
          <p:nvPicPr>
            <p:cNvPr id="228" name="مربع نص 5" descr=""/>
            <p:cNvPicPr/>
            <p:nvPr/>
          </p:nvPicPr>
          <p:blipFill>
            <a:blip r:embed="rId5"/>
            <a:stretch/>
          </p:blipFill>
          <p:spPr>
            <a:xfrm>
              <a:off x="2414520" y="3882960"/>
              <a:ext cx="19382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484360" y="3933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 دعم كاف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مربع نص 1"/>
          <p:cNvGrpSpPr/>
          <p:nvPr/>
        </p:nvGrpSpPr>
        <p:grpSpPr>
          <a:xfrm>
            <a:off x="3498840" y="1365120"/>
            <a:ext cx="3200400" cy="690480"/>
            <a:chOff x="3498840" y="1365120"/>
            <a:chExt cx="3200400" cy="690480"/>
          </a:xfrm>
        </p:grpSpPr>
        <p:pic>
          <p:nvPicPr>
            <p:cNvPr id="231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498840" y="1365120"/>
              <a:ext cx="3200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564000" y="141300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تجاهات نحو التواصل الشفه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قوس كبير أيسر 2"/>
          <p:cNvSpPr/>
          <p:nvPr/>
        </p:nvSpPr>
        <p:spPr>
          <a:xfrm rot="5400000">
            <a:off x="4529520" y="662400"/>
            <a:ext cx="1163520" cy="3527640"/>
          </a:xfrm>
          <a:custGeom>
            <a:avLst/>
            <a:gdLst>
              <a:gd name="textAreaLeft" fmla="*/ 743400 w 1163520"/>
              <a:gd name="textAreaRight" fmla="*/ 1163880 w 1163520"/>
              <a:gd name="textAreaTop" fmla="*/ 30240 h 3527640"/>
              <a:gd name="textAreaBottom" fmla="*/ 3497400 h 35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7"/>
                  <a:pt x="10800" y="594"/>
                </a:cubicBezTo>
                <a:lnTo>
                  <a:pt x="10800" y="10206"/>
                </a:lnTo>
                <a:cubicBezTo>
                  <a:pt x="10800" y="10503"/>
                  <a:pt x="5400" y="10800"/>
                  <a:pt x="0" y="10800"/>
                </a:cubicBezTo>
                <a:cubicBezTo>
                  <a:pt x="5400" y="10800"/>
                  <a:pt x="10800" y="11097"/>
                  <a:pt x="10800" y="11394"/>
                </a:cubicBezTo>
                <a:lnTo>
                  <a:pt x="10800" y="21006"/>
                </a:lnTo>
                <a:cubicBezTo>
                  <a:pt x="10800" y="213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مربع نص 3"/>
          <p:cNvGrpSpPr/>
          <p:nvPr/>
        </p:nvGrpSpPr>
        <p:grpSpPr>
          <a:xfrm>
            <a:off x="6089760" y="3090960"/>
            <a:ext cx="1931760" cy="609480"/>
            <a:chOff x="6089760" y="3090960"/>
            <a:chExt cx="1931760" cy="609480"/>
          </a:xfrm>
        </p:grpSpPr>
        <p:pic>
          <p:nvPicPr>
            <p:cNvPr id="235" name="مربع نص 3" descr=""/>
            <p:cNvPicPr/>
            <p:nvPr/>
          </p:nvPicPr>
          <p:blipFill>
            <a:blip r:embed="rId2"/>
            <a:stretch/>
          </p:blipFill>
          <p:spPr>
            <a:xfrm>
              <a:off x="6089760" y="3090960"/>
              <a:ext cx="1931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56360" y="3141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ضعيف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مربع نص 4"/>
          <p:cNvGrpSpPr/>
          <p:nvPr/>
        </p:nvGrpSpPr>
        <p:grpSpPr>
          <a:xfrm>
            <a:off x="4071960" y="3524400"/>
            <a:ext cx="1932120" cy="609480"/>
            <a:chOff x="4071960" y="3524400"/>
            <a:chExt cx="1932120" cy="609480"/>
          </a:xfrm>
        </p:grpSpPr>
        <p:pic>
          <p:nvPicPr>
            <p:cNvPr id="238" name="مربع نص 4" descr=""/>
            <p:cNvPicPr/>
            <p:nvPr/>
          </p:nvPicPr>
          <p:blipFill>
            <a:blip r:embed="rId3"/>
            <a:stretch/>
          </p:blipFill>
          <p:spPr>
            <a:xfrm>
              <a:off x="4071960" y="3524400"/>
              <a:ext cx="193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140360" y="35733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مقبو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مربع نص 5"/>
          <p:cNvGrpSpPr/>
          <p:nvPr/>
        </p:nvGrpSpPr>
        <p:grpSpPr>
          <a:xfrm>
            <a:off x="1987560" y="3090960"/>
            <a:ext cx="1932120" cy="609480"/>
            <a:chOff x="1987560" y="3090960"/>
            <a:chExt cx="1932120" cy="609480"/>
          </a:xfrm>
        </p:grpSpPr>
        <p:pic>
          <p:nvPicPr>
            <p:cNvPr id="241" name="مربع نص 5" descr=""/>
            <p:cNvPicPr/>
            <p:nvPr/>
          </p:nvPicPr>
          <p:blipFill>
            <a:blip r:embed="rId4"/>
            <a:stretch/>
          </p:blipFill>
          <p:spPr>
            <a:xfrm>
              <a:off x="1987560" y="3090960"/>
              <a:ext cx="193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050920" y="3141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جيد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مربع نص 1"/>
          <p:cNvGrpSpPr/>
          <p:nvPr/>
        </p:nvGrpSpPr>
        <p:grpSpPr>
          <a:xfrm>
            <a:off x="3638520" y="2584440"/>
            <a:ext cx="3200400" cy="1433520"/>
            <a:chOff x="3638520" y="2584440"/>
            <a:chExt cx="3200400" cy="1433520"/>
          </a:xfrm>
        </p:grpSpPr>
        <p:pic>
          <p:nvPicPr>
            <p:cNvPr id="244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638520" y="2584440"/>
              <a:ext cx="32004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708360" y="263700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تركيز على الكلا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تركيز على الكلام بوجود خدمات مساند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  <a:cs typeface="Majalla UI"/>
                </a:rPr>
                <a:t>التركيز على لغة الإشار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مربع نص 2"/>
          <p:cNvGrpSpPr/>
          <p:nvPr/>
        </p:nvGrpSpPr>
        <p:grpSpPr>
          <a:xfrm>
            <a:off x="4432320" y="1725480"/>
            <a:ext cx="1932120" cy="603360"/>
            <a:chOff x="4432320" y="1725480"/>
            <a:chExt cx="1932120" cy="603360"/>
          </a:xfrm>
        </p:grpSpPr>
        <p:pic>
          <p:nvPicPr>
            <p:cNvPr id="247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4432320" y="1725480"/>
              <a:ext cx="1932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500720" y="17733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توصيا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14:57Z</dcterms:created>
  <dc:creator>MAHA</dc:creator>
  <dc:description/>
  <dc:language>en-US</dc:language>
  <cp:lastModifiedBy>Maha Alhajri</cp:lastModifiedBy>
  <dcterms:modified xsi:type="dcterms:W3CDTF">2016-10-12T07:17:08Z</dcterms:modified>
  <cp:revision>15</cp:revision>
  <dc:subject/>
  <dc:title>الشريحة 1</dc:title>
</cp:coreProperties>
</file>