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A94-6EB4-40E1-9175-09CF8A8C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024-8264-4F14-9AAD-C4B41D4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48C-4A7C-4115-8F22-F9F0DD18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A13-68F5-4A59-95B5-9BCF11EC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BF8B-3F1E-4842-912D-F256E5F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F930-2F4E-4FE1-8F6D-0C1C198D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73EB-4274-4FF4-9BE9-FFDD3EB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D9B5-EB72-4477-8D54-0100224E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EF5D-A5E1-46C1-BF00-BEA06924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D77-CFAA-414E-9A67-1927AF96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2201-90DD-45BC-BA94-E5D317E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782-3A8B-45BB-B742-C69F870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E21F-91E2-4B3A-957D-5BDE3A2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CC4B-1123-4EE4-80CC-13682BB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13F-DF61-456A-8083-ACC145D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F044-4F4E-43B8-A1FF-3A5BF8A0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A18-80AE-4895-83EC-1999BF05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72EE-B86A-4A70-9384-A4FAD763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08421-ABEF-440E-91BE-BC95745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AAD7-385A-4993-B2E3-B4F5B77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C092-0AA8-4874-BC0E-D3E4A78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4166-85A6-4390-A34C-F93F452E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CDC-1258-47FA-A438-0DC0252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1E32-F855-4B3F-90C8-263FD95F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FEB0-0EBC-4FE3-AC56-1E98705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2D5C-1955-4031-8AD3-47815EE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A051-B34E-42ED-9692-D14B023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D1C8-FD7B-4516-A04C-6332E544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A58E-0296-49AE-8D8E-8AA2CE74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B228-1BBA-4D14-8E5E-5F8A5D2E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1E50-24B4-42AE-8867-9011183E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E729-36A8-4174-AD01-5B4A92F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7DFC-85FB-4E99-B3CC-DC79BB1E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F63-1E36-4504-AC10-39DC776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9E32-456E-4943-AD9F-636C779F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D982-0E95-4F6D-AF59-1218609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3437-1A13-4554-BC1A-739133AE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F0BE-BFDB-47F3-A0EB-BAF4F0E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B274-91A3-47AC-A4C3-1A3878C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D429-EDD5-4FA9-8801-C8C4D8E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DCE9-12AC-4D4A-A6D8-6CAF99DA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6B98-C63B-4C2F-BF41-3690FB53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3631-5B58-40B7-BFE5-7CC668D4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703-0BF5-4469-A423-4B30EF4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A03-7971-4D52-B316-C45A08E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2FA-FDA5-46F8-8462-9326301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0AA-2A38-413A-BCA3-37D897E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6B6-266F-4C57-9AF1-A3959BA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B796-2B3F-4F70-B918-EAED099E82EA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1CD2-5FA4-49E5-AB56-E8801CF06B16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B6CC-BCEB-4BEE-B9F5-2A91EB42DBED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0458-38A1-4716-85E3-866790DDB3C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huka-falls-lake-taupo-new-zealand-oc-3264x1758.jpg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36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ar-SA" sz="2600" spc="-1" strike="noStrike">
                <a:solidFill>
                  <a:srgbClr val="02303e"/>
                </a:solidFill>
                <a:latin typeface="Tahoma"/>
                <a:cs typeface="Tahoma"/>
              </a:rPr>
              <a:t>خصائص المياه وتأثيراتها على الكائنات الحية</a:t>
            </a:r>
            <a:r>
              <a:rPr b="1" lang="ar-SA" sz="26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680" y="1557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كيميائية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إكسجين المذاب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solved Oxygen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on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ثاني أكسيد الكربون  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واد آخري مذابة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her Dissolved subst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س الهيدروجيني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60" indent="169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قلوية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kalinit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كربونات – البيكربونات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 الهيدروكسيدات – الفوسفات – البورات 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◄◄</a:t>
            </a:r>
            <a:r>
              <a:rPr b="1" lang="ar-SA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عسر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rdness   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g/L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اء العسر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rd water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اء اليسر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ft wa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السيو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اغسيو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الكربونات – الكبريتات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أمونيا الكلية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tal Ammonia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أمونيا المتأين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onized ammon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H4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أمونيا غيرالمتأينة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n-Ionized ammon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H3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0-25T18:12:51Z</dcterms:modified>
  <cp:revision>145</cp:revision>
  <dc:subject/>
  <dc:title>Principals of General Zoology (Zoo-103)</dc:title>
</cp:coreProperties>
</file>