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3B8-40DC-405D-93AB-604C2583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465-6221-4197-8C80-077E8B3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AEA-6409-473A-9D8C-E798EB8A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76E-E0D9-469C-A180-93317D2A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2154-6C66-45F5-9EA9-6B6482CC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195F-6BD5-4A48-9F3A-F4D90C1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DEFF-1EBA-4489-B605-A5C38FE8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23BD-4F6F-4136-A748-3E024AD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C4C-E0E5-49A8-8786-EC70EF7F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9BF-B196-4D46-8987-4D5FCDE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4F31-D032-4C55-962B-D493BCB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6A3-845F-45F9-8BF1-39222242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33A5-4F77-4ED1-811C-290AE7F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B213-B30F-4201-9C41-66D2DDC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5819-604C-4B80-93E8-E304B11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070B-975D-47B3-BB22-356D51F5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7DBB-1F53-45B4-812D-BBF511F3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423C-D307-422A-B7EC-6C413352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476E-99AA-4FF8-8CC3-B9F2A024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17E7-D5D3-46ED-AF12-A922A146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2E66-BCCC-424D-9678-C9D457F3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F0F9-6EDE-4D9E-9630-5B9B70A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AB1-57F2-43D5-88F1-5FA3690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AD09-D8D0-4CB6-9A17-AF5552F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607F-234B-424C-9EE0-676165F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F8AF-245E-449A-A59D-7BAD6998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C327-BD91-45E6-86EB-87700D0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55D0-C4F1-4E8A-BEE9-3016A1FB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CA99-70F1-4BAF-9A92-4967925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DBC9-01E4-4F8F-80DD-83B985B2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C592-5A11-4908-995B-5A84D69D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9A75-CCE1-4BDD-8ABA-843A36F4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F2B2-D666-4143-8802-D0D84BA3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CC2-4197-40BA-9189-49B78A7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9BC2-977F-4258-8091-4F752E9E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5177-216D-49DE-8907-5ED37FC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CFC6-C0AA-4A78-8D33-0D12CF2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F8C0-383A-47EC-A0F4-1F20D77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DD6A-FCA0-4D7D-A39D-0CCBF6AD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0A0C-F53D-4DCD-B465-86D6DB7D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82BAE-AB9F-4A99-830B-AEAED88E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7E4F-998B-4E73-8826-3D296F06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D7BD-9B95-4814-88B6-4F9A61B3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610-B332-4D73-A499-8272B25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9EB-65BD-4837-AD05-E28D07E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C36-6B59-4910-A3D6-C01CF9A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632-9CD9-4F7E-BCB6-F0800E3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1C4-F676-49A5-97BE-A1F8E7C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D2F-DA29-42D9-8DD3-9FDDF6D45FD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9C5-C0AD-4431-9258-8AF5DC8F316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CA58-44F1-4543-9A69-06A5EBE6F9F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3A8-9712-401D-9F6E-BABF5806C85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huka-falls-lake-taupo-new-zealand-oc-3264x1758.jpg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cs typeface="Tahoma"/>
              </a:rPr>
              <a:t>خصائص المياه وتأثيراتها على الكائنات الحية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680" y="1557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كيميائية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إكسجين المذاب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on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ثاني أكسيد الكربون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واد آخري مذابة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her Dissolved subst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الهيدروجيني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قلوية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kalin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كربونات – البيكربونات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 الهيدروكسيدات – الفوسفات – البورات 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◄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عسر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rdness   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g/L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اء العسر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rd wate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اء اليسر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ft wa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السيو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اغسيو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الكربونات – الكبريتات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أمونيا الكلي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tal Ammonia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مونيا المتأين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onized ammon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H4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مونيا غيرالمتأينة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n-Ionized ammon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H3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960" indent="169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5T18:12:51Z</dcterms:modified>
  <cp:revision>145</cp:revision>
  <dc:subject/>
  <dc:title>Principals of General Zoology (Zoo-103)</dc:title>
</cp:coreProperties>
</file>